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4.wmf" ContentType="image/x-wmf"/>
  <Override PartName="/ppt/media/image23.jpeg" ContentType="image/jpeg"/>
  <Override PartName="/ppt/media/image22.wmf" ContentType="image/x-wmf"/>
  <Override PartName="/ppt/media/image21.wmf" ContentType="image/x-wmf"/>
  <Override PartName="/ppt/media/image2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13.wmf" ContentType="image/x-wmf"/>
  <Override PartName="/ppt/media/image5.png" ContentType="image/png"/>
  <Override PartName="/ppt/media/image9.wmf" ContentType="image/x-wmf"/>
  <Override PartName="/ppt/media/image28.png" ContentType="image/png"/>
  <Override PartName="/ppt/media/image31.wmf" ContentType="image/x-wmf"/>
  <Override PartName="/ppt/media/image19.jpeg" ContentType="image/jpeg"/>
  <Override PartName="/ppt/media/image3.png" ContentType="image/png"/>
  <Override PartName="/ppt/media/image11.wmf" ContentType="image/x-wmf"/>
  <Override PartName="/ppt/media/image32.wmf" ContentType="image/x-wmf"/>
  <Override PartName="/ppt/media/image7.wmf" ContentType="image/x-wmf"/>
  <Override PartName="/ppt/media/image33.wmf" ContentType="image/x-wmf"/>
  <Override PartName="/ppt/media/image34.png" ContentType="image/png"/>
  <Override PartName="/ppt/media/image17.wmf" ContentType="image/x-wmf"/>
  <Override PartName="/ppt/media/image35.wmf" ContentType="image/x-wmf"/>
  <Override PartName="/ppt/media/image10.wmf" ContentType="image/x-wmf"/>
  <Override PartName="/ppt/media/image8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6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16.wmf" ContentType="image/x-wmf"/>
  <Override PartName="/ppt/media/image18.wmf" ContentType="image/x-wmf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i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7756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i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i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98D7B29-3413-4A80-915F-A2226858A749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 txBox="1"/>
          <p:nvPr/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07C0A81-BA69-4D4F-9647-B559AE98F5C6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 txBox="1"/>
          <p:nvPr/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82600" y="703440"/>
            <a:ext cx="4619880" cy="346536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9320" bIns="4932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084320" y="4560840"/>
            <a:ext cx="5121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9320" bIns="4932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9320" bIns="4932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064B-284C-4D97-8EA7-BC91D2065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AF27-F3CF-44FB-A505-D3BB0354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78D3-8091-41F9-B298-E504FECA6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070E-805B-4A69-9F37-01B1B872E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192A-48A8-41A3-B3D3-4A6A5E3CD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8C1E-066A-4716-8EA8-19F65C93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5CAB-9382-46B4-98FF-81C48C2B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8B873-4939-440D-856C-2579AA4C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F013-9811-4C7C-A0F4-A221CFD0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AB47-1BDE-4325-990D-986E7ED8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EAEE-9C45-4568-92EF-4B00355E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F8A6-95F6-4D0D-8DBE-D0581937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220B-F534-4BDB-A29E-AA285764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E0AA-4DD3-4EBA-9E65-481337CD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D1E0-0C6C-4A12-AF3A-4790E0F0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5A68-9D9C-464D-BC8A-F2D7AB4AD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9CC45-5427-4E59-A417-8432F31C2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89C4-D728-4EC5-8C60-C1C43161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4EB3-8524-42CB-B824-82C37E97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9624-68B1-45E4-BCB8-90588EE8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026E-FD6F-4DD4-8478-386DBDEE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CA6A-DC25-4B10-A72F-272C94FA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B8E3-A663-49FC-A11E-595DDD3C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93C4-E9E4-49C4-ACCF-9515E6F2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finalbody2no%20logo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77D7-A78A-4A2A-9AB1-133CC8AD6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2120" y="1508040"/>
            <a:ext cx="7696080" cy="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ilogoClr" descr=""/>
          <p:cNvPicPr/>
          <p:nvPr/>
        </p:nvPicPr>
        <p:blipFill>
          <a:blip r:embed="rId3"/>
          <a:stretch/>
        </p:blipFill>
        <p:spPr>
          <a:xfrm>
            <a:off x="7010280" y="6305400"/>
            <a:ext cx="1981440" cy="4762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686160" y="6197760"/>
            <a:ext cx="2062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www.natinst.c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inaltitle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3276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2F6A-C4E7-4CCD-B53D-5B51C1CD3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ilogoClr" descr=""/>
          <p:cNvPicPr/>
          <p:nvPr/>
        </p:nvPicPr>
        <p:blipFill>
          <a:blip r:embed="rId3"/>
          <a:stretch/>
        </p:blipFill>
        <p:spPr>
          <a:xfrm>
            <a:off x="7010280" y="6305400"/>
            <a:ext cx="1981440" cy="476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11280" y="6248520"/>
            <a:ext cx="1869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www.natins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2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image" Target="../media/image26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finaltitle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nilogoC" descr=""/>
          <p:cNvPicPr/>
          <p:nvPr/>
        </p:nvPicPr>
        <p:blipFill>
          <a:blip r:embed="rId2"/>
          <a:stretch/>
        </p:blipFill>
        <p:spPr>
          <a:xfrm>
            <a:off x="228600" y="279360"/>
            <a:ext cx="4495680" cy="1074600"/>
          </a:xfrm>
          <a:prstGeom prst="rect">
            <a:avLst/>
          </a:prstGeom>
          <a:ln w="0">
            <a:noFill/>
          </a:ln>
        </p:spPr>
      </p:pic>
      <p:pic>
        <p:nvPicPr>
          <p:cNvPr id="99" name="ni%20fieldpoint%20blue" descr=""/>
          <p:cNvPicPr/>
          <p:nvPr/>
        </p:nvPicPr>
        <p:blipFill>
          <a:blip r:embed="rId3"/>
          <a:stretch/>
        </p:blipFill>
        <p:spPr>
          <a:xfrm>
            <a:off x="1092240" y="3225960"/>
            <a:ext cx="7789680" cy="20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5016600" y="5410080"/>
            <a:ext cx="1638360" cy="78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Distributed Control with Fieldbu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09480" y="1841400"/>
            <a:ext cx="80899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eaeae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P-3000 Network Interface/Controller Mod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OUNDATION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Fieldbus H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ink Active Schedu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eaeae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mbedded Function Bl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ID function block for standalone, distributed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I, AO, DI, DO, CDO blo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51"/>
              </a:spcBef>
              <a:buClr>
                <a:srgbClr val="eaeae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larming, trending, filtering, scaling, interloc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4" name=""/>
          <p:cNvGraphicFramePr/>
          <p:nvPr/>
        </p:nvGraphicFramePr>
        <p:xfrm>
          <a:off x="1486080" y="5397480"/>
          <a:ext cx="2743200" cy="8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6080" y="5397480"/>
                    <a:ext cx="274320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6" name=""/>
          <p:cNvSpPr/>
          <p:nvPr/>
        </p:nvSpPr>
        <p:spPr>
          <a:xfrm>
            <a:off x="1989000" y="5702400"/>
            <a:ext cx="1770120" cy="696960"/>
          </a:xfrm>
          <a:custGeom>
            <a:avLst/>
            <a:gdLst/>
            <a:ahLst/>
            <a:rect l="l" t="t" r="r" b="b"/>
            <a:pathLst>
              <a:path w="1123" h="543">
                <a:moveTo>
                  <a:pt x="607" y="543"/>
                </a:moveTo>
                <a:cubicBezTo>
                  <a:pt x="597" y="489"/>
                  <a:pt x="619" y="276"/>
                  <a:pt x="541" y="216"/>
                </a:cubicBezTo>
                <a:cubicBezTo>
                  <a:pt x="463" y="156"/>
                  <a:pt x="205" y="207"/>
                  <a:pt x="138" y="181"/>
                </a:cubicBezTo>
                <a:cubicBezTo>
                  <a:pt x="71" y="155"/>
                  <a:pt x="0" y="75"/>
                  <a:pt x="138" y="58"/>
                </a:cubicBezTo>
                <a:cubicBezTo>
                  <a:pt x="276" y="41"/>
                  <a:pt x="815" y="0"/>
                  <a:pt x="969" y="81"/>
                </a:cubicBezTo>
                <a:cubicBezTo>
                  <a:pt x="1123" y="162"/>
                  <a:pt x="1042" y="447"/>
                  <a:pt x="1061" y="543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headEnd len="med" type="oval" w="med"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562040" y="5702400"/>
            <a:ext cx="53352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562040" y="516888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"/>
              </a:rPr>
              <a:t>FP-3000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768760" y="64641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A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467160" y="641340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A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1" name="fblogo3" descr=""/>
          <p:cNvPicPr/>
          <p:nvPr/>
        </p:nvPicPr>
        <p:blipFill>
          <a:blip r:embed="rId3"/>
          <a:stretch/>
        </p:blipFill>
        <p:spPr>
          <a:xfrm>
            <a:off x="5092560" y="5473800"/>
            <a:ext cx="1352520" cy="685800"/>
          </a:xfrm>
          <a:prstGeom prst="rect">
            <a:avLst/>
          </a:prstGeom>
          <a:ln w="0">
            <a:noFill/>
          </a:ln>
        </p:spPr>
      </p:pic>
      <p:sp>
        <p:nvSpPr>
          <p:cNvPr id="912" name=""/>
          <p:cNvSpPr/>
          <p:nvPr/>
        </p:nvSpPr>
        <p:spPr>
          <a:xfrm>
            <a:off x="5054760" y="5168880"/>
            <a:ext cx="18288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85800" y="6311880"/>
            <a:ext cx="2019240" cy="330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4360" y="857160"/>
            <a:ext cx="785160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FieldPoint Technology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53680" y="1828800"/>
            <a:ext cx="551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217080" indent="-2170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tPnP Plug and Pl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5760" indent="-219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t-pluggable mod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5760" indent="-219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-configur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5760" indent="-219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ic data sheets on mod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5760" indent="-219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ment modules inherit configuration of replaced mod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7080" indent="-217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bustness and Reli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5760" indent="-219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lation on each mod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5760" indent="-219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de operating temp. r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74800" indent="0">
              <a:spcBef>
                <a:spcPts val="499"/>
              </a:spcBef>
              <a:buNone/>
              <a:tabLst>
                <a:tab algn="l" pos="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40°C to + 70°C  (-40°F to +160°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6" name="" descr=""/>
          <p:cNvPicPr/>
          <p:nvPr/>
        </p:nvPicPr>
        <p:blipFill>
          <a:blip r:embed="rId1"/>
          <a:stretch/>
        </p:blipFill>
        <p:spPr>
          <a:xfrm>
            <a:off x="6361200" y="2362320"/>
            <a:ext cx="214632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66720" y="590040"/>
            <a:ext cx="7810560" cy="120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FieldPoint Technology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(continued)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642600" y="1803240"/>
            <a:ext cx="7721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-Quality I/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ammable power-up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ammable watchdog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1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communication lo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gno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1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eld wi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1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ware e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1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ules return error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/>
          <p:nvPr/>
        </p:nvSpPr>
        <p:spPr>
          <a:xfrm>
            <a:off x="3860640" y="3657600"/>
            <a:ext cx="1322640" cy="1284120"/>
          </a:xfrm>
          <a:custGeom>
            <a:avLst/>
            <a:gdLst/>
            <a:ahLst/>
            <a:rect l="l" t="t" r="r" b="b"/>
            <a:pathLst>
              <a:path w="833" h="809">
                <a:moveTo>
                  <a:pt x="416" y="808"/>
                </a:moveTo>
                <a:lnTo>
                  <a:pt x="256" y="552"/>
                </a:lnTo>
                <a:lnTo>
                  <a:pt x="336" y="552"/>
                </a:lnTo>
                <a:lnTo>
                  <a:pt x="0" y="0"/>
                </a:lnTo>
                <a:lnTo>
                  <a:pt x="832" y="0"/>
                </a:lnTo>
                <a:lnTo>
                  <a:pt x="504" y="552"/>
                </a:lnTo>
                <a:lnTo>
                  <a:pt x="592" y="552"/>
                </a:lnTo>
                <a:lnTo>
                  <a:pt x="416" y="808"/>
                </a:lnTo>
              </a:path>
            </a:pathLst>
          </a:custGeom>
          <a:solidFill>
            <a:srgbClr val="99ccff">
              <a:alpha val="50000"/>
            </a:srgbClr>
          </a:solidFill>
          <a:ln cap="rnd"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740560" y="2390760"/>
            <a:ext cx="2392200" cy="2583000"/>
          </a:xfrm>
          <a:custGeom>
            <a:avLst/>
            <a:gdLst/>
            <a:ahLst/>
            <a:rect l="l" t="t" r="r" b="b"/>
            <a:pathLst>
              <a:path w="1507" h="1627">
                <a:moveTo>
                  <a:pt x="0" y="1626"/>
                </a:moveTo>
                <a:lnTo>
                  <a:pt x="12" y="1368"/>
                </a:lnTo>
                <a:lnTo>
                  <a:pt x="66" y="1410"/>
                </a:lnTo>
                <a:lnTo>
                  <a:pt x="354" y="0"/>
                </a:lnTo>
                <a:lnTo>
                  <a:pt x="366" y="822"/>
                </a:lnTo>
                <a:lnTo>
                  <a:pt x="1506" y="822"/>
                </a:lnTo>
                <a:lnTo>
                  <a:pt x="168" y="1470"/>
                </a:lnTo>
                <a:lnTo>
                  <a:pt x="234" y="1518"/>
                </a:lnTo>
                <a:lnTo>
                  <a:pt x="0" y="1626"/>
                </a:lnTo>
              </a:path>
            </a:pathLst>
          </a:custGeom>
          <a:solidFill>
            <a:srgbClr val="99ccff">
              <a:alpha val="50000"/>
            </a:srgbClr>
          </a:solidFill>
          <a:ln cap="rnd"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87320" y="2419200"/>
            <a:ext cx="2392560" cy="2583000"/>
          </a:xfrm>
          <a:custGeom>
            <a:avLst/>
            <a:gdLst/>
            <a:ahLst/>
            <a:rect l="l" t="t" r="r" b="b"/>
            <a:pathLst>
              <a:path w="1507" h="1627">
                <a:moveTo>
                  <a:pt x="1506" y="1626"/>
                </a:moveTo>
                <a:lnTo>
                  <a:pt x="1494" y="1368"/>
                </a:lnTo>
                <a:lnTo>
                  <a:pt x="1440" y="1410"/>
                </a:lnTo>
                <a:lnTo>
                  <a:pt x="1152" y="0"/>
                </a:lnTo>
                <a:lnTo>
                  <a:pt x="1140" y="822"/>
                </a:lnTo>
                <a:lnTo>
                  <a:pt x="0" y="822"/>
                </a:lnTo>
                <a:lnTo>
                  <a:pt x="1338" y="1470"/>
                </a:lnTo>
                <a:lnTo>
                  <a:pt x="1272" y="1518"/>
                </a:lnTo>
                <a:lnTo>
                  <a:pt x="1506" y="1626"/>
                </a:lnTo>
              </a:path>
            </a:pathLst>
          </a:custGeom>
          <a:solidFill>
            <a:srgbClr val="99ccff">
              <a:alpha val="50000"/>
            </a:srgbClr>
          </a:solidFill>
          <a:ln cap="rnd"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77880" y="884160"/>
            <a:ext cx="816912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Key Technologies Converge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923" name="" descr=""/>
          <p:cNvPicPr/>
          <p:nvPr/>
        </p:nvPicPr>
        <p:blipFill>
          <a:blip r:embed="rId1"/>
          <a:stretch/>
        </p:blipFill>
        <p:spPr>
          <a:xfrm>
            <a:off x="3218040" y="4889520"/>
            <a:ext cx="2457360" cy="1390680"/>
          </a:xfrm>
          <a:prstGeom prst="rect">
            <a:avLst/>
          </a:prstGeom>
          <a:ln w="0">
            <a:noFill/>
          </a:ln>
        </p:spPr>
      </p:pic>
      <p:pic>
        <p:nvPicPr>
          <p:cNvPr id="924" name="" descr=""/>
          <p:cNvPicPr/>
          <p:nvPr/>
        </p:nvPicPr>
        <p:blipFill>
          <a:blip r:embed="rId2"/>
          <a:stretch/>
        </p:blipFill>
        <p:spPr>
          <a:xfrm>
            <a:off x="736560" y="2292480"/>
            <a:ext cx="1962360" cy="1500120"/>
          </a:xfrm>
          <a:prstGeom prst="rect">
            <a:avLst/>
          </a:prstGeom>
          <a:ln w="0">
            <a:noFill/>
          </a:ln>
        </p:spPr>
      </p:pic>
      <p:sp>
        <p:nvSpPr>
          <p:cNvPr id="925" name=""/>
          <p:cNvSpPr/>
          <p:nvPr/>
        </p:nvSpPr>
        <p:spPr>
          <a:xfrm>
            <a:off x="507600" y="1995480"/>
            <a:ext cx="254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ata Acquisition (DAQ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566160" y="1995480"/>
            <a:ext cx="191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ndustrial Com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797520" y="1995480"/>
            <a:ext cx="1085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8" name="" descr=""/>
          <p:cNvPicPr/>
          <p:nvPr/>
        </p:nvPicPr>
        <p:blipFill>
          <a:blip r:embed="rId3"/>
          <a:stretch/>
        </p:blipFill>
        <p:spPr>
          <a:xfrm>
            <a:off x="6245280" y="2289240"/>
            <a:ext cx="2093760" cy="1508040"/>
          </a:xfrm>
          <a:prstGeom prst="rect">
            <a:avLst/>
          </a:prstGeom>
          <a:ln w="0">
            <a:noFill/>
          </a:ln>
        </p:spPr>
      </p:pic>
      <p:sp>
        <p:nvSpPr>
          <p:cNvPr id="929" name=""/>
          <p:cNvSpPr/>
          <p:nvPr/>
        </p:nvSpPr>
        <p:spPr>
          <a:xfrm>
            <a:off x="703800" y="3743280"/>
            <a:ext cx="24102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I/O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Precision measur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Sensor interf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479040" y="3743280"/>
            <a:ext cx="22669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PC interf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Networking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246720" y="3743280"/>
            <a:ext cx="2443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Hardware drivers/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Windows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HMI/SC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605560" y="5338800"/>
            <a:ext cx="1824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PC-Based Networked I/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3" name="" descr=""/>
          <p:cNvPicPr/>
          <p:nvPr/>
        </p:nvPicPr>
        <p:blipFill>
          <a:blip r:embed="rId4"/>
          <a:stretch/>
        </p:blipFill>
        <p:spPr>
          <a:xfrm>
            <a:off x="3459240" y="2300400"/>
            <a:ext cx="216036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6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FieldPoint Software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eldPoint Explor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eldPoint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dg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VIEW V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W/CV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kout Dr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C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4862520" y="3479760"/>
            <a:ext cx="2381400" cy="884160"/>
          </a:xfrm>
          <a:prstGeom prst="cube">
            <a:avLst>
              <a:gd name="adj" fmla="val 12583"/>
            </a:avLst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eld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rver (D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394160" y="2193840"/>
            <a:ext cx="1406520" cy="808200"/>
          </a:xfrm>
          <a:prstGeom prst="cube">
            <a:avLst>
              <a:gd name="adj" fmla="val 1258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ridge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907240" y="2193840"/>
            <a:ext cx="1481040" cy="808200"/>
          </a:xfrm>
          <a:prstGeom prst="cube">
            <a:avLst>
              <a:gd name="adj" fmla="val 1258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abVIEW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W/CV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7569360" y="2502000"/>
            <a:ext cx="1199880" cy="1498680"/>
          </a:xfrm>
          <a:prstGeom prst="cube">
            <a:avLst>
              <a:gd name="adj" fmla="val 12583"/>
            </a:avLst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ok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118120" y="3029040"/>
            <a:ext cx="539640" cy="501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H="1">
            <a:off x="6312960" y="3029040"/>
            <a:ext cx="297000" cy="520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7097400" y="4037040"/>
            <a:ext cx="1044360" cy="876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219720" y="4373640"/>
            <a:ext cx="838440" cy="539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6135840" y="4919400"/>
            <a:ext cx="2065680" cy="496800"/>
            <a:chOff x="6135840" y="4919400"/>
            <a:chExt cx="2065680" cy="496800"/>
          </a:xfrm>
        </p:grpSpPr>
        <p:sp>
          <p:nvSpPr>
            <p:cNvPr id="945" name=""/>
            <p:cNvSpPr/>
            <p:nvPr/>
          </p:nvSpPr>
          <p:spPr>
            <a:xfrm>
              <a:off x="6145560" y="5029200"/>
              <a:ext cx="1908000" cy="1425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135840" y="5008320"/>
              <a:ext cx="1905120" cy="270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135840" y="5175000"/>
              <a:ext cx="1911240" cy="126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983720" y="5097240"/>
              <a:ext cx="49320" cy="23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864560" y="5068800"/>
              <a:ext cx="49320" cy="23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755120" y="5072040"/>
              <a:ext cx="68400" cy="6480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797960" y="4929120"/>
              <a:ext cx="165240" cy="423720"/>
            </a:xfrm>
            <a:custGeom>
              <a:avLst/>
              <a:gdLst/>
              <a:ahLst/>
              <a:rect l="l" t="t" r="r" b="b"/>
              <a:pathLst>
                <a:path w="104" h="267">
                  <a:moveTo>
                    <a:pt x="0" y="62"/>
                  </a:moveTo>
                  <a:lnTo>
                    <a:pt x="0" y="266"/>
                  </a:lnTo>
                  <a:lnTo>
                    <a:pt x="100" y="193"/>
                  </a:lnTo>
                  <a:lnTo>
                    <a:pt x="103" y="0"/>
                  </a:lnTo>
                  <a:lnTo>
                    <a:pt x="88" y="0"/>
                  </a:lnTo>
                  <a:lnTo>
                    <a:pt x="76" y="4"/>
                  </a:lnTo>
                  <a:lnTo>
                    <a:pt x="60" y="8"/>
                  </a:lnTo>
                  <a:lnTo>
                    <a:pt x="49" y="15"/>
                  </a:lnTo>
                  <a:lnTo>
                    <a:pt x="33" y="22"/>
                  </a:lnTo>
                  <a:lnTo>
                    <a:pt x="18" y="37"/>
                  </a:lnTo>
                  <a:lnTo>
                    <a:pt x="11" y="47"/>
                  </a:lnTo>
                  <a:lnTo>
                    <a:pt x="0" y="62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778880" y="4919400"/>
              <a:ext cx="42264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87" y="6290"/>
                  </a:moveTo>
                  <a:arcTo wR="10800" hR="10800" stAng="-9319049" swAng="3400935"/>
                  <a:lnTo>
                    <a:pt x="10800" y="10800"/>
                  </a:lnTo>
                  <a:close/>
                </a:path>
                <a:path fill="none" w="21600" h="21600">
                  <a:moveTo>
                    <a:pt x="987" y="6290"/>
                  </a:moveTo>
                  <a:arcTo wR="10800" hR="10800" stAng="-9319049" swAng="34009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7956720" y="4929120"/>
              <a:ext cx="144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>
              <a:off x="7794720" y="5222520"/>
              <a:ext cx="160560" cy="1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>
              <a:off x="7794360" y="5046480"/>
              <a:ext cx="157320" cy="9828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H="1">
              <a:off x="7794360" y="4971960"/>
              <a:ext cx="157320" cy="9684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896240" y="4952880"/>
              <a:ext cx="65160" cy="463320"/>
            </a:xfrm>
            <a:custGeom>
              <a:avLst/>
              <a:gdLst/>
              <a:ahLst/>
              <a:rect l="l" t="t" r="r" b="b"/>
              <a:pathLst>
                <a:path w="41" h="292">
                  <a:moveTo>
                    <a:pt x="0" y="291"/>
                  </a:moveTo>
                  <a:lnTo>
                    <a:pt x="40" y="249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34" y="188"/>
                  </a:lnTo>
                  <a:lnTo>
                    <a:pt x="0" y="226"/>
                  </a:lnTo>
                  <a:lnTo>
                    <a:pt x="0" y="29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863120" y="4927320"/>
              <a:ext cx="98280" cy="478080"/>
            </a:xfrm>
            <a:custGeom>
              <a:avLst/>
              <a:gdLst/>
              <a:ahLst/>
              <a:rect l="l" t="t" r="r" b="b"/>
              <a:pathLst>
                <a:path w="62" h="301">
                  <a:moveTo>
                    <a:pt x="0" y="300"/>
                  </a:moveTo>
                  <a:lnTo>
                    <a:pt x="61" y="257"/>
                  </a:lnTo>
                  <a:lnTo>
                    <a:pt x="61" y="0"/>
                  </a:lnTo>
                  <a:lnTo>
                    <a:pt x="52" y="0"/>
                  </a:lnTo>
                  <a:lnTo>
                    <a:pt x="52" y="194"/>
                  </a:lnTo>
                  <a:lnTo>
                    <a:pt x="0" y="2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674040" y="5303520"/>
              <a:ext cx="1176480" cy="106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158160" y="5081400"/>
              <a:ext cx="49320" cy="23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564600" y="4941720"/>
              <a:ext cx="766800" cy="92160"/>
            </a:xfrm>
            <a:custGeom>
              <a:avLst/>
              <a:gdLst/>
              <a:ahLst/>
              <a:rect l="l" t="t" r="r" b="b"/>
              <a:pathLst>
                <a:path w="483" h="58">
                  <a:moveTo>
                    <a:pt x="0" y="55"/>
                  </a:moveTo>
                  <a:lnTo>
                    <a:pt x="8" y="46"/>
                  </a:lnTo>
                  <a:lnTo>
                    <a:pt x="22" y="29"/>
                  </a:lnTo>
                  <a:lnTo>
                    <a:pt x="38" y="21"/>
                  </a:lnTo>
                  <a:lnTo>
                    <a:pt x="49" y="13"/>
                  </a:lnTo>
                  <a:lnTo>
                    <a:pt x="72" y="5"/>
                  </a:lnTo>
                  <a:lnTo>
                    <a:pt x="85" y="2"/>
                  </a:lnTo>
                  <a:lnTo>
                    <a:pt x="94" y="0"/>
                  </a:lnTo>
                  <a:lnTo>
                    <a:pt x="482" y="0"/>
                  </a:lnTo>
                  <a:lnTo>
                    <a:pt x="459" y="4"/>
                  </a:lnTo>
                  <a:lnTo>
                    <a:pt x="450" y="6"/>
                  </a:lnTo>
                  <a:lnTo>
                    <a:pt x="446" y="6"/>
                  </a:lnTo>
                  <a:lnTo>
                    <a:pt x="442" y="8"/>
                  </a:lnTo>
                  <a:lnTo>
                    <a:pt x="438" y="10"/>
                  </a:lnTo>
                  <a:lnTo>
                    <a:pt x="433" y="13"/>
                  </a:lnTo>
                  <a:lnTo>
                    <a:pt x="429" y="16"/>
                  </a:lnTo>
                  <a:lnTo>
                    <a:pt x="426" y="20"/>
                  </a:lnTo>
                  <a:lnTo>
                    <a:pt x="422" y="21"/>
                  </a:lnTo>
                  <a:lnTo>
                    <a:pt x="418" y="24"/>
                  </a:lnTo>
                  <a:lnTo>
                    <a:pt x="413" y="26"/>
                  </a:lnTo>
                  <a:lnTo>
                    <a:pt x="409" y="29"/>
                  </a:lnTo>
                  <a:lnTo>
                    <a:pt x="406" y="33"/>
                  </a:lnTo>
                  <a:lnTo>
                    <a:pt x="402" y="35"/>
                  </a:lnTo>
                  <a:lnTo>
                    <a:pt x="398" y="37"/>
                  </a:lnTo>
                  <a:lnTo>
                    <a:pt x="395" y="41"/>
                  </a:lnTo>
                  <a:lnTo>
                    <a:pt x="391" y="44"/>
                  </a:lnTo>
                  <a:lnTo>
                    <a:pt x="390" y="48"/>
                  </a:lnTo>
                  <a:lnTo>
                    <a:pt x="390" y="52"/>
                  </a:lnTo>
                  <a:lnTo>
                    <a:pt x="389" y="57"/>
                  </a:lnTo>
                  <a:lnTo>
                    <a:pt x="0" y="55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569280" y="5032080"/>
              <a:ext cx="606240" cy="3286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640560" y="5305320"/>
              <a:ext cx="33480" cy="302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704280" y="5305320"/>
              <a:ext cx="33120" cy="302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766200" y="5305320"/>
              <a:ext cx="33120" cy="302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829560" y="5305320"/>
              <a:ext cx="31680" cy="302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891480" y="5305320"/>
              <a:ext cx="33480" cy="302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954840" y="5305320"/>
              <a:ext cx="33480" cy="302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018560" y="5305320"/>
              <a:ext cx="31680" cy="302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081920" y="5305320"/>
              <a:ext cx="31680" cy="302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620040" y="5305320"/>
              <a:ext cx="512640" cy="3312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550200" y="4932360"/>
              <a:ext cx="422640" cy="32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87" y="6290"/>
                  </a:moveTo>
                  <a:arcTo wR="10800" hR="10800" stAng="-9319049" swAng="3426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987" y="6290"/>
                  </a:moveTo>
                  <a:arcTo wR="10800" hR="10800" stAng="-9319049" swAng="342647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731280" y="4935240"/>
              <a:ext cx="61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772320" y="4983120"/>
              <a:ext cx="33336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810480" y="4964040"/>
              <a:ext cx="26208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810480" y="5000400"/>
              <a:ext cx="26208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866280" y="4946400"/>
              <a:ext cx="15696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866280" y="5016240"/>
              <a:ext cx="15696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074000" y="5046480"/>
              <a:ext cx="2397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33333"/>
                  </a:solidFill>
                  <a:latin typeface="Times New Roman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212160" y="4943160"/>
              <a:ext cx="506160" cy="87480"/>
            </a:xfrm>
            <a:custGeom>
              <a:avLst/>
              <a:gdLst/>
              <a:ahLst/>
              <a:rect l="l" t="t" r="r" b="b"/>
              <a:pathLst>
                <a:path w="319" h="55">
                  <a:moveTo>
                    <a:pt x="0" y="53"/>
                  </a:moveTo>
                  <a:lnTo>
                    <a:pt x="5" y="43"/>
                  </a:lnTo>
                  <a:lnTo>
                    <a:pt x="14" y="28"/>
                  </a:lnTo>
                  <a:lnTo>
                    <a:pt x="25" y="20"/>
                  </a:lnTo>
                  <a:lnTo>
                    <a:pt x="32" y="13"/>
                  </a:lnTo>
                  <a:lnTo>
                    <a:pt x="47" y="5"/>
                  </a:lnTo>
                  <a:lnTo>
                    <a:pt x="55" y="2"/>
                  </a:lnTo>
                  <a:lnTo>
                    <a:pt x="62" y="0"/>
                  </a:lnTo>
                  <a:lnTo>
                    <a:pt x="318" y="0"/>
                  </a:lnTo>
                  <a:lnTo>
                    <a:pt x="303" y="4"/>
                  </a:lnTo>
                  <a:lnTo>
                    <a:pt x="297" y="6"/>
                  </a:lnTo>
                  <a:lnTo>
                    <a:pt x="294" y="6"/>
                  </a:lnTo>
                  <a:lnTo>
                    <a:pt x="291" y="8"/>
                  </a:lnTo>
                  <a:lnTo>
                    <a:pt x="288" y="10"/>
                  </a:lnTo>
                  <a:lnTo>
                    <a:pt x="286" y="13"/>
                  </a:lnTo>
                  <a:lnTo>
                    <a:pt x="283" y="16"/>
                  </a:lnTo>
                  <a:lnTo>
                    <a:pt x="281" y="18"/>
                  </a:lnTo>
                  <a:lnTo>
                    <a:pt x="279" y="20"/>
                  </a:lnTo>
                  <a:lnTo>
                    <a:pt x="276" y="22"/>
                  </a:lnTo>
                  <a:lnTo>
                    <a:pt x="273" y="25"/>
                  </a:lnTo>
                  <a:lnTo>
                    <a:pt x="270" y="28"/>
                  </a:lnTo>
                  <a:lnTo>
                    <a:pt x="268" y="32"/>
                  </a:lnTo>
                  <a:lnTo>
                    <a:pt x="265" y="33"/>
                  </a:lnTo>
                  <a:lnTo>
                    <a:pt x="262" y="35"/>
                  </a:lnTo>
                  <a:lnTo>
                    <a:pt x="261" y="39"/>
                  </a:lnTo>
                  <a:lnTo>
                    <a:pt x="258" y="42"/>
                  </a:lnTo>
                  <a:lnTo>
                    <a:pt x="257" y="46"/>
                  </a:lnTo>
                  <a:lnTo>
                    <a:pt x="257" y="50"/>
                  </a:lnTo>
                  <a:lnTo>
                    <a:pt x="256" y="54"/>
                  </a:lnTo>
                  <a:lnTo>
                    <a:pt x="0" y="53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204240" y="5032080"/>
              <a:ext cx="357120" cy="3286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526440" y="5084640"/>
              <a:ext cx="68040" cy="6516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340680" y="5305320"/>
              <a:ext cx="33480" cy="302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404040" y="5305320"/>
              <a:ext cx="33480" cy="302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467760" y="5305320"/>
              <a:ext cx="31680" cy="302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328080" y="5305320"/>
              <a:ext cx="190440" cy="3312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186600" y="4932000"/>
              <a:ext cx="42264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87" y="6290"/>
                  </a:moveTo>
                  <a:arcTo wR="10800" hR="10800" stAng="-9319049" swAng="3400935"/>
                  <a:lnTo>
                    <a:pt x="10800" y="10800"/>
                  </a:lnTo>
                  <a:close/>
                </a:path>
                <a:path fill="none" w="21600" h="21600">
                  <a:moveTo>
                    <a:pt x="987" y="6290"/>
                  </a:moveTo>
                  <a:arcTo wR="10800" hR="10800" stAng="-9319049" swAng="34009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550200" y="4932360"/>
              <a:ext cx="422640" cy="32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87" y="6290"/>
                  </a:moveTo>
                  <a:arcTo wR="10800" hR="10800" stAng="-9319049" swAng="3426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987" y="6290"/>
                  </a:moveTo>
                  <a:arcTo wR="10800" hR="10800" stAng="-9319049" swAng="342647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355080" y="4935240"/>
              <a:ext cx="37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459840" y="5046480"/>
              <a:ext cx="2397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33333"/>
                  </a:solidFill>
                  <a:latin typeface="Times New Roman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178760" y="4941720"/>
              <a:ext cx="766800" cy="92160"/>
            </a:xfrm>
            <a:custGeom>
              <a:avLst/>
              <a:gdLst/>
              <a:ahLst/>
              <a:rect l="l" t="t" r="r" b="b"/>
              <a:pathLst>
                <a:path w="483" h="58">
                  <a:moveTo>
                    <a:pt x="0" y="55"/>
                  </a:moveTo>
                  <a:lnTo>
                    <a:pt x="7" y="46"/>
                  </a:lnTo>
                  <a:lnTo>
                    <a:pt x="21" y="29"/>
                  </a:lnTo>
                  <a:lnTo>
                    <a:pt x="37" y="21"/>
                  </a:lnTo>
                  <a:lnTo>
                    <a:pt x="48" y="13"/>
                  </a:lnTo>
                  <a:lnTo>
                    <a:pt x="71" y="5"/>
                  </a:lnTo>
                  <a:lnTo>
                    <a:pt x="84" y="2"/>
                  </a:lnTo>
                  <a:lnTo>
                    <a:pt x="94" y="0"/>
                  </a:lnTo>
                  <a:lnTo>
                    <a:pt x="482" y="0"/>
                  </a:lnTo>
                  <a:lnTo>
                    <a:pt x="459" y="4"/>
                  </a:lnTo>
                  <a:lnTo>
                    <a:pt x="450" y="6"/>
                  </a:lnTo>
                  <a:lnTo>
                    <a:pt x="446" y="6"/>
                  </a:lnTo>
                  <a:lnTo>
                    <a:pt x="442" y="8"/>
                  </a:lnTo>
                  <a:lnTo>
                    <a:pt x="438" y="10"/>
                  </a:lnTo>
                  <a:lnTo>
                    <a:pt x="433" y="13"/>
                  </a:lnTo>
                  <a:lnTo>
                    <a:pt x="429" y="16"/>
                  </a:lnTo>
                  <a:lnTo>
                    <a:pt x="426" y="20"/>
                  </a:lnTo>
                  <a:lnTo>
                    <a:pt x="422" y="21"/>
                  </a:lnTo>
                  <a:lnTo>
                    <a:pt x="418" y="24"/>
                  </a:lnTo>
                  <a:lnTo>
                    <a:pt x="413" y="26"/>
                  </a:lnTo>
                  <a:lnTo>
                    <a:pt x="409" y="29"/>
                  </a:lnTo>
                  <a:lnTo>
                    <a:pt x="406" y="33"/>
                  </a:lnTo>
                  <a:lnTo>
                    <a:pt x="402" y="35"/>
                  </a:lnTo>
                  <a:lnTo>
                    <a:pt x="398" y="37"/>
                  </a:lnTo>
                  <a:lnTo>
                    <a:pt x="395" y="41"/>
                  </a:lnTo>
                  <a:lnTo>
                    <a:pt x="391" y="44"/>
                  </a:lnTo>
                  <a:lnTo>
                    <a:pt x="389" y="48"/>
                  </a:lnTo>
                  <a:lnTo>
                    <a:pt x="389" y="52"/>
                  </a:lnTo>
                  <a:lnTo>
                    <a:pt x="388" y="57"/>
                  </a:lnTo>
                  <a:lnTo>
                    <a:pt x="0" y="55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182000" y="5032080"/>
              <a:ext cx="606600" cy="3286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253640" y="5305320"/>
              <a:ext cx="33120" cy="302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317000" y="5305320"/>
              <a:ext cx="33480" cy="302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380360" y="5305320"/>
              <a:ext cx="31680" cy="302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442280" y="5305320"/>
              <a:ext cx="33480" cy="302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506000" y="5305320"/>
              <a:ext cx="33120" cy="302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569360" y="5305320"/>
              <a:ext cx="33480" cy="302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631280" y="5305320"/>
              <a:ext cx="33480" cy="302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694640" y="5305320"/>
              <a:ext cx="32040" cy="302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232760" y="5305320"/>
              <a:ext cx="513000" cy="3312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164360" y="4932000"/>
              <a:ext cx="42264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87" y="6290"/>
                  </a:moveTo>
                  <a:arcTo wR="10800" hR="10800" stAng="-9319049" swAng="3400935"/>
                  <a:lnTo>
                    <a:pt x="10800" y="10800"/>
                  </a:lnTo>
                  <a:close/>
                </a:path>
                <a:path fill="none" w="21600" h="21600">
                  <a:moveTo>
                    <a:pt x="987" y="6290"/>
                  </a:moveTo>
                  <a:arcTo wR="10800" hR="10800" stAng="-9319049" swAng="34009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344000" y="4935240"/>
              <a:ext cx="61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386840" y="4983120"/>
              <a:ext cx="33192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425000" y="4964040"/>
              <a:ext cx="26028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425000" y="5000400"/>
              <a:ext cx="26028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480440" y="4946400"/>
              <a:ext cx="15552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480440" y="5016240"/>
              <a:ext cx="15552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751880" y="5084640"/>
              <a:ext cx="69840" cy="6516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686720" y="5046480"/>
              <a:ext cx="2397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33333"/>
                  </a:solidFill>
                  <a:latin typeface="Times New Roman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139160" y="5084640"/>
              <a:ext cx="68400" cy="6516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164360" y="4932000"/>
              <a:ext cx="42264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87" y="6290"/>
                  </a:moveTo>
                  <a:arcTo wR="10800" hR="10800" stAng="-9319049" swAng="3400935"/>
                  <a:lnTo>
                    <a:pt x="10800" y="10800"/>
                  </a:lnTo>
                  <a:close/>
                </a:path>
                <a:path fill="none" w="21600" h="21600">
                  <a:moveTo>
                    <a:pt x="987" y="6290"/>
                  </a:moveTo>
                  <a:arcTo wR="10800" hR="10800" stAng="-9319049" swAng="34009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074000" y="5046480"/>
              <a:ext cx="2397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33333"/>
                  </a:solidFill>
                  <a:latin typeface="Times New Roman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53760" y="590040"/>
            <a:ext cx="8629560" cy="120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onfiguration Software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723960" y="1841040"/>
            <a:ext cx="784872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168840" indent="-1688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ck Configu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25160" indent="-1710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and commun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112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ud rate, addessing, IP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25160" indent="-1710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eldPoint hard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112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nges, filters, power-up state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25160" indent="-1710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e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112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med tages, scan rate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8840" indent="-1688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oubleshooting, 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68840" indent="-1688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NT/98/9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686720" y="2790720"/>
            <a:ext cx="638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6588000" y="1703520"/>
            <a:ext cx="1878120" cy="3805200"/>
            <a:chOff x="6588000" y="1703520"/>
            <a:chExt cx="1878120" cy="3805200"/>
          </a:xfrm>
        </p:grpSpPr>
        <p:pic>
          <p:nvPicPr>
            <p:cNvPr id="1018" name="fp%20explorer%20installer" descr=""/>
            <p:cNvPicPr/>
            <p:nvPr/>
          </p:nvPicPr>
          <p:blipFill>
            <a:blip r:embed="rId1"/>
            <a:stretch/>
          </p:blipFill>
          <p:spPr>
            <a:xfrm>
              <a:off x="6588000" y="1703520"/>
              <a:ext cx="1878120" cy="38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9" name=""/>
            <p:cNvSpPr/>
            <p:nvPr/>
          </p:nvSpPr>
          <p:spPr>
            <a:xfrm>
              <a:off x="7705800" y="2800440"/>
              <a:ext cx="657000" cy="39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FieldPoint OPC Server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de connectivity to softwar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 integration into HMI/SCADA software pack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mlessly access server (and I/O) over the PC network (using DCO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052800" y="4998960"/>
            <a:ext cx="2719440" cy="13892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3" name="" descr=""/>
          <p:cNvPicPr/>
          <p:nvPr/>
        </p:nvPicPr>
        <p:blipFill>
          <a:blip r:embed="rId1"/>
          <a:stretch/>
        </p:blipFill>
        <p:spPr>
          <a:xfrm>
            <a:off x="3147840" y="5030640"/>
            <a:ext cx="2667240" cy="13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79320" y="590040"/>
            <a:ext cx="7810560" cy="120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FieldPoint – Summary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85800" y="2006280"/>
            <a:ext cx="784872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175680" indent="-1756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5680" indent="-1756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42080" indent="-178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install, configure, use, and maint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42080" indent="-178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ware 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5680" indent="-1756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42080" indent="-178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ial, Ethernet, and Fieldb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5680" indent="-1756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ust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42080" indent="-178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lated, robust, wide temperature r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28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Distributed I/O and Data Acquisition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68360" y="3448080"/>
          <a:ext cx="8040600" cy="22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448080"/>
                    <a:ext cx="8040600" cy="22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1550880" y="3641760"/>
            <a:ext cx="5713560" cy="0"/>
          </a:xfrm>
          <a:prstGeom prst="line">
            <a:avLst/>
          </a:prstGeom>
          <a:ln w="507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71760" y="3652920"/>
            <a:ext cx="0" cy="755640"/>
          </a:xfrm>
          <a:prstGeom prst="line">
            <a:avLst/>
          </a:prstGeom>
          <a:ln w="507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800280" y="4227480"/>
            <a:ext cx="2067840" cy="1257480"/>
            <a:chOff x="800280" y="4227480"/>
            <a:chExt cx="2067840" cy="1257480"/>
          </a:xfrm>
        </p:grpSpPr>
        <p:sp>
          <p:nvSpPr>
            <p:cNvPr id="106" name=""/>
            <p:cNvSpPr/>
            <p:nvPr/>
          </p:nvSpPr>
          <p:spPr>
            <a:xfrm>
              <a:off x="809640" y="4334040"/>
              <a:ext cx="1907640" cy="1429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0280" y="4313520"/>
              <a:ext cx="1904760" cy="270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0280" y="4480200"/>
              <a:ext cx="1911240" cy="126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47800" y="4402440"/>
              <a:ext cx="48960" cy="23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29000" y="4374000"/>
              <a:ext cx="48600" cy="23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19200" y="4376880"/>
              <a:ext cx="68040" cy="6516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62040" y="4233960"/>
              <a:ext cx="164880" cy="424080"/>
            </a:xfrm>
            <a:custGeom>
              <a:avLst/>
              <a:gdLst/>
              <a:ahLst/>
              <a:rect l="l" t="t" r="r" b="b"/>
              <a:pathLst>
                <a:path w="104" h="267">
                  <a:moveTo>
                    <a:pt x="0" y="62"/>
                  </a:moveTo>
                  <a:lnTo>
                    <a:pt x="0" y="266"/>
                  </a:lnTo>
                  <a:lnTo>
                    <a:pt x="100" y="193"/>
                  </a:lnTo>
                  <a:lnTo>
                    <a:pt x="103" y="0"/>
                  </a:lnTo>
                  <a:lnTo>
                    <a:pt x="88" y="0"/>
                  </a:lnTo>
                  <a:lnTo>
                    <a:pt x="76" y="4"/>
                  </a:lnTo>
                  <a:lnTo>
                    <a:pt x="60" y="8"/>
                  </a:lnTo>
                  <a:lnTo>
                    <a:pt x="49" y="15"/>
                  </a:lnTo>
                  <a:lnTo>
                    <a:pt x="33" y="22"/>
                  </a:lnTo>
                  <a:lnTo>
                    <a:pt x="18" y="37"/>
                  </a:lnTo>
                  <a:lnTo>
                    <a:pt x="11" y="47"/>
                  </a:lnTo>
                  <a:lnTo>
                    <a:pt x="0" y="62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45840" y="4227480"/>
              <a:ext cx="422280" cy="32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1" y="6259"/>
                  </a:moveTo>
                  <a:arcTo wR="10800" hR="10800" stAng="-9308285" swAng="33901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1" y="6259"/>
                  </a:moveTo>
                  <a:arcTo wR="10800" hR="10800" stAng="-9308285" swAng="339017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620800" y="4237200"/>
              <a:ext cx="144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2462040" y="4530960"/>
              <a:ext cx="15696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2461680" y="4354920"/>
              <a:ext cx="153720" cy="9504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461680" y="4280040"/>
              <a:ext cx="153720" cy="9396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560680" y="4258080"/>
              <a:ext cx="64800" cy="463320"/>
            </a:xfrm>
            <a:custGeom>
              <a:avLst/>
              <a:gdLst/>
              <a:ahLst/>
              <a:rect l="l" t="t" r="r" b="b"/>
              <a:pathLst>
                <a:path w="41" h="292">
                  <a:moveTo>
                    <a:pt x="0" y="291"/>
                  </a:moveTo>
                  <a:lnTo>
                    <a:pt x="40" y="249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34" y="188"/>
                  </a:lnTo>
                  <a:lnTo>
                    <a:pt x="0" y="226"/>
                  </a:lnTo>
                  <a:lnTo>
                    <a:pt x="0" y="29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27200" y="4232520"/>
              <a:ext cx="98280" cy="477720"/>
            </a:xfrm>
            <a:custGeom>
              <a:avLst/>
              <a:gdLst/>
              <a:ahLst/>
              <a:rect l="l" t="t" r="r" b="b"/>
              <a:pathLst>
                <a:path w="62" h="301">
                  <a:moveTo>
                    <a:pt x="0" y="300"/>
                  </a:moveTo>
                  <a:lnTo>
                    <a:pt x="61" y="257"/>
                  </a:lnTo>
                  <a:lnTo>
                    <a:pt x="61" y="0"/>
                  </a:lnTo>
                  <a:lnTo>
                    <a:pt x="52" y="0"/>
                  </a:lnTo>
                  <a:lnTo>
                    <a:pt x="52" y="194"/>
                  </a:lnTo>
                  <a:lnTo>
                    <a:pt x="0" y="2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38120" y="4608720"/>
              <a:ext cx="1176120" cy="106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22240" y="4386600"/>
              <a:ext cx="48960" cy="23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28680" y="4246920"/>
              <a:ext cx="766440" cy="91800"/>
            </a:xfrm>
            <a:custGeom>
              <a:avLst/>
              <a:gdLst/>
              <a:ahLst/>
              <a:rect l="l" t="t" r="r" b="b"/>
              <a:pathLst>
                <a:path w="483" h="58">
                  <a:moveTo>
                    <a:pt x="0" y="55"/>
                  </a:moveTo>
                  <a:lnTo>
                    <a:pt x="8" y="46"/>
                  </a:lnTo>
                  <a:lnTo>
                    <a:pt x="22" y="29"/>
                  </a:lnTo>
                  <a:lnTo>
                    <a:pt x="38" y="21"/>
                  </a:lnTo>
                  <a:lnTo>
                    <a:pt x="49" y="13"/>
                  </a:lnTo>
                  <a:lnTo>
                    <a:pt x="72" y="5"/>
                  </a:lnTo>
                  <a:lnTo>
                    <a:pt x="85" y="2"/>
                  </a:lnTo>
                  <a:lnTo>
                    <a:pt x="94" y="0"/>
                  </a:lnTo>
                  <a:lnTo>
                    <a:pt x="482" y="0"/>
                  </a:lnTo>
                  <a:lnTo>
                    <a:pt x="459" y="4"/>
                  </a:lnTo>
                  <a:lnTo>
                    <a:pt x="450" y="6"/>
                  </a:lnTo>
                  <a:lnTo>
                    <a:pt x="446" y="6"/>
                  </a:lnTo>
                  <a:lnTo>
                    <a:pt x="442" y="8"/>
                  </a:lnTo>
                  <a:lnTo>
                    <a:pt x="438" y="10"/>
                  </a:lnTo>
                  <a:lnTo>
                    <a:pt x="433" y="13"/>
                  </a:lnTo>
                  <a:lnTo>
                    <a:pt x="429" y="16"/>
                  </a:lnTo>
                  <a:lnTo>
                    <a:pt x="426" y="20"/>
                  </a:lnTo>
                  <a:lnTo>
                    <a:pt x="422" y="21"/>
                  </a:lnTo>
                  <a:lnTo>
                    <a:pt x="418" y="24"/>
                  </a:lnTo>
                  <a:lnTo>
                    <a:pt x="413" y="26"/>
                  </a:lnTo>
                  <a:lnTo>
                    <a:pt x="409" y="29"/>
                  </a:lnTo>
                  <a:lnTo>
                    <a:pt x="406" y="33"/>
                  </a:lnTo>
                  <a:lnTo>
                    <a:pt x="402" y="35"/>
                  </a:lnTo>
                  <a:lnTo>
                    <a:pt x="398" y="37"/>
                  </a:lnTo>
                  <a:lnTo>
                    <a:pt x="395" y="41"/>
                  </a:lnTo>
                  <a:lnTo>
                    <a:pt x="391" y="44"/>
                  </a:lnTo>
                  <a:lnTo>
                    <a:pt x="390" y="48"/>
                  </a:lnTo>
                  <a:lnTo>
                    <a:pt x="390" y="52"/>
                  </a:lnTo>
                  <a:lnTo>
                    <a:pt x="389" y="57"/>
                  </a:lnTo>
                  <a:lnTo>
                    <a:pt x="0" y="55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33360" y="4337280"/>
              <a:ext cx="606240" cy="3286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305000" y="4610520"/>
              <a:ext cx="3276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368360" y="4610520"/>
              <a:ext cx="331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30280" y="4610520"/>
              <a:ext cx="331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93640" y="4610520"/>
              <a:ext cx="316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55560" y="4610520"/>
              <a:ext cx="331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19280" y="4610520"/>
              <a:ext cx="3276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82640" y="4610520"/>
              <a:ext cx="313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746360" y="4610520"/>
              <a:ext cx="313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84120" y="4610520"/>
              <a:ext cx="512640" cy="3312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18600" y="4240800"/>
              <a:ext cx="419400" cy="32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" y="6056"/>
                  </a:moveTo>
                  <a:arcTo wR="10800" hR="10800" stAng="-9236564" swAng="3343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" y="6056"/>
                  </a:moveTo>
                  <a:arcTo wR="10800" hR="10800" stAng="-9236564" swAng="33439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98600" y="4240440"/>
              <a:ext cx="61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40000" y="4287960"/>
              <a:ext cx="32976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77800" y="4268880"/>
              <a:ext cx="25848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477800" y="4305600"/>
              <a:ext cx="25848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33600" y="4251600"/>
              <a:ext cx="15336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33600" y="4321440"/>
              <a:ext cx="15336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38080" y="4351680"/>
              <a:ext cx="2397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33333"/>
                  </a:solidFill>
                  <a:latin typeface="Times New Roman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76240" y="4248360"/>
              <a:ext cx="506160" cy="87480"/>
            </a:xfrm>
            <a:custGeom>
              <a:avLst/>
              <a:gdLst/>
              <a:ahLst/>
              <a:rect l="l" t="t" r="r" b="b"/>
              <a:pathLst>
                <a:path w="319" h="55">
                  <a:moveTo>
                    <a:pt x="0" y="53"/>
                  </a:moveTo>
                  <a:lnTo>
                    <a:pt x="5" y="43"/>
                  </a:lnTo>
                  <a:lnTo>
                    <a:pt x="14" y="28"/>
                  </a:lnTo>
                  <a:lnTo>
                    <a:pt x="25" y="20"/>
                  </a:lnTo>
                  <a:lnTo>
                    <a:pt x="32" y="13"/>
                  </a:lnTo>
                  <a:lnTo>
                    <a:pt x="47" y="5"/>
                  </a:lnTo>
                  <a:lnTo>
                    <a:pt x="55" y="2"/>
                  </a:lnTo>
                  <a:lnTo>
                    <a:pt x="62" y="0"/>
                  </a:lnTo>
                  <a:lnTo>
                    <a:pt x="318" y="0"/>
                  </a:lnTo>
                  <a:lnTo>
                    <a:pt x="303" y="4"/>
                  </a:lnTo>
                  <a:lnTo>
                    <a:pt x="297" y="6"/>
                  </a:lnTo>
                  <a:lnTo>
                    <a:pt x="294" y="6"/>
                  </a:lnTo>
                  <a:lnTo>
                    <a:pt x="291" y="8"/>
                  </a:lnTo>
                  <a:lnTo>
                    <a:pt x="288" y="10"/>
                  </a:lnTo>
                  <a:lnTo>
                    <a:pt x="286" y="13"/>
                  </a:lnTo>
                  <a:lnTo>
                    <a:pt x="283" y="16"/>
                  </a:lnTo>
                  <a:lnTo>
                    <a:pt x="281" y="18"/>
                  </a:lnTo>
                  <a:lnTo>
                    <a:pt x="279" y="20"/>
                  </a:lnTo>
                  <a:lnTo>
                    <a:pt x="276" y="22"/>
                  </a:lnTo>
                  <a:lnTo>
                    <a:pt x="273" y="25"/>
                  </a:lnTo>
                  <a:lnTo>
                    <a:pt x="270" y="28"/>
                  </a:lnTo>
                  <a:lnTo>
                    <a:pt x="268" y="32"/>
                  </a:lnTo>
                  <a:lnTo>
                    <a:pt x="265" y="33"/>
                  </a:lnTo>
                  <a:lnTo>
                    <a:pt x="262" y="35"/>
                  </a:lnTo>
                  <a:lnTo>
                    <a:pt x="261" y="39"/>
                  </a:lnTo>
                  <a:lnTo>
                    <a:pt x="258" y="42"/>
                  </a:lnTo>
                  <a:lnTo>
                    <a:pt x="257" y="46"/>
                  </a:lnTo>
                  <a:lnTo>
                    <a:pt x="257" y="50"/>
                  </a:lnTo>
                  <a:lnTo>
                    <a:pt x="256" y="54"/>
                  </a:lnTo>
                  <a:lnTo>
                    <a:pt x="0" y="53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68320" y="4337280"/>
              <a:ext cx="356760" cy="3286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90520" y="4389840"/>
              <a:ext cx="68040" cy="6480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04760" y="4610520"/>
              <a:ext cx="331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68480" y="4610520"/>
              <a:ext cx="3276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31840" y="4610520"/>
              <a:ext cx="313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2160" y="4610520"/>
              <a:ext cx="190080" cy="3312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53560" y="4240440"/>
              <a:ext cx="42228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1" y="6259"/>
                  </a:moveTo>
                  <a:arcTo wR="10800" hR="10800" stAng="-9308285" swAng="33901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1" y="6259"/>
                  </a:moveTo>
                  <a:arcTo wR="10800" hR="10800" stAng="-9308285" swAng="339017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8600" y="4240800"/>
              <a:ext cx="419400" cy="32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" y="6056"/>
                  </a:moveTo>
                  <a:arcTo wR="10800" hR="10800" stAng="-9236564" swAng="3343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" y="6056"/>
                  </a:moveTo>
                  <a:arcTo wR="10800" hR="10800" stAng="-9236564" swAng="33439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22400" y="4240440"/>
              <a:ext cx="37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23920" y="4351680"/>
              <a:ext cx="2397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33333"/>
                  </a:solidFill>
                  <a:latin typeface="Times New Roman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43200" y="4246920"/>
              <a:ext cx="766440" cy="91800"/>
            </a:xfrm>
            <a:custGeom>
              <a:avLst/>
              <a:gdLst/>
              <a:ahLst/>
              <a:rect l="l" t="t" r="r" b="b"/>
              <a:pathLst>
                <a:path w="483" h="58">
                  <a:moveTo>
                    <a:pt x="0" y="55"/>
                  </a:moveTo>
                  <a:lnTo>
                    <a:pt x="7" y="46"/>
                  </a:lnTo>
                  <a:lnTo>
                    <a:pt x="21" y="29"/>
                  </a:lnTo>
                  <a:lnTo>
                    <a:pt x="37" y="21"/>
                  </a:lnTo>
                  <a:lnTo>
                    <a:pt x="48" y="13"/>
                  </a:lnTo>
                  <a:lnTo>
                    <a:pt x="71" y="5"/>
                  </a:lnTo>
                  <a:lnTo>
                    <a:pt x="84" y="2"/>
                  </a:lnTo>
                  <a:lnTo>
                    <a:pt x="94" y="0"/>
                  </a:lnTo>
                  <a:lnTo>
                    <a:pt x="482" y="0"/>
                  </a:lnTo>
                  <a:lnTo>
                    <a:pt x="459" y="4"/>
                  </a:lnTo>
                  <a:lnTo>
                    <a:pt x="450" y="6"/>
                  </a:lnTo>
                  <a:lnTo>
                    <a:pt x="446" y="6"/>
                  </a:lnTo>
                  <a:lnTo>
                    <a:pt x="442" y="8"/>
                  </a:lnTo>
                  <a:lnTo>
                    <a:pt x="438" y="10"/>
                  </a:lnTo>
                  <a:lnTo>
                    <a:pt x="433" y="13"/>
                  </a:lnTo>
                  <a:lnTo>
                    <a:pt x="429" y="16"/>
                  </a:lnTo>
                  <a:lnTo>
                    <a:pt x="426" y="20"/>
                  </a:lnTo>
                  <a:lnTo>
                    <a:pt x="422" y="21"/>
                  </a:lnTo>
                  <a:lnTo>
                    <a:pt x="418" y="24"/>
                  </a:lnTo>
                  <a:lnTo>
                    <a:pt x="413" y="26"/>
                  </a:lnTo>
                  <a:lnTo>
                    <a:pt x="409" y="29"/>
                  </a:lnTo>
                  <a:lnTo>
                    <a:pt x="406" y="33"/>
                  </a:lnTo>
                  <a:lnTo>
                    <a:pt x="402" y="35"/>
                  </a:lnTo>
                  <a:lnTo>
                    <a:pt x="398" y="37"/>
                  </a:lnTo>
                  <a:lnTo>
                    <a:pt x="395" y="41"/>
                  </a:lnTo>
                  <a:lnTo>
                    <a:pt x="391" y="44"/>
                  </a:lnTo>
                  <a:lnTo>
                    <a:pt x="389" y="48"/>
                  </a:lnTo>
                  <a:lnTo>
                    <a:pt x="389" y="52"/>
                  </a:lnTo>
                  <a:lnTo>
                    <a:pt x="388" y="57"/>
                  </a:lnTo>
                  <a:lnTo>
                    <a:pt x="0" y="55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46080" y="4337280"/>
              <a:ext cx="606240" cy="3286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17720" y="4610520"/>
              <a:ext cx="3276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81080" y="4610520"/>
              <a:ext cx="331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44800" y="4610520"/>
              <a:ext cx="313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106720" y="4610520"/>
              <a:ext cx="3276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70080" y="4610520"/>
              <a:ext cx="331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33440" y="4610520"/>
              <a:ext cx="331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95360" y="4610520"/>
              <a:ext cx="331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59080" y="4610520"/>
              <a:ext cx="313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97200" y="4610520"/>
              <a:ext cx="512280" cy="3312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31680" y="4240440"/>
              <a:ext cx="42156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1" y="6259"/>
                  </a:moveTo>
                  <a:arcTo wR="10800" hR="10800" stAng="-9308285" swAng="33901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1" y="6259"/>
                  </a:moveTo>
                  <a:arcTo wR="10800" hR="10800" stAng="-9308285" swAng="339017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011320" y="4240440"/>
              <a:ext cx="61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54160" y="4287960"/>
              <a:ext cx="32832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092320" y="4268880"/>
              <a:ext cx="25668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092320" y="4305600"/>
              <a:ext cx="25668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47760" y="4251600"/>
              <a:ext cx="15228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147760" y="4321440"/>
              <a:ext cx="15228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416320" y="4389840"/>
              <a:ext cx="69480" cy="6480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351160" y="4351680"/>
              <a:ext cx="2397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33333"/>
                  </a:solidFill>
                  <a:latin typeface="Times New Roman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803240" y="4389840"/>
              <a:ext cx="68040" cy="6480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831680" y="4240440"/>
              <a:ext cx="42156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1" y="6259"/>
                  </a:moveTo>
                  <a:arcTo wR="10800" hR="10800" stAng="-9308285" swAng="33901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1" y="6259"/>
                  </a:moveTo>
                  <a:arcTo wR="10800" hR="10800" stAng="-9308285" swAng="339017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38080" y="4351680"/>
              <a:ext cx="2397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33333"/>
                  </a:solidFill>
                  <a:latin typeface="Times New Roman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146196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153828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163368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172872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205272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212868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222408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31948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44680" y="5193000"/>
              <a:ext cx="89172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" name="" descr=""/>
            <p:cNvPicPr/>
            <p:nvPr/>
          </p:nvPicPr>
          <p:blipFill>
            <a:blip r:embed="rId3"/>
            <a:stretch/>
          </p:blipFill>
          <p:spPr>
            <a:xfrm>
              <a:off x="1485720" y="5215320"/>
              <a:ext cx="241200" cy="24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4"/>
            <a:stretch/>
          </p:blipFill>
          <p:spPr>
            <a:xfrm>
              <a:off x="1800360" y="5234400"/>
              <a:ext cx="23112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2101680" y="5240520"/>
              <a:ext cx="168120" cy="187560"/>
            </a:xfrm>
            <a:prstGeom prst="ellipse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16080" y="5270760"/>
              <a:ext cx="144000" cy="125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22560" y="5263920"/>
              <a:ext cx="124920" cy="1508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390920" y="2249640"/>
            <a:ext cx="0" cy="2450880"/>
          </a:xfrm>
          <a:prstGeom prst="line">
            <a:avLst/>
          </a:prstGeom>
          <a:ln w="507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248600" y="3652920"/>
            <a:ext cx="0" cy="755640"/>
          </a:xfrm>
          <a:prstGeom prst="line">
            <a:avLst/>
          </a:prstGeom>
          <a:ln w="507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3871800" y="1704960"/>
            <a:ext cx="2113200" cy="17575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482360" y="3608280"/>
            <a:ext cx="21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dustrial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91000" y="4227480"/>
            <a:ext cx="2068200" cy="1257480"/>
            <a:chOff x="3591000" y="4227480"/>
            <a:chExt cx="2068200" cy="1257480"/>
          </a:xfrm>
        </p:grpSpPr>
        <p:sp>
          <p:nvSpPr>
            <p:cNvPr id="194" name=""/>
            <p:cNvSpPr/>
            <p:nvPr/>
          </p:nvSpPr>
          <p:spPr>
            <a:xfrm>
              <a:off x="3600360" y="4334040"/>
              <a:ext cx="1908360" cy="1429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91000" y="4313520"/>
              <a:ext cx="1904760" cy="270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91000" y="4480200"/>
              <a:ext cx="1911240" cy="126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38880" y="4402440"/>
              <a:ext cx="48960" cy="23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319720" y="4374000"/>
              <a:ext cx="49320" cy="23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210280" y="4376880"/>
              <a:ext cx="68040" cy="6516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53120" y="4233960"/>
              <a:ext cx="164880" cy="424080"/>
            </a:xfrm>
            <a:custGeom>
              <a:avLst/>
              <a:gdLst/>
              <a:ahLst/>
              <a:rect l="l" t="t" r="r" b="b"/>
              <a:pathLst>
                <a:path w="104" h="267">
                  <a:moveTo>
                    <a:pt x="0" y="62"/>
                  </a:moveTo>
                  <a:lnTo>
                    <a:pt x="0" y="266"/>
                  </a:lnTo>
                  <a:lnTo>
                    <a:pt x="100" y="193"/>
                  </a:lnTo>
                  <a:lnTo>
                    <a:pt x="103" y="0"/>
                  </a:lnTo>
                  <a:lnTo>
                    <a:pt x="88" y="0"/>
                  </a:lnTo>
                  <a:lnTo>
                    <a:pt x="76" y="4"/>
                  </a:lnTo>
                  <a:lnTo>
                    <a:pt x="60" y="8"/>
                  </a:lnTo>
                  <a:lnTo>
                    <a:pt x="49" y="15"/>
                  </a:lnTo>
                  <a:lnTo>
                    <a:pt x="33" y="22"/>
                  </a:lnTo>
                  <a:lnTo>
                    <a:pt x="18" y="37"/>
                  </a:lnTo>
                  <a:lnTo>
                    <a:pt x="11" y="47"/>
                  </a:lnTo>
                  <a:lnTo>
                    <a:pt x="0" y="62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236920" y="4227480"/>
              <a:ext cx="422280" cy="32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1" y="6259"/>
                  </a:moveTo>
                  <a:arcTo wR="10800" hR="10800" stAng="-9308285" swAng="33901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1" y="6259"/>
                  </a:moveTo>
                  <a:arcTo wR="10800" hR="10800" stAng="-9308285" swAng="339017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5411880" y="4237200"/>
              <a:ext cx="144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5253120" y="4530960"/>
              <a:ext cx="15696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5252760" y="4354920"/>
              <a:ext cx="153720" cy="9504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5252760" y="4280040"/>
              <a:ext cx="153720" cy="9396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51400" y="4258080"/>
              <a:ext cx="65160" cy="463320"/>
            </a:xfrm>
            <a:custGeom>
              <a:avLst/>
              <a:gdLst/>
              <a:ahLst/>
              <a:rect l="l" t="t" r="r" b="b"/>
              <a:pathLst>
                <a:path w="41" h="292">
                  <a:moveTo>
                    <a:pt x="0" y="291"/>
                  </a:moveTo>
                  <a:lnTo>
                    <a:pt x="40" y="249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34" y="188"/>
                  </a:lnTo>
                  <a:lnTo>
                    <a:pt x="0" y="226"/>
                  </a:lnTo>
                  <a:lnTo>
                    <a:pt x="0" y="29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318280" y="4232520"/>
              <a:ext cx="98280" cy="477720"/>
            </a:xfrm>
            <a:custGeom>
              <a:avLst/>
              <a:gdLst/>
              <a:ahLst/>
              <a:rect l="l" t="t" r="r" b="b"/>
              <a:pathLst>
                <a:path w="62" h="301">
                  <a:moveTo>
                    <a:pt x="0" y="300"/>
                  </a:moveTo>
                  <a:lnTo>
                    <a:pt x="61" y="257"/>
                  </a:lnTo>
                  <a:lnTo>
                    <a:pt x="61" y="0"/>
                  </a:lnTo>
                  <a:lnTo>
                    <a:pt x="52" y="0"/>
                  </a:lnTo>
                  <a:lnTo>
                    <a:pt x="52" y="194"/>
                  </a:lnTo>
                  <a:lnTo>
                    <a:pt x="0" y="2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29200" y="4608720"/>
              <a:ext cx="1176120" cy="106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12960" y="4386600"/>
              <a:ext cx="49320" cy="23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019400" y="4246920"/>
              <a:ext cx="766800" cy="91800"/>
            </a:xfrm>
            <a:custGeom>
              <a:avLst/>
              <a:gdLst/>
              <a:ahLst/>
              <a:rect l="l" t="t" r="r" b="b"/>
              <a:pathLst>
                <a:path w="483" h="58">
                  <a:moveTo>
                    <a:pt x="0" y="55"/>
                  </a:moveTo>
                  <a:lnTo>
                    <a:pt x="8" y="46"/>
                  </a:lnTo>
                  <a:lnTo>
                    <a:pt x="22" y="29"/>
                  </a:lnTo>
                  <a:lnTo>
                    <a:pt x="38" y="21"/>
                  </a:lnTo>
                  <a:lnTo>
                    <a:pt x="49" y="13"/>
                  </a:lnTo>
                  <a:lnTo>
                    <a:pt x="72" y="5"/>
                  </a:lnTo>
                  <a:lnTo>
                    <a:pt x="85" y="2"/>
                  </a:lnTo>
                  <a:lnTo>
                    <a:pt x="94" y="0"/>
                  </a:lnTo>
                  <a:lnTo>
                    <a:pt x="482" y="0"/>
                  </a:lnTo>
                  <a:lnTo>
                    <a:pt x="459" y="4"/>
                  </a:lnTo>
                  <a:lnTo>
                    <a:pt x="450" y="6"/>
                  </a:lnTo>
                  <a:lnTo>
                    <a:pt x="446" y="6"/>
                  </a:lnTo>
                  <a:lnTo>
                    <a:pt x="442" y="8"/>
                  </a:lnTo>
                  <a:lnTo>
                    <a:pt x="438" y="10"/>
                  </a:lnTo>
                  <a:lnTo>
                    <a:pt x="433" y="13"/>
                  </a:lnTo>
                  <a:lnTo>
                    <a:pt x="429" y="16"/>
                  </a:lnTo>
                  <a:lnTo>
                    <a:pt x="426" y="20"/>
                  </a:lnTo>
                  <a:lnTo>
                    <a:pt x="422" y="21"/>
                  </a:lnTo>
                  <a:lnTo>
                    <a:pt x="418" y="24"/>
                  </a:lnTo>
                  <a:lnTo>
                    <a:pt x="413" y="26"/>
                  </a:lnTo>
                  <a:lnTo>
                    <a:pt x="409" y="29"/>
                  </a:lnTo>
                  <a:lnTo>
                    <a:pt x="406" y="33"/>
                  </a:lnTo>
                  <a:lnTo>
                    <a:pt x="402" y="35"/>
                  </a:lnTo>
                  <a:lnTo>
                    <a:pt x="398" y="37"/>
                  </a:lnTo>
                  <a:lnTo>
                    <a:pt x="395" y="41"/>
                  </a:lnTo>
                  <a:lnTo>
                    <a:pt x="391" y="44"/>
                  </a:lnTo>
                  <a:lnTo>
                    <a:pt x="390" y="48"/>
                  </a:lnTo>
                  <a:lnTo>
                    <a:pt x="390" y="52"/>
                  </a:lnTo>
                  <a:lnTo>
                    <a:pt x="389" y="57"/>
                  </a:lnTo>
                  <a:lnTo>
                    <a:pt x="0" y="55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24440" y="4337280"/>
              <a:ext cx="606240" cy="3286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095720" y="4610520"/>
              <a:ext cx="334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59080" y="4610520"/>
              <a:ext cx="334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21000" y="4610520"/>
              <a:ext cx="334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84720" y="4610520"/>
              <a:ext cx="316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46640" y="4610520"/>
              <a:ext cx="331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410000" y="4610520"/>
              <a:ext cx="334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473720" y="4610520"/>
              <a:ext cx="316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37080" y="4610520"/>
              <a:ext cx="316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075200" y="4610520"/>
              <a:ext cx="512640" cy="3312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009320" y="4240800"/>
              <a:ext cx="420120" cy="32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" y="6056"/>
                  </a:moveTo>
                  <a:arcTo wR="10800" hR="10800" stAng="-9236564" swAng="3343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" y="6056"/>
                  </a:moveTo>
                  <a:arcTo wR="10800" hR="10800" stAng="-9236564" swAng="33439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89320" y="4240440"/>
              <a:ext cx="61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30720" y="4287960"/>
              <a:ext cx="33012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268880" y="4268880"/>
              <a:ext cx="25848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268880" y="4305600"/>
              <a:ext cx="25848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324320" y="4251600"/>
              <a:ext cx="15408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324320" y="4321440"/>
              <a:ext cx="15408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529160" y="4351680"/>
              <a:ext cx="2397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33333"/>
                  </a:solidFill>
                  <a:latin typeface="Times New Roman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66960" y="4248360"/>
              <a:ext cx="506520" cy="87480"/>
            </a:xfrm>
            <a:custGeom>
              <a:avLst/>
              <a:gdLst/>
              <a:ahLst/>
              <a:rect l="l" t="t" r="r" b="b"/>
              <a:pathLst>
                <a:path w="319" h="55">
                  <a:moveTo>
                    <a:pt x="0" y="53"/>
                  </a:moveTo>
                  <a:lnTo>
                    <a:pt x="5" y="43"/>
                  </a:lnTo>
                  <a:lnTo>
                    <a:pt x="14" y="28"/>
                  </a:lnTo>
                  <a:lnTo>
                    <a:pt x="25" y="20"/>
                  </a:lnTo>
                  <a:lnTo>
                    <a:pt x="32" y="13"/>
                  </a:lnTo>
                  <a:lnTo>
                    <a:pt x="47" y="5"/>
                  </a:lnTo>
                  <a:lnTo>
                    <a:pt x="55" y="2"/>
                  </a:lnTo>
                  <a:lnTo>
                    <a:pt x="62" y="0"/>
                  </a:lnTo>
                  <a:lnTo>
                    <a:pt x="318" y="0"/>
                  </a:lnTo>
                  <a:lnTo>
                    <a:pt x="303" y="4"/>
                  </a:lnTo>
                  <a:lnTo>
                    <a:pt x="297" y="6"/>
                  </a:lnTo>
                  <a:lnTo>
                    <a:pt x="294" y="6"/>
                  </a:lnTo>
                  <a:lnTo>
                    <a:pt x="291" y="8"/>
                  </a:lnTo>
                  <a:lnTo>
                    <a:pt x="288" y="10"/>
                  </a:lnTo>
                  <a:lnTo>
                    <a:pt x="286" y="13"/>
                  </a:lnTo>
                  <a:lnTo>
                    <a:pt x="283" y="16"/>
                  </a:lnTo>
                  <a:lnTo>
                    <a:pt x="281" y="18"/>
                  </a:lnTo>
                  <a:lnTo>
                    <a:pt x="279" y="20"/>
                  </a:lnTo>
                  <a:lnTo>
                    <a:pt x="276" y="22"/>
                  </a:lnTo>
                  <a:lnTo>
                    <a:pt x="273" y="25"/>
                  </a:lnTo>
                  <a:lnTo>
                    <a:pt x="270" y="28"/>
                  </a:lnTo>
                  <a:lnTo>
                    <a:pt x="268" y="32"/>
                  </a:lnTo>
                  <a:lnTo>
                    <a:pt x="265" y="33"/>
                  </a:lnTo>
                  <a:lnTo>
                    <a:pt x="262" y="35"/>
                  </a:lnTo>
                  <a:lnTo>
                    <a:pt x="261" y="39"/>
                  </a:lnTo>
                  <a:lnTo>
                    <a:pt x="258" y="42"/>
                  </a:lnTo>
                  <a:lnTo>
                    <a:pt x="257" y="46"/>
                  </a:lnTo>
                  <a:lnTo>
                    <a:pt x="257" y="50"/>
                  </a:lnTo>
                  <a:lnTo>
                    <a:pt x="256" y="54"/>
                  </a:lnTo>
                  <a:lnTo>
                    <a:pt x="0" y="53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59040" y="4337280"/>
              <a:ext cx="357480" cy="3286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981600" y="4389840"/>
              <a:ext cx="68040" cy="6480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95840" y="4610520"/>
              <a:ext cx="331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59200" y="4610520"/>
              <a:ext cx="334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922560" y="4610520"/>
              <a:ext cx="3204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82880" y="4610520"/>
              <a:ext cx="190440" cy="3312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4640" y="4240440"/>
              <a:ext cx="42228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1" y="6259"/>
                  </a:moveTo>
                  <a:arcTo wR="10800" hR="10800" stAng="-9308285" swAng="33901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1" y="6259"/>
                  </a:moveTo>
                  <a:arcTo wR="10800" hR="10800" stAng="-9308285" swAng="339017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09320" y="4240800"/>
              <a:ext cx="420120" cy="32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" y="6056"/>
                  </a:moveTo>
                  <a:arcTo wR="10800" hR="10800" stAng="-9236564" swAng="3343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" y="6056"/>
                  </a:moveTo>
                  <a:arcTo wR="10800" hR="10800" stAng="-9236564" swAng="33439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13120" y="4240440"/>
              <a:ext cx="3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914640" y="4351680"/>
              <a:ext cx="2397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33333"/>
                  </a:solidFill>
                  <a:latin typeface="Times New Roman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633920" y="4246920"/>
              <a:ext cx="766800" cy="91800"/>
            </a:xfrm>
            <a:custGeom>
              <a:avLst/>
              <a:gdLst/>
              <a:ahLst/>
              <a:rect l="l" t="t" r="r" b="b"/>
              <a:pathLst>
                <a:path w="483" h="58">
                  <a:moveTo>
                    <a:pt x="0" y="55"/>
                  </a:moveTo>
                  <a:lnTo>
                    <a:pt x="7" y="46"/>
                  </a:lnTo>
                  <a:lnTo>
                    <a:pt x="21" y="29"/>
                  </a:lnTo>
                  <a:lnTo>
                    <a:pt x="37" y="21"/>
                  </a:lnTo>
                  <a:lnTo>
                    <a:pt x="48" y="13"/>
                  </a:lnTo>
                  <a:lnTo>
                    <a:pt x="71" y="5"/>
                  </a:lnTo>
                  <a:lnTo>
                    <a:pt x="84" y="2"/>
                  </a:lnTo>
                  <a:lnTo>
                    <a:pt x="94" y="0"/>
                  </a:lnTo>
                  <a:lnTo>
                    <a:pt x="482" y="0"/>
                  </a:lnTo>
                  <a:lnTo>
                    <a:pt x="459" y="4"/>
                  </a:lnTo>
                  <a:lnTo>
                    <a:pt x="450" y="6"/>
                  </a:lnTo>
                  <a:lnTo>
                    <a:pt x="446" y="6"/>
                  </a:lnTo>
                  <a:lnTo>
                    <a:pt x="442" y="8"/>
                  </a:lnTo>
                  <a:lnTo>
                    <a:pt x="438" y="10"/>
                  </a:lnTo>
                  <a:lnTo>
                    <a:pt x="433" y="13"/>
                  </a:lnTo>
                  <a:lnTo>
                    <a:pt x="429" y="16"/>
                  </a:lnTo>
                  <a:lnTo>
                    <a:pt x="426" y="20"/>
                  </a:lnTo>
                  <a:lnTo>
                    <a:pt x="422" y="21"/>
                  </a:lnTo>
                  <a:lnTo>
                    <a:pt x="418" y="24"/>
                  </a:lnTo>
                  <a:lnTo>
                    <a:pt x="413" y="26"/>
                  </a:lnTo>
                  <a:lnTo>
                    <a:pt x="409" y="29"/>
                  </a:lnTo>
                  <a:lnTo>
                    <a:pt x="406" y="33"/>
                  </a:lnTo>
                  <a:lnTo>
                    <a:pt x="402" y="35"/>
                  </a:lnTo>
                  <a:lnTo>
                    <a:pt x="398" y="37"/>
                  </a:lnTo>
                  <a:lnTo>
                    <a:pt x="395" y="41"/>
                  </a:lnTo>
                  <a:lnTo>
                    <a:pt x="391" y="44"/>
                  </a:lnTo>
                  <a:lnTo>
                    <a:pt x="389" y="48"/>
                  </a:lnTo>
                  <a:lnTo>
                    <a:pt x="389" y="52"/>
                  </a:lnTo>
                  <a:lnTo>
                    <a:pt x="388" y="57"/>
                  </a:lnTo>
                  <a:lnTo>
                    <a:pt x="0" y="55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637160" y="4337280"/>
              <a:ext cx="606240" cy="3286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08440" y="4610520"/>
              <a:ext cx="334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772160" y="4610520"/>
              <a:ext cx="331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35520" y="4610520"/>
              <a:ext cx="316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97440" y="4610520"/>
              <a:ext cx="334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60800" y="4610520"/>
              <a:ext cx="334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024520" y="4610520"/>
              <a:ext cx="331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086440" y="4610520"/>
              <a:ext cx="331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9800" y="4610520"/>
              <a:ext cx="316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687920" y="4610520"/>
              <a:ext cx="512640" cy="3312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22400" y="4240440"/>
              <a:ext cx="42336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1" y="6259"/>
                  </a:moveTo>
                  <a:arcTo wR="10800" hR="10800" stAng="-9308285" swAng="33901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1" y="6259"/>
                  </a:moveTo>
                  <a:arcTo wR="10800" hR="10800" stAng="-9308285" swAng="339017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02040" y="4240440"/>
              <a:ext cx="61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44880" y="4287960"/>
              <a:ext cx="32868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883040" y="4268880"/>
              <a:ext cx="25740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83040" y="4305600"/>
              <a:ext cx="25740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38840" y="4251600"/>
              <a:ext cx="15228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938840" y="4321440"/>
              <a:ext cx="15228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07040" y="4389840"/>
              <a:ext cx="69840" cy="6480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141880" y="4351680"/>
              <a:ext cx="2397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33333"/>
                  </a:solidFill>
                  <a:latin typeface="Times New Roman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94320" y="4389840"/>
              <a:ext cx="68040" cy="6480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622400" y="4240440"/>
              <a:ext cx="42336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1" y="6259"/>
                  </a:moveTo>
                  <a:arcTo wR="10800" hR="10800" stAng="-9308285" swAng="33901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1" y="6259"/>
                  </a:moveTo>
                  <a:arcTo wR="10800" hR="10800" stAng="-9308285" swAng="339017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529160" y="4351680"/>
              <a:ext cx="2397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33333"/>
                  </a:solidFill>
                  <a:latin typeface="Times New Roman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425304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432900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442440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451944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484344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491976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501480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511020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235400" y="5193000"/>
              <a:ext cx="89208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2" name="" descr=""/>
            <p:cNvPicPr/>
            <p:nvPr/>
          </p:nvPicPr>
          <p:blipFill>
            <a:blip r:embed="rId6"/>
            <a:stretch/>
          </p:blipFill>
          <p:spPr>
            <a:xfrm>
              <a:off x="4276800" y="5215320"/>
              <a:ext cx="241200" cy="24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7"/>
            <a:stretch/>
          </p:blipFill>
          <p:spPr>
            <a:xfrm>
              <a:off x="4591080" y="5234400"/>
              <a:ext cx="23184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4892760" y="5240520"/>
              <a:ext cx="168120" cy="187560"/>
            </a:xfrm>
            <a:prstGeom prst="ellipse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06800" y="5270760"/>
              <a:ext cx="144720" cy="125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4913280" y="5263920"/>
              <a:ext cx="125280" cy="1508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6400800" y="4227480"/>
            <a:ext cx="2068200" cy="1257480"/>
            <a:chOff x="6400800" y="4227480"/>
            <a:chExt cx="2068200" cy="1257480"/>
          </a:xfrm>
        </p:grpSpPr>
        <p:sp>
          <p:nvSpPr>
            <p:cNvPr id="278" name=""/>
            <p:cNvSpPr/>
            <p:nvPr/>
          </p:nvSpPr>
          <p:spPr>
            <a:xfrm>
              <a:off x="6410160" y="4334040"/>
              <a:ext cx="1908360" cy="1429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00800" y="4313520"/>
              <a:ext cx="1905120" cy="270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400800" y="4480200"/>
              <a:ext cx="1911240" cy="126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248680" y="4402440"/>
              <a:ext cx="49320" cy="23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129520" y="4374000"/>
              <a:ext cx="49320" cy="23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020080" y="4376880"/>
              <a:ext cx="68040" cy="6516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062920" y="4233960"/>
              <a:ext cx="165240" cy="424080"/>
            </a:xfrm>
            <a:custGeom>
              <a:avLst/>
              <a:gdLst/>
              <a:ahLst/>
              <a:rect l="l" t="t" r="r" b="b"/>
              <a:pathLst>
                <a:path w="104" h="267">
                  <a:moveTo>
                    <a:pt x="0" y="62"/>
                  </a:moveTo>
                  <a:lnTo>
                    <a:pt x="0" y="266"/>
                  </a:lnTo>
                  <a:lnTo>
                    <a:pt x="100" y="193"/>
                  </a:lnTo>
                  <a:lnTo>
                    <a:pt x="103" y="0"/>
                  </a:lnTo>
                  <a:lnTo>
                    <a:pt x="88" y="0"/>
                  </a:lnTo>
                  <a:lnTo>
                    <a:pt x="76" y="4"/>
                  </a:lnTo>
                  <a:lnTo>
                    <a:pt x="60" y="8"/>
                  </a:lnTo>
                  <a:lnTo>
                    <a:pt x="49" y="15"/>
                  </a:lnTo>
                  <a:lnTo>
                    <a:pt x="33" y="22"/>
                  </a:lnTo>
                  <a:lnTo>
                    <a:pt x="18" y="37"/>
                  </a:lnTo>
                  <a:lnTo>
                    <a:pt x="11" y="47"/>
                  </a:lnTo>
                  <a:lnTo>
                    <a:pt x="0" y="62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046720" y="4227480"/>
              <a:ext cx="422280" cy="32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1" y="6259"/>
                  </a:moveTo>
                  <a:arcTo wR="10800" hR="10800" stAng="-9308285" swAng="33901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1" y="6259"/>
                  </a:moveTo>
                  <a:arcTo wR="10800" hR="10800" stAng="-9308285" swAng="339017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8221680" y="4237200"/>
              <a:ext cx="144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8062920" y="4530960"/>
              <a:ext cx="15696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8062920" y="4354920"/>
              <a:ext cx="154080" cy="9504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8062920" y="4280040"/>
              <a:ext cx="154080" cy="9396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161200" y="4258080"/>
              <a:ext cx="65160" cy="463320"/>
            </a:xfrm>
            <a:custGeom>
              <a:avLst/>
              <a:gdLst/>
              <a:ahLst/>
              <a:rect l="l" t="t" r="r" b="b"/>
              <a:pathLst>
                <a:path w="41" h="292">
                  <a:moveTo>
                    <a:pt x="0" y="291"/>
                  </a:moveTo>
                  <a:lnTo>
                    <a:pt x="40" y="249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34" y="188"/>
                  </a:lnTo>
                  <a:lnTo>
                    <a:pt x="0" y="226"/>
                  </a:lnTo>
                  <a:lnTo>
                    <a:pt x="0" y="29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128080" y="4232520"/>
              <a:ext cx="98280" cy="477720"/>
            </a:xfrm>
            <a:custGeom>
              <a:avLst/>
              <a:gdLst/>
              <a:ahLst/>
              <a:rect l="l" t="t" r="r" b="b"/>
              <a:pathLst>
                <a:path w="62" h="301">
                  <a:moveTo>
                    <a:pt x="0" y="300"/>
                  </a:moveTo>
                  <a:lnTo>
                    <a:pt x="61" y="257"/>
                  </a:lnTo>
                  <a:lnTo>
                    <a:pt x="61" y="0"/>
                  </a:lnTo>
                  <a:lnTo>
                    <a:pt x="52" y="0"/>
                  </a:lnTo>
                  <a:lnTo>
                    <a:pt x="52" y="194"/>
                  </a:lnTo>
                  <a:lnTo>
                    <a:pt x="0" y="2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939000" y="4608720"/>
              <a:ext cx="1176120" cy="106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23120" y="4386600"/>
              <a:ext cx="48960" cy="23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829560" y="4246920"/>
              <a:ext cx="766440" cy="91800"/>
            </a:xfrm>
            <a:custGeom>
              <a:avLst/>
              <a:gdLst/>
              <a:ahLst/>
              <a:rect l="l" t="t" r="r" b="b"/>
              <a:pathLst>
                <a:path w="483" h="58">
                  <a:moveTo>
                    <a:pt x="0" y="55"/>
                  </a:moveTo>
                  <a:lnTo>
                    <a:pt x="8" y="46"/>
                  </a:lnTo>
                  <a:lnTo>
                    <a:pt x="22" y="29"/>
                  </a:lnTo>
                  <a:lnTo>
                    <a:pt x="38" y="21"/>
                  </a:lnTo>
                  <a:lnTo>
                    <a:pt x="49" y="13"/>
                  </a:lnTo>
                  <a:lnTo>
                    <a:pt x="72" y="5"/>
                  </a:lnTo>
                  <a:lnTo>
                    <a:pt x="85" y="2"/>
                  </a:lnTo>
                  <a:lnTo>
                    <a:pt x="94" y="0"/>
                  </a:lnTo>
                  <a:lnTo>
                    <a:pt x="482" y="0"/>
                  </a:lnTo>
                  <a:lnTo>
                    <a:pt x="459" y="4"/>
                  </a:lnTo>
                  <a:lnTo>
                    <a:pt x="450" y="6"/>
                  </a:lnTo>
                  <a:lnTo>
                    <a:pt x="446" y="6"/>
                  </a:lnTo>
                  <a:lnTo>
                    <a:pt x="442" y="8"/>
                  </a:lnTo>
                  <a:lnTo>
                    <a:pt x="438" y="10"/>
                  </a:lnTo>
                  <a:lnTo>
                    <a:pt x="433" y="13"/>
                  </a:lnTo>
                  <a:lnTo>
                    <a:pt x="429" y="16"/>
                  </a:lnTo>
                  <a:lnTo>
                    <a:pt x="426" y="20"/>
                  </a:lnTo>
                  <a:lnTo>
                    <a:pt x="422" y="21"/>
                  </a:lnTo>
                  <a:lnTo>
                    <a:pt x="418" y="24"/>
                  </a:lnTo>
                  <a:lnTo>
                    <a:pt x="413" y="26"/>
                  </a:lnTo>
                  <a:lnTo>
                    <a:pt x="409" y="29"/>
                  </a:lnTo>
                  <a:lnTo>
                    <a:pt x="406" y="33"/>
                  </a:lnTo>
                  <a:lnTo>
                    <a:pt x="402" y="35"/>
                  </a:lnTo>
                  <a:lnTo>
                    <a:pt x="398" y="37"/>
                  </a:lnTo>
                  <a:lnTo>
                    <a:pt x="395" y="41"/>
                  </a:lnTo>
                  <a:lnTo>
                    <a:pt x="391" y="44"/>
                  </a:lnTo>
                  <a:lnTo>
                    <a:pt x="390" y="48"/>
                  </a:lnTo>
                  <a:lnTo>
                    <a:pt x="390" y="52"/>
                  </a:lnTo>
                  <a:lnTo>
                    <a:pt x="389" y="57"/>
                  </a:lnTo>
                  <a:lnTo>
                    <a:pt x="0" y="55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834240" y="4337280"/>
              <a:ext cx="606240" cy="3286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905520" y="4610520"/>
              <a:ext cx="334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969240" y="4610520"/>
              <a:ext cx="331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31160" y="4610520"/>
              <a:ext cx="331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94520" y="4610520"/>
              <a:ext cx="316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156440" y="4610520"/>
              <a:ext cx="334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19800" y="4610520"/>
              <a:ext cx="334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283520" y="4610520"/>
              <a:ext cx="316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346880" y="4610520"/>
              <a:ext cx="316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885000" y="4610520"/>
              <a:ext cx="512640" cy="3312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819120" y="4240800"/>
              <a:ext cx="420120" cy="32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" y="6056"/>
                  </a:moveTo>
                  <a:arcTo wR="10800" hR="10800" stAng="-9236564" swAng="3343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" y="6056"/>
                  </a:moveTo>
                  <a:arcTo wR="10800" hR="10800" stAng="-9236564" swAng="33439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999120" y="4240440"/>
              <a:ext cx="61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040520" y="4287960"/>
              <a:ext cx="33012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78680" y="4268880"/>
              <a:ext cx="25884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078680" y="4305600"/>
              <a:ext cx="25884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134120" y="4251600"/>
              <a:ext cx="15408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134120" y="4321440"/>
              <a:ext cx="15408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338960" y="4351680"/>
              <a:ext cx="2397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33333"/>
                  </a:solidFill>
                  <a:latin typeface="Times New Roman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477120" y="4248360"/>
              <a:ext cx="506160" cy="87480"/>
            </a:xfrm>
            <a:custGeom>
              <a:avLst/>
              <a:gdLst/>
              <a:ahLst/>
              <a:rect l="l" t="t" r="r" b="b"/>
              <a:pathLst>
                <a:path w="319" h="55">
                  <a:moveTo>
                    <a:pt x="0" y="53"/>
                  </a:moveTo>
                  <a:lnTo>
                    <a:pt x="5" y="43"/>
                  </a:lnTo>
                  <a:lnTo>
                    <a:pt x="14" y="28"/>
                  </a:lnTo>
                  <a:lnTo>
                    <a:pt x="25" y="20"/>
                  </a:lnTo>
                  <a:lnTo>
                    <a:pt x="32" y="13"/>
                  </a:lnTo>
                  <a:lnTo>
                    <a:pt x="47" y="5"/>
                  </a:lnTo>
                  <a:lnTo>
                    <a:pt x="55" y="2"/>
                  </a:lnTo>
                  <a:lnTo>
                    <a:pt x="62" y="0"/>
                  </a:lnTo>
                  <a:lnTo>
                    <a:pt x="318" y="0"/>
                  </a:lnTo>
                  <a:lnTo>
                    <a:pt x="303" y="4"/>
                  </a:lnTo>
                  <a:lnTo>
                    <a:pt x="297" y="6"/>
                  </a:lnTo>
                  <a:lnTo>
                    <a:pt x="294" y="6"/>
                  </a:lnTo>
                  <a:lnTo>
                    <a:pt x="291" y="8"/>
                  </a:lnTo>
                  <a:lnTo>
                    <a:pt x="288" y="10"/>
                  </a:lnTo>
                  <a:lnTo>
                    <a:pt x="286" y="13"/>
                  </a:lnTo>
                  <a:lnTo>
                    <a:pt x="283" y="16"/>
                  </a:lnTo>
                  <a:lnTo>
                    <a:pt x="281" y="18"/>
                  </a:lnTo>
                  <a:lnTo>
                    <a:pt x="279" y="20"/>
                  </a:lnTo>
                  <a:lnTo>
                    <a:pt x="276" y="22"/>
                  </a:lnTo>
                  <a:lnTo>
                    <a:pt x="273" y="25"/>
                  </a:lnTo>
                  <a:lnTo>
                    <a:pt x="270" y="28"/>
                  </a:lnTo>
                  <a:lnTo>
                    <a:pt x="268" y="32"/>
                  </a:lnTo>
                  <a:lnTo>
                    <a:pt x="265" y="33"/>
                  </a:lnTo>
                  <a:lnTo>
                    <a:pt x="262" y="35"/>
                  </a:lnTo>
                  <a:lnTo>
                    <a:pt x="261" y="39"/>
                  </a:lnTo>
                  <a:lnTo>
                    <a:pt x="258" y="42"/>
                  </a:lnTo>
                  <a:lnTo>
                    <a:pt x="257" y="46"/>
                  </a:lnTo>
                  <a:lnTo>
                    <a:pt x="257" y="50"/>
                  </a:lnTo>
                  <a:lnTo>
                    <a:pt x="256" y="54"/>
                  </a:lnTo>
                  <a:lnTo>
                    <a:pt x="0" y="53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469200" y="4337280"/>
              <a:ext cx="357120" cy="3286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791400" y="4389840"/>
              <a:ext cx="68040" cy="6480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605640" y="4610520"/>
              <a:ext cx="331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669000" y="4610520"/>
              <a:ext cx="334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732720" y="4610520"/>
              <a:ext cx="316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593040" y="4610520"/>
              <a:ext cx="190440" cy="3312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454440" y="4240440"/>
              <a:ext cx="42228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1" y="6259"/>
                  </a:moveTo>
                  <a:arcTo wR="10800" hR="10800" stAng="-9308285" swAng="33901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1" y="6259"/>
                  </a:moveTo>
                  <a:arcTo wR="10800" hR="10800" stAng="-9308285" swAng="339017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819120" y="4240800"/>
              <a:ext cx="420120" cy="32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" y="6056"/>
                  </a:moveTo>
                  <a:arcTo wR="10800" hR="10800" stAng="-9236564" swAng="3343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" y="6056"/>
                  </a:moveTo>
                  <a:arcTo wR="10800" hR="10800" stAng="-9236564" swAng="33439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622920" y="4240440"/>
              <a:ext cx="3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724800" y="4351680"/>
              <a:ext cx="2397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33333"/>
                  </a:solidFill>
                  <a:latin typeface="Times New Roman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43720" y="4246920"/>
              <a:ext cx="766800" cy="91800"/>
            </a:xfrm>
            <a:custGeom>
              <a:avLst/>
              <a:gdLst/>
              <a:ahLst/>
              <a:rect l="l" t="t" r="r" b="b"/>
              <a:pathLst>
                <a:path w="483" h="58">
                  <a:moveTo>
                    <a:pt x="0" y="55"/>
                  </a:moveTo>
                  <a:lnTo>
                    <a:pt x="7" y="46"/>
                  </a:lnTo>
                  <a:lnTo>
                    <a:pt x="21" y="29"/>
                  </a:lnTo>
                  <a:lnTo>
                    <a:pt x="37" y="21"/>
                  </a:lnTo>
                  <a:lnTo>
                    <a:pt x="48" y="13"/>
                  </a:lnTo>
                  <a:lnTo>
                    <a:pt x="71" y="5"/>
                  </a:lnTo>
                  <a:lnTo>
                    <a:pt x="84" y="2"/>
                  </a:lnTo>
                  <a:lnTo>
                    <a:pt x="94" y="0"/>
                  </a:lnTo>
                  <a:lnTo>
                    <a:pt x="482" y="0"/>
                  </a:lnTo>
                  <a:lnTo>
                    <a:pt x="459" y="4"/>
                  </a:lnTo>
                  <a:lnTo>
                    <a:pt x="450" y="6"/>
                  </a:lnTo>
                  <a:lnTo>
                    <a:pt x="446" y="6"/>
                  </a:lnTo>
                  <a:lnTo>
                    <a:pt x="442" y="8"/>
                  </a:lnTo>
                  <a:lnTo>
                    <a:pt x="438" y="10"/>
                  </a:lnTo>
                  <a:lnTo>
                    <a:pt x="433" y="13"/>
                  </a:lnTo>
                  <a:lnTo>
                    <a:pt x="429" y="16"/>
                  </a:lnTo>
                  <a:lnTo>
                    <a:pt x="426" y="20"/>
                  </a:lnTo>
                  <a:lnTo>
                    <a:pt x="422" y="21"/>
                  </a:lnTo>
                  <a:lnTo>
                    <a:pt x="418" y="24"/>
                  </a:lnTo>
                  <a:lnTo>
                    <a:pt x="413" y="26"/>
                  </a:lnTo>
                  <a:lnTo>
                    <a:pt x="409" y="29"/>
                  </a:lnTo>
                  <a:lnTo>
                    <a:pt x="406" y="33"/>
                  </a:lnTo>
                  <a:lnTo>
                    <a:pt x="402" y="35"/>
                  </a:lnTo>
                  <a:lnTo>
                    <a:pt x="398" y="37"/>
                  </a:lnTo>
                  <a:lnTo>
                    <a:pt x="395" y="41"/>
                  </a:lnTo>
                  <a:lnTo>
                    <a:pt x="391" y="44"/>
                  </a:lnTo>
                  <a:lnTo>
                    <a:pt x="389" y="48"/>
                  </a:lnTo>
                  <a:lnTo>
                    <a:pt x="389" y="52"/>
                  </a:lnTo>
                  <a:lnTo>
                    <a:pt x="388" y="57"/>
                  </a:lnTo>
                  <a:lnTo>
                    <a:pt x="0" y="55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46960" y="4337280"/>
              <a:ext cx="606240" cy="3286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518240" y="4610520"/>
              <a:ext cx="334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81960" y="4610520"/>
              <a:ext cx="331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645320" y="4610520"/>
              <a:ext cx="316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707240" y="4610520"/>
              <a:ext cx="334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770960" y="4610520"/>
              <a:ext cx="331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834320" y="4610520"/>
              <a:ext cx="334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96240" y="4610520"/>
              <a:ext cx="334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59600" y="4610520"/>
              <a:ext cx="316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497720" y="4610520"/>
              <a:ext cx="512640" cy="3312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432200" y="4240440"/>
              <a:ext cx="42336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1" y="6259"/>
                  </a:moveTo>
                  <a:arcTo wR="10800" hR="10800" stAng="-9308285" swAng="33901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1" y="6259"/>
                  </a:moveTo>
                  <a:arcTo wR="10800" hR="10800" stAng="-9308285" swAng="339017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612200" y="4240440"/>
              <a:ext cx="61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655040" y="4287960"/>
              <a:ext cx="32832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692840" y="4268880"/>
              <a:ext cx="25740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692840" y="4305600"/>
              <a:ext cx="25740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48640" y="4251600"/>
              <a:ext cx="15228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748640" y="4321440"/>
              <a:ext cx="15228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16840" y="4389840"/>
              <a:ext cx="69840" cy="6480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51680" y="4351680"/>
              <a:ext cx="2397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33333"/>
                  </a:solidFill>
                  <a:latin typeface="Times New Roman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404120" y="4389840"/>
              <a:ext cx="68400" cy="6480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432200" y="4240440"/>
              <a:ext cx="42336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1" y="6259"/>
                  </a:moveTo>
                  <a:arcTo wR="10800" hR="10800" stAng="-9308285" swAng="33901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1" y="6259"/>
                  </a:moveTo>
                  <a:arcTo wR="10800" hR="10800" stAng="-9308285" swAng="339017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338960" y="4351680"/>
              <a:ext cx="2397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33333"/>
                  </a:solidFill>
                  <a:latin typeface="Times New Roman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706284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713880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723420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732960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765324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772956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782460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792000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045200" y="5193000"/>
              <a:ext cx="89244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6" name="" descr=""/>
            <p:cNvPicPr/>
            <p:nvPr/>
          </p:nvPicPr>
          <p:blipFill>
            <a:blip r:embed="rId8"/>
            <a:stretch/>
          </p:blipFill>
          <p:spPr>
            <a:xfrm>
              <a:off x="7086600" y="5215320"/>
              <a:ext cx="241200" cy="24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" descr=""/>
            <p:cNvPicPr/>
            <p:nvPr/>
          </p:nvPicPr>
          <p:blipFill>
            <a:blip r:embed="rId9"/>
            <a:stretch/>
          </p:blipFill>
          <p:spPr>
            <a:xfrm>
              <a:off x="7400880" y="5234400"/>
              <a:ext cx="23184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7702560" y="5240520"/>
              <a:ext cx="168120" cy="187560"/>
            </a:xfrm>
            <a:prstGeom prst="ellipse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716960" y="5270760"/>
              <a:ext cx="144360" cy="125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7723080" y="5263920"/>
              <a:ext cx="125640" cy="1508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FieldPoint – Distributed I/O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854680" y="1866960"/>
            <a:ext cx="28576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-to-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ust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rcRect l="6564" t="0" r="7577" b="0"/>
          <a:stretch/>
        </p:blipFill>
        <p:spPr>
          <a:xfrm>
            <a:off x="546120" y="1752480"/>
            <a:ext cx="482616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rcRect l="6564" t="0" r="7577" b="0"/>
          <a:stretch/>
        </p:blipFill>
        <p:spPr>
          <a:xfrm>
            <a:off x="546120" y="1752480"/>
            <a:ext cx="4826160" cy="41641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96600" y="863280"/>
            <a:ext cx="78138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Modularity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3768840" y="1654200"/>
            <a:ext cx="4633920" cy="1390680"/>
            <a:chOff x="3768840" y="1654200"/>
            <a:chExt cx="4633920" cy="1390680"/>
          </a:xfrm>
        </p:grpSpPr>
        <p:pic>
          <p:nvPicPr>
            <p:cNvPr id="367" name="" descr=""/>
            <p:cNvPicPr/>
            <p:nvPr/>
          </p:nvPicPr>
          <p:blipFill>
            <a:blip r:embed="rId2"/>
            <a:stretch/>
          </p:blipFill>
          <p:spPr>
            <a:xfrm>
              <a:off x="6408720" y="1987560"/>
              <a:ext cx="1994040" cy="984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8" name=""/>
            <p:cNvGrpSpPr/>
            <p:nvPr/>
          </p:nvGrpSpPr>
          <p:grpSpPr>
            <a:xfrm>
              <a:off x="3768840" y="1654200"/>
              <a:ext cx="4632120" cy="1390680"/>
              <a:chOff x="3768840" y="1654200"/>
              <a:chExt cx="4632120" cy="1390680"/>
            </a:xfrm>
          </p:grpSpPr>
          <p:sp>
            <p:nvSpPr>
              <p:cNvPr id="369" name=""/>
              <p:cNvSpPr/>
              <p:nvPr/>
            </p:nvSpPr>
            <p:spPr>
              <a:xfrm flipH="1">
                <a:off x="5328720" y="2590920"/>
                <a:ext cx="1081080" cy="0"/>
              </a:xfrm>
              <a:prstGeom prst="line">
                <a:avLst/>
              </a:prstGeom>
              <a:ln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416640" y="1654200"/>
                <a:ext cx="19731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aeaea"/>
                    </a:solidFill>
                    <a:latin typeface="Arial"/>
                  </a:rPr>
                  <a:t>I/O Modul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768840" y="2422440"/>
                <a:ext cx="126720" cy="127080"/>
              </a:xfrm>
              <a:prstGeom prst="ellipse">
                <a:avLst/>
              </a:prstGeom>
              <a:noFill/>
              <a:ln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4883040" y="2583000"/>
                <a:ext cx="465120" cy="360360"/>
              </a:xfrm>
              <a:prstGeom prst="line">
                <a:avLst/>
              </a:prstGeom>
              <a:ln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797360" y="2917800"/>
                <a:ext cx="127080" cy="127080"/>
              </a:xfrm>
              <a:prstGeom prst="ellipse">
                <a:avLst/>
              </a:prstGeom>
              <a:noFill/>
              <a:ln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416640" y="1663560"/>
                <a:ext cx="1984320" cy="1298880"/>
              </a:xfrm>
              <a:prstGeom prst="rect">
                <a:avLst/>
              </a:prstGeom>
              <a:noFill/>
              <a:ln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3909600" y="2495520"/>
                <a:ext cx="2500200" cy="0"/>
              </a:xfrm>
              <a:prstGeom prst="line">
                <a:avLst/>
              </a:prstGeom>
              <a:ln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6" name=""/>
          <p:cNvGrpSpPr/>
          <p:nvPr/>
        </p:nvGrpSpPr>
        <p:grpSpPr>
          <a:xfrm>
            <a:off x="3584520" y="2992320"/>
            <a:ext cx="4853160" cy="1355760"/>
            <a:chOff x="3584520" y="2992320"/>
            <a:chExt cx="4853160" cy="1355760"/>
          </a:xfrm>
        </p:grpSpPr>
        <p:pic>
          <p:nvPicPr>
            <p:cNvPr id="377" name="" descr=""/>
            <p:cNvPicPr/>
            <p:nvPr/>
          </p:nvPicPr>
          <p:blipFill>
            <a:blip r:embed="rId3"/>
            <a:stretch/>
          </p:blipFill>
          <p:spPr>
            <a:xfrm>
              <a:off x="6423120" y="3341520"/>
              <a:ext cx="1974600" cy="10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 flipH="1">
              <a:off x="3726000" y="4243320"/>
              <a:ext cx="2674800" cy="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584520" y="4167360"/>
              <a:ext cx="127080" cy="126720"/>
            </a:xfrm>
            <a:prstGeom prst="ellipse">
              <a:avLst/>
            </a:prstGeom>
            <a:noFill/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407280" y="3021120"/>
              <a:ext cx="1984320" cy="1326960"/>
            </a:xfrm>
            <a:prstGeom prst="rect">
              <a:avLst/>
            </a:prstGeom>
            <a:noFill/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5065200" y="4129200"/>
              <a:ext cx="1328760" cy="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 flipV="1">
              <a:off x="4583160" y="3841920"/>
              <a:ext cx="474480" cy="28728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489560" y="3741840"/>
              <a:ext cx="126720" cy="126720"/>
            </a:xfrm>
            <a:prstGeom prst="ellipse">
              <a:avLst/>
            </a:prstGeom>
            <a:noFill/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350040" y="2992320"/>
              <a:ext cx="2087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aeaea"/>
                  </a:solidFill>
                  <a:latin typeface="Arial"/>
                </a:rPr>
                <a:t>Terminal Bas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1432080" y="4362480"/>
            <a:ext cx="7135560" cy="1606680"/>
            <a:chOff x="1432080" y="4362480"/>
            <a:chExt cx="7135560" cy="1606680"/>
          </a:xfrm>
        </p:grpSpPr>
        <p:sp>
          <p:nvSpPr>
            <p:cNvPr id="386" name=""/>
            <p:cNvSpPr/>
            <p:nvPr/>
          </p:nvSpPr>
          <p:spPr>
            <a:xfrm>
              <a:off x="6218280" y="4362480"/>
              <a:ext cx="2349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Network Modu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2152440" y="5599080"/>
              <a:ext cx="4282920" cy="180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8" name="" descr=""/>
            <p:cNvPicPr/>
            <p:nvPr/>
          </p:nvPicPr>
          <p:blipFill>
            <a:blip r:embed="rId4"/>
            <a:stretch/>
          </p:blipFill>
          <p:spPr>
            <a:xfrm>
              <a:off x="6400800" y="4691160"/>
              <a:ext cx="200196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1432080" y="5219640"/>
              <a:ext cx="126720" cy="127080"/>
            </a:xfrm>
            <a:prstGeom prst="ellipse">
              <a:avLst/>
            </a:prstGeom>
            <a:noFill/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1554120" y="5320800"/>
              <a:ext cx="604800" cy="26676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396120" y="4419720"/>
              <a:ext cx="2004840" cy="1549440"/>
            </a:xfrm>
            <a:prstGeom prst="rect">
              <a:avLst/>
            </a:prstGeom>
            <a:noFill/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FieldPoint – I/O Module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393" name="family" descr=""/>
          <p:cNvPicPr/>
          <p:nvPr/>
        </p:nvPicPr>
        <p:blipFill>
          <a:blip r:embed="rId1"/>
          <a:srcRect l="23215" t="6395" r="12766" b="6872"/>
          <a:stretch/>
        </p:blipFill>
        <p:spPr>
          <a:xfrm>
            <a:off x="595440" y="2220840"/>
            <a:ext cx="3433680" cy="3481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394" name=""/>
          <p:cNvSpPr/>
          <p:nvPr/>
        </p:nvSpPr>
        <p:spPr>
          <a:xfrm>
            <a:off x="1866960" y="2741760"/>
            <a:ext cx="541008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266720" y="19558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 to 16 channels/mod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lated to 3,000 V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t-swappable, plug-and-pl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riety of I/O ty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mocouples, RT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V, V (up to 36 V), 20 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crete I/O, rela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ers, PWM outpu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73200" y="634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FieldPoint – I/O Option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294000" y="1866960"/>
            <a:ext cx="36594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314280" y="1739880"/>
            <a:ext cx="2622600" cy="4116240"/>
            <a:chOff x="314280" y="1739880"/>
            <a:chExt cx="2622600" cy="4116240"/>
          </a:xfrm>
        </p:grpSpPr>
        <p:sp>
          <p:nvSpPr>
            <p:cNvPr id="399" name=""/>
            <p:cNvSpPr/>
            <p:nvPr/>
          </p:nvSpPr>
          <p:spPr>
            <a:xfrm>
              <a:off x="314280" y="1739880"/>
              <a:ext cx="1914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I/O Mod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06440" y="1782720"/>
              <a:ext cx="2530440" cy="407340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1" name="" descr=""/>
            <p:cNvPicPr/>
            <p:nvPr/>
          </p:nvPicPr>
          <p:blipFill>
            <a:blip r:embed="rId1"/>
            <a:srcRect l="0" t="2881" r="0" b="0"/>
            <a:stretch/>
          </p:blipFill>
          <p:spPr>
            <a:xfrm>
              <a:off x="428760" y="1857240"/>
              <a:ext cx="2508120" cy="396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2" name=""/>
          <p:cNvSpPr/>
          <p:nvPr/>
        </p:nvSpPr>
        <p:spPr>
          <a:xfrm>
            <a:off x="3226320" y="1523880"/>
            <a:ext cx="1556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/O Mo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438280" y="5397480"/>
            <a:ext cx="782640" cy="3650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3200400" y="1917720"/>
          <a:ext cx="5943600" cy="3733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1917720"/>
                    <a:ext cx="594360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3213000" y="5931000"/>
          <a:ext cx="3235320" cy="8604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13000" y="5931000"/>
                    <a:ext cx="323532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"/>
          <p:cNvSpPr/>
          <p:nvPr/>
        </p:nvSpPr>
        <p:spPr>
          <a:xfrm flipV="1">
            <a:off x="2781360" y="2091960"/>
            <a:ext cx="579240" cy="244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94000" y="5880240"/>
            <a:ext cx="36594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272400" y="5537160"/>
            <a:ext cx="195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erminal B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Network Interface Option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127040" y="1943280"/>
            <a:ext cx="4800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S-485 and RS-2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tomux, 115 kbau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hernet TCP/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Mbps and 100 Mb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ND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ieldbus, H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bedded function blo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, AO, DI, DO, P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939960" y="1986120"/>
            <a:ext cx="2962080" cy="4073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cfpnet" descr=""/>
          <p:cNvPicPr/>
          <p:nvPr/>
        </p:nvPicPr>
        <p:blipFill>
          <a:blip r:embed="rId1"/>
          <a:srcRect l="0" t="0" r="51882" b="0"/>
          <a:stretch/>
        </p:blipFill>
        <p:spPr>
          <a:xfrm>
            <a:off x="1282680" y="2374920"/>
            <a:ext cx="220032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867960"/>
            <a:ext cx="7772400" cy="6066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FieldPoint with RS-232/RS-485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384200" y="5765760"/>
            <a:ext cx="52452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09480" y="3962520"/>
            <a:ext cx="0" cy="1828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609480" y="2590560"/>
            <a:ext cx="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609480" y="2590920"/>
            <a:ext cx="10670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2075040" cy="17193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607680" y="3505320"/>
            <a:ext cx="10170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RS-232 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RS-4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9480" y="5765760"/>
            <a:ext cx="6350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895120" y="1891800"/>
            <a:ext cx="5715000" cy="23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P-1000 RS-232 Network Inte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1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nects directly to PC COM 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1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RS-485 connector to additional FP-1001 mod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P-1001 RS-485 Network Inte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371600" y="5765760"/>
            <a:ext cx="5791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101120" y="5797440"/>
            <a:ext cx="788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RS-4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63640" y="4759200"/>
            <a:ext cx="7467480" cy="0"/>
          </a:xfrm>
          <a:prstGeom prst="line">
            <a:avLst/>
          </a:prstGeom>
          <a:ln w="12600">
            <a:solidFill>
              <a:srgbClr val="eaeaea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470400" y="4467240"/>
            <a:ext cx="220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Up to 25 banks (1,200 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893880" y="4905360"/>
            <a:ext cx="2148840" cy="666720"/>
            <a:chOff x="893880" y="4905360"/>
            <a:chExt cx="2148840" cy="666720"/>
          </a:xfrm>
        </p:grpSpPr>
        <p:sp>
          <p:nvSpPr>
            <p:cNvPr id="429" name=""/>
            <p:cNvSpPr/>
            <p:nvPr/>
          </p:nvSpPr>
          <p:spPr>
            <a:xfrm>
              <a:off x="1130040" y="5165640"/>
              <a:ext cx="375840" cy="1267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515960" y="5165640"/>
              <a:ext cx="1375920" cy="12672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907920" y="4979880"/>
              <a:ext cx="2134800" cy="1080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93880" y="4962240"/>
              <a:ext cx="2142720" cy="223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93880" y="5081400"/>
              <a:ext cx="2142720" cy="205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977920" y="5013000"/>
              <a:ext cx="45720" cy="28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939600" y="5013000"/>
              <a:ext cx="45720" cy="28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874960" y="5019480"/>
              <a:ext cx="32760" cy="15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365200" y="4983120"/>
              <a:ext cx="448920" cy="2523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822400" y="4905360"/>
              <a:ext cx="124920" cy="331560"/>
            </a:xfrm>
            <a:custGeom>
              <a:avLst/>
              <a:gdLst/>
              <a:ahLst/>
              <a:rect l="l" t="t" r="r" b="b"/>
              <a:pathLst>
                <a:path w="79" h="209">
                  <a:moveTo>
                    <a:pt x="0" y="48"/>
                  </a:moveTo>
                  <a:lnTo>
                    <a:pt x="0" y="208"/>
                  </a:lnTo>
                  <a:lnTo>
                    <a:pt x="76" y="151"/>
                  </a:lnTo>
                  <a:lnTo>
                    <a:pt x="78" y="0"/>
                  </a:lnTo>
                  <a:lnTo>
                    <a:pt x="67" y="0"/>
                  </a:lnTo>
                  <a:lnTo>
                    <a:pt x="57" y="3"/>
                  </a:lnTo>
                  <a:lnTo>
                    <a:pt x="45" y="6"/>
                  </a:lnTo>
                  <a:lnTo>
                    <a:pt x="37" y="11"/>
                  </a:lnTo>
                  <a:lnTo>
                    <a:pt x="25" y="18"/>
                  </a:lnTo>
                  <a:lnTo>
                    <a:pt x="13" y="29"/>
                  </a:lnTo>
                  <a:lnTo>
                    <a:pt x="8" y="37"/>
                  </a:lnTo>
                  <a:lnTo>
                    <a:pt x="0" y="48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41776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46528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51136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55888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60640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65248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0000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74788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452240" y="4983120"/>
              <a:ext cx="450720" cy="2523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50012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54764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59516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64124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68912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73664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78272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83024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943000" y="4908240"/>
              <a:ext cx="0" cy="23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2818800" y="5138640"/>
              <a:ext cx="122040" cy="10152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2819160" y="5002200"/>
              <a:ext cx="118800" cy="7596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898720" y="4922640"/>
              <a:ext cx="47160" cy="363600"/>
            </a:xfrm>
            <a:custGeom>
              <a:avLst/>
              <a:gdLst/>
              <a:ahLst/>
              <a:rect l="l" t="t" r="r" b="b"/>
              <a:pathLst>
                <a:path w="30" h="229">
                  <a:moveTo>
                    <a:pt x="0" y="228"/>
                  </a:moveTo>
                  <a:lnTo>
                    <a:pt x="29" y="195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24" y="148"/>
                  </a:lnTo>
                  <a:lnTo>
                    <a:pt x="0" y="17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908000" y="4983120"/>
              <a:ext cx="448920" cy="2523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96056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00628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05416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10168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14776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19528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24280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28888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001520" y="4983120"/>
              <a:ext cx="448920" cy="2523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27152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31904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36512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08000" y="4914720"/>
              <a:ext cx="602640" cy="7308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417320" y="5006880"/>
              <a:ext cx="63360" cy="633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487160" y="5025960"/>
              <a:ext cx="355320" cy="137880"/>
            </a:xfrm>
            <a:custGeom>
              <a:avLst/>
              <a:gdLst/>
              <a:ahLst/>
              <a:rect l="l" t="t" r="r" b="b"/>
              <a:pathLst>
                <a:path w="224" h="87">
                  <a:moveTo>
                    <a:pt x="6" y="86"/>
                  </a:moveTo>
                  <a:lnTo>
                    <a:pt x="223" y="86"/>
                  </a:lnTo>
                  <a:lnTo>
                    <a:pt x="223" y="0"/>
                  </a:lnTo>
                  <a:lnTo>
                    <a:pt x="12" y="0"/>
                  </a:lnTo>
                  <a:lnTo>
                    <a:pt x="9" y="15"/>
                  </a:lnTo>
                  <a:lnTo>
                    <a:pt x="0" y="41"/>
                  </a:lnTo>
                  <a:lnTo>
                    <a:pt x="6" y="8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947600" y="5025960"/>
              <a:ext cx="353880" cy="137880"/>
            </a:xfrm>
            <a:custGeom>
              <a:avLst/>
              <a:gdLst/>
              <a:ahLst/>
              <a:rect l="l" t="t" r="r" b="b"/>
              <a:pathLst>
                <a:path w="223" h="87">
                  <a:moveTo>
                    <a:pt x="6" y="86"/>
                  </a:moveTo>
                  <a:lnTo>
                    <a:pt x="222" y="86"/>
                  </a:lnTo>
                  <a:lnTo>
                    <a:pt x="222" y="0"/>
                  </a:lnTo>
                  <a:lnTo>
                    <a:pt x="12" y="0"/>
                  </a:lnTo>
                  <a:lnTo>
                    <a:pt x="9" y="15"/>
                  </a:lnTo>
                  <a:lnTo>
                    <a:pt x="0" y="41"/>
                  </a:lnTo>
                  <a:lnTo>
                    <a:pt x="6" y="8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411280" y="5025960"/>
              <a:ext cx="355320" cy="137880"/>
            </a:xfrm>
            <a:custGeom>
              <a:avLst/>
              <a:gdLst/>
              <a:ahLst/>
              <a:rect l="l" t="t" r="r" b="b"/>
              <a:pathLst>
                <a:path w="224" h="87">
                  <a:moveTo>
                    <a:pt x="6" y="86"/>
                  </a:moveTo>
                  <a:lnTo>
                    <a:pt x="223" y="86"/>
                  </a:lnTo>
                  <a:lnTo>
                    <a:pt x="223" y="0"/>
                  </a:lnTo>
                  <a:lnTo>
                    <a:pt x="12" y="0"/>
                  </a:lnTo>
                  <a:lnTo>
                    <a:pt x="9" y="15"/>
                  </a:lnTo>
                  <a:lnTo>
                    <a:pt x="0" y="41"/>
                  </a:lnTo>
                  <a:lnTo>
                    <a:pt x="6" y="8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868400" y="5006880"/>
              <a:ext cx="63000" cy="633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328840" y="5006880"/>
              <a:ext cx="63000" cy="633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786040" y="5006880"/>
              <a:ext cx="63000" cy="633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452240" y="4914720"/>
              <a:ext cx="577800" cy="7308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903320" y="4914720"/>
              <a:ext cx="577440" cy="7308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2819160" y="4932000"/>
              <a:ext cx="118800" cy="7812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360520" y="4914720"/>
              <a:ext cx="577440" cy="7308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584000" y="5317920"/>
              <a:ext cx="234720" cy="254160"/>
            </a:xfrm>
            <a:prstGeom prst="upDownArrow">
              <a:avLst>
                <a:gd name="adj1" fmla="val 63509"/>
                <a:gd name="adj2" fmla="val 33838"/>
              </a:avLst>
            </a:prstGeom>
            <a:solidFill>
              <a:srgbClr val="c0c0c0"/>
            </a:solidFill>
            <a:ln w="12600">
              <a:solidFill>
                <a:srgbClr val="00cc99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041200" y="5317920"/>
              <a:ext cx="234720" cy="254160"/>
            </a:xfrm>
            <a:prstGeom prst="upDownArrow">
              <a:avLst>
                <a:gd name="adj1" fmla="val 63509"/>
                <a:gd name="adj2" fmla="val 33838"/>
              </a:avLst>
            </a:prstGeom>
            <a:solidFill>
              <a:srgbClr val="c0c0c0"/>
            </a:solidFill>
            <a:ln w="12600">
              <a:solidFill>
                <a:srgbClr val="00cc99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489040" y="5317920"/>
              <a:ext cx="234720" cy="254160"/>
            </a:xfrm>
            <a:prstGeom prst="upDownArrow">
              <a:avLst>
                <a:gd name="adj1" fmla="val 63509"/>
                <a:gd name="adj2" fmla="val 33838"/>
              </a:avLst>
            </a:prstGeom>
            <a:solidFill>
              <a:srgbClr val="c0c0c0"/>
            </a:solidFill>
            <a:ln w="12600">
              <a:solidFill>
                <a:srgbClr val="00cc99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3567240" y="4905360"/>
            <a:ext cx="2148840" cy="666720"/>
            <a:chOff x="3567240" y="4905360"/>
            <a:chExt cx="2148840" cy="666720"/>
          </a:xfrm>
        </p:grpSpPr>
        <p:sp>
          <p:nvSpPr>
            <p:cNvPr id="489" name=""/>
            <p:cNvSpPr/>
            <p:nvPr/>
          </p:nvSpPr>
          <p:spPr>
            <a:xfrm>
              <a:off x="3803400" y="5165640"/>
              <a:ext cx="375840" cy="1267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89320" y="5165640"/>
              <a:ext cx="1375920" cy="12672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581280" y="4979880"/>
              <a:ext cx="2134800" cy="1080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567240" y="4962240"/>
              <a:ext cx="2142720" cy="223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567240" y="5081400"/>
              <a:ext cx="2142720" cy="205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651280" y="5013000"/>
              <a:ext cx="45720" cy="28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612960" y="5013000"/>
              <a:ext cx="45720" cy="28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548320" y="5019480"/>
              <a:ext cx="32760" cy="15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038560" y="4983120"/>
              <a:ext cx="448920" cy="2523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495760" y="4905360"/>
              <a:ext cx="124920" cy="331560"/>
            </a:xfrm>
            <a:custGeom>
              <a:avLst/>
              <a:gdLst/>
              <a:ahLst/>
              <a:rect l="l" t="t" r="r" b="b"/>
              <a:pathLst>
                <a:path w="79" h="209">
                  <a:moveTo>
                    <a:pt x="0" y="48"/>
                  </a:moveTo>
                  <a:lnTo>
                    <a:pt x="0" y="208"/>
                  </a:lnTo>
                  <a:lnTo>
                    <a:pt x="76" y="151"/>
                  </a:lnTo>
                  <a:lnTo>
                    <a:pt x="78" y="0"/>
                  </a:lnTo>
                  <a:lnTo>
                    <a:pt x="67" y="0"/>
                  </a:lnTo>
                  <a:lnTo>
                    <a:pt x="57" y="3"/>
                  </a:lnTo>
                  <a:lnTo>
                    <a:pt x="45" y="6"/>
                  </a:lnTo>
                  <a:lnTo>
                    <a:pt x="37" y="11"/>
                  </a:lnTo>
                  <a:lnTo>
                    <a:pt x="25" y="18"/>
                  </a:lnTo>
                  <a:lnTo>
                    <a:pt x="13" y="29"/>
                  </a:lnTo>
                  <a:lnTo>
                    <a:pt x="8" y="37"/>
                  </a:lnTo>
                  <a:lnTo>
                    <a:pt x="0" y="48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09112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13864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18472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23224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27976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32584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37336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42124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125600" y="4983120"/>
              <a:ext cx="450720" cy="2523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17348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22100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26852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31460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36248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41000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45608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50360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16360" y="4908240"/>
              <a:ext cx="0" cy="23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5492160" y="5138640"/>
              <a:ext cx="122040" cy="10152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5492520" y="5002200"/>
              <a:ext cx="118800" cy="7596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572080" y="4922640"/>
              <a:ext cx="47160" cy="363600"/>
            </a:xfrm>
            <a:custGeom>
              <a:avLst/>
              <a:gdLst/>
              <a:ahLst/>
              <a:rect l="l" t="t" r="r" b="b"/>
              <a:pathLst>
                <a:path w="30" h="229">
                  <a:moveTo>
                    <a:pt x="0" y="228"/>
                  </a:moveTo>
                  <a:lnTo>
                    <a:pt x="29" y="195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24" y="148"/>
                  </a:lnTo>
                  <a:lnTo>
                    <a:pt x="0" y="17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581360" y="4983120"/>
              <a:ext cx="448920" cy="2523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63392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67964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72752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77504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82112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86864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91616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96224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674880" y="4983120"/>
              <a:ext cx="448920" cy="2523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94488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99240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03848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681360" y="4914720"/>
              <a:ext cx="602640" cy="7308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090680" y="5006880"/>
              <a:ext cx="63360" cy="633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160520" y="5025960"/>
              <a:ext cx="355320" cy="137880"/>
            </a:xfrm>
            <a:custGeom>
              <a:avLst/>
              <a:gdLst/>
              <a:ahLst/>
              <a:rect l="l" t="t" r="r" b="b"/>
              <a:pathLst>
                <a:path w="224" h="87">
                  <a:moveTo>
                    <a:pt x="6" y="86"/>
                  </a:moveTo>
                  <a:lnTo>
                    <a:pt x="223" y="86"/>
                  </a:lnTo>
                  <a:lnTo>
                    <a:pt x="223" y="0"/>
                  </a:lnTo>
                  <a:lnTo>
                    <a:pt x="12" y="0"/>
                  </a:lnTo>
                  <a:lnTo>
                    <a:pt x="9" y="15"/>
                  </a:lnTo>
                  <a:lnTo>
                    <a:pt x="0" y="41"/>
                  </a:lnTo>
                  <a:lnTo>
                    <a:pt x="6" y="8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620960" y="5025960"/>
              <a:ext cx="353880" cy="137880"/>
            </a:xfrm>
            <a:custGeom>
              <a:avLst/>
              <a:gdLst/>
              <a:ahLst/>
              <a:rect l="l" t="t" r="r" b="b"/>
              <a:pathLst>
                <a:path w="223" h="87">
                  <a:moveTo>
                    <a:pt x="6" y="86"/>
                  </a:moveTo>
                  <a:lnTo>
                    <a:pt x="222" y="86"/>
                  </a:lnTo>
                  <a:lnTo>
                    <a:pt x="222" y="0"/>
                  </a:lnTo>
                  <a:lnTo>
                    <a:pt x="12" y="0"/>
                  </a:lnTo>
                  <a:lnTo>
                    <a:pt x="9" y="15"/>
                  </a:lnTo>
                  <a:lnTo>
                    <a:pt x="0" y="41"/>
                  </a:lnTo>
                  <a:lnTo>
                    <a:pt x="6" y="8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084640" y="5025960"/>
              <a:ext cx="355320" cy="137880"/>
            </a:xfrm>
            <a:custGeom>
              <a:avLst/>
              <a:gdLst/>
              <a:ahLst/>
              <a:rect l="l" t="t" r="r" b="b"/>
              <a:pathLst>
                <a:path w="224" h="87">
                  <a:moveTo>
                    <a:pt x="6" y="86"/>
                  </a:moveTo>
                  <a:lnTo>
                    <a:pt x="223" y="86"/>
                  </a:lnTo>
                  <a:lnTo>
                    <a:pt x="223" y="0"/>
                  </a:lnTo>
                  <a:lnTo>
                    <a:pt x="12" y="0"/>
                  </a:lnTo>
                  <a:lnTo>
                    <a:pt x="9" y="15"/>
                  </a:lnTo>
                  <a:lnTo>
                    <a:pt x="0" y="41"/>
                  </a:lnTo>
                  <a:lnTo>
                    <a:pt x="6" y="8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541760" y="5006880"/>
              <a:ext cx="63000" cy="633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002200" y="5006880"/>
              <a:ext cx="63000" cy="633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459400" y="5006880"/>
              <a:ext cx="63000" cy="633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25600" y="4914720"/>
              <a:ext cx="577800" cy="7308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576680" y="4914720"/>
              <a:ext cx="577440" cy="7308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5492520" y="4932000"/>
              <a:ext cx="118800" cy="7812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033880" y="4914720"/>
              <a:ext cx="577440" cy="7308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257360" y="5317920"/>
              <a:ext cx="234720" cy="254160"/>
            </a:xfrm>
            <a:prstGeom prst="upDownArrow">
              <a:avLst>
                <a:gd name="adj1" fmla="val 63509"/>
                <a:gd name="adj2" fmla="val 33838"/>
              </a:avLst>
            </a:prstGeom>
            <a:solidFill>
              <a:srgbClr val="c0c0c0"/>
            </a:solidFill>
            <a:ln w="12600">
              <a:solidFill>
                <a:srgbClr val="00cc99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714560" y="5317920"/>
              <a:ext cx="234720" cy="254160"/>
            </a:xfrm>
            <a:prstGeom prst="upDownArrow">
              <a:avLst>
                <a:gd name="adj1" fmla="val 63509"/>
                <a:gd name="adj2" fmla="val 33838"/>
              </a:avLst>
            </a:prstGeom>
            <a:solidFill>
              <a:srgbClr val="c0c0c0"/>
            </a:solidFill>
            <a:ln w="12600">
              <a:solidFill>
                <a:srgbClr val="00cc99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162400" y="5317920"/>
              <a:ext cx="234720" cy="254160"/>
            </a:xfrm>
            <a:prstGeom prst="upDownArrow">
              <a:avLst>
                <a:gd name="adj1" fmla="val 63509"/>
                <a:gd name="adj2" fmla="val 33838"/>
              </a:avLst>
            </a:prstGeom>
            <a:solidFill>
              <a:srgbClr val="c0c0c0"/>
            </a:solidFill>
            <a:ln w="12600">
              <a:solidFill>
                <a:srgbClr val="00cc99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6132600" y="4905360"/>
            <a:ext cx="2149560" cy="666720"/>
            <a:chOff x="6132600" y="4905360"/>
            <a:chExt cx="2149560" cy="666720"/>
          </a:xfrm>
        </p:grpSpPr>
        <p:sp>
          <p:nvSpPr>
            <p:cNvPr id="549" name=""/>
            <p:cNvSpPr/>
            <p:nvPr/>
          </p:nvSpPr>
          <p:spPr>
            <a:xfrm>
              <a:off x="6369120" y="5165640"/>
              <a:ext cx="376200" cy="1267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755040" y="5165640"/>
              <a:ext cx="1376280" cy="12672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147000" y="4979880"/>
              <a:ext cx="2135160" cy="1080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132600" y="4962240"/>
              <a:ext cx="2143080" cy="223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32600" y="5081400"/>
              <a:ext cx="2143080" cy="205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217000" y="5013000"/>
              <a:ext cx="46080" cy="28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178680" y="5013000"/>
              <a:ext cx="46080" cy="28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114040" y="5019480"/>
              <a:ext cx="33120" cy="15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604280" y="4983120"/>
              <a:ext cx="449280" cy="2523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061480" y="4905360"/>
              <a:ext cx="125280" cy="331560"/>
            </a:xfrm>
            <a:custGeom>
              <a:avLst/>
              <a:gdLst/>
              <a:ahLst/>
              <a:rect l="l" t="t" r="r" b="b"/>
              <a:pathLst>
                <a:path w="79" h="209">
                  <a:moveTo>
                    <a:pt x="0" y="48"/>
                  </a:moveTo>
                  <a:lnTo>
                    <a:pt x="0" y="208"/>
                  </a:lnTo>
                  <a:lnTo>
                    <a:pt x="76" y="151"/>
                  </a:lnTo>
                  <a:lnTo>
                    <a:pt x="78" y="0"/>
                  </a:lnTo>
                  <a:lnTo>
                    <a:pt x="67" y="0"/>
                  </a:lnTo>
                  <a:lnTo>
                    <a:pt x="57" y="3"/>
                  </a:lnTo>
                  <a:lnTo>
                    <a:pt x="45" y="6"/>
                  </a:lnTo>
                  <a:lnTo>
                    <a:pt x="37" y="11"/>
                  </a:lnTo>
                  <a:lnTo>
                    <a:pt x="25" y="18"/>
                  </a:lnTo>
                  <a:lnTo>
                    <a:pt x="13" y="29"/>
                  </a:lnTo>
                  <a:lnTo>
                    <a:pt x="8" y="37"/>
                  </a:lnTo>
                  <a:lnTo>
                    <a:pt x="0" y="48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65684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70436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75044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797960" y="5194080"/>
              <a:ext cx="2556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845480" y="5194080"/>
              <a:ext cx="2556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891560" y="5194080"/>
              <a:ext cx="2556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939080" y="5194080"/>
              <a:ext cx="2556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98696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691320" y="4983120"/>
              <a:ext cx="451080" cy="2523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73920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786720" y="5194080"/>
              <a:ext cx="2556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834240" y="5194080"/>
              <a:ext cx="2556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880320" y="5194080"/>
              <a:ext cx="2556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92820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97572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02180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069320" y="5194080"/>
              <a:ext cx="2556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182080" y="4908240"/>
              <a:ext cx="0" cy="23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8058240" y="5138640"/>
              <a:ext cx="122400" cy="10152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8057880" y="5002200"/>
              <a:ext cx="119160" cy="7596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137800" y="4922640"/>
              <a:ext cx="47520" cy="363600"/>
            </a:xfrm>
            <a:custGeom>
              <a:avLst/>
              <a:gdLst/>
              <a:ahLst/>
              <a:rect l="l" t="t" r="r" b="b"/>
              <a:pathLst>
                <a:path w="30" h="229">
                  <a:moveTo>
                    <a:pt x="0" y="228"/>
                  </a:moveTo>
                  <a:lnTo>
                    <a:pt x="29" y="195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24" y="148"/>
                  </a:lnTo>
                  <a:lnTo>
                    <a:pt x="0" y="17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147080" y="4983120"/>
              <a:ext cx="449280" cy="2523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19964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245360" y="5194080"/>
              <a:ext cx="2556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29324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340760" y="5194080"/>
              <a:ext cx="2556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38684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434360" y="5194080"/>
              <a:ext cx="2556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481880" y="5194080"/>
              <a:ext cx="2556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527960" y="5194080"/>
              <a:ext cx="2556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240600" y="4983120"/>
              <a:ext cx="449280" cy="2523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51060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558120" y="5194080"/>
              <a:ext cx="2556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60420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247080" y="4914720"/>
              <a:ext cx="603000" cy="7308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656400" y="5006880"/>
              <a:ext cx="63720" cy="633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726240" y="5025960"/>
              <a:ext cx="355680" cy="137880"/>
            </a:xfrm>
            <a:custGeom>
              <a:avLst/>
              <a:gdLst/>
              <a:ahLst/>
              <a:rect l="l" t="t" r="r" b="b"/>
              <a:pathLst>
                <a:path w="224" h="87">
                  <a:moveTo>
                    <a:pt x="6" y="86"/>
                  </a:moveTo>
                  <a:lnTo>
                    <a:pt x="223" y="86"/>
                  </a:lnTo>
                  <a:lnTo>
                    <a:pt x="223" y="0"/>
                  </a:lnTo>
                  <a:lnTo>
                    <a:pt x="12" y="0"/>
                  </a:lnTo>
                  <a:lnTo>
                    <a:pt x="9" y="15"/>
                  </a:lnTo>
                  <a:lnTo>
                    <a:pt x="0" y="41"/>
                  </a:lnTo>
                  <a:lnTo>
                    <a:pt x="6" y="8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186680" y="5025960"/>
              <a:ext cx="354240" cy="137880"/>
            </a:xfrm>
            <a:custGeom>
              <a:avLst/>
              <a:gdLst/>
              <a:ahLst/>
              <a:rect l="l" t="t" r="r" b="b"/>
              <a:pathLst>
                <a:path w="223" h="87">
                  <a:moveTo>
                    <a:pt x="6" y="86"/>
                  </a:moveTo>
                  <a:lnTo>
                    <a:pt x="222" y="86"/>
                  </a:lnTo>
                  <a:lnTo>
                    <a:pt x="222" y="0"/>
                  </a:lnTo>
                  <a:lnTo>
                    <a:pt x="12" y="0"/>
                  </a:lnTo>
                  <a:lnTo>
                    <a:pt x="9" y="15"/>
                  </a:lnTo>
                  <a:lnTo>
                    <a:pt x="0" y="41"/>
                  </a:lnTo>
                  <a:lnTo>
                    <a:pt x="6" y="8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650360" y="5025960"/>
              <a:ext cx="355680" cy="137880"/>
            </a:xfrm>
            <a:custGeom>
              <a:avLst/>
              <a:gdLst/>
              <a:ahLst/>
              <a:rect l="l" t="t" r="r" b="b"/>
              <a:pathLst>
                <a:path w="224" h="87">
                  <a:moveTo>
                    <a:pt x="6" y="86"/>
                  </a:moveTo>
                  <a:lnTo>
                    <a:pt x="223" y="86"/>
                  </a:lnTo>
                  <a:lnTo>
                    <a:pt x="223" y="0"/>
                  </a:lnTo>
                  <a:lnTo>
                    <a:pt x="12" y="0"/>
                  </a:lnTo>
                  <a:lnTo>
                    <a:pt x="9" y="15"/>
                  </a:lnTo>
                  <a:lnTo>
                    <a:pt x="0" y="41"/>
                  </a:lnTo>
                  <a:lnTo>
                    <a:pt x="6" y="8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107480" y="5006880"/>
              <a:ext cx="63360" cy="633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567920" y="5006880"/>
              <a:ext cx="63360" cy="633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025120" y="5006880"/>
              <a:ext cx="63360" cy="633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691320" y="4914720"/>
              <a:ext cx="578160" cy="7308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142400" y="4914720"/>
              <a:ext cx="577800" cy="7308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8057880" y="4932000"/>
              <a:ext cx="119160" cy="7812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599600" y="4914720"/>
              <a:ext cx="577800" cy="7308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823080" y="5317920"/>
              <a:ext cx="235080" cy="254160"/>
            </a:xfrm>
            <a:prstGeom prst="upDownArrow">
              <a:avLst>
                <a:gd name="adj1" fmla="val 63509"/>
                <a:gd name="adj2" fmla="val 33786"/>
              </a:avLst>
            </a:prstGeom>
            <a:solidFill>
              <a:srgbClr val="c0c0c0"/>
            </a:solidFill>
            <a:ln w="12600">
              <a:solidFill>
                <a:srgbClr val="00cc99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280280" y="5317920"/>
              <a:ext cx="235080" cy="254160"/>
            </a:xfrm>
            <a:prstGeom prst="upDownArrow">
              <a:avLst>
                <a:gd name="adj1" fmla="val 63509"/>
                <a:gd name="adj2" fmla="val 33786"/>
              </a:avLst>
            </a:prstGeom>
            <a:solidFill>
              <a:srgbClr val="c0c0c0"/>
            </a:solidFill>
            <a:ln w="12600">
              <a:solidFill>
                <a:srgbClr val="00cc99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728120" y="5317920"/>
              <a:ext cx="235080" cy="254160"/>
            </a:xfrm>
            <a:prstGeom prst="upDownArrow">
              <a:avLst>
                <a:gd name="adj1" fmla="val 63509"/>
                <a:gd name="adj2" fmla="val 33786"/>
              </a:avLst>
            </a:prstGeom>
            <a:solidFill>
              <a:srgbClr val="c0c0c0"/>
            </a:solidFill>
            <a:ln w="12600">
              <a:solidFill>
                <a:srgbClr val="00cc99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4057560" y="5238720"/>
            <a:ext cx="0" cy="527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6629400" y="5238720"/>
            <a:ext cx="0" cy="527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1384200" y="5238720"/>
            <a:ext cx="0" cy="527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1238400" y="5238720"/>
            <a:ext cx="0" cy="527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Ethernet Connectivity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911760" y="1905120"/>
            <a:ext cx="495288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eaeaea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P-1600 Network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-231480">
              <a:lnSpc>
                <a:spcPct val="90000"/>
              </a:lnSpc>
              <a:spcBef>
                <a:spcPts val="901"/>
              </a:spcBef>
              <a:buClr>
                <a:srgbClr val="eaeaea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CP/IP Compat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-231480">
              <a:lnSpc>
                <a:spcPct val="90000"/>
              </a:lnSpc>
              <a:spcBef>
                <a:spcPts val="901"/>
              </a:spcBef>
              <a:buClr>
                <a:srgbClr val="eaeaea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0 Mbps and 100 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-231480">
              <a:lnSpc>
                <a:spcPct val="90000"/>
              </a:lnSpc>
              <a:spcBef>
                <a:spcPts val="901"/>
              </a:spcBef>
              <a:buClr>
                <a:srgbClr val="eaeaea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vent-driven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-231480">
              <a:lnSpc>
                <a:spcPct val="90000"/>
              </a:lnSpc>
              <a:spcBef>
                <a:spcPts val="901"/>
              </a:spcBef>
              <a:buClr>
                <a:srgbClr val="eaeaea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stant data connectivity to network, intranet,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eaeaea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4" name="fp1600" descr=""/>
          <p:cNvPicPr/>
          <p:nvPr/>
        </p:nvPicPr>
        <p:blipFill>
          <a:blip r:embed="rId1"/>
          <a:srcRect l="16557" t="7881" r="16528" b="13799"/>
          <a:stretch/>
        </p:blipFill>
        <p:spPr>
          <a:xfrm>
            <a:off x="698400" y="1943280"/>
            <a:ext cx="2635200" cy="2747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  <p:grpSp>
        <p:nvGrpSpPr>
          <p:cNvPr id="615" name=""/>
          <p:cNvGrpSpPr/>
          <p:nvPr/>
        </p:nvGrpSpPr>
        <p:grpSpPr>
          <a:xfrm>
            <a:off x="3044880" y="5318280"/>
            <a:ext cx="442800" cy="104760"/>
            <a:chOff x="3044880" y="5318280"/>
            <a:chExt cx="442800" cy="104760"/>
          </a:xfrm>
        </p:grpSpPr>
        <p:sp>
          <p:nvSpPr>
            <p:cNvPr id="616" name=""/>
            <p:cNvSpPr/>
            <p:nvPr/>
          </p:nvSpPr>
          <p:spPr>
            <a:xfrm>
              <a:off x="3044880" y="5318280"/>
              <a:ext cx="442800" cy="104760"/>
            </a:xfrm>
            <a:prstGeom prst="cube">
              <a:avLst>
                <a:gd name="adj" fmla="val 56666"/>
              </a:avLst>
            </a:prstGeom>
            <a:solidFill>
              <a:srgbClr val="003366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073320" y="5394600"/>
              <a:ext cx="1872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117600" y="5394600"/>
              <a:ext cx="1872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162240" y="5394600"/>
              <a:ext cx="1872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206520" y="5394600"/>
              <a:ext cx="1872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251160" y="5394600"/>
              <a:ext cx="1872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295440" y="5394600"/>
              <a:ext cx="1872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340080" y="5394600"/>
              <a:ext cx="1872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384360" y="5394600"/>
              <a:ext cx="1872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5" name=""/>
          <p:cNvSpPr/>
          <p:nvPr/>
        </p:nvSpPr>
        <p:spPr>
          <a:xfrm flipV="1">
            <a:off x="1944720" y="5397480"/>
            <a:ext cx="1128600" cy="200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1825560" y="5559480"/>
            <a:ext cx="625320" cy="156600"/>
            <a:chOff x="1825560" y="5559480"/>
            <a:chExt cx="625320" cy="156600"/>
          </a:xfrm>
        </p:grpSpPr>
        <p:sp>
          <p:nvSpPr>
            <p:cNvPr id="627" name=""/>
            <p:cNvSpPr/>
            <p:nvPr/>
          </p:nvSpPr>
          <p:spPr>
            <a:xfrm>
              <a:off x="1878840" y="5663520"/>
              <a:ext cx="156960" cy="52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039760" y="5663520"/>
              <a:ext cx="377280" cy="5256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412360" y="5606640"/>
              <a:ext cx="13680" cy="6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390400" y="5559480"/>
              <a:ext cx="52200" cy="137880"/>
            </a:xfrm>
            <a:custGeom>
              <a:avLst/>
              <a:gdLst/>
              <a:ahLst/>
              <a:rect l="l" t="t" r="r" b="b"/>
              <a:pathLst>
                <a:path w="79" h="209">
                  <a:moveTo>
                    <a:pt x="0" y="48"/>
                  </a:moveTo>
                  <a:lnTo>
                    <a:pt x="0" y="208"/>
                  </a:lnTo>
                  <a:lnTo>
                    <a:pt x="76" y="151"/>
                  </a:lnTo>
                  <a:lnTo>
                    <a:pt x="78" y="0"/>
                  </a:lnTo>
                  <a:lnTo>
                    <a:pt x="67" y="0"/>
                  </a:lnTo>
                  <a:lnTo>
                    <a:pt x="57" y="3"/>
                  </a:lnTo>
                  <a:lnTo>
                    <a:pt x="45" y="6"/>
                  </a:lnTo>
                  <a:lnTo>
                    <a:pt x="37" y="11"/>
                  </a:lnTo>
                  <a:lnTo>
                    <a:pt x="25" y="18"/>
                  </a:lnTo>
                  <a:lnTo>
                    <a:pt x="13" y="29"/>
                  </a:lnTo>
                  <a:lnTo>
                    <a:pt x="8" y="37"/>
                  </a:lnTo>
                  <a:lnTo>
                    <a:pt x="0" y="48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013480" y="5587560"/>
              <a:ext cx="187920" cy="1047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033280" y="56754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053080" y="56754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073240" y="56754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092320" y="56754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12120" y="56754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131920" y="56754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151000" y="56754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171160" y="56754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2388600" y="5656320"/>
              <a:ext cx="50760" cy="4212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2388960" y="5599440"/>
              <a:ext cx="49680" cy="3168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419920" y="5564520"/>
              <a:ext cx="30960" cy="151200"/>
            </a:xfrm>
            <a:custGeom>
              <a:avLst/>
              <a:gdLst/>
              <a:ahLst/>
              <a:rect l="l" t="t" r="r" b="b"/>
              <a:pathLst>
                <a:path w="30" h="229">
                  <a:moveTo>
                    <a:pt x="0" y="228"/>
                  </a:moveTo>
                  <a:lnTo>
                    <a:pt x="29" y="195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24" y="148"/>
                  </a:lnTo>
                  <a:lnTo>
                    <a:pt x="0" y="17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203560" y="5587560"/>
              <a:ext cx="187200" cy="1047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225520" y="56754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244600" y="56754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264400" y="56754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284200" y="56754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303640" y="56754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323440" y="56754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343240" y="56754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62680" y="56754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825560" y="5587560"/>
              <a:ext cx="187200" cy="1047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937880" y="56754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957680" y="56754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976760" y="56754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828080" y="5559480"/>
              <a:ext cx="251640" cy="3024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998720" y="559764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027880" y="5605560"/>
              <a:ext cx="148320" cy="57240"/>
            </a:xfrm>
            <a:custGeom>
              <a:avLst/>
              <a:gdLst/>
              <a:ahLst/>
              <a:rect l="l" t="t" r="r" b="b"/>
              <a:pathLst>
                <a:path w="224" h="87">
                  <a:moveTo>
                    <a:pt x="6" y="86"/>
                  </a:moveTo>
                  <a:lnTo>
                    <a:pt x="223" y="86"/>
                  </a:lnTo>
                  <a:lnTo>
                    <a:pt x="223" y="0"/>
                  </a:lnTo>
                  <a:lnTo>
                    <a:pt x="12" y="0"/>
                  </a:lnTo>
                  <a:lnTo>
                    <a:pt x="9" y="15"/>
                  </a:lnTo>
                  <a:lnTo>
                    <a:pt x="0" y="41"/>
                  </a:lnTo>
                  <a:lnTo>
                    <a:pt x="6" y="8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220120" y="5605560"/>
              <a:ext cx="147600" cy="57240"/>
            </a:xfrm>
            <a:custGeom>
              <a:avLst/>
              <a:gdLst/>
              <a:ahLst/>
              <a:rect l="l" t="t" r="r" b="b"/>
              <a:pathLst>
                <a:path w="223" h="87">
                  <a:moveTo>
                    <a:pt x="6" y="86"/>
                  </a:moveTo>
                  <a:lnTo>
                    <a:pt x="222" y="86"/>
                  </a:lnTo>
                  <a:lnTo>
                    <a:pt x="222" y="0"/>
                  </a:lnTo>
                  <a:lnTo>
                    <a:pt x="12" y="0"/>
                  </a:lnTo>
                  <a:lnTo>
                    <a:pt x="9" y="15"/>
                  </a:lnTo>
                  <a:lnTo>
                    <a:pt x="0" y="41"/>
                  </a:lnTo>
                  <a:lnTo>
                    <a:pt x="6" y="8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187000" y="559764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378880" y="559764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375280" y="560160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013480" y="5559480"/>
              <a:ext cx="240840" cy="3024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201400" y="5559480"/>
              <a:ext cx="240840" cy="3024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2388960" y="5570280"/>
              <a:ext cx="49680" cy="3240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 flipV="1">
            <a:off x="2554200" y="5397120"/>
            <a:ext cx="623880" cy="530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3257640" y="5397120"/>
            <a:ext cx="1440" cy="676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3373560" y="5392800"/>
            <a:ext cx="19080" cy="100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2311560" y="5877000"/>
            <a:ext cx="624960" cy="156600"/>
            <a:chOff x="2311560" y="5877000"/>
            <a:chExt cx="624960" cy="156600"/>
          </a:xfrm>
        </p:grpSpPr>
        <p:sp>
          <p:nvSpPr>
            <p:cNvPr id="670" name=""/>
            <p:cNvSpPr/>
            <p:nvPr/>
          </p:nvSpPr>
          <p:spPr>
            <a:xfrm>
              <a:off x="2364840" y="5981040"/>
              <a:ext cx="156600" cy="52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525760" y="5981040"/>
              <a:ext cx="377280" cy="5256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898000" y="5924160"/>
              <a:ext cx="13680" cy="6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876040" y="5877000"/>
              <a:ext cx="52200" cy="137880"/>
            </a:xfrm>
            <a:custGeom>
              <a:avLst/>
              <a:gdLst/>
              <a:ahLst/>
              <a:rect l="l" t="t" r="r" b="b"/>
              <a:pathLst>
                <a:path w="79" h="209">
                  <a:moveTo>
                    <a:pt x="0" y="48"/>
                  </a:moveTo>
                  <a:lnTo>
                    <a:pt x="0" y="208"/>
                  </a:lnTo>
                  <a:lnTo>
                    <a:pt x="76" y="151"/>
                  </a:lnTo>
                  <a:lnTo>
                    <a:pt x="78" y="0"/>
                  </a:lnTo>
                  <a:lnTo>
                    <a:pt x="67" y="0"/>
                  </a:lnTo>
                  <a:lnTo>
                    <a:pt x="57" y="3"/>
                  </a:lnTo>
                  <a:lnTo>
                    <a:pt x="45" y="6"/>
                  </a:lnTo>
                  <a:lnTo>
                    <a:pt x="37" y="11"/>
                  </a:lnTo>
                  <a:lnTo>
                    <a:pt x="25" y="18"/>
                  </a:lnTo>
                  <a:lnTo>
                    <a:pt x="13" y="29"/>
                  </a:lnTo>
                  <a:lnTo>
                    <a:pt x="8" y="37"/>
                  </a:lnTo>
                  <a:lnTo>
                    <a:pt x="0" y="48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499480" y="5905080"/>
              <a:ext cx="187920" cy="1047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519280" y="59929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539080" y="59929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558880" y="59929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577960" y="59929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98120" y="59929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617920" y="59929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637000" y="59929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656800" y="59929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2874240" y="5973840"/>
              <a:ext cx="50760" cy="4212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2874600" y="5916960"/>
              <a:ext cx="49680" cy="3168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905560" y="5882040"/>
              <a:ext cx="30960" cy="151200"/>
            </a:xfrm>
            <a:custGeom>
              <a:avLst/>
              <a:gdLst/>
              <a:ahLst/>
              <a:rect l="l" t="t" r="r" b="b"/>
              <a:pathLst>
                <a:path w="30" h="229">
                  <a:moveTo>
                    <a:pt x="0" y="228"/>
                  </a:moveTo>
                  <a:lnTo>
                    <a:pt x="29" y="195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24" y="148"/>
                  </a:lnTo>
                  <a:lnTo>
                    <a:pt x="0" y="17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89200" y="5905080"/>
              <a:ext cx="187200" cy="1047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711160" y="59929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30240" y="59929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750040" y="59929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769840" y="59929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789280" y="59929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809080" y="59929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828880" y="59929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848320" y="59929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311560" y="5905080"/>
              <a:ext cx="186840" cy="1047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423880" y="59929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443680" y="59929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462760" y="59929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314080" y="5877000"/>
              <a:ext cx="251280" cy="3024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484720" y="591516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513880" y="5923080"/>
              <a:ext cx="147960" cy="57240"/>
            </a:xfrm>
            <a:custGeom>
              <a:avLst/>
              <a:gdLst/>
              <a:ahLst/>
              <a:rect l="l" t="t" r="r" b="b"/>
              <a:pathLst>
                <a:path w="224" h="87">
                  <a:moveTo>
                    <a:pt x="6" y="86"/>
                  </a:moveTo>
                  <a:lnTo>
                    <a:pt x="223" y="86"/>
                  </a:lnTo>
                  <a:lnTo>
                    <a:pt x="223" y="0"/>
                  </a:lnTo>
                  <a:lnTo>
                    <a:pt x="12" y="0"/>
                  </a:lnTo>
                  <a:lnTo>
                    <a:pt x="9" y="15"/>
                  </a:lnTo>
                  <a:lnTo>
                    <a:pt x="0" y="41"/>
                  </a:lnTo>
                  <a:lnTo>
                    <a:pt x="6" y="8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705760" y="5923080"/>
              <a:ext cx="147240" cy="57240"/>
            </a:xfrm>
            <a:custGeom>
              <a:avLst/>
              <a:gdLst/>
              <a:ahLst/>
              <a:rect l="l" t="t" r="r" b="b"/>
              <a:pathLst>
                <a:path w="223" h="87">
                  <a:moveTo>
                    <a:pt x="6" y="86"/>
                  </a:moveTo>
                  <a:lnTo>
                    <a:pt x="222" y="86"/>
                  </a:lnTo>
                  <a:lnTo>
                    <a:pt x="222" y="0"/>
                  </a:lnTo>
                  <a:lnTo>
                    <a:pt x="12" y="0"/>
                  </a:lnTo>
                  <a:lnTo>
                    <a:pt x="9" y="15"/>
                  </a:lnTo>
                  <a:lnTo>
                    <a:pt x="0" y="41"/>
                  </a:lnTo>
                  <a:lnTo>
                    <a:pt x="6" y="8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672640" y="591516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864880" y="591516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860920" y="591912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499480" y="5877000"/>
              <a:ext cx="240840" cy="3024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687400" y="5877000"/>
              <a:ext cx="240840" cy="3024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2874600" y="5887800"/>
              <a:ext cx="49680" cy="3240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3054240" y="6016680"/>
            <a:ext cx="625320" cy="156600"/>
            <a:chOff x="3054240" y="6016680"/>
            <a:chExt cx="625320" cy="156600"/>
          </a:xfrm>
        </p:grpSpPr>
        <p:sp>
          <p:nvSpPr>
            <p:cNvPr id="710" name=""/>
            <p:cNvSpPr/>
            <p:nvPr/>
          </p:nvSpPr>
          <p:spPr>
            <a:xfrm>
              <a:off x="3107520" y="6120720"/>
              <a:ext cx="156960" cy="52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268440" y="6120720"/>
              <a:ext cx="377280" cy="5256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641040" y="6063840"/>
              <a:ext cx="13680" cy="6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619080" y="6016680"/>
              <a:ext cx="52200" cy="137880"/>
            </a:xfrm>
            <a:custGeom>
              <a:avLst/>
              <a:gdLst/>
              <a:ahLst/>
              <a:rect l="l" t="t" r="r" b="b"/>
              <a:pathLst>
                <a:path w="79" h="209">
                  <a:moveTo>
                    <a:pt x="0" y="48"/>
                  </a:moveTo>
                  <a:lnTo>
                    <a:pt x="0" y="208"/>
                  </a:lnTo>
                  <a:lnTo>
                    <a:pt x="76" y="151"/>
                  </a:lnTo>
                  <a:lnTo>
                    <a:pt x="78" y="0"/>
                  </a:lnTo>
                  <a:lnTo>
                    <a:pt x="67" y="0"/>
                  </a:lnTo>
                  <a:lnTo>
                    <a:pt x="57" y="3"/>
                  </a:lnTo>
                  <a:lnTo>
                    <a:pt x="45" y="6"/>
                  </a:lnTo>
                  <a:lnTo>
                    <a:pt x="37" y="11"/>
                  </a:lnTo>
                  <a:lnTo>
                    <a:pt x="25" y="18"/>
                  </a:lnTo>
                  <a:lnTo>
                    <a:pt x="13" y="29"/>
                  </a:lnTo>
                  <a:lnTo>
                    <a:pt x="8" y="37"/>
                  </a:lnTo>
                  <a:lnTo>
                    <a:pt x="0" y="48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42160" y="6044760"/>
              <a:ext cx="187920" cy="1047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261960" y="61326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281760" y="61326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301920" y="61326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321000" y="61326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340800" y="61326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360600" y="61326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379680" y="61326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399840" y="61326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3617280" y="6113520"/>
              <a:ext cx="50760" cy="4212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3617640" y="6056640"/>
              <a:ext cx="49680" cy="3168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648600" y="6021720"/>
              <a:ext cx="30960" cy="151200"/>
            </a:xfrm>
            <a:custGeom>
              <a:avLst/>
              <a:gdLst/>
              <a:ahLst/>
              <a:rect l="l" t="t" r="r" b="b"/>
              <a:pathLst>
                <a:path w="30" h="229">
                  <a:moveTo>
                    <a:pt x="0" y="228"/>
                  </a:moveTo>
                  <a:lnTo>
                    <a:pt x="29" y="195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24" y="148"/>
                  </a:lnTo>
                  <a:lnTo>
                    <a:pt x="0" y="17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432240" y="6044760"/>
              <a:ext cx="187200" cy="1047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454200" y="61326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473280" y="61326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493080" y="61326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12880" y="61326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532320" y="61326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552120" y="61326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571920" y="61326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591360" y="61326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54240" y="6044760"/>
              <a:ext cx="187200" cy="1047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166560" y="61326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186360" y="61326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205440" y="61326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056760" y="6016680"/>
              <a:ext cx="251640" cy="3024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227400" y="605484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256560" y="6062760"/>
              <a:ext cx="148320" cy="57240"/>
            </a:xfrm>
            <a:custGeom>
              <a:avLst/>
              <a:gdLst/>
              <a:ahLst/>
              <a:rect l="l" t="t" r="r" b="b"/>
              <a:pathLst>
                <a:path w="224" h="87">
                  <a:moveTo>
                    <a:pt x="6" y="86"/>
                  </a:moveTo>
                  <a:lnTo>
                    <a:pt x="223" y="86"/>
                  </a:lnTo>
                  <a:lnTo>
                    <a:pt x="223" y="0"/>
                  </a:lnTo>
                  <a:lnTo>
                    <a:pt x="12" y="0"/>
                  </a:lnTo>
                  <a:lnTo>
                    <a:pt x="9" y="15"/>
                  </a:lnTo>
                  <a:lnTo>
                    <a:pt x="0" y="41"/>
                  </a:lnTo>
                  <a:lnTo>
                    <a:pt x="6" y="8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448800" y="6062760"/>
              <a:ext cx="147600" cy="57240"/>
            </a:xfrm>
            <a:custGeom>
              <a:avLst/>
              <a:gdLst/>
              <a:ahLst/>
              <a:rect l="l" t="t" r="r" b="b"/>
              <a:pathLst>
                <a:path w="223" h="87">
                  <a:moveTo>
                    <a:pt x="6" y="86"/>
                  </a:moveTo>
                  <a:lnTo>
                    <a:pt x="222" y="86"/>
                  </a:lnTo>
                  <a:lnTo>
                    <a:pt x="222" y="0"/>
                  </a:lnTo>
                  <a:lnTo>
                    <a:pt x="12" y="0"/>
                  </a:lnTo>
                  <a:lnTo>
                    <a:pt x="9" y="15"/>
                  </a:lnTo>
                  <a:lnTo>
                    <a:pt x="0" y="41"/>
                  </a:lnTo>
                  <a:lnTo>
                    <a:pt x="6" y="8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415680" y="605484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607560" y="605484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603960" y="605880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242160" y="6016680"/>
              <a:ext cx="240840" cy="3024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430080" y="6016680"/>
              <a:ext cx="240840" cy="3024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3617640" y="6027480"/>
              <a:ext cx="49680" cy="3240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6039000" y="5318280"/>
            <a:ext cx="442800" cy="104760"/>
            <a:chOff x="6039000" y="5318280"/>
            <a:chExt cx="442800" cy="104760"/>
          </a:xfrm>
        </p:grpSpPr>
        <p:sp>
          <p:nvSpPr>
            <p:cNvPr id="750" name=""/>
            <p:cNvSpPr/>
            <p:nvPr/>
          </p:nvSpPr>
          <p:spPr>
            <a:xfrm>
              <a:off x="6039000" y="5318280"/>
              <a:ext cx="442800" cy="104760"/>
            </a:xfrm>
            <a:prstGeom prst="cube">
              <a:avLst>
                <a:gd name="adj" fmla="val 56666"/>
              </a:avLst>
            </a:prstGeom>
            <a:solidFill>
              <a:srgbClr val="003366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067440" y="5394600"/>
              <a:ext cx="1872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111720" y="5394600"/>
              <a:ext cx="1872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156360" y="5394600"/>
              <a:ext cx="1872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00640" y="5394600"/>
              <a:ext cx="1872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245280" y="5394600"/>
              <a:ext cx="1872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289560" y="5394600"/>
              <a:ext cx="1872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334200" y="5394600"/>
              <a:ext cx="1872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378480" y="5394600"/>
              <a:ext cx="1872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 flipV="1">
            <a:off x="5600880" y="5397120"/>
            <a:ext cx="571320" cy="361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5238720" y="5716440"/>
            <a:ext cx="625320" cy="157320"/>
            <a:chOff x="5238720" y="5716440"/>
            <a:chExt cx="625320" cy="157320"/>
          </a:xfrm>
        </p:grpSpPr>
        <p:sp>
          <p:nvSpPr>
            <p:cNvPr id="761" name=""/>
            <p:cNvSpPr/>
            <p:nvPr/>
          </p:nvSpPr>
          <p:spPr>
            <a:xfrm>
              <a:off x="5292000" y="5820840"/>
              <a:ext cx="156960" cy="529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452920" y="5820840"/>
              <a:ext cx="377280" cy="5292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825520" y="5763960"/>
              <a:ext cx="13680" cy="6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803560" y="5716440"/>
              <a:ext cx="52200" cy="138240"/>
            </a:xfrm>
            <a:custGeom>
              <a:avLst/>
              <a:gdLst/>
              <a:ahLst/>
              <a:rect l="l" t="t" r="r" b="b"/>
              <a:pathLst>
                <a:path w="79" h="209">
                  <a:moveTo>
                    <a:pt x="0" y="48"/>
                  </a:moveTo>
                  <a:lnTo>
                    <a:pt x="0" y="208"/>
                  </a:lnTo>
                  <a:lnTo>
                    <a:pt x="76" y="151"/>
                  </a:lnTo>
                  <a:lnTo>
                    <a:pt x="78" y="0"/>
                  </a:lnTo>
                  <a:lnTo>
                    <a:pt x="67" y="0"/>
                  </a:lnTo>
                  <a:lnTo>
                    <a:pt x="57" y="3"/>
                  </a:lnTo>
                  <a:lnTo>
                    <a:pt x="45" y="6"/>
                  </a:lnTo>
                  <a:lnTo>
                    <a:pt x="37" y="11"/>
                  </a:lnTo>
                  <a:lnTo>
                    <a:pt x="25" y="18"/>
                  </a:lnTo>
                  <a:lnTo>
                    <a:pt x="13" y="29"/>
                  </a:lnTo>
                  <a:lnTo>
                    <a:pt x="8" y="37"/>
                  </a:lnTo>
                  <a:lnTo>
                    <a:pt x="0" y="48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426640" y="5744520"/>
              <a:ext cx="187920" cy="10512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446440" y="58327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466240" y="58327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486400" y="58327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505480" y="58327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525280" y="58327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545080" y="58327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564160" y="58327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584320" y="58327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5801760" y="5813640"/>
              <a:ext cx="50760" cy="4212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5802120" y="5756400"/>
              <a:ext cx="49680" cy="3168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833080" y="5721480"/>
              <a:ext cx="30960" cy="151560"/>
            </a:xfrm>
            <a:custGeom>
              <a:avLst/>
              <a:gdLst/>
              <a:ahLst/>
              <a:rect l="l" t="t" r="r" b="b"/>
              <a:pathLst>
                <a:path w="30" h="229">
                  <a:moveTo>
                    <a:pt x="0" y="228"/>
                  </a:moveTo>
                  <a:lnTo>
                    <a:pt x="29" y="195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24" y="148"/>
                  </a:lnTo>
                  <a:lnTo>
                    <a:pt x="0" y="17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616720" y="5744520"/>
              <a:ext cx="187200" cy="10512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638680" y="58327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657760" y="58327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677560" y="58327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697360" y="58327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716800" y="58327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736600" y="58327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756400" y="58327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775840" y="58327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238720" y="5744520"/>
              <a:ext cx="187200" cy="10512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351040" y="58327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370840" y="58327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389920" y="58327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241240" y="5716440"/>
              <a:ext cx="251640" cy="3024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411880" y="575460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441040" y="5762520"/>
              <a:ext cx="148320" cy="57600"/>
            </a:xfrm>
            <a:custGeom>
              <a:avLst/>
              <a:gdLst/>
              <a:ahLst/>
              <a:rect l="l" t="t" r="r" b="b"/>
              <a:pathLst>
                <a:path w="224" h="87">
                  <a:moveTo>
                    <a:pt x="6" y="86"/>
                  </a:moveTo>
                  <a:lnTo>
                    <a:pt x="223" y="86"/>
                  </a:lnTo>
                  <a:lnTo>
                    <a:pt x="223" y="0"/>
                  </a:lnTo>
                  <a:lnTo>
                    <a:pt x="12" y="0"/>
                  </a:lnTo>
                  <a:lnTo>
                    <a:pt x="9" y="15"/>
                  </a:lnTo>
                  <a:lnTo>
                    <a:pt x="0" y="41"/>
                  </a:lnTo>
                  <a:lnTo>
                    <a:pt x="6" y="8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633280" y="5762520"/>
              <a:ext cx="147600" cy="57600"/>
            </a:xfrm>
            <a:custGeom>
              <a:avLst/>
              <a:gdLst/>
              <a:ahLst/>
              <a:rect l="l" t="t" r="r" b="b"/>
              <a:pathLst>
                <a:path w="223" h="87">
                  <a:moveTo>
                    <a:pt x="6" y="86"/>
                  </a:moveTo>
                  <a:lnTo>
                    <a:pt x="222" y="86"/>
                  </a:lnTo>
                  <a:lnTo>
                    <a:pt x="222" y="0"/>
                  </a:lnTo>
                  <a:lnTo>
                    <a:pt x="12" y="0"/>
                  </a:lnTo>
                  <a:lnTo>
                    <a:pt x="9" y="15"/>
                  </a:lnTo>
                  <a:lnTo>
                    <a:pt x="0" y="41"/>
                  </a:lnTo>
                  <a:lnTo>
                    <a:pt x="6" y="8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600160" y="575460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792040" y="575460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788440" y="575856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426640" y="5716440"/>
              <a:ext cx="240840" cy="3024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614560" y="5716440"/>
              <a:ext cx="240840" cy="3024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5802120" y="5727240"/>
              <a:ext cx="49680" cy="3240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0" name=""/>
          <p:cNvSpPr/>
          <p:nvPr/>
        </p:nvSpPr>
        <p:spPr>
          <a:xfrm flipV="1">
            <a:off x="5924520" y="5402160"/>
            <a:ext cx="328680" cy="601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 flipV="1">
            <a:off x="6305400" y="5397120"/>
            <a:ext cx="198720" cy="685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 flipV="1">
            <a:off x="6386040" y="5392440"/>
            <a:ext cx="390600" cy="228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5614920" y="5952960"/>
            <a:ext cx="625320" cy="157320"/>
            <a:chOff x="5614920" y="5952960"/>
            <a:chExt cx="625320" cy="157320"/>
          </a:xfrm>
        </p:grpSpPr>
        <p:sp>
          <p:nvSpPr>
            <p:cNvPr id="804" name=""/>
            <p:cNvSpPr/>
            <p:nvPr/>
          </p:nvSpPr>
          <p:spPr>
            <a:xfrm>
              <a:off x="5668200" y="6057360"/>
              <a:ext cx="156960" cy="529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829120" y="6057360"/>
              <a:ext cx="377280" cy="5292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201720" y="6000480"/>
              <a:ext cx="13680" cy="6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179760" y="5952960"/>
              <a:ext cx="52200" cy="138240"/>
            </a:xfrm>
            <a:custGeom>
              <a:avLst/>
              <a:gdLst/>
              <a:ahLst/>
              <a:rect l="l" t="t" r="r" b="b"/>
              <a:pathLst>
                <a:path w="79" h="209">
                  <a:moveTo>
                    <a:pt x="0" y="48"/>
                  </a:moveTo>
                  <a:lnTo>
                    <a:pt x="0" y="208"/>
                  </a:lnTo>
                  <a:lnTo>
                    <a:pt x="76" y="151"/>
                  </a:lnTo>
                  <a:lnTo>
                    <a:pt x="78" y="0"/>
                  </a:lnTo>
                  <a:lnTo>
                    <a:pt x="67" y="0"/>
                  </a:lnTo>
                  <a:lnTo>
                    <a:pt x="57" y="3"/>
                  </a:lnTo>
                  <a:lnTo>
                    <a:pt x="45" y="6"/>
                  </a:lnTo>
                  <a:lnTo>
                    <a:pt x="37" y="11"/>
                  </a:lnTo>
                  <a:lnTo>
                    <a:pt x="25" y="18"/>
                  </a:lnTo>
                  <a:lnTo>
                    <a:pt x="13" y="29"/>
                  </a:lnTo>
                  <a:lnTo>
                    <a:pt x="8" y="37"/>
                  </a:lnTo>
                  <a:lnTo>
                    <a:pt x="0" y="48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802840" y="5981040"/>
              <a:ext cx="187920" cy="10512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822640" y="606924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842440" y="606924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862600" y="606924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881680" y="606924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901480" y="606924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921280" y="606924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40360" y="606924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60520" y="606924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6177960" y="6050160"/>
              <a:ext cx="50760" cy="4212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178320" y="5992920"/>
              <a:ext cx="49680" cy="3168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209280" y="5958000"/>
              <a:ext cx="30960" cy="151560"/>
            </a:xfrm>
            <a:custGeom>
              <a:avLst/>
              <a:gdLst/>
              <a:ahLst/>
              <a:rect l="l" t="t" r="r" b="b"/>
              <a:pathLst>
                <a:path w="30" h="229">
                  <a:moveTo>
                    <a:pt x="0" y="228"/>
                  </a:moveTo>
                  <a:lnTo>
                    <a:pt x="29" y="195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24" y="148"/>
                  </a:lnTo>
                  <a:lnTo>
                    <a:pt x="0" y="17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92920" y="5981040"/>
              <a:ext cx="187200" cy="10512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014880" y="606924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033960" y="606924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053760" y="606924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073560" y="606924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093000" y="606924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112800" y="606924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132600" y="606924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152040" y="606924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614920" y="5981040"/>
              <a:ext cx="187200" cy="10512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727240" y="606924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747040" y="606924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766120" y="606924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617440" y="5952960"/>
              <a:ext cx="251640" cy="3024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788080" y="599112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817240" y="5999040"/>
              <a:ext cx="148320" cy="57600"/>
            </a:xfrm>
            <a:custGeom>
              <a:avLst/>
              <a:gdLst/>
              <a:ahLst/>
              <a:rect l="l" t="t" r="r" b="b"/>
              <a:pathLst>
                <a:path w="224" h="87">
                  <a:moveTo>
                    <a:pt x="6" y="86"/>
                  </a:moveTo>
                  <a:lnTo>
                    <a:pt x="223" y="86"/>
                  </a:lnTo>
                  <a:lnTo>
                    <a:pt x="223" y="0"/>
                  </a:lnTo>
                  <a:lnTo>
                    <a:pt x="12" y="0"/>
                  </a:lnTo>
                  <a:lnTo>
                    <a:pt x="9" y="15"/>
                  </a:lnTo>
                  <a:lnTo>
                    <a:pt x="0" y="41"/>
                  </a:lnTo>
                  <a:lnTo>
                    <a:pt x="6" y="8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009480" y="5999040"/>
              <a:ext cx="147600" cy="57600"/>
            </a:xfrm>
            <a:custGeom>
              <a:avLst/>
              <a:gdLst/>
              <a:ahLst/>
              <a:rect l="l" t="t" r="r" b="b"/>
              <a:pathLst>
                <a:path w="223" h="87">
                  <a:moveTo>
                    <a:pt x="6" y="86"/>
                  </a:moveTo>
                  <a:lnTo>
                    <a:pt x="222" y="86"/>
                  </a:lnTo>
                  <a:lnTo>
                    <a:pt x="222" y="0"/>
                  </a:lnTo>
                  <a:lnTo>
                    <a:pt x="12" y="0"/>
                  </a:lnTo>
                  <a:lnTo>
                    <a:pt x="9" y="15"/>
                  </a:lnTo>
                  <a:lnTo>
                    <a:pt x="0" y="41"/>
                  </a:lnTo>
                  <a:lnTo>
                    <a:pt x="6" y="8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976360" y="599112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168240" y="599112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164640" y="599508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802840" y="5952960"/>
              <a:ext cx="240840" cy="3024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990760" y="5952960"/>
              <a:ext cx="240840" cy="3024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6178320" y="5963760"/>
              <a:ext cx="49680" cy="3240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6315120" y="6064200"/>
            <a:ext cx="624960" cy="157320"/>
            <a:chOff x="6315120" y="6064200"/>
            <a:chExt cx="624960" cy="157320"/>
          </a:xfrm>
        </p:grpSpPr>
        <p:sp>
          <p:nvSpPr>
            <p:cNvPr id="844" name=""/>
            <p:cNvSpPr/>
            <p:nvPr/>
          </p:nvSpPr>
          <p:spPr>
            <a:xfrm>
              <a:off x="6368400" y="6168600"/>
              <a:ext cx="156600" cy="529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529320" y="6168600"/>
              <a:ext cx="377280" cy="5292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901560" y="6111720"/>
              <a:ext cx="13680" cy="6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879600" y="6064200"/>
              <a:ext cx="52200" cy="138240"/>
            </a:xfrm>
            <a:custGeom>
              <a:avLst/>
              <a:gdLst/>
              <a:ahLst/>
              <a:rect l="l" t="t" r="r" b="b"/>
              <a:pathLst>
                <a:path w="79" h="209">
                  <a:moveTo>
                    <a:pt x="0" y="48"/>
                  </a:moveTo>
                  <a:lnTo>
                    <a:pt x="0" y="208"/>
                  </a:lnTo>
                  <a:lnTo>
                    <a:pt x="76" y="151"/>
                  </a:lnTo>
                  <a:lnTo>
                    <a:pt x="78" y="0"/>
                  </a:lnTo>
                  <a:lnTo>
                    <a:pt x="67" y="0"/>
                  </a:lnTo>
                  <a:lnTo>
                    <a:pt x="57" y="3"/>
                  </a:lnTo>
                  <a:lnTo>
                    <a:pt x="45" y="6"/>
                  </a:lnTo>
                  <a:lnTo>
                    <a:pt x="37" y="11"/>
                  </a:lnTo>
                  <a:lnTo>
                    <a:pt x="25" y="18"/>
                  </a:lnTo>
                  <a:lnTo>
                    <a:pt x="13" y="29"/>
                  </a:lnTo>
                  <a:lnTo>
                    <a:pt x="8" y="37"/>
                  </a:lnTo>
                  <a:lnTo>
                    <a:pt x="0" y="48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503040" y="6092280"/>
              <a:ext cx="187920" cy="10512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522840" y="618048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542640" y="618048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562440" y="618048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581520" y="618048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601680" y="618048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621480" y="618048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640560" y="618048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660360" y="618048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6877800" y="6161400"/>
              <a:ext cx="50760" cy="4212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6878160" y="6104160"/>
              <a:ext cx="49680" cy="3168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909120" y="6069240"/>
              <a:ext cx="30960" cy="151560"/>
            </a:xfrm>
            <a:custGeom>
              <a:avLst/>
              <a:gdLst/>
              <a:ahLst/>
              <a:rect l="l" t="t" r="r" b="b"/>
              <a:pathLst>
                <a:path w="30" h="229">
                  <a:moveTo>
                    <a:pt x="0" y="228"/>
                  </a:moveTo>
                  <a:lnTo>
                    <a:pt x="29" y="195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24" y="148"/>
                  </a:lnTo>
                  <a:lnTo>
                    <a:pt x="0" y="17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692760" y="6092280"/>
              <a:ext cx="187200" cy="10512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714720" y="618048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733800" y="618048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753600" y="618048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773400" y="618048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792840" y="618048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812640" y="618048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832440" y="618048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51880" y="618048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315120" y="6092280"/>
              <a:ext cx="186840" cy="10512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427440" y="618048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447240" y="618048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466320" y="618048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317640" y="6064200"/>
              <a:ext cx="251280" cy="3024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488280" y="610236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517440" y="6110280"/>
              <a:ext cx="147960" cy="57600"/>
            </a:xfrm>
            <a:custGeom>
              <a:avLst/>
              <a:gdLst/>
              <a:ahLst/>
              <a:rect l="l" t="t" r="r" b="b"/>
              <a:pathLst>
                <a:path w="224" h="87">
                  <a:moveTo>
                    <a:pt x="6" y="86"/>
                  </a:moveTo>
                  <a:lnTo>
                    <a:pt x="223" y="86"/>
                  </a:lnTo>
                  <a:lnTo>
                    <a:pt x="223" y="0"/>
                  </a:lnTo>
                  <a:lnTo>
                    <a:pt x="12" y="0"/>
                  </a:lnTo>
                  <a:lnTo>
                    <a:pt x="9" y="15"/>
                  </a:lnTo>
                  <a:lnTo>
                    <a:pt x="0" y="41"/>
                  </a:lnTo>
                  <a:lnTo>
                    <a:pt x="6" y="8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709320" y="6110280"/>
              <a:ext cx="147240" cy="57600"/>
            </a:xfrm>
            <a:custGeom>
              <a:avLst/>
              <a:gdLst/>
              <a:ahLst/>
              <a:rect l="l" t="t" r="r" b="b"/>
              <a:pathLst>
                <a:path w="223" h="87">
                  <a:moveTo>
                    <a:pt x="6" y="86"/>
                  </a:moveTo>
                  <a:lnTo>
                    <a:pt x="222" y="86"/>
                  </a:lnTo>
                  <a:lnTo>
                    <a:pt x="222" y="0"/>
                  </a:lnTo>
                  <a:lnTo>
                    <a:pt x="12" y="0"/>
                  </a:lnTo>
                  <a:lnTo>
                    <a:pt x="9" y="15"/>
                  </a:lnTo>
                  <a:lnTo>
                    <a:pt x="0" y="41"/>
                  </a:lnTo>
                  <a:lnTo>
                    <a:pt x="6" y="8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676200" y="610236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868440" y="610236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864480" y="610632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503040" y="6064200"/>
              <a:ext cx="240840" cy="3024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690960" y="6064200"/>
              <a:ext cx="240840" cy="3024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6878160" y="6075000"/>
              <a:ext cx="49680" cy="3240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4213080" y="4822920"/>
            <a:ext cx="443160" cy="104760"/>
            <a:chOff x="4213080" y="4822920"/>
            <a:chExt cx="443160" cy="104760"/>
          </a:xfrm>
        </p:grpSpPr>
        <p:sp>
          <p:nvSpPr>
            <p:cNvPr id="884" name=""/>
            <p:cNvSpPr/>
            <p:nvPr/>
          </p:nvSpPr>
          <p:spPr>
            <a:xfrm>
              <a:off x="4213080" y="4822920"/>
              <a:ext cx="443160" cy="104760"/>
            </a:xfrm>
            <a:prstGeom prst="cube">
              <a:avLst>
                <a:gd name="adj" fmla="val 56666"/>
              </a:avLst>
            </a:prstGeom>
            <a:solidFill>
              <a:srgbClr val="003366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241880" y="4899240"/>
              <a:ext cx="1908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286160" y="4899240"/>
              <a:ext cx="1908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330800" y="4899240"/>
              <a:ext cx="1908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375080" y="4899240"/>
              <a:ext cx="1908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419720" y="4899240"/>
              <a:ext cx="1908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464000" y="4899240"/>
              <a:ext cx="1908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508640" y="4899240"/>
              <a:ext cx="1908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552920" y="4899240"/>
              <a:ext cx="1908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3" name=""/>
          <p:cNvSpPr/>
          <p:nvPr/>
        </p:nvSpPr>
        <p:spPr>
          <a:xfrm flipV="1">
            <a:off x="3381480" y="4901760"/>
            <a:ext cx="863640" cy="585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4" name="PC1" descr=""/>
          <p:cNvPicPr/>
          <p:nvPr/>
        </p:nvPicPr>
        <p:blipFill>
          <a:blip r:embed="rId2"/>
          <a:stretch/>
        </p:blipFill>
        <p:spPr>
          <a:xfrm>
            <a:off x="6683400" y="5489640"/>
            <a:ext cx="511200" cy="398520"/>
          </a:xfrm>
          <a:prstGeom prst="rect">
            <a:avLst/>
          </a:prstGeom>
          <a:ln w="0">
            <a:noFill/>
          </a:ln>
        </p:spPr>
      </p:pic>
      <p:sp>
        <p:nvSpPr>
          <p:cNvPr id="895" name=""/>
          <p:cNvSpPr/>
          <p:nvPr/>
        </p:nvSpPr>
        <p:spPr>
          <a:xfrm flipV="1">
            <a:off x="4119480" y="4902120"/>
            <a:ext cx="230400" cy="557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6" name="PC1" descr=""/>
          <p:cNvPicPr/>
          <p:nvPr/>
        </p:nvPicPr>
        <p:blipFill>
          <a:blip r:embed="rId3"/>
          <a:stretch/>
        </p:blipFill>
        <p:spPr>
          <a:xfrm>
            <a:off x="3848040" y="5227560"/>
            <a:ext cx="511200" cy="398520"/>
          </a:xfrm>
          <a:prstGeom prst="rect">
            <a:avLst/>
          </a:prstGeom>
          <a:ln w="0">
            <a:noFill/>
          </a:ln>
        </p:spPr>
      </p:pic>
      <p:sp>
        <p:nvSpPr>
          <p:cNvPr id="897" name=""/>
          <p:cNvSpPr/>
          <p:nvPr/>
        </p:nvSpPr>
        <p:spPr>
          <a:xfrm flipH="1" flipV="1">
            <a:off x="4473720" y="4902120"/>
            <a:ext cx="164880" cy="371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8" name="PC1" descr=""/>
          <p:cNvPicPr/>
          <p:nvPr/>
        </p:nvPicPr>
        <p:blipFill>
          <a:blip r:embed="rId4"/>
          <a:stretch/>
        </p:blipFill>
        <p:spPr>
          <a:xfrm>
            <a:off x="4473720" y="5094360"/>
            <a:ext cx="511200" cy="398520"/>
          </a:xfrm>
          <a:prstGeom prst="rect">
            <a:avLst/>
          </a:prstGeom>
          <a:ln w="0">
            <a:noFill/>
          </a:ln>
        </p:spPr>
      </p:pic>
      <p:sp>
        <p:nvSpPr>
          <p:cNvPr id="899" name=""/>
          <p:cNvSpPr/>
          <p:nvPr/>
        </p:nvSpPr>
        <p:spPr>
          <a:xfrm flipH="1" flipV="1">
            <a:off x="4564080" y="4906800"/>
            <a:ext cx="1512720" cy="486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48040" y="5727600"/>
            <a:ext cx="125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0Base-T or 100Base-T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Anamita Mukherjee</dc:creator>
  <dc:description/>
  <dc:language>en-US</dc:language>
  <cp:lastModifiedBy>David Potter</cp:lastModifiedBy>
  <cp:lastPrinted>1997-05-07T17:45:50Z</cp:lastPrinted>
  <dcterms:modified xsi:type="dcterms:W3CDTF">1999-07-27T22:39:30Z</dcterms:modified>
  <cp:revision>67</cp:revision>
  <dc:subject>FieldPoint</dc:subject>
  <dc:title>Industrial Solutions Using Advanced PC Technologies</dc:title>
</cp:coreProperties>
</file>