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2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13.wmf" ContentType="image/x-wmf"/>
  <Override PartName="/ppt/media/image5.png" ContentType="image/png"/>
  <Override PartName="/ppt/media/image9.wmf" ContentType="image/x-wmf"/>
  <Override PartName="/ppt/media/image28.png" ContentType="image/png"/>
  <Override PartName="/ppt/media/image31.wmf" ContentType="image/x-wmf"/>
  <Override PartName="/ppt/media/image19.jpeg" ContentType="image/jpeg"/>
  <Override PartName="/ppt/media/image3.png" ContentType="image/png"/>
  <Override PartName="/ppt/media/image11.wmf" ContentType="image/x-wmf"/>
  <Override PartName="/ppt/media/image32.wmf" ContentType="image/x-wmf"/>
  <Override PartName="/ppt/media/image7.wmf" ContentType="image/x-wmf"/>
  <Override PartName="/ppt/media/image33.wmf" ContentType="image/x-wmf"/>
  <Override PartName="/ppt/media/image34.png" ContentType="image/png"/>
  <Override PartName="/ppt/media/image17.wmf" ContentType="image/x-wmf"/>
  <Override PartName="/ppt/media/image35.wmf" ContentType="image/x-wmf"/>
  <Override PartName="/ppt/media/image10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7756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409984F-767A-4080-A654-04551F4AB879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 txBox="1"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5C95BCF-2F5A-4CC9-A717-0D93339A4AC9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82600" y="703440"/>
            <a:ext cx="4619880" cy="346536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9320" bIns="4932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084320" y="4560840"/>
            <a:ext cx="5121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9320" bIns="4932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9320" bIns="4932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588E-D728-410E-9F58-7FA540CA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0214-408C-414C-BDF3-DCDCC1D5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9E9-5C7F-4E57-8E93-31BF26A1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2166-46B7-4AEA-ABF4-089EC3D6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AAB1-E856-4212-BC04-85352DFF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6D09-43D1-4C30-AD6B-24ADE969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1281-16FF-4D86-8767-5612E750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FA8F-C5AE-4F62-A32F-83C6F26D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0DD0-3B51-434C-9BF8-846EC62B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375D-7DAD-4A59-94DF-00ECCCB7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F8B5-4020-4969-999B-F2CF136F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9246-03FE-4AFC-B929-9507B253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DD34-65A1-4119-B946-18813399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72CB-72D2-4716-8610-C2B9D111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94C2-A53A-4978-9B95-741E1B7A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6FB4-3BB5-4EC5-9DFD-AD6D1597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0905-41E3-43DE-B07F-8AEE6979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63FB-0A49-4C06-A07C-5FCCF4BA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18C-A6AC-455C-8C7E-C9F829B2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9F67-B564-4E13-A454-6B9A430D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034B-71BD-40CE-B4DC-E9B2094E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AB21-ED73-4647-887B-FCCAD8C2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3421-6135-49A4-B04A-BC1FA221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6966-FEBC-46CA-B5DD-2B9E39BD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inalbody2no%20log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EF73-9219-4B27-B644-4DBFBEC38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1508040"/>
            <a:ext cx="769608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ilogoClr" descr=""/>
          <p:cNvPicPr/>
          <p:nvPr/>
        </p:nvPicPr>
        <p:blipFill>
          <a:blip r:embed="rId3"/>
          <a:stretch/>
        </p:blipFill>
        <p:spPr>
          <a:xfrm>
            <a:off x="7010280" y="6305400"/>
            <a:ext cx="1981440" cy="4762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86160" y="6197760"/>
            <a:ext cx="206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www.natinst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inaltitle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3276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C8D5-B181-427C-A1B0-4E56836C3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ilogoClr" descr=""/>
          <p:cNvPicPr/>
          <p:nvPr/>
        </p:nvPicPr>
        <p:blipFill>
          <a:blip r:embed="rId3"/>
          <a:stretch/>
        </p:blipFill>
        <p:spPr>
          <a:xfrm>
            <a:off x="7010280" y="6305400"/>
            <a:ext cx="198144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6248520"/>
            <a:ext cx="1869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www.natins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finaltitl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nilogoC" descr=""/>
          <p:cNvPicPr/>
          <p:nvPr/>
        </p:nvPicPr>
        <p:blipFill>
          <a:blip r:embed="rId2"/>
          <a:stretch/>
        </p:blipFill>
        <p:spPr>
          <a:xfrm>
            <a:off x="228600" y="279360"/>
            <a:ext cx="4495680" cy="1074600"/>
          </a:xfrm>
          <a:prstGeom prst="rect">
            <a:avLst/>
          </a:prstGeom>
          <a:ln w="0">
            <a:noFill/>
          </a:ln>
        </p:spPr>
      </p:pic>
      <p:pic>
        <p:nvPicPr>
          <p:cNvPr id="99" name="ni%20fieldpoint%20blue" descr=""/>
          <p:cNvPicPr/>
          <p:nvPr/>
        </p:nvPicPr>
        <p:blipFill>
          <a:blip r:embed="rId3"/>
          <a:stretch/>
        </p:blipFill>
        <p:spPr>
          <a:xfrm>
            <a:off x="1092240" y="3225960"/>
            <a:ext cx="7789680" cy="20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5016600" y="5410080"/>
            <a:ext cx="16383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istributed Control with Fieldbu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09480" y="1841400"/>
            <a:ext cx="80899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eaeae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P-3000 Network Interface/Controller Mo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OUNDATION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Fieldbus H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nk Active Schedu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eaeae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mbedded Function B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ID function block for standalone, distributed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I, AO, DI, DO, CDO bl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51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larming, trending, filtering, scaling, interlo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4" name=""/>
          <p:cNvGraphicFramePr/>
          <p:nvPr/>
        </p:nvGraphicFramePr>
        <p:xfrm>
          <a:off x="1486080" y="5397480"/>
          <a:ext cx="274320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6080" y="5397480"/>
                    <a:ext cx="27432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6" name=""/>
          <p:cNvSpPr/>
          <p:nvPr/>
        </p:nvSpPr>
        <p:spPr>
          <a:xfrm>
            <a:off x="1989000" y="5702400"/>
            <a:ext cx="1770120" cy="696960"/>
          </a:xfrm>
          <a:custGeom>
            <a:avLst/>
            <a:gdLst/>
            <a:ahLst/>
            <a:rect l="l" t="t" r="r" b="b"/>
            <a:pathLst>
              <a:path w="1123" h="543">
                <a:moveTo>
                  <a:pt x="607" y="543"/>
                </a:moveTo>
                <a:cubicBezTo>
                  <a:pt x="597" y="489"/>
                  <a:pt x="619" y="276"/>
                  <a:pt x="541" y="216"/>
                </a:cubicBezTo>
                <a:cubicBezTo>
                  <a:pt x="463" y="156"/>
                  <a:pt x="205" y="207"/>
                  <a:pt x="138" y="181"/>
                </a:cubicBezTo>
                <a:cubicBezTo>
                  <a:pt x="71" y="155"/>
                  <a:pt x="0" y="75"/>
                  <a:pt x="138" y="58"/>
                </a:cubicBezTo>
                <a:cubicBezTo>
                  <a:pt x="276" y="41"/>
                  <a:pt x="815" y="0"/>
                  <a:pt x="969" y="81"/>
                </a:cubicBezTo>
                <a:cubicBezTo>
                  <a:pt x="1123" y="162"/>
                  <a:pt x="1042" y="447"/>
                  <a:pt x="1061" y="543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headEnd len="med" type="oval" w="med"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562040" y="5702400"/>
            <a:ext cx="53352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562040" y="51688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FP-3000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768760" y="64641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A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467160" y="64134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1" name="fblogo3" descr=""/>
          <p:cNvPicPr/>
          <p:nvPr/>
        </p:nvPicPr>
        <p:blipFill>
          <a:blip r:embed="rId3"/>
          <a:stretch/>
        </p:blipFill>
        <p:spPr>
          <a:xfrm>
            <a:off x="5092560" y="5473800"/>
            <a:ext cx="1352520" cy="685800"/>
          </a:xfrm>
          <a:prstGeom prst="rect">
            <a:avLst/>
          </a:prstGeom>
          <a:ln w="0">
            <a:noFill/>
          </a:ln>
        </p:spPr>
      </p:pic>
      <p:sp>
        <p:nvSpPr>
          <p:cNvPr id="912" name=""/>
          <p:cNvSpPr/>
          <p:nvPr/>
        </p:nvSpPr>
        <p:spPr>
          <a:xfrm>
            <a:off x="5054760" y="5168880"/>
            <a:ext cx="1828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85800" y="6311880"/>
            <a:ext cx="2019240" cy="33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4360" y="857160"/>
            <a:ext cx="785160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eldPoint Technology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53680" y="1828800"/>
            <a:ext cx="551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17080" indent="-217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tPnP Plug and 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5760" indent="-219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t-pluggable mo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5760" indent="-219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-configur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5760" indent="-219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ic data sheets on mo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5760" indent="-219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ment modules inherit configuration of replaced mo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7080" indent="-217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ustness and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5760" indent="-219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lation on each mo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5760" indent="-219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de operating temp. 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74800" indent="0">
              <a:spcBef>
                <a:spcPts val="499"/>
              </a:spcBef>
              <a:buNone/>
              <a:tabLst>
                <a:tab algn="l" pos="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40°C to + 70°C  (-40°F to +160°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6361200" y="2362320"/>
            <a:ext cx="214632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7810560" cy="12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eldPoint Technology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42600" y="1803240"/>
            <a:ext cx="7721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Quality I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mable power-up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mable watchdog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1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communication l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1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 wi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1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1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s return error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3860640" y="3657600"/>
            <a:ext cx="1322640" cy="1284120"/>
          </a:xfrm>
          <a:custGeom>
            <a:avLst/>
            <a:gdLst/>
            <a:ahLst/>
            <a:rect l="l" t="t" r="r" b="b"/>
            <a:pathLst>
              <a:path w="833" h="809">
                <a:moveTo>
                  <a:pt x="416" y="808"/>
                </a:moveTo>
                <a:lnTo>
                  <a:pt x="256" y="552"/>
                </a:lnTo>
                <a:lnTo>
                  <a:pt x="336" y="552"/>
                </a:lnTo>
                <a:lnTo>
                  <a:pt x="0" y="0"/>
                </a:lnTo>
                <a:lnTo>
                  <a:pt x="832" y="0"/>
                </a:lnTo>
                <a:lnTo>
                  <a:pt x="504" y="552"/>
                </a:lnTo>
                <a:lnTo>
                  <a:pt x="592" y="552"/>
                </a:lnTo>
                <a:lnTo>
                  <a:pt x="416" y="808"/>
                </a:lnTo>
              </a:path>
            </a:pathLst>
          </a:custGeom>
          <a:solidFill>
            <a:srgbClr val="99ccff">
              <a:alpha val="50000"/>
            </a:srgbClr>
          </a:solidFill>
          <a:ln cap="rnd"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740560" y="2390760"/>
            <a:ext cx="2392200" cy="2583000"/>
          </a:xfrm>
          <a:custGeom>
            <a:avLst/>
            <a:gdLst/>
            <a:ahLst/>
            <a:rect l="l" t="t" r="r" b="b"/>
            <a:pathLst>
              <a:path w="1507" h="1627">
                <a:moveTo>
                  <a:pt x="0" y="1626"/>
                </a:moveTo>
                <a:lnTo>
                  <a:pt x="12" y="1368"/>
                </a:lnTo>
                <a:lnTo>
                  <a:pt x="66" y="1410"/>
                </a:lnTo>
                <a:lnTo>
                  <a:pt x="354" y="0"/>
                </a:lnTo>
                <a:lnTo>
                  <a:pt x="366" y="822"/>
                </a:lnTo>
                <a:lnTo>
                  <a:pt x="1506" y="822"/>
                </a:lnTo>
                <a:lnTo>
                  <a:pt x="168" y="1470"/>
                </a:lnTo>
                <a:lnTo>
                  <a:pt x="234" y="1518"/>
                </a:lnTo>
                <a:lnTo>
                  <a:pt x="0" y="1626"/>
                </a:lnTo>
              </a:path>
            </a:pathLst>
          </a:custGeom>
          <a:solidFill>
            <a:srgbClr val="99ccff">
              <a:alpha val="50000"/>
            </a:srgbClr>
          </a:solidFill>
          <a:ln cap="rnd"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87320" y="2419200"/>
            <a:ext cx="2392560" cy="2583000"/>
          </a:xfrm>
          <a:custGeom>
            <a:avLst/>
            <a:gdLst/>
            <a:ahLst/>
            <a:rect l="l" t="t" r="r" b="b"/>
            <a:pathLst>
              <a:path w="1507" h="1627">
                <a:moveTo>
                  <a:pt x="1506" y="1626"/>
                </a:moveTo>
                <a:lnTo>
                  <a:pt x="1494" y="1368"/>
                </a:lnTo>
                <a:lnTo>
                  <a:pt x="1440" y="1410"/>
                </a:lnTo>
                <a:lnTo>
                  <a:pt x="1152" y="0"/>
                </a:lnTo>
                <a:lnTo>
                  <a:pt x="1140" y="822"/>
                </a:lnTo>
                <a:lnTo>
                  <a:pt x="0" y="822"/>
                </a:lnTo>
                <a:lnTo>
                  <a:pt x="1338" y="1470"/>
                </a:lnTo>
                <a:lnTo>
                  <a:pt x="1272" y="1518"/>
                </a:lnTo>
                <a:lnTo>
                  <a:pt x="1506" y="1626"/>
                </a:lnTo>
              </a:path>
            </a:pathLst>
          </a:custGeom>
          <a:solidFill>
            <a:srgbClr val="99ccff">
              <a:alpha val="50000"/>
            </a:srgbClr>
          </a:solidFill>
          <a:ln cap="rnd"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77880" y="884160"/>
            <a:ext cx="816912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Key Technologies Converg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3218040" y="4889520"/>
            <a:ext cx="2457360" cy="139068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736560" y="2292480"/>
            <a:ext cx="1962360" cy="150012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507600" y="1995480"/>
            <a:ext cx="254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ata Acquisition (DA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566160" y="1995480"/>
            <a:ext cx="191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dustrial Com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797520" y="1995480"/>
            <a:ext cx="10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3"/>
          <a:stretch/>
        </p:blipFill>
        <p:spPr>
          <a:xfrm>
            <a:off x="6245280" y="2289240"/>
            <a:ext cx="2093760" cy="150804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703800" y="3743280"/>
            <a:ext cx="2410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I/O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Precision measu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Sensor interf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479040" y="3743280"/>
            <a:ext cx="2266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PC inte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Networking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246720" y="3743280"/>
            <a:ext cx="2443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Hardware drivers/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Windows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HMI/SC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605560" y="5338800"/>
            <a:ext cx="1824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PC-Based Networked 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4"/>
          <a:stretch/>
        </p:blipFill>
        <p:spPr>
          <a:xfrm>
            <a:off x="3459240" y="2300400"/>
            <a:ext cx="216036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eldPoint Software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eldPoint Explor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eldPoint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dg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VIEW V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W/C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out D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C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862520" y="3479760"/>
            <a:ext cx="2381400" cy="884160"/>
          </a:xfrm>
          <a:prstGeom prst="cube">
            <a:avLst>
              <a:gd name="adj" fmla="val 12583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eld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er (D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394160" y="2193840"/>
            <a:ext cx="1406520" cy="808200"/>
          </a:xfrm>
          <a:prstGeom prst="cube">
            <a:avLst>
              <a:gd name="adj" fmla="val 1258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idg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907240" y="2193840"/>
            <a:ext cx="1481040" cy="808200"/>
          </a:xfrm>
          <a:prstGeom prst="cube">
            <a:avLst>
              <a:gd name="adj" fmla="val 1258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abVIEW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W/C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569360" y="2502000"/>
            <a:ext cx="1199880" cy="1498680"/>
          </a:xfrm>
          <a:prstGeom prst="cube">
            <a:avLst>
              <a:gd name="adj" fmla="val 12583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o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118120" y="3029040"/>
            <a:ext cx="539640" cy="501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6312960" y="3029040"/>
            <a:ext cx="297000" cy="52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7097400" y="4037040"/>
            <a:ext cx="1044360" cy="876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219720" y="4373640"/>
            <a:ext cx="838440" cy="539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6135840" y="4919400"/>
            <a:ext cx="2065680" cy="496800"/>
            <a:chOff x="6135840" y="4919400"/>
            <a:chExt cx="2065680" cy="496800"/>
          </a:xfrm>
        </p:grpSpPr>
        <p:sp>
          <p:nvSpPr>
            <p:cNvPr id="945" name=""/>
            <p:cNvSpPr/>
            <p:nvPr/>
          </p:nvSpPr>
          <p:spPr>
            <a:xfrm>
              <a:off x="6145560" y="5029200"/>
              <a:ext cx="1908000" cy="1425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135840" y="5008320"/>
              <a:ext cx="1905120" cy="27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135840" y="5175000"/>
              <a:ext cx="1911240" cy="12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983720" y="5097240"/>
              <a:ext cx="4932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864560" y="5068800"/>
              <a:ext cx="4932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755120" y="5072040"/>
              <a:ext cx="6840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797960" y="4929120"/>
              <a:ext cx="165240" cy="423720"/>
            </a:xfrm>
            <a:custGeom>
              <a:avLst/>
              <a:gdLst/>
              <a:ahLst/>
              <a:rect l="l" t="t" r="r" b="b"/>
              <a:pathLst>
                <a:path w="104" h="267">
                  <a:moveTo>
                    <a:pt x="0" y="62"/>
                  </a:moveTo>
                  <a:lnTo>
                    <a:pt x="0" y="266"/>
                  </a:lnTo>
                  <a:lnTo>
                    <a:pt x="100" y="193"/>
                  </a:lnTo>
                  <a:lnTo>
                    <a:pt x="103" y="0"/>
                  </a:lnTo>
                  <a:lnTo>
                    <a:pt x="88" y="0"/>
                  </a:lnTo>
                  <a:lnTo>
                    <a:pt x="76" y="4"/>
                  </a:lnTo>
                  <a:lnTo>
                    <a:pt x="60" y="8"/>
                  </a:lnTo>
                  <a:lnTo>
                    <a:pt x="49" y="15"/>
                  </a:lnTo>
                  <a:lnTo>
                    <a:pt x="33" y="22"/>
                  </a:lnTo>
                  <a:lnTo>
                    <a:pt x="18" y="37"/>
                  </a:lnTo>
                  <a:lnTo>
                    <a:pt x="11" y="47"/>
                  </a:lnTo>
                  <a:lnTo>
                    <a:pt x="0" y="62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778880" y="4919400"/>
              <a:ext cx="42264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7" y="6290"/>
                  </a:moveTo>
                  <a:arcTo wR="10800" hR="10800" stAng="-9319049" swAng="3400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987" y="6290"/>
                  </a:moveTo>
                  <a:arcTo wR="10800" hR="10800" stAng="-9319049" swAng="34009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7956720" y="4929120"/>
              <a:ext cx="144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7794720" y="5222520"/>
              <a:ext cx="160560" cy="1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7794360" y="5046480"/>
              <a:ext cx="157320" cy="9828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7794360" y="4971960"/>
              <a:ext cx="157320" cy="9684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896240" y="4952880"/>
              <a:ext cx="65160" cy="463320"/>
            </a:xfrm>
            <a:custGeom>
              <a:avLst/>
              <a:gdLst/>
              <a:ahLst/>
              <a:rect l="l" t="t" r="r" b="b"/>
              <a:pathLst>
                <a:path w="41" h="292">
                  <a:moveTo>
                    <a:pt x="0" y="291"/>
                  </a:moveTo>
                  <a:lnTo>
                    <a:pt x="40" y="249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4" y="188"/>
                  </a:lnTo>
                  <a:lnTo>
                    <a:pt x="0" y="226"/>
                  </a:lnTo>
                  <a:lnTo>
                    <a:pt x="0" y="2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863120" y="4927320"/>
              <a:ext cx="98280" cy="478080"/>
            </a:xfrm>
            <a:custGeom>
              <a:avLst/>
              <a:gdLst/>
              <a:ahLst/>
              <a:rect l="l" t="t" r="r" b="b"/>
              <a:pathLst>
                <a:path w="62" h="301">
                  <a:moveTo>
                    <a:pt x="0" y="300"/>
                  </a:moveTo>
                  <a:lnTo>
                    <a:pt x="61" y="257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52" y="194"/>
                  </a:lnTo>
                  <a:lnTo>
                    <a:pt x="0" y="2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674040" y="5303520"/>
              <a:ext cx="1176480" cy="10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158160" y="5081400"/>
              <a:ext cx="4932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564600" y="4941720"/>
              <a:ext cx="766800" cy="92160"/>
            </a:xfrm>
            <a:custGeom>
              <a:avLst/>
              <a:gdLst/>
              <a:ahLst/>
              <a:rect l="l" t="t" r="r" b="b"/>
              <a:pathLst>
                <a:path w="483" h="58">
                  <a:moveTo>
                    <a:pt x="0" y="55"/>
                  </a:moveTo>
                  <a:lnTo>
                    <a:pt x="8" y="46"/>
                  </a:lnTo>
                  <a:lnTo>
                    <a:pt x="22" y="29"/>
                  </a:lnTo>
                  <a:lnTo>
                    <a:pt x="38" y="21"/>
                  </a:lnTo>
                  <a:lnTo>
                    <a:pt x="49" y="13"/>
                  </a:lnTo>
                  <a:lnTo>
                    <a:pt x="72" y="5"/>
                  </a:lnTo>
                  <a:lnTo>
                    <a:pt x="85" y="2"/>
                  </a:lnTo>
                  <a:lnTo>
                    <a:pt x="94" y="0"/>
                  </a:lnTo>
                  <a:lnTo>
                    <a:pt x="482" y="0"/>
                  </a:lnTo>
                  <a:lnTo>
                    <a:pt x="459" y="4"/>
                  </a:lnTo>
                  <a:lnTo>
                    <a:pt x="450" y="6"/>
                  </a:lnTo>
                  <a:lnTo>
                    <a:pt x="446" y="6"/>
                  </a:lnTo>
                  <a:lnTo>
                    <a:pt x="442" y="8"/>
                  </a:lnTo>
                  <a:lnTo>
                    <a:pt x="438" y="10"/>
                  </a:lnTo>
                  <a:lnTo>
                    <a:pt x="433" y="13"/>
                  </a:lnTo>
                  <a:lnTo>
                    <a:pt x="429" y="16"/>
                  </a:lnTo>
                  <a:lnTo>
                    <a:pt x="426" y="20"/>
                  </a:lnTo>
                  <a:lnTo>
                    <a:pt x="422" y="21"/>
                  </a:lnTo>
                  <a:lnTo>
                    <a:pt x="418" y="24"/>
                  </a:lnTo>
                  <a:lnTo>
                    <a:pt x="413" y="26"/>
                  </a:lnTo>
                  <a:lnTo>
                    <a:pt x="409" y="29"/>
                  </a:lnTo>
                  <a:lnTo>
                    <a:pt x="406" y="33"/>
                  </a:lnTo>
                  <a:lnTo>
                    <a:pt x="402" y="35"/>
                  </a:lnTo>
                  <a:lnTo>
                    <a:pt x="398" y="37"/>
                  </a:lnTo>
                  <a:lnTo>
                    <a:pt x="395" y="41"/>
                  </a:lnTo>
                  <a:lnTo>
                    <a:pt x="391" y="44"/>
                  </a:lnTo>
                  <a:lnTo>
                    <a:pt x="390" y="48"/>
                  </a:lnTo>
                  <a:lnTo>
                    <a:pt x="390" y="52"/>
                  </a:lnTo>
                  <a:lnTo>
                    <a:pt x="389" y="57"/>
                  </a:lnTo>
                  <a:lnTo>
                    <a:pt x="0" y="5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569280" y="5032080"/>
              <a:ext cx="60624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640560" y="5305320"/>
              <a:ext cx="334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5305320"/>
              <a:ext cx="3312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766200" y="5305320"/>
              <a:ext cx="3312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829560" y="5305320"/>
              <a:ext cx="316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891480" y="5305320"/>
              <a:ext cx="334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954840" y="5305320"/>
              <a:ext cx="334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018560" y="5305320"/>
              <a:ext cx="316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081920" y="5305320"/>
              <a:ext cx="316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620040" y="5305320"/>
              <a:ext cx="51264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550200" y="4932360"/>
              <a:ext cx="42264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7" y="6290"/>
                  </a:moveTo>
                  <a:arcTo wR="10800" hR="10800" stAng="-9319049" swAng="3426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987" y="6290"/>
                  </a:moveTo>
                  <a:arcTo wR="10800" hR="10800" stAng="-9319049" swAng="34264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731280" y="4935240"/>
              <a:ext cx="61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772320" y="4983120"/>
              <a:ext cx="33336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810480" y="4964040"/>
              <a:ext cx="2620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810480" y="5000400"/>
              <a:ext cx="2620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866280" y="4946400"/>
              <a:ext cx="15696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866280" y="5016240"/>
              <a:ext cx="15696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074000" y="50464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212160" y="4943160"/>
              <a:ext cx="506160" cy="87480"/>
            </a:xfrm>
            <a:custGeom>
              <a:avLst/>
              <a:gdLst/>
              <a:ahLst/>
              <a:rect l="l" t="t" r="r" b="b"/>
              <a:pathLst>
                <a:path w="319" h="55">
                  <a:moveTo>
                    <a:pt x="0" y="53"/>
                  </a:moveTo>
                  <a:lnTo>
                    <a:pt x="5" y="43"/>
                  </a:lnTo>
                  <a:lnTo>
                    <a:pt x="14" y="28"/>
                  </a:lnTo>
                  <a:lnTo>
                    <a:pt x="25" y="20"/>
                  </a:lnTo>
                  <a:lnTo>
                    <a:pt x="32" y="13"/>
                  </a:lnTo>
                  <a:lnTo>
                    <a:pt x="47" y="5"/>
                  </a:lnTo>
                  <a:lnTo>
                    <a:pt x="55" y="2"/>
                  </a:lnTo>
                  <a:lnTo>
                    <a:pt x="62" y="0"/>
                  </a:lnTo>
                  <a:lnTo>
                    <a:pt x="318" y="0"/>
                  </a:lnTo>
                  <a:lnTo>
                    <a:pt x="303" y="4"/>
                  </a:lnTo>
                  <a:lnTo>
                    <a:pt x="297" y="6"/>
                  </a:lnTo>
                  <a:lnTo>
                    <a:pt x="294" y="6"/>
                  </a:lnTo>
                  <a:lnTo>
                    <a:pt x="291" y="8"/>
                  </a:lnTo>
                  <a:lnTo>
                    <a:pt x="288" y="10"/>
                  </a:lnTo>
                  <a:lnTo>
                    <a:pt x="286" y="13"/>
                  </a:lnTo>
                  <a:lnTo>
                    <a:pt x="283" y="16"/>
                  </a:lnTo>
                  <a:lnTo>
                    <a:pt x="281" y="18"/>
                  </a:lnTo>
                  <a:lnTo>
                    <a:pt x="279" y="20"/>
                  </a:lnTo>
                  <a:lnTo>
                    <a:pt x="276" y="22"/>
                  </a:lnTo>
                  <a:lnTo>
                    <a:pt x="273" y="25"/>
                  </a:lnTo>
                  <a:lnTo>
                    <a:pt x="270" y="28"/>
                  </a:lnTo>
                  <a:lnTo>
                    <a:pt x="268" y="32"/>
                  </a:lnTo>
                  <a:lnTo>
                    <a:pt x="265" y="33"/>
                  </a:lnTo>
                  <a:lnTo>
                    <a:pt x="262" y="35"/>
                  </a:lnTo>
                  <a:lnTo>
                    <a:pt x="261" y="39"/>
                  </a:lnTo>
                  <a:lnTo>
                    <a:pt x="258" y="42"/>
                  </a:lnTo>
                  <a:lnTo>
                    <a:pt x="257" y="46"/>
                  </a:lnTo>
                  <a:lnTo>
                    <a:pt x="257" y="50"/>
                  </a:lnTo>
                  <a:lnTo>
                    <a:pt x="256" y="54"/>
                  </a:lnTo>
                  <a:lnTo>
                    <a:pt x="0" y="5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204240" y="5032080"/>
              <a:ext cx="35712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526440" y="5084640"/>
              <a:ext cx="68040" cy="651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340680" y="5305320"/>
              <a:ext cx="334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404040" y="5305320"/>
              <a:ext cx="334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467760" y="5305320"/>
              <a:ext cx="316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328080" y="5305320"/>
              <a:ext cx="19044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186600" y="4932000"/>
              <a:ext cx="42264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7" y="6290"/>
                  </a:moveTo>
                  <a:arcTo wR="10800" hR="10800" stAng="-9319049" swAng="3400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987" y="6290"/>
                  </a:moveTo>
                  <a:arcTo wR="10800" hR="10800" stAng="-9319049" swAng="34009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550200" y="4932360"/>
              <a:ext cx="42264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7" y="6290"/>
                  </a:moveTo>
                  <a:arcTo wR="10800" hR="10800" stAng="-9319049" swAng="3426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987" y="6290"/>
                  </a:moveTo>
                  <a:arcTo wR="10800" hR="10800" stAng="-9319049" swAng="34264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355080" y="4935240"/>
              <a:ext cx="37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459840" y="50464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178760" y="4941720"/>
              <a:ext cx="766800" cy="92160"/>
            </a:xfrm>
            <a:custGeom>
              <a:avLst/>
              <a:gdLst/>
              <a:ahLst/>
              <a:rect l="l" t="t" r="r" b="b"/>
              <a:pathLst>
                <a:path w="483" h="58">
                  <a:moveTo>
                    <a:pt x="0" y="55"/>
                  </a:moveTo>
                  <a:lnTo>
                    <a:pt x="7" y="46"/>
                  </a:lnTo>
                  <a:lnTo>
                    <a:pt x="21" y="29"/>
                  </a:lnTo>
                  <a:lnTo>
                    <a:pt x="37" y="21"/>
                  </a:lnTo>
                  <a:lnTo>
                    <a:pt x="48" y="13"/>
                  </a:lnTo>
                  <a:lnTo>
                    <a:pt x="71" y="5"/>
                  </a:lnTo>
                  <a:lnTo>
                    <a:pt x="84" y="2"/>
                  </a:lnTo>
                  <a:lnTo>
                    <a:pt x="94" y="0"/>
                  </a:lnTo>
                  <a:lnTo>
                    <a:pt x="482" y="0"/>
                  </a:lnTo>
                  <a:lnTo>
                    <a:pt x="459" y="4"/>
                  </a:lnTo>
                  <a:lnTo>
                    <a:pt x="450" y="6"/>
                  </a:lnTo>
                  <a:lnTo>
                    <a:pt x="446" y="6"/>
                  </a:lnTo>
                  <a:lnTo>
                    <a:pt x="442" y="8"/>
                  </a:lnTo>
                  <a:lnTo>
                    <a:pt x="438" y="10"/>
                  </a:lnTo>
                  <a:lnTo>
                    <a:pt x="433" y="13"/>
                  </a:lnTo>
                  <a:lnTo>
                    <a:pt x="429" y="16"/>
                  </a:lnTo>
                  <a:lnTo>
                    <a:pt x="426" y="20"/>
                  </a:lnTo>
                  <a:lnTo>
                    <a:pt x="422" y="21"/>
                  </a:lnTo>
                  <a:lnTo>
                    <a:pt x="418" y="24"/>
                  </a:lnTo>
                  <a:lnTo>
                    <a:pt x="413" y="26"/>
                  </a:lnTo>
                  <a:lnTo>
                    <a:pt x="409" y="29"/>
                  </a:lnTo>
                  <a:lnTo>
                    <a:pt x="406" y="33"/>
                  </a:lnTo>
                  <a:lnTo>
                    <a:pt x="402" y="35"/>
                  </a:lnTo>
                  <a:lnTo>
                    <a:pt x="398" y="37"/>
                  </a:lnTo>
                  <a:lnTo>
                    <a:pt x="395" y="41"/>
                  </a:lnTo>
                  <a:lnTo>
                    <a:pt x="391" y="44"/>
                  </a:lnTo>
                  <a:lnTo>
                    <a:pt x="389" y="48"/>
                  </a:lnTo>
                  <a:lnTo>
                    <a:pt x="389" y="52"/>
                  </a:lnTo>
                  <a:lnTo>
                    <a:pt x="388" y="57"/>
                  </a:lnTo>
                  <a:lnTo>
                    <a:pt x="0" y="5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182000" y="5032080"/>
              <a:ext cx="60660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53640" y="5305320"/>
              <a:ext cx="3312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317000" y="5305320"/>
              <a:ext cx="334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380360" y="5305320"/>
              <a:ext cx="316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442280" y="5305320"/>
              <a:ext cx="334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506000" y="5305320"/>
              <a:ext cx="3312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569360" y="5305320"/>
              <a:ext cx="334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631280" y="5305320"/>
              <a:ext cx="334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694640" y="5305320"/>
              <a:ext cx="3204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232760" y="5305320"/>
              <a:ext cx="51300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164360" y="4932000"/>
              <a:ext cx="42264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7" y="6290"/>
                  </a:moveTo>
                  <a:arcTo wR="10800" hR="10800" stAng="-9319049" swAng="3400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987" y="6290"/>
                  </a:moveTo>
                  <a:arcTo wR="10800" hR="10800" stAng="-9319049" swAng="34009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344000" y="4935240"/>
              <a:ext cx="61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386840" y="4983120"/>
              <a:ext cx="3319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425000" y="4964040"/>
              <a:ext cx="2602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425000" y="5000400"/>
              <a:ext cx="2602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480440" y="4946400"/>
              <a:ext cx="1555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480440" y="5016240"/>
              <a:ext cx="1555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751880" y="5084640"/>
              <a:ext cx="69840" cy="651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686720" y="50464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139160" y="5084640"/>
              <a:ext cx="68400" cy="651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64360" y="4932000"/>
              <a:ext cx="42264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7" y="6290"/>
                  </a:moveTo>
                  <a:arcTo wR="10800" hR="10800" stAng="-9319049" swAng="3400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987" y="6290"/>
                  </a:moveTo>
                  <a:arcTo wR="10800" hR="10800" stAng="-9319049" swAng="34009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74000" y="50464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53760" y="590040"/>
            <a:ext cx="8629560" cy="12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onfiguration Softwar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723960" y="184104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168840" indent="-168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ck Config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25160" indent="-171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and 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112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ud rate, addessing, IP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25160" indent="-171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Point hard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112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ges, filters, power-up stat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25160" indent="-171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112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ed tages, scan rat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8840" indent="-168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oubleshooting,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8840" indent="-168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NT/98/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86720" y="2790720"/>
            <a:ext cx="638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6588000" y="1703520"/>
            <a:ext cx="1878120" cy="3805200"/>
            <a:chOff x="6588000" y="1703520"/>
            <a:chExt cx="1878120" cy="3805200"/>
          </a:xfrm>
        </p:grpSpPr>
        <p:pic>
          <p:nvPicPr>
            <p:cNvPr id="1018" name="fp%20explorer%20installer" descr=""/>
            <p:cNvPicPr/>
            <p:nvPr/>
          </p:nvPicPr>
          <p:blipFill>
            <a:blip r:embed="rId1"/>
            <a:stretch/>
          </p:blipFill>
          <p:spPr>
            <a:xfrm>
              <a:off x="6588000" y="1703520"/>
              <a:ext cx="1878120" cy="38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9" name=""/>
            <p:cNvSpPr/>
            <p:nvPr/>
          </p:nvSpPr>
          <p:spPr>
            <a:xfrm>
              <a:off x="7705800" y="2800440"/>
              <a:ext cx="657000" cy="39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eldPoint OPC Server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de connectivity to softwar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integration into HMI/SCADA software pack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mlessly access server (and I/O) over the PC network (using DCO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052800" y="4998960"/>
            <a:ext cx="2719440" cy="138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3" name="" descr=""/>
          <p:cNvPicPr/>
          <p:nvPr/>
        </p:nvPicPr>
        <p:blipFill>
          <a:blip r:embed="rId1"/>
          <a:stretch/>
        </p:blipFill>
        <p:spPr>
          <a:xfrm>
            <a:off x="3147840" y="5030640"/>
            <a:ext cx="266724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79320" y="590040"/>
            <a:ext cx="7810560" cy="12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eldPoint – Summary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85800" y="200628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175680" indent="-1756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5680" indent="-1756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42080" indent="-178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install, configure, use, and maint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2080" indent="-178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5680" indent="-1756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42080" indent="-178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ial, Ethernet, and Fieldb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5680" indent="-1756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42080" indent="-178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lated, robust, wide temperature 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28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istributed I/O and Data Acquisition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8360" y="3448080"/>
          <a:ext cx="8040600" cy="22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448080"/>
                    <a:ext cx="8040600" cy="22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550880" y="3641760"/>
            <a:ext cx="5713560" cy="0"/>
          </a:xfrm>
          <a:prstGeom prst="line">
            <a:avLst/>
          </a:prstGeom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1760" y="3652920"/>
            <a:ext cx="0" cy="755640"/>
          </a:xfrm>
          <a:prstGeom prst="line">
            <a:avLst/>
          </a:prstGeom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800280" y="4227480"/>
            <a:ext cx="2067840" cy="1257480"/>
            <a:chOff x="800280" y="4227480"/>
            <a:chExt cx="2067840" cy="1257480"/>
          </a:xfrm>
        </p:grpSpPr>
        <p:sp>
          <p:nvSpPr>
            <p:cNvPr id="106" name=""/>
            <p:cNvSpPr/>
            <p:nvPr/>
          </p:nvSpPr>
          <p:spPr>
            <a:xfrm>
              <a:off x="809640" y="4334040"/>
              <a:ext cx="1907640" cy="142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0280" y="4313520"/>
              <a:ext cx="1904760" cy="27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0280" y="4480200"/>
              <a:ext cx="1911240" cy="12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47800" y="4402440"/>
              <a:ext cx="4896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29000" y="4374000"/>
              <a:ext cx="4860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19200" y="4376880"/>
              <a:ext cx="68040" cy="651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62040" y="4233960"/>
              <a:ext cx="164880" cy="424080"/>
            </a:xfrm>
            <a:custGeom>
              <a:avLst/>
              <a:gdLst/>
              <a:ahLst/>
              <a:rect l="l" t="t" r="r" b="b"/>
              <a:pathLst>
                <a:path w="104" h="267">
                  <a:moveTo>
                    <a:pt x="0" y="62"/>
                  </a:moveTo>
                  <a:lnTo>
                    <a:pt x="0" y="266"/>
                  </a:lnTo>
                  <a:lnTo>
                    <a:pt x="100" y="193"/>
                  </a:lnTo>
                  <a:lnTo>
                    <a:pt x="103" y="0"/>
                  </a:lnTo>
                  <a:lnTo>
                    <a:pt x="88" y="0"/>
                  </a:lnTo>
                  <a:lnTo>
                    <a:pt x="76" y="4"/>
                  </a:lnTo>
                  <a:lnTo>
                    <a:pt x="60" y="8"/>
                  </a:lnTo>
                  <a:lnTo>
                    <a:pt x="49" y="15"/>
                  </a:lnTo>
                  <a:lnTo>
                    <a:pt x="33" y="22"/>
                  </a:lnTo>
                  <a:lnTo>
                    <a:pt x="18" y="37"/>
                  </a:lnTo>
                  <a:lnTo>
                    <a:pt x="11" y="47"/>
                  </a:lnTo>
                  <a:lnTo>
                    <a:pt x="0" y="62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45840" y="4227480"/>
              <a:ext cx="422280" cy="32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620800" y="4237200"/>
              <a:ext cx="144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462040" y="4530960"/>
              <a:ext cx="1569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2461680" y="4354920"/>
              <a:ext cx="153720" cy="9504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461680" y="4280040"/>
              <a:ext cx="153720" cy="9396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60680" y="4258080"/>
              <a:ext cx="64800" cy="463320"/>
            </a:xfrm>
            <a:custGeom>
              <a:avLst/>
              <a:gdLst/>
              <a:ahLst/>
              <a:rect l="l" t="t" r="r" b="b"/>
              <a:pathLst>
                <a:path w="41" h="292">
                  <a:moveTo>
                    <a:pt x="0" y="291"/>
                  </a:moveTo>
                  <a:lnTo>
                    <a:pt x="40" y="249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4" y="188"/>
                  </a:lnTo>
                  <a:lnTo>
                    <a:pt x="0" y="226"/>
                  </a:lnTo>
                  <a:lnTo>
                    <a:pt x="0" y="2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27200" y="4232520"/>
              <a:ext cx="98280" cy="477720"/>
            </a:xfrm>
            <a:custGeom>
              <a:avLst/>
              <a:gdLst/>
              <a:ahLst/>
              <a:rect l="l" t="t" r="r" b="b"/>
              <a:pathLst>
                <a:path w="62" h="301">
                  <a:moveTo>
                    <a:pt x="0" y="300"/>
                  </a:moveTo>
                  <a:lnTo>
                    <a:pt x="61" y="257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52" y="194"/>
                  </a:lnTo>
                  <a:lnTo>
                    <a:pt x="0" y="2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38120" y="4608720"/>
              <a:ext cx="1176120" cy="10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2240" y="4386600"/>
              <a:ext cx="4896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28680" y="4246920"/>
              <a:ext cx="766440" cy="91800"/>
            </a:xfrm>
            <a:custGeom>
              <a:avLst/>
              <a:gdLst/>
              <a:ahLst/>
              <a:rect l="l" t="t" r="r" b="b"/>
              <a:pathLst>
                <a:path w="483" h="58">
                  <a:moveTo>
                    <a:pt x="0" y="55"/>
                  </a:moveTo>
                  <a:lnTo>
                    <a:pt x="8" y="46"/>
                  </a:lnTo>
                  <a:lnTo>
                    <a:pt x="22" y="29"/>
                  </a:lnTo>
                  <a:lnTo>
                    <a:pt x="38" y="21"/>
                  </a:lnTo>
                  <a:lnTo>
                    <a:pt x="49" y="13"/>
                  </a:lnTo>
                  <a:lnTo>
                    <a:pt x="72" y="5"/>
                  </a:lnTo>
                  <a:lnTo>
                    <a:pt x="85" y="2"/>
                  </a:lnTo>
                  <a:lnTo>
                    <a:pt x="94" y="0"/>
                  </a:lnTo>
                  <a:lnTo>
                    <a:pt x="482" y="0"/>
                  </a:lnTo>
                  <a:lnTo>
                    <a:pt x="459" y="4"/>
                  </a:lnTo>
                  <a:lnTo>
                    <a:pt x="450" y="6"/>
                  </a:lnTo>
                  <a:lnTo>
                    <a:pt x="446" y="6"/>
                  </a:lnTo>
                  <a:lnTo>
                    <a:pt x="442" y="8"/>
                  </a:lnTo>
                  <a:lnTo>
                    <a:pt x="438" y="10"/>
                  </a:lnTo>
                  <a:lnTo>
                    <a:pt x="433" y="13"/>
                  </a:lnTo>
                  <a:lnTo>
                    <a:pt x="429" y="16"/>
                  </a:lnTo>
                  <a:lnTo>
                    <a:pt x="426" y="20"/>
                  </a:lnTo>
                  <a:lnTo>
                    <a:pt x="422" y="21"/>
                  </a:lnTo>
                  <a:lnTo>
                    <a:pt x="418" y="24"/>
                  </a:lnTo>
                  <a:lnTo>
                    <a:pt x="413" y="26"/>
                  </a:lnTo>
                  <a:lnTo>
                    <a:pt x="409" y="29"/>
                  </a:lnTo>
                  <a:lnTo>
                    <a:pt x="406" y="33"/>
                  </a:lnTo>
                  <a:lnTo>
                    <a:pt x="402" y="35"/>
                  </a:lnTo>
                  <a:lnTo>
                    <a:pt x="398" y="37"/>
                  </a:lnTo>
                  <a:lnTo>
                    <a:pt x="395" y="41"/>
                  </a:lnTo>
                  <a:lnTo>
                    <a:pt x="391" y="44"/>
                  </a:lnTo>
                  <a:lnTo>
                    <a:pt x="390" y="48"/>
                  </a:lnTo>
                  <a:lnTo>
                    <a:pt x="390" y="52"/>
                  </a:lnTo>
                  <a:lnTo>
                    <a:pt x="389" y="57"/>
                  </a:lnTo>
                  <a:lnTo>
                    <a:pt x="0" y="5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33360" y="4337280"/>
              <a:ext cx="60624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05000" y="4610520"/>
              <a:ext cx="3276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6836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3028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9364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5556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9280" y="4610520"/>
              <a:ext cx="3276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82640" y="4610520"/>
              <a:ext cx="313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46360" y="4610520"/>
              <a:ext cx="313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84120" y="4610520"/>
              <a:ext cx="51264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18600" y="4240800"/>
              <a:ext cx="41940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" y="6056"/>
                  </a:moveTo>
                  <a:arcTo wR="10800" hR="10800" stAng="-9236564" swAng="334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" y="6056"/>
                  </a:moveTo>
                  <a:arcTo wR="10800" hR="10800" stAng="-9236564" swAng="33439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8600" y="4240440"/>
              <a:ext cx="61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40000" y="4287960"/>
              <a:ext cx="32976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77800" y="4268880"/>
              <a:ext cx="2584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77800" y="4305600"/>
              <a:ext cx="2584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33600" y="4251600"/>
              <a:ext cx="15336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33600" y="4321440"/>
              <a:ext cx="15336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3808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76240" y="4248360"/>
              <a:ext cx="506160" cy="87480"/>
            </a:xfrm>
            <a:custGeom>
              <a:avLst/>
              <a:gdLst/>
              <a:ahLst/>
              <a:rect l="l" t="t" r="r" b="b"/>
              <a:pathLst>
                <a:path w="319" h="55">
                  <a:moveTo>
                    <a:pt x="0" y="53"/>
                  </a:moveTo>
                  <a:lnTo>
                    <a:pt x="5" y="43"/>
                  </a:lnTo>
                  <a:lnTo>
                    <a:pt x="14" y="28"/>
                  </a:lnTo>
                  <a:lnTo>
                    <a:pt x="25" y="20"/>
                  </a:lnTo>
                  <a:lnTo>
                    <a:pt x="32" y="13"/>
                  </a:lnTo>
                  <a:lnTo>
                    <a:pt x="47" y="5"/>
                  </a:lnTo>
                  <a:lnTo>
                    <a:pt x="55" y="2"/>
                  </a:lnTo>
                  <a:lnTo>
                    <a:pt x="62" y="0"/>
                  </a:lnTo>
                  <a:lnTo>
                    <a:pt x="318" y="0"/>
                  </a:lnTo>
                  <a:lnTo>
                    <a:pt x="303" y="4"/>
                  </a:lnTo>
                  <a:lnTo>
                    <a:pt x="297" y="6"/>
                  </a:lnTo>
                  <a:lnTo>
                    <a:pt x="294" y="6"/>
                  </a:lnTo>
                  <a:lnTo>
                    <a:pt x="291" y="8"/>
                  </a:lnTo>
                  <a:lnTo>
                    <a:pt x="288" y="10"/>
                  </a:lnTo>
                  <a:lnTo>
                    <a:pt x="286" y="13"/>
                  </a:lnTo>
                  <a:lnTo>
                    <a:pt x="283" y="16"/>
                  </a:lnTo>
                  <a:lnTo>
                    <a:pt x="281" y="18"/>
                  </a:lnTo>
                  <a:lnTo>
                    <a:pt x="279" y="20"/>
                  </a:lnTo>
                  <a:lnTo>
                    <a:pt x="276" y="22"/>
                  </a:lnTo>
                  <a:lnTo>
                    <a:pt x="273" y="25"/>
                  </a:lnTo>
                  <a:lnTo>
                    <a:pt x="270" y="28"/>
                  </a:lnTo>
                  <a:lnTo>
                    <a:pt x="268" y="32"/>
                  </a:lnTo>
                  <a:lnTo>
                    <a:pt x="265" y="33"/>
                  </a:lnTo>
                  <a:lnTo>
                    <a:pt x="262" y="35"/>
                  </a:lnTo>
                  <a:lnTo>
                    <a:pt x="261" y="39"/>
                  </a:lnTo>
                  <a:lnTo>
                    <a:pt x="258" y="42"/>
                  </a:lnTo>
                  <a:lnTo>
                    <a:pt x="257" y="46"/>
                  </a:lnTo>
                  <a:lnTo>
                    <a:pt x="257" y="50"/>
                  </a:lnTo>
                  <a:lnTo>
                    <a:pt x="256" y="54"/>
                  </a:lnTo>
                  <a:lnTo>
                    <a:pt x="0" y="5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8320" y="4337280"/>
              <a:ext cx="35676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90520" y="4389840"/>
              <a:ext cx="6804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0476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68480" y="4610520"/>
              <a:ext cx="3276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31840" y="4610520"/>
              <a:ext cx="313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2160" y="4610520"/>
              <a:ext cx="19008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53560" y="4240440"/>
              <a:ext cx="42228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8600" y="4240800"/>
              <a:ext cx="41940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" y="6056"/>
                  </a:moveTo>
                  <a:arcTo wR="10800" hR="10800" stAng="-9236564" swAng="334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" y="6056"/>
                  </a:moveTo>
                  <a:arcTo wR="10800" hR="10800" stAng="-9236564" swAng="33439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22400" y="4240440"/>
              <a:ext cx="37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2392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43200" y="4246920"/>
              <a:ext cx="766440" cy="91800"/>
            </a:xfrm>
            <a:custGeom>
              <a:avLst/>
              <a:gdLst/>
              <a:ahLst/>
              <a:rect l="l" t="t" r="r" b="b"/>
              <a:pathLst>
                <a:path w="483" h="58">
                  <a:moveTo>
                    <a:pt x="0" y="55"/>
                  </a:moveTo>
                  <a:lnTo>
                    <a:pt x="7" y="46"/>
                  </a:lnTo>
                  <a:lnTo>
                    <a:pt x="21" y="29"/>
                  </a:lnTo>
                  <a:lnTo>
                    <a:pt x="37" y="21"/>
                  </a:lnTo>
                  <a:lnTo>
                    <a:pt x="48" y="13"/>
                  </a:lnTo>
                  <a:lnTo>
                    <a:pt x="71" y="5"/>
                  </a:lnTo>
                  <a:lnTo>
                    <a:pt x="84" y="2"/>
                  </a:lnTo>
                  <a:lnTo>
                    <a:pt x="94" y="0"/>
                  </a:lnTo>
                  <a:lnTo>
                    <a:pt x="482" y="0"/>
                  </a:lnTo>
                  <a:lnTo>
                    <a:pt x="459" y="4"/>
                  </a:lnTo>
                  <a:lnTo>
                    <a:pt x="450" y="6"/>
                  </a:lnTo>
                  <a:lnTo>
                    <a:pt x="446" y="6"/>
                  </a:lnTo>
                  <a:lnTo>
                    <a:pt x="442" y="8"/>
                  </a:lnTo>
                  <a:lnTo>
                    <a:pt x="438" y="10"/>
                  </a:lnTo>
                  <a:lnTo>
                    <a:pt x="433" y="13"/>
                  </a:lnTo>
                  <a:lnTo>
                    <a:pt x="429" y="16"/>
                  </a:lnTo>
                  <a:lnTo>
                    <a:pt x="426" y="20"/>
                  </a:lnTo>
                  <a:lnTo>
                    <a:pt x="422" y="21"/>
                  </a:lnTo>
                  <a:lnTo>
                    <a:pt x="418" y="24"/>
                  </a:lnTo>
                  <a:lnTo>
                    <a:pt x="413" y="26"/>
                  </a:lnTo>
                  <a:lnTo>
                    <a:pt x="409" y="29"/>
                  </a:lnTo>
                  <a:lnTo>
                    <a:pt x="406" y="33"/>
                  </a:lnTo>
                  <a:lnTo>
                    <a:pt x="402" y="35"/>
                  </a:lnTo>
                  <a:lnTo>
                    <a:pt x="398" y="37"/>
                  </a:lnTo>
                  <a:lnTo>
                    <a:pt x="395" y="41"/>
                  </a:lnTo>
                  <a:lnTo>
                    <a:pt x="391" y="44"/>
                  </a:lnTo>
                  <a:lnTo>
                    <a:pt x="389" y="48"/>
                  </a:lnTo>
                  <a:lnTo>
                    <a:pt x="389" y="52"/>
                  </a:lnTo>
                  <a:lnTo>
                    <a:pt x="388" y="57"/>
                  </a:lnTo>
                  <a:lnTo>
                    <a:pt x="0" y="5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46080" y="4337280"/>
              <a:ext cx="60624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17720" y="4610520"/>
              <a:ext cx="3276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8108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44800" y="4610520"/>
              <a:ext cx="313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06720" y="4610520"/>
              <a:ext cx="3276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7008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3344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9536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59080" y="4610520"/>
              <a:ext cx="313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97200" y="4610520"/>
              <a:ext cx="51228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31680" y="4240440"/>
              <a:ext cx="42156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11320" y="4240440"/>
              <a:ext cx="61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54160" y="4287960"/>
              <a:ext cx="3283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92320" y="4268880"/>
              <a:ext cx="2566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92320" y="4305600"/>
              <a:ext cx="2566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47760" y="4251600"/>
              <a:ext cx="1522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47760" y="4321440"/>
              <a:ext cx="1522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16320" y="4389840"/>
              <a:ext cx="6948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5116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03240" y="4389840"/>
              <a:ext cx="6804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31680" y="4240440"/>
              <a:ext cx="42156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3808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146196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53828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63368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72872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05272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12868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22408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31948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44680" y="5193000"/>
              <a:ext cx="89172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3"/>
            <a:stretch/>
          </p:blipFill>
          <p:spPr>
            <a:xfrm>
              <a:off x="1485720" y="5215320"/>
              <a:ext cx="24120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4"/>
            <a:stretch/>
          </p:blipFill>
          <p:spPr>
            <a:xfrm>
              <a:off x="1800360" y="5234400"/>
              <a:ext cx="2311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101680" y="5240520"/>
              <a:ext cx="168120" cy="187560"/>
            </a:xfrm>
            <a:prstGeom prst="ellipse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16080" y="5270760"/>
              <a:ext cx="144000" cy="125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22560" y="5263920"/>
              <a:ext cx="124920" cy="150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390920" y="2249640"/>
            <a:ext cx="0" cy="2450880"/>
          </a:xfrm>
          <a:prstGeom prst="line">
            <a:avLst/>
          </a:prstGeom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48600" y="3652920"/>
            <a:ext cx="0" cy="755640"/>
          </a:xfrm>
          <a:prstGeom prst="line">
            <a:avLst/>
          </a:prstGeom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3871800" y="1704960"/>
            <a:ext cx="2113200" cy="1757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482360" y="3608280"/>
            <a:ext cx="21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dustrial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91000" y="4227480"/>
            <a:ext cx="2068200" cy="1257480"/>
            <a:chOff x="3591000" y="4227480"/>
            <a:chExt cx="2068200" cy="1257480"/>
          </a:xfrm>
        </p:grpSpPr>
        <p:sp>
          <p:nvSpPr>
            <p:cNvPr id="194" name=""/>
            <p:cNvSpPr/>
            <p:nvPr/>
          </p:nvSpPr>
          <p:spPr>
            <a:xfrm>
              <a:off x="3600360" y="4334040"/>
              <a:ext cx="1908360" cy="142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91000" y="4313520"/>
              <a:ext cx="1904760" cy="27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91000" y="4480200"/>
              <a:ext cx="1911240" cy="12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38880" y="4402440"/>
              <a:ext cx="4896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19720" y="4374000"/>
              <a:ext cx="4932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10280" y="4376880"/>
              <a:ext cx="68040" cy="651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53120" y="4233960"/>
              <a:ext cx="164880" cy="424080"/>
            </a:xfrm>
            <a:custGeom>
              <a:avLst/>
              <a:gdLst/>
              <a:ahLst/>
              <a:rect l="l" t="t" r="r" b="b"/>
              <a:pathLst>
                <a:path w="104" h="267">
                  <a:moveTo>
                    <a:pt x="0" y="62"/>
                  </a:moveTo>
                  <a:lnTo>
                    <a:pt x="0" y="266"/>
                  </a:lnTo>
                  <a:lnTo>
                    <a:pt x="100" y="193"/>
                  </a:lnTo>
                  <a:lnTo>
                    <a:pt x="103" y="0"/>
                  </a:lnTo>
                  <a:lnTo>
                    <a:pt x="88" y="0"/>
                  </a:lnTo>
                  <a:lnTo>
                    <a:pt x="76" y="4"/>
                  </a:lnTo>
                  <a:lnTo>
                    <a:pt x="60" y="8"/>
                  </a:lnTo>
                  <a:lnTo>
                    <a:pt x="49" y="15"/>
                  </a:lnTo>
                  <a:lnTo>
                    <a:pt x="33" y="22"/>
                  </a:lnTo>
                  <a:lnTo>
                    <a:pt x="18" y="37"/>
                  </a:lnTo>
                  <a:lnTo>
                    <a:pt x="11" y="47"/>
                  </a:lnTo>
                  <a:lnTo>
                    <a:pt x="0" y="62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36920" y="4227480"/>
              <a:ext cx="422280" cy="32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5411880" y="4237200"/>
              <a:ext cx="144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253120" y="4530960"/>
              <a:ext cx="1569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252760" y="4354920"/>
              <a:ext cx="153720" cy="9504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252760" y="4280040"/>
              <a:ext cx="153720" cy="9396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51400" y="4258080"/>
              <a:ext cx="65160" cy="463320"/>
            </a:xfrm>
            <a:custGeom>
              <a:avLst/>
              <a:gdLst/>
              <a:ahLst/>
              <a:rect l="l" t="t" r="r" b="b"/>
              <a:pathLst>
                <a:path w="41" h="292">
                  <a:moveTo>
                    <a:pt x="0" y="291"/>
                  </a:moveTo>
                  <a:lnTo>
                    <a:pt x="40" y="249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4" y="188"/>
                  </a:lnTo>
                  <a:lnTo>
                    <a:pt x="0" y="226"/>
                  </a:lnTo>
                  <a:lnTo>
                    <a:pt x="0" y="2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18280" y="4232520"/>
              <a:ext cx="98280" cy="477720"/>
            </a:xfrm>
            <a:custGeom>
              <a:avLst/>
              <a:gdLst/>
              <a:ahLst/>
              <a:rect l="l" t="t" r="r" b="b"/>
              <a:pathLst>
                <a:path w="62" h="301">
                  <a:moveTo>
                    <a:pt x="0" y="300"/>
                  </a:moveTo>
                  <a:lnTo>
                    <a:pt x="61" y="257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52" y="194"/>
                  </a:lnTo>
                  <a:lnTo>
                    <a:pt x="0" y="2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29200" y="4608720"/>
              <a:ext cx="1176120" cy="10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12960" y="4386600"/>
              <a:ext cx="4932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19400" y="4246920"/>
              <a:ext cx="766800" cy="91800"/>
            </a:xfrm>
            <a:custGeom>
              <a:avLst/>
              <a:gdLst/>
              <a:ahLst/>
              <a:rect l="l" t="t" r="r" b="b"/>
              <a:pathLst>
                <a:path w="483" h="58">
                  <a:moveTo>
                    <a:pt x="0" y="55"/>
                  </a:moveTo>
                  <a:lnTo>
                    <a:pt x="8" y="46"/>
                  </a:lnTo>
                  <a:lnTo>
                    <a:pt x="22" y="29"/>
                  </a:lnTo>
                  <a:lnTo>
                    <a:pt x="38" y="21"/>
                  </a:lnTo>
                  <a:lnTo>
                    <a:pt x="49" y="13"/>
                  </a:lnTo>
                  <a:lnTo>
                    <a:pt x="72" y="5"/>
                  </a:lnTo>
                  <a:lnTo>
                    <a:pt x="85" y="2"/>
                  </a:lnTo>
                  <a:lnTo>
                    <a:pt x="94" y="0"/>
                  </a:lnTo>
                  <a:lnTo>
                    <a:pt x="482" y="0"/>
                  </a:lnTo>
                  <a:lnTo>
                    <a:pt x="459" y="4"/>
                  </a:lnTo>
                  <a:lnTo>
                    <a:pt x="450" y="6"/>
                  </a:lnTo>
                  <a:lnTo>
                    <a:pt x="446" y="6"/>
                  </a:lnTo>
                  <a:lnTo>
                    <a:pt x="442" y="8"/>
                  </a:lnTo>
                  <a:lnTo>
                    <a:pt x="438" y="10"/>
                  </a:lnTo>
                  <a:lnTo>
                    <a:pt x="433" y="13"/>
                  </a:lnTo>
                  <a:lnTo>
                    <a:pt x="429" y="16"/>
                  </a:lnTo>
                  <a:lnTo>
                    <a:pt x="426" y="20"/>
                  </a:lnTo>
                  <a:lnTo>
                    <a:pt x="422" y="21"/>
                  </a:lnTo>
                  <a:lnTo>
                    <a:pt x="418" y="24"/>
                  </a:lnTo>
                  <a:lnTo>
                    <a:pt x="413" y="26"/>
                  </a:lnTo>
                  <a:lnTo>
                    <a:pt x="409" y="29"/>
                  </a:lnTo>
                  <a:lnTo>
                    <a:pt x="406" y="33"/>
                  </a:lnTo>
                  <a:lnTo>
                    <a:pt x="402" y="35"/>
                  </a:lnTo>
                  <a:lnTo>
                    <a:pt x="398" y="37"/>
                  </a:lnTo>
                  <a:lnTo>
                    <a:pt x="395" y="41"/>
                  </a:lnTo>
                  <a:lnTo>
                    <a:pt x="391" y="44"/>
                  </a:lnTo>
                  <a:lnTo>
                    <a:pt x="390" y="48"/>
                  </a:lnTo>
                  <a:lnTo>
                    <a:pt x="390" y="52"/>
                  </a:lnTo>
                  <a:lnTo>
                    <a:pt x="389" y="57"/>
                  </a:lnTo>
                  <a:lnTo>
                    <a:pt x="0" y="5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24440" y="4337280"/>
              <a:ext cx="60624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9572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5908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2100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8472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4664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1000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7372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3708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75200" y="4610520"/>
              <a:ext cx="51264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09320" y="4240800"/>
              <a:ext cx="42012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" y="6056"/>
                  </a:moveTo>
                  <a:arcTo wR="10800" hR="10800" stAng="-9236564" swAng="334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" y="6056"/>
                  </a:moveTo>
                  <a:arcTo wR="10800" hR="10800" stAng="-9236564" swAng="33439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89320" y="4240440"/>
              <a:ext cx="6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30720" y="4287960"/>
              <a:ext cx="3301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68880" y="4268880"/>
              <a:ext cx="2584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68880" y="4305600"/>
              <a:ext cx="2584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24320" y="4251600"/>
              <a:ext cx="1540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24320" y="4321440"/>
              <a:ext cx="1540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2916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66960" y="4248360"/>
              <a:ext cx="506520" cy="87480"/>
            </a:xfrm>
            <a:custGeom>
              <a:avLst/>
              <a:gdLst/>
              <a:ahLst/>
              <a:rect l="l" t="t" r="r" b="b"/>
              <a:pathLst>
                <a:path w="319" h="55">
                  <a:moveTo>
                    <a:pt x="0" y="53"/>
                  </a:moveTo>
                  <a:lnTo>
                    <a:pt x="5" y="43"/>
                  </a:lnTo>
                  <a:lnTo>
                    <a:pt x="14" y="28"/>
                  </a:lnTo>
                  <a:lnTo>
                    <a:pt x="25" y="20"/>
                  </a:lnTo>
                  <a:lnTo>
                    <a:pt x="32" y="13"/>
                  </a:lnTo>
                  <a:lnTo>
                    <a:pt x="47" y="5"/>
                  </a:lnTo>
                  <a:lnTo>
                    <a:pt x="55" y="2"/>
                  </a:lnTo>
                  <a:lnTo>
                    <a:pt x="62" y="0"/>
                  </a:lnTo>
                  <a:lnTo>
                    <a:pt x="318" y="0"/>
                  </a:lnTo>
                  <a:lnTo>
                    <a:pt x="303" y="4"/>
                  </a:lnTo>
                  <a:lnTo>
                    <a:pt x="297" y="6"/>
                  </a:lnTo>
                  <a:lnTo>
                    <a:pt x="294" y="6"/>
                  </a:lnTo>
                  <a:lnTo>
                    <a:pt x="291" y="8"/>
                  </a:lnTo>
                  <a:lnTo>
                    <a:pt x="288" y="10"/>
                  </a:lnTo>
                  <a:lnTo>
                    <a:pt x="286" y="13"/>
                  </a:lnTo>
                  <a:lnTo>
                    <a:pt x="283" y="16"/>
                  </a:lnTo>
                  <a:lnTo>
                    <a:pt x="281" y="18"/>
                  </a:lnTo>
                  <a:lnTo>
                    <a:pt x="279" y="20"/>
                  </a:lnTo>
                  <a:lnTo>
                    <a:pt x="276" y="22"/>
                  </a:lnTo>
                  <a:lnTo>
                    <a:pt x="273" y="25"/>
                  </a:lnTo>
                  <a:lnTo>
                    <a:pt x="270" y="28"/>
                  </a:lnTo>
                  <a:lnTo>
                    <a:pt x="268" y="32"/>
                  </a:lnTo>
                  <a:lnTo>
                    <a:pt x="265" y="33"/>
                  </a:lnTo>
                  <a:lnTo>
                    <a:pt x="262" y="35"/>
                  </a:lnTo>
                  <a:lnTo>
                    <a:pt x="261" y="39"/>
                  </a:lnTo>
                  <a:lnTo>
                    <a:pt x="258" y="42"/>
                  </a:lnTo>
                  <a:lnTo>
                    <a:pt x="257" y="46"/>
                  </a:lnTo>
                  <a:lnTo>
                    <a:pt x="257" y="50"/>
                  </a:lnTo>
                  <a:lnTo>
                    <a:pt x="256" y="54"/>
                  </a:lnTo>
                  <a:lnTo>
                    <a:pt x="0" y="5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59040" y="4337280"/>
              <a:ext cx="35748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81600" y="4389840"/>
              <a:ext cx="6804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9584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5920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22560" y="4610520"/>
              <a:ext cx="3204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82880" y="4610520"/>
              <a:ext cx="19044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4640" y="4240440"/>
              <a:ext cx="42228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09320" y="4240800"/>
              <a:ext cx="42012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" y="6056"/>
                  </a:moveTo>
                  <a:arcTo wR="10800" hR="10800" stAng="-9236564" swAng="334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" y="6056"/>
                  </a:moveTo>
                  <a:arcTo wR="10800" hR="10800" stAng="-9236564" swAng="33439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13120" y="4240440"/>
              <a:ext cx="3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1464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33920" y="4246920"/>
              <a:ext cx="766800" cy="91800"/>
            </a:xfrm>
            <a:custGeom>
              <a:avLst/>
              <a:gdLst/>
              <a:ahLst/>
              <a:rect l="l" t="t" r="r" b="b"/>
              <a:pathLst>
                <a:path w="483" h="58">
                  <a:moveTo>
                    <a:pt x="0" y="55"/>
                  </a:moveTo>
                  <a:lnTo>
                    <a:pt x="7" y="46"/>
                  </a:lnTo>
                  <a:lnTo>
                    <a:pt x="21" y="29"/>
                  </a:lnTo>
                  <a:lnTo>
                    <a:pt x="37" y="21"/>
                  </a:lnTo>
                  <a:lnTo>
                    <a:pt x="48" y="13"/>
                  </a:lnTo>
                  <a:lnTo>
                    <a:pt x="71" y="5"/>
                  </a:lnTo>
                  <a:lnTo>
                    <a:pt x="84" y="2"/>
                  </a:lnTo>
                  <a:lnTo>
                    <a:pt x="94" y="0"/>
                  </a:lnTo>
                  <a:lnTo>
                    <a:pt x="482" y="0"/>
                  </a:lnTo>
                  <a:lnTo>
                    <a:pt x="459" y="4"/>
                  </a:lnTo>
                  <a:lnTo>
                    <a:pt x="450" y="6"/>
                  </a:lnTo>
                  <a:lnTo>
                    <a:pt x="446" y="6"/>
                  </a:lnTo>
                  <a:lnTo>
                    <a:pt x="442" y="8"/>
                  </a:lnTo>
                  <a:lnTo>
                    <a:pt x="438" y="10"/>
                  </a:lnTo>
                  <a:lnTo>
                    <a:pt x="433" y="13"/>
                  </a:lnTo>
                  <a:lnTo>
                    <a:pt x="429" y="16"/>
                  </a:lnTo>
                  <a:lnTo>
                    <a:pt x="426" y="20"/>
                  </a:lnTo>
                  <a:lnTo>
                    <a:pt x="422" y="21"/>
                  </a:lnTo>
                  <a:lnTo>
                    <a:pt x="418" y="24"/>
                  </a:lnTo>
                  <a:lnTo>
                    <a:pt x="413" y="26"/>
                  </a:lnTo>
                  <a:lnTo>
                    <a:pt x="409" y="29"/>
                  </a:lnTo>
                  <a:lnTo>
                    <a:pt x="406" y="33"/>
                  </a:lnTo>
                  <a:lnTo>
                    <a:pt x="402" y="35"/>
                  </a:lnTo>
                  <a:lnTo>
                    <a:pt x="398" y="37"/>
                  </a:lnTo>
                  <a:lnTo>
                    <a:pt x="395" y="41"/>
                  </a:lnTo>
                  <a:lnTo>
                    <a:pt x="391" y="44"/>
                  </a:lnTo>
                  <a:lnTo>
                    <a:pt x="389" y="48"/>
                  </a:lnTo>
                  <a:lnTo>
                    <a:pt x="389" y="52"/>
                  </a:lnTo>
                  <a:lnTo>
                    <a:pt x="388" y="57"/>
                  </a:lnTo>
                  <a:lnTo>
                    <a:pt x="0" y="5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37160" y="4337280"/>
              <a:ext cx="60624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0844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7216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3552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9744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6080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2452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8644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980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87920" y="4610520"/>
              <a:ext cx="51264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22400" y="4240440"/>
              <a:ext cx="42336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02040" y="4240440"/>
              <a:ext cx="61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44880" y="4287960"/>
              <a:ext cx="3286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83040" y="4268880"/>
              <a:ext cx="25740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83040" y="4305600"/>
              <a:ext cx="25740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38840" y="4251600"/>
              <a:ext cx="1522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38840" y="4321440"/>
              <a:ext cx="1522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07040" y="4389840"/>
              <a:ext cx="6984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4188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94320" y="4389840"/>
              <a:ext cx="6804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22400" y="4240440"/>
              <a:ext cx="42336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2916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25304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432900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442440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451944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84344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91976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501480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11020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35400" y="5193000"/>
              <a:ext cx="89208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6"/>
            <a:stretch/>
          </p:blipFill>
          <p:spPr>
            <a:xfrm>
              <a:off x="4276800" y="5215320"/>
              <a:ext cx="24120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7"/>
            <a:stretch/>
          </p:blipFill>
          <p:spPr>
            <a:xfrm>
              <a:off x="4591080" y="5234400"/>
              <a:ext cx="23184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892760" y="5240520"/>
              <a:ext cx="168120" cy="187560"/>
            </a:xfrm>
            <a:prstGeom prst="ellipse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06800" y="5270760"/>
              <a:ext cx="144720" cy="125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4913280" y="5263920"/>
              <a:ext cx="125280" cy="150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400800" y="4227480"/>
            <a:ext cx="2068200" cy="1257480"/>
            <a:chOff x="6400800" y="4227480"/>
            <a:chExt cx="2068200" cy="1257480"/>
          </a:xfrm>
        </p:grpSpPr>
        <p:sp>
          <p:nvSpPr>
            <p:cNvPr id="278" name=""/>
            <p:cNvSpPr/>
            <p:nvPr/>
          </p:nvSpPr>
          <p:spPr>
            <a:xfrm>
              <a:off x="6410160" y="4334040"/>
              <a:ext cx="1908360" cy="142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0800" y="4313520"/>
              <a:ext cx="1905120" cy="27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00800" y="4480200"/>
              <a:ext cx="1911240" cy="12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248680" y="4402440"/>
              <a:ext cx="4932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129520" y="4374000"/>
              <a:ext cx="4932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20080" y="4376880"/>
              <a:ext cx="68040" cy="651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62920" y="4233960"/>
              <a:ext cx="165240" cy="424080"/>
            </a:xfrm>
            <a:custGeom>
              <a:avLst/>
              <a:gdLst/>
              <a:ahLst/>
              <a:rect l="l" t="t" r="r" b="b"/>
              <a:pathLst>
                <a:path w="104" h="267">
                  <a:moveTo>
                    <a:pt x="0" y="62"/>
                  </a:moveTo>
                  <a:lnTo>
                    <a:pt x="0" y="266"/>
                  </a:lnTo>
                  <a:lnTo>
                    <a:pt x="100" y="193"/>
                  </a:lnTo>
                  <a:lnTo>
                    <a:pt x="103" y="0"/>
                  </a:lnTo>
                  <a:lnTo>
                    <a:pt x="88" y="0"/>
                  </a:lnTo>
                  <a:lnTo>
                    <a:pt x="76" y="4"/>
                  </a:lnTo>
                  <a:lnTo>
                    <a:pt x="60" y="8"/>
                  </a:lnTo>
                  <a:lnTo>
                    <a:pt x="49" y="15"/>
                  </a:lnTo>
                  <a:lnTo>
                    <a:pt x="33" y="22"/>
                  </a:lnTo>
                  <a:lnTo>
                    <a:pt x="18" y="37"/>
                  </a:lnTo>
                  <a:lnTo>
                    <a:pt x="11" y="47"/>
                  </a:lnTo>
                  <a:lnTo>
                    <a:pt x="0" y="62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46720" y="4227480"/>
              <a:ext cx="422280" cy="32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8221680" y="4237200"/>
              <a:ext cx="144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8062920" y="4530960"/>
              <a:ext cx="1569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8062920" y="4354920"/>
              <a:ext cx="154080" cy="9504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8062920" y="4280040"/>
              <a:ext cx="154080" cy="9396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161200" y="4258080"/>
              <a:ext cx="65160" cy="463320"/>
            </a:xfrm>
            <a:custGeom>
              <a:avLst/>
              <a:gdLst/>
              <a:ahLst/>
              <a:rect l="l" t="t" r="r" b="b"/>
              <a:pathLst>
                <a:path w="41" h="292">
                  <a:moveTo>
                    <a:pt x="0" y="291"/>
                  </a:moveTo>
                  <a:lnTo>
                    <a:pt x="40" y="249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4" y="188"/>
                  </a:lnTo>
                  <a:lnTo>
                    <a:pt x="0" y="226"/>
                  </a:lnTo>
                  <a:lnTo>
                    <a:pt x="0" y="2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128080" y="4232520"/>
              <a:ext cx="98280" cy="477720"/>
            </a:xfrm>
            <a:custGeom>
              <a:avLst/>
              <a:gdLst/>
              <a:ahLst/>
              <a:rect l="l" t="t" r="r" b="b"/>
              <a:pathLst>
                <a:path w="62" h="301">
                  <a:moveTo>
                    <a:pt x="0" y="300"/>
                  </a:moveTo>
                  <a:lnTo>
                    <a:pt x="61" y="257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52" y="194"/>
                  </a:lnTo>
                  <a:lnTo>
                    <a:pt x="0" y="2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39000" y="4608720"/>
              <a:ext cx="1176120" cy="10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23120" y="4386600"/>
              <a:ext cx="4896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29560" y="4246920"/>
              <a:ext cx="766440" cy="91800"/>
            </a:xfrm>
            <a:custGeom>
              <a:avLst/>
              <a:gdLst/>
              <a:ahLst/>
              <a:rect l="l" t="t" r="r" b="b"/>
              <a:pathLst>
                <a:path w="483" h="58">
                  <a:moveTo>
                    <a:pt x="0" y="55"/>
                  </a:moveTo>
                  <a:lnTo>
                    <a:pt x="8" y="46"/>
                  </a:lnTo>
                  <a:lnTo>
                    <a:pt x="22" y="29"/>
                  </a:lnTo>
                  <a:lnTo>
                    <a:pt x="38" y="21"/>
                  </a:lnTo>
                  <a:lnTo>
                    <a:pt x="49" y="13"/>
                  </a:lnTo>
                  <a:lnTo>
                    <a:pt x="72" y="5"/>
                  </a:lnTo>
                  <a:lnTo>
                    <a:pt x="85" y="2"/>
                  </a:lnTo>
                  <a:lnTo>
                    <a:pt x="94" y="0"/>
                  </a:lnTo>
                  <a:lnTo>
                    <a:pt x="482" y="0"/>
                  </a:lnTo>
                  <a:lnTo>
                    <a:pt x="459" y="4"/>
                  </a:lnTo>
                  <a:lnTo>
                    <a:pt x="450" y="6"/>
                  </a:lnTo>
                  <a:lnTo>
                    <a:pt x="446" y="6"/>
                  </a:lnTo>
                  <a:lnTo>
                    <a:pt x="442" y="8"/>
                  </a:lnTo>
                  <a:lnTo>
                    <a:pt x="438" y="10"/>
                  </a:lnTo>
                  <a:lnTo>
                    <a:pt x="433" y="13"/>
                  </a:lnTo>
                  <a:lnTo>
                    <a:pt x="429" y="16"/>
                  </a:lnTo>
                  <a:lnTo>
                    <a:pt x="426" y="20"/>
                  </a:lnTo>
                  <a:lnTo>
                    <a:pt x="422" y="21"/>
                  </a:lnTo>
                  <a:lnTo>
                    <a:pt x="418" y="24"/>
                  </a:lnTo>
                  <a:lnTo>
                    <a:pt x="413" y="26"/>
                  </a:lnTo>
                  <a:lnTo>
                    <a:pt x="409" y="29"/>
                  </a:lnTo>
                  <a:lnTo>
                    <a:pt x="406" y="33"/>
                  </a:lnTo>
                  <a:lnTo>
                    <a:pt x="402" y="35"/>
                  </a:lnTo>
                  <a:lnTo>
                    <a:pt x="398" y="37"/>
                  </a:lnTo>
                  <a:lnTo>
                    <a:pt x="395" y="41"/>
                  </a:lnTo>
                  <a:lnTo>
                    <a:pt x="391" y="44"/>
                  </a:lnTo>
                  <a:lnTo>
                    <a:pt x="390" y="48"/>
                  </a:lnTo>
                  <a:lnTo>
                    <a:pt x="390" y="52"/>
                  </a:lnTo>
                  <a:lnTo>
                    <a:pt x="389" y="57"/>
                  </a:lnTo>
                  <a:lnTo>
                    <a:pt x="0" y="5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34240" y="4337280"/>
              <a:ext cx="60624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0552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6924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3116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9452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5644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1980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8352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34688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85000" y="4610520"/>
              <a:ext cx="51264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19120" y="4240800"/>
              <a:ext cx="42012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" y="6056"/>
                  </a:moveTo>
                  <a:arcTo wR="10800" hR="10800" stAng="-9236564" swAng="334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" y="6056"/>
                  </a:moveTo>
                  <a:arcTo wR="10800" hR="10800" stAng="-9236564" swAng="33439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99120" y="4240440"/>
              <a:ext cx="6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040520" y="4287960"/>
              <a:ext cx="3301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78680" y="4268880"/>
              <a:ext cx="25884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78680" y="4305600"/>
              <a:ext cx="25884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34120" y="4251600"/>
              <a:ext cx="1540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34120" y="4321440"/>
              <a:ext cx="1540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3896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77120" y="4248360"/>
              <a:ext cx="506160" cy="87480"/>
            </a:xfrm>
            <a:custGeom>
              <a:avLst/>
              <a:gdLst/>
              <a:ahLst/>
              <a:rect l="l" t="t" r="r" b="b"/>
              <a:pathLst>
                <a:path w="319" h="55">
                  <a:moveTo>
                    <a:pt x="0" y="53"/>
                  </a:moveTo>
                  <a:lnTo>
                    <a:pt x="5" y="43"/>
                  </a:lnTo>
                  <a:lnTo>
                    <a:pt x="14" y="28"/>
                  </a:lnTo>
                  <a:lnTo>
                    <a:pt x="25" y="20"/>
                  </a:lnTo>
                  <a:lnTo>
                    <a:pt x="32" y="13"/>
                  </a:lnTo>
                  <a:lnTo>
                    <a:pt x="47" y="5"/>
                  </a:lnTo>
                  <a:lnTo>
                    <a:pt x="55" y="2"/>
                  </a:lnTo>
                  <a:lnTo>
                    <a:pt x="62" y="0"/>
                  </a:lnTo>
                  <a:lnTo>
                    <a:pt x="318" y="0"/>
                  </a:lnTo>
                  <a:lnTo>
                    <a:pt x="303" y="4"/>
                  </a:lnTo>
                  <a:lnTo>
                    <a:pt x="297" y="6"/>
                  </a:lnTo>
                  <a:lnTo>
                    <a:pt x="294" y="6"/>
                  </a:lnTo>
                  <a:lnTo>
                    <a:pt x="291" y="8"/>
                  </a:lnTo>
                  <a:lnTo>
                    <a:pt x="288" y="10"/>
                  </a:lnTo>
                  <a:lnTo>
                    <a:pt x="286" y="13"/>
                  </a:lnTo>
                  <a:lnTo>
                    <a:pt x="283" y="16"/>
                  </a:lnTo>
                  <a:lnTo>
                    <a:pt x="281" y="18"/>
                  </a:lnTo>
                  <a:lnTo>
                    <a:pt x="279" y="20"/>
                  </a:lnTo>
                  <a:lnTo>
                    <a:pt x="276" y="22"/>
                  </a:lnTo>
                  <a:lnTo>
                    <a:pt x="273" y="25"/>
                  </a:lnTo>
                  <a:lnTo>
                    <a:pt x="270" y="28"/>
                  </a:lnTo>
                  <a:lnTo>
                    <a:pt x="268" y="32"/>
                  </a:lnTo>
                  <a:lnTo>
                    <a:pt x="265" y="33"/>
                  </a:lnTo>
                  <a:lnTo>
                    <a:pt x="262" y="35"/>
                  </a:lnTo>
                  <a:lnTo>
                    <a:pt x="261" y="39"/>
                  </a:lnTo>
                  <a:lnTo>
                    <a:pt x="258" y="42"/>
                  </a:lnTo>
                  <a:lnTo>
                    <a:pt x="257" y="46"/>
                  </a:lnTo>
                  <a:lnTo>
                    <a:pt x="257" y="50"/>
                  </a:lnTo>
                  <a:lnTo>
                    <a:pt x="256" y="54"/>
                  </a:lnTo>
                  <a:lnTo>
                    <a:pt x="0" y="5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69200" y="4337280"/>
              <a:ext cx="35712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91400" y="4389840"/>
              <a:ext cx="6804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0564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66900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3272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93040" y="4610520"/>
              <a:ext cx="19044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54440" y="4240440"/>
              <a:ext cx="42228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19120" y="4240800"/>
              <a:ext cx="42012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" y="6056"/>
                  </a:moveTo>
                  <a:arcTo wR="10800" hR="10800" stAng="-9236564" swAng="334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" y="6056"/>
                  </a:moveTo>
                  <a:arcTo wR="10800" hR="10800" stAng="-9236564" swAng="33439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622920" y="4240440"/>
              <a:ext cx="3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72480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43720" y="4246920"/>
              <a:ext cx="766800" cy="91800"/>
            </a:xfrm>
            <a:custGeom>
              <a:avLst/>
              <a:gdLst/>
              <a:ahLst/>
              <a:rect l="l" t="t" r="r" b="b"/>
              <a:pathLst>
                <a:path w="483" h="58">
                  <a:moveTo>
                    <a:pt x="0" y="55"/>
                  </a:moveTo>
                  <a:lnTo>
                    <a:pt x="7" y="46"/>
                  </a:lnTo>
                  <a:lnTo>
                    <a:pt x="21" y="29"/>
                  </a:lnTo>
                  <a:lnTo>
                    <a:pt x="37" y="21"/>
                  </a:lnTo>
                  <a:lnTo>
                    <a:pt x="48" y="13"/>
                  </a:lnTo>
                  <a:lnTo>
                    <a:pt x="71" y="5"/>
                  </a:lnTo>
                  <a:lnTo>
                    <a:pt x="84" y="2"/>
                  </a:lnTo>
                  <a:lnTo>
                    <a:pt x="94" y="0"/>
                  </a:lnTo>
                  <a:lnTo>
                    <a:pt x="482" y="0"/>
                  </a:lnTo>
                  <a:lnTo>
                    <a:pt x="459" y="4"/>
                  </a:lnTo>
                  <a:lnTo>
                    <a:pt x="450" y="6"/>
                  </a:lnTo>
                  <a:lnTo>
                    <a:pt x="446" y="6"/>
                  </a:lnTo>
                  <a:lnTo>
                    <a:pt x="442" y="8"/>
                  </a:lnTo>
                  <a:lnTo>
                    <a:pt x="438" y="10"/>
                  </a:lnTo>
                  <a:lnTo>
                    <a:pt x="433" y="13"/>
                  </a:lnTo>
                  <a:lnTo>
                    <a:pt x="429" y="16"/>
                  </a:lnTo>
                  <a:lnTo>
                    <a:pt x="426" y="20"/>
                  </a:lnTo>
                  <a:lnTo>
                    <a:pt x="422" y="21"/>
                  </a:lnTo>
                  <a:lnTo>
                    <a:pt x="418" y="24"/>
                  </a:lnTo>
                  <a:lnTo>
                    <a:pt x="413" y="26"/>
                  </a:lnTo>
                  <a:lnTo>
                    <a:pt x="409" y="29"/>
                  </a:lnTo>
                  <a:lnTo>
                    <a:pt x="406" y="33"/>
                  </a:lnTo>
                  <a:lnTo>
                    <a:pt x="402" y="35"/>
                  </a:lnTo>
                  <a:lnTo>
                    <a:pt x="398" y="37"/>
                  </a:lnTo>
                  <a:lnTo>
                    <a:pt x="395" y="41"/>
                  </a:lnTo>
                  <a:lnTo>
                    <a:pt x="391" y="44"/>
                  </a:lnTo>
                  <a:lnTo>
                    <a:pt x="389" y="48"/>
                  </a:lnTo>
                  <a:lnTo>
                    <a:pt x="389" y="52"/>
                  </a:lnTo>
                  <a:lnTo>
                    <a:pt x="388" y="57"/>
                  </a:lnTo>
                  <a:lnTo>
                    <a:pt x="0" y="5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46960" y="4337280"/>
              <a:ext cx="60624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1824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8196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4532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70724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7096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83432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624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5960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497720" y="4610520"/>
              <a:ext cx="51264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432200" y="4240440"/>
              <a:ext cx="42336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612200" y="4240440"/>
              <a:ext cx="61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55040" y="4287960"/>
              <a:ext cx="3283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92840" y="4268880"/>
              <a:ext cx="25740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92840" y="4305600"/>
              <a:ext cx="25740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48640" y="4251600"/>
              <a:ext cx="1522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748640" y="4321440"/>
              <a:ext cx="1522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16840" y="4389840"/>
              <a:ext cx="6984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5168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04120" y="4389840"/>
              <a:ext cx="6840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32200" y="4240440"/>
              <a:ext cx="42336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3896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706284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713880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723420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732960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765324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72956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82460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92000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045200" y="5193000"/>
              <a:ext cx="89244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6" name="" descr=""/>
            <p:cNvPicPr/>
            <p:nvPr/>
          </p:nvPicPr>
          <p:blipFill>
            <a:blip r:embed="rId8"/>
            <a:stretch/>
          </p:blipFill>
          <p:spPr>
            <a:xfrm>
              <a:off x="7086600" y="5215320"/>
              <a:ext cx="24120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/>
            <p:cNvPicPr/>
            <p:nvPr/>
          </p:nvPicPr>
          <p:blipFill>
            <a:blip r:embed="rId9"/>
            <a:stretch/>
          </p:blipFill>
          <p:spPr>
            <a:xfrm>
              <a:off x="7400880" y="5234400"/>
              <a:ext cx="23184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7702560" y="5240520"/>
              <a:ext cx="168120" cy="187560"/>
            </a:xfrm>
            <a:prstGeom prst="ellipse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16960" y="5270760"/>
              <a:ext cx="144360" cy="125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7723080" y="5263920"/>
              <a:ext cx="125640" cy="150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eldPoint – Distributed I/O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854680" y="1866960"/>
            <a:ext cx="28576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-to-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rcRect l="6564" t="0" r="7577" b="0"/>
          <a:stretch/>
        </p:blipFill>
        <p:spPr>
          <a:xfrm>
            <a:off x="546120" y="1752480"/>
            <a:ext cx="482616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rcRect l="6564" t="0" r="7577" b="0"/>
          <a:stretch/>
        </p:blipFill>
        <p:spPr>
          <a:xfrm>
            <a:off x="546120" y="1752480"/>
            <a:ext cx="4826160" cy="41641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96600" y="863280"/>
            <a:ext cx="78138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odularity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768840" y="1654200"/>
            <a:ext cx="4633920" cy="1390680"/>
            <a:chOff x="3768840" y="1654200"/>
            <a:chExt cx="4633920" cy="1390680"/>
          </a:xfrm>
        </p:grpSpPr>
        <p:pic>
          <p:nvPicPr>
            <p:cNvPr id="367" name="" descr=""/>
            <p:cNvPicPr/>
            <p:nvPr/>
          </p:nvPicPr>
          <p:blipFill>
            <a:blip r:embed="rId2"/>
            <a:stretch/>
          </p:blipFill>
          <p:spPr>
            <a:xfrm>
              <a:off x="6408720" y="1987560"/>
              <a:ext cx="1994040" cy="98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8" name=""/>
            <p:cNvGrpSpPr/>
            <p:nvPr/>
          </p:nvGrpSpPr>
          <p:grpSpPr>
            <a:xfrm>
              <a:off x="3768840" y="1654200"/>
              <a:ext cx="4632120" cy="1390680"/>
              <a:chOff x="3768840" y="1654200"/>
              <a:chExt cx="4632120" cy="1390680"/>
            </a:xfrm>
          </p:grpSpPr>
          <p:sp>
            <p:nvSpPr>
              <p:cNvPr id="369" name=""/>
              <p:cNvSpPr/>
              <p:nvPr/>
            </p:nvSpPr>
            <p:spPr>
              <a:xfrm flipH="1">
                <a:off x="5328720" y="2590920"/>
                <a:ext cx="108108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416640" y="1654200"/>
                <a:ext cx="19731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aeaea"/>
                    </a:solidFill>
                    <a:latin typeface="Arial"/>
                  </a:rPr>
                  <a:t>I/O Modu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68840" y="2422440"/>
                <a:ext cx="126720" cy="127080"/>
              </a:xfrm>
              <a:prstGeom prst="ellipse">
                <a:avLst/>
              </a:prstGeom>
              <a:noFill/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4883040" y="2583000"/>
                <a:ext cx="465120" cy="360360"/>
              </a:xfrm>
              <a:prstGeom prst="line">
                <a:avLst/>
              </a:prstGeom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97360" y="2917800"/>
                <a:ext cx="127080" cy="127080"/>
              </a:xfrm>
              <a:prstGeom prst="ellipse">
                <a:avLst/>
              </a:prstGeom>
              <a:noFill/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16640" y="1663560"/>
                <a:ext cx="1984320" cy="1298880"/>
              </a:xfrm>
              <a:prstGeom prst="rect">
                <a:avLst/>
              </a:prstGeom>
              <a:noFill/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3909600" y="2495520"/>
                <a:ext cx="250020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6" name=""/>
          <p:cNvGrpSpPr/>
          <p:nvPr/>
        </p:nvGrpSpPr>
        <p:grpSpPr>
          <a:xfrm>
            <a:off x="3584520" y="2992320"/>
            <a:ext cx="4853160" cy="1355760"/>
            <a:chOff x="3584520" y="2992320"/>
            <a:chExt cx="4853160" cy="1355760"/>
          </a:xfrm>
        </p:grpSpPr>
        <p:pic>
          <p:nvPicPr>
            <p:cNvPr id="377" name="" descr=""/>
            <p:cNvPicPr/>
            <p:nvPr/>
          </p:nvPicPr>
          <p:blipFill>
            <a:blip r:embed="rId3"/>
            <a:stretch/>
          </p:blipFill>
          <p:spPr>
            <a:xfrm>
              <a:off x="6423120" y="3341520"/>
              <a:ext cx="197460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 flipH="1">
              <a:off x="3726000" y="4243320"/>
              <a:ext cx="267480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84520" y="4167360"/>
              <a:ext cx="127080" cy="126720"/>
            </a:xfrm>
            <a:prstGeom prst="ellipse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07280" y="3021120"/>
              <a:ext cx="1984320" cy="1326960"/>
            </a:xfrm>
            <a:prstGeom prst="rect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065200" y="4129200"/>
              <a:ext cx="132876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4583160" y="3841920"/>
              <a:ext cx="474480" cy="2872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89560" y="3741840"/>
              <a:ext cx="126720" cy="126720"/>
            </a:xfrm>
            <a:prstGeom prst="ellipse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50040" y="2992320"/>
              <a:ext cx="2087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"/>
                </a:rPr>
                <a:t>Terminal Ba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1432080" y="4362480"/>
            <a:ext cx="7135560" cy="1606680"/>
            <a:chOff x="1432080" y="4362480"/>
            <a:chExt cx="7135560" cy="1606680"/>
          </a:xfrm>
        </p:grpSpPr>
        <p:sp>
          <p:nvSpPr>
            <p:cNvPr id="386" name=""/>
            <p:cNvSpPr/>
            <p:nvPr/>
          </p:nvSpPr>
          <p:spPr>
            <a:xfrm>
              <a:off x="6218280" y="4362480"/>
              <a:ext cx="2349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Network Modu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2152440" y="5599080"/>
              <a:ext cx="4282920" cy="180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8" name="" descr=""/>
            <p:cNvPicPr/>
            <p:nvPr/>
          </p:nvPicPr>
          <p:blipFill>
            <a:blip r:embed="rId4"/>
            <a:stretch/>
          </p:blipFill>
          <p:spPr>
            <a:xfrm>
              <a:off x="6400800" y="4691160"/>
              <a:ext cx="20019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1432080" y="5219640"/>
              <a:ext cx="126720" cy="127080"/>
            </a:xfrm>
            <a:prstGeom prst="ellipse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1554120" y="5320800"/>
              <a:ext cx="604800" cy="26676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96120" y="4419720"/>
              <a:ext cx="2004840" cy="1549440"/>
            </a:xfrm>
            <a:prstGeom prst="rect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eldPoint – I/O Modul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93" name="family" descr=""/>
          <p:cNvPicPr/>
          <p:nvPr/>
        </p:nvPicPr>
        <p:blipFill>
          <a:blip r:embed="rId1"/>
          <a:srcRect l="23215" t="6395" r="12766" b="6872"/>
          <a:stretch/>
        </p:blipFill>
        <p:spPr>
          <a:xfrm>
            <a:off x="595440" y="2220840"/>
            <a:ext cx="3433680" cy="3481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394" name=""/>
          <p:cNvSpPr/>
          <p:nvPr/>
        </p:nvSpPr>
        <p:spPr>
          <a:xfrm>
            <a:off x="1866960" y="2741760"/>
            <a:ext cx="54100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266720" y="19558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to 16 channels/mo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lated to 3,000 V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t-swappable, plug-and-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ety of I/O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mocouples, RT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V, V (up to 36 V), 20 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rete I/O, rel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ers, PWM outpu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73200" y="63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eldPoint – I/O Op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94000" y="1866960"/>
            <a:ext cx="36594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14280" y="1739880"/>
            <a:ext cx="2622600" cy="4116240"/>
            <a:chOff x="314280" y="1739880"/>
            <a:chExt cx="2622600" cy="4116240"/>
          </a:xfrm>
        </p:grpSpPr>
        <p:sp>
          <p:nvSpPr>
            <p:cNvPr id="399" name=""/>
            <p:cNvSpPr/>
            <p:nvPr/>
          </p:nvSpPr>
          <p:spPr>
            <a:xfrm>
              <a:off x="314280" y="1739880"/>
              <a:ext cx="1914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/O Mod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6440" y="1782720"/>
              <a:ext cx="2530440" cy="407340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1" name="" descr=""/>
            <p:cNvPicPr/>
            <p:nvPr/>
          </p:nvPicPr>
          <p:blipFill>
            <a:blip r:embed="rId1"/>
            <a:srcRect l="0" t="2881" r="0" b="0"/>
            <a:stretch/>
          </p:blipFill>
          <p:spPr>
            <a:xfrm>
              <a:off x="428760" y="1857240"/>
              <a:ext cx="2508120" cy="396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2" name=""/>
          <p:cNvSpPr/>
          <p:nvPr/>
        </p:nvSpPr>
        <p:spPr>
          <a:xfrm>
            <a:off x="3226320" y="1523880"/>
            <a:ext cx="1556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/O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38280" y="5397480"/>
            <a:ext cx="782640" cy="3650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200400" y="1917720"/>
          <a:ext cx="5943600" cy="373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1917720"/>
                    <a:ext cx="59436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3213000" y="5931000"/>
          <a:ext cx="3235320" cy="8604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13000" y="5931000"/>
                    <a:ext cx="32353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 flipV="1">
            <a:off x="2781360" y="2091960"/>
            <a:ext cx="579240" cy="244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94000" y="5880240"/>
            <a:ext cx="36594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2400" y="5537160"/>
            <a:ext cx="195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erminal 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etwork Interface Op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127040" y="194328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-485 and RS-2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omux, 115 kba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hernet TCP/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Mbps and 100 M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ND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eldbus, H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bedded function bl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, AO, DI, DO, P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39960" y="1986120"/>
            <a:ext cx="2962080" cy="407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cfpnet" descr=""/>
          <p:cNvPicPr/>
          <p:nvPr/>
        </p:nvPicPr>
        <p:blipFill>
          <a:blip r:embed="rId1"/>
          <a:srcRect l="0" t="0" r="51882" b="0"/>
          <a:stretch/>
        </p:blipFill>
        <p:spPr>
          <a:xfrm>
            <a:off x="1282680" y="2374920"/>
            <a:ext cx="220032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867960"/>
            <a:ext cx="7772400" cy="606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eldPoint with RS-232/RS-485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384200" y="5765760"/>
            <a:ext cx="5245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3962520"/>
            <a:ext cx="0" cy="1828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609480" y="2590560"/>
            <a:ext cx="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609480" y="2590920"/>
            <a:ext cx="10670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2075040" cy="17193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07680" y="3505320"/>
            <a:ext cx="1017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RS-232 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RS-4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5765760"/>
            <a:ext cx="6350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895120" y="1891800"/>
            <a:ext cx="5715000" cy="23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P-1000 RS-232 Network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1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s directly to PC COM 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1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RS-485 connector to additional FP-1001 mod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P-1001 RS-485 Network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71600" y="5765760"/>
            <a:ext cx="5791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01120" y="5797440"/>
            <a:ext cx="788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RS-4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63640" y="4759200"/>
            <a:ext cx="7467480" cy="0"/>
          </a:xfrm>
          <a:prstGeom prst="line">
            <a:avLst/>
          </a:prstGeom>
          <a:ln w="12600">
            <a:solidFill>
              <a:srgbClr val="eaeaea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70400" y="4467240"/>
            <a:ext cx="220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Up to 25 banks (1,200 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893880" y="4905360"/>
            <a:ext cx="2148840" cy="666720"/>
            <a:chOff x="893880" y="4905360"/>
            <a:chExt cx="2148840" cy="666720"/>
          </a:xfrm>
        </p:grpSpPr>
        <p:sp>
          <p:nvSpPr>
            <p:cNvPr id="429" name=""/>
            <p:cNvSpPr/>
            <p:nvPr/>
          </p:nvSpPr>
          <p:spPr>
            <a:xfrm>
              <a:off x="1130040" y="5165640"/>
              <a:ext cx="375840" cy="1267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15960" y="5165640"/>
              <a:ext cx="1375920" cy="1267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07920" y="4979880"/>
              <a:ext cx="2134800" cy="108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93880" y="4962240"/>
              <a:ext cx="2142720" cy="2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93880" y="5081400"/>
              <a:ext cx="2142720" cy="205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77920" y="5013000"/>
              <a:ext cx="45720" cy="28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939600" y="5013000"/>
              <a:ext cx="45720" cy="28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74960" y="5019480"/>
              <a:ext cx="32760" cy="15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65200" y="4983120"/>
              <a:ext cx="44892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22400" y="4905360"/>
              <a:ext cx="124920" cy="33156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0" y="48"/>
                  </a:moveTo>
                  <a:lnTo>
                    <a:pt x="0" y="208"/>
                  </a:lnTo>
                  <a:lnTo>
                    <a:pt x="76" y="15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6"/>
                  </a:lnTo>
                  <a:lnTo>
                    <a:pt x="37" y="11"/>
                  </a:lnTo>
                  <a:lnTo>
                    <a:pt x="25" y="18"/>
                  </a:lnTo>
                  <a:lnTo>
                    <a:pt x="13" y="29"/>
                  </a:lnTo>
                  <a:lnTo>
                    <a:pt x="8" y="37"/>
                  </a:lnTo>
                  <a:lnTo>
                    <a:pt x="0" y="4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41776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6528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1136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5888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064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5248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000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4788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52240" y="4983120"/>
              <a:ext cx="45072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001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476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59516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6412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6891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3664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827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302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43000" y="4908240"/>
              <a:ext cx="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2818800" y="5138640"/>
              <a:ext cx="122040" cy="1015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819160" y="5002200"/>
              <a:ext cx="118800" cy="759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898720" y="4922640"/>
              <a:ext cx="47160" cy="36360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0" y="228"/>
                  </a:moveTo>
                  <a:lnTo>
                    <a:pt x="29" y="19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4" y="148"/>
                  </a:lnTo>
                  <a:lnTo>
                    <a:pt x="0" y="17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908000" y="4983120"/>
              <a:ext cx="44892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6056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28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5416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10168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4776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19528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2428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28888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01520" y="4983120"/>
              <a:ext cx="44892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2715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190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651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08000" y="4914720"/>
              <a:ext cx="60264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417320" y="5006880"/>
              <a:ext cx="6336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87160" y="5025960"/>
              <a:ext cx="355320" cy="1378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947600" y="5025960"/>
              <a:ext cx="353880" cy="137880"/>
            </a:xfrm>
            <a:custGeom>
              <a:avLst/>
              <a:gdLst/>
              <a:ahLst/>
              <a:rect l="l" t="t" r="r" b="b"/>
              <a:pathLst>
                <a:path w="223" h="87">
                  <a:moveTo>
                    <a:pt x="6" y="86"/>
                  </a:moveTo>
                  <a:lnTo>
                    <a:pt x="222" y="86"/>
                  </a:lnTo>
                  <a:lnTo>
                    <a:pt x="222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11280" y="5025960"/>
              <a:ext cx="355320" cy="1378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868400" y="5006880"/>
              <a:ext cx="6300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28840" y="5006880"/>
              <a:ext cx="6300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786040" y="5006880"/>
              <a:ext cx="6300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52240" y="4914720"/>
              <a:ext cx="57780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03320" y="4914720"/>
              <a:ext cx="57744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2819160" y="4932000"/>
              <a:ext cx="118800" cy="781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360520" y="4914720"/>
              <a:ext cx="57744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84000" y="5317920"/>
              <a:ext cx="234720" cy="254160"/>
            </a:xfrm>
            <a:prstGeom prst="upDownArrow">
              <a:avLst>
                <a:gd name="adj1" fmla="val 63509"/>
                <a:gd name="adj2" fmla="val 33838"/>
              </a:avLst>
            </a:prstGeom>
            <a:solidFill>
              <a:srgbClr val="c0c0c0"/>
            </a:solidFill>
            <a:ln w="12600">
              <a:solidFill>
                <a:srgbClr val="00cc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41200" y="5317920"/>
              <a:ext cx="234720" cy="254160"/>
            </a:xfrm>
            <a:prstGeom prst="upDownArrow">
              <a:avLst>
                <a:gd name="adj1" fmla="val 63509"/>
                <a:gd name="adj2" fmla="val 33838"/>
              </a:avLst>
            </a:prstGeom>
            <a:solidFill>
              <a:srgbClr val="c0c0c0"/>
            </a:solidFill>
            <a:ln w="12600">
              <a:solidFill>
                <a:srgbClr val="00cc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489040" y="5317920"/>
              <a:ext cx="234720" cy="254160"/>
            </a:xfrm>
            <a:prstGeom prst="upDownArrow">
              <a:avLst>
                <a:gd name="adj1" fmla="val 63509"/>
                <a:gd name="adj2" fmla="val 33838"/>
              </a:avLst>
            </a:prstGeom>
            <a:solidFill>
              <a:srgbClr val="c0c0c0"/>
            </a:solidFill>
            <a:ln w="12600">
              <a:solidFill>
                <a:srgbClr val="00cc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567240" y="4905360"/>
            <a:ext cx="2148840" cy="666720"/>
            <a:chOff x="3567240" y="4905360"/>
            <a:chExt cx="2148840" cy="666720"/>
          </a:xfrm>
        </p:grpSpPr>
        <p:sp>
          <p:nvSpPr>
            <p:cNvPr id="489" name=""/>
            <p:cNvSpPr/>
            <p:nvPr/>
          </p:nvSpPr>
          <p:spPr>
            <a:xfrm>
              <a:off x="3803400" y="5165640"/>
              <a:ext cx="375840" cy="1267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89320" y="5165640"/>
              <a:ext cx="1375920" cy="1267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81280" y="4979880"/>
              <a:ext cx="2134800" cy="108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67240" y="4962240"/>
              <a:ext cx="2142720" cy="2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567240" y="5081400"/>
              <a:ext cx="2142720" cy="205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651280" y="5013000"/>
              <a:ext cx="45720" cy="28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612960" y="5013000"/>
              <a:ext cx="45720" cy="28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48320" y="5019480"/>
              <a:ext cx="32760" cy="15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38560" y="4983120"/>
              <a:ext cx="44892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95760" y="4905360"/>
              <a:ext cx="124920" cy="33156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0" y="48"/>
                  </a:moveTo>
                  <a:lnTo>
                    <a:pt x="0" y="208"/>
                  </a:lnTo>
                  <a:lnTo>
                    <a:pt x="76" y="15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6"/>
                  </a:lnTo>
                  <a:lnTo>
                    <a:pt x="37" y="11"/>
                  </a:lnTo>
                  <a:lnTo>
                    <a:pt x="25" y="18"/>
                  </a:lnTo>
                  <a:lnTo>
                    <a:pt x="13" y="29"/>
                  </a:lnTo>
                  <a:lnTo>
                    <a:pt x="8" y="37"/>
                  </a:lnTo>
                  <a:lnTo>
                    <a:pt x="0" y="4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0911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3864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847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2322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7976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258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7336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2124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25600" y="4983120"/>
              <a:ext cx="45072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7348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2210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6852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146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36248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1000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5608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036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16360" y="4908240"/>
              <a:ext cx="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5492160" y="5138640"/>
              <a:ext cx="122040" cy="1015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492520" y="5002200"/>
              <a:ext cx="118800" cy="759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72080" y="4922640"/>
              <a:ext cx="47160" cy="36360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0" y="228"/>
                  </a:moveTo>
                  <a:lnTo>
                    <a:pt x="29" y="19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4" y="148"/>
                  </a:lnTo>
                  <a:lnTo>
                    <a:pt x="0" y="17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81360" y="4983120"/>
              <a:ext cx="44892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6339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796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275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750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211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8686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91616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9622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74880" y="4983120"/>
              <a:ext cx="44892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4488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9924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03848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81360" y="4914720"/>
              <a:ext cx="60264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90680" y="5006880"/>
              <a:ext cx="6336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60520" y="5025960"/>
              <a:ext cx="355320" cy="1378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20960" y="5025960"/>
              <a:ext cx="353880" cy="137880"/>
            </a:xfrm>
            <a:custGeom>
              <a:avLst/>
              <a:gdLst/>
              <a:ahLst/>
              <a:rect l="l" t="t" r="r" b="b"/>
              <a:pathLst>
                <a:path w="223" h="87">
                  <a:moveTo>
                    <a:pt x="6" y="86"/>
                  </a:moveTo>
                  <a:lnTo>
                    <a:pt x="222" y="86"/>
                  </a:lnTo>
                  <a:lnTo>
                    <a:pt x="222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84640" y="5025960"/>
              <a:ext cx="355320" cy="1378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541760" y="5006880"/>
              <a:ext cx="6300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02200" y="5006880"/>
              <a:ext cx="6300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459400" y="5006880"/>
              <a:ext cx="6300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25600" y="4914720"/>
              <a:ext cx="57780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76680" y="4914720"/>
              <a:ext cx="57744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5492520" y="4932000"/>
              <a:ext cx="118800" cy="781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033880" y="4914720"/>
              <a:ext cx="57744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57360" y="5317920"/>
              <a:ext cx="234720" cy="254160"/>
            </a:xfrm>
            <a:prstGeom prst="upDownArrow">
              <a:avLst>
                <a:gd name="adj1" fmla="val 63509"/>
                <a:gd name="adj2" fmla="val 33838"/>
              </a:avLst>
            </a:prstGeom>
            <a:solidFill>
              <a:srgbClr val="c0c0c0"/>
            </a:solidFill>
            <a:ln w="12600">
              <a:solidFill>
                <a:srgbClr val="00cc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714560" y="5317920"/>
              <a:ext cx="234720" cy="254160"/>
            </a:xfrm>
            <a:prstGeom prst="upDownArrow">
              <a:avLst>
                <a:gd name="adj1" fmla="val 63509"/>
                <a:gd name="adj2" fmla="val 33838"/>
              </a:avLst>
            </a:prstGeom>
            <a:solidFill>
              <a:srgbClr val="c0c0c0"/>
            </a:solidFill>
            <a:ln w="12600">
              <a:solidFill>
                <a:srgbClr val="00cc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162400" y="5317920"/>
              <a:ext cx="234720" cy="254160"/>
            </a:xfrm>
            <a:prstGeom prst="upDownArrow">
              <a:avLst>
                <a:gd name="adj1" fmla="val 63509"/>
                <a:gd name="adj2" fmla="val 33838"/>
              </a:avLst>
            </a:prstGeom>
            <a:solidFill>
              <a:srgbClr val="c0c0c0"/>
            </a:solidFill>
            <a:ln w="12600">
              <a:solidFill>
                <a:srgbClr val="00cc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132600" y="4905360"/>
            <a:ext cx="2149560" cy="666720"/>
            <a:chOff x="6132600" y="4905360"/>
            <a:chExt cx="2149560" cy="666720"/>
          </a:xfrm>
        </p:grpSpPr>
        <p:sp>
          <p:nvSpPr>
            <p:cNvPr id="549" name=""/>
            <p:cNvSpPr/>
            <p:nvPr/>
          </p:nvSpPr>
          <p:spPr>
            <a:xfrm>
              <a:off x="6369120" y="5165640"/>
              <a:ext cx="376200" cy="1267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755040" y="5165640"/>
              <a:ext cx="1376280" cy="1267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147000" y="4979880"/>
              <a:ext cx="2135160" cy="108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32600" y="4962240"/>
              <a:ext cx="2143080" cy="2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32600" y="5081400"/>
              <a:ext cx="2143080" cy="205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217000" y="5013000"/>
              <a:ext cx="46080" cy="28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78680" y="5013000"/>
              <a:ext cx="46080" cy="28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114040" y="5019480"/>
              <a:ext cx="33120" cy="15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604280" y="4983120"/>
              <a:ext cx="44928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061480" y="4905360"/>
              <a:ext cx="125280" cy="33156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0" y="48"/>
                  </a:moveTo>
                  <a:lnTo>
                    <a:pt x="0" y="208"/>
                  </a:lnTo>
                  <a:lnTo>
                    <a:pt x="76" y="15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6"/>
                  </a:lnTo>
                  <a:lnTo>
                    <a:pt x="37" y="11"/>
                  </a:lnTo>
                  <a:lnTo>
                    <a:pt x="25" y="18"/>
                  </a:lnTo>
                  <a:lnTo>
                    <a:pt x="13" y="29"/>
                  </a:lnTo>
                  <a:lnTo>
                    <a:pt x="8" y="37"/>
                  </a:lnTo>
                  <a:lnTo>
                    <a:pt x="0" y="4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6568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70436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7504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9796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84548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89156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93908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696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691320" y="4983120"/>
              <a:ext cx="45108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392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8672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3424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8032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9282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97572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218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06932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182080" y="4908240"/>
              <a:ext cx="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8058240" y="5138640"/>
              <a:ext cx="122400" cy="1015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8057880" y="5002200"/>
              <a:ext cx="119160" cy="759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137800" y="4922640"/>
              <a:ext cx="47520" cy="36360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0" y="228"/>
                  </a:moveTo>
                  <a:lnTo>
                    <a:pt x="29" y="19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4" y="148"/>
                  </a:lnTo>
                  <a:lnTo>
                    <a:pt x="0" y="17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147080" y="4983120"/>
              <a:ext cx="44928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1996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24536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932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34076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868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3436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48188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52796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40600" y="4983120"/>
              <a:ext cx="44928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106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5812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6042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247080" y="4914720"/>
              <a:ext cx="60300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56400" y="5006880"/>
              <a:ext cx="6372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26240" y="5025960"/>
              <a:ext cx="355680" cy="1378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186680" y="5025960"/>
              <a:ext cx="354240" cy="137880"/>
            </a:xfrm>
            <a:custGeom>
              <a:avLst/>
              <a:gdLst/>
              <a:ahLst/>
              <a:rect l="l" t="t" r="r" b="b"/>
              <a:pathLst>
                <a:path w="223" h="87">
                  <a:moveTo>
                    <a:pt x="6" y="86"/>
                  </a:moveTo>
                  <a:lnTo>
                    <a:pt x="222" y="86"/>
                  </a:lnTo>
                  <a:lnTo>
                    <a:pt x="222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650360" y="5025960"/>
              <a:ext cx="355680" cy="1378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07480" y="5006880"/>
              <a:ext cx="6336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567920" y="5006880"/>
              <a:ext cx="6336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025120" y="5006880"/>
              <a:ext cx="6336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691320" y="4914720"/>
              <a:ext cx="57816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142400" y="4914720"/>
              <a:ext cx="57780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8057880" y="4932000"/>
              <a:ext cx="119160" cy="781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599600" y="4914720"/>
              <a:ext cx="57780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23080" y="5317920"/>
              <a:ext cx="235080" cy="254160"/>
            </a:xfrm>
            <a:prstGeom prst="upDownArrow">
              <a:avLst>
                <a:gd name="adj1" fmla="val 63509"/>
                <a:gd name="adj2" fmla="val 33786"/>
              </a:avLst>
            </a:prstGeom>
            <a:solidFill>
              <a:srgbClr val="c0c0c0"/>
            </a:solidFill>
            <a:ln w="12600">
              <a:solidFill>
                <a:srgbClr val="00cc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80280" y="5317920"/>
              <a:ext cx="235080" cy="254160"/>
            </a:xfrm>
            <a:prstGeom prst="upDownArrow">
              <a:avLst>
                <a:gd name="adj1" fmla="val 63509"/>
                <a:gd name="adj2" fmla="val 33786"/>
              </a:avLst>
            </a:prstGeom>
            <a:solidFill>
              <a:srgbClr val="c0c0c0"/>
            </a:solidFill>
            <a:ln w="12600">
              <a:solidFill>
                <a:srgbClr val="00cc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28120" y="5317920"/>
              <a:ext cx="235080" cy="254160"/>
            </a:xfrm>
            <a:prstGeom prst="upDownArrow">
              <a:avLst>
                <a:gd name="adj1" fmla="val 63509"/>
                <a:gd name="adj2" fmla="val 33786"/>
              </a:avLst>
            </a:prstGeom>
            <a:solidFill>
              <a:srgbClr val="c0c0c0"/>
            </a:solidFill>
            <a:ln w="12600">
              <a:solidFill>
                <a:srgbClr val="00cc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4057560" y="5238720"/>
            <a:ext cx="0" cy="527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6629400" y="5238720"/>
            <a:ext cx="0" cy="527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1384200" y="5238720"/>
            <a:ext cx="0" cy="527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1238400" y="5238720"/>
            <a:ext cx="0" cy="527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Ethernet Connectivity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11760" y="1905120"/>
            <a:ext cx="49528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eaeaea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P-1600 Network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2314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P/IP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2314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0 Mbps and 100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2314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vent-driven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2314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stant data connectivity to network, intranet,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fp1600" descr=""/>
          <p:cNvPicPr/>
          <p:nvPr/>
        </p:nvPicPr>
        <p:blipFill>
          <a:blip r:embed="rId1"/>
          <a:srcRect l="16557" t="7881" r="16528" b="13799"/>
          <a:stretch/>
        </p:blipFill>
        <p:spPr>
          <a:xfrm>
            <a:off x="698400" y="1943280"/>
            <a:ext cx="2635200" cy="2747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grpSp>
        <p:nvGrpSpPr>
          <p:cNvPr id="615" name=""/>
          <p:cNvGrpSpPr/>
          <p:nvPr/>
        </p:nvGrpSpPr>
        <p:grpSpPr>
          <a:xfrm>
            <a:off x="3044880" y="5318280"/>
            <a:ext cx="442800" cy="104760"/>
            <a:chOff x="3044880" y="5318280"/>
            <a:chExt cx="442800" cy="104760"/>
          </a:xfrm>
        </p:grpSpPr>
        <p:sp>
          <p:nvSpPr>
            <p:cNvPr id="616" name=""/>
            <p:cNvSpPr/>
            <p:nvPr/>
          </p:nvSpPr>
          <p:spPr>
            <a:xfrm>
              <a:off x="3044880" y="5318280"/>
              <a:ext cx="442800" cy="104760"/>
            </a:xfrm>
            <a:prstGeom prst="cube">
              <a:avLst>
                <a:gd name="adj" fmla="val 56666"/>
              </a:avLst>
            </a:prstGeom>
            <a:solidFill>
              <a:srgbClr val="003366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07332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11760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16224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20652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5116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9544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34008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8436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 flipV="1">
            <a:off x="1944720" y="5397480"/>
            <a:ext cx="1128600" cy="200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825560" y="5559480"/>
            <a:ext cx="625320" cy="156600"/>
            <a:chOff x="1825560" y="5559480"/>
            <a:chExt cx="625320" cy="156600"/>
          </a:xfrm>
        </p:grpSpPr>
        <p:sp>
          <p:nvSpPr>
            <p:cNvPr id="627" name=""/>
            <p:cNvSpPr/>
            <p:nvPr/>
          </p:nvSpPr>
          <p:spPr>
            <a:xfrm>
              <a:off x="1878840" y="5663520"/>
              <a:ext cx="156960" cy="52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039760" y="5663520"/>
              <a:ext cx="377280" cy="525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412360" y="5606640"/>
              <a:ext cx="13680" cy="6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390400" y="5559480"/>
              <a:ext cx="52200" cy="13788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0" y="48"/>
                  </a:moveTo>
                  <a:lnTo>
                    <a:pt x="0" y="208"/>
                  </a:lnTo>
                  <a:lnTo>
                    <a:pt x="76" y="15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6"/>
                  </a:lnTo>
                  <a:lnTo>
                    <a:pt x="37" y="11"/>
                  </a:lnTo>
                  <a:lnTo>
                    <a:pt x="25" y="18"/>
                  </a:lnTo>
                  <a:lnTo>
                    <a:pt x="13" y="29"/>
                  </a:lnTo>
                  <a:lnTo>
                    <a:pt x="8" y="37"/>
                  </a:lnTo>
                  <a:lnTo>
                    <a:pt x="0" y="4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013480" y="5587560"/>
              <a:ext cx="187920" cy="104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3328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05308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07324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09232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1212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3192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15100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17116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2388600" y="5656320"/>
              <a:ext cx="50760" cy="421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2388960" y="5599440"/>
              <a:ext cx="49680" cy="316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419920" y="5564520"/>
              <a:ext cx="30960" cy="15120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0" y="228"/>
                  </a:moveTo>
                  <a:lnTo>
                    <a:pt x="29" y="19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4" y="148"/>
                  </a:lnTo>
                  <a:lnTo>
                    <a:pt x="0" y="17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203560" y="5587560"/>
              <a:ext cx="187200" cy="104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22552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4460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6440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8420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0364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32344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34324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6268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825560" y="5587560"/>
              <a:ext cx="187200" cy="104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3788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5768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97676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28080" y="5559480"/>
              <a:ext cx="2516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998720" y="559764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027880" y="5605560"/>
              <a:ext cx="148320" cy="5724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20120" y="5605560"/>
              <a:ext cx="147600" cy="57240"/>
            </a:xfrm>
            <a:custGeom>
              <a:avLst/>
              <a:gdLst/>
              <a:ahLst/>
              <a:rect l="l" t="t" r="r" b="b"/>
              <a:pathLst>
                <a:path w="223" h="87">
                  <a:moveTo>
                    <a:pt x="6" y="86"/>
                  </a:moveTo>
                  <a:lnTo>
                    <a:pt x="222" y="86"/>
                  </a:lnTo>
                  <a:lnTo>
                    <a:pt x="222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187000" y="559764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378880" y="559764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75280" y="560160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013480" y="555948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01400" y="555948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388960" y="5570280"/>
              <a:ext cx="49680" cy="324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 flipV="1">
            <a:off x="2554200" y="5397120"/>
            <a:ext cx="623880" cy="530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3257640" y="5397120"/>
            <a:ext cx="1440" cy="676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3373560" y="5392800"/>
            <a:ext cx="19080" cy="100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2311560" y="5877000"/>
            <a:ext cx="624960" cy="156600"/>
            <a:chOff x="2311560" y="5877000"/>
            <a:chExt cx="624960" cy="156600"/>
          </a:xfrm>
        </p:grpSpPr>
        <p:sp>
          <p:nvSpPr>
            <p:cNvPr id="670" name=""/>
            <p:cNvSpPr/>
            <p:nvPr/>
          </p:nvSpPr>
          <p:spPr>
            <a:xfrm>
              <a:off x="2364840" y="5981040"/>
              <a:ext cx="156600" cy="52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525760" y="5981040"/>
              <a:ext cx="377280" cy="525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98000" y="5924160"/>
              <a:ext cx="13680" cy="6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876040" y="5877000"/>
              <a:ext cx="52200" cy="13788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0" y="48"/>
                  </a:moveTo>
                  <a:lnTo>
                    <a:pt x="0" y="208"/>
                  </a:lnTo>
                  <a:lnTo>
                    <a:pt x="76" y="15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6"/>
                  </a:lnTo>
                  <a:lnTo>
                    <a:pt x="37" y="11"/>
                  </a:lnTo>
                  <a:lnTo>
                    <a:pt x="25" y="18"/>
                  </a:lnTo>
                  <a:lnTo>
                    <a:pt x="13" y="29"/>
                  </a:lnTo>
                  <a:lnTo>
                    <a:pt x="8" y="37"/>
                  </a:lnTo>
                  <a:lnTo>
                    <a:pt x="0" y="4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499480" y="5905080"/>
              <a:ext cx="187920" cy="104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1928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3908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5888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7796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9812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1792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63700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5680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2874240" y="5973840"/>
              <a:ext cx="50760" cy="421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2874600" y="5916960"/>
              <a:ext cx="49680" cy="316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905560" y="5882040"/>
              <a:ext cx="30960" cy="15120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0" y="228"/>
                  </a:moveTo>
                  <a:lnTo>
                    <a:pt x="29" y="19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4" y="148"/>
                  </a:lnTo>
                  <a:lnTo>
                    <a:pt x="0" y="17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89200" y="5905080"/>
              <a:ext cx="187200" cy="104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1116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3024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5004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76984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78928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80908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82888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84832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311560" y="5905080"/>
              <a:ext cx="186840" cy="104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42388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4368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46276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14080" y="5877000"/>
              <a:ext cx="25128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484720" y="591516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13880" y="5923080"/>
              <a:ext cx="147960" cy="5724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705760" y="5923080"/>
              <a:ext cx="147240" cy="57240"/>
            </a:xfrm>
            <a:custGeom>
              <a:avLst/>
              <a:gdLst/>
              <a:ahLst/>
              <a:rect l="l" t="t" r="r" b="b"/>
              <a:pathLst>
                <a:path w="223" h="87">
                  <a:moveTo>
                    <a:pt x="6" y="86"/>
                  </a:moveTo>
                  <a:lnTo>
                    <a:pt x="222" y="86"/>
                  </a:lnTo>
                  <a:lnTo>
                    <a:pt x="222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672640" y="591516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864880" y="591516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860920" y="591912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99480" y="587700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687400" y="587700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2874600" y="5887800"/>
              <a:ext cx="49680" cy="324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3054240" y="6016680"/>
            <a:ext cx="625320" cy="156600"/>
            <a:chOff x="3054240" y="6016680"/>
            <a:chExt cx="625320" cy="156600"/>
          </a:xfrm>
        </p:grpSpPr>
        <p:sp>
          <p:nvSpPr>
            <p:cNvPr id="710" name=""/>
            <p:cNvSpPr/>
            <p:nvPr/>
          </p:nvSpPr>
          <p:spPr>
            <a:xfrm>
              <a:off x="3107520" y="6120720"/>
              <a:ext cx="156960" cy="52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268440" y="6120720"/>
              <a:ext cx="377280" cy="525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641040" y="6063840"/>
              <a:ext cx="13680" cy="6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619080" y="6016680"/>
              <a:ext cx="52200" cy="13788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0" y="48"/>
                  </a:moveTo>
                  <a:lnTo>
                    <a:pt x="0" y="208"/>
                  </a:lnTo>
                  <a:lnTo>
                    <a:pt x="76" y="15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6"/>
                  </a:lnTo>
                  <a:lnTo>
                    <a:pt x="37" y="11"/>
                  </a:lnTo>
                  <a:lnTo>
                    <a:pt x="25" y="18"/>
                  </a:lnTo>
                  <a:lnTo>
                    <a:pt x="13" y="29"/>
                  </a:lnTo>
                  <a:lnTo>
                    <a:pt x="8" y="37"/>
                  </a:lnTo>
                  <a:lnTo>
                    <a:pt x="0" y="4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42160" y="6044760"/>
              <a:ext cx="187920" cy="104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26196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8176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30192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2100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34080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36060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37968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39984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617280" y="6113520"/>
              <a:ext cx="50760" cy="421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617640" y="6056640"/>
              <a:ext cx="49680" cy="316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648600" y="6021720"/>
              <a:ext cx="30960" cy="15120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0" y="228"/>
                  </a:moveTo>
                  <a:lnTo>
                    <a:pt x="29" y="19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4" y="148"/>
                  </a:lnTo>
                  <a:lnTo>
                    <a:pt x="0" y="17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432240" y="6044760"/>
              <a:ext cx="187200" cy="104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5420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47328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49308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1288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53232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5212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57192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59136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54240" y="6044760"/>
              <a:ext cx="187200" cy="104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16656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18636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0544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056760" y="6016680"/>
              <a:ext cx="2516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227400" y="605484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256560" y="6062760"/>
              <a:ext cx="148320" cy="5724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448800" y="6062760"/>
              <a:ext cx="147600" cy="57240"/>
            </a:xfrm>
            <a:custGeom>
              <a:avLst/>
              <a:gdLst/>
              <a:ahLst/>
              <a:rect l="l" t="t" r="r" b="b"/>
              <a:pathLst>
                <a:path w="223" h="87">
                  <a:moveTo>
                    <a:pt x="6" y="86"/>
                  </a:moveTo>
                  <a:lnTo>
                    <a:pt x="222" y="86"/>
                  </a:lnTo>
                  <a:lnTo>
                    <a:pt x="222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415680" y="605484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607560" y="605484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603960" y="605880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242160" y="601668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30080" y="601668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3617640" y="6027480"/>
              <a:ext cx="49680" cy="324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039000" y="5318280"/>
            <a:ext cx="442800" cy="104760"/>
            <a:chOff x="6039000" y="5318280"/>
            <a:chExt cx="442800" cy="104760"/>
          </a:xfrm>
        </p:grpSpPr>
        <p:sp>
          <p:nvSpPr>
            <p:cNvPr id="750" name=""/>
            <p:cNvSpPr/>
            <p:nvPr/>
          </p:nvSpPr>
          <p:spPr>
            <a:xfrm>
              <a:off x="6039000" y="5318280"/>
              <a:ext cx="442800" cy="104760"/>
            </a:xfrm>
            <a:prstGeom prst="cube">
              <a:avLst>
                <a:gd name="adj" fmla="val 56666"/>
              </a:avLst>
            </a:prstGeom>
            <a:solidFill>
              <a:srgbClr val="003366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06744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1172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15636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0064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24528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28956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33420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37848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 flipV="1">
            <a:off x="5600880" y="5397120"/>
            <a:ext cx="571320" cy="361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5238720" y="5716440"/>
            <a:ext cx="625320" cy="157320"/>
            <a:chOff x="5238720" y="5716440"/>
            <a:chExt cx="625320" cy="157320"/>
          </a:xfrm>
        </p:grpSpPr>
        <p:sp>
          <p:nvSpPr>
            <p:cNvPr id="761" name=""/>
            <p:cNvSpPr/>
            <p:nvPr/>
          </p:nvSpPr>
          <p:spPr>
            <a:xfrm>
              <a:off x="5292000" y="5820840"/>
              <a:ext cx="156960" cy="52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452920" y="5820840"/>
              <a:ext cx="377280" cy="529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25520" y="5763960"/>
              <a:ext cx="13680" cy="6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3560" y="5716440"/>
              <a:ext cx="52200" cy="13824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0" y="48"/>
                  </a:moveTo>
                  <a:lnTo>
                    <a:pt x="0" y="208"/>
                  </a:lnTo>
                  <a:lnTo>
                    <a:pt x="76" y="15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6"/>
                  </a:lnTo>
                  <a:lnTo>
                    <a:pt x="37" y="11"/>
                  </a:lnTo>
                  <a:lnTo>
                    <a:pt x="25" y="18"/>
                  </a:lnTo>
                  <a:lnTo>
                    <a:pt x="13" y="29"/>
                  </a:lnTo>
                  <a:lnTo>
                    <a:pt x="8" y="37"/>
                  </a:lnTo>
                  <a:lnTo>
                    <a:pt x="0" y="4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426640" y="5744520"/>
              <a:ext cx="187920" cy="10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4644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46624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8640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0548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52528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54508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6416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58432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5801760" y="5813640"/>
              <a:ext cx="50760" cy="421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5802120" y="5756400"/>
              <a:ext cx="49680" cy="316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833080" y="5721480"/>
              <a:ext cx="30960" cy="15156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0" y="228"/>
                  </a:moveTo>
                  <a:lnTo>
                    <a:pt x="29" y="19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4" y="148"/>
                  </a:lnTo>
                  <a:lnTo>
                    <a:pt x="0" y="17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616720" y="5744520"/>
              <a:ext cx="187200" cy="10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63868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65776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67756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69736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71680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73660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75640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77584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238720" y="5744520"/>
              <a:ext cx="187200" cy="10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5104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37084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8992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41240" y="5716440"/>
              <a:ext cx="2516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411880" y="575460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441040" y="5762520"/>
              <a:ext cx="148320" cy="5760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633280" y="5762520"/>
              <a:ext cx="147600" cy="57600"/>
            </a:xfrm>
            <a:custGeom>
              <a:avLst/>
              <a:gdLst/>
              <a:ahLst/>
              <a:rect l="l" t="t" r="r" b="b"/>
              <a:pathLst>
                <a:path w="223" h="87">
                  <a:moveTo>
                    <a:pt x="6" y="86"/>
                  </a:moveTo>
                  <a:lnTo>
                    <a:pt x="222" y="86"/>
                  </a:lnTo>
                  <a:lnTo>
                    <a:pt x="222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600160" y="575460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792040" y="575460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788440" y="575856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426640" y="571644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614560" y="571644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5802120" y="5727240"/>
              <a:ext cx="49680" cy="324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 flipV="1">
            <a:off x="5924520" y="5402160"/>
            <a:ext cx="328680" cy="601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 flipV="1">
            <a:off x="6305400" y="5397120"/>
            <a:ext cx="198720" cy="685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 flipV="1">
            <a:off x="6386040" y="5392440"/>
            <a:ext cx="390600" cy="228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5614920" y="5952960"/>
            <a:ext cx="625320" cy="157320"/>
            <a:chOff x="5614920" y="5952960"/>
            <a:chExt cx="625320" cy="157320"/>
          </a:xfrm>
        </p:grpSpPr>
        <p:sp>
          <p:nvSpPr>
            <p:cNvPr id="804" name=""/>
            <p:cNvSpPr/>
            <p:nvPr/>
          </p:nvSpPr>
          <p:spPr>
            <a:xfrm>
              <a:off x="5668200" y="6057360"/>
              <a:ext cx="156960" cy="52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29120" y="6057360"/>
              <a:ext cx="377280" cy="529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201720" y="6000480"/>
              <a:ext cx="13680" cy="6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179760" y="5952960"/>
              <a:ext cx="52200" cy="13824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0" y="48"/>
                  </a:moveTo>
                  <a:lnTo>
                    <a:pt x="0" y="208"/>
                  </a:lnTo>
                  <a:lnTo>
                    <a:pt x="76" y="15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6"/>
                  </a:lnTo>
                  <a:lnTo>
                    <a:pt x="37" y="11"/>
                  </a:lnTo>
                  <a:lnTo>
                    <a:pt x="25" y="18"/>
                  </a:lnTo>
                  <a:lnTo>
                    <a:pt x="13" y="29"/>
                  </a:lnTo>
                  <a:lnTo>
                    <a:pt x="8" y="37"/>
                  </a:lnTo>
                  <a:lnTo>
                    <a:pt x="0" y="4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802840" y="5981040"/>
              <a:ext cx="187920" cy="10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82264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84244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86260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88168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90148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92128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4036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6052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6177960" y="6050160"/>
              <a:ext cx="50760" cy="421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178320" y="5992920"/>
              <a:ext cx="49680" cy="316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209280" y="5958000"/>
              <a:ext cx="30960" cy="15156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0" y="228"/>
                  </a:moveTo>
                  <a:lnTo>
                    <a:pt x="29" y="19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4" y="148"/>
                  </a:lnTo>
                  <a:lnTo>
                    <a:pt x="0" y="17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92920" y="5981040"/>
              <a:ext cx="187200" cy="10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01488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03396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05376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7356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9300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11280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13260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15204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14920" y="5981040"/>
              <a:ext cx="187200" cy="10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72724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4704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76612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617440" y="5952960"/>
              <a:ext cx="2516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788080" y="599112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817240" y="5999040"/>
              <a:ext cx="148320" cy="5760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009480" y="5999040"/>
              <a:ext cx="147600" cy="57600"/>
            </a:xfrm>
            <a:custGeom>
              <a:avLst/>
              <a:gdLst/>
              <a:ahLst/>
              <a:rect l="l" t="t" r="r" b="b"/>
              <a:pathLst>
                <a:path w="223" h="87">
                  <a:moveTo>
                    <a:pt x="6" y="86"/>
                  </a:moveTo>
                  <a:lnTo>
                    <a:pt x="222" y="86"/>
                  </a:lnTo>
                  <a:lnTo>
                    <a:pt x="222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976360" y="599112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168240" y="599112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164640" y="599508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802840" y="595296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990760" y="595296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6178320" y="5963760"/>
              <a:ext cx="49680" cy="324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6315120" y="6064200"/>
            <a:ext cx="624960" cy="157320"/>
            <a:chOff x="6315120" y="6064200"/>
            <a:chExt cx="624960" cy="157320"/>
          </a:xfrm>
        </p:grpSpPr>
        <p:sp>
          <p:nvSpPr>
            <p:cNvPr id="844" name=""/>
            <p:cNvSpPr/>
            <p:nvPr/>
          </p:nvSpPr>
          <p:spPr>
            <a:xfrm>
              <a:off x="6368400" y="6168600"/>
              <a:ext cx="156600" cy="52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529320" y="6168600"/>
              <a:ext cx="377280" cy="529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901560" y="6111720"/>
              <a:ext cx="13680" cy="6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879600" y="6064200"/>
              <a:ext cx="52200" cy="13824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0" y="48"/>
                  </a:moveTo>
                  <a:lnTo>
                    <a:pt x="0" y="208"/>
                  </a:lnTo>
                  <a:lnTo>
                    <a:pt x="76" y="15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6"/>
                  </a:lnTo>
                  <a:lnTo>
                    <a:pt x="37" y="11"/>
                  </a:lnTo>
                  <a:lnTo>
                    <a:pt x="25" y="18"/>
                  </a:lnTo>
                  <a:lnTo>
                    <a:pt x="13" y="29"/>
                  </a:lnTo>
                  <a:lnTo>
                    <a:pt x="8" y="37"/>
                  </a:lnTo>
                  <a:lnTo>
                    <a:pt x="0" y="4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503040" y="6092280"/>
              <a:ext cx="187920" cy="10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52284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54264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56244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58152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60168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62148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64056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6036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6877800" y="6161400"/>
              <a:ext cx="50760" cy="421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6878160" y="6104160"/>
              <a:ext cx="49680" cy="316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909120" y="6069240"/>
              <a:ext cx="30960" cy="15156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0" y="228"/>
                  </a:moveTo>
                  <a:lnTo>
                    <a:pt x="29" y="19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4" y="148"/>
                  </a:lnTo>
                  <a:lnTo>
                    <a:pt x="0" y="17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692760" y="6092280"/>
              <a:ext cx="187200" cy="10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71472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3380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5360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77340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79284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81264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3244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5188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315120" y="6092280"/>
              <a:ext cx="186840" cy="10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42744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44724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46632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317640" y="6064200"/>
              <a:ext cx="25128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88280" y="610236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517440" y="6110280"/>
              <a:ext cx="147960" cy="5760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09320" y="6110280"/>
              <a:ext cx="147240" cy="57600"/>
            </a:xfrm>
            <a:custGeom>
              <a:avLst/>
              <a:gdLst/>
              <a:ahLst/>
              <a:rect l="l" t="t" r="r" b="b"/>
              <a:pathLst>
                <a:path w="223" h="87">
                  <a:moveTo>
                    <a:pt x="6" y="86"/>
                  </a:moveTo>
                  <a:lnTo>
                    <a:pt x="222" y="86"/>
                  </a:lnTo>
                  <a:lnTo>
                    <a:pt x="222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676200" y="610236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68440" y="610236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64480" y="610632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503040" y="606420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90960" y="606420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6878160" y="6075000"/>
              <a:ext cx="49680" cy="324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4213080" y="4822920"/>
            <a:ext cx="443160" cy="104760"/>
            <a:chOff x="4213080" y="4822920"/>
            <a:chExt cx="443160" cy="104760"/>
          </a:xfrm>
        </p:grpSpPr>
        <p:sp>
          <p:nvSpPr>
            <p:cNvPr id="884" name=""/>
            <p:cNvSpPr/>
            <p:nvPr/>
          </p:nvSpPr>
          <p:spPr>
            <a:xfrm>
              <a:off x="4213080" y="4822920"/>
              <a:ext cx="443160" cy="104760"/>
            </a:xfrm>
            <a:prstGeom prst="cube">
              <a:avLst>
                <a:gd name="adj" fmla="val 56666"/>
              </a:avLst>
            </a:prstGeom>
            <a:solidFill>
              <a:srgbClr val="003366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41880" y="4899240"/>
              <a:ext cx="1908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86160" y="4899240"/>
              <a:ext cx="1908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330800" y="4899240"/>
              <a:ext cx="1908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375080" y="4899240"/>
              <a:ext cx="1908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419720" y="4899240"/>
              <a:ext cx="1908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464000" y="4899240"/>
              <a:ext cx="1908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508640" y="4899240"/>
              <a:ext cx="1908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552920" y="4899240"/>
              <a:ext cx="1908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"/>
          <p:cNvSpPr/>
          <p:nvPr/>
        </p:nvSpPr>
        <p:spPr>
          <a:xfrm flipV="1">
            <a:off x="3381480" y="4901760"/>
            <a:ext cx="863640" cy="585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PC1" descr=""/>
          <p:cNvPicPr/>
          <p:nvPr/>
        </p:nvPicPr>
        <p:blipFill>
          <a:blip r:embed="rId2"/>
          <a:stretch/>
        </p:blipFill>
        <p:spPr>
          <a:xfrm>
            <a:off x="6683400" y="5489640"/>
            <a:ext cx="511200" cy="39852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 flipV="1">
            <a:off x="4119480" y="4902120"/>
            <a:ext cx="230400" cy="557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6" name="PC1" descr=""/>
          <p:cNvPicPr/>
          <p:nvPr/>
        </p:nvPicPr>
        <p:blipFill>
          <a:blip r:embed="rId3"/>
          <a:stretch/>
        </p:blipFill>
        <p:spPr>
          <a:xfrm>
            <a:off x="3848040" y="5227560"/>
            <a:ext cx="511200" cy="39852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 flipH="1" flipV="1">
            <a:off x="4473720" y="4902120"/>
            <a:ext cx="164880" cy="371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8" name="PC1" descr=""/>
          <p:cNvPicPr/>
          <p:nvPr/>
        </p:nvPicPr>
        <p:blipFill>
          <a:blip r:embed="rId4"/>
          <a:stretch/>
        </p:blipFill>
        <p:spPr>
          <a:xfrm>
            <a:off x="4473720" y="5094360"/>
            <a:ext cx="511200" cy="39852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 flipH="1" flipV="1">
            <a:off x="4564080" y="4906800"/>
            <a:ext cx="1512720" cy="486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48040" y="5727600"/>
            <a:ext cx="12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0Base-T or 100Base-T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Anamita Mukherjee</dc:creator>
  <dc:description/>
  <dc:language>en-US</dc:language>
  <cp:lastModifiedBy>David Potter</cp:lastModifiedBy>
  <cp:lastPrinted>1997-05-07T17:45:50Z</cp:lastPrinted>
  <dcterms:modified xsi:type="dcterms:W3CDTF">1999-07-27T22:39:30Z</dcterms:modified>
  <cp:revision>67</cp:revision>
  <dc:subject>FieldPoint</dc:subject>
  <dc:title>Industrial Solutions Using Advanced PC Technologies</dc:title>
</cp:coreProperties>
</file>