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46.jpeg" ContentType="image/jpe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44.jpeg" ContentType="image/jpeg"/>
  <Override PartName="/ppt/media/image45.png" ContentType="image/png"/>
  <Override PartName="/ppt/media/image1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CCB4-B47F-4283-B088-A34FF7A28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91DA-F6B7-4B70-9F3A-083AF8563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9980-1ED7-425A-BB82-908F4F26D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0AFC-9382-4A32-B629-72F0AFC66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9D6B-D42F-4EB1-9D67-ACB19FCEFF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01A03-854E-493A-BAB1-AF34A05DD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7C8A4-C70F-45C6-A4B6-B1F36D02AC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F43D0-EBA3-4773-9A46-2995CD65E2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DEEE-1694-4568-AE0A-39A6DC130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B222D-1F46-4CC3-B79A-C81B23E6DA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FB14D-42AC-4FE8-AA7F-7E0A949FD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9B97-4C5C-40FD-ACE0-68010CC61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4E80-0317-4C68-B24D-40CF0B9B5C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C887-12C9-40D3-ADB0-161090B913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9D09-1C66-46B5-81A6-805BFB7D5D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97A79-9BBE-4F56-A038-EAA211505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45970-DC5F-491D-BB5C-D74867266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78FB-82DD-4998-9C40-8D1644365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28C35-88FA-4C1A-ADD3-A6D3F9BF3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725E-56D2-4AC9-B1E0-1D29A18E1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A703-7C6F-433D-B7E4-0DDF8891F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3D1A-410F-46A0-A3DF-EC0EB18BA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01DF-1265-4024-A6D3-17B4E38B5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81EE-522D-46BC-A063-3CF067F3A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ABF-97F3-40A6-9B66-9FE34E13E4E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89768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b a c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520120" y="662940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n e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135920" y="663084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h o m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3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2C7C-52D2-41F5-B872-3F0DD9AEBD4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5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png"/><Relationship Id="rId7" Type="http://schemas.openxmlformats.org/officeDocument/2006/relationships/image" Target="../media/image32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3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image" Target="../media/image3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1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9.png"/><Relationship Id="rId10" Type="http://schemas.openxmlformats.org/officeDocument/2006/relationships/image" Target="../media/image31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1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11.png"/><Relationship Id="rId8" Type="http://schemas.openxmlformats.org/officeDocument/2006/relationships/image" Target="../media/image31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4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480" y="28951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G. Schmitt, P.E., JGS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A. Nelson, Nelson Acoust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666520" y="4064040"/>
            <a:ext cx="6172200" cy="26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 is defined as the amount of sound power per square meter passing through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7640" y="2540160"/>
            <a:ext cx="6019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38040" indent="-33804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ower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basic%20electric%20heater_crop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314440" cy="3352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19920" y="6172200"/>
            <a:ext cx="2361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 He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4267080"/>
            <a:ext cx="761760" cy="533520"/>
          </a:xfrm>
          <a:prstGeom prst="rightArrow">
            <a:avLst>
              <a:gd name="adj1" fmla="val 50000"/>
              <a:gd name="adj2" fmla="val 35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9040" y="3162240"/>
            <a:ext cx="2819520" cy="25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 to the local hardware store and buy a 75 degree Fahrenheit spac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86" name="arctic%20landscape_edited" descr=""/>
            <p:cNvPicPr/>
            <p:nvPr/>
          </p:nvPicPr>
          <p:blipFill>
            <a:blip r:embed="rId2"/>
            <a:srcRect l="0" t="17912" r="0" b="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086280" y="2610000"/>
              <a:ext cx="548640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Arctic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annot maintain desired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rcRect l="39206" t="15571" r="50792" b="44395"/>
          <a:stretch/>
        </p:blipFill>
        <p:spPr>
          <a:xfrm>
            <a:off x="5295960" y="37386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rcRect l="39206" t="13346" r="50792" b="46619"/>
          <a:stretch/>
        </p:blipFill>
        <p:spPr>
          <a:xfrm>
            <a:off x="6845400" y="4672080"/>
            <a:ext cx="547560" cy="1646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rcRect l="39206" t="13346" r="50792" b="46619"/>
          <a:stretch/>
        </p:blipFill>
        <p:spPr>
          <a:xfrm>
            <a:off x="8394840" y="4672080"/>
            <a:ext cx="547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2590920" y="2514600"/>
            <a:ext cx="6553080" cy="4343400"/>
            <a:chOff x="2590920" y="2514600"/>
            <a:chExt cx="6553080" cy="4343400"/>
          </a:xfrm>
        </p:grpSpPr>
        <p:pic>
          <p:nvPicPr>
            <p:cNvPr id="295" name="sahara-x" descr=""/>
            <p:cNvPicPr/>
            <p:nvPr/>
          </p:nvPicPr>
          <p:blipFill>
            <a:blip r:embed="rId2"/>
            <a:srcRect l="0" t="0" r="3558" b="9960"/>
            <a:stretch/>
          </p:blipFill>
          <p:spPr>
            <a:xfrm>
              <a:off x="2590920" y="2514600"/>
              <a:ext cx="655308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257720" y="2666880"/>
              <a:ext cx="4657680" cy="86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the Desert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mbient temperature dominat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basic%20electric%20heater_crop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57800" y="5410080"/>
            <a:ext cx="657360" cy="952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rcRect l="38368" t="15571" r="51622" b="44395"/>
          <a:stretch/>
        </p:blipFill>
        <p:spPr>
          <a:xfrm>
            <a:off x="5326200" y="3700440"/>
            <a:ext cx="549000" cy="164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rcRect l="39206" t="13346" r="50788" b="46619"/>
          <a:stretch/>
        </p:blipFill>
        <p:spPr>
          <a:xfrm>
            <a:off x="6873840" y="4815000"/>
            <a:ext cx="549360" cy="1646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rcRect l="39206" t="13346" r="50788" b="46619"/>
          <a:stretch/>
        </p:blipFill>
        <p:spPr>
          <a:xfrm>
            <a:off x="8421840" y="4824360"/>
            <a:ext cx="549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629240" y="3591000"/>
            <a:ext cx="1904760" cy="2971800"/>
            <a:chOff x="4629240" y="3591000"/>
            <a:chExt cx="1904760" cy="2971800"/>
          </a:xfrm>
        </p:grpSpPr>
        <p:sp>
          <p:nvSpPr>
            <p:cNvPr id="304" name=""/>
            <p:cNvSpPr/>
            <p:nvPr/>
          </p:nvSpPr>
          <p:spPr>
            <a:xfrm>
              <a:off x="4629240" y="3591000"/>
              <a:ext cx="1904760" cy="2971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3080" y="3655440"/>
              <a:ext cx="1836720" cy="284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19320" y="2666880"/>
            <a:ext cx="52866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Small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basic%20electric%20heater_crop" descr=""/>
          <p:cNvPicPr/>
          <p:nvPr/>
        </p:nvPicPr>
        <p:blipFill>
          <a:blip r:embed="rId2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39206" t="11122" r="50792" b="48844"/>
          <a:stretch/>
        </p:blipFill>
        <p:spPr>
          <a:xfrm>
            <a:off x="5354640" y="3747960"/>
            <a:ext cx="549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66880" y="3800520"/>
            <a:ext cx="6343560" cy="2876400"/>
            <a:chOff x="2666880" y="3800520"/>
            <a:chExt cx="6343560" cy="2876400"/>
          </a:xfrm>
        </p:grpSpPr>
        <p:sp>
          <p:nvSpPr>
            <p:cNvPr id="312" name=""/>
            <p:cNvSpPr/>
            <p:nvPr/>
          </p:nvSpPr>
          <p:spPr>
            <a:xfrm>
              <a:off x="2666880" y="3800520"/>
              <a:ext cx="6343560" cy="28764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0280" y="3862800"/>
              <a:ext cx="6117120" cy="27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30600" y="3867120"/>
            <a:ext cx="6143040" cy="2739960"/>
            <a:chOff x="2730600" y="3867120"/>
            <a:chExt cx="6143040" cy="2739960"/>
          </a:xfrm>
        </p:grpSpPr>
        <p:sp>
          <p:nvSpPr>
            <p:cNvPr id="315" name=""/>
            <p:cNvSpPr/>
            <p:nvPr/>
          </p:nvSpPr>
          <p:spPr>
            <a:xfrm>
              <a:off x="2730600" y="3867120"/>
              <a:ext cx="6143040" cy="2739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0040" y="3926880"/>
              <a:ext cx="5923800" cy="26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basic%20electric%20heater_crop" descr=""/>
          <p:cNvPicPr/>
          <p:nvPr/>
        </p:nvPicPr>
        <p:blipFill>
          <a:blip r:embed="rId2"/>
          <a:stretch/>
        </p:blipFill>
        <p:spPr>
          <a:xfrm>
            <a:off x="5578560" y="6124680"/>
            <a:ext cx="223920" cy="323640"/>
          </a:xfrm>
          <a:prstGeom prst="rect">
            <a:avLst/>
          </a:prstGeom>
          <a:ln w="0">
            <a:noFill/>
          </a:ln>
        </p:spPr>
      </p:pic>
      <p:pic>
        <p:nvPicPr>
          <p:cNvPr id="318" name="basic%20electric%20heater_crop" descr=""/>
          <p:cNvPicPr/>
          <p:nvPr/>
        </p:nvPicPr>
        <p:blipFill>
          <a:blip r:embed="rId3"/>
          <a:stretch/>
        </p:blipFill>
        <p:spPr>
          <a:xfrm>
            <a:off x="5254560" y="5410080"/>
            <a:ext cx="736560" cy="1067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62240" y="2797200"/>
            <a:ext cx="520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a Large 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ired temperature canno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39206" t="15571" r="52460" b="44395"/>
          <a:stretch/>
        </p:blipFill>
        <p:spPr>
          <a:xfrm>
            <a:off x="7182000" y="4338720"/>
            <a:ext cx="457200" cy="1646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rcRect l="39206" t="11122" r="52456" b="48844"/>
          <a:stretch/>
        </p:blipFill>
        <p:spPr>
          <a:xfrm>
            <a:off x="7180200" y="4348080"/>
            <a:ext cx="4572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ace Heater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590920"/>
            <a:ext cx="1600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86120" y="4638600"/>
            <a:ext cx="2286000" cy="19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mper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 a function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eater powe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tance from he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rmal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bient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257800" y="4638600"/>
            <a:ext cx="3048120" cy="1945080"/>
            <a:chOff x="5257800" y="4638600"/>
            <a:chExt cx="3048120" cy="1945080"/>
          </a:xfrm>
        </p:grpSpPr>
        <p:sp>
          <p:nvSpPr>
            <p:cNvPr id="328" name=""/>
            <p:cNvSpPr/>
            <p:nvPr/>
          </p:nvSpPr>
          <p:spPr>
            <a:xfrm>
              <a:off x="6019920" y="4638600"/>
              <a:ext cx="2286000" cy="19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ound Pres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s a function of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ource sound p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istance from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coustical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mbient sound lev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700360" y="2724120"/>
            <a:ext cx="6148440" cy="1152720"/>
            <a:chOff x="2700360" y="2724120"/>
            <a:chExt cx="6148440" cy="1152720"/>
          </a:xfrm>
        </p:grpSpPr>
        <p:sp>
          <p:nvSpPr>
            <p:cNvPr id="332" name=""/>
            <p:cNvSpPr/>
            <p:nvPr/>
          </p:nvSpPr>
          <p:spPr>
            <a:xfrm>
              <a:off x="3333600" y="3143160"/>
              <a:ext cx="19717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eater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TU, 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15240" y="3143160"/>
              <a:ext cx="1933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ow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Wat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276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basic%20electric%20heater_crop" descr=""/>
            <p:cNvPicPr/>
            <p:nvPr/>
          </p:nvPicPr>
          <p:blipFill>
            <a:blip r:embed="rId3"/>
            <a:stretch/>
          </p:blipFill>
          <p:spPr>
            <a:xfrm>
              <a:off x="2700360" y="2724120"/>
              <a:ext cx="6573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962680" y="3019320"/>
              <a:ext cx="819000" cy="8575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76400" y="3757680"/>
            <a:ext cx="6267600" cy="817560"/>
            <a:chOff x="2876400" y="3757680"/>
            <a:chExt cx="6267600" cy="817560"/>
          </a:xfrm>
        </p:grpSpPr>
        <p:sp>
          <p:nvSpPr>
            <p:cNvPr id="338" name=""/>
            <p:cNvSpPr/>
            <p:nvPr/>
          </p:nvSpPr>
          <p:spPr>
            <a:xfrm>
              <a:off x="3400560" y="3952800"/>
              <a:ext cx="1876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34320" y="3952800"/>
              <a:ext cx="2209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und Press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67160" y="39909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4"/>
            <a:srcRect l="39206" t="15571" r="50792" b="44395"/>
            <a:stretch/>
          </p:blipFill>
          <p:spPr>
            <a:xfrm>
              <a:off x="2876400" y="3757680"/>
              <a:ext cx="2732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153120" y="4029120"/>
              <a:ext cx="362160" cy="342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43200" y="3809880"/>
            <a:ext cx="5943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666880" y="4495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Sound Pow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relationship reduces range of magnitudes and tracks human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327672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0 * log (W/W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743200" y="4267080"/>
            <a:ext cx="6019920" cy="14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14600" y="1981080"/>
            <a:ext cx="5029200" cy="3962520"/>
            <a:chOff x="2514600" y="1981080"/>
            <a:chExt cx="5029200" cy="3962520"/>
          </a:xfrm>
        </p:grpSpPr>
        <p:sp>
          <p:nvSpPr>
            <p:cNvPr id="355" name=""/>
            <p:cNvSpPr/>
            <p:nvPr/>
          </p:nvSpPr>
          <p:spPr>
            <a:xfrm>
              <a:off x="2514600" y="1981080"/>
              <a:ext cx="5029200" cy="3962520"/>
            </a:xfrm>
            <a:prstGeom prst="cloudCallout">
              <a:avLst>
                <a:gd name="adj1" fmla="val -35101"/>
                <a:gd name="adj2" fmla="val -4055"/>
              </a:avLst>
            </a:prstGeom>
            <a:solidFill>
              <a:srgbClr val="ffff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2040" y="3324600"/>
              <a:ext cx="114516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36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76920" y="3457440"/>
            <a:ext cx="495360" cy="495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16280" y="3225960"/>
            <a:ext cx="987480" cy="98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86320" y="3110040"/>
            <a:ext cx="1233360" cy="12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4560" y="2992320"/>
            <a:ext cx="1481040" cy="148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24240" y="2876400"/>
            <a:ext cx="172728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779560"/>
            <a:ext cx="194472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11760" y="2558880"/>
            <a:ext cx="2377800" cy="2378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1523880" cy="1219320"/>
          </a:xfrm>
          <a:prstGeom prst="borderCallout2">
            <a:avLst>
              <a:gd name="adj1" fmla="val 18750"/>
              <a:gd name="adj2" fmla="val -8333"/>
              <a:gd name="adj3" fmla="val 9240"/>
              <a:gd name="adj4" fmla="val 153231"/>
              <a:gd name="adj5" fmla="val -23671"/>
              <a:gd name="adj6" fmla="val 203328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distributed over spherical surfac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rea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2286000"/>
            <a:ext cx="1077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Fre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038480" y="2666880"/>
            <a:ext cx="2211480" cy="2210040"/>
            <a:chOff x="4038480" y="2666880"/>
            <a:chExt cx="2211480" cy="2210040"/>
          </a:xfrm>
        </p:grpSpPr>
        <p:grpSp>
          <p:nvGrpSpPr>
            <p:cNvPr id="373" name=""/>
            <p:cNvGrpSpPr/>
            <p:nvPr/>
          </p:nvGrpSpPr>
          <p:grpSpPr>
            <a:xfrm>
              <a:off x="4038480" y="2666880"/>
              <a:ext cx="2211480" cy="2210040"/>
              <a:chOff x="4038480" y="2666880"/>
              <a:chExt cx="2211480" cy="2210040"/>
            </a:xfrm>
          </p:grpSpPr>
          <p:sp>
            <p:nvSpPr>
              <p:cNvPr id="374" name=""/>
              <p:cNvSpPr/>
              <p:nvPr/>
            </p:nvSpPr>
            <p:spPr>
              <a:xfrm>
                <a:off x="4038480" y="2666880"/>
                <a:ext cx="2211480" cy="2210040"/>
              </a:xfrm>
              <a:prstGeom prst="donut">
                <a:avLst>
                  <a:gd name="adj" fmla="val 3237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8120" y="3733920"/>
                <a:ext cx="11145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486400" y="3276720"/>
              <a:ext cx="457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cc"/>
                  </a:solidFill>
                  <a:latin typeface="Arial Black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95280" y="1793880"/>
            <a:ext cx="167652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60888"/>
              <a:gd name="adj5" fmla="val 181907"/>
              <a:gd name="adj6" fmla="val 21940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 uniform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5410080"/>
            <a:ext cx="1904760" cy="57996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44666"/>
              <a:gd name="adj5" fmla="val -163148"/>
              <a:gd name="adj6" fmla="val 171314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tensity = W 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watts/m</a:t>
            </a:r>
            <a:r>
              <a:rPr b="0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876920"/>
            <a:ext cx="1981080" cy="1757160"/>
          </a:xfrm>
          <a:prstGeom prst="borderCallout2">
            <a:avLst>
              <a:gd name="adj1" fmla="val 18750"/>
              <a:gd name="adj2" fmla="val -8333"/>
              <a:gd name="adj3" fmla="val 6504"/>
              <a:gd name="adj4" fmla="val -16828"/>
              <a:gd name="adj5" fmla="val -54652"/>
              <a:gd name="adj6" fmla="val -30287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n Free Fiel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nsity  = p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/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ensity is directly related to mean square soun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36576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72200" y="1752480"/>
            <a:ext cx="2819520" cy="1524240"/>
            <a:chOff x="6172200" y="1752480"/>
            <a:chExt cx="2819520" cy="1524240"/>
          </a:xfrm>
        </p:grpSpPr>
        <p:grpSp>
          <p:nvGrpSpPr>
            <p:cNvPr id="382" name=""/>
            <p:cNvGrpSpPr/>
            <p:nvPr/>
          </p:nvGrpSpPr>
          <p:grpSpPr>
            <a:xfrm>
              <a:off x="6172200" y="1752480"/>
              <a:ext cx="2819520" cy="1524240"/>
              <a:chOff x="6172200" y="1752480"/>
              <a:chExt cx="2819520" cy="1524240"/>
            </a:xfrm>
          </p:grpSpPr>
          <mc:AlternateContent>
            <mc:Choice xmlns:a14="http://schemas.microsoft.com/office/drawing/2010/main" Requires="a14">
              <p:sp>
                <p:nvSpPr>
                  <p:cNvPr id="383" name=""/>
                  <p:cNvSpPr txBox="1"/>
                  <p:nvPr/>
                </p:nvSpPr>
                <p:spPr>
                  <a:xfrm>
                    <a:off x="7162920" y="1752480"/>
                    <a:ext cx="1828800" cy="70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face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tensity</m:t>
                                </m:r>
                              </m:e>
                            </m:acc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"/>
              <p:cNvSpPr/>
              <p:nvPr/>
            </p:nvSpPr>
            <p:spPr>
              <a:xfrm flipH="1">
                <a:off x="6172200" y="2057400"/>
                <a:ext cx="99072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43800" y="251460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ss’s 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669120" y="4224960"/>
            <a:ext cx="662040" cy="484560"/>
            <a:chOff x="3669120" y="4224960"/>
            <a:chExt cx="662040" cy="484560"/>
          </a:xfrm>
        </p:grpSpPr>
        <p:sp>
          <p:nvSpPr>
            <p:cNvPr id="387" name=""/>
            <p:cNvSpPr/>
            <p:nvPr/>
          </p:nvSpPr>
          <p:spPr>
            <a:xfrm flipH="1">
              <a:off x="3669120" y="4224960"/>
              <a:ext cx="662040" cy="48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20000">
              <a:off x="3977640" y="427464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the Auth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ff G. Schmitt, P.E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David Nelson, P.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43200" y="30481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35 years experience in acou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and nois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ain experts for NI Sound Power System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105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ed with most major ITTE manufacturers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 and control of noise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3962520"/>
            <a:ext cx="69850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consultants in the area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Laboratory Design  +N and V Control  +Sou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Quality Systems  +Acoustical Seminars and Instruction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200400" y="2209680"/>
            <a:ext cx="3581280" cy="3581640"/>
            <a:chOff x="3200400" y="2209680"/>
            <a:chExt cx="3581280" cy="3581640"/>
          </a:xfrm>
        </p:grpSpPr>
        <p:sp>
          <p:nvSpPr>
            <p:cNvPr id="391" name=""/>
            <p:cNvSpPr/>
            <p:nvPr/>
          </p:nvSpPr>
          <p:spPr>
            <a:xfrm>
              <a:off x="3200400" y="2209680"/>
              <a:ext cx="3581280" cy="3581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33600" y="2362320"/>
              <a:ext cx="3314880" cy="32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05320" y="2514600"/>
              <a:ext cx="297180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285640" y="1295280"/>
            <a:ext cx="5326560" cy="5400720"/>
            <a:chOff x="2285640" y="1295280"/>
            <a:chExt cx="5326560" cy="5400720"/>
          </a:xfrm>
        </p:grpSpPr>
        <p:sp>
          <p:nvSpPr>
            <p:cNvPr id="395" name=""/>
            <p:cNvSpPr/>
            <p:nvPr/>
          </p:nvSpPr>
          <p:spPr>
            <a:xfrm rot="10800000">
              <a:off x="3989520" y="1295280"/>
              <a:ext cx="2109600" cy="21096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86200" y="4586040"/>
              <a:ext cx="210996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2285640" y="28252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5502240" y="2918880"/>
              <a:ext cx="2109600" cy="21099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of Basi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40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724280" y="3733920"/>
            <a:ext cx="524160" cy="5238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64000" y="347328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02280" y="321156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297180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2711520"/>
            <a:ext cx="259092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438280"/>
            <a:ext cx="3124080" cy="312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361960" y="1371240"/>
            <a:ext cx="5217840" cy="5313600"/>
            <a:chOff x="2361960" y="1371240"/>
            <a:chExt cx="5217840" cy="5313600"/>
          </a:xfrm>
        </p:grpSpPr>
        <p:sp>
          <p:nvSpPr>
            <p:cNvPr id="412" name=""/>
            <p:cNvSpPr/>
            <p:nvPr/>
          </p:nvSpPr>
          <p:spPr>
            <a:xfrm rot="10800000">
              <a:off x="4120560" y="1371240"/>
              <a:ext cx="1896840" cy="189684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361960" y="2950920"/>
              <a:ext cx="5217840" cy="3733920"/>
              <a:chOff x="2361960" y="2950920"/>
              <a:chExt cx="5217840" cy="3733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02120" y="4787640"/>
                <a:ext cx="1896480" cy="189720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2361960" y="2950920"/>
                <a:ext cx="189684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5682600" y="3071520"/>
                <a:ext cx="1897200" cy="1896840"/>
              </a:xfrm>
              <a:prstGeom prst="blockArc">
                <a:avLst>
                  <a:gd name="adj1" fmla="val 10800000"/>
                  <a:gd name="adj2" fmla="val 0"/>
                  <a:gd name="adj3" fmla="val 0"/>
                </a:avLst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239920" y="1278000"/>
            <a:ext cx="5426280" cy="5465880"/>
            <a:chOff x="2239920" y="1278000"/>
            <a:chExt cx="5426280" cy="5465880"/>
          </a:xfrm>
        </p:grpSpPr>
        <p:sp>
          <p:nvSpPr>
            <p:cNvPr id="418" name=""/>
            <p:cNvSpPr/>
            <p:nvPr/>
          </p:nvSpPr>
          <p:spPr>
            <a:xfrm rot="10800000">
              <a:off x="3906720" y="12780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9880" y="441972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2239560" y="274284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5342040" y="2809800"/>
              <a:ext cx="2324160" cy="232416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51000" y="1219320"/>
            <a:ext cx="5567400" cy="5586120"/>
            <a:chOff x="2151000" y="1219320"/>
            <a:chExt cx="5567400" cy="5586120"/>
          </a:xfrm>
        </p:grpSpPr>
        <p:sp>
          <p:nvSpPr>
            <p:cNvPr id="423" name=""/>
            <p:cNvSpPr/>
            <p:nvPr/>
          </p:nvSpPr>
          <p:spPr>
            <a:xfrm rot="10800000">
              <a:off x="3733920" y="121932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9920" y="4272120"/>
              <a:ext cx="2533680" cy="253332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2150640" y="261108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5184720" y="2700360"/>
              <a:ext cx="2533680" cy="253368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133720" y="1143000"/>
            <a:ext cx="5638680" cy="5715000"/>
            <a:chOff x="2133720" y="1143000"/>
            <a:chExt cx="5638680" cy="5715000"/>
          </a:xfrm>
        </p:grpSpPr>
        <p:sp>
          <p:nvSpPr>
            <p:cNvPr id="428" name=""/>
            <p:cNvSpPr/>
            <p:nvPr/>
          </p:nvSpPr>
          <p:spPr>
            <a:xfrm rot="10800000">
              <a:off x="3657600" y="11426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411480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2133360" y="251424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5029200" y="2590920"/>
              <a:ext cx="2743200" cy="2743200"/>
            </a:xfrm>
            <a:prstGeom prst="blockArc">
              <a:avLst>
                <a:gd name="adj1" fmla="val 10800000"/>
                <a:gd name="adj2" fmla="val 0"/>
                <a:gd name="adj3" fmla="val 0"/>
              </a:avLst>
            </a:prstGeom>
            <a:solidFill>
              <a:srgbClr val="000000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219320" y="1828800"/>
            <a:ext cx="1828800" cy="945000"/>
          </a:xfrm>
          <a:prstGeom prst="borderCallout2">
            <a:avLst>
              <a:gd name="adj1" fmla="val 18750"/>
              <a:gd name="adj2" fmla="val -8333"/>
              <a:gd name="adj3" fmla="val 11879"/>
              <a:gd name="adj4" fmla="val 153125"/>
              <a:gd name="adj5" fmla="val 208643"/>
              <a:gd name="adj6" fmla="val 20389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ower=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ad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to enclose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2971800"/>
            <a:ext cx="1752480" cy="106668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114222"/>
              <a:gd name="adj5" fmla="val -3870"/>
              <a:gd name="adj6" fmla="val 14103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nergy reflected by enclosure walls back into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339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187880"/>
            <a:ext cx="2209680" cy="1861200"/>
          </a:xfrm>
          <a:prstGeom prst="borderCallout2">
            <a:avLst>
              <a:gd name="adj1" fmla="val 18750"/>
              <a:gd name="adj2" fmla="val -8333"/>
              <a:gd name="adj3" fmla="val 6092"/>
              <a:gd name="adj4" fmla="val 142671"/>
              <a:gd name="adj5" fmla="val -31888"/>
              <a:gd name="adj6" fmla="val 15300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Pressure is a function of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cident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flected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dependent of direction of energy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1752480"/>
            <a:ext cx="2133720" cy="185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n-Free Fiel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Cond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 direct relationship between Sound Pressure and source  Sound Pow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0" y="3822840"/>
            <a:ext cx="2133720" cy="53316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19717"/>
              <a:gd name="adj5" fmla="val 84226"/>
              <a:gd name="adj6" fmla="val -3682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und Intensity is VECTOR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832440" y="4654440"/>
            <a:ext cx="2133720" cy="1758960"/>
            <a:chOff x="6832440" y="4654440"/>
            <a:chExt cx="2133720" cy="1758960"/>
          </a:xfrm>
        </p:grpSpPr>
        <p:sp>
          <p:nvSpPr>
            <p:cNvPr id="439" name=""/>
            <p:cNvSpPr/>
            <p:nvPr/>
          </p:nvSpPr>
          <p:spPr>
            <a:xfrm>
              <a:off x="6832440" y="4654440"/>
              <a:ext cx="2133720" cy="175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Guass’s Law st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old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6908760" y="5516280"/>
                  <a:ext cx="1981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Surface</m:t>
                          </m:r>
                        </m:sub>
                        <m:sup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acc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1" name=""/>
          <p:cNvGrpSpPr/>
          <p:nvPr/>
        </p:nvGrpSpPr>
        <p:grpSpPr>
          <a:xfrm>
            <a:off x="5638680" y="4267080"/>
            <a:ext cx="762120" cy="304920"/>
            <a:chOff x="5638680" y="4267080"/>
            <a:chExt cx="762120" cy="304920"/>
          </a:xfrm>
        </p:grpSpPr>
        <p:sp>
          <p:nvSpPr>
            <p:cNvPr id="442" name=""/>
            <p:cNvSpPr/>
            <p:nvPr/>
          </p:nvSpPr>
          <p:spPr>
            <a:xfrm>
              <a:off x="5791320" y="4267080"/>
              <a:ext cx="22860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8680" y="4267080"/>
              <a:ext cx="76212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743200" y="5715000"/>
            <a:ext cx="5943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66520" y="26668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meter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4495680"/>
            <a:ext cx="632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518148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38040" indent="-338040"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level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40000"/>
              </a:lnSpc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0 * log (I/I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1 x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atts/meters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3352680"/>
            <a:ext cx="632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and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 velo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-13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relationship between P and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666880" y="5816520"/>
            <a:ext cx="601992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666520" y="2514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power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undamental property of a sound source, i.e., the amount of acoustic power radiated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ntensity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watt/sq. m.], is defined as the amount of Sound Power per square meter passing through a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nd pressure —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the expression of the acoustic power in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Acoustic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, Intensity,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666520" y="5600520"/>
            <a:ext cx="61722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SPL in decibels 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666880" y="2476440"/>
            <a:ext cx="61722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instantaneous atmospheric pressure at a point minus the static (average) pressure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3695760"/>
            <a:ext cx="6172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human hearing respons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acoustic measurement parameter (e.g. microphone is pressure transdu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sound intens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 cert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43200" y="2819520"/>
            <a:ext cx="624852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876920"/>
            <a:ext cx="1981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enerates pres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 space/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352680"/>
            <a:ext cx="523800" cy="524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8880" y="3092400"/>
            <a:ext cx="1044720" cy="10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28920" y="2962440"/>
            <a:ext cx="1305000" cy="130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97160" y="2830680"/>
            <a:ext cx="1566720" cy="156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66840" y="2700360"/>
            <a:ext cx="1827360" cy="182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7400" y="25909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962520" y="3319560"/>
            <a:ext cx="1752480" cy="2700360"/>
            <a:chOff x="3962520" y="3319560"/>
            <a:chExt cx="1752480" cy="2700360"/>
          </a:xfrm>
        </p:grpSpPr>
        <p:sp>
          <p:nvSpPr>
            <p:cNvPr id="477" name=""/>
            <p:cNvSpPr/>
            <p:nvPr/>
          </p:nvSpPr>
          <p:spPr>
            <a:xfrm>
              <a:off x="4800600" y="3429360"/>
              <a:ext cx="45684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962520" y="3319560"/>
              <a:ext cx="1752480" cy="2700360"/>
              <a:chOff x="3962520" y="3319560"/>
              <a:chExt cx="1752480" cy="2700360"/>
            </a:xfrm>
          </p:grpSpPr>
          <p:sp>
            <p:nvSpPr>
              <p:cNvPr id="479" name=""/>
              <p:cNvSpPr/>
              <p:nvPr/>
            </p:nvSpPr>
            <p:spPr>
              <a:xfrm>
                <a:off x="4267080" y="3319560"/>
                <a:ext cx="533160" cy="219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2520" y="4876920"/>
                <a:ext cx="1752480" cy="11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icroph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Generates voltag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oportional to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press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080" y="3319560"/>
                <a:ext cx="151920" cy="219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791320" y="2286000"/>
            <a:ext cx="2819160" cy="3733560"/>
            <a:chOff x="5791320" y="2286000"/>
            <a:chExt cx="2819160" cy="3733560"/>
          </a:xfrm>
        </p:grpSpPr>
        <p:graphicFrame>
          <p:nvGraphicFramePr>
            <p:cNvPr id="483" name=""/>
            <p:cNvGraphicFramePr/>
            <p:nvPr/>
          </p:nvGraphicFramePr>
          <p:xfrm>
            <a:off x="5791320" y="2286000"/>
            <a:ext cx="2819160" cy="190476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2286000"/>
                      <a:ext cx="281916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5867280" y="4876560"/>
              <a:ext cx="251424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Voltage/Unit Pres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94200" y="2286000"/>
            <a:ext cx="2816280" cy="3688560"/>
            <a:chOff x="5794200" y="2286000"/>
            <a:chExt cx="2816280" cy="3688560"/>
          </a:xfrm>
        </p:grpSpPr>
        <p:graphicFrame>
          <p:nvGraphicFramePr>
            <p:cNvPr id="487" name=""/>
            <p:cNvGraphicFramePr/>
            <p:nvPr/>
          </p:nvGraphicFramePr>
          <p:xfrm>
            <a:off x="5794200" y="2286000"/>
            <a:ext cx="2816280" cy="1903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94200" y="2286000"/>
                      <a:ext cx="28162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9" name=""/>
            <p:cNvSpPr/>
            <p:nvPr/>
          </p:nvSpPr>
          <p:spPr>
            <a:xfrm>
              <a:off x="5943600" y="56386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486400" y="2590920"/>
            <a:ext cx="2743200" cy="2926440"/>
            <a:chOff x="5486400" y="2590920"/>
            <a:chExt cx="2743200" cy="2926440"/>
          </a:xfrm>
        </p:grpSpPr>
        <p:sp>
          <p:nvSpPr>
            <p:cNvPr id="491" name=""/>
            <p:cNvSpPr/>
            <p:nvPr/>
          </p:nvSpPr>
          <p:spPr>
            <a:xfrm flipH="1">
              <a:off x="5562000" y="384480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562000" y="2590920"/>
              <a:ext cx="358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42000" y="3665520"/>
              <a:ext cx="0" cy="178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715000" y="2590920"/>
              <a:ext cx="0" cy="179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6400" y="2743200"/>
              <a:ext cx="3650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600" y="51814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943600" y="3124080"/>
            <a:ext cx="2286000" cy="2621880"/>
            <a:chOff x="5943600" y="3124080"/>
            <a:chExt cx="2286000" cy="2621880"/>
          </a:xfrm>
        </p:grpSpPr>
        <p:sp>
          <p:nvSpPr>
            <p:cNvPr id="498" name=""/>
            <p:cNvSpPr/>
            <p:nvPr/>
          </p:nvSpPr>
          <p:spPr>
            <a:xfrm>
              <a:off x="6019560" y="4343400"/>
              <a:ext cx="1447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equency ~ 1/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43600" y="5410080"/>
              <a:ext cx="228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00800" y="3200400"/>
              <a:ext cx="144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0" y="3124080"/>
              <a:ext cx="144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00800" y="3200400"/>
              <a:ext cx="449280" cy="1440"/>
            </a:xfrm>
            <a:prstGeom prst="line">
              <a:avLst/>
            </a:prstGeom>
            <a:ln cap="sq" w="255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076640" y="2800440"/>
            <a:ext cx="1400400" cy="476280"/>
          </a:xfrm>
          <a:prstGeom prst="rightArrow">
            <a:avLst>
              <a:gd name="adj1" fmla="val 50000"/>
              <a:gd name="adj2" fmla="val 73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V(t) ~ P(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typical Sound 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hearing (0dB) =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of pain (120 dB) = 20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factor of 1,000,000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743200" y="5486400"/>
            <a:ext cx="6172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indent="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ange to 0 to 12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28600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logarithmic response of human 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4572000"/>
            <a:ext cx="6172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indent="343080">
              <a:buClr>
                <a:srgbClr val="ff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und press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4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 = 20 * log (p/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;   p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re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2 x 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3583080" cy="24415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581280" y="3429000"/>
            <a:ext cx="3657600" cy="2490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versus tim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 recorded at regular time interv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2590920" y="6019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dynamic measurements such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 or sound quality analy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ave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ound Pressure Leve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228760" y="4167360"/>
                <a:ext cx="3257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P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2390760" y="5856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aking overall energy level measurements (Sound Power, Sound Transmission Loss,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5572080" y="3489480"/>
            <a:ext cx="3429000" cy="233496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5991120" y="3019320"/>
            <a:ext cx="2971800" cy="1219320"/>
            <a:chOff x="5991120" y="3019320"/>
            <a:chExt cx="2971800" cy="1219320"/>
          </a:xfrm>
        </p:grpSpPr>
        <p:sp>
          <p:nvSpPr>
            <p:cNvPr id="522" name=""/>
            <p:cNvSpPr/>
            <p:nvPr/>
          </p:nvSpPr>
          <p:spPr>
            <a:xfrm flipV="1">
              <a:off x="5991120" y="4229280"/>
              <a:ext cx="2876760" cy="9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8520" y="3019320"/>
              <a:ext cx="914400" cy="439200"/>
            </a:xfrm>
            <a:prstGeom prst="borderCallout2">
              <a:avLst>
                <a:gd name="adj1" fmla="val 18750"/>
                <a:gd name="adj2" fmla="val -8333"/>
                <a:gd name="adj3" fmla="val 27481"/>
                <a:gd name="adj4" fmla="val -30384"/>
                <a:gd name="adj5" fmla="val 262898"/>
                <a:gd name="adj6" fmla="val -9791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ins have same width, determined by the number of “lines” in the FFT,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Width = Frequency Range / #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4356000"/>
            <a:ext cx="6147000" cy="1206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800 lines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25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-2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12.5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kHz-10kHz with 1600 lines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Bandwidth=3.2 Hz/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5551560"/>
            <a:ext cx="5559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FT analyzers handle 400,800,1,60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-Process FFT analyzers handle 16,000 +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6560" y="116820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Instruments Developer Zone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268596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15000" y="1371600"/>
            <a:ext cx="3429000" cy="2057400"/>
          </a:xfrm>
          <a:prstGeom prst="wedgeEllipseCallout">
            <a:avLst>
              <a:gd name="adj1" fmla="val -19583"/>
              <a:gd name="adj2" fmla="val 8904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isit the Developer Zone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one.n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or detailed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e materials summar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 this presentation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ni%20logo" descr=""/>
          <p:cNvPicPr/>
          <p:nvPr/>
        </p:nvPicPr>
        <p:blipFill>
          <a:blip r:embed="rId4"/>
          <a:stretch/>
        </p:blipFill>
        <p:spPr>
          <a:xfrm>
            <a:off x="3124080" y="228600"/>
            <a:ext cx="315144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76960" y="225360"/>
            <a:ext cx="273384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ttp://zone.n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rcRect l="24191" t="4168" r="742" b="46619"/>
          <a:stretch/>
        </p:blipFill>
        <p:spPr>
          <a:xfrm>
            <a:off x="1523880" y="2666880"/>
            <a:ext cx="6934320" cy="3408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209680" y="18288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T analyzer Dis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National Instruments Sound Pow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742840" y="25909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bandwidth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nd of frequencies around a center frequency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at extends fro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QRT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1/SQRT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4572000"/>
            <a:ext cx="6095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 Octave 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Octaves:125, 250, 500, 1k, 2k, 4 k,8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3 Octave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d 1/3 OB :100,125,160,200,315,400,500,630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00,1k,1.25k,1.6k,2k,2.5k,3.15k,4k,5k,6.3k,8k,10k (Hz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828800" y="1752480"/>
            <a:ext cx="6705360" cy="4266720"/>
            <a:chOff x="1828800" y="1752480"/>
            <a:chExt cx="6705360" cy="426672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rcRect l="25003" t="3613" r="0" b="46385"/>
            <a:stretch/>
          </p:blipFill>
          <p:spPr>
            <a:xfrm>
              <a:off x="1828800" y="2750760"/>
              <a:ext cx="670536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28800" y="1752480"/>
              <a:ext cx="661212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3 Octave Band Real-Time Analyzer Displa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National Instruments Sound Power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Weigh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553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554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044960" y="1976400"/>
            <a:ext cx="4854600" cy="4679280"/>
            <a:chOff x="4044960" y="1976400"/>
            <a:chExt cx="4854600" cy="4679280"/>
          </a:xfrm>
        </p:grpSpPr>
        <p:grpSp>
          <p:nvGrpSpPr>
            <p:cNvPr id="558" name=""/>
            <p:cNvGrpSpPr/>
            <p:nvPr/>
          </p:nvGrpSpPr>
          <p:grpSpPr>
            <a:xfrm>
              <a:off x="4795920" y="2026800"/>
              <a:ext cx="4034880" cy="3987720"/>
              <a:chOff x="4795920" y="2026800"/>
              <a:chExt cx="4034880" cy="398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4795920" y="6013080"/>
                <a:ext cx="4034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54687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4687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4687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687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54687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687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54687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4687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4687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54687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54687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4687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4687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687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4687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54687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4687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4687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54687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54687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4687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54687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4687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87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4687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4687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4687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8708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708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8708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8708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708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708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8708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8708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8708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8708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8708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8708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8708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8708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8708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8708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8708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8708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8708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708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8708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8708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8708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8708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8708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708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8708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27480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27480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480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27480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27480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27480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27480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27480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27480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27480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27480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27480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627480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27480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627480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27480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480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27480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27480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7480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7480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7480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627480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27480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27480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7480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627480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67872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67872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67872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667872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67872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667872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67872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667872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67872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667872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67872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667872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872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667872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667872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67872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667872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667872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667872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667872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667872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67872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667872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67872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67872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67872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67872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708264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708264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08264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708264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708264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708264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708264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08264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08264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08264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708264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708264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708264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708264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708264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08264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08264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08264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708264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708264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708264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708264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708264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08264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8264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08264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708264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48656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748656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748656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8656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48656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48656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48656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48656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48656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748656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486560" y="4449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7486560" y="42987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86560" y="4146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7486560" y="3994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7486560" y="3844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486560" y="3691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486560" y="3539880"/>
                <a:ext cx="180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486560" y="33890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7486560" y="3237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7486560" y="308664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486560" y="2936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486560" y="278424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486560" y="263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486560" y="24814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486560" y="23292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7486560" y="217908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7486560" y="202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7890480" y="596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890480" y="581148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7890480" y="56613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7890480" y="550944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7890480" y="535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890480" y="520668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890480" y="505440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7890480" y="4902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890480" y="47520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890480" y="4601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890480" y="4449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890480" y="429876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890480" y="4146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890480" y="3994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890480" y="3844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7890480" y="3691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7890480" y="353988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7890480" y="33890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7890480" y="323712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890480" y="3086640"/>
                <a:ext cx="144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890480" y="2936520"/>
                <a:ext cx="144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890480" y="278424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890480" y="263196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890480" y="24814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890480" y="23292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7890480" y="2179080"/>
                <a:ext cx="144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890480" y="2026800"/>
                <a:ext cx="144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8294040" y="596196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8294040" y="581148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8294040" y="5661360"/>
                <a:ext cx="1800" cy="4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294040" y="550944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8294040" y="53568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8294040" y="520668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8294040" y="5054400"/>
                <a:ext cx="1800" cy="50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8294040" y="490212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8294040" y="4752000"/>
                <a:ext cx="1800" cy="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8294040" y="4601520"/>
                <a:ext cx="1800" cy="4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V="1">
              <a:off x="8294760" y="444960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8294760" y="429912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294760" y="41461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294760" y="39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294760" y="3844440"/>
              <a:ext cx="14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294760" y="369216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8294760" y="35398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294760" y="33890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8294760" y="32367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8294760" y="30873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8294760" y="293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8294760" y="27842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4760" y="263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4760" y="248076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8294760" y="23299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94760" y="217980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8294760" y="20268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8696160" y="59623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696160" y="58114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696160" y="56606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8696160" y="55087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8696160" y="535608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696160" y="520668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696160" y="50544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696160" y="49017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696160" y="475092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8696160" y="460224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696160" y="444960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696160" y="429912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696160" y="4146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696160" y="3993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8696160" y="3844440"/>
              <a:ext cx="180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8696160" y="369216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8696160" y="353988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696160" y="33890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696160" y="32367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696160" y="30873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696160" y="293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696160" y="27842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8696160" y="263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696160" y="248076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8696160" y="23299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696160" y="217980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8696160" y="20268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54687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87052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2755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67872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08192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865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889760" y="6013440"/>
              <a:ext cx="32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8294760" y="601344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8696160" y="601344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7400" y="62150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72960" y="6215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297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329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36120" y="6215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9144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960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992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02480" y="6215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86440" y="6411960"/>
              <a:ext cx="170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 Frequency [Hz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95920" y="1976400"/>
              <a:ext cx="1440" cy="403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9592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4496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976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4988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00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530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024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53240" y="60134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0055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57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10440" y="6013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594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1176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260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13440" y="601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6428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169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69200" y="60134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200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723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217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740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12484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7712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29760" y="601344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78800" y="60134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731080" y="601344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9592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496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976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4988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0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30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024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53240" y="4859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055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57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10440" y="48592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594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176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6260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13440" y="4859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6428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69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9200" y="48592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5200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723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8217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740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12484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7712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29760" y="48592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578800" y="4859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1080" y="485928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9592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496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976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4988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00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530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024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53240" y="3706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055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57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0440" y="37069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94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1176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6260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13440" y="37069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6428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169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69200" y="3706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200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723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17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740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2484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7712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29760" y="370692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78800" y="37069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731080" y="3706920"/>
              <a:ext cx="5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9592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4496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976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4988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00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530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024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53240" y="25542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0055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57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10440" y="2554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594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1176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6260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13440" y="25542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6428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169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9200" y="2554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200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723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217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740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484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27712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29760" y="255420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78800" y="2554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731080" y="2554200"/>
              <a:ext cx="51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727520" y="54356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727520" y="428292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727520" y="3129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4727520" y="197640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660560" y="601344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660560" y="486108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660560" y="3706920"/>
              <a:ext cx="135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660560" y="2554200"/>
              <a:ext cx="135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40880" y="59151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40880" y="476244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0880" y="36082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320" y="2455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4044960" y="3330720"/>
              <a:ext cx="245160" cy="1314720"/>
              <a:chOff x="4044960" y="3330720"/>
              <a:chExt cx="245160" cy="1314720"/>
            </a:xfrm>
          </p:grpSpPr>
          <p:sp>
            <p:nvSpPr>
              <p:cNvPr id="944" name=""/>
              <p:cNvSpPr/>
              <p:nvPr/>
            </p:nvSpPr>
            <p:spPr>
              <a:xfrm rot="16200000">
                <a:off x="4093200" y="44499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200000">
                <a:off x="4110120" y="4323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200000">
                <a:off x="4115160" y="4218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200000">
                <a:off x="4111560" y="4115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200000">
                <a:off x="4110120" y="40046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00000">
                <a:off x="4110120" y="38948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200000">
                <a:off x="4116600" y="3792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00000">
                <a:off x="4110120" y="36871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200000">
                <a:off x="4138200" y="360360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200000">
                <a:off x="4134240" y="35474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6200000">
                <a:off x="4110120" y="345528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200000">
                <a:off x="4100040" y="333792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200000">
                <a:off x="4134240" y="32425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4791240" y="2558880"/>
              <a:ext cx="4095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5334120" y="2478240"/>
            <a:ext cx="3497040" cy="2651040"/>
            <a:chOff x="5334120" y="2478240"/>
            <a:chExt cx="3497040" cy="2651040"/>
          </a:xfrm>
        </p:grpSpPr>
        <p:sp>
          <p:nvSpPr>
            <p:cNvPr id="959" name=""/>
            <p:cNvSpPr/>
            <p:nvPr/>
          </p:nvSpPr>
          <p:spPr>
            <a:xfrm>
              <a:off x="5334120" y="2478240"/>
              <a:ext cx="3497040" cy="2651040"/>
            </a:xfrm>
            <a:custGeom>
              <a:avLst/>
              <a:gdLst/>
              <a:ahLst/>
              <a:rect l="l" t="t" r="r" b="b"/>
              <a:pathLst>
                <a:path w="6002" h="4549">
                  <a:moveTo>
                    <a:pt x="0" y="4549"/>
                  </a:moveTo>
                  <a:lnTo>
                    <a:pt x="231" y="4025"/>
                  </a:lnTo>
                  <a:lnTo>
                    <a:pt x="462" y="3550"/>
                  </a:lnTo>
                  <a:lnTo>
                    <a:pt x="693" y="3115"/>
                  </a:lnTo>
                  <a:lnTo>
                    <a:pt x="923" y="2719"/>
                  </a:lnTo>
                  <a:lnTo>
                    <a:pt x="1154" y="2353"/>
                  </a:lnTo>
                  <a:lnTo>
                    <a:pt x="1385" y="2017"/>
                  </a:lnTo>
                  <a:lnTo>
                    <a:pt x="1616" y="1721"/>
                  </a:lnTo>
                  <a:lnTo>
                    <a:pt x="1847" y="1453"/>
                  </a:lnTo>
                  <a:lnTo>
                    <a:pt x="2078" y="1206"/>
                  </a:lnTo>
                  <a:lnTo>
                    <a:pt x="2309" y="979"/>
                  </a:lnTo>
                  <a:lnTo>
                    <a:pt x="2539" y="781"/>
                  </a:lnTo>
                  <a:lnTo>
                    <a:pt x="2770" y="604"/>
                  </a:lnTo>
                  <a:lnTo>
                    <a:pt x="3001" y="445"/>
                  </a:lnTo>
                  <a:lnTo>
                    <a:pt x="3232" y="316"/>
                  </a:lnTo>
                  <a:lnTo>
                    <a:pt x="3463" y="208"/>
                  </a:lnTo>
                  <a:lnTo>
                    <a:pt x="3694" y="129"/>
                  </a:lnTo>
                  <a:lnTo>
                    <a:pt x="3925" y="69"/>
                  </a:lnTo>
                  <a:lnTo>
                    <a:pt x="4155" y="30"/>
                  </a:lnTo>
                  <a:lnTo>
                    <a:pt x="4386" y="10"/>
                  </a:lnTo>
                  <a:lnTo>
                    <a:pt x="4617" y="0"/>
                  </a:lnTo>
                  <a:lnTo>
                    <a:pt x="4848" y="10"/>
                  </a:lnTo>
                  <a:lnTo>
                    <a:pt x="5079" y="30"/>
                  </a:lnTo>
                  <a:lnTo>
                    <a:pt x="5310" y="80"/>
                  </a:lnTo>
                  <a:lnTo>
                    <a:pt x="5541" y="138"/>
                  </a:lnTo>
                  <a:lnTo>
                    <a:pt x="5771" y="238"/>
                  </a:lnTo>
                  <a:lnTo>
                    <a:pt x="6002" y="376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84200" y="3156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334120" y="2554200"/>
            <a:ext cx="3497040" cy="1174680"/>
            <a:chOff x="5334120" y="2554200"/>
            <a:chExt cx="3497040" cy="1174680"/>
          </a:xfrm>
        </p:grpSpPr>
        <p:sp>
          <p:nvSpPr>
            <p:cNvPr id="962" name=""/>
            <p:cNvSpPr/>
            <p:nvPr/>
          </p:nvSpPr>
          <p:spPr>
            <a:xfrm>
              <a:off x="5334120" y="2554200"/>
              <a:ext cx="3497040" cy="1174680"/>
            </a:xfrm>
            <a:custGeom>
              <a:avLst/>
              <a:gdLst/>
              <a:ahLst/>
              <a:rect l="l" t="t" r="r" b="b"/>
              <a:pathLst>
                <a:path w="6002" h="2016">
                  <a:moveTo>
                    <a:pt x="0" y="2016"/>
                  </a:moveTo>
                  <a:lnTo>
                    <a:pt x="231" y="1690"/>
                  </a:lnTo>
                  <a:lnTo>
                    <a:pt x="462" y="1404"/>
                  </a:lnTo>
                  <a:lnTo>
                    <a:pt x="693" y="1146"/>
                  </a:lnTo>
                  <a:lnTo>
                    <a:pt x="923" y="919"/>
                  </a:lnTo>
                  <a:lnTo>
                    <a:pt x="1154" y="732"/>
                  </a:lnTo>
                  <a:lnTo>
                    <a:pt x="1385" y="554"/>
                  </a:lnTo>
                  <a:lnTo>
                    <a:pt x="1616" y="416"/>
                  </a:lnTo>
                  <a:lnTo>
                    <a:pt x="1847" y="297"/>
                  </a:lnTo>
                  <a:lnTo>
                    <a:pt x="2078" y="198"/>
                  </a:lnTo>
                  <a:lnTo>
                    <a:pt x="2309" y="128"/>
                  </a:lnTo>
                  <a:lnTo>
                    <a:pt x="2539" y="79"/>
                  </a:lnTo>
                  <a:lnTo>
                    <a:pt x="2770" y="49"/>
                  </a:lnTo>
                  <a:lnTo>
                    <a:pt x="3001" y="29"/>
                  </a:lnTo>
                  <a:lnTo>
                    <a:pt x="3232" y="9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0"/>
                  </a:lnTo>
                  <a:lnTo>
                    <a:pt x="4386" y="9"/>
                  </a:lnTo>
                  <a:lnTo>
                    <a:pt x="4617" y="20"/>
                  </a:lnTo>
                  <a:lnTo>
                    <a:pt x="4848" y="39"/>
                  </a:lnTo>
                  <a:lnTo>
                    <a:pt x="5079" y="69"/>
                  </a:lnTo>
                  <a:lnTo>
                    <a:pt x="5310" y="118"/>
                  </a:lnTo>
                  <a:lnTo>
                    <a:pt x="5541" y="187"/>
                  </a:lnTo>
                  <a:lnTo>
                    <a:pt x="5771" y="286"/>
                  </a:lnTo>
                  <a:lnTo>
                    <a:pt x="6002" y="425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7520" y="3106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34120" y="2554200"/>
            <a:ext cx="3497040" cy="547200"/>
            <a:chOff x="5334120" y="2554200"/>
            <a:chExt cx="3497040" cy="547200"/>
          </a:xfrm>
        </p:grpSpPr>
        <p:sp>
          <p:nvSpPr>
            <p:cNvPr id="965" name=""/>
            <p:cNvSpPr/>
            <p:nvPr/>
          </p:nvSpPr>
          <p:spPr>
            <a:xfrm>
              <a:off x="5334120" y="2554200"/>
              <a:ext cx="3497040" cy="252360"/>
            </a:xfrm>
            <a:custGeom>
              <a:avLst/>
              <a:gdLst/>
              <a:ahLst/>
              <a:rect l="l" t="t" r="r" b="b"/>
              <a:pathLst>
                <a:path w="6002" h="435">
                  <a:moveTo>
                    <a:pt x="0" y="435"/>
                  </a:moveTo>
                  <a:lnTo>
                    <a:pt x="231" y="297"/>
                  </a:lnTo>
                  <a:lnTo>
                    <a:pt x="462" y="198"/>
                  </a:lnTo>
                  <a:lnTo>
                    <a:pt x="693" y="128"/>
                  </a:lnTo>
                  <a:lnTo>
                    <a:pt x="923" y="79"/>
                  </a:lnTo>
                  <a:lnTo>
                    <a:pt x="1154" y="49"/>
                  </a:lnTo>
                  <a:lnTo>
                    <a:pt x="1385" y="29"/>
                  </a:lnTo>
                  <a:lnTo>
                    <a:pt x="1616" y="20"/>
                  </a:lnTo>
                  <a:lnTo>
                    <a:pt x="1847" y="9"/>
                  </a:lnTo>
                  <a:lnTo>
                    <a:pt x="2078" y="0"/>
                  </a:lnTo>
                  <a:lnTo>
                    <a:pt x="2309" y="0"/>
                  </a:lnTo>
                  <a:lnTo>
                    <a:pt x="2539" y="0"/>
                  </a:lnTo>
                  <a:lnTo>
                    <a:pt x="2770" y="0"/>
                  </a:lnTo>
                  <a:lnTo>
                    <a:pt x="3001" y="0"/>
                  </a:lnTo>
                  <a:lnTo>
                    <a:pt x="3232" y="0"/>
                  </a:lnTo>
                  <a:lnTo>
                    <a:pt x="3463" y="0"/>
                  </a:lnTo>
                  <a:lnTo>
                    <a:pt x="3694" y="0"/>
                  </a:lnTo>
                  <a:lnTo>
                    <a:pt x="3925" y="0"/>
                  </a:lnTo>
                  <a:lnTo>
                    <a:pt x="4155" y="9"/>
                  </a:lnTo>
                  <a:lnTo>
                    <a:pt x="4386" y="20"/>
                  </a:lnTo>
                  <a:lnTo>
                    <a:pt x="4617" y="29"/>
                  </a:lnTo>
                  <a:lnTo>
                    <a:pt x="4848" y="49"/>
                  </a:lnTo>
                  <a:lnTo>
                    <a:pt x="5079" y="79"/>
                  </a:lnTo>
                  <a:lnTo>
                    <a:pt x="5310" y="128"/>
                  </a:lnTo>
                  <a:lnTo>
                    <a:pt x="5541" y="198"/>
                  </a:lnTo>
                  <a:lnTo>
                    <a:pt x="5771" y="297"/>
                  </a:lnTo>
                  <a:lnTo>
                    <a:pt x="6002" y="43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59120" y="2857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1320840" y="3203640"/>
            <a:ext cx="2438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most often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weighting  approximates   response of human 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20840" y="5410080"/>
            <a:ext cx="2692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and C weighting       network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93760" y="1905120"/>
            <a:ext cx="3124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es overall   level as singl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2743200" y="2819520"/>
            <a:ext cx="5943600" cy="3429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surem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und inten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49200" indent="-349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radiated by a source, per uni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can be determined by integrating Sound intensity over a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cibels relative to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/mete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as a single A-weighted level, in 1/3-octave bands or octave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752480" y="2117880"/>
            <a:ext cx="3657600" cy="1463400"/>
            <a:chOff x="1752480" y="2117880"/>
            <a:chExt cx="3657600" cy="1463400"/>
          </a:xfrm>
        </p:grpSpPr>
        <p:sp>
          <p:nvSpPr>
            <p:cNvPr id="983" name=""/>
            <p:cNvSpPr/>
            <p:nvPr/>
          </p:nvSpPr>
          <p:spPr>
            <a:xfrm>
              <a:off x="175248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66880" y="3276720"/>
              <a:ext cx="22860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0800000">
              <a:off x="3352320" y="3276720"/>
              <a:ext cx="1143000" cy="304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3350880" y="3274560"/>
              <a:ext cx="2286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95480" y="3276720"/>
              <a:ext cx="45720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82920" y="2117880"/>
              <a:ext cx="1127160" cy="427680"/>
            </a:xfrm>
            <a:noFill/>
            <a:ln w="158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295280" y="2743200"/>
            <a:ext cx="7162920" cy="1829160"/>
            <a:chOff x="1295280" y="2743200"/>
            <a:chExt cx="7162920" cy="1829160"/>
          </a:xfrm>
        </p:grpSpPr>
        <p:grpSp>
          <p:nvGrpSpPr>
            <p:cNvPr id="990" name=""/>
            <p:cNvGrpSpPr/>
            <p:nvPr/>
          </p:nvGrpSpPr>
          <p:grpSpPr>
            <a:xfrm>
              <a:off x="1295280" y="2743200"/>
              <a:ext cx="7162920" cy="1755720"/>
              <a:chOff x="1295280" y="2743200"/>
              <a:chExt cx="7162920" cy="1755720"/>
            </a:xfrm>
          </p:grpSpPr>
          <p:sp>
            <p:nvSpPr>
              <p:cNvPr id="991" name=""/>
              <p:cNvSpPr/>
              <p:nvPr/>
            </p:nvSpPr>
            <p:spPr>
              <a:xfrm>
                <a:off x="4495680" y="3429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1295280" y="2743200"/>
                <a:ext cx="7162920" cy="1755720"/>
                <a:chOff x="1295280" y="2743200"/>
                <a:chExt cx="7162920" cy="1755720"/>
              </a:xfrm>
            </p:grpSpPr>
            <p:pic>
              <p:nvPicPr>
                <p:cNvPr id="993" name="ni455x" descr=""/>
                <p:cNvPicPr/>
                <p:nvPr/>
              </p:nvPicPr>
              <p:blipFill>
                <a:blip r:embed="rId5">
                  <a:lum bright="12000"/>
                </a:blip>
                <a:stretch/>
              </p:blipFill>
              <p:spPr>
                <a:xfrm>
                  <a:off x="6324480" y="3124080"/>
                  <a:ext cx="2133720" cy="93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4" name=""/>
                <p:cNvSpPr/>
                <p:nvPr/>
              </p:nvSpPr>
              <p:spPr>
                <a:xfrm flipH="1">
                  <a:off x="1295280" y="342900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295280" y="34290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1295280" y="3809880"/>
                  <a:ext cx="5029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876920" y="3886200"/>
                  <a:ext cx="1371600" cy="612720"/>
                </a:xfrm>
                <a:prstGeom prst="rightArrow">
                  <a:avLst>
                    <a:gd name="adj1" fmla="val 50000"/>
                    <a:gd name="adj2" fmla="val 5596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76920" y="2743200"/>
                  <a:ext cx="1371600" cy="609480"/>
                </a:xfrm>
                <a:prstGeom prst="rightArrow">
                  <a:avLst>
                    <a:gd name="adj1" fmla="val 50000"/>
                    <a:gd name="adj2" fmla="val 5626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V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 ~ P</a:t>
                  </a:r>
                  <a:r>
                    <a:rPr b="1" lang="en-US" sz="1400" spc="-1" strike="noStrike" baseline="-25000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"/>
            <p:cNvSpPr/>
            <p:nvPr/>
          </p:nvSpPr>
          <p:spPr>
            <a:xfrm>
              <a:off x="6400800" y="4114800"/>
              <a:ext cx="1981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6934320" y="3581280"/>
            <a:ext cx="2057400" cy="3124800"/>
            <a:chOff x="6934320" y="3581280"/>
            <a:chExt cx="2057400" cy="3124800"/>
          </a:xfrm>
        </p:grpSpPr>
        <p:sp>
          <p:nvSpPr>
            <p:cNvPr id="1001" name=""/>
            <p:cNvSpPr/>
            <p:nvPr/>
          </p:nvSpPr>
          <p:spPr>
            <a:xfrm>
              <a:off x="8381880" y="358128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381880" y="38098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34520" y="3809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991720" y="358128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7238880" y="4648320"/>
              <a:ext cx="936720" cy="1638360"/>
              <a:chOff x="7238880" y="4648320"/>
              <a:chExt cx="936720" cy="1638360"/>
            </a:xfrm>
          </p:grpSpPr>
          <p:graphicFrame>
            <p:nvGraphicFramePr>
              <p:cNvPr id="1006" name=""/>
              <p:cNvGraphicFramePr/>
              <p:nvPr/>
            </p:nvGraphicFramePr>
            <p:xfrm>
              <a:off x="7238880" y="4648320"/>
              <a:ext cx="936720" cy="1638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0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38880" y="464832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8" name="lv_logo_flip" descr=""/>
              <p:cNvPicPr/>
              <p:nvPr/>
            </p:nvPicPr>
            <p:blipFill>
              <a:blip r:embed="rId8"/>
              <a:stretch/>
            </p:blipFill>
            <p:spPr>
              <a:xfrm>
                <a:off x="7543800" y="548640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 flipH="1">
              <a:off x="8077320" y="5715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8001000" y="586728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34320" y="6248520"/>
              <a:ext cx="2057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5562720" y="4876920"/>
            <a:ext cx="1752120" cy="1788840"/>
            <a:chOff x="5562720" y="4876920"/>
            <a:chExt cx="1752120" cy="1788840"/>
          </a:xfrm>
        </p:grpSpPr>
        <p:grpSp>
          <p:nvGrpSpPr>
            <p:cNvPr id="1013" name=""/>
            <p:cNvGrpSpPr/>
            <p:nvPr/>
          </p:nvGrpSpPr>
          <p:grpSpPr>
            <a:xfrm>
              <a:off x="5562720" y="4876920"/>
              <a:ext cx="976320" cy="1131840"/>
              <a:chOff x="5562720" y="4876920"/>
              <a:chExt cx="976320" cy="113184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9"/>
              <a:srcRect l="24151" t="8624" r="22422" b="6105"/>
              <a:stretch/>
            </p:blipFill>
            <p:spPr>
              <a:xfrm>
                <a:off x="5562720" y="4876920"/>
                <a:ext cx="976320" cy="11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" descr=""/>
              <p:cNvPicPr/>
              <p:nvPr/>
            </p:nvPicPr>
            <p:blipFill>
              <a:blip r:embed="rId10"/>
              <a:srcRect l="24191" t="5876" r="0" b="46629"/>
              <a:stretch/>
            </p:blipFill>
            <p:spPr>
              <a:xfrm>
                <a:off x="5688720" y="5004720"/>
                <a:ext cx="724320" cy="62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5562720" y="6248520"/>
              <a:ext cx="977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L/T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6552720" y="541008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1257480" y="3924360"/>
            <a:ext cx="219708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icrophones must  be phase mat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pacer distance  may vary to cover entire frequenc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2819520" y="3124080"/>
                <a:ext cx="46623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ρΔr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3581280" y="4038480"/>
            <a:ext cx="16002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638680" y="4038480"/>
            <a:ext cx="16765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sure Differ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3048120" y="5334120"/>
                <a:ext cx="41018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  <m:r>
                          <m:t xml:space="preserve">Δ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666880" y="4724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/Dis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tes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 noise re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sourc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ensive to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spacers for full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thematically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y sources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ratory Acoustical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209680" y="1905120"/>
            <a:ext cx="2777760" cy="2590200"/>
            <a:chOff x="2209680" y="1905120"/>
            <a:chExt cx="2777760" cy="2590200"/>
          </a:xfrm>
        </p:grpSpPr>
        <p:sp>
          <p:nvSpPr>
            <p:cNvPr id="1037" name=""/>
            <p:cNvSpPr/>
            <p:nvPr/>
          </p:nvSpPr>
          <p:spPr>
            <a:xfrm>
              <a:off x="2209680" y="1905120"/>
              <a:ext cx="2777760" cy="20001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296080" y="1981440"/>
              <a:ext cx="2604960" cy="18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24483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24483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2448720" y="21369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5400000">
              <a:off x="2447640" y="229104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5400000">
              <a:off x="24483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24483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5400000">
              <a:off x="2448720" y="2752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5400000">
              <a:off x="2448720" y="2906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5400000">
              <a:off x="2448720" y="305928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24483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5400000">
              <a:off x="24483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5400000">
              <a:off x="2447640" y="352152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272952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290484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3078000" y="1981080"/>
              <a:ext cx="14688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32504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0800000">
              <a:off x="34250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359784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3770640" y="1981080"/>
              <a:ext cx="14940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10800000">
              <a:off x="39459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6200000">
              <a:off x="4618440" y="352116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800000">
              <a:off x="41187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4619160" y="1828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0800000">
              <a:off x="4293360" y="1981080"/>
              <a:ext cx="1472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6200000">
              <a:off x="4619160" y="33674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4619160" y="321408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4619520" y="3058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4619520" y="290592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4619520" y="275256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4619160" y="259812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4619160" y="244476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4618440" y="2290680"/>
              <a:ext cx="1321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4619520" y="2136600"/>
              <a:ext cx="12996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6200000">
              <a:off x="4619160" y="1983240"/>
              <a:ext cx="130320" cy="43596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41160" y="274068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3812760" y="2573280"/>
              <a:ext cx="28260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2963520" y="2656800"/>
              <a:ext cx="28260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3075120" y="31654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07080" y="3074760"/>
              <a:ext cx="37692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624120" y="249012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24120" y="3242160"/>
              <a:ext cx="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7524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638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52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11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5298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18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0708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9536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84000" y="3409200"/>
              <a:ext cx="149040" cy="386280"/>
            </a:xfrm>
            <a:prstGeom prst="triangle">
              <a:avLst>
                <a:gd name="adj" fmla="val 4913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09680" y="4077360"/>
              <a:ext cx="27345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echoic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562720" y="1905120"/>
            <a:ext cx="2866680" cy="2613600"/>
            <a:chOff x="5562720" y="1905120"/>
            <a:chExt cx="2866680" cy="2613600"/>
          </a:xfrm>
        </p:grpSpPr>
        <p:sp>
          <p:nvSpPr>
            <p:cNvPr id="1091" name=""/>
            <p:cNvSpPr/>
            <p:nvPr/>
          </p:nvSpPr>
          <p:spPr>
            <a:xfrm>
              <a:off x="5562720" y="1905120"/>
              <a:ext cx="2866680" cy="19699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99880" y="2013120"/>
              <a:ext cx="2615760" cy="176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43440" y="2597760"/>
              <a:ext cx="471240" cy="5011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114680" y="243072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6265800" y="2513880"/>
              <a:ext cx="28296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6377040" y="30225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9360" y="293184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6926400" y="2346840"/>
              <a:ext cx="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26400" y="3098880"/>
              <a:ext cx="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8002440" y="318816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738400" y="226872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115680" y="3521880"/>
              <a:ext cx="30024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5765760" y="3483000"/>
              <a:ext cx="352080" cy="292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5821920" y="3096000"/>
              <a:ext cx="317520" cy="32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7624800" y="2102040"/>
              <a:ext cx="299880" cy="244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8010000" y="2068560"/>
              <a:ext cx="182880" cy="37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7020720" y="3432960"/>
              <a:ext cx="18828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643440" y="343296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4200" y="251424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6360120" y="2096280"/>
              <a:ext cx="282960" cy="250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114680" y="2012760"/>
              <a:ext cx="188640" cy="333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03680" y="2096280"/>
              <a:ext cx="188280" cy="167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63920" y="3015360"/>
              <a:ext cx="377280" cy="166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97640" y="3432960"/>
              <a:ext cx="282960" cy="334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7775280" y="3266280"/>
              <a:ext cx="94320" cy="501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9360" y="2764800"/>
              <a:ext cx="377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7869240" y="2764800"/>
              <a:ext cx="376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99880" y="2848320"/>
              <a:ext cx="4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605920" y="4101120"/>
              <a:ext cx="2735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rberant Test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2502000" y="5575320"/>
            <a:ext cx="556236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oth cases, the Sound Power of the source can be from Sound Pressure Level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362320" y="4495680"/>
            <a:ext cx="259056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rfac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4495680"/>
            <a:ext cx="2819520" cy="9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nd power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76360" y="25909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Acou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181480"/>
            <a:ext cx="1600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Pressur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181480"/>
            <a:ext cx="213372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ou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ver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181480"/>
            <a:ext cx="251460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ransmiss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44956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oustic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4864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4864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248520"/>
            <a:ext cx="167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6248520"/>
            <a:ext cx="22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mediat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6248520"/>
            <a:ext cx="274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 and  Equipmen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ny point within an enclosure, the time required for the mean square pressure to decay by 60 dB, after the source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sound absorption in the enclosure is proportional to the 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/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RT (in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al Circuit Ana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129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130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1535040" y="2192400"/>
            <a:ext cx="5428800" cy="1868400"/>
            <a:chOff x="1535040" y="2192400"/>
            <a:chExt cx="5428800" cy="1868400"/>
          </a:xfrm>
        </p:grpSpPr>
        <p:sp>
          <p:nvSpPr>
            <p:cNvPr id="1134" name=""/>
            <p:cNvSpPr/>
            <p:nvPr/>
          </p:nvSpPr>
          <p:spPr>
            <a:xfrm>
              <a:off x="1535040" y="3898800"/>
              <a:ext cx="23875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623960" y="2192400"/>
              <a:ext cx="5339880" cy="1672920"/>
              <a:chOff x="1623960" y="2192400"/>
              <a:chExt cx="5339880" cy="167292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623960" y="2273400"/>
                <a:ext cx="2163960" cy="1546200"/>
                <a:chOff x="1623960" y="2273400"/>
                <a:chExt cx="2163960" cy="15462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623960" y="2273400"/>
                  <a:ext cx="2163960" cy="1546200"/>
                </a:xfrm>
                <a:prstGeom prst="rect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27280" y="2358000"/>
                  <a:ext cx="1974240" cy="1383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439360" y="2817000"/>
                  <a:ext cx="355680" cy="393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2795400" y="26859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>
                  <a:off x="2154240" y="2751120"/>
                  <a:ext cx="21348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239200" y="315324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866680" y="307908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2653200" y="2620080"/>
                  <a:ext cx="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653200" y="3210120"/>
                  <a:ext cx="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3465720" y="328284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1756800" y="256140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2041920" y="3544920"/>
                  <a:ext cx="225360" cy="18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773720" y="3510360"/>
                  <a:ext cx="271800" cy="232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820880" y="3211200"/>
                  <a:ext cx="236880" cy="2512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3181320" y="2430360"/>
                  <a:ext cx="225360" cy="1868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3468600" y="2401920"/>
                  <a:ext cx="143280" cy="2944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2724480" y="3472560"/>
                  <a:ext cx="14220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2439000" y="347256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798560" y="275148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flipV="1">
                  <a:off x="2225520" y="2423520"/>
                  <a:ext cx="213480" cy="196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V="1">
                  <a:off x="2795400" y="2357640"/>
                  <a:ext cx="142560" cy="261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937960" y="2423520"/>
                  <a:ext cx="142200" cy="1310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436200" y="3144960"/>
                  <a:ext cx="284760" cy="130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08880" y="3472560"/>
                  <a:ext cx="213480" cy="262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3294000" y="3341520"/>
                  <a:ext cx="71280" cy="3931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866680" y="2948040"/>
                  <a:ext cx="28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365280" y="2948040"/>
                  <a:ext cx="2844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727280" y="3013560"/>
                  <a:ext cx="3560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4896000" y="2192400"/>
                <a:ext cx="2067840" cy="1672920"/>
                <a:chOff x="4896000" y="2192400"/>
                <a:chExt cx="2067840" cy="16729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60062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166440" y="2192400"/>
                  <a:ext cx="0" cy="4374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896000" y="2739960"/>
                  <a:ext cx="684720" cy="6285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028120" y="2975760"/>
                  <a:ext cx="355320" cy="174240"/>
                </a:xfrm>
                <a:custGeom>
                  <a:avLst/>
                  <a:gdLst/>
                  <a:ahLst/>
                  <a:rect l="l" t="t" r="r" b="b"/>
                  <a:pathLst>
                    <a:path w="240" h="127">
                      <a:moveTo>
                        <a:pt x="0" y="97"/>
                      </a:moveTo>
                      <a:cubicBezTo>
                        <a:pt x="19" y="56"/>
                        <a:pt x="23" y="14"/>
                        <a:pt x="67" y="0"/>
                      </a:cubicBezTo>
                      <a:cubicBezTo>
                        <a:pt x="105" y="25"/>
                        <a:pt x="84" y="7"/>
                        <a:pt x="120" y="60"/>
                      </a:cubicBezTo>
                      <a:cubicBezTo>
                        <a:pt x="125" y="67"/>
                        <a:pt x="135" y="82"/>
                        <a:pt x="135" y="82"/>
                      </a:cubicBezTo>
                      <a:cubicBezTo>
                        <a:pt x="144" y="113"/>
                        <a:pt x="157" y="117"/>
                        <a:pt x="187" y="127"/>
                      </a:cubicBezTo>
                      <a:cubicBezTo>
                        <a:pt x="226" y="115"/>
                        <a:pt x="240" y="77"/>
                        <a:pt x="240" y="37"/>
                      </a:cubicBezTo>
                    </a:path>
                  </a:pathLst>
                </a:custGeom>
                <a:noFill/>
                <a:ln cap="sq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251320" y="2410560"/>
                  <a:ext cx="0" cy="328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251320" y="2410920"/>
                  <a:ext cx="70524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221880" y="2410920"/>
                  <a:ext cx="7419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963840" y="2410920"/>
                  <a:ext cx="0" cy="1339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251320" y="3394080"/>
                  <a:ext cx="0" cy="2826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251320" y="3700800"/>
                  <a:ext cx="5173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5768640" y="3602520"/>
                  <a:ext cx="640080" cy="262800"/>
                  <a:chOff x="5768640" y="3602520"/>
                  <a:chExt cx="640080" cy="26280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576864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V="1">
                    <a:off x="583956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flipH="1" flipV="1">
                    <a:off x="591048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98212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V="1">
                    <a:off x="605340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flipH="1" flipV="1">
                    <a:off x="612396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195600" y="3734280"/>
                    <a:ext cx="70920" cy="1310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V="1">
                    <a:off x="6266880" y="3602520"/>
                    <a:ext cx="70920" cy="2628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H="1" flipV="1">
                    <a:off x="6337800" y="3602880"/>
                    <a:ext cx="70920" cy="1314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"/>
                <p:cNvSpPr/>
                <p:nvPr/>
              </p:nvSpPr>
              <p:spPr>
                <a:xfrm>
                  <a:off x="6404040" y="3750120"/>
                  <a:ext cx="55620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4011480" y="2924280"/>
                <a:ext cx="795600" cy="325440"/>
              </a:xfrm>
              <a:prstGeom prst="rightArrow">
                <a:avLst>
                  <a:gd name="adj1" fmla="val 50000"/>
                  <a:gd name="adj2" fmla="val 61117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1890720" y="1892160"/>
            <a:ext cx="5099040" cy="231840"/>
            <a:chOff x="1890720" y="1892160"/>
            <a:chExt cx="5099040" cy="231840"/>
          </a:xfrm>
        </p:grpSpPr>
        <p:sp>
          <p:nvSpPr>
            <p:cNvPr id="1189" name=""/>
            <p:cNvSpPr/>
            <p:nvPr/>
          </p:nvSpPr>
          <p:spPr>
            <a:xfrm>
              <a:off x="1890720" y="1905120"/>
              <a:ext cx="182880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hamber Volume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77040" y="1892160"/>
              <a:ext cx="151272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apacitor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8800" y="1922400"/>
              <a:ext cx="1511280" cy="150840"/>
            </a:xfrm>
            <a:prstGeom prst="rightArrow">
              <a:avLst>
                <a:gd name="adj1" fmla="val 50000"/>
                <a:gd name="adj2" fmla="val 25047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801800" y="4118040"/>
            <a:ext cx="5013360" cy="349200"/>
            <a:chOff x="1801800" y="4118040"/>
            <a:chExt cx="5013360" cy="349200"/>
          </a:xfrm>
        </p:grpSpPr>
        <p:sp>
          <p:nvSpPr>
            <p:cNvPr id="1193" name=""/>
            <p:cNvSpPr/>
            <p:nvPr/>
          </p:nvSpPr>
          <p:spPr>
            <a:xfrm>
              <a:off x="5576760" y="4118040"/>
              <a:ext cx="123840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Resistor R</a:t>
              </a: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01800" y="4202280"/>
              <a:ext cx="177804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otal Absorption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20960" y="4200480"/>
              <a:ext cx="1640160" cy="187200"/>
            </a:xfrm>
            <a:prstGeom prst="rightArrow">
              <a:avLst>
                <a:gd name="adj1" fmla="val 50000"/>
                <a:gd name="adj2" fmla="val 219038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1003320" y="4492800"/>
            <a:ext cx="7581960" cy="1565280"/>
            <a:chOff x="1003320" y="4492800"/>
            <a:chExt cx="7581960" cy="1565280"/>
          </a:xfrm>
        </p:grpSpPr>
        <p:pic>
          <p:nvPicPr>
            <p:cNvPr id="1197" name="" descr=""/>
            <p:cNvPicPr/>
            <p:nvPr/>
          </p:nvPicPr>
          <p:blipFill>
            <a:blip r:embed="rId3"/>
            <a:stretch/>
          </p:blipFill>
          <p:spPr>
            <a:xfrm>
              <a:off x="1647720" y="4551480"/>
              <a:ext cx="210024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"/>
            <a:stretch/>
          </p:blipFill>
          <p:spPr>
            <a:xfrm>
              <a:off x="5311800" y="4492800"/>
              <a:ext cx="204948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003320" y="5773680"/>
              <a:ext cx="324792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Decay Rate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Absorption * (1/Volu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33800" y="5778360"/>
              <a:ext cx="36514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ime Constant </a:t>
              </a:r>
              <a:r>
                <a:rPr b="1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</a:t>
              </a: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 Resistance * Capaci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41680" y="5846760"/>
              <a:ext cx="441360" cy="163440"/>
            </a:xfrm>
            <a:prstGeom prst="rightArrow">
              <a:avLst>
                <a:gd name="adj1" fmla="val 50000"/>
                <a:gd name="adj2" fmla="val 67511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0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676520" y="1981080"/>
            <a:ext cx="2438280" cy="2305080"/>
            <a:chOff x="1676520" y="1981080"/>
            <a:chExt cx="2438280" cy="2305080"/>
          </a:xfrm>
        </p:grpSpPr>
        <p:sp>
          <p:nvSpPr>
            <p:cNvPr id="1210" name=""/>
            <p:cNvSpPr/>
            <p:nvPr/>
          </p:nvSpPr>
          <p:spPr>
            <a:xfrm>
              <a:off x="1676520" y="1981080"/>
              <a:ext cx="2438280" cy="1981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82720" y="2084400"/>
              <a:ext cx="222588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3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14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215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218" name="ni455x" descr="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226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229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231" name="lv_logo_flip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2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75440" y="279396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973080" y="2161800"/>
            <a:ext cx="1884600" cy="2959920"/>
            <a:chOff x="973080" y="2161800"/>
            <a:chExt cx="1884600" cy="2959920"/>
          </a:xfrm>
        </p:grpSpPr>
        <p:sp>
          <p:nvSpPr>
            <p:cNvPr id="1236" name=""/>
            <p:cNvSpPr/>
            <p:nvPr/>
          </p:nvSpPr>
          <p:spPr>
            <a:xfrm>
              <a:off x="1562040" y="4597560"/>
              <a:ext cx="12956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nterrupt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238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973080" y="4636800"/>
              <a:ext cx="484920" cy="484920"/>
              <a:chOff x="973080" y="4636800"/>
              <a:chExt cx="484920" cy="484920"/>
            </a:xfrm>
          </p:grpSpPr>
          <p:sp>
            <p:nvSpPr>
              <p:cNvPr id="1243" name=""/>
              <p:cNvSpPr/>
              <p:nvPr/>
            </p:nvSpPr>
            <p:spPr>
              <a:xfrm rot="8100000">
                <a:off x="963000" y="474120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8100000">
                <a:off x="996480" y="466020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134360" y="487944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215720" y="479844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890280" y="2443320"/>
            <a:ext cx="2598120" cy="3615840"/>
            <a:chOff x="890280" y="2443320"/>
            <a:chExt cx="2598120" cy="3615840"/>
          </a:xfrm>
        </p:grpSpPr>
        <p:sp>
          <p:nvSpPr>
            <p:cNvPr id="1248" name=""/>
            <p:cNvSpPr/>
            <p:nvPr/>
          </p:nvSpPr>
          <p:spPr>
            <a:xfrm>
              <a:off x="1689120" y="525780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9800000">
              <a:off x="914400" y="566388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927000" y="5283360"/>
              <a:ext cx="609840" cy="152280"/>
              <a:chOff x="927000" y="5283360"/>
              <a:chExt cx="609840" cy="152280"/>
            </a:xfrm>
          </p:grpSpPr>
          <p:sp>
            <p:nvSpPr>
              <p:cNvPr id="1252" name=""/>
              <p:cNvSpPr/>
              <p:nvPr/>
            </p:nvSpPr>
            <p:spPr>
              <a:xfrm>
                <a:off x="927000" y="528336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384200" y="5283360"/>
                <a:ext cx="15264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255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1600200" y="566424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4965840" y="4113360"/>
            <a:ext cx="2768400" cy="2549520"/>
            <a:chOff x="4965840" y="4113360"/>
            <a:chExt cx="2768400" cy="2549520"/>
          </a:xfrm>
        </p:grpSpPr>
        <p:pic>
          <p:nvPicPr>
            <p:cNvPr id="1259" name="" descr=""/>
            <p:cNvPicPr/>
            <p:nvPr/>
          </p:nvPicPr>
          <p:blipFill>
            <a:blip r:embed="rId10"/>
            <a:srcRect l="24151" t="8624" r="22422" b="6105"/>
            <a:stretch/>
          </p:blipFill>
          <p:spPr>
            <a:xfrm>
              <a:off x="4965840" y="4710240"/>
              <a:ext cx="133164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0" name=""/>
            <p:cNvGrpSpPr/>
            <p:nvPr/>
          </p:nvGrpSpPr>
          <p:grpSpPr>
            <a:xfrm>
              <a:off x="5016600" y="4113360"/>
              <a:ext cx="2717640" cy="2549520"/>
              <a:chOff x="5016600" y="4113360"/>
              <a:chExt cx="2717640" cy="2549520"/>
            </a:xfrm>
          </p:grpSpPr>
          <p:sp>
            <p:nvSpPr>
              <p:cNvPr id="1261" name=""/>
              <p:cNvSpPr/>
              <p:nvPr/>
            </p:nvSpPr>
            <p:spPr>
              <a:xfrm>
                <a:off x="5016600" y="6157800"/>
                <a:ext cx="11113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/3 OB PW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sults Displ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 flipV="1">
                <a:off x="6337080" y="5611680"/>
                <a:ext cx="825480" cy="14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95960" y="411336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Curve Fitt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29280" y="4910040"/>
                <a:ext cx="1025280" cy="69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1216080" y="1986120"/>
            <a:ext cx="5476680" cy="4217040"/>
            <a:chOff x="1216080" y="1986120"/>
            <a:chExt cx="5476680" cy="4217040"/>
          </a:xfrm>
        </p:grpSpPr>
        <p:pic>
          <p:nvPicPr>
            <p:cNvPr id="1266" name="" descr=""/>
            <p:cNvPicPr/>
            <p:nvPr/>
          </p:nvPicPr>
          <p:blipFill>
            <a:blip r:embed="rId2"/>
            <a:stretch/>
          </p:blipFill>
          <p:spPr>
            <a:xfrm>
              <a:off x="1216080" y="1986120"/>
              <a:ext cx="5476680" cy="38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2209680" y="5867280"/>
              <a:ext cx="363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nd Pressure Level Versus 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7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7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2576520" y="2013120"/>
            <a:ext cx="6377040" cy="1857600"/>
            <a:chOff x="2576520" y="2013120"/>
            <a:chExt cx="6377040" cy="1857600"/>
          </a:xfrm>
        </p:grpSpPr>
        <p:sp>
          <p:nvSpPr>
            <p:cNvPr id="1276" name=""/>
            <p:cNvSpPr/>
            <p:nvPr/>
          </p:nvSpPr>
          <p:spPr>
            <a:xfrm>
              <a:off x="2576520" y="3084480"/>
              <a:ext cx="90648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43880" y="2013120"/>
              <a:ext cx="2209680" cy="1857600"/>
            </a:xfrm>
            <a:prstGeom prst="borderCallout2">
              <a:avLst>
                <a:gd name="adj1" fmla="val 18750"/>
                <a:gd name="adj2" fmla="val -8333"/>
                <a:gd name="adj3" fmla="val 5712"/>
                <a:gd name="adj4" fmla="val -81324"/>
                <a:gd name="adj5" fmla="val 54657"/>
                <a:gd name="adj6" fmla="val -162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east Square Error fit to early portion of level vs time decay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lope = decay ra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 (dB/se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6730920" y="4444920"/>
            <a:ext cx="2197080" cy="135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verbera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T = 60/d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2743200" y="2971800"/>
            <a:ext cx="624852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transmission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u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666520" y="25905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nd absorption coefficient is the percentage of incident sound energy that, rather than being reflected, is converted to other forms of energy such as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2666880" y="434340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Absorption Coefficient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mensionl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666880" y="55627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288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289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295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296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838080" y="4267080"/>
            <a:ext cx="2133720" cy="1905120"/>
            <a:chOff x="838080" y="4267080"/>
            <a:chExt cx="2133720" cy="1905120"/>
          </a:xfrm>
        </p:grpSpPr>
        <p:sp>
          <p:nvSpPr>
            <p:cNvPr id="1300" name=""/>
            <p:cNvSpPr/>
            <p:nvPr/>
          </p:nvSpPr>
          <p:spPr>
            <a:xfrm>
              <a:off x="838080" y="4267080"/>
              <a:ext cx="2133720" cy="190512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90720" y="4343400"/>
              <a:ext cx="1703160" cy="322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3429000" y="5103720"/>
            <a:ext cx="2057040" cy="1565280"/>
            <a:chOff x="3429000" y="5103720"/>
            <a:chExt cx="2057040" cy="1565280"/>
          </a:xfrm>
        </p:grpSpPr>
        <p:grpSp>
          <p:nvGrpSpPr>
            <p:cNvPr id="1303" name=""/>
            <p:cNvGrpSpPr/>
            <p:nvPr/>
          </p:nvGrpSpPr>
          <p:grpSpPr>
            <a:xfrm>
              <a:off x="3429000" y="5103720"/>
              <a:ext cx="1844640" cy="1565280"/>
              <a:chOff x="3429000" y="5103720"/>
              <a:chExt cx="1844640" cy="1565280"/>
            </a:xfrm>
          </p:grpSpPr>
          <p:sp>
            <p:nvSpPr>
              <p:cNvPr id="1304" name=""/>
              <p:cNvSpPr/>
              <p:nvPr/>
            </p:nvSpPr>
            <p:spPr>
              <a:xfrm>
                <a:off x="3429000" y="60940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5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37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6" name=""/>
            <p:cNvSpPr/>
            <p:nvPr/>
          </p:nvSpPr>
          <p:spPr>
            <a:xfrm flipH="1">
              <a:off x="5181120" y="54846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343400" y="4417920"/>
            <a:ext cx="2819520" cy="2257560"/>
            <a:chOff x="4343400" y="4417920"/>
            <a:chExt cx="2819520" cy="2257560"/>
          </a:xfrm>
        </p:grpSpPr>
        <p:sp>
          <p:nvSpPr>
            <p:cNvPr id="1308" name=""/>
            <p:cNvSpPr/>
            <p:nvPr/>
          </p:nvSpPr>
          <p:spPr>
            <a:xfrm>
              <a:off x="5410080" y="617076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486400" y="4951440"/>
              <a:ext cx="1090440" cy="1149480"/>
              <a:chOff x="5486400" y="4951440"/>
              <a:chExt cx="1090440" cy="1149480"/>
            </a:xfrm>
          </p:grpSpPr>
          <p:pic>
            <p:nvPicPr>
              <p:cNvPr id="1310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144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104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2" name=""/>
            <p:cNvSpPr/>
            <p:nvPr/>
          </p:nvSpPr>
          <p:spPr>
            <a:xfrm flipH="1" flipV="1">
              <a:off x="6553080" y="5484960"/>
              <a:ext cx="60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343400" y="44179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bsorption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819520" y="1751040"/>
            <a:ext cx="5022720" cy="1852560"/>
            <a:chOff x="2819520" y="1751040"/>
            <a:chExt cx="5022720" cy="1852560"/>
          </a:xfrm>
        </p:grpSpPr>
        <p:pic>
          <p:nvPicPr>
            <p:cNvPr id="1315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824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5867280" y="312264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19720" y="26654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2819520" y="175104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6200000">
              <a:off x="4914720" y="163656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819520" y="175104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720" y="17510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835680" y="2589120"/>
            <a:ext cx="1851120" cy="4269240"/>
            <a:chOff x="6835680" y="2589120"/>
            <a:chExt cx="1851120" cy="4269240"/>
          </a:xfrm>
        </p:grpSpPr>
        <p:sp>
          <p:nvSpPr>
            <p:cNvPr id="1323" name=""/>
            <p:cNvSpPr/>
            <p:nvPr/>
          </p:nvSpPr>
          <p:spPr>
            <a:xfrm>
              <a:off x="7848720" y="2589120"/>
              <a:ext cx="838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35680" y="6218280"/>
              <a:ext cx="152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7010280" y="4616280"/>
              <a:ext cx="936720" cy="1638360"/>
              <a:chOff x="7010280" y="4616280"/>
              <a:chExt cx="936720" cy="1638360"/>
            </a:xfrm>
          </p:grpSpPr>
          <p:graphicFrame>
            <p:nvGraphicFramePr>
              <p:cNvPr id="1326" name=""/>
              <p:cNvGraphicFramePr/>
              <p:nvPr/>
            </p:nvGraphicFramePr>
            <p:xfrm>
              <a:off x="7010280" y="4616280"/>
              <a:ext cx="936720" cy="163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1028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28" name="lv_logo_flip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208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9" name=""/>
            <p:cNvSpPr/>
            <p:nvPr/>
          </p:nvSpPr>
          <p:spPr>
            <a:xfrm>
              <a:off x="868680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7772400" y="57150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24680" y="3276720"/>
              <a:ext cx="609840" cy="1981080"/>
            </a:xfrm>
            <a:prstGeom prst="downArrow">
              <a:avLst>
                <a:gd name="adj1" fmla="val 50000"/>
                <a:gd name="adj2" fmla="val 8121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960480" y="2161800"/>
            <a:ext cx="2011320" cy="3264120"/>
            <a:chOff x="960480" y="2161800"/>
            <a:chExt cx="2011320" cy="3264120"/>
          </a:xfrm>
        </p:grpSpPr>
        <p:sp>
          <p:nvSpPr>
            <p:cNvPr id="1333" name=""/>
            <p:cNvSpPr/>
            <p:nvPr/>
          </p:nvSpPr>
          <p:spPr>
            <a:xfrm>
              <a:off x="2448000" y="3429000"/>
              <a:ext cx="2588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2706840" y="3630240"/>
              <a:ext cx="215640" cy="142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76520" y="4952880"/>
              <a:ext cx="1295280" cy="4730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337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960480" y="4903560"/>
              <a:ext cx="484920" cy="484920"/>
              <a:chOff x="960480" y="4903560"/>
              <a:chExt cx="484920" cy="484920"/>
            </a:xfrm>
          </p:grpSpPr>
          <p:sp>
            <p:nvSpPr>
              <p:cNvPr id="1342" name=""/>
              <p:cNvSpPr/>
              <p:nvPr/>
            </p:nvSpPr>
            <p:spPr>
              <a:xfrm rot="8100000">
                <a:off x="950400" y="500796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8100000">
                <a:off x="983880" y="492696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1760" y="514620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203120" y="506520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914400" y="3768840"/>
            <a:ext cx="2308320" cy="1197000"/>
            <a:chOff x="914400" y="3768840"/>
            <a:chExt cx="2308320" cy="1197000"/>
          </a:xfrm>
        </p:grpSpPr>
        <p:sp>
          <p:nvSpPr>
            <p:cNvPr id="1347" name=""/>
            <p:cNvSpPr/>
            <p:nvPr/>
          </p:nvSpPr>
          <p:spPr>
            <a:xfrm>
              <a:off x="1676520" y="4648320"/>
              <a:ext cx="1295280" cy="317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peci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62320" y="3768840"/>
              <a:ext cx="860400" cy="856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4400" y="4724280"/>
              <a:ext cx="457200" cy="109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351" name=""/>
            <p:cNvSpPr/>
            <p:nvPr/>
          </p:nvSpPr>
          <p:spPr>
            <a:xfrm>
              <a:off x="1676520" y="5410080"/>
              <a:ext cx="1066680" cy="355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355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358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+speci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.92*V*d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total absorption in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olume to test chamber (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decay rate of sound pressure level (in dB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speed of sound in air (343m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energy radiated by a device, per uni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power level (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WL) in decibels (dB) relative to a reference level (usually 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t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expressed in terms of an overall level (linear), weighted level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band levels (1/1 octave, 1/3 octav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"/>
          <p:cNvGrpSpPr/>
          <p:nvPr/>
        </p:nvGrpSpPr>
        <p:grpSpPr>
          <a:xfrm>
            <a:off x="1371600" y="2057400"/>
            <a:ext cx="3083040" cy="2693880"/>
            <a:chOff x="1371600" y="2057400"/>
            <a:chExt cx="3083040" cy="2693880"/>
          </a:xfrm>
        </p:grpSpPr>
        <p:grpSp>
          <p:nvGrpSpPr>
            <p:cNvPr id="1368" name=""/>
            <p:cNvGrpSpPr/>
            <p:nvPr/>
          </p:nvGrpSpPr>
          <p:grpSpPr>
            <a:xfrm>
              <a:off x="1523880" y="2057400"/>
              <a:ext cx="2930760" cy="2381400"/>
              <a:chOff x="1523880" y="2057400"/>
              <a:chExt cx="2930760" cy="2381400"/>
            </a:xfrm>
          </p:grpSpPr>
          <p:sp>
            <p:nvSpPr>
              <p:cNvPr id="1369" name=""/>
              <p:cNvSpPr/>
              <p:nvPr/>
            </p:nvSpPr>
            <p:spPr>
              <a:xfrm>
                <a:off x="1523880" y="2057400"/>
                <a:ext cx="2930760" cy="23814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615320" y="2148840"/>
                <a:ext cx="2747520" cy="219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5400000">
                <a:off x="176688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5400000">
                <a:off x="176688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5400000">
                <a:off x="176688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5400000">
                <a:off x="176688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5400000">
                <a:off x="176688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176688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5400000">
                <a:off x="176688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5400000">
                <a:off x="176688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5400000">
                <a:off x="176688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5400000">
                <a:off x="176688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5400000">
                <a:off x="176688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5400000">
                <a:off x="176688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0800000">
                <a:off x="20732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0800000">
                <a:off x="22564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0800000">
                <a:off x="24397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0800000">
                <a:off x="26229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0800000">
                <a:off x="28058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800000">
                <a:off x="298908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0800000">
                <a:off x="317232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0800000">
                <a:off x="335556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6200000">
                <a:off x="4057200" y="40118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0800000">
                <a:off x="353880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6200000">
                <a:off x="4057200" y="19965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0800000">
                <a:off x="3722040" y="21484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6200000">
                <a:off x="4057200" y="38286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6200000">
                <a:off x="4057200" y="364536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6200000">
                <a:off x="4057200" y="34621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6200000">
                <a:off x="4057200" y="32788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6200000">
                <a:off x="4057200" y="30956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6200000">
                <a:off x="4057200" y="29124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6200000">
                <a:off x="4057200" y="272952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6200000">
                <a:off x="4057200" y="254628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6200000">
                <a:off x="4057200" y="236304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6200000">
                <a:off x="4057200" y="2179800"/>
                <a:ext cx="155520" cy="459720"/>
              </a:xfrm>
              <a:prstGeom prst="triangle">
                <a:avLst>
                  <a:gd name="adj" fmla="val 4913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1371600" y="4419720"/>
              <a:ext cx="298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mi-Anechoic 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762120" y="4800600"/>
            <a:ext cx="205740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 - Free — Field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1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1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838080" y="3909960"/>
            <a:ext cx="2363760" cy="1676520"/>
            <a:chOff x="838080" y="3909960"/>
            <a:chExt cx="2363760" cy="1676520"/>
          </a:xfrm>
        </p:grpSpPr>
        <p:sp>
          <p:nvSpPr>
            <p:cNvPr id="1415" name=""/>
            <p:cNvSpPr/>
            <p:nvPr/>
          </p:nvSpPr>
          <p:spPr>
            <a:xfrm>
              <a:off x="2743200" y="390996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6200000">
              <a:off x="867600" y="5227920"/>
              <a:ext cx="322200" cy="38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95280" y="52578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914400" y="48769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etup 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7010280" y="2666880"/>
            <a:ext cx="1905120" cy="4189680"/>
            <a:chOff x="7010280" y="2666880"/>
            <a:chExt cx="1905120" cy="4189680"/>
          </a:xfrm>
        </p:grpSpPr>
        <p:sp>
          <p:nvSpPr>
            <p:cNvPr id="1420" name=""/>
            <p:cNvSpPr/>
            <p:nvPr/>
          </p:nvSpPr>
          <p:spPr>
            <a:xfrm>
              <a:off x="8763120" y="26668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0280" y="2666880"/>
              <a:ext cx="1905120" cy="4189680"/>
              <a:chOff x="7010280" y="2666880"/>
              <a:chExt cx="1905120" cy="4189680"/>
            </a:xfrm>
          </p:grpSpPr>
          <p:sp>
            <p:nvSpPr>
              <p:cNvPr id="1422" name=""/>
              <p:cNvSpPr/>
              <p:nvPr/>
            </p:nvSpPr>
            <p:spPr>
              <a:xfrm>
                <a:off x="7010280" y="6216480"/>
                <a:ext cx="152424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C with LabVIEW Control and Analysis Soft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7032600" y="4616280"/>
                <a:ext cx="936720" cy="1638360"/>
                <a:chOff x="7032600" y="4616280"/>
                <a:chExt cx="936720" cy="1638360"/>
              </a:xfrm>
            </p:grpSpPr>
            <p:graphicFrame>
              <p:nvGraphicFramePr>
                <p:cNvPr id="1424" name=""/>
                <p:cNvGraphicFramePr/>
                <p:nvPr/>
              </p:nvGraphicFramePr>
              <p:xfrm>
                <a:off x="7032600" y="4616280"/>
                <a:ext cx="936720" cy="1638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42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032600" y="4616280"/>
                          <a:ext cx="936720" cy="1638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426" name="lv_logo_flip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94400" y="5530680"/>
                  <a:ext cx="43344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27" name=""/>
              <p:cNvSpPr/>
              <p:nvPr/>
            </p:nvSpPr>
            <p:spPr>
              <a:xfrm>
                <a:off x="8915400" y="2666880"/>
                <a:ext cx="0" cy="304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7848360" y="5715000"/>
                <a:ext cx="106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229600" y="3581280"/>
                <a:ext cx="609480" cy="1981440"/>
              </a:xfrm>
              <a:prstGeom prst="downArrow">
                <a:avLst>
                  <a:gd name="adj1" fmla="val 50000"/>
                  <a:gd name="adj2" fmla="val 8127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ctave Band L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E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3200400" y="5029200"/>
            <a:ext cx="2286000" cy="1527120"/>
            <a:chOff x="3200400" y="5029200"/>
            <a:chExt cx="2286000" cy="1527120"/>
          </a:xfrm>
        </p:grpSpPr>
        <p:sp>
          <p:nvSpPr>
            <p:cNvPr id="1431" name=""/>
            <p:cNvSpPr/>
            <p:nvPr/>
          </p:nvSpPr>
          <p:spPr>
            <a:xfrm>
              <a:off x="3200400" y="5981760"/>
              <a:ext cx="1844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2" name="" descr=""/>
            <p:cNvPicPr/>
            <p:nvPr/>
          </p:nvPicPr>
          <p:blipFill>
            <a:blip r:embed="rId6"/>
            <a:srcRect l="34201" t="22244" r="49120" b="66639"/>
            <a:stretch/>
          </p:blipFill>
          <p:spPr>
            <a:xfrm>
              <a:off x="3276720" y="502920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4572000" y="4419720"/>
            <a:ext cx="2514600" cy="2276280"/>
            <a:chOff x="4572000" y="4419720"/>
            <a:chExt cx="2514600" cy="2276280"/>
          </a:xfrm>
        </p:grpSpPr>
        <p:sp>
          <p:nvSpPr>
            <p:cNvPr id="1435" name=""/>
            <p:cNvSpPr/>
            <p:nvPr/>
          </p:nvSpPr>
          <p:spPr>
            <a:xfrm>
              <a:off x="5545080" y="619128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RTA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4572000" y="4419720"/>
              <a:ext cx="2514600" cy="1682640"/>
              <a:chOff x="4572000" y="4419720"/>
              <a:chExt cx="2514600" cy="1682640"/>
            </a:xfrm>
          </p:grpSpPr>
          <p:grpSp>
            <p:nvGrpSpPr>
              <p:cNvPr id="1437" name=""/>
              <p:cNvGrpSpPr/>
              <p:nvPr/>
            </p:nvGrpSpPr>
            <p:grpSpPr>
              <a:xfrm>
                <a:off x="5486400" y="4952880"/>
                <a:ext cx="1090440" cy="1149480"/>
                <a:chOff x="5486400" y="4952880"/>
                <a:chExt cx="1090440" cy="1149480"/>
              </a:xfrm>
            </p:grpSpPr>
            <p:pic>
              <p:nvPicPr>
                <p:cNvPr id="1438" name="" descr=""/>
                <p:cNvPicPr/>
                <p:nvPr/>
              </p:nvPicPr>
              <p:blipFill>
                <a:blip r:embed="rId7"/>
                <a:srcRect l="24151" t="8624" r="22422" b="6105"/>
                <a:stretch/>
              </p:blipFill>
              <p:spPr>
                <a:xfrm>
                  <a:off x="5486400" y="4952880"/>
                  <a:ext cx="1090440" cy="114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9" name="" descr=""/>
                <p:cNvPicPr/>
                <p:nvPr/>
              </p:nvPicPr>
              <p:blipFill>
                <a:blip r:embed="rId8"/>
                <a:srcRect l="24191" t="5876" r="0" b="46629"/>
                <a:stretch/>
              </p:blipFill>
              <p:spPr>
                <a:xfrm>
                  <a:off x="5626800" y="5082480"/>
                  <a:ext cx="808920" cy="63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40" name=""/>
              <p:cNvSpPr/>
              <p:nvPr/>
            </p:nvSpPr>
            <p:spPr>
              <a:xfrm flipH="1">
                <a:off x="6553080" y="548640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572000" y="4419720"/>
                <a:ext cx="2438280" cy="457200"/>
              </a:xfrm>
              <a:prstGeom prst="leftArrow">
                <a:avLst>
                  <a:gd name="adj1" fmla="val 50000"/>
                  <a:gd name="adj2" fmla="val 13332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/3 OB Sound Power Resul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2" name=""/>
          <p:cNvGrpSpPr/>
          <p:nvPr/>
        </p:nvGrpSpPr>
        <p:grpSpPr>
          <a:xfrm>
            <a:off x="838080" y="1752120"/>
            <a:ext cx="7918560" cy="4159800"/>
            <a:chOff x="838080" y="1752120"/>
            <a:chExt cx="7918560" cy="4159800"/>
          </a:xfrm>
        </p:grpSpPr>
        <p:sp>
          <p:nvSpPr>
            <p:cNvPr id="1443" name=""/>
            <p:cNvSpPr/>
            <p:nvPr/>
          </p:nvSpPr>
          <p:spPr>
            <a:xfrm>
              <a:off x="1371600" y="56386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838080" y="5715000"/>
              <a:ext cx="457200" cy="152280"/>
              <a:chOff x="838080" y="5715000"/>
              <a:chExt cx="457200" cy="152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838080" y="571500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143000" y="5715000"/>
                <a:ext cx="152280" cy="1522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2050920" y="1752120"/>
              <a:ext cx="6705720" cy="2009520"/>
              <a:chOff x="2050920" y="1752120"/>
              <a:chExt cx="6705720" cy="2009520"/>
            </a:xfrm>
          </p:grpSpPr>
          <p:grpSp>
            <p:nvGrpSpPr>
              <p:cNvPr id="1448" name=""/>
              <p:cNvGrpSpPr/>
              <p:nvPr/>
            </p:nvGrpSpPr>
            <p:grpSpPr>
              <a:xfrm>
                <a:off x="6858000" y="2209680"/>
                <a:ext cx="1898640" cy="1395360"/>
                <a:chOff x="6858000" y="2209680"/>
                <a:chExt cx="1898640" cy="1395360"/>
              </a:xfrm>
            </p:grpSpPr>
            <p:pic>
              <p:nvPicPr>
                <p:cNvPr id="1449" name="ni455x" descr=""/>
                <p:cNvPicPr/>
                <p:nvPr/>
              </p:nvPicPr>
              <p:blipFill>
                <a:blip r:embed="rId10">
                  <a:lum bright="12000"/>
                </a:blip>
                <a:stretch/>
              </p:blipFill>
              <p:spPr>
                <a:xfrm>
                  <a:off x="6858000" y="2209680"/>
                  <a:ext cx="1898640" cy="82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0" name=""/>
                <p:cNvSpPr/>
                <p:nvPr/>
              </p:nvSpPr>
              <p:spPr>
                <a:xfrm>
                  <a:off x="6933960" y="3124080"/>
                  <a:ext cx="181476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I 455x and DSA with Real-Time Octav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1" name=""/>
              <p:cNvSpPr/>
              <p:nvPr/>
            </p:nvSpPr>
            <p:spPr>
              <a:xfrm>
                <a:off x="6629400" y="259092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77120" y="3429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6629400" y="25909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4" name=""/>
              <p:cNvGrpSpPr/>
              <p:nvPr/>
            </p:nvGrpSpPr>
            <p:grpSpPr>
              <a:xfrm>
                <a:off x="2050920" y="1752120"/>
                <a:ext cx="4434120" cy="2009520"/>
                <a:chOff x="2050920" y="1752120"/>
                <a:chExt cx="4434120" cy="20095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4724280" y="3200400"/>
                  <a:ext cx="1760760" cy="441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ultiplex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2133720" y="1752120"/>
                  <a:ext cx="0" cy="167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2895480" y="1828440"/>
                  <a:ext cx="0" cy="121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V="1">
                  <a:off x="3733920" y="1904760"/>
                  <a:ext cx="0" cy="1600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733920" y="1905120"/>
                  <a:ext cx="1218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895480" y="1828800"/>
                  <a:ext cx="2590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133720" y="1752480"/>
                  <a:ext cx="411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48520" y="175248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486400" y="1828800"/>
                  <a:ext cx="0" cy="1371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952880" y="1905120"/>
                  <a:ext cx="0" cy="129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638680" y="1828800"/>
                  <a:ext cx="533520" cy="1219320"/>
                </a:xfrm>
                <a:prstGeom prst="downArrow">
                  <a:avLst>
                    <a:gd name="adj1" fmla="val 50000"/>
                    <a:gd name="adj2" fmla="val 57136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Arial"/>
                    </a:rPr>
                    <a:t>V(t) ~ P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6" name=""/>
                <p:cNvGrpSpPr/>
                <p:nvPr/>
              </p:nvGrpSpPr>
              <p:grpSpPr>
                <a:xfrm>
                  <a:off x="2050920" y="3401280"/>
                  <a:ext cx="471240" cy="360360"/>
                  <a:chOff x="2050920" y="3401280"/>
                  <a:chExt cx="471240" cy="36036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 rot="1800000">
                    <a:off x="2057760" y="35053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rot="1800000">
                    <a:off x="234144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9" name=""/>
                <p:cNvGrpSpPr/>
                <p:nvPr/>
              </p:nvGrpSpPr>
              <p:grpSpPr>
                <a:xfrm>
                  <a:off x="2819160" y="3048120"/>
                  <a:ext cx="152280" cy="457200"/>
                  <a:chOff x="2819160" y="3048120"/>
                  <a:chExt cx="152280" cy="45720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 rot="5400000">
                    <a:off x="2667240" y="320112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rot="5400000">
                    <a:off x="2819160" y="335304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3269160" y="3402000"/>
                  <a:ext cx="471960" cy="359640"/>
                  <a:chOff x="3269160" y="3402000"/>
                  <a:chExt cx="471960" cy="3596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 rot="9000000">
                    <a:off x="3276720" y="3506040"/>
                    <a:ext cx="457200" cy="1508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rot="9000000">
                    <a:off x="3296880" y="3581280"/>
                    <a:ext cx="152280" cy="1522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oustic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3060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systems for acoustic measurement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Sound Power System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819520" y="4724280"/>
            <a:ext cx="3047760" cy="186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25025" t="24469" r="39948" b="62190"/>
          <a:stretch/>
        </p:blipFill>
        <p:spPr>
          <a:xfrm>
            <a:off x="6553080" y="5867280"/>
            <a:ext cx="1920960" cy="549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5880" y="4632120"/>
            <a:ext cx="2664000" cy="997560"/>
          </a:xfrm>
          <a:prstGeom prst="wedgeEllipseCallout">
            <a:avLst>
              <a:gd name="adj1" fmla="val -60537"/>
              <a:gd name="adj2" fmla="val 8672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abVIEW™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01760" indent="-401760">
              <a:spcBef>
                <a:spcPts val="15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2615760" y="4521240"/>
            <a:ext cx="617220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ound Power of device (in dB re 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/Time Average SPL (in dB re 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urface Area of measurement surface (in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Correction for effect of test environment (in 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parison method only; direct method K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- Free —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2973240" y="3425760"/>
                <a:ext cx="507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*lo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9" name=""/>
          <p:cNvSpPr/>
          <p:nvPr/>
        </p:nvSpPr>
        <p:spPr>
          <a:xfrm>
            <a:off x="2921040" y="2616120"/>
            <a:ext cx="523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997360" y="5219640"/>
            <a:ext cx="482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073320" y="5257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1676520" y="1981080"/>
            <a:ext cx="2437920" cy="2305080"/>
            <a:chOff x="1676520" y="1981080"/>
            <a:chExt cx="2437920" cy="2305080"/>
          </a:xfrm>
        </p:grpSpPr>
        <p:grpSp>
          <p:nvGrpSpPr>
            <p:cNvPr id="1483" name=""/>
            <p:cNvGrpSpPr/>
            <p:nvPr/>
          </p:nvGrpSpPr>
          <p:grpSpPr>
            <a:xfrm>
              <a:off x="1676520" y="1981080"/>
              <a:ext cx="2437920" cy="1981080"/>
              <a:chOff x="1676520" y="1981080"/>
              <a:chExt cx="2437920" cy="1981080"/>
            </a:xfrm>
          </p:grpSpPr>
          <p:sp>
            <p:nvSpPr>
              <p:cNvPr id="1484" name=""/>
              <p:cNvSpPr/>
              <p:nvPr/>
            </p:nvSpPr>
            <p:spPr>
              <a:xfrm>
                <a:off x="1676520" y="1981080"/>
                <a:ext cx="2437920" cy="198108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782000" y="2084760"/>
                <a:ext cx="2226960" cy="177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1905120" y="3962520"/>
              <a:ext cx="20541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verberation Cham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 - Reverberant Field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490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491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838080" y="4267080"/>
            <a:ext cx="2362320" cy="1905120"/>
            <a:chOff x="838080" y="4267080"/>
            <a:chExt cx="2362320" cy="1905120"/>
          </a:xfrm>
        </p:grpSpPr>
        <p:sp>
          <p:nvSpPr>
            <p:cNvPr id="1495" name=""/>
            <p:cNvSpPr/>
            <p:nvPr/>
          </p:nvSpPr>
          <p:spPr>
            <a:xfrm>
              <a:off x="838080" y="4267080"/>
              <a:ext cx="2362320" cy="19051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14400" y="4267080"/>
              <a:ext cx="182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3429000" y="5105520"/>
            <a:ext cx="2057040" cy="1565280"/>
            <a:chOff x="3429000" y="5105520"/>
            <a:chExt cx="2057040" cy="1565280"/>
          </a:xfrm>
        </p:grpSpPr>
        <p:grpSp>
          <p:nvGrpSpPr>
            <p:cNvPr id="1498" name=""/>
            <p:cNvGrpSpPr/>
            <p:nvPr/>
          </p:nvGrpSpPr>
          <p:grpSpPr>
            <a:xfrm>
              <a:off x="3429000" y="5105520"/>
              <a:ext cx="1844640" cy="1565280"/>
              <a:chOff x="3429000" y="5105520"/>
              <a:chExt cx="1844640" cy="156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3429000" y="6095880"/>
                <a:ext cx="184464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ort to Word/Exc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or custom analysis/re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0" name="" descr=""/>
              <p:cNvPicPr/>
              <p:nvPr/>
            </p:nvPicPr>
            <p:blipFill>
              <a:blip r:embed="rId3"/>
              <a:srcRect l="34201" t="22244" r="49120" b="66639"/>
              <a:stretch/>
            </p:blipFill>
            <p:spPr>
              <a:xfrm>
                <a:off x="3505320" y="5105520"/>
                <a:ext cx="1676160" cy="83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1" name=""/>
            <p:cNvSpPr/>
            <p:nvPr/>
          </p:nvSpPr>
          <p:spPr>
            <a:xfrm flipH="1">
              <a:off x="51811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43400" y="4419720"/>
            <a:ext cx="2514240" cy="2257200"/>
            <a:chOff x="4343400" y="4419720"/>
            <a:chExt cx="2514240" cy="2257200"/>
          </a:xfrm>
        </p:grpSpPr>
        <p:sp>
          <p:nvSpPr>
            <p:cNvPr id="1503" name=""/>
            <p:cNvSpPr/>
            <p:nvPr/>
          </p:nvSpPr>
          <p:spPr>
            <a:xfrm>
              <a:off x="5410080" y="6172200"/>
              <a:ext cx="11113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P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ults Disp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5486400" y="4952880"/>
              <a:ext cx="1090440" cy="1149480"/>
              <a:chOff x="5486400" y="4952880"/>
              <a:chExt cx="1090440" cy="1149480"/>
            </a:xfrm>
          </p:grpSpPr>
          <p:pic>
            <p:nvPicPr>
              <p:cNvPr id="1505" name="" descr=""/>
              <p:cNvPicPr/>
              <p:nvPr/>
            </p:nvPicPr>
            <p:blipFill>
              <a:blip r:embed="rId4"/>
              <a:srcRect l="24151" t="8624" r="22422" b="6105"/>
              <a:stretch/>
            </p:blipFill>
            <p:spPr>
              <a:xfrm>
                <a:off x="5486400" y="4952880"/>
                <a:ext cx="1090440" cy="114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6" name="" descr=""/>
              <p:cNvPicPr/>
              <p:nvPr/>
            </p:nvPicPr>
            <p:blipFill>
              <a:blip r:embed="rId5"/>
              <a:srcRect l="24191" t="5876" r="0" b="46629"/>
              <a:stretch/>
            </p:blipFill>
            <p:spPr>
              <a:xfrm>
                <a:off x="5626800" y="5082480"/>
                <a:ext cx="808920" cy="63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7" name=""/>
            <p:cNvSpPr/>
            <p:nvPr/>
          </p:nvSpPr>
          <p:spPr>
            <a:xfrm flipH="1">
              <a:off x="65527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43400" y="4419720"/>
              <a:ext cx="2438280" cy="457200"/>
            </a:xfrm>
            <a:prstGeom prst="leftArrow">
              <a:avLst>
                <a:gd name="adj1" fmla="val 50000"/>
                <a:gd name="adj2" fmla="val 13332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B Sound Power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819520" y="1752480"/>
            <a:ext cx="5022720" cy="1852560"/>
            <a:chOff x="2819520" y="1752480"/>
            <a:chExt cx="5022720" cy="1852560"/>
          </a:xfrm>
        </p:grpSpPr>
        <p:pic>
          <p:nvPicPr>
            <p:cNvPr id="1510" name="ni455x" descr="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5943600" y="220968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>
              <a:off x="5867280" y="3124080"/>
              <a:ext cx="1814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19720" y="26668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2819520" y="175248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6200000">
              <a:off x="4914720" y="1638000"/>
              <a:ext cx="533520" cy="1219320"/>
            </a:xfrm>
            <a:prstGeom prst="downArrow">
              <a:avLst>
                <a:gd name="adj1" fmla="val 50000"/>
                <a:gd name="adj2" fmla="val 5713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19520" y="17524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19720" y="1752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60480" y="2161800"/>
            <a:ext cx="2163600" cy="3431160"/>
            <a:chOff x="960480" y="2161800"/>
            <a:chExt cx="2163600" cy="3431160"/>
          </a:xfrm>
        </p:grpSpPr>
        <p:grpSp>
          <p:nvGrpSpPr>
            <p:cNvPr id="1518" name=""/>
            <p:cNvGrpSpPr/>
            <p:nvPr/>
          </p:nvGrpSpPr>
          <p:grpSpPr>
            <a:xfrm>
              <a:off x="1872000" y="2161800"/>
              <a:ext cx="513000" cy="513000"/>
              <a:chOff x="1872000" y="2161800"/>
              <a:chExt cx="513000" cy="513000"/>
            </a:xfrm>
          </p:grpSpPr>
          <p:sp>
            <p:nvSpPr>
              <p:cNvPr id="1519" name=""/>
              <p:cNvSpPr/>
              <p:nvPr/>
            </p:nvSpPr>
            <p:spPr>
              <a:xfrm rot="8100000">
                <a:off x="1861920" y="2272320"/>
                <a:ext cx="361800" cy="120960"/>
              </a:xfrm>
              <a:custGeom>
                <a:avLst/>
                <a:gdLst>
                  <a:gd name="textAreaLeft" fmla="*/ 79560 w 361800"/>
                  <a:gd name="textAreaRight" fmla="*/ 282240 w 361800"/>
                  <a:gd name="textAreaTop" fmla="*/ 26640 h 120960"/>
                  <a:gd name="textAreaBottom" fmla="*/ 94320 h 12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8100000">
                <a:off x="1896840" y="2186640"/>
                <a:ext cx="120600" cy="120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43000" y="2418480"/>
                <a:ext cx="86040" cy="25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128680" y="2332800"/>
                <a:ext cx="256320" cy="8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960480" y="4979520"/>
              <a:ext cx="484920" cy="484920"/>
              <a:chOff x="960480" y="4979520"/>
              <a:chExt cx="484920" cy="484920"/>
            </a:xfrm>
          </p:grpSpPr>
          <p:sp>
            <p:nvSpPr>
              <p:cNvPr id="1524" name=""/>
              <p:cNvSpPr/>
              <p:nvPr/>
            </p:nvSpPr>
            <p:spPr>
              <a:xfrm rot="8100000">
                <a:off x="950400" y="5083920"/>
                <a:ext cx="342720" cy="114120"/>
              </a:xfrm>
              <a:custGeom>
                <a:avLst/>
                <a:gdLst>
                  <a:gd name="textAreaLeft" fmla="*/ 75240 w 342720"/>
                  <a:gd name="textAreaRight" fmla="*/ 267480 w 342720"/>
                  <a:gd name="textAreaTop" fmla="*/ 24840 h 114120"/>
                  <a:gd name="textAreaBottom" fmla="*/ 89280 h 11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8100000">
                <a:off x="983880" y="5002920"/>
                <a:ext cx="114120" cy="11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121760" y="5222160"/>
                <a:ext cx="81000" cy="24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203120" y="5141160"/>
                <a:ext cx="242280" cy="8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1600200" y="49528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nk Noise Source Referenc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90280" y="2443320"/>
            <a:ext cx="2598120" cy="3742920"/>
            <a:chOff x="890280" y="2443320"/>
            <a:chExt cx="2598120" cy="3742920"/>
          </a:xfrm>
        </p:grpSpPr>
        <p:sp>
          <p:nvSpPr>
            <p:cNvPr id="1530" name=""/>
            <p:cNvSpPr/>
            <p:nvPr/>
          </p:nvSpPr>
          <p:spPr>
            <a:xfrm rot="19800000">
              <a:off x="2438280" y="2666520"/>
              <a:ext cx="1009800" cy="43200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9800000">
              <a:off x="914400" y="5790960"/>
              <a:ext cx="609480" cy="260280"/>
            </a:xfrm>
            <a:prstGeom prst="ellipse">
              <a:avLst/>
            </a:prstGeom>
            <a:solidFill>
              <a:srgbClr val="ffffff"/>
            </a:solidFill>
            <a:ln cap="rnd" w="158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600200" y="5410080"/>
              <a:ext cx="1333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914400" y="5486400"/>
              <a:ext cx="609120" cy="152280"/>
              <a:chOff x="914400" y="5486400"/>
              <a:chExt cx="609120" cy="152280"/>
            </a:xfrm>
          </p:grpSpPr>
          <p:sp>
            <p:nvSpPr>
              <p:cNvPr id="1534" name=""/>
              <p:cNvSpPr/>
              <p:nvPr/>
            </p:nvSpPr>
            <p:spPr>
              <a:xfrm>
                <a:off x="914400" y="548640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371240" y="5486400"/>
                <a:ext cx="1522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2736720" y="2715480"/>
              <a:ext cx="471240" cy="360360"/>
              <a:chOff x="2736720" y="2715480"/>
              <a:chExt cx="471240" cy="360360"/>
            </a:xfrm>
          </p:grpSpPr>
          <p:sp>
            <p:nvSpPr>
              <p:cNvPr id="1537" name=""/>
              <p:cNvSpPr/>
              <p:nvPr/>
            </p:nvSpPr>
            <p:spPr>
              <a:xfrm rot="1800000">
                <a:off x="2743560" y="281952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800000">
                <a:off x="3027240" y="2895480"/>
                <a:ext cx="152280" cy="1522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600200" y="5791320"/>
              <a:ext cx="1295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ating B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914400" y="3505320"/>
            <a:ext cx="2211480" cy="1433520"/>
            <a:chOff x="914400" y="3505320"/>
            <a:chExt cx="2211480" cy="1433520"/>
          </a:xfrm>
        </p:grpSpPr>
        <p:sp>
          <p:nvSpPr>
            <p:cNvPr id="1541" name=""/>
            <p:cNvSpPr/>
            <p:nvPr/>
          </p:nvSpPr>
          <p:spPr>
            <a:xfrm>
              <a:off x="2666880" y="3505320"/>
              <a:ext cx="459000" cy="366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00200" y="4572000"/>
              <a:ext cx="144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t Under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4400" y="4572000"/>
              <a:ext cx="458640" cy="366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629400" y="2590920"/>
            <a:ext cx="2514600" cy="4267440"/>
            <a:chOff x="6629400" y="2590920"/>
            <a:chExt cx="2514600" cy="4267440"/>
          </a:xfrm>
        </p:grpSpPr>
        <p:sp>
          <p:nvSpPr>
            <p:cNvPr id="1545" name=""/>
            <p:cNvSpPr/>
            <p:nvPr/>
          </p:nvSpPr>
          <p:spPr>
            <a:xfrm>
              <a:off x="7848720" y="25909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62940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and Analysis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6804000" y="4616280"/>
              <a:ext cx="936720" cy="1638360"/>
              <a:chOff x="6804000" y="4616280"/>
              <a:chExt cx="936720" cy="1638360"/>
            </a:xfrm>
          </p:grpSpPr>
          <p:graphicFrame>
            <p:nvGraphicFramePr>
              <p:cNvPr id="1548" name=""/>
              <p:cNvGraphicFramePr/>
              <p:nvPr/>
            </p:nvGraphicFramePr>
            <p:xfrm>
              <a:off x="6804000" y="4616280"/>
              <a:ext cx="936720" cy="1638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4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804000" y="4616280"/>
                        <a:ext cx="936720" cy="163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550" name="lv_logo_flip" descr=""/>
              <p:cNvPicPr/>
              <p:nvPr/>
            </p:nvPicPr>
            <p:blipFill>
              <a:blip r:embed="rId11"/>
              <a:stretch/>
            </p:blipFill>
            <p:spPr>
              <a:xfrm>
                <a:off x="7165800" y="5530680"/>
                <a:ext cx="433440" cy="44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1" name=""/>
            <p:cNvSpPr/>
            <p:nvPr/>
          </p:nvSpPr>
          <p:spPr>
            <a:xfrm>
              <a:off x="838188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620120" y="571500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696080" y="3124080"/>
              <a:ext cx="609840" cy="1981440"/>
            </a:xfrm>
            <a:prstGeom prst="downArrow">
              <a:avLst>
                <a:gd name="adj1" fmla="val 50000"/>
                <a:gd name="adj2" fmla="val 8122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534520" y="3124080"/>
              <a:ext cx="609480" cy="1981440"/>
            </a:xfrm>
            <a:prstGeom prst="downArrow">
              <a:avLst>
                <a:gd name="adj1" fmla="val 50000"/>
                <a:gd name="adj2" fmla="val 8127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/3 Octave Band L/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— Reverberant Room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p-10*log(T)+10*log (V)+10*log[1+(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8V)]-1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 = Lw (RSS) – [Lp(RSS) – Lp(UUT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ound Power of device (in dB re 1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t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SS)=Calibrated sound power of reference sound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Average SPL or RSS or UUT(in dB re 2 x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= Reverberation Time in chamber (in s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= Volume of Reverberation chamber (in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length at test frequency (in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3352680" y="34290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638680" y="43434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934320" y="4343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276720" y="5486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times the logarithm of the reciprocal of the ratio of the energy transmitted through the specimen to the energy incident on the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ation/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oss (TL) in decibels (dB) in octave or 1/3 octav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may be expressed in terms of the single number ratings STC, OITC or R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transmission coefficient, dimen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"/>
          <p:cNvGrpSpPr/>
          <p:nvPr/>
        </p:nvGrpSpPr>
        <p:grpSpPr>
          <a:xfrm>
            <a:off x="1353960" y="1990800"/>
            <a:ext cx="4035600" cy="1797120"/>
            <a:chOff x="1353960" y="1990800"/>
            <a:chExt cx="4035600" cy="1797120"/>
          </a:xfrm>
        </p:grpSpPr>
        <p:grpSp>
          <p:nvGrpSpPr>
            <p:cNvPr id="1566" name=""/>
            <p:cNvGrpSpPr/>
            <p:nvPr/>
          </p:nvGrpSpPr>
          <p:grpSpPr>
            <a:xfrm>
              <a:off x="1353960" y="1990800"/>
              <a:ext cx="4035600" cy="1797120"/>
              <a:chOff x="1353960" y="1990800"/>
              <a:chExt cx="4035600" cy="1797120"/>
            </a:xfrm>
          </p:grpSpPr>
          <p:sp>
            <p:nvSpPr>
              <p:cNvPr id="1567" name=""/>
              <p:cNvSpPr/>
              <p:nvPr/>
            </p:nvSpPr>
            <p:spPr>
              <a:xfrm>
                <a:off x="1353960" y="1990800"/>
                <a:ext cx="1899000" cy="17971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74920" y="2109960"/>
                <a:ext cx="166032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371760" y="1990800"/>
                <a:ext cx="2017800" cy="1797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90920" y="2109960"/>
                <a:ext cx="177948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13320" y="3371760"/>
                <a:ext cx="1755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ceiv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606680" y="3371760"/>
                <a:ext cx="16588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urce Chamb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3135240" y="2230560"/>
              <a:ext cx="355320" cy="1317240"/>
              <a:chOff x="3135240" y="2230560"/>
              <a:chExt cx="355320" cy="1317240"/>
            </a:xfrm>
          </p:grpSpPr>
          <p:sp>
            <p:nvSpPr>
              <p:cNvPr id="1574" name=""/>
              <p:cNvSpPr/>
              <p:nvPr/>
            </p:nvSpPr>
            <p:spPr>
              <a:xfrm>
                <a:off x="313524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72120" y="2230560"/>
                <a:ext cx="118440" cy="13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838080" y="3936960"/>
            <a:ext cx="2362320" cy="2234880"/>
            <a:chOff x="838080" y="3936960"/>
            <a:chExt cx="2362320" cy="2234880"/>
          </a:xfrm>
        </p:grpSpPr>
        <p:sp>
          <p:nvSpPr>
            <p:cNvPr id="1577" name=""/>
            <p:cNvSpPr/>
            <p:nvPr/>
          </p:nvSpPr>
          <p:spPr>
            <a:xfrm>
              <a:off x="838080" y="3936960"/>
              <a:ext cx="2362320" cy="22348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14400" y="3936960"/>
              <a:ext cx="182880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st Setup Leg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Block Diagram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1583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952880" y="4724280"/>
            <a:ext cx="1906560" cy="1892520"/>
            <a:chOff x="4952880" y="4724280"/>
            <a:chExt cx="1906560" cy="1892520"/>
          </a:xfrm>
        </p:grpSpPr>
        <p:grpSp>
          <p:nvGrpSpPr>
            <p:cNvPr id="1587" name=""/>
            <p:cNvGrpSpPr/>
            <p:nvPr/>
          </p:nvGrpSpPr>
          <p:grpSpPr>
            <a:xfrm>
              <a:off x="5224320" y="4724280"/>
              <a:ext cx="1297080" cy="1451160"/>
              <a:chOff x="5224320" y="4724280"/>
              <a:chExt cx="1297080" cy="1451160"/>
            </a:xfrm>
          </p:grpSpPr>
          <p:pic>
            <p:nvPicPr>
              <p:cNvPr id="1588" name="" descr=""/>
              <p:cNvPicPr/>
              <p:nvPr/>
            </p:nvPicPr>
            <p:blipFill>
              <a:blip r:embed="rId3"/>
              <a:srcRect l="24151" t="8624" r="22422" b="6105"/>
              <a:stretch/>
            </p:blipFill>
            <p:spPr>
              <a:xfrm>
                <a:off x="5224320" y="4724280"/>
                <a:ext cx="129708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9" name="" descr=""/>
              <p:cNvPicPr/>
              <p:nvPr/>
            </p:nvPicPr>
            <p:blipFill>
              <a:blip r:embed="rId4"/>
              <a:srcRect l="24191" t="5876" r="0" b="46629"/>
              <a:stretch/>
            </p:blipFill>
            <p:spPr>
              <a:xfrm>
                <a:off x="5391720" y="4888080"/>
                <a:ext cx="962280" cy="79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4952880" y="6324480"/>
              <a:ext cx="1905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/3 OB Transmission Loss and S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502320" y="5638680"/>
              <a:ext cx="35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079640" y="2166840"/>
            <a:ext cx="2286000" cy="2522520"/>
            <a:chOff x="1079640" y="2166840"/>
            <a:chExt cx="2286000" cy="2522520"/>
          </a:xfrm>
        </p:grpSpPr>
        <p:sp>
          <p:nvSpPr>
            <p:cNvPr id="1593" name=""/>
            <p:cNvSpPr/>
            <p:nvPr/>
          </p:nvSpPr>
          <p:spPr>
            <a:xfrm>
              <a:off x="3246480" y="2166840"/>
              <a:ext cx="119160" cy="139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079640" y="4305240"/>
              <a:ext cx="1949400" cy="384120"/>
              <a:chOff x="1079640" y="4305240"/>
              <a:chExt cx="1949400" cy="384120"/>
            </a:xfrm>
          </p:grpSpPr>
          <p:sp>
            <p:nvSpPr>
              <p:cNvPr id="1595" name=""/>
              <p:cNvSpPr/>
              <p:nvPr/>
            </p:nvSpPr>
            <p:spPr>
              <a:xfrm>
                <a:off x="1079640" y="4305240"/>
                <a:ext cx="90360" cy="384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562040" y="4343400"/>
                <a:ext cx="14670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est Specim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7" name=""/>
          <p:cNvGrpSpPr/>
          <p:nvPr/>
        </p:nvGrpSpPr>
        <p:grpSpPr>
          <a:xfrm>
            <a:off x="3225960" y="5054760"/>
            <a:ext cx="1955520" cy="1650960"/>
            <a:chOff x="3225960" y="5054760"/>
            <a:chExt cx="1955520" cy="1650960"/>
          </a:xfrm>
        </p:grpSpPr>
        <p:sp>
          <p:nvSpPr>
            <p:cNvPr id="1598" name=""/>
            <p:cNvSpPr/>
            <p:nvPr/>
          </p:nvSpPr>
          <p:spPr>
            <a:xfrm flipH="1">
              <a:off x="4978440" y="56008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25960" y="6130800"/>
              <a:ext cx="1844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ort to Word/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custom analysis/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0" name="" descr=""/>
            <p:cNvPicPr/>
            <p:nvPr/>
          </p:nvPicPr>
          <p:blipFill>
            <a:blip r:embed="rId7"/>
            <a:srcRect l="34201" t="22244" r="49120" b="66639"/>
            <a:stretch/>
          </p:blipFill>
          <p:spPr>
            <a:xfrm>
              <a:off x="3289320" y="5054760"/>
              <a:ext cx="16765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921600" y="2160000"/>
            <a:ext cx="4312080" cy="3292920"/>
            <a:chOff x="921600" y="2160000"/>
            <a:chExt cx="4312080" cy="3292920"/>
          </a:xfrm>
        </p:grpSpPr>
        <p:grpSp>
          <p:nvGrpSpPr>
            <p:cNvPr id="1602" name=""/>
            <p:cNvGrpSpPr/>
            <p:nvPr/>
          </p:nvGrpSpPr>
          <p:grpSpPr>
            <a:xfrm>
              <a:off x="1546560" y="2160000"/>
              <a:ext cx="507600" cy="506880"/>
              <a:chOff x="1546560" y="2160000"/>
              <a:chExt cx="507600" cy="506880"/>
            </a:xfrm>
          </p:grpSpPr>
          <p:sp>
            <p:nvSpPr>
              <p:cNvPr id="1603" name=""/>
              <p:cNvSpPr/>
              <p:nvPr/>
            </p:nvSpPr>
            <p:spPr>
              <a:xfrm rot="8100000">
                <a:off x="1544040" y="2268360"/>
                <a:ext cx="344520" cy="121680"/>
              </a:xfrm>
              <a:custGeom>
                <a:avLst/>
                <a:gdLst>
                  <a:gd name="textAreaLeft" fmla="*/ 75600 w 344520"/>
                  <a:gd name="textAreaRight" fmla="*/ 268920 w 344520"/>
                  <a:gd name="textAreaTop" fmla="*/ 26640 h 121680"/>
                  <a:gd name="textAreaBottom" fmla="*/ 95040 h 12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8100000">
                <a:off x="1572840" y="2182680"/>
                <a:ext cx="114840" cy="121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19360" y="2413440"/>
                <a:ext cx="91080" cy="25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800720" y="2332080"/>
                <a:ext cx="25344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921600" y="4768920"/>
              <a:ext cx="571680" cy="571680"/>
              <a:chOff x="921600" y="4768920"/>
              <a:chExt cx="571680" cy="571680"/>
            </a:xfrm>
          </p:grpSpPr>
          <p:sp>
            <p:nvSpPr>
              <p:cNvPr id="1608" name=""/>
              <p:cNvSpPr/>
              <p:nvPr/>
            </p:nvSpPr>
            <p:spPr>
              <a:xfrm rot="8100000">
                <a:off x="918360" y="4891320"/>
                <a:ext cx="388800" cy="137160"/>
              </a:xfrm>
              <a:custGeom>
                <a:avLst/>
                <a:gdLst>
                  <a:gd name="textAreaLeft" fmla="*/ 85320 w 388800"/>
                  <a:gd name="textAreaRight" fmla="*/ 303480 w 388800"/>
                  <a:gd name="textAreaTop" fmla="*/ 30240 h 137160"/>
                  <a:gd name="textAreaBottom" fmla="*/ 106920 h 13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8100000">
                <a:off x="951120" y="4794480"/>
                <a:ext cx="129600" cy="137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115640" y="5054760"/>
                <a:ext cx="102600" cy="285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207440" y="4962960"/>
                <a:ext cx="285840" cy="10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1498680" y="4826160"/>
              <a:ext cx="1396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plified Pink Noise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740120" y="2168640"/>
              <a:ext cx="493560" cy="515520"/>
              <a:chOff x="4740120" y="2168640"/>
              <a:chExt cx="493560" cy="515520"/>
            </a:xfrm>
          </p:grpSpPr>
          <p:sp>
            <p:nvSpPr>
              <p:cNvPr id="1614" name=""/>
              <p:cNvSpPr/>
              <p:nvPr/>
            </p:nvSpPr>
            <p:spPr>
              <a:xfrm rot="13500000">
                <a:off x="5087880" y="2194200"/>
                <a:ext cx="119880" cy="11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4740120" y="2174040"/>
                <a:ext cx="493560" cy="510120"/>
                <a:chOff x="4740120" y="2174040"/>
                <a:chExt cx="493560" cy="510120"/>
              </a:xfrm>
            </p:grpSpPr>
            <p:sp>
              <p:nvSpPr>
                <p:cNvPr id="1616" name=""/>
                <p:cNvSpPr/>
                <p:nvPr/>
              </p:nvSpPr>
              <p:spPr>
                <a:xfrm rot="13500000">
                  <a:off x="4884840" y="2284560"/>
                  <a:ext cx="360720" cy="115200"/>
                </a:xfrm>
                <a:custGeom>
                  <a:avLst/>
                  <a:gdLst>
                    <a:gd name="textAreaLeft" fmla="*/ 79200 w 360720"/>
                    <a:gd name="textAreaRight" fmla="*/ 281520 w 360720"/>
                    <a:gd name="textAreaTop" fmla="*/ 25200 h 115200"/>
                    <a:gd name="textAreaBottom" fmla="*/ 90000 h 115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4740120" y="2340720"/>
                  <a:ext cx="256680" cy="104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4981320" y="2437560"/>
                  <a:ext cx="77040" cy="246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9" name=""/>
          <p:cNvGrpSpPr/>
          <p:nvPr/>
        </p:nvGrpSpPr>
        <p:grpSpPr>
          <a:xfrm>
            <a:off x="2146320" y="1778040"/>
            <a:ext cx="6330960" cy="1727280"/>
            <a:chOff x="2146320" y="1778040"/>
            <a:chExt cx="6330960" cy="1727280"/>
          </a:xfrm>
        </p:grpSpPr>
        <p:pic>
          <p:nvPicPr>
            <p:cNvPr id="1620" name="ni455x" descr=""/>
            <p:cNvPicPr/>
            <p:nvPr/>
          </p:nvPicPr>
          <p:blipFill>
            <a:blip r:embed="rId8">
              <a:lum bright="12000"/>
            </a:blip>
            <a:stretch/>
          </p:blipFill>
          <p:spPr>
            <a:xfrm>
              <a:off x="6578640" y="2057400"/>
              <a:ext cx="1898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478560" y="3024360"/>
              <a:ext cx="18144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 455x and DSA with Real-Time Octave 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49760" y="2603520"/>
              <a:ext cx="978120" cy="584280"/>
            </a:xfrm>
            <a:prstGeom prst="rightArrow">
              <a:avLst>
                <a:gd name="adj1" fmla="val 50000"/>
                <a:gd name="adj2" fmla="val 418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(t) ~ P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2146320" y="1778040"/>
              <a:ext cx="4483080" cy="838080"/>
              <a:chOff x="2146320" y="1778040"/>
              <a:chExt cx="4483080" cy="838080"/>
            </a:xfrm>
          </p:grpSpPr>
          <p:grpSp>
            <p:nvGrpSpPr>
              <p:cNvPr id="1624" name=""/>
              <p:cNvGrpSpPr/>
              <p:nvPr/>
            </p:nvGrpSpPr>
            <p:grpSpPr>
              <a:xfrm>
                <a:off x="2146320" y="1778040"/>
                <a:ext cx="4483080" cy="838080"/>
                <a:chOff x="2146320" y="1778040"/>
                <a:chExt cx="4483080" cy="838080"/>
              </a:xfrm>
            </p:grpSpPr>
            <p:sp>
              <p:nvSpPr>
                <p:cNvPr id="1625" name=""/>
                <p:cNvSpPr/>
                <p:nvPr/>
              </p:nvSpPr>
              <p:spPr>
                <a:xfrm flipV="1">
                  <a:off x="2146320" y="1778040"/>
                  <a:ext cx="0" cy="83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2146320" y="1778040"/>
                  <a:ext cx="411480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261120" y="1803240"/>
                  <a:ext cx="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6248520" y="23367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9" name=""/>
              <p:cNvSpPr/>
              <p:nvPr/>
            </p:nvSpPr>
            <p:spPr>
              <a:xfrm flipV="1">
                <a:off x="4114800" y="2552400"/>
                <a:ext cx="248904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6689880" y="2463840"/>
            <a:ext cx="2454120" cy="4394520"/>
            <a:chOff x="6689880" y="2463840"/>
            <a:chExt cx="2454120" cy="4394520"/>
          </a:xfrm>
        </p:grpSpPr>
        <p:graphicFrame>
          <p:nvGraphicFramePr>
            <p:cNvPr id="1631" name=""/>
            <p:cNvGraphicFramePr/>
            <p:nvPr/>
          </p:nvGraphicFramePr>
          <p:xfrm>
            <a:off x="6689880" y="4618080"/>
            <a:ext cx="936360" cy="163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89880" y="4618080"/>
                      <a:ext cx="93636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3" name=""/>
            <p:cNvSpPr/>
            <p:nvPr/>
          </p:nvSpPr>
          <p:spPr>
            <a:xfrm>
              <a:off x="6794640" y="6218280"/>
              <a:ext cx="1523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with LabVIEW Control and Analysi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4" name="lv_logo_flip" descr=""/>
            <p:cNvPicPr/>
            <p:nvPr/>
          </p:nvPicPr>
          <p:blipFill>
            <a:blip r:embed="rId11"/>
            <a:stretch/>
          </p:blipFill>
          <p:spPr>
            <a:xfrm>
              <a:off x="7051680" y="5532480"/>
              <a:ext cx="4334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5" name=""/>
            <p:cNvSpPr/>
            <p:nvPr/>
          </p:nvSpPr>
          <p:spPr>
            <a:xfrm>
              <a:off x="8597880" y="3556080"/>
              <a:ext cx="546120" cy="1803240"/>
            </a:xfrm>
            <a:prstGeom prst="downArrow">
              <a:avLst>
                <a:gd name="adj1" fmla="val 50000"/>
                <a:gd name="adj2" fmla="val 8254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962840" y="3568680"/>
              <a:ext cx="546120" cy="1854360"/>
            </a:xfrm>
            <a:prstGeom prst="downArrow">
              <a:avLst>
                <a:gd name="adj1" fmla="val 50000"/>
                <a:gd name="adj2" fmla="val 84888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1/3 OB L/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6360" y="246384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584920" y="2476440"/>
              <a:ext cx="12600" cy="321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7505640" y="5702400"/>
              <a:ext cx="10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877680" y="2278440"/>
            <a:ext cx="3931560" cy="3869640"/>
            <a:chOff x="877680" y="2278440"/>
            <a:chExt cx="3931560" cy="3869640"/>
          </a:xfrm>
        </p:grpSpPr>
        <p:grpSp>
          <p:nvGrpSpPr>
            <p:cNvPr id="1641" name=""/>
            <p:cNvGrpSpPr/>
            <p:nvPr/>
          </p:nvGrpSpPr>
          <p:grpSpPr>
            <a:xfrm>
              <a:off x="877680" y="2278440"/>
              <a:ext cx="3931560" cy="3869640"/>
              <a:chOff x="877680" y="2278440"/>
              <a:chExt cx="3931560" cy="386964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877680" y="2278440"/>
                <a:ext cx="2001240" cy="3869640"/>
                <a:chOff x="877680" y="2278440"/>
                <a:chExt cx="2001240" cy="3869640"/>
              </a:xfrm>
            </p:grpSpPr>
            <p:sp>
              <p:nvSpPr>
                <p:cNvPr id="1643" name=""/>
                <p:cNvSpPr/>
                <p:nvPr/>
              </p:nvSpPr>
              <p:spPr>
                <a:xfrm rot="19800000">
                  <a:off x="1828440" y="2501640"/>
                  <a:ext cx="1009800" cy="431640"/>
                </a:xfrm>
                <a:prstGeom prst="ellipse">
                  <a:avLst/>
                </a:prstGeom>
                <a:solidFill>
                  <a:srgbClr val="ffffff"/>
                </a:solidFill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9800000">
                  <a:off x="901800" y="5752800"/>
                  <a:ext cx="609480" cy="260280"/>
                </a:xfrm>
                <a:prstGeom prst="ellipse">
                  <a:avLst/>
                </a:prstGeom>
                <a:solidFill>
                  <a:srgbClr val="ffffff"/>
                </a:solidFill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1549440" y="5727600"/>
                  <a:ext cx="12952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tating Boo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 rot="19800000">
                <a:off x="3758760" y="2501640"/>
                <a:ext cx="1009800" cy="431640"/>
              </a:xfrm>
              <a:prstGeom prst="ellipse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4057560" y="2550240"/>
                <a:ext cx="471240" cy="360360"/>
                <a:chOff x="4057560" y="2550240"/>
                <a:chExt cx="471240" cy="360360"/>
              </a:xfrm>
            </p:grpSpPr>
            <p:sp>
              <p:nvSpPr>
                <p:cNvPr id="1648" name=""/>
                <p:cNvSpPr/>
                <p:nvPr/>
              </p:nvSpPr>
              <p:spPr>
                <a:xfrm rot="1800000">
                  <a:off x="4064400" y="2654280"/>
                  <a:ext cx="457200" cy="150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800000">
                  <a:off x="4348080" y="2730240"/>
                  <a:ext cx="152280" cy="15228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0" name=""/>
            <p:cNvSpPr/>
            <p:nvPr/>
          </p:nvSpPr>
          <p:spPr>
            <a:xfrm>
              <a:off x="1574640" y="5372280"/>
              <a:ext cx="1333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phone(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1" name=""/>
            <p:cNvGrpSpPr/>
            <p:nvPr/>
          </p:nvGrpSpPr>
          <p:grpSpPr>
            <a:xfrm>
              <a:off x="901800" y="5410080"/>
              <a:ext cx="609120" cy="152280"/>
              <a:chOff x="901800" y="5410080"/>
              <a:chExt cx="609120" cy="152280"/>
            </a:xfrm>
          </p:grpSpPr>
          <p:sp>
            <p:nvSpPr>
              <p:cNvPr id="1652" name=""/>
              <p:cNvSpPr/>
              <p:nvPr/>
            </p:nvSpPr>
            <p:spPr>
              <a:xfrm>
                <a:off x="901800" y="5410080"/>
                <a:ext cx="45684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358640" y="5410080"/>
                <a:ext cx="152280" cy="152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2127240" y="2550240"/>
              <a:ext cx="471240" cy="360360"/>
              <a:chOff x="2127240" y="2550240"/>
              <a:chExt cx="471240" cy="360360"/>
            </a:xfrm>
          </p:grpSpPr>
          <p:sp>
            <p:nvSpPr>
              <p:cNvPr id="1655" name=""/>
              <p:cNvSpPr/>
              <p:nvPr/>
            </p:nvSpPr>
            <p:spPr>
              <a:xfrm rot="1800000">
                <a:off x="2134080" y="2654280"/>
                <a:ext cx="457200" cy="150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800000">
                <a:off x="2417760" y="2730240"/>
                <a:ext cx="152280" cy="1522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ematical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 =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rc) –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cv) + 10*log (S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c)  = SPL in sourc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cv)  = SPL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surface area of the test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= absorption in receive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 is determined from reverberation time in receive chamb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>
            <a:off x="2666880" y="2743200"/>
            <a:ext cx="5943600" cy="35812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Test cod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539800" y="24001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tandard or consensus industry meth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of machinery or equipment (e.g., computers, vehicles, mechanical equipment, doors, windows, and mo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conditions and machine/material specific tes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standards for the measurement of the specified parameter (i.e. sound power, sound pressure, transmission loss, and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s of othe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of computer and business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ow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Pressure Level at operator/bystander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tone and impulsive noi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ondition of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al Test Code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M E1408 - sound transmission loss of door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of do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and operation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door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 opening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380880"/>
            <a:ext cx="6526440" cy="132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77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Acoustics Illustration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819520" y="2362320"/>
            <a:ext cx="1977840" cy="1633320"/>
            <a:chOff x="2819520" y="2362320"/>
            <a:chExt cx="1977840" cy="1633320"/>
          </a:xfrm>
        </p:grpSpPr>
        <p:sp>
          <p:nvSpPr>
            <p:cNvPr id="135" name=""/>
            <p:cNvSpPr/>
            <p:nvPr/>
          </p:nvSpPr>
          <p:spPr>
            <a:xfrm>
              <a:off x="2819520" y="2362320"/>
              <a:ext cx="1977840" cy="16333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4840" y="2447640"/>
              <a:ext cx="1806120" cy="14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867280" y="2742120"/>
            <a:ext cx="2438640" cy="824040"/>
          </a:xfrm>
          <a:prstGeom prst="borderCallout2">
            <a:avLst>
              <a:gd name="adj1" fmla="val 18750"/>
              <a:gd name="adj2" fmla="val -8333"/>
              <a:gd name="adj3" fmla="val 11231"/>
              <a:gd name="adj4" fmla="val -11004"/>
              <a:gd name="adj5" fmla="val 31611"/>
              <a:gd name="adj6" fmla="val -4243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33720" y="5791320"/>
            <a:ext cx="761400" cy="152280"/>
            <a:chOff x="2133720" y="5791320"/>
            <a:chExt cx="761400" cy="152280"/>
          </a:xfrm>
        </p:grpSpPr>
        <p:sp>
          <p:nvSpPr>
            <p:cNvPr id="139" name=""/>
            <p:cNvSpPr/>
            <p:nvPr/>
          </p:nvSpPr>
          <p:spPr>
            <a:xfrm>
              <a:off x="2133720" y="5791320"/>
              <a:ext cx="53316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3720" y="5791320"/>
              <a:ext cx="1519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5867640"/>
              <a:ext cx="22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52680" y="3429000"/>
            <a:ext cx="904680" cy="457200"/>
            <a:chOff x="3352680" y="3429000"/>
            <a:chExt cx="904680" cy="457200"/>
          </a:xfrm>
        </p:grpSpPr>
        <p:sp>
          <p:nvSpPr>
            <p:cNvPr id="143" name=""/>
            <p:cNvSpPr/>
            <p:nvPr/>
          </p:nvSpPr>
          <p:spPr>
            <a:xfrm>
              <a:off x="33526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49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572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88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16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440" y="34290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95480" y="2438280"/>
            <a:ext cx="1828800" cy="1438200"/>
            <a:chOff x="2895480" y="2438280"/>
            <a:chExt cx="1828800" cy="1438200"/>
          </a:xfrm>
        </p:grpSpPr>
        <p:sp>
          <p:nvSpPr>
            <p:cNvPr id="150" name=""/>
            <p:cNvSpPr/>
            <p:nvPr/>
          </p:nvSpPr>
          <p:spPr>
            <a:xfrm rot="5400000">
              <a:off x="3052440" y="35762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3052440" y="34239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3052440" y="3271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3052440" y="31190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3052440" y="29667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3052440" y="2814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3052440" y="266184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052440" y="250956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052440" y="2357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4424040" y="35758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4424040" y="34236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424040" y="32713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4424040" y="31186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4424040" y="29664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4424040" y="28141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4424040" y="26614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424040" y="250920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4424040" y="235692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0800000">
              <a:off x="33523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35046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36568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380952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396180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114080" y="2438280"/>
              <a:ext cx="142920" cy="45720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895480" y="2438280"/>
            <a:ext cx="1828800" cy="14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76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95480" y="2438280"/>
            <a:ext cx="1828800" cy="1473120"/>
            <a:chOff x="2895480" y="2438280"/>
            <a:chExt cx="1828800" cy="1473120"/>
          </a:xfrm>
        </p:grpSpPr>
        <p:sp>
          <p:nvSpPr>
            <p:cNvPr id="181" name=""/>
            <p:cNvSpPr/>
            <p:nvPr/>
          </p:nvSpPr>
          <p:spPr>
            <a:xfrm>
              <a:off x="2895480" y="2438280"/>
              <a:ext cx="7596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7960" y="2438280"/>
              <a:ext cx="76320" cy="1461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71440" y="2438280"/>
              <a:ext cx="1676520" cy="763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440" y="3835440"/>
              <a:ext cx="1676520" cy="7596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956200" y="3790080"/>
            <a:ext cx="2362320" cy="793800"/>
          </a:xfrm>
          <a:prstGeom prst="borderCallout2">
            <a:avLst>
              <a:gd name="adj1" fmla="val 18750"/>
              <a:gd name="adj2" fmla="val -8333"/>
              <a:gd name="adj3" fmla="val 14199"/>
              <a:gd name="adj4" fmla="val -14046"/>
              <a:gd name="adj5" fmla="val -44194"/>
              <a:gd name="adj6" fmla="val -5060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closure lining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nite Soun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Transmission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876920"/>
            <a:ext cx="547560" cy="5475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oustic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571500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638680"/>
            <a:ext cx="381240" cy="3812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105520"/>
            <a:ext cx="4572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952880"/>
            <a:ext cx="182880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pagating Acous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5562720"/>
            <a:ext cx="182880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oun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03520" y="4076640"/>
            <a:ext cx="24382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eneral Acoustic En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5181120" y="4952880"/>
            <a:ext cx="297000" cy="2970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181120" y="4908600"/>
            <a:ext cx="398520" cy="398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266800" y="4886280"/>
            <a:ext cx="430200" cy="4302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2819520" y="2743200"/>
            <a:ext cx="5715000" cy="34290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Quality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System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Systems in Acoustic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2362320" y="5791320"/>
            <a:ext cx="6553080" cy="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O 17025 (Guide 25)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lity Systems in Test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681" name="" descr=""/>
          <p:cNvPicPr/>
          <p:nvPr/>
        </p:nvPicPr>
        <p:blipFill>
          <a:blip r:embed="rId3"/>
          <a:srcRect l="24191" t="28917" r="24098" b="28824"/>
          <a:stretch/>
        </p:blipFill>
        <p:spPr>
          <a:xfrm>
            <a:off x="2743200" y="2882880"/>
            <a:ext cx="5943600" cy="3640320"/>
          </a:xfrm>
          <a:prstGeom prst="rect">
            <a:avLst/>
          </a:prstGeom>
          <a:ln w="0">
            <a:noFill/>
          </a:ln>
        </p:spPr>
      </p:pic>
      <p:sp>
        <p:nvSpPr>
          <p:cNvPr id="1682" name=""/>
          <p:cNvSpPr/>
          <p:nvPr/>
        </p:nvSpPr>
        <p:spPr>
          <a:xfrm>
            <a:off x="7162920" y="2057400"/>
            <a:ext cx="1752480" cy="1752480"/>
          </a:xfrm>
          <a:prstGeom prst="wedgeEllipseCallout">
            <a:avLst>
              <a:gd name="adj1" fmla="val -92662"/>
              <a:gd name="adj2" fmla="val 69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 Black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447920" y="863280"/>
            <a:ext cx="7200720" cy="14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7779 - noise emissions from ITT 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LabVIEW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NI 445x D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s data acquisition, analysis and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69720" y="317520"/>
            <a:ext cx="6870600" cy="14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714680" y="1765440"/>
            <a:ext cx="4609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tretch/>
        </p:blipFill>
        <p:spPr>
          <a:xfrm>
            <a:off x="1481040" y="2340000"/>
            <a:ext cx="5059440" cy="379404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7074000" y="225252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5125"/>
              <a:gd name="adj5" fmla="val 142925"/>
              <a:gd name="adj6" fmla="val -13476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074000" y="3632040"/>
            <a:ext cx="175248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55523"/>
              <a:gd name="adj5" fmla="val 143430"/>
              <a:gd name="adj6" fmla="val -108685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Pow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074000" y="5013360"/>
            <a:ext cx="175248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23550"/>
              <a:gd name="adj5" fmla="val -16074"/>
              <a:gd name="adj6" fmla="val -43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Octave and Awtd PW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68200" y="254160"/>
            <a:ext cx="6908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727280" y="1841400"/>
            <a:ext cx="608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Pressure Leve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3"/>
          <a:stretch/>
        </p:blipFill>
        <p:spPr>
          <a:xfrm>
            <a:off x="1557360" y="2311560"/>
            <a:ext cx="5173560" cy="387972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6845400" y="2540160"/>
            <a:ext cx="213336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75074"/>
              <a:gd name="adj5" fmla="val 187685"/>
              <a:gd name="adj6" fmla="val -161291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und Pressure Level at Operator and Bystande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6324840" cy="13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587600" y="1727280"/>
            <a:ext cx="2387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" descr=""/>
          <p:cNvPicPr/>
          <p:nvPr/>
        </p:nvPicPr>
        <p:blipFill>
          <a:blip r:embed="rId3"/>
          <a:stretch/>
        </p:blipFill>
        <p:spPr>
          <a:xfrm>
            <a:off x="1544760" y="2222640"/>
            <a:ext cx="5232240" cy="392400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7277040" y="261144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59092"/>
              <a:gd name="adj5" fmla="val 81638"/>
              <a:gd name="adj6" fmla="val -115884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,800 line Post-Process FFT with “On- the-Fly”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77040" y="4343400"/>
            <a:ext cx="1676520" cy="1189800"/>
          </a:xfrm>
          <a:prstGeom prst="borderCallout2">
            <a:avLst>
              <a:gd name="adj1" fmla="val 18750"/>
              <a:gd name="adj2" fmla="val -8333"/>
              <a:gd name="adj3" fmla="val 9472"/>
              <a:gd name="adj4" fmla="val -27555"/>
              <a:gd name="adj5" fmla="val 72833"/>
              <a:gd name="adj6" fmla="val -161356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tomated Prominent Tone Analysi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63200" y="2412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828800" y="17524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3"/>
          <a:stretch/>
        </p:blipFill>
        <p:spPr>
          <a:xfrm>
            <a:off x="1824120" y="2235240"/>
            <a:ext cx="5211720" cy="390852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7074000" y="2166840"/>
            <a:ext cx="1828800" cy="1007280"/>
          </a:xfrm>
          <a:prstGeom prst="borderCallout2">
            <a:avLst>
              <a:gd name="adj1" fmla="val 18750"/>
              <a:gd name="adj2" fmla="val -8333"/>
              <a:gd name="adj3" fmla="val 11180"/>
              <a:gd name="adj4" fmla="val -71615"/>
              <a:gd name="adj5" fmla="val 90277"/>
              <a:gd name="adj6" fmla="val -141662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tomated Level 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074000" y="3817800"/>
            <a:ext cx="190476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67750"/>
              <a:gd name="adj5" fmla="val 215486"/>
              <a:gd name="adj6" fmla="val -13399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rol Chart for Calibration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074000" y="5105520"/>
            <a:ext cx="1904760" cy="11898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phone Frequency Response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Instruments Sound Power Syste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7779 Measurement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228600" y="1752480"/>
            <a:ext cx="457200" cy="5105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57200" y="685800"/>
            <a:ext cx="45720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5800" y="0"/>
            <a:ext cx="457200" cy="28195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739880" y="177804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739880" y="2324160"/>
            <a:ext cx="5295600" cy="3847680"/>
            <a:chOff x="1739880" y="2324160"/>
            <a:chExt cx="5295600" cy="3847680"/>
          </a:xfrm>
        </p:grpSpPr>
        <p:pic>
          <p:nvPicPr>
            <p:cNvPr id="1735" name="" descr=""/>
            <p:cNvPicPr/>
            <p:nvPr/>
          </p:nvPicPr>
          <p:blipFill>
            <a:blip r:embed="rId3"/>
            <a:stretch/>
          </p:blipFill>
          <p:spPr>
            <a:xfrm>
              <a:off x="1739880" y="2324160"/>
              <a:ext cx="529560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4"/>
            <a:srcRect l="25317" t="52744" r="0" b="0"/>
            <a:stretch/>
          </p:blipFill>
          <p:spPr>
            <a:xfrm>
              <a:off x="3083400" y="4391640"/>
              <a:ext cx="3873240" cy="178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7" name=""/>
          <p:cNvSpPr/>
          <p:nvPr/>
        </p:nvSpPr>
        <p:spPr>
          <a:xfrm>
            <a:off x="7149960" y="2570040"/>
            <a:ext cx="1828800" cy="641160"/>
          </a:xfrm>
          <a:prstGeom prst="borderCallout2">
            <a:avLst>
              <a:gd name="adj1" fmla="val 18750"/>
              <a:gd name="adj2" fmla="val -8333"/>
              <a:gd name="adj3" fmla="val 17393"/>
              <a:gd name="adj4" fmla="val -112240"/>
              <a:gd name="adj5" fmla="val 138944"/>
              <a:gd name="adj6" fmla="val -23818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Proced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149960" y="4543560"/>
            <a:ext cx="1828800" cy="915480"/>
          </a:xfrm>
          <a:prstGeom prst="borderCallout2">
            <a:avLst>
              <a:gd name="adj1" fmla="val 18750"/>
              <a:gd name="adj2" fmla="val -8333"/>
              <a:gd name="adj3" fmla="val 12263"/>
              <a:gd name="adj4" fmla="val -65277"/>
              <a:gd name="adj5" fmla="val 33643"/>
              <a:gd name="adj6" fmla="val -128458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s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1741" name=""/>
          <p:cNvSpPr/>
          <p:nvPr/>
        </p:nvSpPr>
        <p:spPr>
          <a:xfrm>
            <a:off x="2590920" y="2527200"/>
            <a:ext cx="6553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ound Pressure measur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ressur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Int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rberation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and equipment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Transmission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Absor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375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des for materials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struments 455x DAQ and LabVIEW solution for ISO 77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3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Block Diagrams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Tools Leg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99" name="ni455x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1764000" cy="712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0" y="2666880"/>
            <a:ext cx="2895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I 455x series D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ata Acqui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ith Real-Time Octave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581280"/>
            <a:ext cx="2895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icrophone on Rotating B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or microphone 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02760" y="4154400"/>
            <a:ext cx="713160" cy="713160"/>
            <a:chOff x="3002760" y="4154400"/>
            <a:chExt cx="713160" cy="713160"/>
          </a:xfrm>
        </p:grpSpPr>
        <p:sp>
          <p:nvSpPr>
            <p:cNvPr id="203" name=""/>
            <p:cNvSpPr/>
            <p:nvPr/>
          </p:nvSpPr>
          <p:spPr>
            <a:xfrm rot="8100000">
              <a:off x="2988360" y="4307760"/>
              <a:ext cx="503280" cy="168120"/>
            </a:xfrm>
            <a:custGeom>
              <a:avLst/>
              <a:gdLst>
                <a:gd name="textAreaLeft" fmla="*/ 110520 w 503280"/>
                <a:gd name="textAreaRight" fmla="*/ 392760 w 503280"/>
                <a:gd name="textAreaTop" fmla="*/ 36720 h 168120"/>
                <a:gd name="textAreaBottom" fmla="*/ 1314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100000">
              <a:off x="3037680" y="4188960"/>
              <a:ext cx="167760" cy="168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40720" y="4510800"/>
              <a:ext cx="119520" cy="356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59160" y="4392360"/>
              <a:ext cx="356760" cy="11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72000" y="4304160"/>
            <a:ext cx="2895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mplified Pink Nois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90080"/>
            <a:ext cx="2895480" cy="10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uter with LabVIEW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asurement Control and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 and V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rcRect l="34201" t="22244" r="49120" b="66639"/>
          <a:stretch/>
        </p:blipFill>
        <p:spPr>
          <a:xfrm>
            <a:off x="2743200" y="594360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0" y="5811120"/>
            <a:ext cx="289548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cel and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ustom Analysis and Reporting after Data 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315200" y="2362320"/>
            <a:ext cx="1676520" cy="4114800"/>
            <a:chOff x="7315200" y="2362320"/>
            <a:chExt cx="1676520" cy="4114800"/>
          </a:xfrm>
        </p:grpSpPr>
        <p:grpSp>
          <p:nvGrpSpPr>
            <p:cNvPr id="212" name=""/>
            <p:cNvGrpSpPr/>
            <p:nvPr/>
          </p:nvGrpSpPr>
          <p:grpSpPr>
            <a:xfrm>
              <a:off x="7315200" y="3276720"/>
              <a:ext cx="990720" cy="2209680"/>
              <a:chOff x="7315200" y="3276720"/>
              <a:chExt cx="990720" cy="2209680"/>
            </a:xfrm>
          </p:grpSpPr>
          <p:sp>
            <p:nvSpPr>
              <p:cNvPr id="213" name=""/>
              <p:cNvSpPr/>
              <p:nvPr/>
            </p:nvSpPr>
            <p:spPr>
              <a:xfrm>
                <a:off x="7315200" y="327672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05920" y="3276720"/>
                <a:ext cx="0" cy="22096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15200" y="5486400"/>
                <a:ext cx="99072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467480" y="2362320"/>
              <a:ext cx="1524240" cy="761760"/>
            </a:xfrm>
            <a:prstGeom prst="wedgeEllipseCallout">
              <a:avLst>
                <a:gd name="adj1" fmla="val -73333"/>
                <a:gd name="adj2" fmla="val 77291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al-Time 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7480" y="5715000"/>
              <a:ext cx="1524240" cy="762120"/>
            </a:xfrm>
            <a:prstGeom prst="wedgeEllipseCallout">
              <a:avLst>
                <a:gd name="adj1" fmla="val -93648"/>
                <a:gd name="adj2" fmla="val -88333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ost-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1800" y="3200400"/>
              <a:ext cx="397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vert="eaVer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lternate Implem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72720" y="3246480"/>
            <a:ext cx="1263960" cy="1019160"/>
            <a:chOff x="2772720" y="3246480"/>
            <a:chExt cx="1263960" cy="1019160"/>
          </a:xfrm>
        </p:grpSpPr>
        <p:sp>
          <p:nvSpPr>
            <p:cNvPr id="220" name=""/>
            <p:cNvSpPr/>
            <p:nvPr/>
          </p:nvSpPr>
          <p:spPr>
            <a:xfrm rot="19800000">
              <a:off x="2819520" y="3505320"/>
              <a:ext cx="1170000" cy="50148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39120" y="3578040"/>
              <a:ext cx="706320" cy="541800"/>
              <a:chOff x="3039120" y="3578040"/>
              <a:chExt cx="706320" cy="541800"/>
            </a:xfrm>
          </p:grpSpPr>
          <p:sp>
            <p:nvSpPr>
              <p:cNvPr id="222" name=""/>
              <p:cNvSpPr/>
              <p:nvPr/>
            </p:nvSpPr>
            <p:spPr>
              <a:xfrm rot="1800000">
                <a:off x="3049200" y="3734280"/>
                <a:ext cx="685800" cy="225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00000">
                <a:off x="3474000" y="3849480"/>
                <a:ext cx="228600" cy="228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971800" y="4876920"/>
            <a:ext cx="539640" cy="890640"/>
            <a:chOff x="2971800" y="4876920"/>
            <a:chExt cx="539640" cy="890640"/>
          </a:xfrm>
        </p:grpSpPr>
        <p:graphicFrame>
          <p:nvGraphicFramePr>
            <p:cNvPr id="225" name=""/>
            <p:cNvGraphicFramePr/>
            <p:nvPr/>
          </p:nvGraphicFramePr>
          <p:xfrm>
            <a:off x="2971800" y="4876920"/>
            <a:ext cx="539640" cy="890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71800" y="4876920"/>
                      <a:ext cx="539640" cy="8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7" name="lv_logo" descr=""/>
            <p:cNvPicPr/>
            <p:nvPr/>
          </p:nvPicPr>
          <p:blipFill>
            <a:blip r:embed="rId8"/>
            <a:stretch/>
          </p:blipFill>
          <p:spPr>
            <a:xfrm>
              <a:off x="3137040" y="5319720"/>
              <a:ext cx="325440" cy="33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pic>
        <p:nvPicPr>
          <p:cNvPr id="1744" name="ni%20logo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4724280" cy="1141560"/>
          </a:xfrm>
          <a:prstGeom prst="rect">
            <a:avLst/>
          </a:prstGeom>
          <a:ln w="0">
            <a:noFill/>
          </a:ln>
        </p:spPr>
      </p:pic>
      <p:pic>
        <p:nvPicPr>
          <p:cNvPr id="1745" name="NAE%20Logo" descr=""/>
          <p:cNvPicPr/>
          <p:nvPr/>
        </p:nvPicPr>
        <p:blipFill>
          <a:blip r:embed="rId4"/>
          <a:stretch/>
        </p:blipFill>
        <p:spPr>
          <a:xfrm>
            <a:off x="2209680" y="4876920"/>
            <a:ext cx="144792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746" name=""/>
          <p:cNvGrpSpPr/>
          <p:nvPr/>
        </p:nvGrpSpPr>
        <p:grpSpPr>
          <a:xfrm>
            <a:off x="3835440" y="4915080"/>
            <a:ext cx="3124080" cy="1096200"/>
            <a:chOff x="3835440" y="4915080"/>
            <a:chExt cx="3124080" cy="1096200"/>
          </a:xfrm>
        </p:grpSpPr>
        <p:sp>
          <p:nvSpPr>
            <p:cNvPr id="1747" name=""/>
            <p:cNvSpPr/>
            <p:nvPr/>
          </p:nvSpPr>
          <p:spPr>
            <a:xfrm>
              <a:off x="4251240" y="4915080"/>
              <a:ext cx="21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JGS Consul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3835440" y="5280480"/>
              <a:ext cx="3124080" cy="730800"/>
              <a:chOff x="3835440" y="5280480"/>
              <a:chExt cx="3124080" cy="730800"/>
            </a:xfrm>
          </p:grpSpPr>
          <p:graphicFrame>
            <p:nvGraphicFramePr>
              <p:cNvPr id="1749" name=""/>
              <p:cNvGraphicFramePr/>
              <p:nvPr/>
            </p:nvGraphicFramePr>
            <p:xfrm>
              <a:off x="3939480" y="5280480"/>
              <a:ext cx="2841840" cy="399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39480" y="5280480"/>
                        <a:ext cx="2841840" cy="39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51" name=""/>
              <p:cNvSpPr/>
              <p:nvPr/>
            </p:nvSpPr>
            <p:spPr>
              <a:xfrm>
                <a:off x="3939480" y="5737320"/>
                <a:ext cx="281160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835440" y="5645880"/>
                <a:ext cx="31240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oustics, Technology, Quality and Busin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3" name=""/>
          <p:cNvSpPr/>
          <p:nvPr/>
        </p:nvSpPr>
        <p:spPr>
          <a:xfrm>
            <a:off x="2666880" y="2666880"/>
            <a:ext cx="647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tual Acoustic Instrument Development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755800" y="6146640"/>
            <a:ext cx="511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ffS@Prodigy.net;  512 282-6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125%20bluelogo" descr=""/>
          <p:cNvPicPr/>
          <p:nvPr/>
        </p:nvPicPr>
        <p:blipFill>
          <a:blip r:embed="rId7"/>
          <a:stretch/>
        </p:blipFill>
        <p:spPr>
          <a:xfrm>
            <a:off x="7315200" y="4749840"/>
            <a:ext cx="13431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52480" y="304920"/>
            <a:ext cx="6324840" cy="1371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324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ical Acoustical Sit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1676160" cy="4428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28600" y="0"/>
            <a:ext cx="914400" cy="6858000"/>
            <a:chOff x="228600" y="0"/>
            <a:chExt cx="914400" cy="6858000"/>
          </a:xfrm>
        </p:grpSpPr>
        <p:sp>
          <p:nvSpPr>
            <p:cNvPr id="232" name=""/>
            <p:cNvSpPr/>
            <p:nvPr/>
          </p:nvSpPr>
          <p:spPr>
            <a:xfrm>
              <a:off x="228600" y="1752480"/>
              <a:ext cx="457200" cy="5105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685800"/>
              <a:ext cx="457200" cy="320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" y="0"/>
              <a:ext cx="457200" cy="28195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29080" y="5016600"/>
            <a:ext cx="6172200" cy="1625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quipment and Material Acoust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2370240"/>
            <a:ext cx="2442600" cy="2540880"/>
            <a:chOff x="1447920" y="2370240"/>
            <a:chExt cx="2442600" cy="2540880"/>
          </a:xfrm>
        </p:grpSpPr>
        <p:sp>
          <p:nvSpPr>
            <p:cNvPr id="237" name=""/>
            <p:cNvSpPr/>
            <p:nvPr/>
          </p:nvSpPr>
          <p:spPr>
            <a:xfrm>
              <a:off x="1532520" y="2370240"/>
              <a:ext cx="2358000" cy="2195640"/>
            </a:xfrm>
            <a:prstGeom prst="rect">
              <a:avLst/>
            </a:prstGeom>
            <a:solidFill>
              <a:srgbClr val="3333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02080" y="2539440"/>
              <a:ext cx="2047680" cy="1879920"/>
            </a:xfrm>
            <a:prstGeom prst="rect">
              <a:avLst/>
            </a:prstGeom>
            <a:solidFill>
              <a:srgbClr val="ff00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60840" y="2703600"/>
              <a:ext cx="1719000" cy="15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535640"/>
              <a:ext cx="228600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los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11200" y="2911320"/>
            <a:ext cx="5438880" cy="837720"/>
            <a:chOff x="3211200" y="2911320"/>
            <a:chExt cx="5438880" cy="837720"/>
          </a:xfrm>
        </p:grpSpPr>
        <p:sp>
          <p:nvSpPr>
            <p:cNvPr id="242" name=""/>
            <p:cNvSpPr/>
            <p:nvPr/>
          </p:nvSpPr>
          <p:spPr>
            <a:xfrm flipH="1" flipV="1">
              <a:off x="3211200" y="2911320"/>
              <a:ext cx="394920" cy="31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006160" y="3218400"/>
              <a:ext cx="245160" cy="170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60680" y="3147480"/>
              <a:ext cx="33894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flected Sound Power = IRI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bsorption Coefficient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1 - IRI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5200" y="3222720"/>
            <a:ext cx="4674960" cy="1180800"/>
            <a:chOff x="3805200" y="3222720"/>
            <a:chExt cx="4674960" cy="1180800"/>
          </a:xfrm>
        </p:grpSpPr>
        <p:sp>
          <p:nvSpPr>
            <p:cNvPr id="246" name=""/>
            <p:cNvSpPr/>
            <p:nvPr/>
          </p:nvSpPr>
          <p:spPr>
            <a:xfrm>
              <a:off x="3805200" y="3222720"/>
              <a:ext cx="493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6320" y="4006440"/>
              <a:ext cx="3315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46000" y="3835080"/>
              <a:ext cx="31341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tted Sound Power =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Transmission Coefficien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33760" y="2793960"/>
            <a:ext cx="5422320" cy="2117520"/>
            <a:chOff x="2633760" y="2793960"/>
            <a:chExt cx="5422320" cy="2117520"/>
          </a:xfrm>
        </p:grpSpPr>
        <p:sp>
          <p:nvSpPr>
            <p:cNvPr id="250" name=""/>
            <p:cNvSpPr/>
            <p:nvPr/>
          </p:nvSpPr>
          <p:spPr>
            <a:xfrm>
              <a:off x="2633760" y="27939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2880" y="304776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90760" y="4488120"/>
              <a:ext cx="305280" cy="305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99080" y="4403520"/>
              <a:ext cx="2457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Pressure at Points 1 a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268360" y="2286000"/>
            <a:ext cx="6381720" cy="1979280"/>
            <a:chOff x="2268360" y="2286000"/>
            <a:chExt cx="6381720" cy="1979280"/>
          </a:xfrm>
        </p:grpSpPr>
        <p:sp>
          <p:nvSpPr>
            <p:cNvPr id="255" name=""/>
            <p:cNvSpPr/>
            <p:nvPr/>
          </p:nvSpPr>
          <p:spPr>
            <a:xfrm>
              <a:off x="4921560" y="2286000"/>
              <a:ext cx="317160" cy="3351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60320" y="2286000"/>
              <a:ext cx="3389760" cy="3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nd Source with Acoustic Power = 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2268360" y="3783600"/>
            <a:ext cx="956520" cy="48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3783600"/>
                      <a:ext cx="956520" cy="4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"/>
          <p:cNvSpPr/>
          <p:nvPr/>
        </p:nvSpPr>
        <p:spPr>
          <a:xfrm>
            <a:off x="2209680" y="3726000"/>
            <a:ext cx="1055880" cy="10555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52800" y="3668760"/>
            <a:ext cx="1171440" cy="117144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92320" y="3608280"/>
            <a:ext cx="1292400" cy="129240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33640" y="3549600"/>
            <a:ext cx="1409760" cy="140832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4960" y="3490920"/>
            <a:ext cx="1525320" cy="1525680"/>
          </a:xfrm>
          <a:prstGeom prst="blockArc">
            <a:avLst>
              <a:gd name="adj1" fmla="val 10800000"/>
              <a:gd name="adj2" fmla="val 0"/>
              <a:gd name="adj3" fmla="val 0"/>
            </a:avLst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73240" y="2708280"/>
            <a:ext cx="5483160" cy="1186560"/>
            <a:chOff x="2973240" y="2708280"/>
            <a:chExt cx="5483160" cy="1186560"/>
          </a:xfrm>
        </p:grpSpPr>
        <p:sp>
          <p:nvSpPr>
            <p:cNvPr id="265" name=""/>
            <p:cNvSpPr/>
            <p:nvPr/>
          </p:nvSpPr>
          <p:spPr>
            <a:xfrm flipV="1">
              <a:off x="5006880" y="2794680"/>
              <a:ext cx="30168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4880" y="2708280"/>
              <a:ext cx="29815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ident Sound Power = W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73240" y="3217680"/>
              <a:ext cx="593280" cy="677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65440" y="2286000"/>
            <a:ext cx="1355400" cy="761760"/>
            <a:chOff x="3565440" y="2286000"/>
            <a:chExt cx="1355400" cy="761760"/>
          </a:xfrm>
        </p:grpSpPr>
        <p:sp>
          <p:nvSpPr>
            <p:cNvPr id="269" name=""/>
            <p:cNvSpPr/>
            <p:nvPr/>
          </p:nvSpPr>
          <p:spPr>
            <a:xfrm>
              <a:off x="3565440" y="2539800"/>
              <a:ext cx="1355400" cy="507960"/>
            </a:xfrm>
            <a:custGeom>
              <a:avLst/>
              <a:gdLst>
                <a:gd name="textAreaLeft" fmla="*/ 0 w 1355400"/>
                <a:gd name="textAreaRight" fmla="*/ 1355400 w 13554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85" stAng="10800000" swAng="5400000"/>
                  <a:lnTo>
                    <a:pt x="15131" y="3675"/>
                  </a:lnTo>
                  <a:lnTo>
                    <a:pt x="15131" y="0"/>
                  </a:lnTo>
                  <a:lnTo>
                    <a:pt x="21600" y="6079"/>
                  </a:lnTo>
                  <a:lnTo>
                    <a:pt x="15131" y="12158"/>
                  </a:lnTo>
                  <a:lnTo>
                    <a:pt x="15131" y="8483"/>
                  </a:lnTo>
                  <a:lnTo>
                    <a:pt x="12427" y="8483"/>
                  </a:lnTo>
                  <a:arcTo wR="7619" hR="3677" stAng="16200000" swAng="-5400000"/>
                  <a:lnTo>
                    <a:pt x="4808" y="2160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6000" y="2286000"/>
              <a:ext cx="84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324240" y="5467320"/>
            <a:ext cx="4791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rce Sound Power, W, in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Absorption Coefficient,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ff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und Transmission Loss, TL (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asurement Techniques for Evaluating the Acoustical Properties of Materials and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1676520" cy="442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95480" y="2819520"/>
            <a:ext cx="5791320" cy="327636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Basic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0000"/>
                </a:solidFill>
                <a:latin typeface="Arial"/>
              </a:rPr>
              <a:t>Acoustic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8:13:55Z</dcterms:created>
  <dc:creator>Katherine Labac</dc:creator>
  <dc:description/>
  <dc:language>en-US</dc:language>
  <cp:lastModifiedBy>Katherine Labac</cp:lastModifiedBy>
  <cp:lastPrinted>2000-04-16T23:57:12Z</cp:lastPrinted>
  <dcterms:modified xsi:type="dcterms:W3CDTF">2000-05-11T21:48:54Z</dcterms:modified>
  <cp:revision>110</cp:revision>
  <dc:subject/>
  <dc:title>Company Meeting Title</dc:title>
</cp:coreProperties>
</file>