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617C-4F55-411F-AD96-1E04318A64CA}"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allons au cours des prochaines 30 minutes passer en revue quelques-uns des points importants de la dernière version de Measurement Studio. Nous avons délibérément pris deux résolu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us allons parler des trois composantes de MStudio : Visual Basic, Visual C++ et bien sûr LabWindows/CV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uisque chaque composante pourrait nécessiter 30 minutes, nous avons décidé d’avoir plus de diapositives à l’écrit que lors de la présentation. Le but ici est bien sûr de vous donner suffisamment d’explications afin que vous puissiez rapidement optimiser vos développements à l’aide de MStudio.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de suivi de production. Là, le code est encore plus simple… A chaque bouton correspond une fonction callback qui est appelée selon que l’on veut se connecter (On_Click) ou se déconnecter (Off_Click). Dans chaque cas, on utilise les méthodes de l’objet DataSocket (nommé DS dans le projet) afin de se connecter. Notez que parmi les propriétés de l’objet DS, on a spécifié l’adresse URL à laquelle on se connecte ainsi que le mode de connexion (read, write…) ce qui allège notablement le code. Pour le reste, on retrouve deux fonctions qui dépendent de l’objet DataSocket et qui sont appelées de manière asynchrone soit pour traiter des données soit pour notifier l’utilisateur final de l’état de la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n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ff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Di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DataUpdated(ByVal Data As CW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MonChart.ChartY Data.Value, 1,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StatusUpdated(ByVal Status As CWDSLib.CWDSStatus, ByVal Error As Long, ByVal Message As St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ext1 =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rapport à un développement classique (DLL ou exécutable) lorsqu’on teste le code à l’aide du bouton « Start », Visual Basic ne lance pas simplement l’exécution du code mais au contraire, appelle Internet Explorer dans lequel va s’exécuter l’objet COM. Notez que pour arrêter l’exécution du contrôle, il suffit de revenir dans l’environnement VB (en effet, Internet Explorer passe généralement au premier plan quand on teste le contrôle) et de cliquer sur le bouton «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il faut garder en tête que l’on est toujours, à ce stade, en mode Debug. Autrement dit, les consignes élémentaires de sécurité sont en usage : sauvegarde régulière du projet VB et du code ainsi que pose de points d’arrêt (F9) afin de parcourir tout le code ligne à lig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ce qui est remarquable c’est que Visual Basic et Explorer collaborent et mettent à l’écran des pages Web qui, bien qu’incomplètes, ressemblent à ce que l’on souhaite. En effet, une fois le code de l’objet COM débogué, il suffira d’ajouter quelques lignes de texte et quelques images afin d’avoir un page Web conviviale et plaisa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une question se pose. Comment concevoir sa page et y insérer tel ou tel contrôle Active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fait, lorsqu’on lance l’exécution du contrôle ActiveX, VB génère une page Web dans laquelle il utilise des balises « OBJECT » afin de faire apparaître l’objet COM. C’est ce que montre la diapositive. Le texte affiché n’est rien d’autre que le contenu du Notepad lorsque, sur la page Web générée, on clique à droite et que l’on demande à voir le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s entrer dans les détails, il suffit de noter que toute page Web incluant les balises OBJECT et la série de chiffres comportera l’objet ActiveX que l’on a développé avec VB. Attention: à caque objet COM correspond un unique numéro et il est donc prudent d’utiliser le copier-coller plutôt que de recopier à la main la série de chiffres e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 série de chiffres correspond à un unique identificateur qui est enregistré dans la base de registres Windows de votre machine. Explorer se sert de ce numéro pour afficher le bon contrôle dans votre page Web. Autrement dit, du point de vue des clients (étudiants ou personnel de l’entreprise par exemple) il faudra s’assurer qu’ils possèdent sur leurs machines respectives les bonnes entrées dans la base de registres. De même, il faudra faire en sorte qu’ils possèdent une copie de nos contrôles ActiveX. Enfin, puisque nos objets COM utilisent d’autres contrôles ActiveX (CW UI, CW Analysis, CW DataSocket…) il faudra s’assurer que les machines clients disposent aussi de ces derniers contrôles (dans les bonnes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dernière remarque : rien n’empêche notre ActiveX de faire un « Format c: » de la machine client. Il nous faut aussi trouver un moyen de rassurer l’utilisateur et de lui garantir que le comportement de notre objet COM est tout à fait innoffens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il va falloir trouver et expliquer les outils qui vont nous permettre de déployer notre code, et c’est l’objet de la prochaine diapositiv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diapositive précédente, il est possible, en local, d’inclure directement une référence à un objet ActiveX via le numéro qui lui est affecté dans la base de registre. Ceci dit, lors de la distribution du contrôle, il est de notre responsabilité de s’assurer que le client possède bien sur sa machine tous les éléments nécessaires à l’utilisation de notre page. C’est exactement ce qui se passe lorsqu’ayant cliqué sur un film, tel ou tel site nous demande si l’on a bien la dernière version de RealPlayer par exe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une solution élégante passe par la création d’un fichier Cab. Ce dernier est un fichier compressé qui comporte toutes les dépendances garantissant la bonne marche de notre objet COM même sur une machine vierge (par exemple, la DLL de Visual Basic peut être incluse dans le fichier CAB). Sans entrer dans les détails (c’est plus du ressort de Microsoft d’expliquer comment utiliser les fonctionnalités de VB) notons qu’il fa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le Add In Manager à partir du menu Add-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hoisir dans la liste, le Package and Deploymen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ce dernier en choisissant bien l’option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ire OK à tout (vous lirez la documentation aprè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Une fois que tout est terminé, aller dans le sous-répertoire Package qui a été créé et double-cliquer sur la page HTML qui s’y trou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tout se passe bien, rien ne doit être apparemment différent des différents tests précé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et c’est l’élément le plus important, quand on regarde le code de la page, ce n’est plus un fichier « .ocx » qui est déchargé par le poste client mais bien un fichier « .cab » comme le prouve la diapositive sui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retrouve de manière classique maintenant l’identifiant du contrôle à instancier mais aussi le nom du fichier cab à décharger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ne vous laissez pas abuser. En effet, le travail effectué par Explorer est ici très important. En effet, dans l’or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composants nécessaires sont pré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non, il décharge le ou les fich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fichiers téléchargés peuvent être installés sans crai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enregistre le ou les contrôle(s) ActiveX sur la machine cl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ajoute les différentes entrées nécessaires à la base de registres Windows de la machine cliente (comme cela, la prochaine fois, il n’y aura pas besoin de déchar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nalement il instancie l’objet COM qui apparaît alors dans la page HTML sur la machine cible.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il faut remarquer que rien n’empêche d’acheter en magasin un programme qui tient plus de la version alpha que du produit fini et qui après « plantage » laisse la base de registres Windows dans un tel état qu’il est difficile d’éviter un formatage du PC. Ceci étant, on le voit, utiliser des logiciels à travers le net n’est pas si différent de ce qui se passe dans la vie de tous les jours : tout fonctionne sur la confiance. J’ai confiance dans l’équipe ComponentWorks alors j’effectue la mise à jour de mon serveur DataSocket. Et peu importe que cette mise à jour arrive sur un CD ou via une liaison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 problème de la sécurité est compréhensible et il existe plusieurs options. Dans un premier temps, le client peut configurer son navigateur afin d’interdire le déchargement et l’installation d’objet COM (il en va de même pour les cookies). Comme il est difficile alors de naviguer, il est possible de faire en sorte qu’une notification apparaisse chaque fois qu’un contrôle ActiveX doit être install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ôté développeur, il faut noter que lors de la création du fichier CAB, l’une des étapes permet d’indiquer si le contrôle fonctionnera quels que soient les paramètres qui lui sont passés à l’initialisation et quelle que soit la façon dont il est utilisé dans un script Java ou VBScript. Attention: la distinction est subtile… En effet, dans la balise OBJECT étudiée préalablement, il est possible, non seulement de forcer le contrôle à prendre telles ou telles dimensions, mais aussi de lui passer des paramètres. On voit l’utilisation que pourraient en faire quelques « malfaisants » qui, en passant des paramètres aléatoires, tenteraient de faire « planter » la machine du cl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cripting, il est important de se rappeler qu’une fois déchargé sur la machine cliente, l’objet COM peut tout à fait être utilisé dans d’autres applications. Oui c’est vrai, dans notre cas, il n’y a pas de documentation ni d’aide en ligne. Ceci dit, rien n’empêcherait un développeur d’utiliser en VB pour Application tel ou tel contrôle qu’il trouverait dans sa base de registres. Prudence donc, il est de la responsabilité du développeur de contrôles ActiveX de s’assurer que son contrôle, quelle que soit la façon dont il est utilisé, n’endommagera pas la machine de l’utilisateur f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nir, et c’est généralement ce qui se passe avec les contrôles professionnels, il est possible d’insérer dans le code de l’objet, une signature électronique par laquelle le développeur ou plus généralement la société qui l’emploie, s’engage sur la « propreté du code ». Sur la boîte de dialogue qui notifie l’utilisateur final, il existe généralement une case à cocher permettant d’indiquer que l’on fera toujours confiance aux contrôles venant de telle ou telle entre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reste plus maintenant qu’à compléter les pages HTML afin de les rendre plus plaisantes et à les déposer sur un serve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vos premières expérimentations, n’hésitez pas à mettre en route le Personal Web Server qui accompagne Windows 98 ou 2000. Gratuit, il permet facilement de faire de l’intranet et d’expérimenter nombre des options qui ont été étudiées dans les diapositives précédentes.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étudier deux points à propos de la partie Visual C++ du package Measurement Studio. Dans un premier temps, nous allons, étape par étape, convertir un projet CVI en projet Visual C++. Par la suite, nous nous appuierons sur un projet MFC pour présenter rapidement les grandes classes C++ du package Mstudi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ssibilité de convertir un projet CVI en projet MSVC n’est pas nouvelle (voir la version 5.0 de CVI). Ceci dit, ce qui est nouveau, c’est la facilité avec laquelle cela est désormai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e suivre la procédure étape par étape, il semble important d’attirer l’attention sur deux points essentiel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 justification de cette option de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e fonctionnement des bibliothèques CVI et le système de fonctions callb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 nombreuses raisons pour lesquelles il est intéressant de convertir un projet CVI en projet MSVC. La première tient au fait qu’il est toujours utile de faire « passer » son code source entre les mains de différents compilateurs/linker. En effet, ces programmes excessivement complexes et respectant des standards plus ou moins « standards » ne sont pas exempts de spécificités ou de bugs. Autrement dit, utiliser le compilateur de Microsoft en complément de celui de CVI peut se révéler très instructif… Par exemple, comme de nombreux autres compilateurs optimisés, le compilateur Microsoft possède différents niveaux de sévérité ce qui permet de retrouver facilement dans le source, les variables non initialis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conde bonne raison peut être l’envie d’optimiser la vitesse d’exécution du code. En effet, CVI n’est pas et ne sera jamais un compilateur optimisé et il est donc logique que tous ceux qui écrivent ou enrichissent des bibliothèques de traitement (vision, analyse…) souhaitent utiliser un autre compilateur afin de réaliser la version finale de leur code. Attention: l’optimisation du code ne peut se faire que sur le code écrit par le développeur (pas sur les bibliothèques CVI) et elle n’est pas sans danger : limitation au type de machine cible, bugs n’arrivant qu’en version optimisée, en cas de bug, relecture du code assembleur très diffici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ses promises, choses dues. Voici le programme ! Comme indiqué précédemment, il est dense mais quelle que soit la composante de MStudio que vous utilisez actuellement, vous devriez y trouver des informations vraiment util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rnière raison provient du fait qu’un nombre croissant de développeurs CVI sont amenés à travailler avec des développeurs C++ et qu’à juste titre, on leur demande de convertir leur code C en code C++. Attention: il faut être clair : le convertisseur dont il est question ici ne va pas générer des classes CVI puis modifier le code ANSI C pour le transformer en code C++. Non, mais puisque n’importe quel code ANSI C est compatible avec du code C++, une fois le projet MSVC créé, il sera tout à fait licite d’instancier tel ou tel objet C++ dans une callback CVI et d’utiliser les méthodes et propriétés de l’objet en question. Il ne faudra pas oublier de changer les extensions des fichiers source (.c) et de les transformer en .cp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isons étant passées en revue, passons à un point technique qu’il faut comprendre afin de bien apprécier ce que fait le convertisseur de projet. Séquence explications : écrire une application Windows avec CVI est un jeu d’enfant. Cette facilité réside dans le fait que CVI met à la disposition des développeurs, un système de fonctions callback qui lie entre eux un ou plusieurs contrôles et une fonction qui est exécutée en réponse aux événements qui se produisent sur les contrô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on exécute une application dans l’environnement CVI, lors des appels LoadPanel par exemple, CVI met en place la correspondance entre les objets graphiques et les noms des fonctions à appeler. Pour cela, l’éditeur de liens de CVI tient à jour une table des fonctions non statiques du projet et la bibliothèque User Interface utilise cette table pour établir au moment de l’exécution les correspondances entre objets graphiques et les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l’on veut utiliser un éditeur de liens autre que celui de CVI, il faut créer cette table de correspondance. C’est tout l’objet de l’option External Compiler Support du menu Build de la fenêtre projet de CVI. Si, par curiosité, on utilise cette option et qu’on regarde le code source généré, on se rend compte qu’il contient à la fin, une table avec pour chaque fonction callback du projet, son nom, son adresse et d’autres paramètres dont seule la bibliothèque User Interface a l’usage. Si comme indiqué dans tous les sources générés par CVI, on remarque que l’appel à la fonction InitCVIRTE() est obligatoire quand on utilise un compilateur externe, on imagine aisément que le but de cette fonction est de lire le contenu de la table de fonctions qui a été générée dans le source précé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xpérience montre que peu d’utilisateurs convertissent leurs projets CVI en projet Visual C++ ou autre. En effet, il faut en plus de la table de fonctions non statiques, créer à la main un projet, inclure les bibliothèques statiques, tenir compte des chemins pour les fichiers include… Bref, comme nous allons le voir, le convertisseur de MStudio est plus que bienve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premier temps, il est préférable de faire un test dans un nouveau répertoire. Pour cela, copiez dans ce dernier tous les fichiers utiles de votre projet (.prj, .h, .c et autres) puis lancez à partir de cet emplacement le projet. Dans notre cas, nous avons copier les fichiers du projet Tank monitor qui se trouvent dans cvi/samples/apps/tankdemo. Si tout va bien, quittez alors CVI et lancez Visual Stud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Measurement Studio est correctement installé, après avoir demandé la création d’un nouveau projet, vous devriez voir apparaître l’option « NI Measurement Studio Wizard ». Cliquez dessus puis spécifiez le répertoire dans lequel vous voulez créer votre projet Visual C++ (bien évidemment, reprenez le répertoire dans lequel vous avez copié les fichiers origin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cliquez sur Ok.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assistant, plusieurs options sont disponibles. Choisissez la dernière, c’est-à-dire celle qui permet de convertir un projet ex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quez sur Nex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puisque nous voulons convertir un projet existant, il faut cliquer sur le bouton radio du bas puis choisir le projet (le fichier .prj) qui contient les informations sur l’application à convert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fait, cliquez sur Finish.</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ssistant va alors faire tout le travail pour vous ! Il 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générer un fichier source contenant une table des fonctions non stat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nclure les bons répertoires pour la recherche des fichier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ssocier les bonnes bibliothèques statiques au proj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ettre les bonnes options de comp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réer un répertoire Debug dans lequel il copiera le fichier UIR et qui contiendra la version debug de l’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et sans étudier le projet, appuyez sur F5 (Build/Start Debug/Go) afin de construire une version Debug de l’applicati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commentaires… L’application est maintenant « passée » sous Visual Studio de Microsoft et toutes les habitudes de développement peuvent être utilisées par le développeu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même si on sort un peu du cadre de l’utilisation de l’assistant de conversion, remarquons tout de même que le gestionnaire de projets contient dans l’onglet File, l’ensemble des déclarations de variables et des définitions des fonctions. Notons enfin que c’est à partir de l’option « Project Settings » que l’utilisateur pourra modifier toutes les options de compilat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artie pour Visual Studio de Measurement Studio ne se limite pas à un convertisseur de projets CVI, bien au contraire… En effet, MStudio comporte tous les outils (classes, objets, assistants…) qui permettent aux développeurs C++ d’écrire des applications d’instrumentation virtuelle à l’aide de classes MFC tout en conservant leur méthodes de développement. Ce dernier point est très important. En effet, à l’instar de ce qui a été fait pour Visual Basic, les développeurs de MStudio se sont attachés à respecter les habitudes de programmation des utilisateurs et à mettre à leur disposition des outils parfaitement intégr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a suite, plutôt que de passer en revue l’ensemble des classes National Instruments, nous allons rapidement présenter la méthode de développement d’une première application puis illustrer par l’exemple l’utilisation des classes d’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installé MStudio et fait quelques tests avec certains exemples standards, nous allons supposer ici que, partant de rien, nous souhaitions réaliser une premiè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après avoir choisi Nouveau Projet, il suffit de cliquer sur Measurement Studio AppWizard puis de manière classique, de spécifier le répertoire cible et le nom du projet. Ceci fait, l’assistant, via une série de boîtes de dialogue standards vous permet de choisir différentes options. Notons qu’ici, nous choisissons de développer une application qui s’appuie sur une architecture document/vue au lieu d’une boîte de dialogue (choix par défaut). Notons enfin que sur la dernière boîte de dialogue nous choisissons CFormView comme classe de base de notre vue. Ce choix permettra de placer facilement les objets graphiques sur la vue tout en bénéficiant de menus déroulants et de barres de statut classiques pour une application MF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ant cliqué sur Finish, l’assistant crée automatiquement un projet qui comporte l’ensemble des classes nécessaires à l’élaboration d’une application d’instrumentation virtuelle ainsi que toutes les options de compilation qui assure une mise en route rapide du proj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dans cette partie, nous intéresser à la création et à l’utilisation de contrôles ActiveX au sein d’une page HTML. La raison ? Tout simplement parce que Measurement Studio contient des contrôles ActiveX qui permettent le suivi de processus à distance ainsi que le déploiement d’applications légères qui sont exécutées au sein d’un Navigateur Web tel que Internet Explorer de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re une fois, et avant de rentrer dans les détails techniques, il est bon de préciser que MStudio comprenant LabWindows/CVI, des contrôles pour Visual Basic ainsi que des classes MFC pour le test et la mesure, en tant qu’utilisateur, vous pouvez utiliser chacun de ces outils de développement en fonction des tâches à effectuer. La licence que vous possédez donne accès à ces trois outils de développement. Alors, pas d’hésitation, les quelques pages qui suivent devraient vous permettre de rapidement réaliser vos premières applications intra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imaginons que vous soyez un développeur dont l’application CVI fonctionne parfaitement sur une ligne de production et que l’on vous demande de permettre l’accès distant, et en temps réel, aux données de production. De même, imaginons que vous soyez professeur que sur le site de l’université, vous décidiez de mettre quelques pages complémentaires de travaux pratiques illustrant les différents types de modulation (fréquence, amplitude…). Dans les deux cas, on le voit, ce que l’on souhaite, c’est non seulement écrire une application d’instrumentation virtuelle mais aussi embarquer cette dernière dans une page Web afin qu’elle puisse être exécutée sur la machine d’un client distant. Notez toutefois que les deux types d’applications sont légèrement différents. Dans le second cas, il s’agit d’une application autonome qui pourrait être réalisée avec un applet Java alors que dans le premier cas, il y a non seulement un affichage des résultats mais surtout une connexion continue au site de production afin de récupérer des données « réelles » (par opposition au second cas où tout est simu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olution qui réponde à ces deux cahiers des charges existe et se base sur l’incorporation au sein de pages HTML de contrôles ActiveX. Dans un premier temps, nous allons étudier le développement d’un contrôle très simple puis par la suite nous insisteront sur les options de déploiement du code et la sécurité.</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riez à la fin du processus de création du projet, arriver sur une fenêtre ressemblant à celle qui est présentée ci-dessus. A ce stade, et sans étudier le projet, cliquez sur « F5 » afin que l’environnement de développement compile, fasse l’édition de lien et lance la version « Debug » de l’application. Une fois l’application à l’écran, quittez-la et revenez dans le projet. C’est maintenant que les choses intéressantes commen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ne part, dans la partie Ressources du gestionnaire de projets, dans la section « Dialog », des éléments graphiques sont venus compléter la palette de contrôles. On y trouve des graphes, des graphes 3D, des boutons… En fait tous les contrôles ActiveX graphiques de National Instruments déjà disponibles pour Visual Basic sont maintenant disponibles sous Visual Studio. Leur utilisation est très classique. Après avoir déposé un objet graphique sur un formulaire ou une boîte de dialogue, un simple clic droit permet d’accéder à ses propriétés ainsi qu’à son aide en ligne. Attention, de très nombreuses propriétés sont disponibles par ce biais et nous ne saurions trop vous conseiller d’y passer du temps. En restant toujours dans l’éditeur de ressources vous pouvez classiquement invoquer le « ClassWizard » (CTRL+W) afin de rajouter l’objet à la classe qui représente la vue de l’application. Dès lors, tous les attributs et les méthodes héritées sont utilisables dans votre programme. Enfin, toujours à partir de l’éditeur de ressources, un double-clic sur le contrôle génère, si cela n’est pas encore fait, le code de la fonction callback par défaut de l’objet et y dépose le curseur. Il suffit alors de compléter le code ainsi génér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dans la partie « Classes » du gestionnaire de projets vous remarquez qu’environ 140 classes sont disponibles. Outre les classes habituelles d’une application architecturée autour d’un document et d’une vue (mainframe, vue, document…) des classes telles que CNi4882, CNiException, CNiGraph3D ont fait leur apparition… On retrouve les classes qui supportent les objets graphiques ainsi que tout un ensemble de classes qui n’ont pas d’existence graphique mais qui sont là pour faciliter le développement d’application d’instrumentation virtuelle).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la classe CNiMath comporte toues les fonctions et constantes de l’analyse avancée. De même, les classes CNi4882 ou CNiVisa permettent l’interfaçage aux instruments de me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artir de là que fair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périence montre qu’il faut passer un peu de temps dans l’aide en ligne et ne pas hésiter à copier/coller tout ou partie des exemples MFC qui accompagnent MStudio. De manière très pratique, nous vous recommandons d’étudier le fichier d’aide à partir de l’option « Interface ». Cela évite à ceux qui débutent de se « noyer » sous la liste exhaustive des classes (cette dernière est disponible sous l’option « Cla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s grands principes acquis, n’oubliez pas que de gros efforts ont été déployés afin de ne pas changer les méthodes de travail. Ainsi, l’aide se trouve dans le menu Tools/ComponentWorks++ Help mais surtout, le « complètement » des noms de fonctions (CTRL + ESPACE), la liste des fonctions membres ainsi que l’aide en ligne en cours d’édition sont disponibles à tout i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ojet ci-dessus n’a d’autre but que de mettre MStudio à l’épreuve... Le cahier des charges est simple : créer une application qui permette à l’utilisateur final de bien comprendre les notions d’échantillonnage, de filtrage et d’analyse spec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assiquement, il dispose d’un graphe dans lequel on affiche le signal échantillonné. Bien sûr différentes options sont disponibles mais pour finir, un spectre (moyenné ou non) est affiché dans un second grap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pplication fut développée en utilisant l’assistant présenté précédemment et en utilisant les mêmes options. Pour le reste, les objets graphiques nécéssaires ont été disposés sur le « form ». Le ClassWizard fut largement utilisé afin d’établir la relation entre l’interface et le code associé à la vue de l’application. Tous les objets graphiques ont été instanciés et font partie de la classe « vue ». D’autres membres ont été ajoutés puisque par exemple, lorsque les options de moyennage sont utilisées, une pile de type CList est utilisée.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être complets, nous montrons ci-dessous quelques lignes des codes typ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emière montre qu’en plus des classes, MStudio apporte tout un ensemble de « Template » dont CNiReal64Vector est un exemple. D’autre part, il faut noter que c’est le type de données qu’attendent les fonctions d’analyse avanc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uxième ligne montre comment on peut utiliser une fonction d’analyse avancée en utilisant la classe CNiMath. Ceux qui connaissent déjà la fonction SquareWave de CVI ou de VB ne devraient pas être déroutés par les paramètres utilis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oisième ligne montre comment, ayant un objet de type graphe, on utilise ce dernier pour afficher une courbe. Même si, ici, on utilise une des définitions de la fonction PlotY avec tous ses paramètres, de manière générale, l’appel de la fonction ne nécessite que le tableau à afficher. Le code est alors encore plus facile à l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ernier exemple montre comment on peut par programme modifier dynamiquement le titre de l’un des axes. L’intérêt est ici de montrer qu’en fait un graphe est un objet complexe constitué, entre autres, de collections parmi lesquelles on trouve une collection d’axes (il y a généralement un axe X mais il peut y avoir plusieurs axes 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lair, l’utilisation des classes CNixxx n’a d’intérêt que si vous êtes un développeur MFC habitué à la programmation objet et à l’architecture document/vue. Ceci étant dit, il en va de ces classes comme de beaucoup d’autres choses. Autrement dit, avant d’en tirer la quintessence, il est sans doute utile de faire de petits projets mettant en œuvre séparement telle ou telle fonctionnalité (là, l’assistant devrait vous permettre de le faire aisément). Enfin, comme avec tout nouvel outil de programmation, de très nombreux exemples permettent de comprendre tel ou tel point. N’hésitez pas ! Un projet regroupant l’ensemble des projets standards est disponible. Il permet d’avoir sous les yeux l’ensemble des projets et de ne lancer que ceux qui vous intéres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fin d'augmenter les performances de vos applications développées avec LabWindows/CVI, faciliter leur développement ou leur rajouter de nouvelles fonctionnalités, il est intéressant d'aborder les thèmes suivant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ultithreading et protection des ressources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mise en place d'une application multithread implique la prise en compte lors du développement des problèmes liés à la protection des ressources partagées  (données, dll, ...) entre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ptimiser ses applications à l'aide du SDK de Microsoft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our un développeur averti, utiliser les fonctions du SDK de Microsoft permet de rajouter de nouvelles fonctionnalités à vos applications comme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intégrer une fenêtre externe dans une application CVI;</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récupérer des informations sur le PC utilisé dans la base de registre.</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méliorer la fiabilité de vos tâches d'acquisition ou de contrôle en les exécutant dans un thread alors que la gestion de l'interface graphique sera réalisée dans un aut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écuter des opérations longues dans un thread indépendant de manière à ce que l'application principale puisse toujours répondre aux événements de l'interface graph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développer un algorithme tel que différentes parties s'exécutent dans des threads distincts. Cet algorithme, exécuté sur une machine multiprocesseurs, fonctionnera alors beaucoup plus vite que dans le cas d'une implémentation mono-thread de l'algorith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arfois plus simple de développer une application lorsque les parties indépendantes de cette application s'exécutent dans des threads distincts. Par exemple, une application serveur TCP/IP devant répondre à plusieurs clients sera plus simple à développer si la communication avec chaque client est gérée dans l'application serveur dans un thread séparé.</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présenté ci-dessus est un des exemples fournis avec LabWindows/CVI. Il est disponible à partir du chemin suivant :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rPr>
              <a:t>MeasurementStudio\cvi\samples\utility\Threading\ThreadPool\ParallelTestIni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permet de comparer la rapidité d'exécution d'une série de tests dans le cas où l'on utilise ou non le multi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onsiste à tester un certain nombre d'unités. Chaque séquence de tests sur une unité est composée de trois tests unitai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non-multithread, les tests sont exécutés les uns à la suite des aut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multithread, deux unités peuvent être testées en parallèle. En effet, chacun des tests élémentaires s'exécute dans un thread distinct. Ainsi, les séquences de tests s'exécutent beaucoup plus vit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multithread se doivent de protéger les variables globales accessibles par plusieurs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on considère une application dans laquelle plusieurs threads incrémentent une variable Count telle que Count = Count + 1, le code correspond alors à la séquence d’instructions processeur suivante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cture de la valeur de la variable Count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jout de 1 à cette valeu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riture de la nouvelle valeur dans la variable Count.</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lusieurs threads exécutent ces instructions, et puisque le système peut interrompre l’exécution des threads de manière arbitraire, on peut avoi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unt vaut 6 alors que la valeur correcte est 7. </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 fait, les deux seuls cas possibles sont Count = 6 et Count = 7. Cela signifie que l’application peut fonctionner correctement pendant longtemps avant que l’erreur n’ait lieu. L’expérience montre qu’un programme multithread dont les données ne sont pas correctement protégées fonctionnera correctement durant les tests, mais incorrectement dès son exécution sur le poste du client final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jour, Visual Basic est sans doute, l’outil qui facilite le plus le développement d’objets COM (contrôles ActiveX). Les pages qui suivent sont normalement très faciles à suivre et nous ne saurions trop vous conseiller de prendre un quart d’heure afin de réaliser votre première application pour le We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ules les données accessibles par plus d’un thread doivent être protégé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globales, les variables locales statiques et celles allouées de manière dynamique sont stockées dans des zones de mémoires accessibles par tous les threads d’un process (l’application). Les données stockées dans ces zones de mémoires doivent donc être protégées contre des accès concurrentiels des threads du proces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aramètres des fonctions, les variables locales non statiques sont localisés dans la pile. Or, le système d’exploitation alloue une pile spécifique pour chaque thread. Ainsi, chaque thread dispose de sa propre copie des paramètres et des variables locales non statiques. Ces derniers n’ont donc pas à être protégés contre des accès concurrentiel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onnées ne sont pas les seules à devoir être protégées. De manière générale, toute ressource partagée entre plusieurs threads doit l’être. Ainsi, l’appel à une fonction d’une Dll (correspondant à un driver de carte par exemple) doit être protégé de manière équivalent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ressources (et notamment des DLL), dites "thread safe", ont la capacité d’être appelées par plusieurs threads de manière simultanée. Il n’est alors pas nécessaire de protéger leur accès car cette protection est déjà assurée. Les bibliothèques de LabWindows/CVI sont thread sa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manière générale, la protection des ressources est assurée en associant un objet du système d’exploitation, appelé verrou, à la ressource à protéger. À chaque fois que l’accès à cette ressource est nécessaire, il faut réaliser un appel à une fonction spécifique permettant d’acquérir l’objet verrou. Après l’accès à la ressource, il faut relâcher ce verrou.</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d’exploitation permet à un seul thread à la fois d’acquérir un verrou particulier à un instant donné. Si un thread tente d’acquérir un verrou alors qu’un autre thread le possède, il attend jusqu’à ce que le thread disposant du verrou le relâch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fournit quatre mécanismes de protection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k</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 Queu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al Variabl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littéralement, verrou de thread), consiste à encapsuler un objet de type verrou. Trois cas sont particulièrement bien adaptés aux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section de code accède à une quantité importante de données, il est intéressant d’acquérir un Thread Lock en début de section et de le relâcher à la fin. L’intérêt de cette approche est sa simplicité et qu’elle est moins sujette aux erreurs que celle où chaque donnée serait protégée de manière individuelle. Elle est par contre moins performante car l’accès aux données est verrouillé plus que nécessaire. Les autres threads seront donc mis en attente plus longtemps avant d’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est aussi utile lorsqu’il est nécessaire d’appeler une bibliothèque qui n’est pas thread safe. Par exemple, dans le cas d’une DLL non thread safe du driver d’une carte, devant être appelée par plusieurs threads, il faut créer un Thread Lock que chaque thread doit acquérir avant d’appeler une fonction de la DL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oisième cas d’utilisation d’un Thread Lock survient lorsqu’il faut protéger des ressources qui sont partagées entre plusieurs applications. Un fichier, une zone de mémoire commune, sont des exemples d’une telle ressourc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otion de thread lock englobe simplement l’utilisation des objets Mutex et Critical Section du SDK en fournissant un jeu de fonctions permettant d’utiliser le mécanisme le plus approprié. En effet, ces deux objets ont un fonctionnement similaire, mais l’objet Critical Section est le moyen le plus performant pour synchroniser les accès aux données. Par contre, bien que l’objet Mutex soit moins performant, il fournit davantage de fonctionnalités, comme permettre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e continuer à gérer les messages Windows alors qu’il est en attente de la disponibilité de l’objet Mutex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être en attente de plus d’un Mutex à la fois à un instant donné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synchronisation des threads d’un même process ou de process différen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appeler </a:t>
            </a:r>
            <a:r>
              <a:rPr b="0" i="1" lang="fr-FR" sz="1000" spc="-1" strike="noStrike">
                <a:solidFill>
                  <a:srgbClr val="000000"/>
                </a:solidFill>
                <a:latin typeface="Arial"/>
              </a:rPr>
              <a:t>CmtNewLock</a:t>
            </a:r>
            <a:r>
              <a:rPr b="0" lang="fr-FR" sz="1000" spc="-1" strike="noStrike">
                <a:solidFill>
                  <a:srgbClr val="000000"/>
                </a:solidFill>
                <a:latin typeface="Arial"/>
              </a:rPr>
              <a:t> à l’initialisation de l’application pour créer l’objet verrou pour chaque ensemble de ressources que l’on veut protéger. Cette fonction retourne un handle permettant d’identifi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ccéder aux données ou au code protégés par le thread lock, les threads doivent appeler la fonction </a:t>
            </a:r>
            <a:r>
              <a:rPr b="0" i="1" lang="fr-FR" sz="1000" spc="-1" strike="noStrike">
                <a:solidFill>
                  <a:srgbClr val="000000"/>
                </a:solidFill>
                <a:latin typeface="Arial"/>
              </a:rPr>
              <a:t>CmtGetLock</a:t>
            </a:r>
            <a:r>
              <a:rPr b="0" lang="fr-FR" sz="1000" spc="-1" strike="noStrike">
                <a:solidFill>
                  <a:srgbClr val="000000"/>
                </a:solidFill>
                <a:latin typeface="Arial"/>
              </a:rPr>
              <a:t> pour 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l’accès aux ressources partagées, les threads doivent appeler </a:t>
            </a:r>
            <a:r>
              <a:rPr b="0" i="1" lang="fr-FR" sz="1000" spc="-1" strike="noStrike">
                <a:solidFill>
                  <a:srgbClr val="000000"/>
                </a:solidFill>
                <a:latin typeface="Arial"/>
              </a:rPr>
              <a:t>CmtReleaseLock</a:t>
            </a:r>
            <a:r>
              <a:rPr b="0" lang="fr-FR" sz="1000" spc="-1" strike="noStrike">
                <a:solidFill>
                  <a:srgbClr val="000000"/>
                </a:solidFill>
                <a:latin typeface="Arial"/>
              </a:rPr>
              <a:t> afin de relâch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même thread peut appeler plus d’une fois </a:t>
            </a:r>
            <a:r>
              <a:rPr b="0" i="1" lang="fr-FR" sz="1000" spc="-1" strike="noStrike">
                <a:solidFill>
                  <a:srgbClr val="000000"/>
                </a:solidFill>
                <a:latin typeface="Arial"/>
              </a:rPr>
              <a:t>CmtGetLock</a:t>
            </a:r>
            <a:r>
              <a:rPr b="0" lang="fr-FR" sz="1000" spc="-1" strike="noStrike">
                <a:solidFill>
                  <a:srgbClr val="000000"/>
                </a:solidFill>
                <a:latin typeface="Arial"/>
              </a:rPr>
              <a:t>, mais pour chacun de ses appels un appel à </a:t>
            </a:r>
            <a:r>
              <a:rPr b="0" i="1" lang="fr-FR" sz="1000" spc="-1" strike="noStrike">
                <a:solidFill>
                  <a:srgbClr val="000000"/>
                </a:solidFill>
                <a:latin typeface="Arial"/>
              </a:rPr>
              <a:t>CmtReleaseLock</a:t>
            </a:r>
            <a:r>
              <a:rPr b="0" lang="fr-FR" sz="1000" spc="-1" strike="noStrike">
                <a:solidFill>
                  <a:srgbClr val="000000"/>
                </a:solidFill>
                <a:latin typeface="Arial"/>
              </a:rPr>
              <a:t> doit être effectué.</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onction </a:t>
            </a:r>
            <a:r>
              <a:rPr b="0" i="1" lang="fr-FR" sz="1000" spc="-1" strike="noStrike">
                <a:solidFill>
                  <a:srgbClr val="000000"/>
                </a:solidFill>
                <a:latin typeface="Arial"/>
              </a:rPr>
              <a:t>CmtDiscardLock</a:t>
            </a:r>
            <a:r>
              <a:rPr b="0" lang="fr-FR" sz="1000" spc="-1" strike="noStrike">
                <a:solidFill>
                  <a:srgbClr val="000000"/>
                </a:solidFill>
                <a:latin typeface="Arial"/>
              </a:rPr>
              <a:t> doit être appelée en fin d’application afin de libérer les ressources allouées au thread lock.</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variable Thread Safe combine un objet Critical Section et une donnée d’un type quelconque. Il est ainsi possible en appelant une seule fonction d’acquérir l’objet Critical Section, de modifier la valeur de la variable et de relâcher l’objet Critical Sec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approche de la protection d’une variable est plus simple et moins sujette aux erreurs que celle utilisant un objet de type verrou (Thread Lock, Mutex...). En effet, une variable Thread Safe est plus simple à utiliser qu’un Thread Lock car dans ce cas on n’utilise qu’une variable (le handle sur la variable Thread Safe), alors qu’un Thread Lock en nécessite deux (le handle sur le Thread Lock et la variable à protéger). Elle permet de plus d’éviter une des erreurs les plus classiques dans une application multithread : l’oubli d’acquisition d’un Thread Lock (ou d’un Mutex…)</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contient un ensemble de fonctions permettant de créer et d'accéder à des variables Thread Safe. Ces fonctions permettent de créer des variables Thread Safe de n'importe quel type. Par conséquent les paramètres de ces fonctions ont des types génériques. Aussi, ces fonctions ne sont pas utilisées directement, mais par le biais d'un système de macros définies dans le fichier d'en-tête "utility.h".</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ichier d’en-tête de la bibliothèque "Utility" contient plusieurs macros permettant de générer automatiquement un jeu de fonctions spécifiques à la variable à protéger et notamment à son typ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utiliser la macro </a:t>
            </a:r>
            <a:r>
              <a:rPr b="0" i="1" lang="fr-FR" sz="1000" spc="-1" strike="noStrike">
                <a:solidFill>
                  <a:srgbClr val="000000"/>
                </a:solidFill>
                <a:latin typeface="Arial"/>
              </a:rPr>
              <a:t>DefineThreadSafeVar</a:t>
            </a:r>
            <a:r>
              <a:rPr b="0" lang="fr-FR" sz="1000" spc="-1" strike="noStrike">
                <a:solidFill>
                  <a:srgbClr val="000000"/>
                </a:solidFill>
                <a:latin typeface="Arial"/>
              </a:rPr>
              <a:t> pour créer une variable Thread Safe et les fonctions spécifiques à utiliser pour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fineThreadSafeVar(type, VarNam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acro utilise la chaîne de caractères passée en second paramètre (ici VarName) pour crée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I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VarName (type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VarName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emier paramètre de la macro (ici type) correspond au type de la variable Thread Safe. Il peut s’agir de n’importe quel type de données, même un type défini par l’utilisateur.</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el à la macro </a:t>
            </a:r>
            <a:r>
              <a:rPr b="0" i="1" lang="fr-FR" sz="1000" spc="-1" strike="noStrike">
                <a:solidFill>
                  <a:srgbClr val="000000"/>
                </a:solidFill>
                <a:latin typeface="Arial"/>
              </a:rPr>
              <a:t>DefineThreadSafeVar (int, Count)</a:t>
            </a:r>
            <a:r>
              <a:rPr b="0" lang="fr-FR" sz="1000" spc="-1" strike="noStrike">
                <a:solidFill>
                  <a:srgbClr val="000000"/>
                </a:solidFill>
                <a:latin typeface="Arial"/>
              </a:rPr>
              <a:t> va défini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I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Count (int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Count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a suite, pour accéder à la variable Thread Safe Count de type int, il suffit de faire appel aux fonctions spécifiques précéde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haque variable Thread Safe d’une application, un ensemble de six fonctions sera défini.</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Safe. Une fois que cette variable n’est plus utilisée, il faut faire appel à UninitializeVarNam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salloue les ressources utilisées par la variabl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e pointeur sur la variable Thread Safe. Après chaque appel à cette fonction, il faut relâcher le pointeur sur la variable en appelant </a:t>
            </a:r>
            <a:r>
              <a:rPr b="0" i="1" lang="fr-FR" sz="1000" spc="-1" strike="noStrike">
                <a:solidFill>
                  <a:srgbClr val="000000"/>
                </a:solidFill>
                <a:latin typeface="Arial"/>
              </a:rPr>
              <a:t>ReleasePointerToVarName</a:t>
            </a:r>
            <a:r>
              <a:rPr b="0" lang="fr-FR" sz="1000" spc="-1" strike="noStrike">
                <a:solidFill>
                  <a:srgbClr val="000000"/>
                </a:solidFill>
                <a:latin typeface="Arial"/>
              </a:rPr>
              <a:t>. En effet, un seul thread peut à un instant donné accéder à la variable Thread Safe. Si un thread fait une requête sur le pointeur de la variable alors qu’un autre thread en dispose, le second thread est alors mis en attente jusqu’à ce que le premier thread libère le point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ease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 pointeur sur la variable Thread Saf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valeur de la variable Thread Safe quelle que soit sa val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a valeur courante de la variable Thread Safe. La valeur actuelle de la variable peut changer après que GetVarName a lu la valeur en mémoire et avant d’avoir retourné cette valeur.</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il est nécessaire d’accéder à une variable Thread Safe à partir de plus d’un fichier source, la macro DeclareThreadSafeVar placée dans un fichier d’en-tête permet de créer les prototypes des fonctions spécifiqu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 projet initialisé, il ne reste plus qu’à compléter l’interface graphique du contrôle. Notez qu’un contrôle ActiveX peut très bien être constitué de plusieurs obj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bien évidemment, nous allons compléter la barre d’outils (à droite de l’environnement de développement) avec certains des contrôles qui viennent avec MStudio.</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littéralement variables locales à un thread) sont similaires aux variables globales dans le sens où elles sont toutes deux accessibles par plusieurs threads. Cependant, alors qu’une variable globale stocke une seule et même valeur pour tous les threads, une variable Thread Local stocke une valeur distincte pour chaque thread dans lequel elle est accessi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sont généralement utilisées lorsqu’une application est structurée de telle manière qu’elle exécute une tâche particulière plusieurs fois en même temps avec des paramètres différents. À chaque fois, un thread distinct est généré. Les variables locales seront alors utilisées pour stocker des informations spécifiques à chaque thread.</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New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Local. Cette fonction retourne un handle sur la variable. Ce handle sera utilisé par les fonctions suiva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Get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cupère un pointeur sur une instance de la variable Thread Local dans le thread courant. Au premier appel de cette fonction, la variable est initialisée à la valeur spécifiée par CmtNewThreadLocalVar. Cette fonction devra être appelée dans chaque thread voulant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Discard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s ressources allouées à la variable Thread Local. Après avoir appelé cette fonction, il n’est plus possible d’accéder à une instance de la variable Thread Local de n’importe quel 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une variable locale est utilisée pour stocker des données allouées dynamiquement, il est nécessaire de libérer chaque copie de données allouées (c’est-à-dire qu’il faut la libérer pour chaque thread qui l'a allouée). La fonction CmtNewThreadLocalVar permet de spécifier une callback de libération qui sera appelée une fois pour chaque thread accédant à la variable Thread Loca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ommencer le développement d'applications multithread, consultez la présentation NIDays 2000 et le document "</a:t>
            </a:r>
            <a:r>
              <a:rPr b="0" lang="en-US" sz="1000" spc="-1" strike="noStrike">
                <a:solidFill>
                  <a:srgbClr val="000000"/>
                </a:solidFill>
                <a:latin typeface="Arial"/>
              </a:rPr>
              <a:t>CVI Multithreading overview</a:t>
            </a:r>
            <a:r>
              <a:rPr b="0" lang="fr-FR" sz="1000" spc="-1" strike="noStrike">
                <a:solidFill>
                  <a:srgbClr val="000000"/>
                </a:solidFill>
                <a:latin typeface="Arial"/>
              </a:rPr>
              <a:t>" accessible à partir du menu Démarrer en suivant </a:t>
            </a:r>
            <a:r>
              <a:rPr b="0" i="1" lang="fr-FR" sz="1000" spc="-1" strike="noStrike">
                <a:solidFill>
                  <a:srgbClr val="000000"/>
                </a:solidFill>
                <a:latin typeface="Arial"/>
              </a:rPr>
              <a:t>Measurement Studio/Online Help</a:t>
            </a:r>
            <a:r>
              <a:rPr b="0" lang="fr-FR" sz="1000" spc="-1" strike="noStrike">
                <a:solidFill>
                  <a:srgbClr val="000000"/>
                </a:solidFill>
                <a:latin typeface="Arial"/>
              </a:rPr>
              <a:t>. Ce document reprend toutes les notions importantes d'une application multi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consulté ce document, reportez-vous aux fonctions dédiées au multithreading de la bibliothèque "Utility". Enfin, n'hésitez pas à utiliser les exemples destinés à illustrer les notions fondamentales du multithreading sous LabWindows/CVI. Ces exemples sont disponibles dans le répertoire : </a:t>
            </a:r>
            <a:r>
              <a:rPr b="0" i="1" lang="fr-FR" sz="1000" spc="-1" strike="noStrike">
                <a:solidFill>
                  <a:srgbClr val="000000"/>
                </a:solidFill>
                <a:latin typeface="Arial"/>
              </a:rPr>
              <a:t>D:\MeasurementStudio\cvi\samples\utility\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ossible, à partir de LabWindows/CVI, de lancer une autre application (par ActiveX, à partir d’une DLL...). Au moment de l’exécution, il y aura donc à l’écran deux fenêtres, une pour l’application CVI proprement dite et une deuxième correspondant à l’application appelée. Il peut être souhaitable de n’avoir qu’une seule fenêtre à l’écran et donc d’intégrer la fenêtre externe à la fenêtre CVI.</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i-dessus reprend un exemple de la bibliothèque IMAQ Vision pour LabWindows/CVI. Il permet de charger une image et de lui appliquer des fonctions de traitement d’images. Notamment, d’afficher dans un graphe l’intensité de chaque pixel sélectionné par une courbe (ici une ligne) tracée sur l’imag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ement, les fonctions de la bibliothèque IMAQ Vision permettent d’afficher l’image chargée dans une fenêtre externe et de lui appliquer divers traitements. L’objet de cette présentation est de modifier cet exemple afin d’intégrer la fenêtre IMAQ Vision dans l’application CVI et donc d’en faire un élément de l’interface graphique de l’application.</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in de réaliser la gestion des fenêtres apparaissant à l’écran, Windows leur associe une référence sous la forme d’un handle. À l’aide de cet handle, il sera alors possible d’effectuer différentes actions sur ces fenêtres comme les déplacer, modifier leurs dimensio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xemple précédent, la bibliothèque IMAQ Vision fournit un ensemble de fonctions permettant de gérer une fenêtre IMAQ Vision et notamment des fonctions retournant le handle de la fenêtre (</a:t>
            </a:r>
            <a:r>
              <a:rPr b="0" i="1" lang="fr-FR" sz="1000" spc="-1" strike="noStrike">
                <a:solidFill>
                  <a:srgbClr val="000000"/>
                </a:solidFill>
                <a:latin typeface="Arial"/>
              </a:rPr>
              <a:t>imaqGetSystemWindowHandle</a:t>
            </a:r>
            <a:r>
              <a:rPr b="0" lang="fr-FR" sz="1000" spc="-1" strike="noStrike">
                <a:solidFill>
                  <a:srgbClr val="000000"/>
                </a:solidFill>
                <a:latin typeface="Arial"/>
              </a:rPr>
              <a:t>), modifiant la position de cette fenêtre (</a:t>
            </a:r>
            <a:r>
              <a:rPr b="0" i="1" lang="fr-FR" sz="1000" spc="-1" strike="noStrike">
                <a:solidFill>
                  <a:srgbClr val="000000"/>
                </a:solidFill>
                <a:latin typeface="Arial"/>
              </a:rPr>
              <a:t>imaqMoveWindow</a:t>
            </a:r>
            <a:r>
              <a:rPr b="0" lang="fr-FR" sz="1000" spc="-1" strike="noStrike">
                <a:solidFill>
                  <a:srgbClr val="000000"/>
                </a:solidFill>
                <a:latin typeface="Arial"/>
              </a:rPr>
              <a:t>) ou sa taille (</a:t>
            </a:r>
            <a:r>
              <a:rPr b="0" i="1" lang="fr-FR" sz="1000" spc="-1" strike="noStrike">
                <a:solidFill>
                  <a:srgbClr val="000000"/>
                </a:solidFill>
                <a:latin typeface="Arial"/>
              </a:rPr>
              <a:t>imaqSetWindowSize</a:t>
            </a:r>
            <a:r>
              <a:rPr b="0" lang="fr-FR" sz="1000" spc="-1" strike="noStrike">
                <a:solidFill>
                  <a:srgbClr val="000000"/>
                </a:solidFill>
                <a:latin typeface="Arial"/>
              </a:rPr>
              <a:t>). On constate donc que, dans ce cas, c’est l’application appelée (la bibliothèque IMAQ Vision) qui fournit les fonctions de gestion des fenêtres. Ce sont donc des fonctions spécifiques à cette applica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n’est pas vrai pour toutes les applications, soit parce que ce n’est pas prévu pour l’application en question, soit parce que vous n’avez pas connaissance de ces fonctions spécifiques. Il vous faut alors faire appel à des fonctions génériques définies dans le SDK de Microsof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pour pouvoir faire appel à des fonctions du SDK dans une application LabWindows/CVI, il est nécessaire d’inclure le fichier d’en-tête "windows.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un bref descriptif des premières fonctions à utiliser pour gérer des fenêtres Window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d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ourne le handle d'une fenêtre dont on a spécifié le titre en argument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Paren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pécifie la fenêtre "parent" d'une fenêtre dite "fil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WindowLong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un attribut de la fenêtre spécifiée par son hand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v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position et les dimensions d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os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nimise (sans la détruir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troy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rime la fenêtre spécifié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lus d'informations concernant ces fonctions, se reporter au SDK de Microsoft accessible à partir de LabWindows/CVI par le menu Help/Windows SDK.</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là, nous en avons terminé. Que faire maintenant ? Sans doute visiter le site www.ni.com/france/mstudio et prendre un moment pour mettre toutes ces nouvelles connaissances en ap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il suffit de cliquer à droite, de choisir Composants puis de cliquer dans la liste qui s’affiche dans la boîte de dialo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complément de TP, choisissez CW Analysis et CW UI afin de doter votre contrôle des objets graphiques et des routines d’analyse avanc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suivi de données en temps réel, choisissez CW UI et CW DataSocket. Ce dernier objet permettra de communiquer facilement avec l’application distante sous réserve que cette dernière utilise, elle aussi, DataSocket pour publier des résul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il n’y a rien de fondamentalement différent par rapport au développement traditionnel en VB. Sur le formulaire, il suffit de déposer les différents objets, de modifier leurs propriétés et d’ajuster le tout pour que l’interface soit plaisante à utili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projet de TP, on ajoutera un Timer et il ne faudra pas oublier d’ajouter sur le formulaire les contrôles CWArray et CWDSP. Tous ces contrôles ne seront pas visibles lors de l’exécution mais permettent d’avoir une fonction qui est appelée régulièrement par le Timer (un peu comme dans CVI) et de créer des instances d’objets permettant l’accès aux fonctions d’analyse et de traitement de tablea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uivi de production, en plus d’un graphe, on ajoutera une zone de texte pour retourner le statut de la communication, deux boutons pour la connexion et la déconnexion et enfin un contrôle DataSocket qui ne sera pas visible lors de l’exécu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utilisé dans le TP de modulation. Après l’initialisation des fréquence d’échantillonnage et normalisée (il n’y a pas d’acquisition de données mais ces paramètres sont utilisés dans les routines d’analyse) l’objet DSP qui a été déposé sur le formulaire est utilisé pour générer le signal de la porteuse. Par la suite, on fait de même pour le signal modulant. Notez que FREQ_PORTEUSE.Value et AMPLITUDE.Value représentent les valeurs courantes des boutons rotatifs du formulaire. De même, NOISE.Value représente le contenu de la case à cocher qui permet d’indiquer si oui ou non on souhaite bruiter le signal modulant. Pour finir, SIGNAL et SPECTRE sont les graphes utilisés pour présenter respectivement, le signal et le spectre de la mod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Timer1_Ti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Bruit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Modulation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pectr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SamplingFreq, NormalizedFreq As D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df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On échantillonne à 100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mplingFreq = 1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rmalizedFreq = FREQ_PORTEUSE.Value / SamplingFre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Génération de la 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Porteuse = DSP.SineWave(1024, 1, NormalizedFreq, Phase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énération du signal (avec bruit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DSP.SineWave(1024, AMPLITUDE.Value, 1024 / SamplingFreq, Phas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f NOISE.Value = 1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Bruit = DSP.WhiteNoise(1024, 0.1,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CWARR.AddArray(LeSignal, LeBr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d 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odulation en ampl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Modulation = CWARR.MulArray(LaPorteuse, L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ffichage du 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IGNAL.PlotY LaMod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pectre de puissance et affich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P.AutoPowerSpectrum LaModulation, 1 / SamplingFreq, LeSpectre,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PECTRE.PlotY LeSpectre, 0,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58AED-BA90-496F-B906-455D20CCB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8178-4061-491D-A208-C29A5E6B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F7D08-2FB7-4FE3-8F13-F322E0C78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638EC-B9F7-4486-8C30-553435540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112D3-EEEF-4F3D-83EE-04944CFF3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BB116-B32A-466E-9EB7-E5E9BC5B1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4B330-C95E-4EA3-A75D-79E136506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5539A-C07D-49A9-8EB0-E28088BF0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58687-4C39-40BD-A79F-299DFF22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327E4-EB4B-4004-88BE-CA01FBC1F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C80C9-77BB-4BAF-A92F-8F627858E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57DB5-80B2-4B1E-807E-0A5C1267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099E4-1990-463D-86E4-E48923BF2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00653-96A3-4F44-9468-CE12A83C5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CDE67-60E6-4947-80B5-10A785C7A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D6EB3-5FDE-409B-A438-139914CE5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0BFCD-6F41-4ED3-BF88-26D4EDF8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E592-E2B6-4501-B4FA-961982FD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2E6F-51FD-4C34-92D8-4BACAFA7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E08C3-E2CE-4437-AF45-9835FE4A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C557-3F83-44F7-A1BD-1824F8D59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4388-0E98-472A-BDB1-E4B1F0D12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AEBD-0A96-40B6-A48C-429791724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60B0-59F2-4201-A5C3-A6D30DAB1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93E8-0340-46DA-9898-3FAEA4C4C2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640" y="6477120"/>
            <a:ext cx="316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mstudio</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326D-450F-42C7-BE4D-AAEB20B5C3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PPT\ParallelTestInit.exe" TargetMode="External"/><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sdk\IMAQ Philippe\line profile.exe" TargetMode="External"/><Relationship Id="rId4" Type="http://schemas.openxmlformats.org/officeDocument/2006/relationships/image" Target="../media/image36.png"/><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sez vos développements C, C++ et VB avec Measurement Studio</a:t>
            </a:r>
            <a:endParaRPr b="1" lang="en-US" sz="3600" spc="-1" strike="noStrike">
              <a:solidFill>
                <a:srgbClr val="ffff66"/>
              </a:solidFill>
              <a:latin typeface="Arial"/>
            </a:endParaRPr>
          </a:p>
        </p:txBody>
      </p:sp>
      <p:pic>
        <p:nvPicPr>
          <p:cNvPr id="95" name="MStudio%20Logo" descr=""/>
          <p:cNvPicPr/>
          <p:nvPr/>
        </p:nvPicPr>
        <p:blipFill>
          <a:blip r:embed="rId1"/>
          <a:stretch/>
        </p:blipFill>
        <p:spPr>
          <a:xfrm>
            <a:off x="4038480" y="4495680"/>
            <a:ext cx="1933560" cy="15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du contrôle à partir de VB</a:t>
            </a:r>
            <a:endParaRPr b="1" lang="en-US" sz="3600" spc="-1" strike="noStrike">
              <a:solidFill>
                <a:srgbClr val="ffff66"/>
              </a:solidFill>
              <a:latin typeface="Arial"/>
            </a:endParaRPr>
          </a:p>
        </p:txBody>
      </p:sp>
      <p:pic>
        <p:nvPicPr>
          <p:cNvPr id="121" name="" descr=""/>
          <p:cNvPicPr/>
          <p:nvPr/>
        </p:nvPicPr>
        <p:blipFill>
          <a:blip r:embed="rId1"/>
          <a:stretch/>
        </p:blipFill>
        <p:spPr>
          <a:xfrm>
            <a:off x="5105520" y="1981080"/>
            <a:ext cx="3809880" cy="3413160"/>
          </a:xfrm>
          <a:prstGeom prst="rect">
            <a:avLst/>
          </a:prstGeom>
          <a:ln w="0">
            <a:noFill/>
          </a:ln>
        </p:spPr>
      </p:pic>
      <p:sp>
        <p:nvSpPr>
          <p:cNvPr id="122" name=""/>
          <p:cNvSpPr/>
          <p:nvPr/>
        </p:nvSpPr>
        <p:spPr>
          <a:xfrm>
            <a:off x="685800" y="1981080"/>
            <a:ext cx="5334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1981080"/>
            <a:ext cx="3886200" cy="43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objets COM</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 classid="clsid:B8F2DACE-CC8F 11D4-81E4 005004F637FD"&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ation d’un fichier .CAB</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3581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276120" y="1600200"/>
            <a:ext cx="4600800" cy="3524400"/>
          </a:xfrm>
          <a:prstGeom prst="rect">
            <a:avLst/>
          </a:prstGeom>
          <a:ln w="0">
            <a:noFill/>
          </a:ln>
        </p:spPr>
      </p:pic>
      <p:pic>
        <p:nvPicPr>
          <p:cNvPr id="129" name="" descr=""/>
          <p:cNvPicPr/>
          <p:nvPr/>
        </p:nvPicPr>
        <p:blipFill>
          <a:blip r:embed="rId2"/>
          <a:stretch/>
        </p:blipFill>
        <p:spPr>
          <a:xfrm>
            <a:off x="914400" y="1876320"/>
            <a:ext cx="4286160" cy="3610080"/>
          </a:xfrm>
          <a:prstGeom prst="rect">
            <a:avLst/>
          </a:prstGeom>
          <a:ln w="0">
            <a:noFill/>
          </a:ln>
        </p:spPr>
      </p:pic>
      <p:pic>
        <p:nvPicPr>
          <p:cNvPr id="130" name="" descr=""/>
          <p:cNvPicPr/>
          <p:nvPr/>
        </p:nvPicPr>
        <p:blipFill>
          <a:blip r:embed="rId3"/>
          <a:stretch/>
        </p:blipFill>
        <p:spPr>
          <a:xfrm>
            <a:off x="1952640" y="2133720"/>
            <a:ext cx="4676760" cy="3419280"/>
          </a:xfrm>
          <a:prstGeom prst="rect">
            <a:avLst/>
          </a:prstGeom>
          <a:ln w="0">
            <a:noFill/>
          </a:ln>
        </p:spPr>
      </p:pic>
      <p:pic>
        <p:nvPicPr>
          <p:cNvPr id="131" name="" descr=""/>
          <p:cNvPicPr/>
          <p:nvPr/>
        </p:nvPicPr>
        <p:blipFill>
          <a:blip r:embed="rId4"/>
          <a:stretch/>
        </p:blipFill>
        <p:spPr>
          <a:xfrm>
            <a:off x="3124080" y="2362320"/>
            <a:ext cx="4676760" cy="34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de HTML de la pag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ITLE&gt;Project Modulation.CAB&lt;/TITLE&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 ID="UserControl1"</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D="CLSID:C3174DE5-DB17-11D4-8FC6-444553540000"</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BASE="Project Modulation.CAB#version=1,0,0,0"&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u navigateur (voir Op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e la création du fichier CAB</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ape Safety Setting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fe for Initialization et Safe for Scrip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uteur du contrôle peut signer électroniquement son code et délivrer à l’utilisateur un certificat (il faut le Platform SDK). La signature fait alors partie du contrôle (1ko en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ploiement des applications</a:t>
            </a:r>
            <a:endParaRPr b="1" lang="en-US" sz="3600" spc="-1" strike="noStrike">
              <a:solidFill>
                <a:srgbClr val="ffff66"/>
              </a:solidFill>
              <a:latin typeface="Arial"/>
            </a:endParaRPr>
          </a:p>
        </p:txBody>
      </p:sp>
      <p:pic>
        <p:nvPicPr>
          <p:cNvPr id="138" name="" descr=""/>
          <p:cNvPicPr/>
          <p:nvPr/>
        </p:nvPicPr>
        <p:blipFill>
          <a:blip r:embed="rId1"/>
          <a:stretch/>
        </p:blipFill>
        <p:spPr>
          <a:xfrm>
            <a:off x="4952880" y="1996920"/>
            <a:ext cx="3962520" cy="3551400"/>
          </a:xfrm>
          <a:prstGeom prst="rect">
            <a:avLst/>
          </a:prstGeom>
          <a:ln w="0">
            <a:noFill/>
          </a:ln>
        </p:spPr>
      </p:pic>
      <p:pic>
        <p:nvPicPr>
          <p:cNvPr id="139" name="" descr=""/>
          <p:cNvPicPr/>
          <p:nvPr/>
        </p:nvPicPr>
        <p:blipFill>
          <a:blip r:embed="rId2"/>
          <a:stretch/>
        </p:blipFill>
        <p:spPr>
          <a:xfrm>
            <a:off x="304920" y="1981080"/>
            <a:ext cx="4119480" cy="41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isual C++/ComponentWorks++</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version de proj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ation des classes MFC CNix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cond compil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énéficier d’un compilateur optimisé</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endre en C++ un programme C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B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s contrôles ActiveX dans des pages Web</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ual C++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version d’un projet CV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tation rapide des classes MFC CiIxx</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Windows/CV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thread : la protection des donné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 fenêtres SDK dans les fenêtres CVI, application à IMAQ Vision et au contrôle TreeView</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1/5</a:t>
            </a:r>
            <a:endParaRPr b="1" lang="en-US" sz="3600" spc="-1" strike="noStrike">
              <a:solidFill>
                <a:srgbClr val="ffff66"/>
              </a:solidFill>
              <a:latin typeface="Arial"/>
            </a:endParaRPr>
          </a:p>
        </p:txBody>
      </p:sp>
      <p:pic>
        <p:nvPicPr>
          <p:cNvPr id="148" name="" descr=""/>
          <p:cNvPicPr/>
          <p:nvPr/>
        </p:nvPicPr>
        <p:blipFill>
          <a:blip r:embed="rId1"/>
          <a:stretch/>
        </p:blipFill>
        <p:spPr>
          <a:xfrm>
            <a:off x="685800" y="2209680"/>
            <a:ext cx="5343480" cy="38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2/5</a:t>
            </a:r>
            <a:endParaRPr b="1" lang="en-US" sz="3600" spc="-1" strike="noStrike">
              <a:solidFill>
                <a:srgbClr val="ffff66"/>
              </a:solidFill>
              <a:latin typeface="Arial"/>
            </a:endParaRPr>
          </a:p>
        </p:txBody>
      </p:sp>
      <p:pic>
        <p:nvPicPr>
          <p:cNvPr id="150"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3/5</a:t>
            </a:r>
            <a:endParaRPr b="1" lang="en-US" sz="3600" spc="-1" strike="noStrike">
              <a:solidFill>
                <a:srgbClr val="ffff66"/>
              </a:solidFill>
              <a:latin typeface="Arial"/>
            </a:endParaRPr>
          </a:p>
        </p:txBody>
      </p:sp>
      <p:pic>
        <p:nvPicPr>
          <p:cNvPr id="152"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4/5</a:t>
            </a:r>
            <a:endParaRPr b="1" lang="en-US" sz="3600" spc="-1" strike="noStrike">
              <a:solidFill>
                <a:srgbClr val="ffff66"/>
              </a:solidFill>
              <a:latin typeface="Arial"/>
            </a:endParaRPr>
          </a:p>
        </p:txBody>
      </p:sp>
      <p:pic>
        <p:nvPicPr>
          <p:cNvPr id="154" name="" descr=""/>
          <p:cNvPicPr/>
          <p:nvPr/>
        </p:nvPicPr>
        <p:blipFill>
          <a:blip r:embed="rId1"/>
          <a:stretch/>
        </p:blipFill>
        <p:spPr>
          <a:xfrm>
            <a:off x="685800" y="2198520"/>
            <a:ext cx="5257800" cy="382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 voilà !</a:t>
            </a:r>
            <a:endParaRPr b="1" lang="en-US" sz="3600" spc="-1" strike="noStrike">
              <a:solidFill>
                <a:srgbClr val="ffff66"/>
              </a:solidFill>
              <a:latin typeface="Arial"/>
            </a:endParaRPr>
          </a:p>
        </p:txBody>
      </p:sp>
      <p:pic>
        <p:nvPicPr>
          <p:cNvPr id="156" name="" descr=""/>
          <p:cNvPicPr/>
          <p:nvPr/>
        </p:nvPicPr>
        <p:blipFill>
          <a:blip r:embed="rId1"/>
          <a:stretch/>
        </p:blipFill>
        <p:spPr>
          <a:xfrm>
            <a:off x="68580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aller plus loin…</a:t>
            </a:r>
            <a:endParaRPr b="1" lang="en-US" sz="3600" spc="-1" strike="noStrike">
              <a:solidFill>
                <a:srgbClr val="ffff66"/>
              </a:solidFill>
              <a:latin typeface="Arial"/>
            </a:endParaRPr>
          </a:p>
        </p:txBody>
      </p:sp>
      <p:pic>
        <p:nvPicPr>
          <p:cNvPr id="158" name="" descr=""/>
          <p:cNvPicPr/>
          <p:nvPr/>
        </p:nvPicPr>
        <p:blipFill>
          <a:blip r:embed="rId1"/>
          <a:stretch/>
        </p:blipFill>
        <p:spPr>
          <a:xfrm>
            <a:off x="685800" y="2209680"/>
            <a:ext cx="5638680" cy="409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résentation des classes MFC CNixx</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s les contrôles ActiveX déjà disponibles pour VB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us de 100 classes MF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PIB, RS-232, Visa, VXI,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avancée (voir CVI ou V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aSocket, Variant, et tout un ensemble de classes utilitaires (chaînes, timer, fichi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cun changement dans les habitudes de programmation MFC (exceptions, a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ssistant</a:t>
            </a:r>
            <a:endParaRPr b="1" lang="en-US" sz="3600" spc="-1" strike="noStrike">
              <a:solidFill>
                <a:srgbClr val="ffff66"/>
              </a:solidFill>
              <a:latin typeface="Arial"/>
            </a:endParaRPr>
          </a:p>
        </p:txBody>
      </p:sp>
      <p:sp>
        <p:nvSpPr>
          <p:cNvPr id="162" name="PlaceHolder 2"/>
          <p:cNvSpPr>
            <a:spLocks noGrp="1"/>
          </p:cNvSpPr>
          <p:nvPr>
            <p:ph/>
          </p:nvPr>
        </p:nvSpPr>
        <p:spPr>
          <a:xfrm>
            <a:off x="5943240" y="1981080"/>
            <a:ext cx="304812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NI Measurement Studio AppWizard au dépar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CFormView pour finir</a:t>
            </a:r>
            <a:endParaRPr b="0" lang="en-US" sz="2000" spc="-1" strike="noStrike">
              <a:solidFill>
                <a:srgbClr val="ffffff"/>
              </a:solidFill>
              <a:latin typeface="Arial"/>
            </a:endParaRPr>
          </a:p>
        </p:txBody>
      </p:sp>
      <p:pic>
        <p:nvPicPr>
          <p:cNvPr id="163" name="" descr=""/>
          <p:cNvPicPr/>
          <p:nvPr/>
        </p:nvPicPr>
        <p:blipFill>
          <a:blip r:embed="rId1"/>
          <a:stretch/>
        </p:blipFill>
        <p:spPr>
          <a:xfrm>
            <a:off x="152280" y="1600200"/>
            <a:ext cx="5343480" cy="3809880"/>
          </a:xfrm>
          <a:prstGeom prst="rect">
            <a:avLst/>
          </a:prstGeom>
          <a:ln w="0">
            <a:noFill/>
          </a:ln>
        </p:spPr>
      </p:pic>
      <p:pic>
        <p:nvPicPr>
          <p:cNvPr id="164" name="" descr=""/>
          <p:cNvPicPr/>
          <p:nvPr/>
        </p:nvPicPr>
        <p:blipFill>
          <a:blip r:embed="rId2"/>
          <a:stretch/>
        </p:blipFill>
        <p:spPr>
          <a:xfrm>
            <a:off x="638280" y="1981080"/>
            <a:ext cx="4543200" cy="3657600"/>
          </a:xfrm>
          <a:prstGeom prst="rect">
            <a:avLst/>
          </a:prstGeom>
          <a:ln w="0">
            <a:noFill/>
          </a:ln>
        </p:spPr>
      </p:pic>
      <p:pic>
        <p:nvPicPr>
          <p:cNvPr id="165" name="" descr=""/>
          <p:cNvPicPr/>
          <p:nvPr/>
        </p:nvPicPr>
        <p:blipFill>
          <a:blip r:embed="rId3"/>
          <a:stretch/>
        </p:blipFill>
        <p:spPr>
          <a:xfrm>
            <a:off x="914400" y="2362320"/>
            <a:ext cx="4543560" cy="3657600"/>
          </a:xfrm>
          <a:prstGeom prst="rect">
            <a:avLst/>
          </a:prstGeom>
          <a:ln w="0">
            <a:noFill/>
          </a:ln>
        </p:spPr>
      </p:pic>
      <p:pic>
        <p:nvPicPr>
          <p:cNvPr id="166" name="" descr=""/>
          <p:cNvPicPr/>
          <p:nvPr/>
        </p:nvPicPr>
        <p:blipFill>
          <a:blip r:embed="rId4"/>
          <a:stretch/>
        </p:blipFill>
        <p:spPr>
          <a:xfrm>
            <a:off x="1295280" y="26668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ual Basic/ComponentWork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s contrôles ActiveX dans une page HTML</a:t>
            </a:r>
            <a:endParaRPr b="0" lang="en-US" sz="2800" spc="-1" strike="noStrike">
              <a:solidFill>
                <a:srgbClr val="ffffff"/>
              </a:solidFill>
              <a:latin typeface="Arial"/>
            </a:endParaRPr>
          </a:p>
        </p:txBody>
      </p:sp>
      <p:pic>
        <p:nvPicPr>
          <p:cNvPr id="100"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68" name="PlaceHolder 2"/>
          <p:cNvSpPr>
            <a:spLocks noGrp="1"/>
          </p:cNvSpPr>
          <p:nvPr>
            <p:ph/>
          </p:nvPr>
        </p:nvSpPr>
        <p:spPr>
          <a:xfrm>
            <a:off x="5638680" y="1981080"/>
            <a:ext cx="2819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quez sur F5 pour tester le projet</a:t>
            </a:r>
            <a:endParaRPr b="0" lang="en-US" sz="2400" spc="-1" strike="noStrike">
              <a:solidFill>
                <a:srgbClr val="ffffff"/>
              </a:solidFill>
              <a:latin typeface="Arial"/>
            </a:endParaRPr>
          </a:p>
        </p:txBody>
      </p:sp>
      <p:pic>
        <p:nvPicPr>
          <p:cNvPr id="169" name="" descr=""/>
          <p:cNvPicPr/>
          <p:nvPr/>
        </p:nvPicPr>
        <p:blipFill>
          <a:blip r:embed="rId1"/>
          <a:stretch/>
        </p:blipFill>
        <p:spPr>
          <a:xfrm>
            <a:off x="228600" y="1676520"/>
            <a:ext cx="524844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ide en ligne</a:t>
            </a:r>
            <a:endParaRPr b="1" lang="en-US" sz="3600" spc="-1" strike="noStrike">
              <a:solidFill>
                <a:srgbClr val="ffff66"/>
              </a:solidFill>
              <a:latin typeface="Arial"/>
            </a:endParaRPr>
          </a:p>
        </p:txBody>
      </p:sp>
      <p:sp>
        <p:nvSpPr>
          <p:cNvPr id="173" name="PlaceHolder 2"/>
          <p:cNvSpPr>
            <a:spLocks noGrp="1"/>
          </p:cNvSpPr>
          <p:nvPr>
            <p:ph/>
          </p:nvPr>
        </p:nvSpPr>
        <p:spPr>
          <a:xfrm>
            <a:off x="5866920" y="1981080"/>
            <a:ext cx="3124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oisissez Interfaces dans l’aide en lig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lète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s memb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ype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ameter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52280" y="1676520"/>
            <a:ext cx="5639040" cy="409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complété</a:t>
            </a:r>
            <a:endParaRPr b="1" lang="en-US" sz="3600" spc="-1" strike="noStrike">
              <a:solidFill>
                <a:srgbClr val="ffff66"/>
              </a:solidFill>
              <a:latin typeface="Arial"/>
            </a:endParaRPr>
          </a:p>
        </p:txBody>
      </p:sp>
      <p:sp>
        <p:nvSpPr>
          <p:cNvPr id="176" name="PlaceHolder 2"/>
          <p:cNvSpPr>
            <a:spLocks noGrp="1"/>
          </p:cNvSpPr>
          <p:nvPr>
            <p:ph/>
          </p:nvPr>
        </p:nvSpPr>
        <p:spPr>
          <a:xfrm>
            <a:off x="5486040" y="198108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posez les objets sur le 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difiez les propriété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tanciez les clas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létez les fonctions callback</a:t>
            </a:r>
            <a:endParaRPr b="0" lang="en-US" sz="2800" spc="-1" strike="noStrike">
              <a:solidFill>
                <a:srgbClr val="ffffff"/>
              </a:solidFill>
              <a:latin typeface="Arial"/>
            </a:endParaRPr>
          </a:p>
        </p:txBody>
      </p:sp>
      <p:pic>
        <p:nvPicPr>
          <p:cNvPr id="177" name="" descr=""/>
          <p:cNvPicPr/>
          <p:nvPr/>
        </p:nvPicPr>
        <p:blipFill>
          <a:blip r:embed="rId1"/>
          <a:stretch/>
        </p:blipFill>
        <p:spPr>
          <a:xfrm>
            <a:off x="104760" y="1676520"/>
            <a:ext cx="5153040" cy="412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 exemples de codes…</a:t>
            </a:r>
            <a:endParaRPr b="1" lang="en-US" sz="3600" spc="-1" strike="noStrike">
              <a:solidFill>
                <a:srgbClr val="ffff66"/>
              </a:solidFill>
              <a:latin typeface="Arial"/>
            </a:endParaRPr>
          </a:p>
        </p:txBody>
      </p:sp>
      <p:sp>
        <p:nvSpPr>
          <p:cNvPr id="179" name="PlaceHolder 2"/>
          <p:cNvSpPr>
            <a:spLocks noGrp="1"/>
          </p:cNvSpPr>
          <p:nvPr>
            <p:ph/>
          </p:nvPr>
        </p:nvSpPr>
        <p:spPr>
          <a:xfrm>
            <a:off x="152280" y="1981080"/>
            <a:ext cx="8839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1/ CNiReal64Vector Signal(NUM_OF_POINTS);</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 CNiMath::SquareWave(Signal, Phase, Amplitude, NormalizedFreq, 50.0);</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m_GraphSignal.PlotY(Signal, 0.0, 1.0/SamplingFreq);</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 m_GraphSpectrum.Axes.Item(2).SetCaption(UnitString);</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 faire maintenant</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 vous êtes développeur MF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cez simpl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sez l’aide en lig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pirez-vous des exemples 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zone.ni.com ou sur ni.com/france/mstud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 : la protection des donné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 fenêtres SDK dans les fenêtres CVI, application à IMAQ Vision et au contrôle TreeView</a:t>
            </a:r>
            <a:endParaRPr b="0" lang="en-US" sz="2800" spc="-1" strike="noStrike">
              <a:solidFill>
                <a:srgbClr val="ffffff"/>
              </a:solidFill>
              <a:latin typeface="Arial"/>
            </a:endParaRPr>
          </a:p>
        </p:txBody>
      </p:sp>
      <p:pic>
        <p:nvPicPr>
          <p:cNvPr id="184" name="ni%20cvi%20blue" descr=""/>
          <p:cNvPicPr/>
          <p:nvPr/>
        </p:nvPicPr>
        <p:blipFill>
          <a:blip r:embed="rId1"/>
          <a:srcRect l="0" t="0" r="83342" b="3922"/>
          <a:stretch/>
        </p:blipFill>
        <p:spPr>
          <a:xfrm>
            <a:off x="770112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énéfices du multithreading</a:t>
            </a:r>
            <a:endParaRPr b="1" lang="en-US" sz="3600" spc="-1" strike="noStrike">
              <a:solidFill>
                <a:srgbClr val="ffff66"/>
              </a:solidFill>
              <a:latin typeface="Arial"/>
            </a:endParaRPr>
          </a:p>
        </p:txBody>
      </p:sp>
      <p:pic>
        <p:nvPicPr>
          <p:cNvPr id="186" name="ni%20cvi%20blue" descr=""/>
          <p:cNvPicPr/>
          <p:nvPr/>
        </p:nvPicPr>
        <p:blipFill>
          <a:blip r:embed="rId1"/>
          <a:srcRect l="0" t="0" r="83342" b="3922"/>
          <a:stretch/>
        </p:blipFill>
        <p:spPr>
          <a:xfrm>
            <a:off x="7697880" y="0"/>
            <a:ext cx="1442880" cy="1500120"/>
          </a:xfrm>
          <a:prstGeom prst="rect">
            <a:avLst/>
          </a:prstGeom>
          <a:ln w="0">
            <a:noFill/>
          </a:ln>
        </p:spPr>
      </p:pic>
      <p:sp>
        <p:nvSpPr>
          <p:cNvPr id="18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 l'influence de l’interface graphique sur les tâches temps-critiq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ise les actions sur l’interface graphique pendant l’exécution d’une tâche long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se les performances des machines multiprocesseu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éparent logiquement les parties de programmes indépend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 1 : démo UUT</a:t>
            </a:r>
            <a:endParaRPr b="1" lang="en-US" sz="3600" spc="-1" strike="noStrike">
              <a:solidFill>
                <a:srgbClr val="ffff66"/>
              </a:solidFill>
              <a:latin typeface="Arial"/>
            </a:endParaRPr>
          </a:p>
        </p:txBody>
      </p:sp>
      <p:pic>
        <p:nvPicPr>
          <p:cNvPr id="189"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190" name=""/>
          <p:cNvGraphicFramePr/>
          <p:nvPr/>
        </p:nvGraphicFramePr>
        <p:xfrm>
          <a:off x="988920" y="1627200"/>
          <a:ext cx="3943440" cy="4468680"/>
        </p:xfrm>
        <a:graphic>
          <a:graphicData uri="http://schemas.openxmlformats.org/presentationml/2006/ole">
            <p:oleObj r:id="rId2" spid="">
              <p:embed/>
              <p:pic>
                <p:nvPicPr>
                  <p:cNvPr id="191" name="" descr="">
                    <a:hlinkClick r:id="rId3"/>
                  </p:cNvPr>
                  <p:cNvPicPr/>
                  <p:nvPr/>
                </p:nvPicPr>
                <p:blipFill>
                  <a:blip r:embed="rId4"/>
                  <a:stretch/>
                </p:blipFill>
                <p:spPr>
                  <a:xfrm>
                    <a:off x="988920" y="1627200"/>
                    <a:ext cx="3943440" cy="44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on des données ?</a:t>
            </a:r>
            <a:endParaRPr b="1" lang="en-US" sz="3600" spc="-1" strike="noStrike">
              <a:solidFill>
                <a:srgbClr val="ffff66"/>
              </a:solidFill>
              <a:latin typeface="Arial"/>
            </a:endParaRPr>
          </a:p>
        </p:txBody>
      </p:sp>
      <p:sp>
        <p:nvSpPr>
          <p:cNvPr id="193" name=""/>
          <p:cNvSpPr/>
          <p:nvPr/>
        </p:nvSpPr>
        <p:spPr>
          <a:xfrm>
            <a:off x="4648320" y="1676520"/>
            <a:ext cx="3962160" cy="434340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724280" y="2133720"/>
            <a:ext cx="3733920" cy="373356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879440" y="16765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196" name=""/>
          <p:cNvSpPr/>
          <p:nvPr/>
        </p:nvSpPr>
        <p:spPr>
          <a:xfrm>
            <a:off x="5918040" y="167652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1</a:t>
            </a:r>
            <a:endParaRPr b="0" lang="en-US" sz="2400" spc="-1" strike="noStrike">
              <a:solidFill>
                <a:srgbClr val="000000"/>
              </a:solidFill>
              <a:latin typeface="Times New Roman"/>
            </a:endParaRPr>
          </a:p>
        </p:txBody>
      </p:sp>
      <p:sp>
        <p:nvSpPr>
          <p:cNvPr id="197" name=""/>
          <p:cNvSpPr/>
          <p:nvPr/>
        </p:nvSpPr>
        <p:spPr>
          <a:xfrm>
            <a:off x="7140240" y="16765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2</a:t>
            </a:r>
            <a:endParaRPr b="0" lang="en-US" sz="2400" spc="-1" strike="noStrike">
              <a:solidFill>
                <a:srgbClr val="000000"/>
              </a:solidFill>
              <a:latin typeface="Times New Roman"/>
            </a:endParaRPr>
          </a:p>
        </p:txBody>
      </p:sp>
      <p:grpSp>
        <p:nvGrpSpPr>
          <p:cNvPr id="198" name=""/>
          <p:cNvGrpSpPr/>
          <p:nvPr/>
        </p:nvGrpSpPr>
        <p:grpSpPr>
          <a:xfrm>
            <a:off x="5105520" y="2209680"/>
            <a:ext cx="2971800" cy="304920"/>
            <a:chOff x="5105520" y="2209680"/>
            <a:chExt cx="2971800" cy="304920"/>
          </a:xfrm>
        </p:grpSpPr>
        <p:sp>
          <p:nvSpPr>
            <p:cNvPr id="199" name=""/>
            <p:cNvSpPr/>
            <p:nvPr/>
          </p:nvSpPr>
          <p:spPr>
            <a:xfrm>
              <a:off x="5105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0" name=""/>
            <p:cNvSpPr/>
            <p:nvPr/>
          </p:nvSpPr>
          <p:spPr>
            <a:xfrm>
              <a:off x="6248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91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
          <p:cNvSpPr/>
          <p:nvPr/>
        </p:nvSpPr>
        <p:spPr>
          <a:xfrm>
            <a:off x="5105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3" name=""/>
          <p:cNvSpPr/>
          <p:nvPr/>
        </p:nvSpPr>
        <p:spPr>
          <a:xfrm>
            <a:off x="6248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4" name=""/>
          <p:cNvSpPr/>
          <p:nvPr/>
        </p:nvSpPr>
        <p:spPr>
          <a:xfrm>
            <a:off x="7391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05" name=""/>
          <p:cNvSpPr/>
          <p:nvPr/>
        </p:nvSpPr>
        <p:spPr>
          <a:xfrm>
            <a:off x="76320" y="373392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Registre1 + 1</a:t>
            </a:r>
            <a:endParaRPr b="0" lang="en-US" sz="2400" spc="-1" strike="noStrike">
              <a:solidFill>
                <a:srgbClr val="000000"/>
              </a:solidFill>
              <a:latin typeface="Times New Roman"/>
            </a:endParaRPr>
          </a:p>
        </p:txBody>
      </p:sp>
      <p:sp>
        <p:nvSpPr>
          <p:cNvPr id="206" name=""/>
          <p:cNvSpPr/>
          <p:nvPr/>
        </p:nvSpPr>
        <p:spPr>
          <a:xfrm>
            <a:off x="76320" y="320040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Count</a:t>
            </a:r>
            <a:endParaRPr b="0" lang="en-US" sz="2400" spc="-1" strike="noStrike">
              <a:solidFill>
                <a:srgbClr val="000000"/>
              </a:solidFill>
              <a:latin typeface="Times New Roman"/>
            </a:endParaRPr>
          </a:p>
        </p:txBody>
      </p:sp>
      <p:sp>
        <p:nvSpPr>
          <p:cNvPr id="207" name=""/>
          <p:cNvSpPr/>
          <p:nvPr/>
        </p:nvSpPr>
        <p:spPr>
          <a:xfrm>
            <a:off x="5105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8" name=""/>
          <p:cNvSpPr/>
          <p:nvPr/>
        </p:nvSpPr>
        <p:spPr>
          <a:xfrm>
            <a:off x="6248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9" name=""/>
          <p:cNvSpPr/>
          <p:nvPr/>
        </p:nvSpPr>
        <p:spPr>
          <a:xfrm>
            <a:off x="7391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0" name=""/>
          <p:cNvSpPr/>
          <p:nvPr/>
        </p:nvSpPr>
        <p:spPr>
          <a:xfrm>
            <a:off x="5562720" y="3429000"/>
            <a:ext cx="205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26708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1</a:t>
            </a:r>
            <a:endParaRPr b="0" lang="en-US" sz="2400" spc="-1" strike="noStrike">
              <a:solidFill>
                <a:srgbClr val="000000"/>
              </a:solidFill>
              <a:latin typeface="Times New Roman"/>
            </a:endParaRPr>
          </a:p>
        </p:txBody>
      </p:sp>
      <p:sp>
        <p:nvSpPr>
          <p:cNvPr id="212" name=""/>
          <p:cNvSpPr/>
          <p:nvPr/>
        </p:nvSpPr>
        <p:spPr>
          <a:xfrm>
            <a:off x="5105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3" name=""/>
          <p:cNvSpPr/>
          <p:nvPr/>
        </p:nvSpPr>
        <p:spPr>
          <a:xfrm>
            <a:off x="6248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4" name=""/>
          <p:cNvSpPr/>
          <p:nvPr/>
        </p:nvSpPr>
        <p:spPr>
          <a:xfrm>
            <a:off x="7391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5" name=""/>
          <p:cNvSpPr/>
          <p:nvPr/>
        </p:nvSpPr>
        <p:spPr>
          <a:xfrm>
            <a:off x="5562720" y="4495680"/>
            <a:ext cx="2057400" cy="1800"/>
          </a:xfrm>
          <a:prstGeom prst="line">
            <a:avLst/>
          </a:prstGeom>
          <a:ln w="38160">
            <a:solidFill>
              <a:srgbClr val="ff66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5105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7" name=""/>
          <p:cNvSpPr/>
          <p:nvPr/>
        </p:nvSpPr>
        <p:spPr>
          <a:xfrm>
            <a:off x="6248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8" name=""/>
          <p:cNvSpPr/>
          <p:nvPr/>
        </p:nvSpPr>
        <p:spPr>
          <a:xfrm>
            <a:off x="7391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9" name=""/>
          <p:cNvSpPr/>
          <p:nvPr/>
        </p:nvSpPr>
        <p:spPr>
          <a:xfrm>
            <a:off x="76320" y="480060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Registre2 + 1</a:t>
            </a:r>
            <a:endParaRPr b="0" lang="en-US" sz="2400" spc="-1" strike="noStrike">
              <a:solidFill>
                <a:srgbClr val="000000"/>
              </a:solidFill>
              <a:latin typeface="Times New Roman"/>
            </a:endParaRPr>
          </a:p>
        </p:txBody>
      </p:sp>
      <p:sp>
        <p:nvSpPr>
          <p:cNvPr id="220" name=""/>
          <p:cNvSpPr/>
          <p:nvPr/>
        </p:nvSpPr>
        <p:spPr>
          <a:xfrm>
            <a:off x="5105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1" name=""/>
          <p:cNvSpPr/>
          <p:nvPr/>
        </p:nvSpPr>
        <p:spPr>
          <a:xfrm>
            <a:off x="6248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2" name=""/>
          <p:cNvSpPr/>
          <p:nvPr/>
        </p:nvSpPr>
        <p:spPr>
          <a:xfrm>
            <a:off x="7391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3" name=""/>
          <p:cNvSpPr/>
          <p:nvPr/>
        </p:nvSpPr>
        <p:spPr>
          <a:xfrm>
            <a:off x="5562720" y="5562720"/>
            <a:ext cx="838080" cy="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320" y="533412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2</a:t>
            </a:r>
            <a:endParaRPr b="0" lang="en-US" sz="2400" spc="-1" strike="noStrike">
              <a:solidFill>
                <a:srgbClr val="000000"/>
              </a:solidFill>
              <a:latin typeface="Times New Roman"/>
            </a:endParaRPr>
          </a:p>
        </p:txBody>
      </p:sp>
      <p:sp>
        <p:nvSpPr>
          <p:cNvPr id="225" name=""/>
          <p:cNvSpPr/>
          <p:nvPr/>
        </p:nvSpPr>
        <p:spPr>
          <a:xfrm>
            <a:off x="5105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6" name=""/>
          <p:cNvSpPr/>
          <p:nvPr/>
        </p:nvSpPr>
        <p:spPr>
          <a:xfrm>
            <a:off x="6248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7" name=""/>
          <p:cNvSpPr/>
          <p:nvPr/>
        </p:nvSpPr>
        <p:spPr>
          <a:xfrm>
            <a:off x="7391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62720" y="2895480"/>
            <a:ext cx="838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20" y="266688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Count</a:t>
            </a:r>
            <a:endParaRPr b="0" lang="en-US" sz="2400" spc="-1" strike="noStrike">
              <a:solidFill>
                <a:srgbClr val="000000"/>
              </a:solidFill>
              <a:latin typeface="Times New Roman"/>
            </a:endParaRPr>
          </a:p>
        </p:txBody>
      </p:sp>
      <p:sp>
        <p:nvSpPr>
          <p:cNvPr id="230" name=""/>
          <p:cNvSpPr/>
          <p:nvPr/>
        </p:nvSpPr>
        <p:spPr>
          <a:xfrm>
            <a:off x="2362320" y="1905120"/>
            <a:ext cx="1447560" cy="45720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231" name=""/>
          <p:cNvSpPr/>
          <p:nvPr/>
        </p:nvSpPr>
        <p:spPr>
          <a:xfrm>
            <a:off x="762120" y="1905120"/>
            <a:ext cx="1447560" cy="4572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1</a:t>
            </a:r>
            <a:endParaRPr b="0" lang="en-US" sz="2400" spc="-1" strike="noStrike">
              <a:solidFill>
                <a:srgbClr val="000000"/>
              </a:solidFill>
              <a:latin typeface="Times New Roman"/>
            </a:endParaRPr>
          </a:p>
        </p:txBody>
      </p:sp>
      <p:pic>
        <p:nvPicPr>
          <p:cNvPr id="232" name="ni%20cvi%20blue" descr=""/>
          <p:cNvPicPr/>
          <p:nvPr/>
        </p:nvPicPr>
        <p:blipFill>
          <a:blip r:embed="rId1"/>
          <a:srcRect l="0" t="0" r="83342" b="3922"/>
          <a:stretch/>
        </p:blipFill>
        <p:spPr>
          <a:xfrm>
            <a:off x="7697880" y="0"/>
            <a:ext cx="1442880" cy="1500120"/>
          </a:xfrm>
          <a:prstGeom prst="rect">
            <a:avLst/>
          </a:prstGeom>
          <a:ln w="0">
            <a:noFill/>
          </a:ln>
        </p:spPr>
      </p:pic>
      <p:sp>
        <p:nvSpPr>
          <p:cNvPr id="233" name=""/>
          <p:cNvSpPr/>
          <p:nvPr/>
        </p:nvSpPr>
        <p:spPr>
          <a:xfrm>
            <a:off x="4724280" y="2133720"/>
            <a:ext cx="3733920" cy="373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crire un contrôle COM avec VB</a:t>
            </a:r>
            <a:endParaRPr b="1" lang="en-US" sz="3600" spc="-1" strike="noStrike">
              <a:solidFill>
                <a:srgbClr val="ffff66"/>
              </a:solidFill>
              <a:latin typeface="Arial"/>
            </a:endParaRPr>
          </a:p>
        </p:txBody>
      </p:sp>
      <p:sp>
        <p:nvSpPr>
          <p:cNvPr id="102" name="PlaceHolder 2"/>
          <p:cNvSpPr>
            <a:spLocks noGrp="1"/>
          </p:cNvSpPr>
          <p:nvPr>
            <p:ph/>
          </p:nvPr>
        </p:nvSpPr>
        <p:spPr>
          <a:xfrm>
            <a:off x="685440" y="1981080"/>
            <a:ext cx="3962520" cy="2438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cez V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uveau Pro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sissez Contrôle ActiveX</a:t>
            </a:r>
            <a:endParaRPr b="0" lang="en-US" sz="2800" spc="-1" strike="noStrike">
              <a:solidFill>
                <a:srgbClr val="ffffff"/>
              </a:solidFill>
              <a:latin typeface="Arial"/>
            </a:endParaRPr>
          </a:p>
        </p:txBody>
      </p:sp>
      <p:pic>
        <p:nvPicPr>
          <p:cNvPr id="103" name="" descr=""/>
          <p:cNvPicPr/>
          <p:nvPr/>
        </p:nvPicPr>
        <p:blipFill>
          <a:blip r:embed="rId1"/>
          <a:stretch/>
        </p:blipFill>
        <p:spPr>
          <a:xfrm>
            <a:off x="4724280" y="1962000"/>
            <a:ext cx="4219560" cy="27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de données à protéger</a:t>
            </a:r>
            <a:endParaRPr b="1" lang="en-US" sz="3600" spc="-1" strike="noStrike">
              <a:solidFill>
                <a:srgbClr val="ffff66"/>
              </a:solidFill>
              <a:latin typeface="Arial"/>
            </a:endParaRPr>
          </a:p>
        </p:txBody>
      </p:sp>
      <p:sp>
        <p:nvSpPr>
          <p:cNvPr id="235" name="PlaceHolder 2"/>
          <p:cNvSpPr>
            <a:spLocks noGrp="1"/>
          </p:cNvSpPr>
          <p:nvPr>
            <p:ph/>
          </p:nvPr>
        </p:nvSpPr>
        <p:spPr>
          <a:xfrm>
            <a:off x="533160" y="1600200"/>
            <a:ext cx="8305560" cy="838080"/>
          </a:xfrm>
          <a:prstGeom prst="rect">
            <a:avLst/>
          </a:prstGeom>
          <a:noFill/>
          <a:ln w="0">
            <a:noFill/>
          </a:ln>
        </p:spPr>
        <p:txBody>
          <a:bodyPr lIns="90000" rIns="90000" tIns="46800" bIns="46800" anchor="t">
            <a:normAutofit/>
          </a:bodyPr>
          <a:p>
            <a:pPr marL="533520" indent="-53352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ules les données accessibles par plus d’un thread doivent être protégées.</a:t>
            </a:r>
            <a:endParaRPr b="0" lang="en-US" sz="2400" spc="-1" strike="noStrike">
              <a:solidFill>
                <a:srgbClr val="ffffff"/>
              </a:solidFill>
              <a:latin typeface="Arial"/>
            </a:endParaRPr>
          </a:p>
        </p:txBody>
      </p:sp>
      <p:grpSp>
        <p:nvGrpSpPr>
          <p:cNvPr id="236" name=""/>
          <p:cNvGrpSpPr/>
          <p:nvPr/>
        </p:nvGrpSpPr>
        <p:grpSpPr>
          <a:xfrm>
            <a:off x="380880" y="2590920"/>
            <a:ext cx="8458200" cy="2819160"/>
            <a:chOff x="380880" y="2590920"/>
            <a:chExt cx="8458200" cy="2819160"/>
          </a:xfrm>
        </p:grpSpPr>
        <p:sp>
          <p:nvSpPr>
            <p:cNvPr id="237" name=""/>
            <p:cNvSpPr/>
            <p:nvPr/>
          </p:nvSpPr>
          <p:spPr>
            <a:xfrm>
              <a:off x="380880" y="2590920"/>
              <a:ext cx="8458200" cy="281916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533520" y="2774520"/>
              <a:ext cx="8153280" cy="2512800"/>
              <a:chOff x="533520" y="2774520"/>
              <a:chExt cx="8153280" cy="2512800"/>
            </a:xfrm>
          </p:grpSpPr>
          <p:sp>
            <p:nvSpPr>
              <p:cNvPr id="239" name=""/>
              <p:cNvSpPr/>
              <p:nvPr/>
            </p:nvSpPr>
            <p:spPr>
              <a:xfrm>
                <a:off x="533520" y="2774520"/>
                <a:ext cx="373356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3520" y="2774520"/>
                <a:ext cx="373356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émoir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global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allouées dynamiquement</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4952880" y="2774520"/>
                <a:ext cx="373392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2774520"/>
                <a:ext cx="373392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l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ètres des fonction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non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3" name=""/>
          <p:cNvSpPr/>
          <p:nvPr/>
        </p:nvSpPr>
        <p:spPr>
          <a:xfrm>
            <a:off x="533520" y="4952880"/>
            <a:ext cx="3733560" cy="341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protéger</a:t>
            </a:r>
            <a:endParaRPr b="0" lang="en-US" sz="2000" spc="-1" strike="noStrike">
              <a:solidFill>
                <a:srgbClr val="000000"/>
              </a:solidFill>
              <a:latin typeface="Times New Roman"/>
            </a:endParaRPr>
          </a:p>
        </p:txBody>
      </p:sp>
      <p:pic>
        <p:nvPicPr>
          <p:cNvPr id="244"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canismes de protection</a:t>
            </a:r>
            <a:endParaRPr b="1" lang="en-US" sz="3600" spc="-1" strike="noStrike">
              <a:solidFill>
                <a:srgbClr val="ffff66"/>
              </a:solidFill>
              <a:latin typeface="Arial"/>
            </a:endParaRPr>
          </a:p>
        </p:txBody>
      </p:sp>
      <p:pic>
        <p:nvPicPr>
          <p:cNvPr id="246" name="ni%20cvi%20blue" descr=""/>
          <p:cNvPicPr/>
          <p:nvPr/>
        </p:nvPicPr>
        <p:blipFill>
          <a:blip r:embed="rId1"/>
          <a:srcRect l="0" t="0" r="83342" b="3922"/>
          <a:stretch/>
        </p:blipFill>
        <p:spPr>
          <a:xfrm>
            <a:off x="7697880" y="0"/>
            <a:ext cx="1442880" cy="1500120"/>
          </a:xfrm>
          <a:prstGeom prst="rect">
            <a:avLst/>
          </a:prstGeom>
          <a:ln w="0">
            <a:noFill/>
          </a:ln>
        </p:spPr>
      </p:pic>
      <p:sp>
        <p:nvSpPr>
          <p:cNvPr id="24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Lock</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aire aux Critical Section et Mutex du SDK</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cerne tous types de ressources (données, DLL...)</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Variabl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ection simplifiée et optimisée des seules donnée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Queu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 passage de tableaux entre thread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r présentation NIDays 2000</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riable Thread Local</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cès à plusieurs instances d’une mêm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pic>
        <p:nvPicPr>
          <p:cNvPr id="249" name="ni%20cvi%20blue" descr=""/>
          <p:cNvPicPr/>
          <p:nvPr/>
        </p:nvPicPr>
        <p:blipFill>
          <a:blip r:embed="rId1"/>
          <a:srcRect l="0" t="0" r="83342" b="3922"/>
          <a:stretch/>
        </p:blipFill>
        <p:spPr>
          <a:xfrm>
            <a:off x="7697880" y="0"/>
            <a:ext cx="1442880" cy="1500120"/>
          </a:xfrm>
          <a:prstGeom prst="rect">
            <a:avLst/>
          </a:prstGeom>
          <a:ln w="0">
            <a:noFill/>
          </a:ln>
        </p:spPr>
      </p:pic>
      <p:sp>
        <p:nvSpPr>
          <p:cNvPr id="250"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t du système d’exploitation</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a:t>
            </a:r>
            <a:r>
              <a:rPr b="0" lang="fr-FR" sz="2800" spc="-1" strike="noStrike">
                <a:solidFill>
                  <a:srgbClr val="ffffff"/>
                </a:solidFill>
                <a:latin typeface="Arial"/>
              </a:rPr>
              <a:t> un instant donné, un seul thread peut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d’accéder à une ressource partagée, il faut faire appel à une fonction pour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t Thread Lock profite des performances d’une Critical Section et des fonctionnalités d’un Mut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grpSp>
        <p:nvGrpSpPr>
          <p:cNvPr id="252" name=""/>
          <p:cNvGrpSpPr/>
          <p:nvPr/>
        </p:nvGrpSpPr>
        <p:grpSpPr>
          <a:xfrm>
            <a:off x="5562720" y="3809880"/>
            <a:ext cx="2209680" cy="2057400"/>
            <a:chOff x="5562720" y="3809880"/>
            <a:chExt cx="2209680" cy="2057400"/>
          </a:xfrm>
        </p:grpSpPr>
        <p:sp>
          <p:nvSpPr>
            <p:cNvPr id="253" name=""/>
            <p:cNvSpPr/>
            <p:nvPr/>
          </p:nvSpPr>
          <p:spPr>
            <a:xfrm>
              <a:off x="556272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488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3</a:t>
              </a:r>
              <a:endParaRPr b="0" lang="en-US" sz="2400" spc="-1" strike="noStrike">
                <a:solidFill>
                  <a:srgbClr val="000000"/>
                </a:solidFill>
                <a:latin typeface="Times New Roman"/>
              </a:endParaRPr>
            </a:p>
          </p:txBody>
        </p:sp>
      </p:grpSp>
      <p:sp>
        <p:nvSpPr>
          <p:cNvPr id="255"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56"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57" name=""/>
          <p:cNvSpPr/>
          <p:nvPr/>
        </p:nvSpPr>
        <p:spPr>
          <a:xfrm>
            <a:off x="556272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58" name=""/>
          <p:cNvSpPr/>
          <p:nvPr/>
        </p:nvSpPr>
        <p:spPr>
          <a:xfrm>
            <a:off x="556272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59" name=""/>
          <p:cNvSpPr/>
          <p:nvPr/>
        </p:nvSpPr>
        <p:spPr>
          <a:xfrm>
            <a:off x="556272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260"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61"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62"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grpSp>
        <p:nvGrpSpPr>
          <p:cNvPr id="263" name=""/>
          <p:cNvGrpSpPr/>
          <p:nvPr/>
        </p:nvGrpSpPr>
        <p:grpSpPr>
          <a:xfrm>
            <a:off x="2971800" y="3809880"/>
            <a:ext cx="2209680" cy="2057400"/>
            <a:chOff x="2971800" y="3809880"/>
            <a:chExt cx="2209680" cy="2057400"/>
          </a:xfrm>
        </p:grpSpPr>
        <p:sp>
          <p:nvSpPr>
            <p:cNvPr id="264" name=""/>
            <p:cNvSpPr/>
            <p:nvPr/>
          </p:nvSpPr>
          <p:spPr>
            <a:xfrm>
              <a:off x="297180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97396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grpSp>
      <p:sp>
        <p:nvSpPr>
          <p:cNvPr id="266" name=""/>
          <p:cNvSpPr/>
          <p:nvPr/>
        </p:nvSpPr>
        <p:spPr>
          <a:xfrm>
            <a:off x="297180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67" name=""/>
          <p:cNvSpPr/>
          <p:nvPr/>
        </p:nvSpPr>
        <p:spPr>
          <a:xfrm>
            <a:off x="297180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68" name=""/>
          <p:cNvSpPr/>
          <p:nvPr/>
        </p:nvSpPr>
        <p:spPr>
          <a:xfrm>
            <a:off x="297180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grpSp>
        <p:nvGrpSpPr>
          <p:cNvPr id="269" name=""/>
          <p:cNvGrpSpPr/>
          <p:nvPr/>
        </p:nvGrpSpPr>
        <p:grpSpPr>
          <a:xfrm>
            <a:off x="380880" y="3809880"/>
            <a:ext cx="2210040" cy="2057400"/>
            <a:chOff x="380880" y="3809880"/>
            <a:chExt cx="2210040" cy="2057400"/>
          </a:xfrm>
        </p:grpSpPr>
        <p:sp>
          <p:nvSpPr>
            <p:cNvPr id="270" name=""/>
            <p:cNvSpPr/>
            <p:nvPr/>
          </p:nvSpPr>
          <p:spPr>
            <a:xfrm>
              <a:off x="380880" y="4208040"/>
              <a:ext cx="221004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8304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grpSp>
      <p:sp>
        <p:nvSpPr>
          <p:cNvPr id="272" name=""/>
          <p:cNvSpPr/>
          <p:nvPr/>
        </p:nvSpPr>
        <p:spPr>
          <a:xfrm>
            <a:off x="380880" y="41911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73" name=""/>
          <p:cNvSpPr/>
          <p:nvPr/>
        </p:nvSpPr>
        <p:spPr>
          <a:xfrm>
            <a:off x="380880" y="54864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74" name=""/>
          <p:cNvSpPr/>
          <p:nvPr/>
        </p:nvSpPr>
        <p:spPr>
          <a:xfrm>
            <a:off x="380880" y="449568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pic>
        <p:nvPicPr>
          <p:cNvPr id="275"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sp>
        <p:nvSpPr>
          <p:cNvPr id="277"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78"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79"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80"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81"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pic>
        <p:nvPicPr>
          <p:cNvPr id="282" name="ni%20cvi%20blue" descr=""/>
          <p:cNvPicPr/>
          <p:nvPr/>
        </p:nvPicPr>
        <p:blipFill>
          <a:blip r:embed="rId1"/>
          <a:srcRect l="0" t="0" r="83342" b="3922"/>
          <a:stretch/>
        </p:blipFill>
        <p:spPr>
          <a:xfrm>
            <a:off x="7697880" y="0"/>
            <a:ext cx="1442880" cy="1500120"/>
          </a:xfrm>
          <a:prstGeom prst="rect">
            <a:avLst/>
          </a:prstGeom>
          <a:ln w="0">
            <a:noFill/>
          </a:ln>
        </p:spPr>
      </p:pic>
      <p:sp>
        <p:nvSpPr>
          <p:cNvPr id="283" name=""/>
          <p:cNvSpPr/>
          <p:nvPr/>
        </p:nvSpPr>
        <p:spPr>
          <a:xfrm>
            <a:off x="304920" y="405288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du Thread Lock (CmtDiscard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85" name=""/>
          <p:cNvSpPr/>
          <p:nvPr/>
        </p:nvSpPr>
        <p:spPr>
          <a:xfrm>
            <a:off x="76320" y="2909880"/>
            <a:ext cx="701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les données et le verrou</a:t>
            </a:r>
            <a:endParaRPr b="0" lang="en-US" sz="2800" spc="-1" strike="noStrike">
              <a:solidFill>
                <a:srgbClr val="000000"/>
              </a:solidFill>
              <a:latin typeface="Times New Roman"/>
            </a:endParaRPr>
          </a:p>
        </p:txBody>
      </p:sp>
      <p:sp>
        <p:nvSpPr>
          <p:cNvPr id="286" name=""/>
          <p:cNvSpPr/>
          <p:nvPr/>
        </p:nvSpPr>
        <p:spPr>
          <a:xfrm>
            <a:off x="76320" y="1828800"/>
            <a:ext cx="9099360" cy="9471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protection d’une variable accessible par plusieurs threads</a:t>
            </a:r>
            <a:endParaRPr b="0" lang="en-US" sz="2800" spc="-1" strike="noStrike">
              <a:solidFill>
                <a:srgbClr val="000000"/>
              </a:solidFill>
              <a:latin typeface="Times New Roman"/>
            </a:endParaRPr>
          </a:p>
        </p:txBody>
      </p:sp>
      <p:sp>
        <p:nvSpPr>
          <p:cNvPr id="287" name=""/>
          <p:cNvSpPr/>
          <p:nvPr/>
        </p:nvSpPr>
        <p:spPr>
          <a:xfrm>
            <a:off x="76320" y="4113360"/>
            <a:ext cx="8762760" cy="1373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ensemble de macros définies dans “utility.h” permet de générer automatiquement un jeu de fonctions spécifiques à la variable à protéger</a:t>
            </a:r>
            <a:endParaRPr b="0" lang="en-US" sz="2800" spc="-1" strike="noStrike">
              <a:solidFill>
                <a:srgbClr val="000000"/>
              </a:solidFill>
              <a:latin typeface="Times New Roman"/>
            </a:endParaRPr>
          </a:p>
        </p:txBody>
      </p:sp>
      <p:sp>
        <p:nvSpPr>
          <p:cNvPr id="288" name=""/>
          <p:cNvSpPr/>
          <p:nvPr/>
        </p:nvSpPr>
        <p:spPr>
          <a:xfrm>
            <a:off x="76320" y="3519360"/>
            <a:ext cx="8624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simple et plus sûr qu’un Thread Lock</a:t>
            </a:r>
            <a:endParaRPr b="0" lang="en-US" sz="2800" spc="-1" strike="noStrike">
              <a:solidFill>
                <a:srgbClr val="000000"/>
              </a:solidFill>
              <a:latin typeface="Times New Roman"/>
            </a:endParaRPr>
          </a:p>
        </p:txBody>
      </p:sp>
      <p:pic>
        <p:nvPicPr>
          <p:cNvPr id="28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91" name=""/>
          <p:cNvSpPr/>
          <p:nvPr/>
        </p:nvSpPr>
        <p:spPr>
          <a:xfrm>
            <a:off x="311760" y="1681200"/>
            <a:ext cx="69411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type, VarName)</a:t>
            </a:r>
            <a:endParaRPr b="0" lang="en-US" sz="2800" spc="-1" strike="noStrike">
              <a:solidFill>
                <a:srgbClr val="000000"/>
              </a:solidFill>
              <a:latin typeface="Times New Roman"/>
            </a:endParaRPr>
          </a:p>
        </p:txBody>
      </p:sp>
      <p:sp>
        <p:nvSpPr>
          <p:cNvPr id="292"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itializeVarName</a:t>
            </a:r>
            <a:endParaRPr b="0" lang="en-US" sz="2400" spc="-1" strike="noStrike">
              <a:solidFill>
                <a:srgbClr val="000000"/>
              </a:solidFill>
              <a:latin typeface="Times New Roman"/>
            </a:endParaRPr>
          </a:p>
        </p:txBody>
      </p:sp>
      <p:sp>
        <p:nvSpPr>
          <p:cNvPr id="293"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294"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295"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296"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297"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298"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0" name=""/>
          <p:cNvSpPr/>
          <p:nvPr/>
        </p:nvSpPr>
        <p:spPr>
          <a:xfrm>
            <a:off x="312120" y="1681200"/>
            <a:ext cx="61275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a:t>
            </a:r>
            <a:r>
              <a:rPr b="1" lang="en-US" sz="2800" spc="-1" strike="noStrike">
                <a:solidFill>
                  <a:srgbClr val="ffff00"/>
                </a:solidFill>
                <a:latin typeface="Arial"/>
              </a:rPr>
              <a:t>int</a:t>
            </a:r>
            <a:r>
              <a:rPr b="1" lang="en-US" sz="2800" spc="-1" strike="noStrike">
                <a:solidFill>
                  <a:srgbClr val="ffffff"/>
                </a:solidFill>
                <a:latin typeface="Arial"/>
              </a:rPr>
              <a:t>, </a:t>
            </a:r>
            <a:r>
              <a:rPr b="1" lang="en-US" sz="2800" spc="-1" strike="noStrike">
                <a:solidFill>
                  <a:srgbClr val="ffff00"/>
                </a:solidFill>
                <a:latin typeface="Arial"/>
              </a:rPr>
              <a:t>Count</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01"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a:t>
            </a:r>
            <a:r>
              <a:rPr b="1" lang="en-US" sz="2400" spc="-1" strike="noStrike">
                <a:solidFill>
                  <a:srgbClr val="ffffff"/>
                </a:solidFill>
                <a:latin typeface="Arial"/>
              </a:rPr>
              <a:t> 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2"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3"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4" name=""/>
          <p:cNvSpPr/>
          <p:nvPr/>
        </p:nvSpPr>
        <p:spPr>
          <a:xfrm>
            <a:off x="4495680" y="3352680"/>
            <a:ext cx="4572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5"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6"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pic>
        <p:nvPicPr>
          <p:cNvPr id="307"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9"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1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1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1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1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1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1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18"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9" name=""/>
          <p:cNvSpPr/>
          <p:nvPr/>
        </p:nvSpPr>
        <p:spPr>
          <a:xfrm>
            <a:off x="304920" y="228600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areThreadSafeVar(datatype, VarName)</a:t>
            </a:r>
            <a:endParaRPr b="0" lang="en-US" sz="2800" spc="-1" strike="noStrike">
              <a:solidFill>
                <a:srgbClr val="000000"/>
              </a:solidFill>
              <a:latin typeface="Times New Roman"/>
            </a:endParaRPr>
          </a:p>
        </p:txBody>
      </p:sp>
      <p:sp>
        <p:nvSpPr>
          <p:cNvPr id="32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2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2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2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2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2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2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3200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quez droit dans la barre de contrôles (à gauche)</a:t>
            </a:r>
            <a:endParaRPr b="0" lang="en-US" sz="2800" spc="-1" strike="noStrike">
              <a:solidFill>
                <a:srgbClr val="ffffff"/>
              </a:solidFill>
              <a:latin typeface="Arial"/>
            </a:endParaRPr>
          </a:p>
        </p:txBody>
      </p:sp>
      <p:pic>
        <p:nvPicPr>
          <p:cNvPr id="106" name="" descr=""/>
          <p:cNvPicPr/>
          <p:nvPr/>
        </p:nvPicPr>
        <p:blipFill>
          <a:blip r:embed="rId1"/>
          <a:stretch/>
        </p:blipFill>
        <p:spPr>
          <a:xfrm>
            <a:off x="3962520" y="1969920"/>
            <a:ext cx="4952880" cy="35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27" name=""/>
          <p:cNvGrpSpPr/>
          <p:nvPr/>
        </p:nvGrpSpPr>
        <p:grpSpPr>
          <a:xfrm>
            <a:off x="914400" y="2666880"/>
            <a:ext cx="7162920" cy="1905120"/>
            <a:chOff x="914400" y="2666880"/>
            <a:chExt cx="7162920" cy="1905120"/>
          </a:xfrm>
        </p:grpSpPr>
        <p:sp>
          <p:nvSpPr>
            <p:cNvPr id="328" name=""/>
            <p:cNvSpPr/>
            <p:nvPr/>
          </p:nvSpPr>
          <p:spPr>
            <a:xfrm>
              <a:off x="914400" y="2666880"/>
              <a:ext cx="7162920" cy="1905120"/>
            </a:xfrm>
            <a:prstGeom prst="rect">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066680" y="2743200"/>
              <a:ext cx="2667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globale</a:t>
              </a:r>
              <a:endParaRPr b="0" lang="en-US" sz="2400" spc="-1" strike="noStrike">
                <a:solidFill>
                  <a:srgbClr val="000000"/>
                </a:solidFill>
                <a:latin typeface="Times New Roman"/>
              </a:endParaRPr>
            </a:p>
          </p:txBody>
        </p:sp>
        <p:sp>
          <p:nvSpPr>
            <p:cNvPr id="330" name=""/>
            <p:cNvSpPr/>
            <p:nvPr/>
          </p:nvSpPr>
          <p:spPr>
            <a:xfrm>
              <a:off x="4495680" y="2743200"/>
              <a:ext cx="35816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Thread Local</a:t>
              </a: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32" name=""/>
          <p:cNvSpPr/>
          <p:nvPr/>
        </p:nvSpPr>
        <p:spPr>
          <a:xfrm>
            <a:off x="304920" y="1731960"/>
            <a:ext cx="883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variable adapté à l’exécution d’une même tâche dans plusieurs threads</a:t>
            </a:r>
            <a:endParaRPr b="0" lang="en-US" sz="2800" spc="-1" strike="noStrike">
              <a:solidFill>
                <a:srgbClr val="000000"/>
              </a:solidFill>
              <a:latin typeface="Times New Roman"/>
            </a:endParaRPr>
          </a:p>
        </p:txBody>
      </p:sp>
      <p:grpSp>
        <p:nvGrpSpPr>
          <p:cNvPr id="333" name=""/>
          <p:cNvGrpSpPr/>
          <p:nvPr/>
        </p:nvGrpSpPr>
        <p:grpSpPr>
          <a:xfrm>
            <a:off x="1219320" y="3184560"/>
            <a:ext cx="6781320" cy="703800"/>
            <a:chOff x="1219320" y="3184560"/>
            <a:chExt cx="6781320" cy="703800"/>
          </a:xfrm>
        </p:grpSpPr>
        <p:sp>
          <p:nvSpPr>
            <p:cNvPr id="334" name=""/>
            <p:cNvSpPr/>
            <p:nvPr/>
          </p:nvSpPr>
          <p:spPr>
            <a:xfrm>
              <a:off x="121932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sp>
          <p:nvSpPr>
            <p:cNvPr id="335" name=""/>
            <p:cNvSpPr/>
            <p:nvPr/>
          </p:nvSpPr>
          <p:spPr>
            <a:xfrm>
              <a:off x="480060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grpSp>
      <p:grpSp>
        <p:nvGrpSpPr>
          <p:cNvPr id="336" name=""/>
          <p:cNvGrpSpPr/>
          <p:nvPr/>
        </p:nvGrpSpPr>
        <p:grpSpPr>
          <a:xfrm>
            <a:off x="1219320" y="3733920"/>
            <a:ext cx="6933600" cy="703800"/>
            <a:chOff x="1219320" y="3733920"/>
            <a:chExt cx="6933600" cy="703800"/>
          </a:xfrm>
        </p:grpSpPr>
        <p:sp>
          <p:nvSpPr>
            <p:cNvPr id="337" name=""/>
            <p:cNvSpPr/>
            <p:nvPr/>
          </p:nvSpPr>
          <p:spPr>
            <a:xfrm>
              <a:off x="1219320" y="3733920"/>
              <a:ext cx="3352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commune pour tous les threads</a:t>
              </a:r>
              <a:endParaRPr b="0" lang="en-US" sz="2000" spc="-1" strike="noStrike">
                <a:solidFill>
                  <a:srgbClr val="000000"/>
                </a:solidFill>
                <a:latin typeface="Times New Roman"/>
              </a:endParaRPr>
            </a:p>
          </p:txBody>
        </p:sp>
        <p:sp>
          <p:nvSpPr>
            <p:cNvPr id="338" name=""/>
            <p:cNvSpPr/>
            <p:nvPr/>
          </p:nvSpPr>
          <p:spPr>
            <a:xfrm>
              <a:off x="4800600" y="3733920"/>
              <a:ext cx="335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distincte pour chaque thread</a:t>
              </a:r>
              <a:endParaRPr b="0" lang="en-US" sz="2000" spc="-1" strike="noStrike">
                <a:solidFill>
                  <a:srgbClr val="000000"/>
                </a:solidFill>
                <a:latin typeface="Times New Roman"/>
              </a:endParaRPr>
            </a:p>
          </p:txBody>
        </p:sp>
      </p:grpSp>
      <p:sp>
        <p:nvSpPr>
          <p:cNvPr id="339" name=""/>
          <p:cNvSpPr/>
          <p:nvPr/>
        </p:nvSpPr>
        <p:spPr>
          <a:xfrm>
            <a:off x="304920" y="48769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Le SDK permet de créer un nombre limité de variables Thread Local dans chaque process. CVI 5.5 n’a pas cette limitation.</a:t>
            </a:r>
            <a:endParaRPr b="0" lang="en-US" sz="2400" spc="-1" strike="noStrike">
              <a:solidFill>
                <a:srgbClr val="000000"/>
              </a:solidFill>
              <a:latin typeface="Times New Roman"/>
            </a:endParaRPr>
          </a:p>
        </p:txBody>
      </p:sp>
      <p:pic>
        <p:nvPicPr>
          <p:cNvPr id="340"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42" name=""/>
          <p:cNvSpPr/>
          <p:nvPr/>
        </p:nvSpPr>
        <p:spPr>
          <a:xfrm>
            <a:off x="307800" y="1768320"/>
            <a:ext cx="762012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NewThreadLocalVar</a:t>
            </a:r>
            <a:endParaRPr b="0" lang="en-US" sz="2400" spc="-1" strike="noStrike">
              <a:solidFill>
                <a:srgbClr val="000000"/>
              </a:solidFill>
              <a:latin typeface="Times New Roman"/>
            </a:endParaRPr>
          </a:p>
        </p:txBody>
      </p:sp>
      <p:sp>
        <p:nvSpPr>
          <p:cNvPr id="343" name=""/>
          <p:cNvSpPr/>
          <p:nvPr/>
        </p:nvSpPr>
        <p:spPr>
          <a:xfrm>
            <a:off x="304920" y="2743200"/>
            <a:ext cx="7623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s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GetThreadLocalVar</a:t>
            </a:r>
            <a:endParaRPr b="0" lang="en-US" sz="2400" spc="-1" strike="noStrike">
              <a:solidFill>
                <a:srgbClr val="000000"/>
              </a:solidFill>
              <a:latin typeface="Times New Roman"/>
            </a:endParaRPr>
          </a:p>
        </p:txBody>
      </p:sp>
      <p:sp>
        <p:nvSpPr>
          <p:cNvPr id="344" name=""/>
          <p:cNvSpPr/>
          <p:nvPr/>
        </p:nvSpPr>
        <p:spPr>
          <a:xfrm>
            <a:off x="304920" y="3733920"/>
            <a:ext cx="9144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ération des ressources allouées à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DiscardThreadLocalVar</a:t>
            </a:r>
            <a:endParaRPr b="0" lang="en-US" sz="2400" spc="-1" strike="noStrike">
              <a:solidFill>
                <a:srgbClr val="000000"/>
              </a:solidFill>
              <a:latin typeface="Times New Roman"/>
            </a:endParaRPr>
          </a:p>
        </p:txBody>
      </p:sp>
      <p:sp>
        <p:nvSpPr>
          <p:cNvPr id="345" name=""/>
          <p:cNvSpPr/>
          <p:nvPr/>
        </p:nvSpPr>
        <p:spPr>
          <a:xfrm>
            <a:off x="152280" y="4680000"/>
            <a:ext cx="8991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Dans le cas où des données allouées dynamiquement sont stockées dans la variable, CmtNewThreadLocalVar définit une callback appelée par CmtDiscardThreadLocalVar.</a:t>
            </a:r>
            <a:endParaRPr b="0" lang="en-US" sz="2400" spc="-1" strike="noStrike">
              <a:solidFill>
                <a:srgbClr val="000000"/>
              </a:solidFill>
              <a:latin typeface="Times New Roman"/>
            </a:endParaRPr>
          </a:p>
        </p:txBody>
      </p:sp>
      <p:pic>
        <p:nvPicPr>
          <p:cNvPr id="34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mment débuter ?</a:t>
            </a:r>
            <a:endParaRPr b="1" lang="en-US" sz="3600" spc="-1" strike="noStrike">
              <a:solidFill>
                <a:srgbClr val="ffff66"/>
              </a:solidFill>
              <a:latin typeface="Arial"/>
            </a:endParaRPr>
          </a:p>
        </p:txBody>
      </p:sp>
      <p:sp>
        <p:nvSpPr>
          <p:cNvPr id="348" name=""/>
          <p:cNvSpPr/>
          <p:nvPr/>
        </p:nvSpPr>
        <p:spPr>
          <a:xfrm>
            <a:off x="609480" y="2087640"/>
            <a:ext cx="7620120" cy="425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re la présentation NIDays 2000</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 CVI Multithreading overview</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thèque Utility/Multithreading</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588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Studio\cvi\samples\utility\Threa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1"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352" name=""/>
          <p:cNvGraphicFramePr/>
          <p:nvPr/>
        </p:nvGraphicFramePr>
        <p:xfrm>
          <a:off x="838080" y="1781280"/>
          <a:ext cx="6726240" cy="3857400"/>
        </p:xfrm>
        <a:graphic>
          <a:graphicData uri="http://schemas.openxmlformats.org/presentationml/2006/ole">
            <p:oleObj r:id="rId2" spid="">
              <p:embed/>
              <p:pic>
                <p:nvPicPr>
                  <p:cNvPr id="353" name="" descr="">
                    <a:hlinkClick r:id="rId3"/>
                  </p:cNvPr>
                  <p:cNvPicPr/>
                  <p:nvPr/>
                </p:nvPicPr>
                <p:blipFill>
                  <a:blip r:embed="rId4"/>
                  <a:stretch/>
                </p:blipFill>
                <p:spPr>
                  <a:xfrm>
                    <a:off x="838080" y="1781280"/>
                    <a:ext cx="672624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5" name="ni%20cvi%20blue" descr=""/>
          <p:cNvPicPr/>
          <p:nvPr/>
        </p:nvPicPr>
        <p:blipFill>
          <a:blip r:embed="rId1"/>
          <a:srcRect l="0" t="0" r="83342" b="3922"/>
          <a:stretch/>
        </p:blipFill>
        <p:spPr>
          <a:xfrm>
            <a:off x="7697880" y="0"/>
            <a:ext cx="1442880" cy="1500120"/>
          </a:xfrm>
          <a:prstGeom prst="rect">
            <a:avLst/>
          </a:prstGeom>
          <a:ln w="0">
            <a:noFill/>
          </a:ln>
        </p:spPr>
      </p:pic>
      <p:sp>
        <p:nvSpPr>
          <p:cNvPr id="356" name="PlaceHolder 2"/>
          <p:cNvSpPr>
            <a:spLocks noGrp="1"/>
          </p:cNvSpPr>
          <p:nvPr>
            <p:ph/>
          </p:nvPr>
        </p:nvSpPr>
        <p:spPr>
          <a:xfrm>
            <a:off x="685440" y="1981080"/>
            <a:ext cx="80010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chaque fenêtre, Windows associe un handle</a:t>
            </a:r>
            <a:endParaRPr b="0" lang="en-US" sz="2800" spc="-1" strike="noStrike">
              <a:solidFill>
                <a:srgbClr val="ffffff"/>
              </a:solidFill>
              <a:latin typeface="Arial"/>
            </a:endParaRPr>
          </a:p>
        </p:txBody>
      </p:sp>
      <p:sp>
        <p:nvSpPr>
          <p:cNvPr id="357" name=""/>
          <p:cNvSpPr/>
          <p:nvPr/>
        </p:nvSpPr>
        <p:spPr>
          <a:xfrm>
            <a:off x="685800" y="2971800"/>
            <a:ext cx="80010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partir de cet handle, différentes fonctions vont permettre de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lacer la fenêtr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ifier ces dimen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9" name="ni%20cvi%20blue" descr=""/>
          <p:cNvPicPr/>
          <p:nvPr/>
        </p:nvPicPr>
        <p:blipFill>
          <a:blip r:embed="rId1"/>
          <a:srcRect l="0" t="0" r="83342" b="3922"/>
          <a:stretch/>
        </p:blipFill>
        <p:spPr>
          <a:xfrm>
            <a:off x="7697880" y="0"/>
            <a:ext cx="1442880" cy="1500120"/>
          </a:xfrm>
          <a:prstGeom prst="rect">
            <a:avLst/>
          </a:prstGeom>
          <a:ln w="0">
            <a:noFill/>
          </a:ln>
        </p:spPr>
      </p:pic>
      <p:sp>
        <p:nvSpPr>
          <p:cNvPr id="360" name="PlaceHolder 2"/>
          <p:cNvSpPr>
            <a:spLocks noGrp="1"/>
          </p:cNvSpPr>
          <p:nvPr>
            <p:ph/>
          </p:nvPr>
        </p:nvSpPr>
        <p:spPr>
          <a:xfrm>
            <a:off x="685440" y="1981080"/>
            <a:ext cx="80010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 fonctions seront</a:t>
            </a:r>
            <a:endParaRPr b="0" lang="en-US" sz="2800" spc="-1" strike="noStrike">
              <a:solidFill>
                <a:srgbClr val="ffffff"/>
              </a:solidFill>
              <a:latin typeface="Arial"/>
            </a:endParaRPr>
          </a:p>
        </p:txBody>
      </p:sp>
      <p:sp>
        <p:nvSpPr>
          <p:cNvPr id="361" name=""/>
          <p:cNvSpPr/>
          <p:nvPr/>
        </p:nvSpPr>
        <p:spPr>
          <a:xfrm>
            <a:off x="1295280" y="2743200"/>
            <a:ext cx="800100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écif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nies par l’application à intégrer dans CVI</a:t>
            </a:r>
            <a:endParaRPr b="0" lang="en-US" sz="2400" spc="-1" strike="noStrike">
              <a:solidFill>
                <a:srgbClr val="000000"/>
              </a:solidFill>
              <a:latin typeface="Times New Roman"/>
            </a:endParaRPr>
          </a:p>
        </p:txBody>
      </p:sp>
      <p:sp>
        <p:nvSpPr>
          <p:cNvPr id="362" name=""/>
          <p:cNvSpPr/>
          <p:nvPr/>
        </p:nvSpPr>
        <p:spPr>
          <a:xfrm>
            <a:off x="1295280" y="4191120"/>
            <a:ext cx="800100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énér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l à des fonctions du SDK de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DK et gestion des fenêtres</a:t>
            </a:r>
            <a:endParaRPr b="1" lang="en-US" sz="3600" spc="-1" strike="noStrike">
              <a:solidFill>
                <a:srgbClr val="ffff66"/>
              </a:solidFill>
              <a:latin typeface="Arial"/>
            </a:endParaRPr>
          </a:p>
        </p:txBody>
      </p:sp>
      <p:pic>
        <p:nvPicPr>
          <p:cNvPr id="364" name="ni%20cvi%20blue" descr=""/>
          <p:cNvPicPr/>
          <p:nvPr/>
        </p:nvPicPr>
        <p:blipFill>
          <a:blip r:embed="rId1"/>
          <a:srcRect l="0" t="0" r="83342" b="3922"/>
          <a:stretch/>
        </p:blipFill>
        <p:spPr>
          <a:xfrm>
            <a:off x="7697880" y="0"/>
            <a:ext cx="1442880" cy="1500120"/>
          </a:xfrm>
          <a:prstGeom prst="rect">
            <a:avLst/>
          </a:prstGeom>
          <a:ln w="0">
            <a:noFill/>
          </a:ln>
        </p:spPr>
      </p:pic>
      <p:sp>
        <p:nvSpPr>
          <p:cNvPr id="365" name="PlaceHolder 2"/>
          <p:cNvSpPr>
            <a:spLocks noGrp="1"/>
          </p:cNvSpPr>
          <p:nvPr>
            <p:ph/>
          </p:nvPr>
        </p:nvSpPr>
        <p:spPr>
          <a:xfrm>
            <a:off x="685440" y="2819160"/>
            <a:ext cx="350532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d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Pa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WindowLong</a:t>
            </a:r>
            <a:endParaRPr b="0" lang="en-US" sz="2800" spc="-1" strike="noStrike">
              <a:solidFill>
                <a:srgbClr val="ffffff"/>
              </a:solidFill>
              <a:latin typeface="Arial"/>
            </a:endParaRPr>
          </a:p>
        </p:txBody>
      </p:sp>
      <p:sp>
        <p:nvSpPr>
          <p:cNvPr id="366" name=""/>
          <p:cNvSpPr/>
          <p:nvPr/>
        </p:nvSpPr>
        <p:spPr>
          <a:xfrm>
            <a:off x="4800600" y="2819520"/>
            <a:ext cx="3505320" cy="32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v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los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troyWindow</a:t>
            </a:r>
            <a:endParaRPr b="0" lang="en-US" sz="2800" spc="-1" strike="noStrike">
              <a:solidFill>
                <a:srgbClr val="000000"/>
              </a:solidFill>
              <a:latin typeface="Times New Roman"/>
            </a:endParaRPr>
          </a:p>
        </p:txBody>
      </p:sp>
      <p:sp>
        <p:nvSpPr>
          <p:cNvPr id="367" name=""/>
          <p:cNvSpPr/>
          <p:nvPr/>
        </p:nvSpPr>
        <p:spPr>
          <a:xfrm>
            <a:off x="685800" y="1905120"/>
            <a:ext cx="72388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de "window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ment Studio propose dans un unique package trois outils de développe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utilisateurs choisissent, en fonction de la tâche à effectuer, le meilleur des outi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le site ni.com/france/nidays pour retrouver tous les sources présen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sissez les contrôles à inclure</a:t>
            </a:r>
            <a:endParaRPr b="0" lang="en-US" sz="2800" spc="-1" strike="noStrike">
              <a:solidFill>
                <a:srgbClr val="ffffff"/>
              </a:solidFill>
              <a:latin typeface="Arial"/>
            </a:endParaRPr>
          </a:p>
        </p:txBody>
      </p:sp>
      <p:pic>
        <p:nvPicPr>
          <p:cNvPr id="109" name="" descr=""/>
          <p:cNvPicPr/>
          <p:nvPr/>
        </p:nvPicPr>
        <p:blipFill>
          <a:blip r:embed="rId1"/>
          <a:stretch/>
        </p:blipFill>
        <p:spPr>
          <a:xfrm>
            <a:off x="4800600" y="1981080"/>
            <a:ext cx="4114800" cy="365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e l’interface</a:t>
            </a:r>
            <a:endParaRPr b="1" lang="en-US" sz="3600" spc="-1" strike="noStrike">
              <a:solidFill>
                <a:srgbClr val="ffff66"/>
              </a:solidFill>
              <a:latin typeface="Arial"/>
            </a:endParaRPr>
          </a:p>
        </p:txBody>
      </p:sp>
      <p:sp>
        <p:nvSpPr>
          <p:cNvPr id="111" name="PlaceHolder 2"/>
          <p:cNvSpPr>
            <a:spLocks noGrp="1"/>
          </p:cNvSpPr>
          <p:nvPr>
            <p:ph/>
          </p:nvPr>
        </p:nvSpPr>
        <p:spPr>
          <a:xfrm>
            <a:off x="685440" y="1981080"/>
            <a:ext cx="3048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z les objets comme à l’habitude</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981080"/>
            <a:ext cx="5029200" cy="3635640"/>
          </a:xfrm>
          <a:prstGeom prst="rect">
            <a:avLst/>
          </a:prstGeom>
          <a:ln w="0">
            <a:noFill/>
          </a:ln>
        </p:spPr>
      </p:pic>
      <p:pic>
        <p:nvPicPr>
          <p:cNvPr id="113" name="" descr=""/>
          <p:cNvPicPr/>
          <p:nvPr/>
        </p:nvPicPr>
        <p:blipFill>
          <a:blip r:embed="rId2"/>
          <a:stretch/>
        </p:blipFill>
        <p:spPr>
          <a:xfrm>
            <a:off x="1143000" y="3352680"/>
            <a:ext cx="5029200" cy="32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32767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veloppez le code de façon classique </a:t>
            </a:r>
            <a:endParaRPr b="0" lang="en-US" sz="2800" spc="-1" strike="noStrike">
              <a:solidFill>
                <a:srgbClr val="ffffff"/>
              </a:solidFill>
              <a:latin typeface="Arial"/>
            </a:endParaRPr>
          </a:p>
        </p:txBody>
      </p:sp>
      <p:pic>
        <p:nvPicPr>
          <p:cNvPr id="116" name="" descr=""/>
          <p:cNvPicPr/>
          <p:nvPr/>
        </p:nvPicPr>
        <p:blipFill>
          <a:blip r:embed="rId1"/>
          <a:stretch/>
        </p:blipFill>
        <p:spPr>
          <a:xfrm>
            <a:off x="4038480" y="1981080"/>
            <a:ext cx="4876920" cy="3524400"/>
          </a:xfrm>
          <a:prstGeom prst="rect">
            <a:avLst/>
          </a:prstGeom>
          <a:ln w="0">
            <a:noFill/>
          </a:ln>
        </p:spPr>
      </p:pic>
      <p:pic>
        <p:nvPicPr>
          <p:cNvPr id="117" name="" descr=""/>
          <p:cNvPicPr/>
          <p:nvPr/>
        </p:nvPicPr>
        <p:blipFill>
          <a:blip r:embed="rId2"/>
          <a:stretch/>
        </p:blipFill>
        <p:spPr>
          <a:xfrm>
            <a:off x="1295280" y="3352680"/>
            <a:ext cx="4419720" cy="321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Papin Bruno</cp:lastModifiedBy>
  <dcterms:modified xsi:type="dcterms:W3CDTF">2001-01-08T09:54:50Z</dcterms:modified>
  <cp:revision>63</cp:revision>
  <dc:subject/>
  <dc:title>Présentation PowerPoint</dc:title>
</cp:coreProperties>
</file>