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D511-948E-44C6-9C54-BC4F1269BF5F}" type="slidenum">
              <a:rPr b="0" lang="fr-FR"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us allons au cours des prochaines 30 minutes passer en revue quelques-uns des points importants de la dernière version de Measurement Studio. Nous avons délibérément pris deux résolu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Nous allons parler des trois composantes de MStudio : Visual Basic, Visual C++ et bien sûr LabWindows/CV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uisque chaque composante pourrait nécessiter 30 minutes, nous avons décidé d’avoir plus de diapositives à l’écrit que lors de la présentation. Le but ici est bien sûr de vous donner suffisamment d’explications afin que vous puissiez rapidement optimiser vos développements à l’aide de MStudio.   </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e code du contrôle de suivi de production. Là, le code est encore plus simple… A chaque bouton correspond une fonction callback qui est appelée selon que l’on veut se connecter (On_Click) ou se déconnecter (Off_Click). Dans chaque cas, on utilise les méthodes de l’objet DataSocket (nommé DS dans le projet) afin de se connecter. Notez que parmi les propriétés de l’objet DS, on a spécifié l’adresse URL à laquelle on se connecte ainsi que le mode de connexion (read, write…) ce qui allège notablement le code. Pour le reste, on retrouve deux fonctions qui dépendent de l’objet DataSocket et qui sont appelées de manière asynchrone soit pour traiter des données soit pour notifier l’utilisateur final de l’état de la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On_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Off_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Dis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DS_OnDataUpdated(ByVal Data As CW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MonChart.ChartY Data.Value, 1, Fa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DS_OnStatusUpdated(ByVal Status As CWDSLib.CWDSStatus, ByVal Error As Long, ByVal Message As St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Text1 =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rapport à un développement classique (DLL ou exécutable) lorsqu’on teste le code à l’aide du bouton « Start », Visual Basic ne lance pas simplement l’exécution du code mais au contraire, appelle Internet Explorer dans lequel va s’exécuter l’objet COM. Notez que pour arrêter l’exécution du contrôle, il suffit de revenir dans l’environnement VB (en effet, Internet Explorer passe généralement au premier plan quand on teste le contrôle) et de cliquer sur le bouton « End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tention: il faut garder en tête que l’on est toujours, à ce stade, en mode Debug. Autrement dit, les consignes élémentaires de sécurité sont en usage : sauvegarde régulière du projet VB et du code ainsi que pose de points d’arrêt (F9) afin de parcourir tout le code ligne à lig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reste, ce qui est remarquable c’est que Visual Basic et Explorer collaborent et mettent à l’écran des pages Web qui, bien qu’incomplètes, ressemblent à ce que l’on souhaite. En effet, une fois le code de l’objet COM débogué, il suffira d’ajouter quelques lignes de texte et quelques images afin d’avoir un page Web conviviale et plaisa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une question se pose. Comment concevoir sa page et y insérer tel ou tel contrôle Active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fait, lorsqu’on lance l’exécution du contrôle ActiveX, VB génère une page Web dans laquelle il utilise des balises « OBJECT » afin de faire apparaître l’objet COM. C’est ce que montre la diapositive. Le texte affiché n’est rien d’autre que le contenu du Notepad lorsque, sur la page Web générée, on clique à droite et que l’on demande à voir le sou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ns entrer dans les détails, il suffit de noter que toute page Web incluant les balises OBJECT et la série de chiffres comportera l’objet ActiveX que l’on a développé avec VB. Attention: à caque objet COM correspond un unique numéro et il est donc prudent d’utiliser le copier-coller plutôt que de recopier à la main la série de chiffres en qu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echniquement, la série de chiffres correspond à un unique identificateur qui est enregistré dans la base de registres Windows de votre machine. Explorer se sert de ce numéro pour afficher le bon contrôle dans votre page Web. Autrement dit, du point de vue des clients (étudiants ou personnel de l’entreprise par exemple) il faudra s’assurer qu’ils possèdent sur leurs machines respectives les bonnes entrées dans la base de registres. De même, il faudra faire en sorte qu’ils possèdent une copie de nos contrôles ActiveX. Enfin, puisque nos objets COM utilisent d’autres contrôles ActiveX (CW UI, CW Analysis, CW DataSocket…) il faudra s’assurer que les machines clients disposent aussi de ces derniers contrôles (dans les bonnes ver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dernière remarque : rien n’empêche notre ActiveX de faire un « Format c: » de la machine client. Il nous faut aussi trouver un moyen de rassurer l’utilisateur et de lui garantir que le comportement de notre objet COM est tout à fait innoffensi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trement dit, il va falloir trouver et expliquer les outils qui vont nous permettre de déployer notre code, et c’est l’objet de la prochaine diapositive.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l’avons vu dans la diapositive précédente, il est possible, en local, d’inclure directement une référence à un objet ActiveX via le numéro qui lui est affecté dans la base de registre. Ceci dit, lors de la distribution du contrôle, il est de notre responsabilité de s’assurer que le client possède bien sur sa machine tous les éléments nécessaires à l’utilisation de notre page. C’est exactement ce qui se passe lorsqu’ayant cliqué sur un film, tel ou tel site nous demande si l’on a bien la dernière version de RealPlayer par exe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une solution élégante passe par la création d’un fichier Cab. Ce dernier est un fichier compressé qui comporte toutes les dépendances garantissant la bonne marche de notre objet COM même sur une machine vierge (par exemple, la DLL de Visual Basic peut être incluse dans le fichier CAB). Sans entrer dans les détails (c’est plus du ressort de Microsoft d’expliquer comment utiliser les fonctionnalités de VB) notons qu’il fa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ncer le Add In Manager à partir du menu Add-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hoisir dans la liste, le Package and Deployment Wiz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ncer ce dernier en choisissant bien l’option Pack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Dire OK à tout (vous lirez la documentation aprè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Une fois que tout est terminé, aller dans le sous-répertoire Package qui a été créé et double-cliquer sur la page HTML qui s’y trou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i tout se passe bien, rien ne doit être apparemment différent des différents tests précéd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et c’est l’élément le plus important, quand on regarde le code de la page, ce n’est plus un fichier « .ocx » qui est déchargé par le poste client mais bien un fichier « .cab » comme le prouve la diapositive suiv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retrouve de manière classique maintenant l’identifiant du contrôle à instancier mais aussi le nom du fichier cab à décharger si beso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tention: ne vous laissez pas abuser. En effet, le travail effectué par Explorer est ici très important. En effet, dans l’ord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vérifie si les composants nécessaires sont pré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i non, il décharge le ou les fichi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vérifie si les fichiers téléchargés peuvent être installés sans crai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enregistre le ou les contrôle(s) ActiveX sur la machine cli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ajoute les différentes entrées nécessaires à la base de registres Windows de la machine cliente (comme cela, la prochaine fois, il n’y aura pas besoin de déchar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inalement il instancie l’objet COM qui apparaît alors dans la page HTML sur la machine cible.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toute chose, il faut remarquer que rien n’empêche d’acheter en magasin un programme qui tient plus de la version alpha que du produit fini et qui après « plantage » laisse la base de registres Windows dans un tel état qu’il est difficile d’éviter un formatage du PC. Ceci étant, on le voit, utiliser des logiciels à travers le net n’est pas si différent de ce qui se passe dans la vie de tous les jours : tout fonctionne sur la confiance. J’ai confiance dans l’équipe ComponentWorks alors j’effectue la mise à jour de mon serveur DataSocket. Et peu importe que cette mise à jour arrive sur un CD ou via une liaison Inter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oiqu’il en soit, le problème de la sécurité est compréhensible et il existe plusieurs options. Dans un premier temps, le client peut configurer son navigateur afin d’interdire le déchargement et l’installation d’objet COM (il en va de même pour les cookies). Comme il est difficile alors de naviguer, il est possible de faire en sorte qu’une notification apparaisse chaque fois qu’un contrôle ActiveX doit être install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ôté développeur, il faut noter que lors de la création du fichier CAB, l’une des étapes permet d’indiquer si le contrôle fonctionnera quels que soient les paramètres qui lui sont passés à l’initialisation et quelle que soit la façon dont il est utilisé dans un script Java ou VBScript. Attention: la distinction est subtile… En effet, dans la balise OBJECT étudiée préalablement, il est possible, non seulement de forcer le contrôle à prendre telles ou telles dimensions, mais aussi de lui passer des paramètres. On voit l’utilisation que pourraient en faire quelques « malfaisants » qui, en passant des paramètres aléatoires, tenteraient de faire « planter » la machine du cli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scripting, il est important de se rappeler qu’une fois déchargé sur la machine cliente, l’objet COM peut tout à fait être utilisé dans d’autres applications. Oui c’est vrai, dans notre cas, il n’y a pas de documentation ni d’aide en ligne. Ceci dit, rien n’empêcherait un développeur d’utiliser en VB pour Application tel ou tel contrôle qu’il trouverait dans sa base de registres. Prudence donc, il est de la responsabilité du développeur de contrôles ActiveX de s’assurer que son contrôle, quelle que soit la façon dont il est utilisé, n’endommagera pas la machine de l’utilisateur fi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finir, et c’est généralement ce qui se passe avec les contrôles professionnels, il est possible d’insérer dans le code de l’objet, une signature électronique par laquelle le développeur ou plus généralement la société qui l’emploie, s’engage sur la « propreté du code ». Sur la boîte de dialogue qui notifie l’utilisateur final, il existe généralement une case à cocher permettant d’indiquer que l’on fera toujours confiance aux contrôles venant de telle ou telle entrepri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ne reste plus maintenant qu’à compléter les pages HTML afin de les rendre plus plaisantes et à les déposer sur un serve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vos premières expérimentations, n’hésitez pas à mettre en route le Personal Web Server qui accompagne Windows 98 ou 2000. Gratuit, il permet facilement de faire de l’intranet et d’expérimenter nombre des options qui ont été étudiées dans les diapositives précédentes.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étudier deux points à propos de la partie Visual C++ du package Measurement Studio. Dans un premier temps, nous allons, étape par étape, convertir un projet CVI en projet Visual C++. Par la suite, nous nous appuierons sur un projet MFC pour présenter rapidement les grandes classes C++ du package Mstudio.</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ossibilité de convertir un projet CVI en projet MSVC n’est pas nouvelle (voir la version 5.0 de CVI). Ceci dit, ce qui est nouveau, c’est la facilité avec laquelle cela est désormais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de suivre la procédure étape par étape, il semble important d’attirer l’attention sur deux points essentiel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 justification de cette option de con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e fonctionnement des bibliothèques CVI et le système de fonctions callbac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e nombreuses raisons pour lesquelles il est intéressant de convertir un projet CVI en projet MSVC. La première tient au fait qu’il est toujours utile de faire « passer » son code source entre les mains de différents compilateurs/linker. En effet, ces programmes excessivement complexes et respectant des standards plus ou moins « standards » ne sont pas exempts de spécificités ou de bugs. Autrement dit, utiliser le compilateur de Microsoft en complément de celui de CVI peut se révéler très instructif… Par exemple, comme de nombreux autres compilateurs optimisés, le compilateur Microsoft possède différents niveaux de sévérité ce qui permet de retrouver facilement dans le source, les variables non initialisé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seconde bonne raison peut être l’envie d’optimiser la vitesse d’exécution du code. En effet, CVI n’est pas et ne sera jamais un compilateur optimisé et il est donc logique que tous ceux qui écrivent ou enrichissent des bibliothèques de traitement (vision, analyse…) souhaitent utiliser un autre compilateur afin de réaliser la version finale de leur code. Attention: l’optimisation du code ne peut se faire que sur le code écrit par le développeur (pas sur les bibliothèques CVI) et elle n’est pas sans danger : limitation au type de machine cible, bugs n’arrivant qu’en version optimisée, en cas de bug, relecture du code assembleur très difficile,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ses promises, choses dues. Voici le programme ! Comme indiqué précédemment, il est dense mais quelle que soit la composante de MStudio que vous utilisez actuellement, vous devriez y trouver des informations vraiment utiles.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ernière raison provient du fait qu’un nombre croissant de développeurs CVI sont amenés à travailler avec des développeurs C++ et qu’à juste titre, on leur demande de convertir leur code C en code C++. Attention: il faut être clair : le convertisseur dont il est question ici ne va pas générer des classes CVI puis modifier le code ANSI C pour le transformer en code C++. Non, mais puisque n’importe quel code ANSI C est compatible avec du code C++, une fois le projet MSVC créé, il sera tout à fait licite d’instancier tel ou tel objet C++ dans une callback CVI et d’utiliser les méthodes et propriétés de l’objet en question. Il ne faudra pas oublier de changer les extensions des fichiers source (.c) et de les transformer en .cp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raisons étant passées en revue, passons à un point technique qu’il faut comprendre afin de bien apprécier ce que fait le convertisseur de projet. Séquence explications : écrire une application Windows avec CVI est un jeu d’enfant. Cette facilité réside dans le fait que CVI met à la disposition des développeurs, un système de fonctions callback qui lie entre eux un ou plusieurs contrôles et une fonction qui est exécutée en réponse aux événements qui se produisent sur les contrô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on exécute une application dans l’environnement CVI, lors des appels LoadPanel par exemple, CVI met en place la correspondance entre les objets graphiques et les noms des fonctions à appeler. Pour cela, l’éditeur de liens de CVI tient à jour une table des fonctions non statiques du projet et la bibliothèque User Interface utilise cette table pour établir au moment de l’exécution les correspondances entre objets graphiques et les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l’on veut utiliser un éditeur de liens autre que celui de CVI, il faut créer cette table de correspondance. C’est tout l’objet de l’option External Compiler Support du menu Build de la fenêtre projet de CVI. Si, par curiosité, on utilise cette option et qu’on regarde le code source généré, on se rend compte qu’il contient à la fin, une table avec pour chaque fonction callback du projet, son nom, son adresse et d’autres paramètres dont seule la bibliothèque User Interface a l’usage. Si comme indiqué dans tous les sources générés par CVI, on remarque que l’appel à la fonction InitCVIRTE() est obligatoire quand on utilise un compilateur externe, on imagine aisément que le but de cette fonction est de lire le contenu de la table de fonctions qui a été générée dans le source précé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oiqu’il en soit, l’expérience montre que peu d’utilisateurs convertissent leurs projets CVI en projet Visual C++ ou autre. En effet, il faut en plus de la table de fonctions non statiques, créer à la main un projet, inclure les bibliothèques statiques, tenir compte des chemins pour les fichiers include… Bref, comme nous allons le voir, le convertisseur de MStudio est plus que bienven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 premier temps, il est préférable de faire un test dans un nouveau répertoire. Pour cela, copiez dans ce dernier tous les fichiers utiles de votre projet (.prj, .h, .c et autres) puis lancez à partir de cet emplacement le projet. Dans notre cas, nous avons copier les fichiers du projet Tank monitor qui se trouvent dans cvi/samples/apps/tankdemo. Si tout va bien, quittez alors CVI et lancez Visual Studi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Measurement Studio est correctement installé, après avoir demandé la création d’un nouveau projet, vous devriez voir apparaître l’option « NI Measurement Studio Wizard ». Cliquez dessus puis spécifiez le répertoire dans lequel vous voulez créer votre projet Visual C++ (bien évidemment, reprenez le répertoire dans lequel vous avez copié les fichiers originau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cliquez sur Ok.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assistant, plusieurs options sont disponibles. Choisissez la dernière, c’est-à-dire celle qui permet de convertir un projet exi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iquez sur Next.</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ci, puisque nous voulons convertir un projet existant, il faut cliquer sur le bouton radio du bas puis choisir le projet (le fichier .prj) qui contient les informations sur l’application à convert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fait, cliquez sur Finish.</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ssistant va alors faire tout le travail pour vous ! Il v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générer un fichier source contenant une table des fonctions non statiq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nclure les bons répertoires pour la recherche des fichiers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ssocier les bonnes bibliothèques statiques au proj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mettre les bonnes options de compi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réer un répertoire Debug dans lequel il copiera le fichier UIR et qui contiendra la version debug de l’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et sans étudier le projet, appuyez sur F5 (Build/Start Debug/Go) afin de construire une version Debug de l’applicatio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s commentaires… L’application est maintenant « passée » sous Visual Studio de Microsoft et toutes les habitudes de développement peuvent être utilisées par le développeur.</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même si on sort un peu du cadre de l’utilisation de l’assistant de conversion, remarquons tout de même que le gestionnaire de projets contient dans l’onglet File, l’ensemble des déclarations de variables et des définitions des fonctions. Notons enfin que c’est à partir de l’option « Project Settings » que l’utilisateur pourra modifier toutes les options de compilatio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artie pour Visual Studio de Measurement Studio ne se limite pas à un convertisseur de projets CVI, bien au contraire… En effet, MStudio comporte tous les outils (classes, objets, assistants…) qui permettent aux développeurs C++ d’écrire des applications d’instrumentation virtuelle à l’aide de classes MFC tout en conservant leur méthodes de développement. Ce dernier point est très important. En effet, à l’instar de ce qui a été fait pour Visual Basic, les développeurs de MStudio se sont attachés à respecter les habitudes de programmation des utilisateurs et à mettre à leur disposition des outils parfaitement intégr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a suite, plutôt que de passer en revue l’ensemble des classes National Instruments, nous allons rapidement présenter la méthode de développement d’une première application puis illustrer par l’exemple l’utilisation des classes d’instrumentation virtuel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avoir installé MStudio et fait quelques tests avec certains exemples standards, nous allons supposer ici que, partant de rien, nous souhaitions réaliser une première 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la, après avoir choisi Nouveau Projet, il suffit de cliquer sur Measurement Studio AppWizard puis de manière classique, de spécifier le répertoire cible et le nom du projet. Ceci fait, l’assistant, via une série de boîtes de dialogue standards vous permet de choisir différentes options. Notons qu’ici, nous choisissons de développer une application qui s’appuie sur une architecture document/vue au lieu d’une boîte de dialogue (choix par défaut). Notons enfin que sur la dernière boîte de dialogue nous choisissons CFormView comme classe de base de notre vue. Ce choix permettra de placer facilement les objets graphiques sur la vue tout en bénéficiant de menus déroulants et de barres de statut classiques pour une application MF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yant cliqué sur Finish, l’assistant crée automatiquement un projet qui comporte l’ensemble des classes nécessaires à l’élaboration d’une application d’instrumentation virtuelle ainsi que toutes les options de compilation qui assure une mise en route rapide du proj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dans cette partie, nous intéresser à la création et à l’utilisation de contrôles ActiveX au sein d’une page HTML. La raison ? Tout simplement parce que Measurement Studio contient des contrôles ActiveX qui permettent le suivi de processus à distance ainsi que le déploiement d’applications légères qui sont exécutées au sein d’un Navigateur Web tel que Internet Explorer de Microso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core une fois, et avant de rentrer dans les détails techniques, il est bon de préciser que MStudio comprenant LabWindows/CVI, des contrôles pour Visual Basic ainsi que des classes MFC pour le test et la mesure, en tant qu’utilisateur, vous pouvez utiliser chacun de ces outils de développement en fonction des tâches à effectuer. La licence que vous possédez donne accès à ces trois outils de développement. Alors, pas d’hésitation, les quelques pages qui suivent devraient vous permettre de rapidement réaliser vos premières applications intra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ntenant, imaginons que vous soyez un développeur dont l’application CVI fonctionne parfaitement sur une ligne de production et que l’on vous demande de permettre l’accès distant, et en temps réel, aux données de production. De même, imaginons que vous soyez professeur que sur le site de l’université, vous décidiez de mettre quelques pages complémentaires de travaux pratiques illustrant les différents types de modulation (fréquence, amplitude…). Dans les deux cas, on le voit, ce que l’on souhaite, c’est non seulement écrire une application d’instrumentation virtuelle mais aussi embarquer cette dernière dans une page Web afin qu’elle puisse être exécutée sur la machine d’un client distant. Notez toutefois que les deux types d’applications sont légèrement différents. Dans le second cas, il s’agit d’une application autonome qui pourrait être réalisée avec un applet Java alors que dans le premier cas, il y a non seulement un affichage des résultats mais surtout une connexion continue au site de production afin de récupérer des données « réelles » (par opposition au second cas où tout est simul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solution qui réponde à ces deux cahiers des charges existe et se base sur l’incorporation au sein de pages HTML de contrôles ActiveX. Dans un premier temps, nous allons étudier le développement d’un contrôle très simple puis par la suite nous insisteront sur les options de déploiement du code et la sécurité.</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devriez à la fin du processus de création du projet, arriver sur une fenêtre ressemblant à celle qui est présentée ci-dessus. A ce stade, et sans étudier le projet, cliquez sur « F5 » afin que l’environnement de développement compile, fasse l’édition de lien et lance la version « Debug » de l’application. Une fois l’application à l’écran, quittez-la et revenez dans le projet. C’est maintenant que les choses intéressantes commenc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ne part, dans la partie Ressources du gestionnaire de projets, dans la section « Dialog », des éléments graphiques sont venus compléter la palette de contrôles. On y trouve des graphes, des graphes 3D, des boutons… En fait tous les contrôles ActiveX graphiques de National Instruments déjà disponibles pour Visual Basic sont maintenant disponibles sous Visual Studio. Leur utilisation est très classique. Après avoir déposé un objet graphique sur un formulaire ou une boîte de dialogue, un simple clic droit permet d’accéder à ses propriétés ainsi qu’à son aide en ligne. Attention, de très nombreuses propriétés sont disponibles par ce biais et nous ne saurions trop vous conseiller d’y passer du temps. En restant toujours dans l’éditeur de ressources vous pouvez classiquement invoquer le « ClassWizard » (CTRL+W) afin de rajouter l’objet à la classe qui représente la vue de l’application. Dès lors, tous les attributs et les méthodes héritées sont utilisables dans votre programme. Enfin, toujours à partir de l’éditeur de ressources, un double-clic sur le contrôle génère, si cela n’est pas encore fait, le code de la fonction callback par défaut de l’objet et y dépose le curseur. Il suffit alors de compléter le code ainsi génér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ntenant, dans la partie « Classes » du gestionnaire de projets vous remarquez qu’environ 140 classes sont disponibles. Outre les classes habituelles d’une application architecturée autour d’un document et d’une vue (mainframe, vue, document…) des classes telles que CNi4882, CNiException, CNiGraph3D ont fait leur apparition… On retrouve les classes qui supportent les objets graphiques ainsi que tout un ensemble de classes qui n’ont pas d’existence graphique mais qui sont là pour faciliter le développement d’application d’instrumentation virtuelle).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exemple, la classe CNiMath comporte toues les fonctions et constantes de l’analyse avancée. De même, les classes CNi4882 ou CNiVisa permettent l’interfaçage aux instruments de me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partir de là que fair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périence montre qu’il faut passer un peu de temps dans l’aide en ligne et ne pas hésiter à copier/coller tout ou partie des exemples MFC qui accompagnent MStudio. De manière très pratique, nous vous recommandons d’étudier le fichier d’aide à partir de l’option « Interface ». Cela évite à ceux qui débutent de se « noyer » sous la liste exhaustive des classes (cette dernière est disponible sous l’option « Clas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fois les grands principes acquis, n’oubliez pas que de gros efforts ont été déployés afin de ne pas changer les méthodes de travail. Ainsi, l’aide se trouve dans le menu Tools/ComponentWorks++ Help mais surtout, le « complètement » des noms de fonctions (CTRL + ESPACE), la liste des fonctions membres ainsi que l’aide en ligne en cours d’édition sont disponibles à tout in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projet ci-dessus n’a d’autre but que de mettre MStudio à l’épreuve... Le cahier des charges est simple : créer une application qui permette à l’utilisateur final de bien comprendre les notions d’échantillonnage, de filtrage et d’analyse spectra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assiquement, il dispose d’un graphe dans lequel on affiche le signal échantillonné. Bien sûr différentes options sont disponibles mais pour finir, un spectre (moyenné ou non) est affiché dans un second graph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echniquement l’application fut développée en utilisant l’assistant présenté précédemment et en utilisant les mêmes options. Pour le reste, les objets graphiques nécéssaires ont été disposés sur le « form ». Le ClassWizard fut largement utilisé afin d’établir la relation entre l’interface et le code associé à la vue de l’application. Tous les objets graphiques ont été instanciés et font partie de la classe « vue ». D’autres membres ont été ajoutés puisque par exemple, lorsque les options de moyennage sont utilisées, une pile de type CList est utilisée.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être complets, nous montrons ci-dessous quelques lignes des codes typiq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remière montre qu’en plus des classes, MStudio apporte tout un ensemble de « Template » dont CNiReal64Vector est un exemple. D’autre part, il faut noter que c’est le type de données qu’attendent les fonctions d’analyse avancé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euxième ligne montre comment on peut utiliser une fonction d’analyse avancée en utilisant la classe CNiMath. Ceux qui connaissent déjà la fonction SquareWave de CVI ou de VB ne devraient pas être déroutés par les paramètres utilis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roisième ligne montre comment, ayant un objet de type graphe, on utilise ce dernier pour afficher une courbe. Même si, ici, on utilise une des définitions de la fonction PlotY avec tous ses paramètres, de manière générale, l’appel de la fonction ne nécessite que le tableau à afficher. Le code est alors encore plus facile à li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dernier exemple montre comment on peut par programme modifier dynamiquement le titre de l’un des axes. L’intérêt est ici de montrer qu’en fait un graphe est un objet complexe constitué, entre autres, de collections parmi lesquelles on trouve une collection d’axes (il y a généralement un axe X mais il peut y avoir plusieurs axes Y).</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clair, l’utilisation des classes CNixxx n’a d’intérêt que si vous êtes un développeur MFC habitué à la programmation objet et à l’architecture document/vue. Ceci étant dit, il en va de ces classes comme de beaucoup d’autres choses. Autrement dit, avant d’en tirer la quintessence, il est sans doute utile de faire de petits projets mettant en œuvre séparement telle ou telle fonctionnalité (là, l’assistant devrait vous permettre de le faire aisément). Enfin, comme avec tout nouvel outil de programmation, de très nombreux exemples permettent de comprendre tel ou tel point. N’hésitez pas ! Un projet regroupant l’ensemble des projets standards est disponible. Il permet d’avoir sous les yeux l’ensemble des projets et de ne lancer que ceux qui vous intéress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fin d'augmenter les performances de vos applications développées avec LabWindows/CVI, faciliter leur développement ou leur rajouter de nouvelles fonctionnalités, il est intéressant d'aborder les thèmes suivant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Multithreading et protection des ressources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a mise en place d'une application multithread implique la prise en compte lors du développement des problèmes liés à la protection des ressources partagées  (données, dll, ...) entre thread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Optimiser ses applications à l'aide du SDK de Microsoft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Pour un développeur averti, utiliser les fonctions du SDK de Microsoft permet de rajouter de nouvelles fonctionnalités à vos applications comme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 </a:t>
            </a:r>
            <a:r>
              <a:rPr b="0" lang="fr-FR" sz="1000" spc="-1" strike="noStrike">
                <a:solidFill>
                  <a:srgbClr val="000000"/>
                </a:solidFill>
                <a:latin typeface="Arial"/>
                <a:ea typeface="Times New Roman"/>
              </a:rPr>
              <a:t>intégrer une fenêtre externe dans une application CVI;</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 </a:t>
            </a:r>
            <a:r>
              <a:rPr b="0" lang="fr-FR" sz="1000" spc="-1" strike="noStrike">
                <a:solidFill>
                  <a:srgbClr val="000000"/>
                </a:solidFill>
                <a:latin typeface="Arial"/>
                <a:ea typeface="Times New Roman"/>
              </a:rPr>
              <a:t>récupérer des informations sur le PC utilisé dans la base de registre.</a:t>
            </a: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améliorer la fiabilité de vos tâches d'acquisition ou de contrôle en les exécutant dans un thread alors que la gestion de l'interface graphique sera réalisée dans un aut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exécuter des opérations longues dans un thread indépendant de manière à ce que l'application principale puisse toujours répondre aux événements de l'interface graph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développer un algorithme tel que différentes parties s'exécutent dans des threads distincts. Cet algorithme, exécuté sur une machine multiprocesseurs, fonctionnera alors beaucoup plus vite que dans le cas d'une implémentation mono-thread de l'algorith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parfois plus simple de développer une application lorsque les parties indépendantes de cette application s'exécutent dans des threads distincts. Par exemple, une application serveur TCP/IP devant répondre à plusieurs clients sera plus simple à développer si la communication avec chaque client est gérée dans l'application serveur dans un thread séparé.</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présenté ci-dessus est un des exemples fournis avec LabWindows/CVI. Il est disponible à partir du chemin suivant :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i="1" lang="fr-FR" sz="1000" spc="-1" strike="noStrike">
                <a:solidFill>
                  <a:srgbClr val="000000"/>
                </a:solidFill>
                <a:latin typeface="Arial"/>
              </a:rPr>
              <a:t>MeasurementStudio\cvi\samples\utility\Threading\ThreadPool\ParallelTestInit</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permet de comparer la rapidité d'exécution d'une série de tests dans le cas où l'on utilise ou non le multithreading.</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consiste à tester un certain nombre d'unités. Chaque séquence de tests sur une unité est composée de trois tests unitair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non-multithread, les tests sont exécutés les uns à la suite des autr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multithread, deux unités peuvent être testées en parallèle. En effet, chacun des tests élémentaires s'exécute dans un thread distinct. Ainsi, les séquences de tests s'exécutent beaucoup plus vite.</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pplications multithread se doivent de protéger les variables globales accessibles par plusieurs thread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on considère une application dans laquelle plusieurs threads incrémentent une variable Count telle que Count = Count + 1, le code correspond alors à la séquence d’instructions processeur suivante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cture de la valeur de la variable Count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jout de 1 à cette valeur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écriture de la nouvelle valeur dans la variable Count.</a:t>
            </a:r>
            <a:endParaRPr b="0" lang="en-US" sz="1000" spc="-1" strike="noStrike">
              <a:solidFill>
                <a:srgbClr val="000000"/>
              </a:solidFill>
              <a:latin typeface="Arial"/>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plusieurs threads exécutent ces instructions, et puisque le système peut interrompre l’exécution des threads de manière arbitraire, on peut avoir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lit la valeur de la variable Count (5)</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lit la valeur de la variable Count (5)</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ajoute 1 à cette valeur (5 + 1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écrit la nouvelle valeur dans la variable Count (Count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ajoute 1 à cette valeur (5 + 1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écrit la nouvelle valeur dans la variable Count (Count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unt vaut 6 alors que la valeur correcte est 7. </a:t>
            </a:r>
            <a:endParaRPr b="0" lang="en-US" sz="1000" spc="-1" strike="noStrike">
              <a:solidFill>
                <a:srgbClr val="000000"/>
              </a:solidFill>
              <a:latin typeface="Arial"/>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 fait, les deux seuls cas possibles sont Count = 6 et Count = 7. Cela signifie que l’application peut fonctionner correctement pendant longtemps avant que l’erreur n’ait lieu. L’expérience montre qu’un programme multithread dont les données ne sont pas correctement protégées fonctionnera correctement durant les tests, mais incorrectement dès son exécution sur le poste du client final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jour, Visual Basic est sans doute, l’outil qui facilite le plus le développement d’objets COM (contrôles ActiveX). Les pages qui suivent sont normalement très faciles à suivre et nous ne saurions trop vous conseiller de prendre un quart d’heure afin de réaliser votre première application pour le Web.</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ules les données accessibles par plus d’un thread doivent être protégé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globales, les variables locales statiques et celles allouées de manière dynamique sont stockées dans des zones de mémoires accessibles par tous les threads d’un process (l’application). Les données stockées dans ces zones de mémoires doivent donc être protégées contre des accès concurrentiels des threads du proces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aramètres des fonctions, les variables locales non statiques sont localisés dans la pile. Or, le système d’exploitation alloue une pile spécifique pour chaque thread. Ainsi, chaque thread dispose de sa propre copie des paramètres et des variables locales non statiques. Ces derniers n’ont donc pas à être protégés contre des accès concurrentiel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données ne sont pas les seules à devoir être protégées. De manière générale, toute ressource partagée entre plusieurs threads doit l’être. Ainsi, l’appel à une fonction d’une Dll (correspondant à un driver de carte par exemple) doit être protégé de manière équivalent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rtaines ressources (et notamment des DLL), dites "thread safe", ont la capacité d’être appelées par plusieurs threads de manière simultanée. Il n’est alors pas nécessaire de protéger leur accès car cette protection est déjà assurée. Les bibliothèques de LabWindows/CVI sont thread saf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manière générale, la protection des ressources est assurée en associant un objet du système d’exploitation, appelé verrou, à la ressource à protéger. À chaque fois que l’accès à cette ressource est nécessaire, il faut réaliser un appel à une fonction spécifique permettant d’acquérir l’objet verrou. Après l’accès à la ressource, il faut relâcher ce verrou.</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ystème d’exploitation permet à un seul thread à la fois d’acquérir un verrou particulier à un instant donné. Si un thread tente d’acquérir un verrou alors qu’un autre thread le possède, il attend jusqu’à ce que le thread disposant du verrou le relâch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bibliothèque "Utility" de LabWindows/CVI fournit quatre mécanismes de protection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Lock</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Safe</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Safe Queue</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Local Variabl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Thread Lock (littéralement, verrou de thread), consiste à encapsuler un objet de type verrou. Trois cas sont particulièrement bien adaptés aux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une section de code accède à une quantité importante de données, il est intéressant d’acquérir un Thread Lock en début de section et de le relâcher à la fin. L’intérêt de cette approche est sa simplicité et qu’elle est moins sujette aux erreurs que celle où chaque donnée serait protégée de manière individuelle. Elle est par contre moins performante car l’accès aux données est verrouillé plus que nécessaire. Les autres threads seront donc mis en attente plus longtemps avant d’acquéri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Thread Lock est aussi utile lorsqu’il est nécessaire d’appeler une bibliothèque qui n’est pas thread safe. Par exemple, dans le cas d’une DLL non thread safe du driver d’une carte, devant être appelée par plusieurs threads, il faut créer un Thread Lock que chaque thread doit acquérir avant d’appeler une fonction de la DLL.</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oisième cas d’utilisation d’un Thread Lock survient lorsqu’il faut protéger des ressources qui sont partagées entre plusieurs applications. Un fichier, une zone de mémoire commune, sont des exemples d’une telle ressourc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notion de thread lock englobe simplement l’utilisation des objets Mutex et Critical Section du SDK en fournissant un jeu de fonctions permettant d’utiliser le mécanisme le plus approprié. En effet, ces deux objets ont un fonctionnement similaire, mais l’objet Critical Section est le moyen le plus performant pour synchroniser les accès aux données. Par contre, bien que l’objet Mutex soit moins performant, il fournit davantage de fonctionnalités, comme permettre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à un thread de continuer à gérer les messages Windows alors qu’il est en attente de la disponibilité de l’objet Mutex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à un thread d’être en attente de plus d’un Mutex à la fois à un instant donné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synchronisation des threads d’un même process ou de process différent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faut appeler </a:t>
            </a:r>
            <a:r>
              <a:rPr b="0" i="1" lang="fr-FR" sz="1000" spc="-1" strike="noStrike">
                <a:solidFill>
                  <a:srgbClr val="000000"/>
                </a:solidFill>
                <a:latin typeface="Arial"/>
              </a:rPr>
              <a:t>CmtNewLock</a:t>
            </a:r>
            <a:r>
              <a:rPr b="0" lang="fr-FR" sz="1000" spc="-1" strike="noStrike">
                <a:solidFill>
                  <a:srgbClr val="000000"/>
                </a:solidFill>
                <a:latin typeface="Arial"/>
              </a:rPr>
              <a:t> à l’initialisation de l’application pour créer l’objet verrou pour chaque ensemble de ressources que l’on veut protéger. Cette fonction retourne un handle permettant d’identifie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d’accéder aux données ou au code protégés par le thread lock, les threads doivent appeler la fonction </a:t>
            </a:r>
            <a:r>
              <a:rPr b="0" i="1" lang="fr-FR" sz="1000" spc="-1" strike="noStrike">
                <a:solidFill>
                  <a:srgbClr val="000000"/>
                </a:solidFill>
                <a:latin typeface="Arial"/>
              </a:rPr>
              <a:t>CmtGetLock</a:t>
            </a:r>
            <a:r>
              <a:rPr b="0" lang="fr-FR" sz="1000" spc="-1" strike="noStrike">
                <a:solidFill>
                  <a:srgbClr val="000000"/>
                </a:solidFill>
                <a:latin typeface="Arial"/>
              </a:rPr>
              <a:t> pour acquéri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l’accès aux ressources partagées, les threads doivent appeler </a:t>
            </a:r>
            <a:r>
              <a:rPr b="0" i="1" lang="fr-FR" sz="1000" spc="-1" strike="noStrike">
                <a:solidFill>
                  <a:srgbClr val="000000"/>
                </a:solidFill>
                <a:latin typeface="Arial"/>
              </a:rPr>
              <a:t>CmtReleaseLock</a:t>
            </a:r>
            <a:r>
              <a:rPr b="0" lang="fr-FR" sz="1000" spc="-1" strike="noStrike">
                <a:solidFill>
                  <a:srgbClr val="000000"/>
                </a:solidFill>
                <a:latin typeface="Arial"/>
              </a:rPr>
              <a:t> afin de relâche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même thread peut appeler plus d’une fois </a:t>
            </a:r>
            <a:r>
              <a:rPr b="0" i="1" lang="fr-FR" sz="1000" spc="-1" strike="noStrike">
                <a:solidFill>
                  <a:srgbClr val="000000"/>
                </a:solidFill>
                <a:latin typeface="Arial"/>
              </a:rPr>
              <a:t>CmtGetLock</a:t>
            </a:r>
            <a:r>
              <a:rPr b="0" lang="fr-FR" sz="1000" spc="-1" strike="noStrike">
                <a:solidFill>
                  <a:srgbClr val="000000"/>
                </a:solidFill>
                <a:latin typeface="Arial"/>
              </a:rPr>
              <a:t>, mais pour chacun de ses appels un appel à </a:t>
            </a:r>
            <a:r>
              <a:rPr b="0" i="1" lang="fr-FR" sz="1000" spc="-1" strike="noStrike">
                <a:solidFill>
                  <a:srgbClr val="000000"/>
                </a:solidFill>
                <a:latin typeface="Arial"/>
              </a:rPr>
              <a:t>CmtReleaseLock</a:t>
            </a:r>
            <a:r>
              <a:rPr b="0" lang="fr-FR" sz="1000" spc="-1" strike="noStrike">
                <a:solidFill>
                  <a:srgbClr val="000000"/>
                </a:solidFill>
                <a:latin typeface="Arial"/>
              </a:rPr>
              <a:t> doit être effectué.</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fonction </a:t>
            </a:r>
            <a:r>
              <a:rPr b="0" i="1" lang="fr-FR" sz="1000" spc="-1" strike="noStrike">
                <a:solidFill>
                  <a:srgbClr val="000000"/>
                </a:solidFill>
                <a:latin typeface="Arial"/>
              </a:rPr>
              <a:t>CmtDiscardLock</a:t>
            </a:r>
            <a:r>
              <a:rPr b="0" lang="fr-FR" sz="1000" spc="-1" strike="noStrike">
                <a:solidFill>
                  <a:srgbClr val="000000"/>
                </a:solidFill>
                <a:latin typeface="Arial"/>
              </a:rPr>
              <a:t> doit être appelée en fin d’application afin de libérer les ressources allouées au thread lock.</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variable Thread Safe combine un objet Critical Section et une donnée d’un type quelconque. Il est ainsi possible en appelant une seule fonction d’acquérir l’objet Critical Section, de modifier la valeur de la variable et de relâcher l’objet Critical Section.</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approche de la protection d’une variable est plus simple et moins sujette aux erreurs que celle utilisant un objet de type verrou (Thread Lock, Mutex...). En effet, une variable Thread Safe est plus simple à utiliser qu’un Thread Lock car dans ce cas on n’utilise qu’une variable (le handle sur la variable Thread Safe), alors qu’un Thread Lock en nécessite deux (le handle sur le Thread Lock et la variable à protéger). Elle permet de plus d’éviter une des erreurs les plus classiques dans une application multithread : l’oubli d’acquisition d’un Thread Lock (ou d’un Mutex…)</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bibliothèque "Utility" de LabWindows/CVI contient un ensemble de fonctions permettant de créer et d'accéder à des variables Thread Safe. Ces fonctions permettent de créer des variables Thread Safe de n'importe quel type. Par conséquent les paramètres de ces fonctions ont des types génériques. Aussi, ces fonctions ne sont pas utilisées directement, mais par le biais d'un système de macros définies dans le fichier d'en-tête "utility.h".</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fichier d’en-tête de la bibliothèque "Utility" contient plusieurs macros permettant de générer automatiquement un jeu de fonctions spécifiques à la variable à protéger et notamment à son typ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faut utiliser la macro </a:t>
            </a:r>
            <a:r>
              <a:rPr b="0" i="1" lang="fr-FR" sz="1000" spc="-1" strike="noStrike">
                <a:solidFill>
                  <a:srgbClr val="000000"/>
                </a:solidFill>
                <a:latin typeface="Arial"/>
              </a:rPr>
              <a:t>DefineThreadSafeVar</a:t>
            </a:r>
            <a:r>
              <a:rPr b="0" lang="fr-FR" sz="1000" spc="-1" strike="noStrike">
                <a:solidFill>
                  <a:srgbClr val="000000"/>
                </a:solidFill>
                <a:latin typeface="Arial"/>
              </a:rPr>
              <a:t> pour créer une variable Thread Safe et les fonctions spécifiques à utiliser pour accéder à la varia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efineThreadSafeVar(type, VarNam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acro utilise la chaîne de caractères passée en second paramètre (ici VarName) pour créer les fonctions suivante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Initialize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Unitialize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GetPointerTo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ReleasePointerTo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SetVarName (type val)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GetVarName (void)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premier paramètre de la macro (ici type) correspond au type de la variable Thread Safe. Il peut s’agir de n’importe quel type de données, même un type défini par l’utilisateur.</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ppel à la macro </a:t>
            </a:r>
            <a:r>
              <a:rPr b="0" i="1" lang="fr-FR" sz="1000" spc="-1" strike="noStrike">
                <a:solidFill>
                  <a:srgbClr val="000000"/>
                </a:solidFill>
                <a:latin typeface="Arial"/>
              </a:rPr>
              <a:t>DefineThreadSafeVar (int, Count)</a:t>
            </a:r>
            <a:r>
              <a:rPr b="0" lang="fr-FR" sz="1000" spc="-1" strike="noStrike">
                <a:solidFill>
                  <a:srgbClr val="000000"/>
                </a:solidFill>
                <a:latin typeface="Arial"/>
              </a:rPr>
              <a:t> va définir les fonctions suivante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Initialize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Unitialize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GetPointerTo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ReleasePointerTo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SetCount (int val)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GetCount (void)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la suite, pour accéder à la variable Thread Safe Count de type int, il suffit de faire appel aux fonctions spécifiques précédent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haque variable Thread Safe d’une application, un ensemble de six fonctions sera défini.</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itialize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rée une variable Thread Safe. Une fois que cette variable n’est plus utilisée, il faut faire appel à UninitializeVarNam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itialize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salloue les ressources utilisées par la variabl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etPointerTo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nvoie le pointeur sur la variable Thread Safe. Après chaque appel à cette fonction, il faut relâcher le pointeur sur la variable en appelant </a:t>
            </a:r>
            <a:r>
              <a:rPr b="0" i="1" lang="fr-FR" sz="1000" spc="-1" strike="noStrike">
                <a:solidFill>
                  <a:srgbClr val="000000"/>
                </a:solidFill>
                <a:latin typeface="Arial"/>
              </a:rPr>
              <a:t>ReleasePointerToVarName</a:t>
            </a:r>
            <a:r>
              <a:rPr b="0" lang="fr-FR" sz="1000" spc="-1" strike="noStrike">
                <a:solidFill>
                  <a:srgbClr val="000000"/>
                </a:solidFill>
                <a:latin typeface="Arial"/>
              </a:rPr>
              <a:t>. En effet, un seul thread peut à un instant donné accéder à la variable Thread Safe. Si un thread fait une requête sur le pointeur de la variable alors qu’un autre thread en dispose, le second thread est alors mis en attente jusqu’à ce que le premier thread libère le pointeur.</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leasePointerTo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bère le pointeur sur la variable Thread Saf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la valeur de la variable Thread Safe quelle que soit sa valeur.</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et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nvoie la valeur courante de la variable Thread Safe. La valeur actuelle de la variable peut changer après que GetVarName a lu la valeur en mémoire et avant d’avoir retourné cette valeur.</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où il est nécessaire d’accéder à une variable Thread Safe à partir de plus d’un fichier source, la macro DeclareThreadSafeVar placée dans un fichier d’en-tête permet de créer les prototypes des fonctions spécifiqu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fois le projet initialisé, il ne reste plus qu’à compléter l’interface graphique du contrôle. Notez qu’un contrôle ActiveX peut très bien être constitué de plusieurs obje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ci, bien évidemment, nous allons compléter la barre d’outils (à droite de l’environnement de développement) avec certains des contrôles qui viennent avec MStudio.</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Thread Local (littéralement variables locales à un thread) sont similaires aux variables globales dans le sens où elles sont toutes deux accessibles par plusieurs threads. Cependant, alors qu’une variable globale stocke une seule et même valeur pour tous les threads, une variable Thread Local stocke une valeur distincte pour chaque thread dans lequel elle est accessi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Thread Local sont généralement utilisées lorsqu’une application est structurée de telle manière qu’elle exécute une tâche particulière plusieurs fois en même temps avec des paramètres différents. À chaque fois, un thread distinct est généré. Les variables locales seront alors utilisées pour stocker des informations spécifiques à chaque thread.</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New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rée une variable Thread Local. Cette fonction retourne un handle sur la variable. Ce handle sera utilisé par les fonctions suivant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Get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cupère un pointeur sur une instance de la variable Thread Local dans le thread courant. Au premier appel de cette fonction, la variable est initialisée à la valeur spécifiée par CmtNewThreadLocalVar. Cette fonction devra être appelée dans chaque thread voulant accéder à la varia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Discard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bère les ressources allouées à la variable Thread Local. Après avoir appelé cette fonction, il n’est plus possible d’accéder à une instance de la variable Thread Local de n’importe quel thread.</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où une variable locale est utilisée pour stocker des données allouées dynamiquement, il est nécessaire de libérer chaque copie de données allouées (c’est-à-dire qu’il faut la libérer pour chaque thread qui l'a allouée). La fonction CmtNewThreadLocalVar permet de spécifier une callback de libération qui sera appelée une fois pour chaque thread accédant à la variable Thread Local.</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ommencer le développement d'applications multithread, consultez la présentation NIDays 2000 et le document "</a:t>
            </a:r>
            <a:r>
              <a:rPr b="0" lang="en-US" sz="1000" spc="-1" strike="noStrike">
                <a:solidFill>
                  <a:srgbClr val="000000"/>
                </a:solidFill>
                <a:latin typeface="Arial"/>
              </a:rPr>
              <a:t>CVI Multithreading overview</a:t>
            </a:r>
            <a:r>
              <a:rPr b="0" lang="fr-FR" sz="1000" spc="-1" strike="noStrike">
                <a:solidFill>
                  <a:srgbClr val="000000"/>
                </a:solidFill>
                <a:latin typeface="Arial"/>
              </a:rPr>
              <a:t>" accessible à partir du menu Démarrer en suivant </a:t>
            </a:r>
            <a:r>
              <a:rPr b="0" i="1" lang="fr-FR" sz="1000" spc="-1" strike="noStrike">
                <a:solidFill>
                  <a:srgbClr val="000000"/>
                </a:solidFill>
                <a:latin typeface="Arial"/>
              </a:rPr>
              <a:t>Measurement Studio/Online Help</a:t>
            </a:r>
            <a:r>
              <a:rPr b="0" lang="fr-FR" sz="1000" spc="-1" strike="noStrike">
                <a:solidFill>
                  <a:srgbClr val="000000"/>
                </a:solidFill>
                <a:latin typeface="Arial"/>
              </a:rPr>
              <a:t>. Ce document reprend toutes les notions importantes d'une application multithread.</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avoir consulté ce document, reportez-vous aux fonctions dédiées au multithreading de la bibliothèque "Utility". Enfin, n'hésitez pas à utiliser les exemples destinés à illustrer les notions fondamentales du multithreading sous LabWindows/CVI. Ces exemples sont disponibles dans le répertoire : </a:t>
            </a:r>
            <a:r>
              <a:rPr b="0" i="1" lang="fr-FR" sz="1000" spc="-1" strike="noStrike">
                <a:solidFill>
                  <a:srgbClr val="000000"/>
                </a:solidFill>
                <a:latin typeface="Arial"/>
              </a:rPr>
              <a:t>D:\MeasurementStudio\cvi\samples\utility\Threading</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possible, à partir de LabWindows/CVI, de lancer une autre application (par ActiveX, à partir d’une DLL...). Au moment de l’exécution, il y aura donc à l’écran deux fenêtres, une pour l’application CVI proprement dite et une deuxième correspondant à l’application appelée. Il peut être souhaitable de n’avoir qu’une seule fenêtre à l’écran et donc d’intégrer la fenêtre externe à la fenêtre CVI.</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ci-dessus reprend un exemple de la bibliothèque IMAQ Vision pour LabWindows/CVI. Il permet de charger une image et de lui appliquer des fonctions de traitement d’images. Notamment, d’afficher dans un graphe l’intensité de chaque pixel sélectionné par une courbe (ici une ligne) tracée sur l’imag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itialement, les fonctions de la bibliothèque IMAQ Vision permettent d’afficher l’image chargée dans une fenêtre externe et de lui appliquer divers traitements. L’objet de cette présentation est de modifier cet exemple afin d’intégrer la fenêtre IMAQ Vision dans l’application CVI et donc d’en faire un élément de l’interface graphique de l’application.</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fin de réaliser la gestion des fenêtres apparaissant à l’écran, Windows leur associe une référence sous la forme d’un handle. À l’aide de cet handle, il sera alors possible d’effectuer différentes actions sur ces fenêtres comme les déplacer, modifier leurs dimension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xemple précédent, la bibliothèque IMAQ Vision fournit un ensemble de fonctions permettant de gérer une fenêtre IMAQ Vision et notamment des fonctions retournant le handle de la fenêtre (</a:t>
            </a:r>
            <a:r>
              <a:rPr b="0" i="1" lang="fr-FR" sz="1000" spc="-1" strike="noStrike">
                <a:solidFill>
                  <a:srgbClr val="000000"/>
                </a:solidFill>
                <a:latin typeface="Arial"/>
              </a:rPr>
              <a:t>imaqGetSystemWindowHandle</a:t>
            </a:r>
            <a:r>
              <a:rPr b="0" lang="fr-FR" sz="1000" spc="-1" strike="noStrike">
                <a:solidFill>
                  <a:srgbClr val="000000"/>
                </a:solidFill>
                <a:latin typeface="Arial"/>
              </a:rPr>
              <a:t>), modifiant la position de cette fenêtre (</a:t>
            </a:r>
            <a:r>
              <a:rPr b="0" i="1" lang="fr-FR" sz="1000" spc="-1" strike="noStrike">
                <a:solidFill>
                  <a:srgbClr val="000000"/>
                </a:solidFill>
                <a:latin typeface="Arial"/>
              </a:rPr>
              <a:t>imaqMoveWindow</a:t>
            </a:r>
            <a:r>
              <a:rPr b="0" lang="fr-FR" sz="1000" spc="-1" strike="noStrike">
                <a:solidFill>
                  <a:srgbClr val="000000"/>
                </a:solidFill>
                <a:latin typeface="Arial"/>
              </a:rPr>
              <a:t>) ou sa taille (</a:t>
            </a:r>
            <a:r>
              <a:rPr b="0" i="1" lang="fr-FR" sz="1000" spc="-1" strike="noStrike">
                <a:solidFill>
                  <a:srgbClr val="000000"/>
                </a:solidFill>
                <a:latin typeface="Arial"/>
              </a:rPr>
              <a:t>imaqSetWindowSize</a:t>
            </a:r>
            <a:r>
              <a:rPr b="0" lang="fr-FR" sz="1000" spc="-1" strike="noStrike">
                <a:solidFill>
                  <a:srgbClr val="000000"/>
                </a:solidFill>
                <a:latin typeface="Arial"/>
              </a:rPr>
              <a:t>). On constate donc que, dans ce cas, c’est l’application appelée (la bibliothèque IMAQ Vision) qui fournit les fonctions de gestion des fenêtres. Ce sont donc des fonctions spécifiques à cette application.</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n’est pas vrai pour toutes les applications, soit parce que ce n’est pas prévu pour l’application en question, soit parce que vous n’avez pas connaissance de ces fonctions spécifiques. Il vous faut alors faire appel à des fonctions génériques définies dans le SDK de Microsoft.</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toute chose, pour pouvoir faire appel à des fonctions du SDK dans une application LabWindows/CVI, il est nécessaire d’inclure le fichier d’en-tête "windows.h".</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un bref descriptif des premières fonctions à utiliser pour gérer des fenêtres Window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d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tourne le handle d'une fenêtre dont on a spécifié le titre en argument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Parent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pécifie la fenêtre "parent" d'une fenêtre dite "fill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WindowLong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un attribut de la fenêtre spécifiée par son handl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ve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la position et les dimensions de la fenêtre spécifié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ose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inimise (sans la détruire) la fenêtre spécifié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troy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upprime la fenêtre spécifié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plus d'informations concernant ces fonctions, se reporter au SDK de Microsoft accessible à partir de LabWindows/CVI par le menu Help/Windows SDK.</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là, nous en avons terminé. Que faire maintenant ? Sans doute visiter le site www.ni.com/france/mstudio et prendre un moment pour mettre toutes ces nouvelles connaissances en applic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la, il suffit de cliquer à droite, de choisir Composants puis de cliquer dans la liste qui s’affiche dans la boîte de dialog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projet de complément de TP, choisissez CW Analysis et CW UI afin de doter votre contrôle des objets graphiques et des routines d’analyse avanc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projet de suivi de données en temps réel, choisissez CW UI et CW DataSocket. Ce dernier objet permettra de communiquer facilement avec l’application distante sous réserve que cette dernière utilise, elle aussi, DataSocket pour publier des résult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il n’y a rien de fondamentalement différent par rapport au développement traditionnel en VB. Sur le formulaire, il suffit de déposer les différents objets, de modifier leurs propriétés et d’ajuster le tout pour que l’interface soit plaisante à utili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projet de TP, on ajoutera un Timer et il ne faudra pas oublier d’ajouter sur le formulaire les contrôles CWArray et CWDSP. Tous ces contrôles ne seront pas visibles lors de l’exécution mais permettent d’avoir une fonction qui est appelée régulièrement par le Timer (un peu comme dans CVI) et de créer des instances d’objets permettant l’accès aux fonctions d’analyse et de traitement de tableau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suivi de production, en plus d’un graphe, on ajoutera une zone de texte pour retourner le statut de la communication, deux boutons pour la connexion et la déconnexion et enfin un contrôle DataSocket qui ne sera pas visible lors de l’exécution.</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e code du contrôle utilisé dans le TP de modulation. Après l’initialisation des fréquence d’échantillonnage et normalisée (il n’y a pas d’acquisition de données mais ces paramètres sont utilisés dans les routines d’analyse) l’objet DSP qui a été déposé sur le formulaire est utilisé pour générer le signal de la porteuse. Par la suite, on fait de même pour le signal modulant. Notez que FREQ_PORTEUSE.Value et AMPLITUDE.Value représentent les valeurs courantes des boutons rotatifs du formulaire. De même, NOISE.Value représente le contenu de la case à cocher qui permet d’indiquer si oui ou non on souhaite bruiter le signal modulant. Pour finir, SIGNAL et SPECTRE sont les graphes utilisés pour présenter respectivement, le signal et le spectre de la modu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Timer1_Ti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tatic PhasePorteus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tatic PhaseSignal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aPorteus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Signal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Bruit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aModulation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Spectr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SamplingFreq, NormalizedFreq As Dou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df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On échantillonne à 100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amplingFreq = 100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NormalizedFreq = FREQ_PORTEUSE.Value / SamplingFreq</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Génération de la porte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Porteuse = DSP.SineWave(1024, 1, NormalizedFreq, PhasePorte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Génération du signal (avec bruit si beso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ignal = DSP.SineWave(1024, AMPLITUDE.Value, 1024 / SamplingFreq, Phase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f NOISE.Value = 1 Th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Bruit = DSP.WhiteNoise(1024, 0.1,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ignal = CWARR.AddArray(LeSignal, LeBr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d I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Modulation en amplit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Modulation = CWARR.MulArray(LaPorteuse, Le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ffichage du 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IGNAL.PlotY LaMod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pectre de puissance et affich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P.AutoPowerSpectrum LaModulation, 1 / SamplingFreq, LeSpectre,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PECTRE.PlotY LeSpectre, 0,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DC7C1-8D6B-4ED3-AD72-E09F5D5CB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9BEF2-0006-49E4-90D7-A5A047564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86A54-3AF5-4B69-BBD3-B47941CC9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79F57-F144-4485-882C-B8F7376B2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F3F59-9DFA-4440-B69E-DC91C0E69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C064C-CAA0-48D0-981D-2AFB9378A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F9697-32B6-4161-8FF5-99BF82A00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4ACF9-4205-4966-9106-A1F23D534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8FB7D-EA88-446D-94DA-C5BC04D2A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231B2-62A9-4BE0-B8DC-3F5DCC557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571E6-B2B0-4D8B-B946-330039BA7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3A9AF-400E-4C84-8C5E-7E0D7E23A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AF5B9-D187-4F28-BF5F-B1D5EF6BC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BA48C-D356-40EC-8BAD-C16A1BDE3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53F42-52EA-4026-8115-1E02A61C1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8EAD4-9F29-4C8C-A8F3-10C97BB4F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4C330-316C-49D3-98FB-6FD952654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2ABD5-8525-4A5C-8D10-06B0D3921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FB45F-30BC-49F2-A1F7-0968D3BF0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CFF7D-2182-418B-9EBC-7E06A3879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67579-A5D3-4641-8CB9-A681971E3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58A97-EBFF-476D-9127-5CCDA69D6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C733C-EBAF-4CDF-995D-86614E880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73CB8-B22A-4F66-A518-0569DCF97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t;footer&gt;</a:t>
            </a:r>
            <a:endParaRPr b="0" lang="en-US" sz="16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2CBC-7629-4C64-BBA0-4AFB98CCD6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80640" y="6477120"/>
            <a:ext cx="316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i.com/france/mstudio</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BA86-A6D1-4178-8361-47C9BE426B1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hyperlink" Target="F:\DATA\NI Day 261200\PPT\ParallelTestInit.exe" TargetMode="External"/><Relationship Id="rId4" Type="http://schemas.openxmlformats.org/officeDocument/2006/relationships/image" Target="../media/image35.pn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hyperlink" Target="F:\DATA\NI Day 261200\sdk\IMAQ Philippe\line profile.exe" TargetMode="External"/><Relationship Id="rId4" Type="http://schemas.openxmlformats.org/officeDocument/2006/relationships/image" Target="../media/image36.png"/><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misez vos développements C, C++ et VB avec Measurement Studio</a:t>
            </a:r>
            <a:endParaRPr b="1" lang="en-US" sz="3600" spc="-1" strike="noStrike">
              <a:solidFill>
                <a:srgbClr val="ffff66"/>
              </a:solidFill>
              <a:latin typeface="Arial"/>
            </a:endParaRPr>
          </a:p>
        </p:txBody>
      </p:sp>
      <p:pic>
        <p:nvPicPr>
          <p:cNvPr id="95" name="MStudio%20Logo" descr=""/>
          <p:cNvPicPr/>
          <p:nvPr/>
        </p:nvPicPr>
        <p:blipFill>
          <a:blip r:embed="rId1"/>
          <a:stretch/>
        </p:blipFill>
        <p:spPr>
          <a:xfrm>
            <a:off x="4038480" y="4495680"/>
            <a:ext cx="1933560" cy="159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du contrôle à partir de VB</a:t>
            </a:r>
            <a:endParaRPr b="1" lang="en-US" sz="3600" spc="-1" strike="noStrike">
              <a:solidFill>
                <a:srgbClr val="ffff66"/>
              </a:solidFill>
              <a:latin typeface="Arial"/>
            </a:endParaRPr>
          </a:p>
        </p:txBody>
      </p:sp>
      <p:pic>
        <p:nvPicPr>
          <p:cNvPr id="121" name="" descr=""/>
          <p:cNvPicPr/>
          <p:nvPr/>
        </p:nvPicPr>
        <p:blipFill>
          <a:blip r:embed="rId1"/>
          <a:stretch/>
        </p:blipFill>
        <p:spPr>
          <a:xfrm>
            <a:off x="5105520" y="1981080"/>
            <a:ext cx="3809880" cy="3413160"/>
          </a:xfrm>
          <a:prstGeom prst="rect">
            <a:avLst/>
          </a:prstGeom>
          <a:ln w="0">
            <a:noFill/>
          </a:ln>
        </p:spPr>
      </p:pic>
      <p:sp>
        <p:nvSpPr>
          <p:cNvPr id="122" name=""/>
          <p:cNvSpPr/>
          <p:nvPr/>
        </p:nvSpPr>
        <p:spPr>
          <a:xfrm>
            <a:off x="685800" y="1981080"/>
            <a:ext cx="53341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2"/>
          <a:stretch/>
        </p:blipFill>
        <p:spPr>
          <a:xfrm>
            <a:off x="457200" y="1981080"/>
            <a:ext cx="3886200" cy="43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objets COM</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HTML&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BODY&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OBJECT classid="clsid:B8F2DACE-CC8F 11D4-81E4 005004F637FD"&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OBJECT&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BODY&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HTML&g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éation d’un fichier .CAB</a:t>
            </a:r>
            <a:endParaRPr b="1" lang="en-US" sz="3600" spc="-1" strike="noStrike">
              <a:solidFill>
                <a:srgbClr val="ffff66"/>
              </a:solidFill>
              <a:latin typeface="Arial"/>
            </a:endParaRPr>
          </a:p>
        </p:txBody>
      </p:sp>
      <p:sp>
        <p:nvSpPr>
          <p:cNvPr id="127" name="PlaceHolder 2"/>
          <p:cNvSpPr>
            <a:spLocks noGrp="1"/>
          </p:cNvSpPr>
          <p:nvPr>
            <p:ph/>
          </p:nvPr>
        </p:nvSpPr>
        <p:spPr>
          <a:xfrm>
            <a:off x="685800" y="1981080"/>
            <a:ext cx="3581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 descr=""/>
          <p:cNvPicPr/>
          <p:nvPr/>
        </p:nvPicPr>
        <p:blipFill>
          <a:blip r:embed="rId1"/>
          <a:stretch/>
        </p:blipFill>
        <p:spPr>
          <a:xfrm>
            <a:off x="276120" y="1600200"/>
            <a:ext cx="4600800" cy="3524400"/>
          </a:xfrm>
          <a:prstGeom prst="rect">
            <a:avLst/>
          </a:prstGeom>
          <a:ln w="0">
            <a:noFill/>
          </a:ln>
        </p:spPr>
      </p:pic>
      <p:pic>
        <p:nvPicPr>
          <p:cNvPr id="129" name="" descr=""/>
          <p:cNvPicPr/>
          <p:nvPr/>
        </p:nvPicPr>
        <p:blipFill>
          <a:blip r:embed="rId2"/>
          <a:stretch/>
        </p:blipFill>
        <p:spPr>
          <a:xfrm>
            <a:off x="914400" y="1876320"/>
            <a:ext cx="4286160" cy="3610080"/>
          </a:xfrm>
          <a:prstGeom prst="rect">
            <a:avLst/>
          </a:prstGeom>
          <a:ln w="0">
            <a:noFill/>
          </a:ln>
        </p:spPr>
      </p:pic>
      <p:pic>
        <p:nvPicPr>
          <p:cNvPr id="130" name="" descr=""/>
          <p:cNvPicPr/>
          <p:nvPr/>
        </p:nvPicPr>
        <p:blipFill>
          <a:blip r:embed="rId3"/>
          <a:stretch/>
        </p:blipFill>
        <p:spPr>
          <a:xfrm>
            <a:off x="1952640" y="2133720"/>
            <a:ext cx="4676760" cy="3419280"/>
          </a:xfrm>
          <a:prstGeom prst="rect">
            <a:avLst/>
          </a:prstGeom>
          <a:ln w="0">
            <a:noFill/>
          </a:ln>
        </p:spPr>
      </p:pic>
      <p:pic>
        <p:nvPicPr>
          <p:cNvPr id="131" name="" descr=""/>
          <p:cNvPicPr/>
          <p:nvPr/>
        </p:nvPicPr>
        <p:blipFill>
          <a:blip r:embed="rId4"/>
          <a:stretch/>
        </p:blipFill>
        <p:spPr>
          <a:xfrm>
            <a:off x="3124080" y="2362320"/>
            <a:ext cx="4676760" cy="341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de HTML de la page</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EAD&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TITLE&gt;Project Modulation.CAB&lt;/TITLE&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EAD&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BJECT ID="UserControl1"</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ID="CLSID:C3174DE5-DB17-11D4-8FC6-444553540000"</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DEBASE="Project Modulation.CAB#version=1,0,0,0"&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BJECT&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écurité et contrôle</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 niveau du navigateur (voir Option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 niveau de la création du fichier CAB</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tape Safety Setting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afe for Initialization et Safe for Scripting</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uteur du contrôle peut signer électroniquement son code et délivrer à l’utilisateur un certificat (il faut le Platform SDK). La signature fait alors partie du contrôle (1ko en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écurité et contrôl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ploiement des applications</a:t>
            </a:r>
            <a:endParaRPr b="1" lang="en-US" sz="3600" spc="-1" strike="noStrike">
              <a:solidFill>
                <a:srgbClr val="ffff66"/>
              </a:solidFill>
              <a:latin typeface="Arial"/>
            </a:endParaRPr>
          </a:p>
        </p:txBody>
      </p:sp>
      <p:pic>
        <p:nvPicPr>
          <p:cNvPr id="138" name="" descr=""/>
          <p:cNvPicPr/>
          <p:nvPr/>
        </p:nvPicPr>
        <p:blipFill>
          <a:blip r:embed="rId1"/>
          <a:stretch/>
        </p:blipFill>
        <p:spPr>
          <a:xfrm>
            <a:off x="4952880" y="1996920"/>
            <a:ext cx="3962520" cy="3551400"/>
          </a:xfrm>
          <a:prstGeom prst="rect">
            <a:avLst/>
          </a:prstGeom>
          <a:ln w="0">
            <a:noFill/>
          </a:ln>
        </p:spPr>
      </p:pic>
      <p:pic>
        <p:nvPicPr>
          <p:cNvPr id="139" name="" descr=""/>
          <p:cNvPicPr/>
          <p:nvPr/>
        </p:nvPicPr>
        <p:blipFill>
          <a:blip r:embed="rId2"/>
          <a:stretch/>
        </p:blipFill>
        <p:spPr>
          <a:xfrm>
            <a:off x="304920" y="1981080"/>
            <a:ext cx="4119480" cy="414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isual C++/ComponentWorks++</a:t>
            </a:r>
            <a:endParaRPr b="1" lang="en-US" sz="3600" spc="-1" strike="noStrike">
              <a:solidFill>
                <a:srgbClr val="ffff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version de projet C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ésentation des classes MFC CNixx</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2" name="ni%20componentworks%20blue" descr=""/>
          <p:cNvPicPr/>
          <p:nvPr/>
        </p:nvPicPr>
        <p:blipFill>
          <a:blip r:embed="rId1"/>
          <a:srcRect l="0" t="0" r="83168" b="0"/>
          <a:stretch/>
        </p:blipFill>
        <p:spPr>
          <a:xfrm>
            <a:off x="7678800" y="0"/>
            <a:ext cx="1465200" cy="1353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ser un second compilateu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énéficier d’un compilateur optimisé</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tendre en C++ un programme C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B :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ation des contrôles ActiveX dans des pages Web</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isual C++ :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version d’un projet CVI</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ésentation rapide des classes MFC CiIxx</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bWindows/CV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ultithread : la protection des donné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ation de fenêtres SDK dans les fenêtres CVI, application à IMAQ Vision et au contrôle TreeView</a:t>
            </a:r>
            <a:r>
              <a:rPr b="0" lang="fr-F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1/5</a:t>
            </a:r>
            <a:endParaRPr b="1" lang="en-US" sz="3600" spc="-1" strike="noStrike">
              <a:solidFill>
                <a:srgbClr val="ffff66"/>
              </a:solidFill>
              <a:latin typeface="Arial"/>
            </a:endParaRPr>
          </a:p>
        </p:txBody>
      </p:sp>
      <p:pic>
        <p:nvPicPr>
          <p:cNvPr id="148" name="" descr=""/>
          <p:cNvPicPr/>
          <p:nvPr/>
        </p:nvPicPr>
        <p:blipFill>
          <a:blip r:embed="rId1"/>
          <a:stretch/>
        </p:blipFill>
        <p:spPr>
          <a:xfrm>
            <a:off x="685800" y="2209680"/>
            <a:ext cx="5343480" cy="381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2/5</a:t>
            </a:r>
            <a:endParaRPr b="1" lang="en-US" sz="3600" spc="-1" strike="noStrike">
              <a:solidFill>
                <a:srgbClr val="ffff66"/>
              </a:solidFill>
              <a:latin typeface="Arial"/>
            </a:endParaRPr>
          </a:p>
        </p:txBody>
      </p:sp>
      <p:pic>
        <p:nvPicPr>
          <p:cNvPr id="150" name="" descr=""/>
          <p:cNvPicPr/>
          <p:nvPr/>
        </p:nvPicPr>
        <p:blipFill>
          <a:blip r:embed="rId1"/>
          <a:stretch/>
        </p:blipFill>
        <p:spPr>
          <a:xfrm>
            <a:off x="685800" y="22096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3/5</a:t>
            </a:r>
            <a:endParaRPr b="1" lang="en-US" sz="3600" spc="-1" strike="noStrike">
              <a:solidFill>
                <a:srgbClr val="ffff66"/>
              </a:solidFill>
              <a:latin typeface="Arial"/>
            </a:endParaRPr>
          </a:p>
        </p:txBody>
      </p:sp>
      <p:pic>
        <p:nvPicPr>
          <p:cNvPr id="152" name="" descr=""/>
          <p:cNvPicPr/>
          <p:nvPr/>
        </p:nvPicPr>
        <p:blipFill>
          <a:blip r:embed="rId1"/>
          <a:stretch/>
        </p:blipFill>
        <p:spPr>
          <a:xfrm>
            <a:off x="685800" y="22096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4/5</a:t>
            </a:r>
            <a:endParaRPr b="1" lang="en-US" sz="3600" spc="-1" strike="noStrike">
              <a:solidFill>
                <a:srgbClr val="ffff66"/>
              </a:solidFill>
              <a:latin typeface="Arial"/>
            </a:endParaRPr>
          </a:p>
        </p:txBody>
      </p:sp>
      <p:pic>
        <p:nvPicPr>
          <p:cNvPr id="154" name="" descr=""/>
          <p:cNvPicPr/>
          <p:nvPr/>
        </p:nvPicPr>
        <p:blipFill>
          <a:blip r:embed="rId1"/>
          <a:stretch/>
        </p:blipFill>
        <p:spPr>
          <a:xfrm>
            <a:off x="685800" y="2198520"/>
            <a:ext cx="5257800" cy="3821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 voilà !</a:t>
            </a:r>
            <a:endParaRPr b="1" lang="en-US" sz="3600" spc="-1" strike="noStrike">
              <a:solidFill>
                <a:srgbClr val="ffff66"/>
              </a:solidFill>
              <a:latin typeface="Arial"/>
            </a:endParaRPr>
          </a:p>
        </p:txBody>
      </p:sp>
      <p:pic>
        <p:nvPicPr>
          <p:cNvPr id="156" name="" descr=""/>
          <p:cNvPicPr/>
          <p:nvPr/>
        </p:nvPicPr>
        <p:blipFill>
          <a:blip r:embed="rId1"/>
          <a:stretch/>
        </p:blipFill>
        <p:spPr>
          <a:xfrm>
            <a:off x="685800" y="2209680"/>
            <a:ext cx="5410080" cy="405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ur aller plus loin…</a:t>
            </a:r>
            <a:endParaRPr b="1" lang="en-US" sz="3600" spc="-1" strike="noStrike">
              <a:solidFill>
                <a:srgbClr val="ffff66"/>
              </a:solidFill>
              <a:latin typeface="Arial"/>
            </a:endParaRPr>
          </a:p>
        </p:txBody>
      </p:sp>
      <p:pic>
        <p:nvPicPr>
          <p:cNvPr id="158" name="" descr=""/>
          <p:cNvPicPr/>
          <p:nvPr/>
        </p:nvPicPr>
        <p:blipFill>
          <a:blip r:embed="rId1"/>
          <a:stretch/>
        </p:blipFill>
        <p:spPr>
          <a:xfrm>
            <a:off x="685800" y="2209680"/>
            <a:ext cx="5638680" cy="4097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résentation des classes MFC CNixx</a:t>
            </a:r>
            <a:endParaRPr b="1" lang="en-US" sz="3600" spc="-1" strike="noStrike">
              <a:solidFill>
                <a:srgbClr val="ffff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ous les contrôles ActiveX déjà disponibles pour VB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lus de 100 classes MF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PIB, RS-232, Visa, VXI, IV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avancée (voir CVI ou V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ataSocket, Variant, et tout un ensemble de classes utilitaires (chaînes, timer, fichier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cun changement dans les habitudes de programmation MFC (exceptions, a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ssistant</a:t>
            </a:r>
            <a:endParaRPr b="1" lang="en-US" sz="3600" spc="-1" strike="noStrike">
              <a:solidFill>
                <a:srgbClr val="ffff66"/>
              </a:solidFill>
              <a:latin typeface="Arial"/>
            </a:endParaRPr>
          </a:p>
        </p:txBody>
      </p:sp>
      <p:sp>
        <p:nvSpPr>
          <p:cNvPr id="162" name="PlaceHolder 2"/>
          <p:cNvSpPr>
            <a:spLocks noGrp="1"/>
          </p:cNvSpPr>
          <p:nvPr>
            <p:ph/>
          </p:nvPr>
        </p:nvSpPr>
        <p:spPr>
          <a:xfrm>
            <a:off x="5943240" y="1981080"/>
            <a:ext cx="3048120" cy="3353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hoisissez NI Measurement Studio AppWizard au dépar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hoisissez CFormView pour finir</a:t>
            </a:r>
            <a:endParaRPr b="0" lang="en-US" sz="2000" spc="-1" strike="noStrike">
              <a:solidFill>
                <a:srgbClr val="ffffff"/>
              </a:solidFill>
              <a:latin typeface="Arial"/>
            </a:endParaRPr>
          </a:p>
        </p:txBody>
      </p:sp>
      <p:pic>
        <p:nvPicPr>
          <p:cNvPr id="163" name="" descr=""/>
          <p:cNvPicPr/>
          <p:nvPr/>
        </p:nvPicPr>
        <p:blipFill>
          <a:blip r:embed="rId1"/>
          <a:stretch/>
        </p:blipFill>
        <p:spPr>
          <a:xfrm>
            <a:off x="152280" y="1600200"/>
            <a:ext cx="5343480" cy="3809880"/>
          </a:xfrm>
          <a:prstGeom prst="rect">
            <a:avLst/>
          </a:prstGeom>
          <a:ln w="0">
            <a:noFill/>
          </a:ln>
        </p:spPr>
      </p:pic>
      <p:pic>
        <p:nvPicPr>
          <p:cNvPr id="164" name="" descr=""/>
          <p:cNvPicPr/>
          <p:nvPr/>
        </p:nvPicPr>
        <p:blipFill>
          <a:blip r:embed="rId2"/>
          <a:stretch/>
        </p:blipFill>
        <p:spPr>
          <a:xfrm>
            <a:off x="638280" y="1981080"/>
            <a:ext cx="4543200" cy="3657600"/>
          </a:xfrm>
          <a:prstGeom prst="rect">
            <a:avLst/>
          </a:prstGeom>
          <a:ln w="0">
            <a:noFill/>
          </a:ln>
        </p:spPr>
      </p:pic>
      <p:pic>
        <p:nvPicPr>
          <p:cNvPr id="165" name="" descr=""/>
          <p:cNvPicPr/>
          <p:nvPr/>
        </p:nvPicPr>
        <p:blipFill>
          <a:blip r:embed="rId3"/>
          <a:stretch/>
        </p:blipFill>
        <p:spPr>
          <a:xfrm>
            <a:off x="914400" y="2362320"/>
            <a:ext cx="4543560" cy="3657600"/>
          </a:xfrm>
          <a:prstGeom prst="rect">
            <a:avLst/>
          </a:prstGeom>
          <a:ln w="0">
            <a:noFill/>
          </a:ln>
        </p:spPr>
      </p:pic>
      <p:pic>
        <p:nvPicPr>
          <p:cNvPr id="166" name="" descr=""/>
          <p:cNvPicPr/>
          <p:nvPr/>
        </p:nvPicPr>
        <p:blipFill>
          <a:blip r:embed="rId4"/>
          <a:stretch/>
        </p:blipFill>
        <p:spPr>
          <a:xfrm>
            <a:off x="1295280" y="26668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ual Basic/ComponentWork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ation des contrôles ActiveX dans une page HTML</a:t>
            </a:r>
            <a:endParaRPr b="0" lang="en-US" sz="2800" spc="-1" strike="noStrike">
              <a:solidFill>
                <a:srgbClr val="ffffff"/>
              </a:solidFill>
              <a:latin typeface="Arial"/>
            </a:endParaRPr>
          </a:p>
        </p:txBody>
      </p:sp>
      <p:pic>
        <p:nvPicPr>
          <p:cNvPr id="100" name="ni%20componentworks%20blue" descr=""/>
          <p:cNvPicPr/>
          <p:nvPr/>
        </p:nvPicPr>
        <p:blipFill>
          <a:blip r:embed="rId1"/>
          <a:srcRect l="0" t="0" r="83168" b="0"/>
          <a:stretch/>
        </p:blipFill>
        <p:spPr>
          <a:xfrm>
            <a:off x="7678800" y="0"/>
            <a:ext cx="1465200" cy="1353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généré</a:t>
            </a:r>
            <a:endParaRPr b="1" lang="en-US" sz="3600" spc="-1" strike="noStrike">
              <a:solidFill>
                <a:srgbClr val="ffff66"/>
              </a:solidFill>
              <a:latin typeface="Arial"/>
            </a:endParaRPr>
          </a:p>
        </p:txBody>
      </p:sp>
      <p:sp>
        <p:nvSpPr>
          <p:cNvPr id="168" name="PlaceHolder 2"/>
          <p:cNvSpPr>
            <a:spLocks noGrp="1"/>
          </p:cNvSpPr>
          <p:nvPr>
            <p:ph/>
          </p:nvPr>
        </p:nvSpPr>
        <p:spPr>
          <a:xfrm>
            <a:off x="5638680" y="1981080"/>
            <a:ext cx="28195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quez sur F5 pour tester le projet</a:t>
            </a:r>
            <a:endParaRPr b="0" lang="en-US" sz="2400" spc="-1" strike="noStrike">
              <a:solidFill>
                <a:srgbClr val="ffffff"/>
              </a:solidFill>
              <a:latin typeface="Arial"/>
            </a:endParaRPr>
          </a:p>
        </p:txBody>
      </p:sp>
      <p:pic>
        <p:nvPicPr>
          <p:cNvPr id="169" name="" descr=""/>
          <p:cNvPicPr/>
          <p:nvPr/>
        </p:nvPicPr>
        <p:blipFill>
          <a:blip r:embed="rId1"/>
          <a:stretch/>
        </p:blipFill>
        <p:spPr>
          <a:xfrm>
            <a:off x="228600" y="1676520"/>
            <a:ext cx="524844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généré</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ide en ligne</a:t>
            </a:r>
            <a:endParaRPr b="1" lang="en-US" sz="3600" spc="-1" strike="noStrike">
              <a:solidFill>
                <a:srgbClr val="ffff66"/>
              </a:solidFill>
              <a:latin typeface="Arial"/>
            </a:endParaRPr>
          </a:p>
        </p:txBody>
      </p:sp>
      <p:sp>
        <p:nvSpPr>
          <p:cNvPr id="173" name="PlaceHolder 2"/>
          <p:cNvSpPr>
            <a:spLocks noGrp="1"/>
          </p:cNvSpPr>
          <p:nvPr>
            <p:ph/>
          </p:nvPr>
        </p:nvSpPr>
        <p:spPr>
          <a:xfrm>
            <a:off x="5866920" y="1981080"/>
            <a:ext cx="31244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hoisissez Interfaces dans l’aide en lign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plèteme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ste des membr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ype Info</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arameter Info</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4" name="" descr=""/>
          <p:cNvPicPr/>
          <p:nvPr/>
        </p:nvPicPr>
        <p:blipFill>
          <a:blip r:embed="rId1"/>
          <a:stretch/>
        </p:blipFill>
        <p:spPr>
          <a:xfrm>
            <a:off x="152280" y="1676520"/>
            <a:ext cx="5639040" cy="409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complété</a:t>
            </a:r>
            <a:endParaRPr b="1" lang="en-US" sz="3600" spc="-1" strike="noStrike">
              <a:solidFill>
                <a:srgbClr val="ffff66"/>
              </a:solidFill>
              <a:latin typeface="Arial"/>
            </a:endParaRPr>
          </a:p>
        </p:txBody>
      </p:sp>
      <p:sp>
        <p:nvSpPr>
          <p:cNvPr id="176" name="PlaceHolder 2"/>
          <p:cNvSpPr>
            <a:spLocks noGrp="1"/>
          </p:cNvSpPr>
          <p:nvPr>
            <p:ph/>
          </p:nvPr>
        </p:nvSpPr>
        <p:spPr>
          <a:xfrm>
            <a:off x="5486040" y="1981080"/>
            <a:ext cx="3429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posez les objets sur le for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odifiez les propriété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stanciez les clas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plétez les fonctions callback</a:t>
            </a:r>
            <a:endParaRPr b="0" lang="en-US" sz="2800" spc="-1" strike="noStrike">
              <a:solidFill>
                <a:srgbClr val="ffffff"/>
              </a:solidFill>
              <a:latin typeface="Arial"/>
            </a:endParaRPr>
          </a:p>
        </p:txBody>
      </p:sp>
      <p:pic>
        <p:nvPicPr>
          <p:cNvPr id="177" name="" descr=""/>
          <p:cNvPicPr/>
          <p:nvPr/>
        </p:nvPicPr>
        <p:blipFill>
          <a:blip r:embed="rId1"/>
          <a:stretch/>
        </p:blipFill>
        <p:spPr>
          <a:xfrm>
            <a:off x="104760" y="1676520"/>
            <a:ext cx="5153040" cy="4124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s exemples de codes…</a:t>
            </a:r>
            <a:endParaRPr b="1" lang="en-US" sz="3600" spc="-1" strike="noStrike">
              <a:solidFill>
                <a:srgbClr val="ffff66"/>
              </a:solidFill>
              <a:latin typeface="Arial"/>
            </a:endParaRPr>
          </a:p>
        </p:txBody>
      </p:sp>
      <p:sp>
        <p:nvSpPr>
          <p:cNvPr id="179" name="PlaceHolder 2"/>
          <p:cNvSpPr>
            <a:spLocks noGrp="1"/>
          </p:cNvSpPr>
          <p:nvPr>
            <p:ph/>
          </p:nvPr>
        </p:nvSpPr>
        <p:spPr>
          <a:xfrm>
            <a:off x="152280" y="1981080"/>
            <a:ext cx="88394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1/ CNiReal64Vector Signal(NUM_OF_POINTS);</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 CNiMath::SquareWave(Signal, Phase, Amplitude, NormalizedFreq, 50.0);</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3/ m_GraphSignal.PlotY(Signal, 0.0, 1.0/SamplingFreq);</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4/ m_GraphSpectrum.Axes.Item(2).SetCaption(UnitString);</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 faire maintenant</a:t>
            </a:r>
            <a:endParaRPr b="1" lang="en-US" sz="3600" spc="-1" strike="noStrike">
              <a:solidFill>
                <a:srgbClr val="ffff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i vous êtes développeur MF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mencez simple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isez l’aide en lig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spirez-vous des exemples standar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llez sur zone.ni.com ou sur ni.com/france/mstudi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Windows/CVI</a:t>
            </a:r>
            <a:endParaRPr b="1" lang="en-US" sz="3600" spc="-1" strike="noStrike">
              <a:solidFill>
                <a:srgbClr val="ffff66"/>
              </a:solidFill>
              <a:latin typeface="Arial"/>
            </a:endParaRPr>
          </a:p>
        </p:txBody>
      </p:sp>
      <p:sp>
        <p:nvSpPr>
          <p:cNvPr id="183" name="PlaceHolder 2"/>
          <p:cNvSpPr>
            <a:spLocks noGrp="1"/>
          </p:cNvSpPr>
          <p:nvPr>
            <p:ph/>
          </p:nvPr>
        </p:nvSpPr>
        <p:spPr>
          <a:xfrm>
            <a:off x="685800" y="1981080"/>
            <a:ext cx="7772400" cy="3810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ultithread : la protection des donné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ation de fenêtres SDK dans les fenêtres CVI, application à IMAQ Vision et au contrôle TreeView</a:t>
            </a:r>
            <a:endParaRPr b="0" lang="en-US" sz="2800" spc="-1" strike="noStrike">
              <a:solidFill>
                <a:srgbClr val="ffffff"/>
              </a:solidFill>
              <a:latin typeface="Arial"/>
            </a:endParaRPr>
          </a:p>
        </p:txBody>
      </p:sp>
      <p:pic>
        <p:nvPicPr>
          <p:cNvPr id="184" name="ni%20cvi%20blue" descr=""/>
          <p:cNvPicPr/>
          <p:nvPr/>
        </p:nvPicPr>
        <p:blipFill>
          <a:blip r:embed="rId1"/>
          <a:srcRect l="0" t="0" r="83342" b="3922"/>
          <a:stretch/>
        </p:blipFill>
        <p:spPr>
          <a:xfrm>
            <a:off x="770112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énéfices du multithreading</a:t>
            </a:r>
            <a:endParaRPr b="1" lang="en-US" sz="3600" spc="-1" strike="noStrike">
              <a:solidFill>
                <a:srgbClr val="ffff66"/>
              </a:solidFill>
              <a:latin typeface="Arial"/>
            </a:endParaRPr>
          </a:p>
        </p:txBody>
      </p:sp>
      <p:pic>
        <p:nvPicPr>
          <p:cNvPr id="186" name="ni%20cvi%20blue" descr=""/>
          <p:cNvPicPr/>
          <p:nvPr/>
        </p:nvPicPr>
        <p:blipFill>
          <a:blip r:embed="rId1"/>
          <a:srcRect l="0" t="0" r="83342" b="3922"/>
          <a:stretch/>
        </p:blipFill>
        <p:spPr>
          <a:xfrm>
            <a:off x="7697880" y="0"/>
            <a:ext cx="1442880" cy="1500120"/>
          </a:xfrm>
          <a:prstGeom prst="rect">
            <a:avLst/>
          </a:prstGeom>
          <a:ln w="0">
            <a:noFill/>
          </a:ln>
        </p:spPr>
      </p:pic>
      <p:sp>
        <p:nvSpPr>
          <p:cNvPr id="187"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 l'influence de l’interface graphique sur les tâches temps-critiqu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rise les actions sur l’interface graphique pendant l’exécution d’une tâche longu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se les performances des machines multiprocesseur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éparent logiquement les parties de programmes indépendan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mple 1 : démo UUT</a:t>
            </a:r>
            <a:endParaRPr b="1" lang="en-US" sz="3600" spc="-1" strike="noStrike">
              <a:solidFill>
                <a:srgbClr val="ffff66"/>
              </a:solidFill>
              <a:latin typeface="Arial"/>
            </a:endParaRPr>
          </a:p>
        </p:txBody>
      </p:sp>
      <p:pic>
        <p:nvPicPr>
          <p:cNvPr id="189" name="ni%20cvi%20blue" descr=""/>
          <p:cNvPicPr/>
          <p:nvPr/>
        </p:nvPicPr>
        <p:blipFill>
          <a:blip r:embed="rId1"/>
          <a:srcRect l="0" t="0" r="83342" b="3922"/>
          <a:stretch/>
        </p:blipFill>
        <p:spPr>
          <a:xfrm>
            <a:off x="7697880" y="0"/>
            <a:ext cx="1442880" cy="1500120"/>
          </a:xfrm>
          <a:prstGeom prst="rect">
            <a:avLst/>
          </a:prstGeom>
          <a:ln w="0">
            <a:noFill/>
          </a:ln>
        </p:spPr>
      </p:pic>
      <p:graphicFrame>
        <p:nvGraphicFramePr>
          <p:cNvPr id="190" name=""/>
          <p:cNvGraphicFramePr/>
          <p:nvPr/>
        </p:nvGraphicFramePr>
        <p:xfrm>
          <a:off x="988920" y="1627200"/>
          <a:ext cx="3943440" cy="4468680"/>
        </p:xfrm>
        <a:graphic>
          <a:graphicData uri="http://schemas.openxmlformats.org/presentationml/2006/ole">
            <p:oleObj r:id="rId2" spid="">
              <p:embed/>
              <p:pic>
                <p:nvPicPr>
                  <p:cNvPr id="191" name="" descr="">
                    <a:hlinkClick r:id="rId3"/>
                  </p:cNvPr>
                  <p:cNvPicPr/>
                  <p:nvPr/>
                </p:nvPicPr>
                <p:blipFill>
                  <a:blip r:embed="rId4"/>
                  <a:stretch/>
                </p:blipFill>
                <p:spPr>
                  <a:xfrm>
                    <a:off x="988920" y="1627200"/>
                    <a:ext cx="3943440" cy="446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tection des données ?</a:t>
            </a:r>
            <a:endParaRPr b="1" lang="en-US" sz="3600" spc="-1" strike="noStrike">
              <a:solidFill>
                <a:srgbClr val="ffff66"/>
              </a:solidFill>
              <a:latin typeface="Arial"/>
            </a:endParaRPr>
          </a:p>
        </p:txBody>
      </p:sp>
      <p:sp>
        <p:nvSpPr>
          <p:cNvPr id="193" name=""/>
          <p:cNvSpPr/>
          <p:nvPr/>
        </p:nvSpPr>
        <p:spPr>
          <a:xfrm>
            <a:off x="4648320" y="1676520"/>
            <a:ext cx="3962160" cy="4343400"/>
          </a:xfrm>
          <a:prstGeom prst="rect">
            <a:avLst/>
          </a:prstGeom>
          <a:solidFill>
            <a:srgbClr val="3399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4724280" y="2133720"/>
            <a:ext cx="3733920" cy="3733560"/>
          </a:xfrm>
          <a:prstGeom prst="rect">
            <a:avLst/>
          </a:prstGeom>
          <a:solidFill>
            <a:srgbClr val="ffff99"/>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879440" y="167652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196" name=""/>
          <p:cNvSpPr/>
          <p:nvPr/>
        </p:nvSpPr>
        <p:spPr>
          <a:xfrm>
            <a:off x="5918040" y="1676520"/>
            <a:ext cx="132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ead1</a:t>
            </a:r>
            <a:endParaRPr b="0" lang="en-US" sz="2400" spc="-1" strike="noStrike">
              <a:solidFill>
                <a:srgbClr val="000000"/>
              </a:solidFill>
              <a:latin typeface="Times New Roman"/>
            </a:endParaRPr>
          </a:p>
        </p:txBody>
      </p:sp>
      <p:sp>
        <p:nvSpPr>
          <p:cNvPr id="197" name=""/>
          <p:cNvSpPr/>
          <p:nvPr/>
        </p:nvSpPr>
        <p:spPr>
          <a:xfrm>
            <a:off x="7140240" y="167652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ead2</a:t>
            </a:r>
            <a:endParaRPr b="0" lang="en-US" sz="2400" spc="-1" strike="noStrike">
              <a:solidFill>
                <a:srgbClr val="000000"/>
              </a:solidFill>
              <a:latin typeface="Times New Roman"/>
            </a:endParaRPr>
          </a:p>
        </p:txBody>
      </p:sp>
      <p:grpSp>
        <p:nvGrpSpPr>
          <p:cNvPr id="198" name=""/>
          <p:cNvGrpSpPr/>
          <p:nvPr/>
        </p:nvGrpSpPr>
        <p:grpSpPr>
          <a:xfrm>
            <a:off x="5105520" y="2209680"/>
            <a:ext cx="2971800" cy="304920"/>
            <a:chOff x="5105520" y="2209680"/>
            <a:chExt cx="2971800" cy="304920"/>
          </a:xfrm>
        </p:grpSpPr>
        <p:sp>
          <p:nvSpPr>
            <p:cNvPr id="199" name=""/>
            <p:cNvSpPr/>
            <p:nvPr/>
          </p:nvSpPr>
          <p:spPr>
            <a:xfrm>
              <a:off x="5105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0" name=""/>
            <p:cNvSpPr/>
            <p:nvPr/>
          </p:nvSpPr>
          <p:spPr>
            <a:xfrm>
              <a:off x="6248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391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 name=""/>
          <p:cNvSpPr/>
          <p:nvPr/>
        </p:nvSpPr>
        <p:spPr>
          <a:xfrm>
            <a:off x="5105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3" name=""/>
          <p:cNvSpPr/>
          <p:nvPr/>
        </p:nvSpPr>
        <p:spPr>
          <a:xfrm>
            <a:off x="6248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4" name=""/>
          <p:cNvSpPr/>
          <p:nvPr/>
        </p:nvSpPr>
        <p:spPr>
          <a:xfrm>
            <a:off x="7391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05" name=""/>
          <p:cNvSpPr/>
          <p:nvPr/>
        </p:nvSpPr>
        <p:spPr>
          <a:xfrm>
            <a:off x="76320" y="373392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1 = Registre1 + 1</a:t>
            </a:r>
            <a:endParaRPr b="0" lang="en-US" sz="2400" spc="-1" strike="noStrike">
              <a:solidFill>
                <a:srgbClr val="000000"/>
              </a:solidFill>
              <a:latin typeface="Times New Roman"/>
            </a:endParaRPr>
          </a:p>
        </p:txBody>
      </p:sp>
      <p:sp>
        <p:nvSpPr>
          <p:cNvPr id="206" name=""/>
          <p:cNvSpPr/>
          <p:nvPr/>
        </p:nvSpPr>
        <p:spPr>
          <a:xfrm>
            <a:off x="76320" y="320040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2 = Count</a:t>
            </a:r>
            <a:endParaRPr b="0" lang="en-US" sz="2400" spc="-1" strike="noStrike">
              <a:solidFill>
                <a:srgbClr val="000000"/>
              </a:solidFill>
              <a:latin typeface="Times New Roman"/>
            </a:endParaRPr>
          </a:p>
        </p:txBody>
      </p:sp>
      <p:sp>
        <p:nvSpPr>
          <p:cNvPr id="207" name=""/>
          <p:cNvSpPr/>
          <p:nvPr/>
        </p:nvSpPr>
        <p:spPr>
          <a:xfrm>
            <a:off x="5105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8" name=""/>
          <p:cNvSpPr/>
          <p:nvPr/>
        </p:nvSpPr>
        <p:spPr>
          <a:xfrm>
            <a:off x="6248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9" name=""/>
          <p:cNvSpPr/>
          <p:nvPr/>
        </p:nvSpPr>
        <p:spPr>
          <a:xfrm>
            <a:off x="7391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10" name=""/>
          <p:cNvSpPr/>
          <p:nvPr/>
        </p:nvSpPr>
        <p:spPr>
          <a:xfrm>
            <a:off x="5562720" y="3429000"/>
            <a:ext cx="20574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6320" y="426708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nt = Registre1</a:t>
            </a:r>
            <a:endParaRPr b="0" lang="en-US" sz="2400" spc="-1" strike="noStrike">
              <a:solidFill>
                <a:srgbClr val="000000"/>
              </a:solidFill>
              <a:latin typeface="Times New Roman"/>
            </a:endParaRPr>
          </a:p>
        </p:txBody>
      </p:sp>
      <p:sp>
        <p:nvSpPr>
          <p:cNvPr id="212" name=""/>
          <p:cNvSpPr/>
          <p:nvPr/>
        </p:nvSpPr>
        <p:spPr>
          <a:xfrm>
            <a:off x="5105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3" name=""/>
          <p:cNvSpPr/>
          <p:nvPr/>
        </p:nvSpPr>
        <p:spPr>
          <a:xfrm>
            <a:off x="6248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14" name=""/>
          <p:cNvSpPr/>
          <p:nvPr/>
        </p:nvSpPr>
        <p:spPr>
          <a:xfrm>
            <a:off x="7391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5" name=""/>
          <p:cNvSpPr/>
          <p:nvPr/>
        </p:nvSpPr>
        <p:spPr>
          <a:xfrm>
            <a:off x="5562720" y="4495680"/>
            <a:ext cx="2057400" cy="1800"/>
          </a:xfrm>
          <a:prstGeom prst="line">
            <a:avLst/>
          </a:prstGeom>
          <a:ln w="38160">
            <a:solidFill>
              <a:srgbClr val="ff66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a:off x="5105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7" name=""/>
          <p:cNvSpPr/>
          <p:nvPr/>
        </p:nvSpPr>
        <p:spPr>
          <a:xfrm>
            <a:off x="6248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8" name=""/>
          <p:cNvSpPr/>
          <p:nvPr/>
        </p:nvSpPr>
        <p:spPr>
          <a:xfrm>
            <a:off x="7391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9" name=""/>
          <p:cNvSpPr/>
          <p:nvPr/>
        </p:nvSpPr>
        <p:spPr>
          <a:xfrm>
            <a:off x="76320" y="480060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2 = Registre2 + 1</a:t>
            </a:r>
            <a:endParaRPr b="0" lang="en-US" sz="2400" spc="-1" strike="noStrike">
              <a:solidFill>
                <a:srgbClr val="000000"/>
              </a:solidFill>
              <a:latin typeface="Times New Roman"/>
            </a:endParaRPr>
          </a:p>
        </p:txBody>
      </p:sp>
      <p:sp>
        <p:nvSpPr>
          <p:cNvPr id="220" name=""/>
          <p:cNvSpPr/>
          <p:nvPr/>
        </p:nvSpPr>
        <p:spPr>
          <a:xfrm>
            <a:off x="5105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1" name=""/>
          <p:cNvSpPr/>
          <p:nvPr/>
        </p:nvSpPr>
        <p:spPr>
          <a:xfrm>
            <a:off x="6248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2" name=""/>
          <p:cNvSpPr/>
          <p:nvPr/>
        </p:nvSpPr>
        <p:spPr>
          <a:xfrm>
            <a:off x="7391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3" name=""/>
          <p:cNvSpPr/>
          <p:nvPr/>
        </p:nvSpPr>
        <p:spPr>
          <a:xfrm>
            <a:off x="5562720" y="5562720"/>
            <a:ext cx="838080" cy="0"/>
          </a:xfrm>
          <a:prstGeom prst="line">
            <a:avLst/>
          </a:prstGeom>
          <a:ln w="381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6320" y="533412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nt = Registre2</a:t>
            </a:r>
            <a:endParaRPr b="0" lang="en-US" sz="2400" spc="-1" strike="noStrike">
              <a:solidFill>
                <a:srgbClr val="000000"/>
              </a:solidFill>
              <a:latin typeface="Times New Roman"/>
            </a:endParaRPr>
          </a:p>
        </p:txBody>
      </p:sp>
      <p:sp>
        <p:nvSpPr>
          <p:cNvPr id="225" name=""/>
          <p:cNvSpPr/>
          <p:nvPr/>
        </p:nvSpPr>
        <p:spPr>
          <a:xfrm>
            <a:off x="5105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26" name=""/>
          <p:cNvSpPr/>
          <p:nvPr/>
        </p:nvSpPr>
        <p:spPr>
          <a:xfrm>
            <a:off x="6248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27" name=""/>
          <p:cNvSpPr/>
          <p:nvPr/>
        </p:nvSpPr>
        <p:spPr>
          <a:xfrm>
            <a:off x="7391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562720" y="2895480"/>
            <a:ext cx="8380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6320" y="266688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1 = Count</a:t>
            </a:r>
            <a:endParaRPr b="0" lang="en-US" sz="2400" spc="-1" strike="noStrike">
              <a:solidFill>
                <a:srgbClr val="000000"/>
              </a:solidFill>
              <a:latin typeface="Times New Roman"/>
            </a:endParaRPr>
          </a:p>
        </p:txBody>
      </p:sp>
      <p:sp>
        <p:nvSpPr>
          <p:cNvPr id="230" name=""/>
          <p:cNvSpPr/>
          <p:nvPr/>
        </p:nvSpPr>
        <p:spPr>
          <a:xfrm>
            <a:off x="2362320" y="1905120"/>
            <a:ext cx="1447560" cy="457200"/>
          </a:xfrm>
          <a:prstGeom prst="rect">
            <a:avLst/>
          </a:prstGeom>
          <a:solidFill>
            <a:srgbClr val="66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2</a:t>
            </a:r>
            <a:endParaRPr b="0" lang="en-US" sz="2400" spc="-1" strike="noStrike">
              <a:solidFill>
                <a:srgbClr val="000000"/>
              </a:solidFill>
              <a:latin typeface="Times New Roman"/>
            </a:endParaRPr>
          </a:p>
        </p:txBody>
      </p:sp>
      <p:sp>
        <p:nvSpPr>
          <p:cNvPr id="231" name=""/>
          <p:cNvSpPr/>
          <p:nvPr/>
        </p:nvSpPr>
        <p:spPr>
          <a:xfrm>
            <a:off x="762120" y="1905120"/>
            <a:ext cx="1447560" cy="457200"/>
          </a:xfrm>
          <a:prstGeom prst="rect">
            <a:avLst/>
          </a:prstGeom>
          <a:solidFill>
            <a:srgbClr val="00ff99"/>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1</a:t>
            </a:r>
            <a:endParaRPr b="0" lang="en-US" sz="2400" spc="-1" strike="noStrike">
              <a:solidFill>
                <a:srgbClr val="000000"/>
              </a:solidFill>
              <a:latin typeface="Times New Roman"/>
            </a:endParaRPr>
          </a:p>
        </p:txBody>
      </p:sp>
      <p:pic>
        <p:nvPicPr>
          <p:cNvPr id="232" name="ni%20cvi%20blue" descr=""/>
          <p:cNvPicPr/>
          <p:nvPr/>
        </p:nvPicPr>
        <p:blipFill>
          <a:blip r:embed="rId1"/>
          <a:srcRect l="0" t="0" r="83342" b="3922"/>
          <a:stretch/>
        </p:blipFill>
        <p:spPr>
          <a:xfrm>
            <a:off x="7697880" y="0"/>
            <a:ext cx="1442880" cy="1500120"/>
          </a:xfrm>
          <a:prstGeom prst="rect">
            <a:avLst/>
          </a:prstGeom>
          <a:ln w="0">
            <a:noFill/>
          </a:ln>
        </p:spPr>
      </p:pic>
      <p:sp>
        <p:nvSpPr>
          <p:cNvPr id="233" name=""/>
          <p:cNvSpPr/>
          <p:nvPr/>
        </p:nvSpPr>
        <p:spPr>
          <a:xfrm>
            <a:off x="4724280" y="2133720"/>
            <a:ext cx="3733920" cy="3733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crire un contrôle COM avec VB</a:t>
            </a:r>
            <a:endParaRPr b="1" lang="en-US" sz="3600" spc="-1" strike="noStrike">
              <a:solidFill>
                <a:srgbClr val="ffff66"/>
              </a:solidFill>
              <a:latin typeface="Arial"/>
            </a:endParaRPr>
          </a:p>
        </p:txBody>
      </p:sp>
      <p:sp>
        <p:nvSpPr>
          <p:cNvPr id="102" name="PlaceHolder 2"/>
          <p:cNvSpPr>
            <a:spLocks noGrp="1"/>
          </p:cNvSpPr>
          <p:nvPr>
            <p:ph/>
          </p:nvPr>
        </p:nvSpPr>
        <p:spPr>
          <a:xfrm>
            <a:off x="685440" y="1981080"/>
            <a:ext cx="3962520" cy="2438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ncez VB</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uveau Proj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oisissez Contrôle ActiveX</a:t>
            </a:r>
            <a:endParaRPr b="0" lang="en-US" sz="2800" spc="-1" strike="noStrike">
              <a:solidFill>
                <a:srgbClr val="ffffff"/>
              </a:solidFill>
              <a:latin typeface="Arial"/>
            </a:endParaRPr>
          </a:p>
        </p:txBody>
      </p:sp>
      <p:pic>
        <p:nvPicPr>
          <p:cNvPr id="103" name="" descr=""/>
          <p:cNvPicPr/>
          <p:nvPr/>
        </p:nvPicPr>
        <p:blipFill>
          <a:blip r:embed="rId1"/>
          <a:stretch/>
        </p:blipFill>
        <p:spPr>
          <a:xfrm>
            <a:off x="4724280" y="1962000"/>
            <a:ext cx="4219560" cy="276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de données à protéger</a:t>
            </a:r>
            <a:endParaRPr b="1" lang="en-US" sz="3600" spc="-1" strike="noStrike">
              <a:solidFill>
                <a:srgbClr val="ffff66"/>
              </a:solidFill>
              <a:latin typeface="Arial"/>
            </a:endParaRPr>
          </a:p>
        </p:txBody>
      </p:sp>
      <p:sp>
        <p:nvSpPr>
          <p:cNvPr id="235" name="PlaceHolder 2"/>
          <p:cNvSpPr>
            <a:spLocks noGrp="1"/>
          </p:cNvSpPr>
          <p:nvPr>
            <p:ph/>
          </p:nvPr>
        </p:nvSpPr>
        <p:spPr>
          <a:xfrm>
            <a:off x="533160" y="1600200"/>
            <a:ext cx="8305560" cy="838080"/>
          </a:xfrm>
          <a:prstGeom prst="rect">
            <a:avLst/>
          </a:prstGeom>
          <a:noFill/>
          <a:ln w="0">
            <a:noFill/>
          </a:ln>
        </p:spPr>
        <p:txBody>
          <a:bodyPr lIns="90000" rIns="90000" tIns="46800" bIns="46800" anchor="t">
            <a:normAutofit/>
          </a:bodyPr>
          <a:p>
            <a:pPr marL="533520" indent="-53352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ules les données accessibles par plus d’un thread doivent être protégées.</a:t>
            </a:r>
            <a:endParaRPr b="0" lang="en-US" sz="2400" spc="-1" strike="noStrike">
              <a:solidFill>
                <a:srgbClr val="ffffff"/>
              </a:solidFill>
              <a:latin typeface="Arial"/>
            </a:endParaRPr>
          </a:p>
        </p:txBody>
      </p:sp>
      <p:grpSp>
        <p:nvGrpSpPr>
          <p:cNvPr id="236" name=""/>
          <p:cNvGrpSpPr/>
          <p:nvPr/>
        </p:nvGrpSpPr>
        <p:grpSpPr>
          <a:xfrm>
            <a:off x="380880" y="2590920"/>
            <a:ext cx="8458200" cy="2819160"/>
            <a:chOff x="380880" y="2590920"/>
            <a:chExt cx="8458200" cy="2819160"/>
          </a:xfrm>
        </p:grpSpPr>
        <p:sp>
          <p:nvSpPr>
            <p:cNvPr id="237" name=""/>
            <p:cNvSpPr/>
            <p:nvPr/>
          </p:nvSpPr>
          <p:spPr>
            <a:xfrm>
              <a:off x="380880" y="2590920"/>
              <a:ext cx="8458200" cy="2819160"/>
            </a:xfrm>
            <a:prstGeom prst="rect">
              <a:avLst/>
            </a:prstGeom>
            <a:solidFill>
              <a:srgbClr val="3399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
            <p:cNvGrpSpPr/>
            <p:nvPr/>
          </p:nvGrpSpPr>
          <p:grpSpPr>
            <a:xfrm>
              <a:off x="533520" y="2774520"/>
              <a:ext cx="8153280" cy="2512800"/>
              <a:chOff x="533520" y="2774520"/>
              <a:chExt cx="8153280" cy="2512800"/>
            </a:xfrm>
          </p:grpSpPr>
          <p:sp>
            <p:nvSpPr>
              <p:cNvPr id="239" name=""/>
              <p:cNvSpPr/>
              <p:nvPr/>
            </p:nvSpPr>
            <p:spPr>
              <a:xfrm>
                <a:off x="533520" y="2774520"/>
                <a:ext cx="3733560" cy="25128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33520" y="2774520"/>
                <a:ext cx="3733560" cy="2390040"/>
              </a:xfrm>
              <a:prstGeom prst="rect">
                <a:avLst/>
              </a:prstGeom>
              <a:no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émoire</a:t>
                </a:r>
                <a:endParaRPr b="0" lang="en-US" sz="24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global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locales statiqu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allouées dynamiquement</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1" name=""/>
              <p:cNvSpPr/>
              <p:nvPr/>
            </p:nvSpPr>
            <p:spPr>
              <a:xfrm>
                <a:off x="4952880" y="2774520"/>
                <a:ext cx="3733920" cy="25128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952880" y="2774520"/>
                <a:ext cx="3733920" cy="2390040"/>
              </a:xfrm>
              <a:prstGeom prst="rect">
                <a:avLst/>
              </a:prstGeom>
              <a:no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le</a:t>
                </a:r>
                <a:endParaRPr b="0" lang="en-US" sz="24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amètres des fonction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locales non statiqu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sp>
        <p:nvSpPr>
          <p:cNvPr id="243" name=""/>
          <p:cNvSpPr/>
          <p:nvPr/>
        </p:nvSpPr>
        <p:spPr>
          <a:xfrm>
            <a:off x="533520" y="4952880"/>
            <a:ext cx="3733560" cy="3412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À protéger</a:t>
            </a:r>
            <a:endParaRPr b="0" lang="en-US" sz="2000" spc="-1" strike="noStrike">
              <a:solidFill>
                <a:srgbClr val="000000"/>
              </a:solidFill>
              <a:latin typeface="Times New Roman"/>
            </a:endParaRPr>
          </a:p>
        </p:txBody>
      </p:sp>
      <p:pic>
        <p:nvPicPr>
          <p:cNvPr id="244"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écanismes de protection</a:t>
            </a:r>
            <a:endParaRPr b="1" lang="en-US" sz="3600" spc="-1" strike="noStrike">
              <a:solidFill>
                <a:srgbClr val="ffff66"/>
              </a:solidFill>
              <a:latin typeface="Arial"/>
            </a:endParaRPr>
          </a:p>
        </p:txBody>
      </p:sp>
      <p:pic>
        <p:nvPicPr>
          <p:cNvPr id="246" name="ni%20cvi%20blue" descr=""/>
          <p:cNvPicPr/>
          <p:nvPr/>
        </p:nvPicPr>
        <p:blipFill>
          <a:blip r:embed="rId1"/>
          <a:srcRect l="0" t="0" r="83342" b="3922"/>
          <a:stretch/>
        </p:blipFill>
        <p:spPr>
          <a:xfrm>
            <a:off x="7697880" y="0"/>
            <a:ext cx="1442880" cy="1500120"/>
          </a:xfrm>
          <a:prstGeom prst="rect">
            <a:avLst/>
          </a:prstGeom>
          <a:ln w="0">
            <a:noFill/>
          </a:ln>
        </p:spPr>
      </p:pic>
      <p:sp>
        <p:nvSpPr>
          <p:cNvPr id="247"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Lock</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milaire aux Critical Section et Mutex du SDK</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cerne tous types de ressources (données, DLL...)</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Safe Variabl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tection simplifiée et optimisée des seules données</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Safe Queu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le passage de tableaux entre thread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voir présentation NIDays 2000</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ariable Thread Local</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ccès à plusieurs instances d’une même vari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pic>
        <p:nvPicPr>
          <p:cNvPr id="249" name="ni%20cvi%20blue" descr=""/>
          <p:cNvPicPr/>
          <p:nvPr/>
        </p:nvPicPr>
        <p:blipFill>
          <a:blip r:embed="rId1"/>
          <a:srcRect l="0" t="0" r="83342" b="3922"/>
          <a:stretch/>
        </p:blipFill>
        <p:spPr>
          <a:xfrm>
            <a:off x="7697880" y="0"/>
            <a:ext cx="1442880" cy="1500120"/>
          </a:xfrm>
          <a:prstGeom prst="rect">
            <a:avLst/>
          </a:prstGeom>
          <a:ln w="0">
            <a:noFill/>
          </a:ln>
        </p:spPr>
      </p:pic>
      <p:sp>
        <p:nvSpPr>
          <p:cNvPr id="250"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bjet du système d’exploitation</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a:t>
            </a:r>
            <a:r>
              <a:rPr b="0" lang="fr-FR" sz="2800" spc="-1" strike="noStrike">
                <a:solidFill>
                  <a:srgbClr val="ffffff"/>
                </a:solidFill>
                <a:latin typeface="Arial"/>
              </a:rPr>
              <a:t> un instant donné, un seul thread peut acquérir l’objet</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vant d’accéder à une ressource partagée, il faut faire appel à une fonction pour acquérir l’objet</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bjet Thread Lock profite des performances d’une Critical Section et des fonctionnalités d’un Mut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grpSp>
        <p:nvGrpSpPr>
          <p:cNvPr id="252" name=""/>
          <p:cNvGrpSpPr/>
          <p:nvPr/>
        </p:nvGrpSpPr>
        <p:grpSpPr>
          <a:xfrm>
            <a:off x="5562720" y="3809880"/>
            <a:ext cx="2209680" cy="2057400"/>
            <a:chOff x="5562720" y="3809880"/>
            <a:chExt cx="2209680" cy="2057400"/>
          </a:xfrm>
        </p:grpSpPr>
        <p:sp>
          <p:nvSpPr>
            <p:cNvPr id="253" name=""/>
            <p:cNvSpPr/>
            <p:nvPr/>
          </p:nvSpPr>
          <p:spPr>
            <a:xfrm>
              <a:off x="5562720" y="4208040"/>
              <a:ext cx="220968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556488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3</a:t>
              </a:r>
              <a:endParaRPr b="0" lang="en-US" sz="2400" spc="-1" strike="noStrike">
                <a:solidFill>
                  <a:srgbClr val="000000"/>
                </a:solidFill>
                <a:latin typeface="Times New Roman"/>
              </a:endParaRPr>
            </a:p>
          </p:txBody>
        </p:sp>
      </p:grpSp>
      <p:sp>
        <p:nvSpPr>
          <p:cNvPr id="255" name=""/>
          <p:cNvSpPr/>
          <p:nvPr/>
        </p:nvSpPr>
        <p:spPr>
          <a:xfrm>
            <a:off x="309960" y="1681200"/>
            <a:ext cx="700812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éation du Thread Lock (CmtNewLock)</a:t>
            </a:r>
            <a:endParaRPr b="0" lang="en-US" sz="2800" spc="-1" strike="noStrike">
              <a:solidFill>
                <a:srgbClr val="000000"/>
              </a:solidFill>
              <a:latin typeface="Times New Roman"/>
            </a:endParaRPr>
          </a:p>
        </p:txBody>
      </p:sp>
      <p:sp>
        <p:nvSpPr>
          <p:cNvPr id="256" name=""/>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chaque thread accédant aux ressources :</a:t>
            </a:r>
            <a:endParaRPr b="0" lang="en-US" sz="2800" spc="-1" strike="noStrike">
              <a:solidFill>
                <a:srgbClr val="000000"/>
              </a:solidFill>
              <a:latin typeface="Times New Roman"/>
            </a:endParaRPr>
          </a:p>
        </p:txBody>
      </p:sp>
      <p:sp>
        <p:nvSpPr>
          <p:cNvPr id="257" name=""/>
          <p:cNvSpPr/>
          <p:nvPr/>
        </p:nvSpPr>
        <p:spPr>
          <a:xfrm>
            <a:off x="5562720" y="4191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58" name=""/>
          <p:cNvSpPr/>
          <p:nvPr/>
        </p:nvSpPr>
        <p:spPr>
          <a:xfrm>
            <a:off x="5562720" y="54705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59" name=""/>
          <p:cNvSpPr/>
          <p:nvPr/>
        </p:nvSpPr>
        <p:spPr>
          <a:xfrm>
            <a:off x="5562720" y="4495680"/>
            <a:ext cx="26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sp>
        <p:nvSpPr>
          <p:cNvPr id="260" name=""/>
          <p:cNvSpPr/>
          <p:nvPr/>
        </p:nvSpPr>
        <p:spPr>
          <a:xfrm>
            <a:off x="1066680" y="25909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ande d’acquisition du Thread Lock</a:t>
            </a:r>
            <a:endParaRPr b="0" lang="en-US" sz="2400" spc="-1" strike="noStrike">
              <a:solidFill>
                <a:srgbClr val="000000"/>
              </a:solidFill>
              <a:latin typeface="Times New Roman"/>
            </a:endParaRPr>
          </a:p>
        </p:txBody>
      </p:sp>
      <p:sp>
        <p:nvSpPr>
          <p:cNvPr id="261" name=""/>
          <p:cNvSpPr/>
          <p:nvPr/>
        </p:nvSpPr>
        <p:spPr>
          <a:xfrm>
            <a:off x="1066680" y="30481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ès aux ressources partagées</a:t>
            </a:r>
            <a:endParaRPr b="0" lang="en-US" sz="2400" spc="-1" strike="noStrike">
              <a:solidFill>
                <a:srgbClr val="000000"/>
              </a:solidFill>
              <a:latin typeface="Times New Roman"/>
            </a:endParaRPr>
          </a:p>
        </p:txBody>
      </p:sp>
      <p:sp>
        <p:nvSpPr>
          <p:cNvPr id="262" name=""/>
          <p:cNvSpPr/>
          <p:nvPr/>
        </p:nvSpPr>
        <p:spPr>
          <a:xfrm>
            <a:off x="1066680" y="35053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bération du Thread Lock</a:t>
            </a:r>
            <a:endParaRPr b="0" lang="en-US" sz="2400" spc="-1" strike="noStrike">
              <a:solidFill>
                <a:srgbClr val="000000"/>
              </a:solidFill>
              <a:latin typeface="Times New Roman"/>
            </a:endParaRPr>
          </a:p>
        </p:txBody>
      </p:sp>
      <p:grpSp>
        <p:nvGrpSpPr>
          <p:cNvPr id="263" name=""/>
          <p:cNvGrpSpPr/>
          <p:nvPr/>
        </p:nvGrpSpPr>
        <p:grpSpPr>
          <a:xfrm>
            <a:off x="2971800" y="3809880"/>
            <a:ext cx="2209680" cy="2057400"/>
            <a:chOff x="2971800" y="3809880"/>
            <a:chExt cx="2209680" cy="2057400"/>
          </a:xfrm>
        </p:grpSpPr>
        <p:sp>
          <p:nvSpPr>
            <p:cNvPr id="264" name=""/>
            <p:cNvSpPr/>
            <p:nvPr/>
          </p:nvSpPr>
          <p:spPr>
            <a:xfrm>
              <a:off x="2971800" y="4208040"/>
              <a:ext cx="220968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97396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grpSp>
      <p:sp>
        <p:nvSpPr>
          <p:cNvPr id="266" name=""/>
          <p:cNvSpPr/>
          <p:nvPr/>
        </p:nvSpPr>
        <p:spPr>
          <a:xfrm>
            <a:off x="2971800" y="4191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67" name=""/>
          <p:cNvSpPr/>
          <p:nvPr/>
        </p:nvSpPr>
        <p:spPr>
          <a:xfrm>
            <a:off x="2971800" y="54705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68" name=""/>
          <p:cNvSpPr/>
          <p:nvPr/>
        </p:nvSpPr>
        <p:spPr>
          <a:xfrm>
            <a:off x="2971800" y="4495680"/>
            <a:ext cx="26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grpSp>
        <p:nvGrpSpPr>
          <p:cNvPr id="269" name=""/>
          <p:cNvGrpSpPr/>
          <p:nvPr/>
        </p:nvGrpSpPr>
        <p:grpSpPr>
          <a:xfrm>
            <a:off x="380880" y="3809880"/>
            <a:ext cx="2210040" cy="2057400"/>
            <a:chOff x="380880" y="3809880"/>
            <a:chExt cx="2210040" cy="2057400"/>
          </a:xfrm>
        </p:grpSpPr>
        <p:sp>
          <p:nvSpPr>
            <p:cNvPr id="270" name=""/>
            <p:cNvSpPr/>
            <p:nvPr/>
          </p:nvSpPr>
          <p:spPr>
            <a:xfrm>
              <a:off x="380880" y="4208040"/>
              <a:ext cx="221004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8304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1</a:t>
              </a:r>
              <a:endParaRPr b="0" lang="en-US" sz="2400" spc="-1" strike="noStrike">
                <a:solidFill>
                  <a:srgbClr val="000000"/>
                </a:solidFill>
                <a:latin typeface="Times New Roman"/>
              </a:endParaRPr>
            </a:p>
          </p:txBody>
        </p:sp>
      </p:grpSp>
      <p:sp>
        <p:nvSpPr>
          <p:cNvPr id="272" name=""/>
          <p:cNvSpPr/>
          <p:nvPr/>
        </p:nvSpPr>
        <p:spPr>
          <a:xfrm>
            <a:off x="380880" y="419112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73" name=""/>
          <p:cNvSpPr/>
          <p:nvPr/>
        </p:nvSpPr>
        <p:spPr>
          <a:xfrm>
            <a:off x="380880" y="54864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74" name=""/>
          <p:cNvSpPr/>
          <p:nvPr/>
        </p:nvSpPr>
        <p:spPr>
          <a:xfrm>
            <a:off x="380880" y="4495680"/>
            <a:ext cx="2667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pic>
        <p:nvPicPr>
          <p:cNvPr id="275"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sp>
        <p:nvSpPr>
          <p:cNvPr id="277" name=""/>
          <p:cNvSpPr/>
          <p:nvPr/>
        </p:nvSpPr>
        <p:spPr>
          <a:xfrm>
            <a:off x="309960" y="1681200"/>
            <a:ext cx="700812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éation du Thread Lock (CmtNewLock)</a:t>
            </a:r>
            <a:endParaRPr b="0" lang="en-US" sz="2800" spc="-1" strike="noStrike">
              <a:solidFill>
                <a:srgbClr val="000000"/>
              </a:solidFill>
              <a:latin typeface="Times New Roman"/>
            </a:endParaRPr>
          </a:p>
        </p:txBody>
      </p:sp>
      <p:sp>
        <p:nvSpPr>
          <p:cNvPr id="278" name=""/>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chaque thread accédant aux ressources :</a:t>
            </a:r>
            <a:endParaRPr b="0" lang="en-US" sz="2800" spc="-1" strike="noStrike">
              <a:solidFill>
                <a:srgbClr val="000000"/>
              </a:solidFill>
              <a:latin typeface="Times New Roman"/>
            </a:endParaRPr>
          </a:p>
        </p:txBody>
      </p:sp>
      <p:sp>
        <p:nvSpPr>
          <p:cNvPr id="279" name=""/>
          <p:cNvSpPr/>
          <p:nvPr/>
        </p:nvSpPr>
        <p:spPr>
          <a:xfrm>
            <a:off x="1066680" y="25909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ande d’acquisition du Thread Lock</a:t>
            </a:r>
            <a:endParaRPr b="0" lang="en-US" sz="2400" spc="-1" strike="noStrike">
              <a:solidFill>
                <a:srgbClr val="000000"/>
              </a:solidFill>
              <a:latin typeface="Times New Roman"/>
            </a:endParaRPr>
          </a:p>
        </p:txBody>
      </p:sp>
      <p:sp>
        <p:nvSpPr>
          <p:cNvPr id="280" name=""/>
          <p:cNvSpPr/>
          <p:nvPr/>
        </p:nvSpPr>
        <p:spPr>
          <a:xfrm>
            <a:off x="1066680" y="30481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ès aux ressources partagées</a:t>
            </a:r>
            <a:endParaRPr b="0" lang="en-US" sz="2400" spc="-1" strike="noStrike">
              <a:solidFill>
                <a:srgbClr val="000000"/>
              </a:solidFill>
              <a:latin typeface="Times New Roman"/>
            </a:endParaRPr>
          </a:p>
        </p:txBody>
      </p:sp>
      <p:sp>
        <p:nvSpPr>
          <p:cNvPr id="281" name=""/>
          <p:cNvSpPr/>
          <p:nvPr/>
        </p:nvSpPr>
        <p:spPr>
          <a:xfrm>
            <a:off x="1066680" y="35053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bération du Thread Lock</a:t>
            </a:r>
            <a:endParaRPr b="0" lang="en-US" sz="2400" spc="-1" strike="noStrike">
              <a:solidFill>
                <a:srgbClr val="000000"/>
              </a:solidFill>
              <a:latin typeface="Times New Roman"/>
            </a:endParaRPr>
          </a:p>
        </p:txBody>
      </p:sp>
      <p:pic>
        <p:nvPicPr>
          <p:cNvPr id="282" name="ni%20cvi%20blue" descr=""/>
          <p:cNvPicPr/>
          <p:nvPr/>
        </p:nvPicPr>
        <p:blipFill>
          <a:blip r:embed="rId1"/>
          <a:srcRect l="0" t="0" r="83342" b="3922"/>
          <a:stretch/>
        </p:blipFill>
        <p:spPr>
          <a:xfrm>
            <a:off x="7697880" y="0"/>
            <a:ext cx="1442880" cy="1500120"/>
          </a:xfrm>
          <a:prstGeom prst="rect">
            <a:avLst/>
          </a:prstGeom>
          <a:ln w="0">
            <a:noFill/>
          </a:ln>
        </p:spPr>
      </p:pic>
      <p:sp>
        <p:nvSpPr>
          <p:cNvPr id="283" name=""/>
          <p:cNvSpPr/>
          <p:nvPr/>
        </p:nvSpPr>
        <p:spPr>
          <a:xfrm>
            <a:off x="304920" y="405288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ression du Thread Lock (CmtDiscardLo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285" name=""/>
          <p:cNvSpPr/>
          <p:nvPr/>
        </p:nvSpPr>
        <p:spPr>
          <a:xfrm>
            <a:off x="76320" y="2909880"/>
            <a:ext cx="70102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 les données et le verrou</a:t>
            </a:r>
            <a:endParaRPr b="0" lang="en-US" sz="2800" spc="-1" strike="noStrike">
              <a:solidFill>
                <a:srgbClr val="000000"/>
              </a:solidFill>
              <a:latin typeface="Times New Roman"/>
            </a:endParaRPr>
          </a:p>
        </p:txBody>
      </p:sp>
      <p:sp>
        <p:nvSpPr>
          <p:cNvPr id="286" name=""/>
          <p:cNvSpPr/>
          <p:nvPr/>
        </p:nvSpPr>
        <p:spPr>
          <a:xfrm>
            <a:off x="76320" y="1828800"/>
            <a:ext cx="9099360" cy="94716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re la protection d’une variable accessible par plusieurs threads</a:t>
            </a:r>
            <a:endParaRPr b="0" lang="en-US" sz="2800" spc="-1" strike="noStrike">
              <a:solidFill>
                <a:srgbClr val="000000"/>
              </a:solidFill>
              <a:latin typeface="Times New Roman"/>
            </a:endParaRPr>
          </a:p>
        </p:txBody>
      </p:sp>
      <p:sp>
        <p:nvSpPr>
          <p:cNvPr id="287" name=""/>
          <p:cNvSpPr/>
          <p:nvPr/>
        </p:nvSpPr>
        <p:spPr>
          <a:xfrm>
            <a:off x="76320" y="4113360"/>
            <a:ext cx="8762760" cy="137376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ensemble de macros définies dans “utility.h” permet de générer automatiquement un jeu de fonctions spécifiques à la variable à protéger</a:t>
            </a:r>
            <a:endParaRPr b="0" lang="en-US" sz="2800" spc="-1" strike="noStrike">
              <a:solidFill>
                <a:srgbClr val="000000"/>
              </a:solidFill>
              <a:latin typeface="Times New Roman"/>
            </a:endParaRPr>
          </a:p>
        </p:txBody>
      </p:sp>
      <p:sp>
        <p:nvSpPr>
          <p:cNvPr id="288" name=""/>
          <p:cNvSpPr/>
          <p:nvPr/>
        </p:nvSpPr>
        <p:spPr>
          <a:xfrm>
            <a:off x="76320" y="3519360"/>
            <a:ext cx="86248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s simple et plus sûr qu’un Thread Lock</a:t>
            </a:r>
            <a:endParaRPr b="0" lang="en-US" sz="2800" spc="-1" strike="noStrike">
              <a:solidFill>
                <a:srgbClr val="000000"/>
              </a:solidFill>
              <a:latin typeface="Times New Roman"/>
            </a:endParaRPr>
          </a:p>
        </p:txBody>
      </p:sp>
      <p:pic>
        <p:nvPicPr>
          <p:cNvPr id="289"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291" name=""/>
          <p:cNvSpPr/>
          <p:nvPr/>
        </p:nvSpPr>
        <p:spPr>
          <a:xfrm>
            <a:off x="311760" y="1681200"/>
            <a:ext cx="694116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type, VarName)</a:t>
            </a:r>
            <a:endParaRPr b="0" lang="en-US" sz="2800" spc="-1" strike="noStrike">
              <a:solidFill>
                <a:srgbClr val="000000"/>
              </a:solidFill>
              <a:latin typeface="Times New Roman"/>
            </a:endParaRPr>
          </a:p>
        </p:txBody>
      </p:sp>
      <p:sp>
        <p:nvSpPr>
          <p:cNvPr id="292" name=""/>
          <p:cNvSpPr/>
          <p:nvPr/>
        </p:nvSpPr>
        <p:spPr>
          <a:xfrm>
            <a:off x="457200" y="2971800"/>
            <a:ext cx="426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InitializeVarName</a:t>
            </a:r>
            <a:endParaRPr b="0" lang="en-US" sz="2400" spc="-1" strike="noStrike">
              <a:solidFill>
                <a:srgbClr val="000000"/>
              </a:solidFill>
              <a:latin typeface="Times New Roman"/>
            </a:endParaRPr>
          </a:p>
        </p:txBody>
      </p:sp>
      <p:sp>
        <p:nvSpPr>
          <p:cNvPr id="293"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294" name=""/>
          <p:cNvSpPr/>
          <p:nvPr/>
        </p:nvSpPr>
        <p:spPr>
          <a:xfrm>
            <a:off x="4572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295"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296" name=""/>
          <p:cNvSpPr/>
          <p:nvPr/>
        </p:nvSpPr>
        <p:spPr>
          <a:xfrm>
            <a:off x="4572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297"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298"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00" name=""/>
          <p:cNvSpPr/>
          <p:nvPr/>
        </p:nvSpPr>
        <p:spPr>
          <a:xfrm>
            <a:off x="312120" y="1681200"/>
            <a:ext cx="612756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a:t>
            </a:r>
            <a:r>
              <a:rPr b="1" lang="en-US" sz="2800" spc="-1" strike="noStrike">
                <a:solidFill>
                  <a:srgbClr val="ffff00"/>
                </a:solidFill>
                <a:latin typeface="Arial"/>
              </a:rPr>
              <a:t>int</a:t>
            </a:r>
            <a:r>
              <a:rPr b="1" lang="en-US" sz="2800" spc="-1" strike="noStrike">
                <a:solidFill>
                  <a:srgbClr val="ffffff"/>
                </a:solidFill>
                <a:latin typeface="Arial"/>
              </a:rPr>
              <a:t>, </a:t>
            </a:r>
            <a:r>
              <a:rPr b="1" lang="en-US" sz="2800" spc="-1" strike="noStrike">
                <a:solidFill>
                  <a:srgbClr val="ffff00"/>
                </a:solidFill>
                <a:latin typeface="Arial"/>
              </a:rPr>
              <a:t>Count</a:t>
            </a: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01" name=""/>
          <p:cNvSpPr/>
          <p:nvPr/>
        </p:nvSpPr>
        <p:spPr>
          <a:xfrm>
            <a:off x="457200" y="2971800"/>
            <a:ext cx="426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t</a:t>
            </a:r>
            <a:r>
              <a:rPr b="1" lang="en-US" sz="2400" spc="-1" strike="noStrike">
                <a:solidFill>
                  <a:srgbClr val="ffffff"/>
                </a:solidFill>
                <a:latin typeface="Arial"/>
              </a:rPr>
              <a:t> Initialize</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2"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3" name=""/>
          <p:cNvSpPr/>
          <p:nvPr/>
        </p:nvSpPr>
        <p:spPr>
          <a:xfrm>
            <a:off x="4572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4" name=""/>
          <p:cNvSpPr/>
          <p:nvPr/>
        </p:nvSpPr>
        <p:spPr>
          <a:xfrm>
            <a:off x="4495680" y="3352680"/>
            <a:ext cx="45720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5" name=""/>
          <p:cNvSpPr/>
          <p:nvPr/>
        </p:nvSpPr>
        <p:spPr>
          <a:xfrm>
            <a:off x="4572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6"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pic>
        <p:nvPicPr>
          <p:cNvPr id="307"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09" name=""/>
          <p:cNvSpPr/>
          <p:nvPr/>
        </p:nvSpPr>
        <p:spPr>
          <a:xfrm>
            <a:off x="312480" y="1681200"/>
            <a:ext cx="76726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datatype, VarName)</a:t>
            </a:r>
            <a:endParaRPr b="0" lang="en-US" sz="2800" spc="-1" strike="noStrike">
              <a:solidFill>
                <a:srgbClr val="000000"/>
              </a:solidFill>
              <a:latin typeface="Times New Roman"/>
            </a:endParaRPr>
          </a:p>
        </p:txBody>
      </p:sp>
      <p:sp>
        <p:nvSpPr>
          <p:cNvPr id="310" name=""/>
          <p:cNvSpPr/>
          <p:nvPr/>
        </p:nvSpPr>
        <p:spPr>
          <a:xfrm>
            <a:off x="685800" y="297180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izeVarName</a:t>
            </a:r>
            <a:endParaRPr b="0" lang="en-US" sz="2400" spc="-1" strike="noStrike">
              <a:solidFill>
                <a:srgbClr val="000000"/>
              </a:solidFill>
              <a:latin typeface="Times New Roman"/>
            </a:endParaRPr>
          </a:p>
        </p:txBody>
      </p:sp>
      <p:sp>
        <p:nvSpPr>
          <p:cNvPr id="311"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312" name=""/>
          <p:cNvSpPr/>
          <p:nvPr/>
        </p:nvSpPr>
        <p:spPr>
          <a:xfrm>
            <a:off x="6858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313"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314" name=""/>
          <p:cNvSpPr/>
          <p:nvPr/>
        </p:nvSpPr>
        <p:spPr>
          <a:xfrm>
            <a:off x="6858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315"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31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18" name=""/>
          <p:cNvSpPr/>
          <p:nvPr/>
        </p:nvSpPr>
        <p:spPr>
          <a:xfrm>
            <a:off x="312480" y="1681200"/>
            <a:ext cx="76726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datatype, VarName)</a:t>
            </a:r>
            <a:endParaRPr b="0" lang="en-US" sz="2800" spc="-1" strike="noStrike">
              <a:solidFill>
                <a:srgbClr val="000000"/>
              </a:solidFill>
              <a:latin typeface="Times New Roman"/>
            </a:endParaRPr>
          </a:p>
        </p:txBody>
      </p:sp>
      <p:sp>
        <p:nvSpPr>
          <p:cNvPr id="319" name=""/>
          <p:cNvSpPr/>
          <p:nvPr/>
        </p:nvSpPr>
        <p:spPr>
          <a:xfrm>
            <a:off x="304920" y="2286000"/>
            <a:ext cx="82296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lareThreadSafeVar(datatype, VarName)</a:t>
            </a:r>
            <a:endParaRPr b="0" lang="en-US" sz="2800" spc="-1" strike="noStrike">
              <a:solidFill>
                <a:srgbClr val="000000"/>
              </a:solidFill>
              <a:latin typeface="Times New Roman"/>
            </a:endParaRPr>
          </a:p>
        </p:txBody>
      </p:sp>
      <p:sp>
        <p:nvSpPr>
          <p:cNvPr id="320" name=""/>
          <p:cNvSpPr/>
          <p:nvPr/>
        </p:nvSpPr>
        <p:spPr>
          <a:xfrm>
            <a:off x="685800" y="297180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izeVarName</a:t>
            </a:r>
            <a:endParaRPr b="0" lang="en-US" sz="2400" spc="-1" strike="noStrike">
              <a:solidFill>
                <a:srgbClr val="000000"/>
              </a:solidFill>
              <a:latin typeface="Times New Roman"/>
            </a:endParaRPr>
          </a:p>
        </p:txBody>
      </p:sp>
      <p:sp>
        <p:nvSpPr>
          <p:cNvPr id="321"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322" name=""/>
          <p:cNvSpPr/>
          <p:nvPr/>
        </p:nvSpPr>
        <p:spPr>
          <a:xfrm>
            <a:off x="6858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323"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324" name=""/>
          <p:cNvSpPr/>
          <p:nvPr/>
        </p:nvSpPr>
        <p:spPr>
          <a:xfrm>
            <a:off x="6858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325"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32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es composante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3200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quez droit dans la barre de contrôles (à gauche)</a:t>
            </a:r>
            <a:endParaRPr b="0" lang="en-US" sz="2800" spc="-1" strike="noStrike">
              <a:solidFill>
                <a:srgbClr val="ffffff"/>
              </a:solidFill>
              <a:latin typeface="Arial"/>
            </a:endParaRPr>
          </a:p>
        </p:txBody>
      </p:sp>
      <p:pic>
        <p:nvPicPr>
          <p:cNvPr id="106" name="" descr=""/>
          <p:cNvPicPr/>
          <p:nvPr/>
        </p:nvPicPr>
        <p:blipFill>
          <a:blip r:embed="rId1"/>
          <a:stretch/>
        </p:blipFill>
        <p:spPr>
          <a:xfrm>
            <a:off x="3962520" y="1969920"/>
            <a:ext cx="4952880" cy="357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27" name=""/>
          <p:cNvGrpSpPr/>
          <p:nvPr/>
        </p:nvGrpSpPr>
        <p:grpSpPr>
          <a:xfrm>
            <a:off x="914400" y="2666880"/>
            <a:ext cx="7162920" cy="1905120"/>
            <a:chOff x="914400" y="2666880"/>
            <a:chExt cx="7162920" cy="1905120"/>
          </a:xfrm>
        </p:grpSpPr>
        <p:sp>
          <p:nvSpPr>
            <p:cNvPr id="328" name=""/>
            <p:cNvSpPr/>
            <p:nvPr/>
          </p:nvSpPr>
          <p:spPr>
            <a:xfrm>
              <a:off x="914400" y="2666880"/>
              <a:ext cx="7162920" cy="1905120"/>
            </a:xfrm>
            <a:prstGeom prst="rect">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1066680" y="2743200"/>
              <a:ext cx="26672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 globale</a:t>
              </a:r>
              <a:endParaRPr b="0" lang="en-US" sz="2400" spc="-1" strike="noStrike">
                <a:solidFill>
                  <a:srgbClr val="000000"/>
                </a:solidFill>
                <a:latin typeface="Times New Roman"/>
              </a:endParaRPr>
            </a:p>
          </p:txBody>
        </p:sp>
        <p:sp>
          <p:nvSpPr>
            <p:cNvPr id="330" name=""/>
            <p:cNvSpPr/>
            <p:nvPr/>
          </p:nvSpPr>
          <p:spPr>
            <a:xfrm>
              <a:off x="4495680" y="2743200"/>
              <a:ext cx="35816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 Thread Local</a:t>
              </a:r>
              <a:endParaRPr b="0" lang="en-US" sz="2400" spc="-1" strike="noStrike">
                <a:solidFill>
                  <a:srgbClr val="000000"/>
                </a:solidFill>
                <a:latin typeface="Times New Roman"/>
              </a:endParaRPr>
            </a:p>
          </p:txBody>
        </p:sp>
      </p:grpSp>
      <p:sp>
        <p:nvSpPr>
          <p:cNvPr id="3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ariable Thread Local </a:t>
            </a:r>
            <a:endParaRPr b="1" lang="en-US" sz="3600" spc="-1" strike="noStrike">
              <a:solidFill>
                <a:srgbClr val="ffff66"/>
              </a:solidFill>
              <a:latin typeface="Arial"/>
            </a:endParaRPr>
          </a:p>
        </p:txBody>
      </p:sp>
      <p:sp>
        <p:nvSpPr>
          <p:cNvPr id="332" name=""/>
          <p:cNvSpPr/>
          <p:nvPr/>
        </p:nvSpPr>
        <p:spPr>
          <a:xfrm>
            <a:off x="304920" y="1731960"/>
            <a:ext cx="883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variable adapté à l’exécution d’une même tâche dans plusieurs threads</a:t>
            </a:r>
            <a:endParaRPr b="0" lang="en-US" sz="2800" spc="-1" strike="noStrike">
              <a:solidFill>
                <a:srgbClr val="000000"/>
              </a:solidFill>
              <a:latin typeface="Times New Roman"/>
            </a:endParaRPr>
          </a:p>
        </p:txBody>
      </p:sp>
      <p:grpSp>
        <p:nvGrpSpPr>
          <p:cNvPr id="333" name=""/>
          <p:cNvGrpSpPr/>
          <p:nvPr/>
        </p:nvGrpSpPr>
        <p:grpSpPr>
          <a:xfrm>
            <a:off x="1219320" y="3184560"/>
            <a:ext cx="6781320" cy="703800"/>
            <a:chOff x="1219320" y="3184560"/>
            <a:chExt cx="6781320" cy="703800"/>
          </a:xfrm>
        </p:grpSpPr>
        <p:sp>
          <p:nvSpPr>
            <p:cNvPr id="334" name=""/>
            <p:cNvSpPr/>
            <p:nvPr/>
          </p:nvSpPr>
          <p:spPr>
            <a:xfrm>
              <a:off x="1219320" y="3184560"/>
              <a:ext cx="3200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ble par tout thread</a:t>
              </a:r>
              <a:endParaRPr b="0" lang="en-US" sz="2000" spc="-1" strike="noStrike">
                <a:solidFill>
                  <a:srgbClr val="000000"/>
                </a:solidFill>
                <a:latin typeface="Times New Roman"/>
              </a:endParaRPr>
            </a:p>
          </p:txBody>
        </p:sp>
        <p:sp>
          <p:nvSpPr>
            <p:cNvPr id="335" name=""/>
            <p:cNvSpPr/>
            <p:nvPr/>
          </p:nvSpPr>
          <p:spPr>
            <a:xfrm>
              <a:off x="4800600" y="3184560"/>
              <a:ext cx="3200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ble par tout thread</a:t>
              </a:r>
              <a:endParaRPr b="0" lang="en-US" sz="2000" spc="-1" strike="noStrike">
                <a:solidFill>
                  <a:srgbClr val="000000"/>
                </a:solidFill>
                <a:latin typeface="Times New Roman"/>
              </a:endParaRPr>
            </a:p>
          </p:txBody>
        </p:sp>
      </p:grpSp>
      <p:grpSp>
        <p:nvGrpSpPr>
          <p:cNvPr id="336" name=""/>
          <p:cNvGrpSpPr/>
          <p:nvPr/>
        </p:nvGrpSpPr>
        <p:grpSpPr>
          <a:xfrm>
            <a:off x="1219320" y="3733920"/>
            <a:ext cx="6933600" cy="703800"/>
            <a:chOff x="1219320" y="3733920"/>
            <a:chExt cx="6933600" cy="703800"/>
          </a:xfrm>
        </p:grpSpPr>
        <p:sp>
          <p:nvSpPr>
            <p:cNvPr id="337" name=""/>
            <p:cNvSpPr/>
            <p:nvPr/>
          </p:nvSpPr>
          <p:spPr>
            <a:xfrm>
              <a:off x="1219320" y="3733920"/>
              <a:ext cx="33526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 valeur commune pour tous les threads</a:t>
              </a:r>
              <a:endParaRPr b="0" lang="en-US" sz="2000" spc="-1" strike="noStrike">
                <a:solidFill>
                  <a:srgbClr val="000000"/>
                </a:solidFill>
                <a:latin typeface="Times New Roman"/>
              </a:endParaRPr>
            </a:p>
          </p:txBody>
        </p:sp>
        <p:sp>
          <p:nvSpPr>
            <p:cNvPr id="338" name=""/>
            <p:cNvSpPr/>
            <p:nvPr/>
          </p:nvSpPr>
          <p:spPr>
            <a:xfrm>
              <a:off x="4800600" y="3733920"/>
              <a:ext cx="33523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 valeur distincte pour chaque thread</a:t>
              </a:r>
              <a:endParaRPr b="0" lang="en-US" sz="2000" spc="-1" strike="noStrike">
                <a:solidFill>
                  <a:srgbClr val="000000"/>
                </a:solidFill>
                <a:latin typeface="Times New Roman"/>
              </a:endParaRPr>
            </a:p>
          </p:txBody>
        </p:sp>
      </p:grpSp>
      <p:sp>
        <p:nvSpPr>
          <p:cNvPr id="339" name=""/>
          <p:cNvSpPr/>
          <p:nvPr/>
        </p:nvSpPr>
        <p:spPr>
          <a:xfrm>
            <a:off x="304920" y="4876920"/>
            <a:ext cx="883908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Wingdings 2"/>
                <a:ea typeface="Wingdings 2"/>
              </a:rPr>
              <a:t></a:t>
            </a:r>
            <a:r>
              <a:rPr b="0" i="1" lang="en-US" sz="2400" spc="-1" strike="noStrike">
                <a:solidFill>
                  <a:srgbClr val="ffffff"/>
                </a:solidFill>
                <a:latin typeface="Arial"/>
              </a:rPr>
              <a:t>  </a:t>
            </a:r>
            <a:r>
              <a:rPr b="0" i="1" lang="en-US" sz="2400" spc="-1" strike="noStrike">
                <a:solidFill>
                  <a:srgbClr val="ffffff"/>
                </a:solidFill>
                <a:latin typeface="Arial"/>
              </a:rPr>
              <a:t>Le SDK permet de créer un nombre limité de variables Thread Local dans chaque process. CVI 5.5 n’a pas cette limitation.</a:t>
            </a:r>
            <a:endParaRPr b="0" lang="en-US" sz="2400" spc="-1" strike="noStrike">
              <a:solidFill>
                <a:srgbClr val="000000"/>
              </a:solidFill>
              <a:latin typeface="Times New Roman"/>
            </a:endParaRPr>
          </a:p>
        </p:txBody>
      </p:sp>
      <p:pic>
        <p:nvPicPr>
          <p:cNvPr id="340"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ariable Thread Local </a:t>
            </a:r>
            <a:endParaRPr b="1" lang="en-US" sz="3600" spc="-1" strike="noStrike">
              <a:solidFill>
                <a:srgbClr val="ffff66"/>
              </a:solidFill>
              <a:latin typeface="Arial"/>
            </a:endParaRPr>
          </a:p>
        </p:txBody>
      </p:sp>
      <p:sp>
        <p:nvSpPr>
          <p:cNvPr id="342" name=""/>
          <p:cNvSpPr/>
          <p:nvPr/>
        </p:nvSpPr>
        <p:spPr>
          <a:xfrm>
            <a:off x="307800" y="1768320"/>
            <a:ext cx="762012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ion de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NewThreadLocalVar</a:t>
            </a:r>
            <a:endParaRPr b="0" lang="en-US" sz="2400" spc="-1" strike="noStrike">
              <a:solidFill>
                <a:srgbClr val="000000"/>
              </a:solidFill>
              <a:latin typeface="Times New Roman"/>
            </a:endParaRPr>
          </a:p>
        </p:txBody>
      </p:sp>
      <p:sp>
        <p:nvSpPr>
          <p:cNvPr id="343" name=""/>
          <p:cNvSpPr/>
          <p:nvPr/>
        </p:nvSpPr>
        <p:spPr>
          <a:xfrm>
            <a:off x="304920" y="2743200"/>
            <a:ext cx="762300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tilisation de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GetThreadLocalVar</a:t>
            </a:r>
            <a:endParaRPr b="0" lang="en-US" sz="2400" spc="-1" strike="noStrike">
              <a:solidFill>
                <a:srgbClr val="000000"/>
              </a:solidFill>
              <a:latin typeface="Times New Roman"/>
            </a:endParaRPr>
          </a:p>
        </p:txBody>
      </p:sp>
      <p:sp>
        <p:nvSpPr>
          <p:cNvPr id="344" name=""/>
          <p:cNvSpPr/>
          <p:nvPr/>
        </p:nvSpPr>
        <p:spPr>
          <a:xfrm>
            <a:off x="304920" y="3733920"/>
            <a:ext cx="914400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bération des ressources allouées à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DiscardThreadLocalVar</a:t>
            </a:r>
            <a:endParaRPr b="0" lang="en-US" sz="2400" spc="-1" strike="noStrike">
              <a:solidFill>
                <a:srgbClr val="000000"/>
              </a:solidFill>
              <a:latin typeface="Times New Roman"/>
            </a:endParaRPr>
          </a:p>
        </p:txBody>
      </p:sp>
      <p:sp>
        <p:nvSpPr>
          <p:cNvPr id="345" name=""/>
          <p:cNvSpPr/>
          <p:nvPr/>
        </p:nvSpPr>
        <p:spPr>
          <a:xfrm>
            <a:off x="152280" y="4680000"/>
            <a:ext cx="8991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Wingdings 2"/>
                <a:ea typeface="Wingdings 2"/>
              </a:rPr>
              <a:t></a:t>
            </a:r>
            <a:r>
              <a:rPr b="0" i="1" lang="en-US" sz="2400" spc="-1" strike="noStrike">
                <a:solidFill>
                  <a:srgbClr val="ffffff"/>
                </a:solidFill>
                <a:latin typeface="Arial"/>
              </a:rPr>
              <a:t>  </a:t>
            </a:r>
            <a:r>
              <a:rPr b="0" i="1" lang="en-US" sz="2400" spc="-1" strike="noStrike">
                <a:solidFill>
                  <a:srgbClr val="ffffff"/>
                </a:solidFill>
                <a:latin typeface="Arial"/>
              </a:rPr>
              <a:t>Dans le cas où des données allouées dynamiquement sont stockées dans la variable, CmtNewThreadLocalVar définit une callback appelée par CmtDiscardThreadLocalVar.</a:t>
            </a:r>
            <a:endParaRPr b="0" lang="en-US" sz="2400" spc="-1" strike="noStrike">
              <a:solidFill>
                <a:srgbClr val="000000"/>
              </a:solidFill>
              <a:latin typeface="Times New Roman"/>
            </a:endParaRPr>
          </a:p>
        </p:txBody>
      </p:sp>
      <p:pic>
        <p:nvPicPr>
          <p:cNvPr id="34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mment débuter ?</a:t>
            </a:r>
            <a:endParaRPr b="1" lang="en-US" sz="3600" spc="-1" strike="noStrike">
              <a:solidFill>
                <a:srgbClr val="ffff66"/>
              </a:solidFill>
              <a:latin typeface="Arial"/>
            </a:endParaRPr>
          </a:p>
        </p:txBody>
      </p:sp>
      <p:sp>
        <p:nvSpPr>
          <p:cNvPr id="348" name=""/>
          <p:cNvSpPr/>
          <p:nvPr/>
        </p:nvSpPr>
        <p:spPr>
          <a:xfrm>
            <a:off x="609480" y="2087640"/>
            <a:ext cx="7620120" cy="425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re la présentation NIDays 2000</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cument : CVI Multithreading overview</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thèque Utility/Multithreading</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5888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asurementStudio\cvi\samples\utility\Threading</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9"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1" name="ni%20cvi%20blue" descr=""/>
          <p:cNvPicPr/>
          <p:nvPr/>
        </p:nvPicPr>
        <p:blipFill>
          <a:blip r:embed="rId1"/>
          <a:srcRect l="0" t="0" r="83342" b="3922"/>
          <a:stretch/>
        </p:blipFill>
        <p:spPr>
          <a:xfrm>
            <a:off x="7697880" y="0"/>
            <a:ext cx="1442880" cy="1500120"/>
          </a:xfrm>
          <a:prstGeom prst="rect">
            <a:avLst/>
          </a:prstGeom>
          <a:ln w="0">
            <a:noFill/>
          </a:ln>
        </p:spPr>
      </p:pic>
      <p:graphicFrame>
        <p:nvGraphicFramePr>
          <p:cNvPr id="352" name=""/>
          <p:cNvGraphicFramePr/>
          <p:nvPr/>
        </p:nvGraphicFramePr>
        <p:xfrm>
          <a:off x="838080" y="1781280"/>
          <a:ext cx="6726240" cy="3857400"/>
        </p:xfrm>
        <a:graphic>
          <a:graphicData uri="http://schemas.openxmlformats.org/presentationml/2006/ole">
            <p:oleObj r:id="rId2" spid="">
              <p:embed/>
              <p:pic>
                <p:nvPicPr>
                  <p:cNvPr id="353" name="" descr="">
                    <a:hlinkClick r:id="rId3"/>
                  </p:cNvPr>
                  <p:cNvPicPr/>
                  <p:nvPr/>
                </p:nvPicPr>
                <p:blipFill>
                  <a:blip r:embed="rId4"/>
                  <a:stretch/>
                </p:blipFill>
                <p:spPr>
                  <a:xfrm>
                    <a:off x="838080" y="1781280"/>
                    <a:ext cx="672624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5" name="ni%20cvi%20blue" descr=""/>
          <p:cNvPicPr/>
          <p:nvPr/>
        </p:nvPicPr>
        <p:blipFill>
          <a:blip r:embed="rId1"/>
          <a:srcRect l="0" t="0" r="83342" b="3922"/>
          <a:stretch/>
        </p:blipFill>
        <p:spPr>
          <a:xfrm>
            <a:off x="7697880" y="0"/>
            <a:ext cx="1442880" cy="1500120"/>
          </a:xfrm>
          <a:prstGeom prst="rect">
            <a:avLst/>
          </a:prstGeom>
          <a:ln w="0">
            <a:noFill/>
          </a:ln>
        </p:spPr>
      </p:pic>
      <p:sp>
        <p:nvSpPr>
          <p:cNvPr id="356" name="PlaceHolder 2"/>
          <p:cNvSpPr>
            <a:spLocks noGrp="1"/>
          </p:cNvSpPr>
          <p:nvPr>
            <p:ph/>
          </p:nvPr>
        </p:nvSpPr>
        <p:spPr>
          <a:xfrm>
            <a:off x="685440" y="1981080"/>
            <a:ext cx="800100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 chaque fenêtre, Windows associe un handle</a:t>
            </a:r>
            <a:endParaRPr b="0" lang="en-US" sz="2800" spc="-1" strike="noStrike">
              <a:solidFill>
                <a:srgbClr val="ffffff"/>
              </a:solidFill>
              <a:latin typeface="Arial"/>
            </a:endParaRPr>
          </a:p>
        </p:txBody>
      </p:sp>
      <p:sp>
        <p:nvSpPr>
          <p:cNvPr id="357" name=""/>
          <p:cNvSpPr/>
          <p:nvPr/>
        </p:nvSpPr>
        <p:spPr>
          <a:xfrm>
            <a:off x="685800" y="2971800"/>
            <a:ext cx="8001000" cy="228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 partir de cet handle, différentes fonctions vont permettre de :</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placer la fenêtre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ifier ces dimensions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9" name="ni%20cvi%20blue" descr=""/>
          <p:cNvPicPr/>
          <p:nvPr/>
        </p:nvPicPr>
        <p:blipFill>
          <a:blip r:embed="rId1"/>
          <a:srcRect l="0" t="0" r="83342" b="3922"/>
          <a:stretch/>
        </p:blipFill>
        <p:spPr>
          <a:xfrm>
            <a:off x="7697880" y="0"/>
            <a:ext cx="1442880" cy="1500120"/>
          </a:xfrm>
          <a:prstGeom prst="rect">
            <a:avLst/>
          </a:prstGeom>
          <a:ln w="0">
            <a:noFill/>
          </a:ln>
        </p:spPr>
      </p:pic>
      <p:sp>
        <p:nvSpPr>
          <p:cNvPr id="360" name="PlaceHolder 2"/>
          <p:cNvSpPr>
            <a:spLocks noGrp="1"/>
          </p:cNvSpPr>
          <p:nvPr>
            <p:ph/>
          </p:nvPr>
        </p:nvSpPr>
        <p:spPr>
          <a:xfrm>
            <a:off x="685440" y="1981080"/>
            <a:ext cx="800100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s fonctions seront</a:t>
            </a:r>
            <a:endParaRPr b="0" lang="en-US" sz="2800" spc="-1" strike="noStrike">
              <a:solidFill>
                <a:srgbClr val="ffffff"/>
              </a:solidFill>
              <a:latin typeface="Arial"/>
            </a:endParaRPr>
          </a:p>
        </p:txBody>
      </p:sp>
      <p:sp>
        <p:nvSpPr>
          <p:cNvPr id="361" name=""/>
          <p:cNvSpPr/>
          <p:nvPr/>
        </p:nvSpPr>
        <p:spPr>
          <a:xfrm>
            <a:off x="1295280" y="2743200"/>
            <a:ext cx="800100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écifiques : </a:t>
            </a:r>
            <a:endParaRPr b="0" lang="en-US" sz="2800" spc="-1" strike="noStrike">
              <a:solidFill>
                <a:srgbClr val="000000"/>
              </a:solidFill>
              <a:latin typeface="Times New Roman"/>
            </a:endParaRPr>
          </a:p>
          <a:p>
            <a:pPr lvl="1" marL="932040" indent="-47484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nies par l’application à intégrer dans CVI</a:t>
            </a:r>
            <a:endParaRPr b="0" lang="en-US" sz="2400" spc="-1" strike="noStrike">
              <a:solidFill>
                <a:srgbClr val="000000"/>
              </a:solidFill>
              <a:latin typeface="Times New Roman"/>
            </a:endParaRPr>
          </a:p>
        </p:txBody>
      </p:sp>
      <p:sp>
        <p:nvSpPr>
          <p:cNvPr id="362" name=""/>
          <p:cNvSpPr/>
          <p:nvPr/>
        </p:nvSpPr>
        <p:spPr>
          <a:xfrm>
            <a:off x="1295280" y="4191120"/>
            <a:ext cx="800100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énériques : </a:t>
            </a:r>
            <a:endParaRPr b="0" lang="en-US" sz="2800" spc="-1" strike="noStrike">
              <a:solidFill>
                <a:srgbClr val="000000"/>
              </a:solidFill>
              <a:latin typeface="Times New Roman"/>
            </a:endParaRPr>
          </a:p>
          <a:p>
            <a:pPr lvl="1" marL="932040" indent="-47484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l à des fonctions du SDK de Microso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DK et gestion des fenêtres</a:t>
            </a:r>
            <a:endParaRPr b="1" lang="en-US" sz="3600" spc="-1" strike="noStrike">
              <a:solidFill>
                <a:srgbClr val="ffff66"/>
              </a:solidFill>
              <a:latin typeface="Arial"/>
            </a:endParaRPr>
          </a:p>
        </p:txBody>
      </p:sp>
      <p:pic>
        <p:nvPicPr>
          <p:cNvPr id="364" name="ni%20cvi%20blue" descr=""/>
          <p:cNvPicPr/>
          <p:nvPr/>
        </p:nvPicPr>
        <p:blipFill>
          <a:blip r:embed="rId1"/>
          <a:srcRect l="0" t="0" r="83342" b="3922"/>
          <a:stretch/>
        </p:blipFill>
        <p:spPr>
          <a:xfrm>
            <a:off x="7697880" y="0"/>
            <a:ext cx="1442880" cy="1500120"/>
          </a:xfrm>
          <a:prstGeom prst="rect">
            <a:avLst/>
          </a:prstGeom>
          <a:ln w="0">
            <a:noFill/>
          </a:ln>
        </p:spPr>
      </p:pic>
      <p:sp>
        <p:nvSpPr>
          <p:cNvPr id="365" name="PlaceHolder 2"/>
          <p:cNvSpPr>
            <a:spLocks noGrp="1"/>
          </p:cNvSpPr>
          <p:nvPr>
            <p:ph/>
          </p:nvPr>
        </p:nvSpPr>
        <p:spPr>
          <a:xfrm>
            <a:off x="685440" y="2819160"/>
            <a:ext cx="3505320" cy="3276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indWindow</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tPar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tWindowLong</a:t>
            </a:r>
            <a:endParaRPr b="0" lang="en-US" sz="2800" spc="-1" strike="noStrike">
              <a:solidFill>
                <a:srgbClr val="ffffff"/>
              </a:solidFill>
              <a:latin typeface="Arial"/>
            </a:endParaRPr>
          </a:p>
        </p:txBody>
      </p:sp>
      <p:sp>
        <p:nvSpPr>
          <p:cNvPr id="366" name=""/>
          <p:cNvSpPr/>
          <p:nvPr/>
        </p:nvSpPr>
        <p:spPr>
          <a:xfrm>
            <a:off x="4800600" y="2819520"/>
            <a:ext cx="3505320" cy="3276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oveWindow</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loseWindow</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troyWindow</a:t>
            </a:r>
            <a:endParaRPr b="0" lang="en-US" sz="2800" spc="-1" strike="noStrike">
              <a:solidFill>
                <a:srgbClr val="000000"/>
              </a:solidFill>
              <a:latin typeface="Times New Roman"/>
            </a:endParaRPr>
          </a:p>
        </p:txBody>
      </p:sp>
      <p:sp>
        <p:nvSpPr>
          <p:cNvPr id="367" name=""/>
          <p:cNvSpPr/>
          <p:nvPr/>
        </p:nvSpPr>
        <p:spPr>
          <a:xfrm>
            <a:off x="685800" y="1905120"/>
            <a:ext cx="723888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clude "window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nclusion</a:t>
            </a:r>
            <a:endParaRPr b="1" lang="en-US" sz="3600" spc="-1" strike="noStrike">
              <a:solidFill>
                <a:srgbClr val="ffff66"/>
              </a:solidFill>
              <a:latin typeface="Arial"/>
            </a:endParaRPr>
          </a:p>
        </p:txBody>
      </p:sp>
      <p:sp>
        <p:nvSpPr>
          <p:cNvPr id="3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asurement Studio propose dans un unique package trois outils de développe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utilisateurs choisissent, en fonction de la tâche à effectuer, le meilleur des outi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llez sur le site ni.com/france/nidays pour retrouver tous les sources présent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es composantes</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4038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sissez les contrôles à inclure</a:t>
            </a:r>
            <a:endParaRPr b="0" lang="en-US" sz="2800" spc="-1" strike="noStrike">
              <a:solidFill>
                <a:srgbClr val="ffffff"/>
              </a:solidFill>
              <a:latin typeface="Arial"/>
            </a:endParaRPr>
          </a:p>
        </p:txBody>
      </p:sp>
      <p:pic>
        <p:nvPicPr>
          <p:cNvPr id="109" name="" descr=""/>
          <p:cNvPicPr/>
          <p:nvPr/>
        </p:nvPicPr>
        <p:blipFill>
          <a:blip r:embed="rId1"/>
          <a:stretch/>
        </p:blipFill>
        <p:spPr>
          <a:xfrm>
            <a:off x="4800600" y="1981080"/>
            <a:ext cx="4114800" cy="365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e l’interface</a:t>
            </a:r>
            <a:endParaRPr b="1" lang="en-US" sz="3600" spc="-1" strike="noStrike">
              <a:solidFill>
                <a:srgbClr val="ffff66"/>
              </a:solidFill>
              <a:latin typeface="Arial"/>
            </a:endParaRPr>
          </a:p>
        </p:txBody>
      </p:sp>
      <p:sp>
        <p:nvSpPr>
          <p:cNvPr id="111" name="PlaceHolder 2"/>
          <p:cNvSpPr>
            <a:spLocks noGrp="1"/>
          </p:cNvSpPr>
          <p:nvPr>
            <p:ph/>
          </p:nvPr>
        </p:nvSpPr>
        <p:spPr>
          <a:xfrm>
            <a:off x="685440" y="1981080"/>
            <a:ext cx="3048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z les objets comme à l’habitude</a:t>
            </a:r>
            <a:endParaRPr b="0" lang="en-US" sz="2800" spc="-1" strike="noStrike">
              <a:solidFill>
                <a:srgbClr val="ffffff"/>
              </a:solidFill>
              <a:latin typeface="Arial"/>
            </a:endParaRPr>
          </a:p>
        </p:txBody>
      </p:sp>
      <p:pic>
        <p:nvPicPr>
          <p:cNvPr id="112" name="" descr=""/>
          <p:cNvPicPr/>
          <p:nvPr/>
        </p:nvPicPr>
        <p:blipFill>
          <a:blip r:embed="rId1"/>
          <a:stretch/>
        </p:blipFill>
        <p:spPr>
          <a:xfrm>
            <a:off x="3886200" y="1981080"/>
            <a:ext cx="5029200" cy="3635640"/>
          </a:xfrm>
          <a:prstGeom prst="rect">
            <a:avLst/>
          </a:prstGeom>
          <a:ln w="0">
            <a:noFill/>
          </a:ln>
        </p:spPr>
      </p:pic>
      <p:pic>
        <p:nvPicPr>
          <p:cNvPr id="113" name="" descr=""/>
          <p:cNvPicPr/>
          <p:nvPr/>
        </p:nvPicPr>
        <p:blipFill>
          <a:blip r:embed="rId2"/>
          <a:stretch/>
        </p:blipFill>
        <p:spPr>
          <a:xfrm>
            <a:off x="1143000" y="3352680"/>
            <a:ext cx="5029200" cy="321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32767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éveloppez le code de façon classique </a:t>
            </a:r>
            <a:endParaRPr b="0" lang="en-US" sz="2800" spc="-1" strike="noStrike">
              <a:solidFill>
                <a:srgbClr val="ffffff"/>
              </a:solidFill>
              <a:latin typeface="Arial"/>
            </a:endParaRPr>
          </a:p>
        </p:txBody>
      </p:sp>
      <p:pic>
        <p:nvPicPr>
          <p:cNvPr id="116" name="" descr=""/>
          <p:cNvPicPr/>
          <p:nvPr/>
        </p:nvPicPr>
        <p:blipFill>
          <a:blip r:embed="rId1"/>
          <a:stretch/>
        </p:blipFill>
        <p:spPr>
          <a:xfrm>
            <a:off x="4038480" y="1981080"/>
            <a:ext cx="4876920" cy="3524400"/>
          </a:xfrm>
          <a:prstGeom prst="rect">
            <a:avLst/>
          </a:prstGeom>
          <a:ln w="0">
            <a:noFill/>
          </a:ln>
        </p:spPr>
      </p:pic>
      <p:pic>
        <p:nvPicPr>
          <p:cNvPr id="117" name="" descr=""/>
          <p:cNvPicPr/>
          <p:nvPr/>
        </p:nvPicPr>
        <p:blipFill>
          <a:blip r:embed="rId2"/>
          <a:stretch/>
        </p:blipFill>
        <p:spPr>
          <a:xfrm>
            <a:off x="1295280" y="3352680"/>
            <a:ext cx="4419720" cy="321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13:04:33Z</dcterms:created>
  <dc:creator>Philippe BAUCOUR</dc:creator>
  <dc:description/>
  <dc:language>en-US</dc:language>
  <cp:lastModifiedBy>Papin Bruno</cp:lastModifiedBy>
  <dcterms:modified xsi:type="dcterms:W3CDTF">2001-01-08T09:54:50Z</dcterms:modified>
  <cp:revision>63</cp:revision>
  <dc:subject/>
  <dc:title>Présentation PowerPoint</dc:title>
</cp:coreProperties>
</file>