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ant toute chose, même si vous pensez ne pas être concerné par la vision, je ne saurais trop vous recommander de poursuivre la lecture de ces quelques pages. En effet, l’expérience prouve que dans la majorité des cas, même ceux qui ne sont pas a priori intéressés par la vision, soit changent d’avis soit en profitent pour mieux appréhender la démarche de National Instruments et les solutions techniques mises en pla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ci dit, nous allons passer ensemble quelques minutes afin de bien comprendre la position de National Instruments sur ce marché, voir ce que l’on peut attendre de la vision en milieu industriel, évaluer les options techniques à prendre en compte ainsi que les orientations stratégiques de NI en ce domain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temps maintenant, non pas de rentrer dans tous les détails mais de mentionner quelques éléments techniques qui permettront de faire le choix de la bonne carte vision ou du moins de poser les bonnes questions. On peut différencier trois classes de points techniques selon que l’on s’intéresse au transfert des images dans le PC, à la prise en charge par la carte d’un certain nombre d’opérations de traitement ou bien encore à la technologie supportée par les bibliothèques de traitement d’im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CI master : c’est la capacité qu’a une carte PC ou PXI d’envoyer dans la mémoire du PC les images sans faire intervenir le processeur. En effet, sans cette capacité, tous les groupes de pixels issus de la carte seront stockés dans le PC à des adresses mémoire qui auront été calculées par le processeur. Une remarque: utiliser un Pentium III comme générateur d’adresses n’est pas vraiment économique et ce, d’autant que pendant qu’il génère des adresses, le processeur ne peut être utilisé pour traiter l’im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catter Gather : c’est la capacité qu’a une carte à envoyer d’elle-même les groupes de pixels dans la mémoire de l’ordinateur même si cette dernière est fractionnée (ce qui est courant sous des OS modernes tels que Mac OS ou Windows). C’est un point très important et il existe des cartes qui nécessitent l’allocation de grand blocs de mémoire (plusieurs Mo) avant d’être utilisées. Bien évidemment, la mémoire ainsi réservée ne peut pas être utilisée par d’autres applic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fixer les idées, une carte supportant le PCI master et le scatter gather transfère des données à 100 Mo par seconde dans le PC. Cela peut paraître beaucoup mais il faut noter que nombre de cartes vision sont amenées à contrôler plus d’une camér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914400" y="7621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émoire sur la carte : ce qui est vrai pour les cartes d’acquisition de données rapides l’est aussi pour les cartes vision. Autrement dit, il n’est pas possible de réserver 100% du bus PCI ou PXI pour le transfert des images dans la mémoire du PC. Il est donc impératif de stocker sur les cartes un certain nombre de pixels jusqu’au moment où les transferts vers la mémoire seront de nouveau autoris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I : Region Of Interest. C’est la possibilité pour une carte de ne transférer qu’une partie de l’image vers la mémoire du PC. S’il y a moins de pixels qui circulent alors c’est plus de temps dégagé pour le traitement de l’im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imation et mise à l’échelle : il peut être utile dans certains cas de laisser la carte vision décimer l’image ou la mettre à l’échelle. Oui il y a sans doute perte de résolution mais si l’application s’en accommode, autant laisser ce traitement à la charge de la carte plutôt que de consommer du temps processe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itement LUT sur carte : la LUT, c’est la table de correspondance qui existe entre la valeur des pixels (8 bits typiquement) et le niveau de gris affiché à l’écran. Il est souvent utile de laisser la carte faire ce traitement afin de libérer le processeur. Ainsi, il est possible de demander à la carte d’effectuer une correspondance logarithmique afin de faire ressortir les différents niveaux de noir ou bien recevoir directement des images sur deux couleurs (N&amp;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version HSL : ce point n’intéresse que les cartes couleur mais l’idée est de laisser la responsabilité de la conversion RGB vers HSL (Hue, Saturation et Luminance) à la carte vision. Une image HSL correspond vraiment à la perception humaine des couleurs ce qui n’est pas le cas des images RGB et ce qui explique leur utilisation courante dans les routines d’analyse d’images couleur. Là aussi le but est de dégager du temps processeur en faisant travailler plus la car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dernier point à propos des conversion HSL : il peut être important de vérifier si la carte est capable de ne transférer qu’une des composantes (H, S ou L) dans la mémoire du PC afin de limiter la taille des transfe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tilisation du MMX dans les routines d’analyse d’images : MMX est une technologie Intel comparable à un processeur DSP à virgule fixe capable de traiter jusqu’à huit entrées 8 bits en parallèle. On comprend dès lors tout l’intérêt qu’il y a à vérifier si les bibliothèques de traitement tirent parti ou non de cette technologie car les tests montrent des gains de vitesse entre 50 et 400%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ici un aperçu rapide de l’offre NI en termes de cartes vision. Plus que les références et les performances, il est important à ce niveau de la présentation de noter que ces cartes couvrent les trois grands types de caméras disponibles : monochrome, couleur et numérique. De plus, notons que ces cartes existent au format PCI ou PXI et bénéficient des caractéristiques techniques que nous venons de mentionner. Enfin, du point de vue logiciel, ces cartes tirent parti de toute l’expérience acquise en GPIB ou en DAQ comme nous allons le voir maintenan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tous ceux qui ont eu l’occasion de mettre en œuvre une carte GPIB ou d’acquisition de données National Instruments, la seule chose à retenir est que la philosophie reste la même. Autrement dit, chaque carte est fournie avec les outils de configuration et de test ce qui en assure une utilisation rapide. De même, ces outils sont uniques pour toutes les cartes. C’est un point très important car dès l’instant où vous savez configurer une carte, vous êtes capable de configurer toutes les autres, quel que soit leur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point de vue de l’utilisation dans une application, nous fournissons deux bibliothèques. La première permet le contrôle de toutes les cartes vision à l’aide d’une API (jeux de fonctions) unique. La seconde fournie toutes les fonctions d’analyse et de traitement des images qu’elles soient couleurs ou N&amp;B. Encore une fois, cette seconde bibliothèque est unique ce qui garanti un investissement minimum en terme de 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reste, il existe une application autonome de prototypage (IMAQ Vision Builder) qui, non contente de permettre l’utilisation de toutes les fonctions d’acquisition et de traitement, permet aussi la génération de code LabVIEW. A partir de là, l’utilisateur qui a validé ses traitements avec IMAQ Vision Builder, peut avec un minimum d’efforts intégrer du code vision dans une application existante. Bien sûr, tous nos utilisateurs ne travaillent pas avec LabVIEW et donc les bibliothèques d’acquisition et de traitement existent aussi pour LabWindows/CVI (programmation C), pour Visual Basic ainsi que pour Visual C++.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t ce que nous avons vu jusqu’alors semble parfait, ceci dit, nous sommes conscients du fait que de l’intention au passage à l’acte il y a un fossé que certains utilisateurs ont du mal à franchi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exemple, en vision, on se rend rapidement compte de l’importance de l’environnement. Ainsi le choix de l’éclairage est-il prépondérant (annulaire, rouge, blanc, flash…). Il en va de même pour l’adaptation du système de prise de vue au site de production (mécanique, bâti…) ainsi que des conditions de prise de vue (poussières, fumées…). De plus, choisir la bonne caméra (le bon capteur) et le bon objectif n’est pas toujours évident et le conseil est ici primordial. Enfin, un peu à l’instar de ce qui se faisait beaucoup il y a quelques années en acquisition de données où l’on nous demandait de « benchmarker » ou de prouver telle ou telle proposition, nous recevons actuellement de la part de nos clients vision beaucoup d’échantillons afin que nous prouvions la faisabilité de telle ou telle 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trement dit, les clients semblent dire « la vision oui, mais pas tout seuls… » et il est donc important de bien expliquer ce que nous avons mis en place pour répondre à ces attentes. En terme d’expertise, un responsable du marché vision pour l’Europe est en place depuis plus d’un an et demi. Il est à même de vous faire bénéficier de toute son expérience et de son point de vue européen afin d’expliquer ce qui a été fait ailleurs pour résoudre des problèmes similaires aux vôtres. Du point de vue des filiales, NI en compte actuellement 32 de par le monde. Cela signifie donc que nous sommes à même de supporter ceux qui travailleraient à l’export ou tout simplement que nous avons les ressources permettant un support local sans contrainte de décalage horaire par exemple. Plus spécifiquement en France, nous avons une équipe d’ingénieurs dédiée à l’expertise et à la faisabilité des applications vision. Cela signifie que sans intermédiaire vous pouvez travailler avec eux à l’évaluation de vos besoins et à la mise en place d’une solu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914400" y="7621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même si dans certains cas, National Instruments peut être maître d’œuvre, NI n’est pas un intégrateur. Pour cela, nous avons depuis 1992 un réseau de partenaires (ils sont plus de 50 actuellement) et une dizaine d’entre eux sont susceptibles de vous accompagner dans vos projets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d’un point de vue financier, il est à noter qu’afin de faciliter l’utilisation des produits NI dans les applications de vision, il existe deux Packs Vision dont les prix permettent de mettre le pied à l’étrier à moindre coût. A l’opposé, afin de faciliter la distribution des applications de vision qui utilisent des produits NI, il est important de noter qu’il n’existe pas de politique de Run Time. En effet, à l’instar de ce qui existe en DAQ ou en GPIB, les utilisateurs ont la possibilité de distribuer librement des applications exécutables utilisant les bibliothèques NI pour peu que du matériel National Instruments soit utilisé (attention aux applications utilisant des caméras 1394).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l’avons vu dans la quatrième diapositive, les applications de guidage et d’inspection font partie du top 50 des types d’applications. De même, on comprend bien que pour lire un code-barre ou mesurer une pièce, il faut soit déplacer la caméra, soit positionner l’objet sous l’objectif. Dans tous les cas, qu’il s’agisse d’aligner des fibres optiques, de repérer des marques sur un circuit imprimé ou d’actionner un bras robotisé, il faudra mettre en œuvre un système de commande d’axes. Il est donc important de noter ici qu’en complément de sa gamme Vision, National Instruments dispose d’une gamme Motion sur laquelle s’applique la même politique. Autrement dit, des modules PCI et PXI sont disponibles, ils sont accompagnés d’un unique outil de configuration et de test et qu’enfin, une API unique permet le développement d’applications avec LabVIEW, LabWindows/CVI, Visual Basic et Visual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tons enfin que des partenariats complémentaires à l’offre de nos partenaires « classiques » sont en cours et que bien sûr le support technique est en place. Dans tous les cas, afin de montrer l’importance de l’association vision et commande d’axes, un séminaire aura lieu au second semestre 2001.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temps de conclure et s’il y avait une seule chose à retenir, se devrait être qu’à l’heure actuelle il est possible de compléter un système de mesure et de contrôle avec des fonctions de vision. Les coûts sont à la baisse et les performances à la hausse et donc, tout semble réuni pour permettre d’ajouter à vos recherches ou à vos systèmes de test une dimension supplémentai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vons mentionné les points techniques les plus importants ce qui devrait vous permettre d’évaluer objectivement l’offre du marché. Plus important encore, que ce soit par les produits ou les ressources mises en place, nous avons montré l’engagement et l’importance du marché Vision pour National Instruments. Vous devriez donc être à même, en observant les lignes de produits complémentaires que nous développons (commande d’axes) et compte tenu des précédents (GPIB, DAQ…), d’évaluer notre volonté de devenir un acteur majeur sur ce marché.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ational Instruments possède une position unique en son genre… En effet, si l’on regarde attentivement les différentes lignes de produits qu’elle propose et donc les marchés qu’elle touche, on se rend compte que sa situation est centra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lieu d’être attachée à un marché particulier, National Instruments s’est fait une spécialité de la réutilisation de son savoir-faire et des technologies sur différents marchés. Ainsi, lorsque nos clients nous ont demandés de produire une solution pour l’acquisition d’images qui soit similaire avec ce que nous avions déjà fait dans l’acquisition de données ou le GPIB, nous possédions pratiquement déjà tous les éléments logiciels et le savoir-faire matériel permettant de fournir une solution résolument orientée PC, facile à configurer et à program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aussi important de noter que la position de National Instruments est aussi en parfaite adéquation avec la situation des utilisateurs. En effet, nombre d’entre eux sont amenés à élaborer des systèmes de mesure et de contrôle qui intègrent non seulement de l’instrumentation classique mais aussi du contrôle via des automates et bien sûr de la vision. En effet, ces dernières années, compte tenu des progrès réalisés tant du point de vue des capteurs que de la puissance des PC et des logiciels, l’utilisation de la vision devient accessible au plus grand nombre car facilement intégrable et programm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qu’il s’agisse de vision ou d’un autre domaine, National Instruments n’est pas limité à un seul marché. C’est un avantage car ses préoccupations et ses réponses correspondent aux attentes des utilisateurs à qui l’on demande de développer dans des temps records des applications toujours plus rapides, plus précises et susceptibles d’intégrer des moyens de test et contrôle en constante év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liste n’est bien sûr pas exhaustive. Ceci dit, elle a pour but de montrer la diversité des applications développées par nos cl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tons que les descriptifs des applications ne parlent pas expressément de vision mais utilisent un vocabulaire « courant » pour décrire des problèmes qu’il y a encore quelques années demandaient le développement d’applications sur mesure, utilisant des matériels très spécifiques et dont les coûts de maintenance pouvait devenir prohibitifs. Nous ne parlons pas ici des coûts de maintenance demandés par une société de service mais bien des coûts engendrés par la démission d’un ou de plusieurs collaborateurs devenus « gourous » vision et qui pour des raisons pécuniaires étaient susceptibles d’aller monnayer ailleurs leurs services et le savoir-faire qu’ils avaient acqu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note aussi que les exemples d’applications cités couvrent un très large spectre d’industries et de contraintes. Par exemple, on trouve des applications de recherche ou de production. Dans ces deux cas, les contraintes sont très différentes. Dans un cas, on peut « avoir du temps » afin d’analyser tel ou tel phénomène nouveau. Dans l’autre cas, le process de fabrication est connu et maîtrisé et les opérations de vision doivent être rapides afin de rechercher des défauts déjà répertori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on trouve dans la liste pratiquement tous les types d’industries ce qui tend à prouver ce que nous disions tout au début de cette présentation : les technologies électroniques actuelles, associées à la puissance des PC permettent d’élaborer des solutions vision dont les coûts sont raisonnables car des standards émergent (PCI, Windows, standards vidéo et liaison aux caméras…) ce qui réduit d’autant le développement de solutions spécifiques (développement de carte vision temps réel au format VME sous un OS exotique).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aller plus loin, il peut être utile de donner quelques chiffres afin de bien fixer les idées et avant tout de définir ce que recouvre le terme « Machine Vision ». En effet, tous ceux qui sont à la recherche d’informations sur la vision le rencontrent sans qu’il soit toujours clairement expliqué. Machine Vision est une expression anglo saxonne difficile à traduire et qui recouvre toutes les applications et tous les matériels mis en œuvre dans des systèmes qui permettent à une machine de « voir ». Pensez typiquement à un testeur de téléphones que l’on équipe de telle sorte qu’il puisse voir et valider les écrans LCD des portables. Pensez aussi que ces applications sont différentes des applications de vision médicales dans lesquelles il n’y a pas de répétitivité (pas de process industriels) et dans lesquelles l’image à l’écran est obligatoire (ce n’est pas toujours le cas dans les applications industriel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étant dit, le marché de la vision européen se porte bien et sa croissance actuelle valide le fait qu’encore une fois les standards permettant de réaliser des solutions performantes à des coûts raisonnables sont là. Pour le reste 60% de marché est représenté par des OEM ce qui laisse quand même 40% du marché aux utilisateurs finaux. Il est à noter aussi que le marché est très morcelé et qu’il n’y a pas de leader incontesté puisque 80% du marché est couvert par des fournisseurs qui, pris séparément, possèdent à chaque fois moins de 5% du marché global. Cela conduit à deux constatations : un, il n’est sans doute pas facile pour les 40% d’utilisateurs finaux de trouver une solution vision puisque le nombre de fournisseurs est très vaste. Deuxièmement, il semble évident que des regroupements vont s’opérer sur ce marché et qu’il est facile de prévoir que seules les sociétés importantes restero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838080" y="9907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chiffres pour finir : la vision chez NI, c’est +132% en 2000 (par rapport à 99) sur une ligne de produits qui n’est pas négligeable puisqu’elle fait partie des dix lignes de produits les plus importantes derrière des lignes telles que FieldPoint, GPIB, Acquisition de données…(l’ordre d’importance des lignes de produit n’est pas respecté). Cela signifie donc clairement que nos investissements en R&amp;D nous permettent de mettre sur le marché les produits et logiciels correspondant aux attentes des utilisateurs (sinon ils ne les utiliseraient pas). Cela signifie donc aussi que NI ne prend pas le marché de la vision à la légère mais qu’au contraire, c’est une véritable stratégie à long terme qui pilote nos actions sur ce marché. Plus important encore, une telle progression devrait laisser à penser que la solution PC ou PXI préconisée par NI correspond aux besoins d’un certain nombre d’utilisateurs finaux qui n’ont pas « simplement » une vision à effectuer mais bien des besoins en vision afin d’étendre les capacités de leurs systèmes d’acquisition et de contrôle actu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Jusqu’à présent, nous avons vu que la vision s’appliquait à bon nombre de situations et que le marché était servi par un nombre important d’acteurs de tailles diverses. Nous nous sommes aussi rendu compte que NI se donnait les moyens de ses ambitions. Ceci dit, il n’empêche qu’à l’heure du choix, l’utilisateur sera amené à prendre ses responsabilités et à faire un choix crucial pour le reste de ses opérations : boîte noire ou système intégré ? Autrement dit, au moment d’intégrer de la vision dans un système de mesure et de contrôle, cela devra-t-il se faire sous forme d’un système autonome indépendant, décorrélé du reste ou bien de manière intégrée afin de tirer parti des options de synchronisation ? En fait, techniquement, des solutions existent et par exemple, la possibilité d’embarquer un système Windows dans une « boîte noire » vision semble intéressante de prime abor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ne sommes-nous pas en train d’observer un phénomène qui s’est déjà produit dans le test et la mesure ? Par exemple, vaut-il mieux connecter un oscilloscope à un PC ou bien mettre un PC dans l’oscilloscope ? Quid alors des systèmes où plusieurs oscilloscopes sont reliés à un PC central et où, pour finir, l’utilisateur se trouve à maintenir un réseau de PC/oscilloscopes ? Quels sont les avantages pour l’utilisateur ? Ne vaut-il pas mieux payer la fonctionnalité de mesure auprès du fournisseur d’oscilloscopes puis utiliser un unique PC afin de centraliser les mesures, les analyser et les afficher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914400" y="76212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poussant le raisonnement plus loin, et à l’heure où le PXI prend l’essor que l’on sait, on peut se demander s’il n’est pas plus rentable de mettre des cartes dans un PC ou un châssis PXI plutôt que dans une boîte noire externe… Le raisonnement qui a cours actuellement en test et mesure est le suivant et peut sans doute être utilisé au moment de faire son choix en vision : je paie la fonctionnalité de l’instrument dont j’ai besoin et, afin d’optimiser mes investissements, je fais le choix d’un instrument sur carte. En effet, j’optimise alors mes dépenses car je ne paie que ce dont j’ai besoin. Par exemple, en test automatisé, je n’ai pas besoin de l’écran du scope ou de telle ou telle fonction d’analyse car c’est le logiciel qui se charge de cela. De plus, une fois intégré dans le PC, la communication avec l’instrument est très rapide et j’ai à ma disposition les options matérielles pour synchroniser différents instruments de mesure. De plus, mes relations avec les différents fournisseurs deviennent plus saines… En effet, avec le fournisseur de scope, je ne parle que de mesure ou de trigger et surtout pas de communication GPIB ni de problèmes avec le système d’exploitation embarqué dans leur matériel. Bref, mon système étant modulaire et intégré, je n’ai a faire à chaque fois qu’à des spécialistes ce qui m’assure un relationnel de qualité. Enfin, dans les cas spécifiques d’extension de systèmes de test et de contrôle existants, le fait de ne pas utiliser une boîte externe me permet de continuer à utiliser les outils logiciels habituels et ne m’oblige pas à repasser par un cycle de formation, essais, échecs, réalisation de l’application. En utilisant un module de vision pour PC, j’étends donc mon système sans remettre en cause mes choix en matière de développement ce qui me permet là aussi d’optimiser mes investiss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tout ceci n’a de sens que si et seulement si le PC et/ou la carte de vision possèdent les caractéristiques techniques nécessaires et c’est ce que nous allons étudier maintenant en commençant par les options de déclenchement et de synchronis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l’avons dit, une partie de la croissance du marché de la vision s’explique tout simplement parce qu’il est possible aujourd’hui d’étendre des systèmes de mesure et de contrôle avec de la vision à des coûts raisonnables. Autrement dit, dans ce type d’application, il est non seulement important de choisir les outils répondant au cahier des charges vision mais aussi de veiller à ce que pour finir une interaction avec le monde extérieur ait lieu : pensez à un système de mesure qui, selon que les pièces respectent ou non les spécifications, les rejette. Il y a au minimum deux types d’interactions. Dans un premier temps, un signal entrant indique à la carte vision qu’il est temps de prendre une image et de l’analyser. Dans un deuxième temps, à la fin du test, le système émet un signal électrique afin de laisser la pièce sur le convoyeur ou l’aiguiller vers une poubel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National Instruments qui vient du monde du test et de la mesure, ces problèmes sont classiques et ont toujours été au cœur de nos considérations. Un exemple ? Le VXI, qui signifie VME eXtension for Instrumentation, n’est rien d’autre que la standardisation de l’utilisation des lignes de fond de panier VME et la réservation d’un certain nombre d’entre elles pour la résolution des problèmes de synchronisation (trigger en étoile, bus dédié…). Un autre exemple pourrait être le bus RTSI (Real Time System Integration) qui se matérialise par un connecteur supplémentaire sur la majorité de nos cartes PC et qui permettait déjà sous DOS l’échange de signaux de synchronisation entre cartes. Un dernier exemple, c’est bien sûr le PXI (CompactPCI eXtension for Instrumentation) qui standardise l’utilisation des lignes du fond de panier CompactPCI et réserve un certain nombre d’entre elles pour l’échange des données et la synchronisation entre modules. Oui, bien sûr, la démarche est tout à fait similaire à ce qui s’est fait en VXI il y a quelques années mais n’oublions pas qu’entre temps, le niveau d’intégration a permis l’utilisation de cartes plus petites et que les coûts ont diminué de façon considé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838080" y="914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conclusion, il faut être convaincu de l’importance des options de synchronisation et qu’à l’heure du choix il faudra s’assurer que le matériel vision sera à même de recevoir et d’émettre des signaux de synchronisation. De même, il faudra vérifier que le logiciel supporte ces options de déclenchement et, par exemple, voir s’il est possible à partir d’une carte de synchroniser plusieurs autres. Un seul conseil: posez des questions à vos fournisse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13844-679A-4BB1-B923-956E2471A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FC0FE-2FF2-425E-BAAF-25ED35165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20252-8193-4AEE-8288-C62720204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981C8-A360-4039-AE1B-3B221B3A7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9E455-B6F9-40A5-B2EB-51BF36AD0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7E4A3-2946-4096-A476-4CE8409D7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D6AD6-442B-4A42-920D-B1D6EA5FE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F507E-7D70-41AC-BA44-EFDDA5E67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C44E9-ED6F-4D6C-8FE8-9A95D42F2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0FB8E-C17F-4652-9620-3207655A5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CE237-B799-40B3-B3B3-2EBD82D77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3EFBC-3CF8-4FBA-8AB0-58742B072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ADE3D-F115-4B57-869B-CDC1139A3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09A8E-3709-4083-BC03-EC43DAB0C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AACE8-C0F2-4391-A5EE-C52426692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3CE6B-F817-46B5-9A10-014C159D9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3B2D1-F0DE-48CC-971A-E5F02A3FC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059B8-3A85-46B3-A78A-888D05030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04FE2-6FED-4110-B997-C2E36E3E4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F9CF4-DBFD-4437-BC4F-574B121D9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962FF-7904-408C-BCF0-5F6410C65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C9C8E-BF5A-49D4-B074-4651ABAFE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26729-EE22-4EFF-B951-FDD528BED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1C43-8345-4A80-9506-11D808216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t;footer&gt;</a:t>
            </a:r>
            <a:endParaRPr b="0" lang="en-US" sz="16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6B0C-9BA9-4D28-8719-A47DA12667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80280" y="6477120"/>
            <a:ext cx="288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vision</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7AD0-F737-47F6-AC92-9D62BB40F9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oint sur les systèmes de vis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ints techniques qui comptent</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CI maste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catter Gathe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moire sur la cart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OI programmabl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cimation et mise à l’échelle sur la cart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itement LUT sur la cart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version HSL sur la cart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upport du MMX dans les bibliothèq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ints techniques qui comptent</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ffre matérielle NI</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nochrome</a:t>
            </a:r>
            <a:endParaRPr b="0" lang="en-US" sz="24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08 </a:t>
            </a:r>
            <a:r>
              <a:rPr b="0" lang="fr-FR" sz="1400" spc="-1" strike="noStrike">
                <a:solidFill>
                  <a:srgbClr val="ffffff"/>
                </a:solidFill>
                <a:latin typeface="Arial"/>
              </a:rPr>
              <a:t>(multivoies, progressive scan)</a:t>
            </a:r>
            <a:endParaRPr b="0" lang="en-US" sz="14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07 </a:t>
            </a:r>
            <a:r>
              <a:rPr b="0" lang="fr-FR" sz="1400" spc="-1" strike="noStrike">
                <a:solidFill>
                  <a:srgbClr val="ffffff"/>
                </a:solidFill>
                <a:latin typeface="Arial"/>
              </a:rPr>
              <a:t>(mono voie)</a:t>
            </a:r>
            <a:endParaRPr b="0" lang="en-US" sz="14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09 </a:t>
            </a:r>
            <a:r>
              <a:rPr b="0" lang="fr-FR" sz="1400" spc="-1" strike="noStrike">
                <a:solidFill>
                  <a:srgbClr val="ffffff"/>
                </a:solidFill>
                <a:latin typeface="Arial"/>
              </a:rPr>
              <a:t>(10 bits)</a:t>
            </a:r>
            <a:endParaRPr b="0" lang="en-US" sz="1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uleur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11</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umériqu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22 16 bit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24 32 bits</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mera Link (Basler, PULNiX, Dals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42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ffre logicielle NI</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est la même philosophie et la même méthode qu’en GPIB ou en DAQ</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 unique outil de configu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e unique API pour toutes les cartes</a:t>
            </a:r>
            <a:endParaRPr b="0" lang="en-US" sz="28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MAQ Vision Builder pour prototyper les applications </a:t>
            </a:r>
            <a:r>
              <a:rPr b="0" lang="fr-FR" sz="2000" spc="-1" strike="noStrike">
                <a:solidFill>
                  <a:srgbClr val="ffffff"/>
                </a:solidFill>
                <a:latin typeface="Arial"/>
              </a:rPr>
              <a:t>(génère le code pour LabVIEW)</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jeux de fonctions pour LabVIEW et C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contrôles ActiveX pour VB et Visual 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olitique et support</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 responsable marché europée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32 filiales dans le mond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 France, une équipe d’ingénieurs pour l’évaluation des appli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 ensemble de partenaires pour l’intég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packs logiciels Vision pour LabVIEW et CVI qui limitent le prix du ticket d’entré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e politique de Run Time agress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litique et support</a:t>
            </a:r>
            <a:endParaRPr b="1" lang="en-US" sz="3600" spc="-1" strike="noStrike">
              <a:solidFill>
                <a:srgbClr val="ffff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commande d’axes</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modules PCI et PXI sont dispon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i toutes les options de synchronisation sont disponib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partenariats sont en cour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support est en place dès mainten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séminaire « Vision et commande d’axes » au second semestre 200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a:t>
            </a:r>
            <a:endParaRPr b="1" lang="en-US" sz="3600" spc="-1" strike="noStrike">
              <a:solidFill>
                <a:srgbClr val="ffff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ui, la vision peut efficacement compléter un système de mesure/contrôle exista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ui, l’offre vision de NI est homogène et cohérente avec les autres gammes de produi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ui, pour la synchronisation il est préférable de mettre un module plutôt qu’une boîte noire extern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on, vous n’êtes pas seul et NI ainsi que ses partenaires peuvent vous accompagn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sitez ni.com/france/vi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60912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position de NI dans ses marchés</a:t>
            </a:r>
            <a:endParaRPr b="1" lang="en-US" sz="3600" spc="-1" strike="noStrike">
              <a:solidFill>
                <a:srgbClr val="ffff66"/>
              </a:solidFill>
              <a:latin typeface="Arial"/>
            </a:endParaRPr>
          </a:p>
        </p:txBody>
      </p:sp>
      <p:sp>
        <p:nvSpPr>
          <p:cNvPr id="96" name=""/>
          <p:cNvSpPr/>
          <p:nvPr/>
        </p:nvSpPr>
        <p:spPr>
          <a:xfrm>
            <a:off x="5181480" y="3886200"/>
            <a:ext cx="2332080" cy="2325600"/>
          </a:xfrm>
          <a:prstGeom prst="ellipse">
            <a:avLst/>
          </a:prstGeom>
          <a:solidFill>
            <a:srgbClr val="acbe26"/>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ure</a:t>
            </a:r>
            <a:endParaRPr b="0" lang="en-US" sz="2400" spc="-1" strike="noStrike">
              <a:solidFill>
                <a:srgbClr val="000000"/>
              </a:solidFill>
              <a:latin typeface="Times New Roman"/>
            </a:endParaRPr>
          </a:p>
        </p:txBody>
      </p:sp>
      <p:sp>
        <p:nvSpPr>
          <p:cNvPr id="97" name=""/>
          <p:cNvSpPr/>
          <p:nvPr/>
        </p:nvSpPr>
        <p:spPr>
          <a:xfrm>
            <a:off x="4952880" y="2019240"/>
            <a:ext cx="1787760" cy="1409760"/>
          </a:xfrm>
          <a:prstGeom prst="ellipse">
            <a:avLst/>
          </a:prstGeom>
          <a:solidFill>
            <a:srgbClr val="cd7fcb"/>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Q</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614520" y="3932280"/>
            <a:ext cx="2738160" cy="2606760"/>
          </a:xfrm>
          <a:prstGeom prst="ellipse">
            <a:avLst/>
          </a:prstGeom>
          <a:solidFill>
            <a:srgbClr val="2b7d39"/>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is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ielle</a:t>
            </a:r>
            <a:endParaRPr b="0" lang="en-US" sz="2400" spc="-1" strike="noStrike">
              <a:solidFill>
                <a:srgbClr val="000000"/>
              </a:solidFill>
              <a:latin typeface="Times New Roman"/>
            </a:endParaRPr>
          </a:p>
        </p:txBody>
      </p:sp>
      <p:sp>
        <p:nvSpPr>
          <p:cNvPr id="99" name=""/>
          <p:cNvSpPr/>
          <p:nvPr/>
        </p:nvSpPr>
        <p:spPr>
          <a:xfrm>
            <a:off x="1469880" y="2333520"/>
            <a:ext cx="1578240" cy="1324080"/>
          </a:xfrm>
          <a:prstGeom prst="ellipse">
            <a:avLst/>
          </a:prstGeom>
          <a:solidFill>
            <a:srgbClr val="808c2a"/>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on</a:t>
            </a:r>
            <a:endParaRPr b="0" lang="en-US" sz="2400" spc="-1" strike="noStrike">
              <a:solidFill>
                <a:srgbClr val="000000"/>
              </a:solidFill>
              <a:latin typeface="Times New Roman"/>
            </a:endParaRPr>
          </a:p>
        </p:txBody>
      </p:sp>
      <p:sp>
        <p:nvSpPr>
          <p:cNvPr id="100" name=""/>
          <p:cNvSpPr/>
          <p:nvPr/>
        </p:nvSpPr>
        <p:spPr>
          <a:xfrm>
            <a:off x="2495520" y="1760400"/>
            <a:ext cx="1347840" cy="982800"/>
          </a:xfrm>
          <a:prstGeom prst="ellipse">
            <a:avLst/>
          </a:prstGeom>
          <a:solidFill>
            <a:srgbClr val="d0eb49"/>
          </a:solidFill>
          <a:ln cap="rnd"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an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xes</a:t>
            </a:r>
            <a:endParaRPr b="0" lang="en-US" sz="1800" spc="-1" strike="noStrike">
              <a:solidFill>
                <a:srgbClr val="000000"/>
              </a:solidFill>
              <a:latin typeface="Times New Roman"/>
            </a:endParaRPr>
          </a:p>
        </p:txBody>
      </p:sp>
      <p:grpSp>
        <p:nvGrpSpPr>
          <p:cNvPr id="101" name=""/>
          <p:cNvGrpSpPr/>
          <p:nvPr/>
        </p:nvGrpSpPr>
        <p:grpSpPr>
          <a:xfrm>
            <a:off x="2025720" y="1980720"/>
            <a:ext cx="4924440" cy="3904200"/>
            <a:chOff x="2025720" y="1980720"/>
            <a:chExt cx="4924440" cy="3904200"/>
          </a:xfrm>
        </p:grpSpPr>
        <p:sp>
          <p:nvSpPr>
            <p:cNvPr id="102" name=""/>
            <p:cNvSpPr/>
            <p:nvPr/>
          </p:nvSpPr>
          <p:spPr>
            <a:xfrm flipH="1">
              <a:off x="2025720" y="3809880"/>
              <a:ext cx="4125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495680" y="5504040"/>
              <a:ext cx="0" cy="3808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6454800" y="3790800"/>
              <a:ext cx="495360" cy="0"/>
            </a:xfrm>
            <a:prstGeom prst="line">
              <a:avLst/>
            </a:prstGeom>
            <a:ln w="7632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4419720" y="1980720"/>
              <a:ext cx="0" cy="38124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2516040" y="2408400"/>
            <a:ext cx="3908520" cy="3071520"/>
          </a:xfrm>
          <a:prstGeom prst="ellipse">
            <a:avLst/>
          </a:prstGeom>
          <a:solidFill>
            <a:srgbClr val="6e2e59">
              <a:alpha val="50000"/>
            </a:srgbClr>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lutio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éfinies par le cli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s d’applications en vision</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tection de défauts sur des fonds de bouteill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ures de dimensions et d’angles sur pièces mécaniqu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Études de ressorts de soupapes sur moteur tournant</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ure de températures sans contact</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ésence et/ou absence de composants électroniqu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érification d’alignement de fibres optiques </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ion qualité de boîtiers GSM</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érification des teintes et couleurs en textile</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nnaissance de caractères et/ou de form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cture de code-barres sur des chéquier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tage de cellules en labo pharmaceutique</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érification de connecteurs électroniques</a:t>
            </a:r>
            <a:endParaRPr b="0" lang="en-US" sz="2000" spc="-1" strike="noStrike">
              <a:solidFill>
                <a:srgbClr val="ffffff"/>
              </a:solidFill>
              <a:latin typeface="Arial"/>
            </a:endParaRPr>
          </a:p>
          <a:p>
            <a:pPr marL="315360" indent="-315360">
              <a:lnSpc>
                <a:spcPct val="9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de lecture sur afficheurs sept segments</a:t>
            </a:r>
            <a:endParaRPr b="0" lang="en-US" sz="2000" spc="-1" strike="noStrike">
              <a:solidFill>
                <a:srgbClr val="ffffff"/>
              </a:solidFill>
              <a:latin typeface="Arial"/>
            </a:endParaRPr>
          </a:p>
        </p:txBody>
      </p:sp>
      <p:pic>
        <p:nvPicPr>
          <p:cNvPr id="109" name="Animation%20Vision" descr=""/>
          <p:cNvPicPr/>
          <p:nvPr/>
        </p:nvPicPr>
        <p:blipFill>
          <a:blip r:embed="rId1"/>
          <a:stretch/>
        </p:blipFill>
        <p:spPr>
          <a:xfrm>
            <a:off x="6629400" y="3733920"/>
            <a:ext cx="2362320" cy="170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marché Vision en Europe</a:t>
            </a:r>
            <a:endParaRPr b="1" lang="en-US" sz="3600" spc="-1" strike="noStrike">
              <a:solidFill>
                <a:srgbClr val="ffff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chine Vision, une définition</a:t>
            </a:r>
            <a:endParaRPr b="0" lang="en-US" sz="2400" spc="-1" strike="noStrike">
              <a:solidFill>
                <a:srgbClr val="ffffff"/>
              </a:solidFill>
              <a:latin typeface="Arial"/>
            </a:endParaRPr>
          </a:p>
          <a:p>
            <a:pPr marL="343080" indent="-343080">
              <a:lnSpc>
                <a:spcPct val="90000"/>
              </a:lnSpc>
              <a:spcBef>
                <a:spcPts val="2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urope 1999 : 575 M$ </a:t>
            </a:r>
            <a:r>
              <a:rPr b="0" lang="fr-FR" sz="1000" spc="-1" strike="noStrike">
                <a:solidFill>
                  <a:srgbClr val="ffffff"/>
                </a:solidFill>
                <a:latin typeface="Arial"/>
              </a:rPr>
              <a:t>(frost.com)</a:t>
            </a:r>
            <a:endParaRPr b="0" lang="en-US" sz="1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urope 2000 : 2 M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60% OEM et 40% utilisateurs finaux</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étrologie 1D et 2D, guidage, inspec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80% des fournisseurs ont moins de 5% du marché</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tomatismes et processus, électronique, automobile, semi-conducteur…</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Vision chez NI c’est +132% par rapport à 99 et fait partie du top 10 des lignes de produi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marché Vision en Europ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Boîte noire ou système intégré ?</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a ne marche pas toujours en test et mesu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a ne marchera pas toujours en 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oîte noire ou système intégré ?</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a synchronisation</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t l’élément primordial des systèmes de test et mes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t le métier de NI (VXI, RTSI, PX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options de synchronisation sont disponibles sur PC et sur PX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synchronisation</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3:04:33Z</dcterms:created>
  <dc:creator>Philippe BAUCOUR</dc:creator>
  <dc:description/>
  <dc:language>en-US</dc:language>
  <cp:lastModifiedBy>NIF Sales</cp:lastModifiedBy>
  <dcterms:modified xsi:type="dcterms:W3CDTF">2001-01-09T10:38:08Z</dcterms:modified>
  <cp:revision>22</cp:revision>
  <dc:subject/>
  <dc:title>Présentation PowerPoint</dc:title>
</cp:coreProperties>
</file>