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7158-0834-470F-9EAB-D31DE41E206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4"/>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ed programs must protect global variables accessed by multiple threads.  Consider a program in which multiple threads increment a count variable such as count = count + 1.   This code is equivalent to the following CPU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 value of count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1 to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rite value to count vari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ultiple threads are executing the increment instructions, and since the system can interrupt the threads at arbitrary points in their execution, you could end up with the following sequence of instructions (assume the value of count is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1:  get value of count variabl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2: get value of count variabl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2: add 1 to value (5+1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2: write value to count variable (count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1: add 1 to value (5+1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1: write value to count variable (count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value of count is 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ultithreaded application, you must protect your global data from access by more than one thread at a time. The Win32 SDK provides multiple synchronization mechanism. The most commonly used synchronization mechanisms are Critical Sections and Mute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Sections and Mutexes exist as operating system objects that can be acquired by user programs. The operating system only allows one thread at a time to acquire each object. If one thread owns the Critical Section or Mutex and a second thread tries to get it, the second thread waits until the first thread releases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Section is the most efficient way to synchronize access arbitrary data. Mutexes are less efficient but provide more features such as: 1) allowing a thread to process Windows messages while it is waiting to acquire the mutex; 2) allowing a thread to atomically wait for more than one mutex at a time; and 3) allowing synchronization between processes as well as between threa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267080"/>
            <a:ext cx="5029200" cy="4648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 &lt;cvirte.h&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 &lt;windows.h&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ITICAL_SECTION 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count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c unsigned int __stdcall IncrementCount (void *thread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main (int argc, char *argv[])</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HANDLE threadHand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 thread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f (InitCVIRTE (0, argv, 0)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turn -1;    /* out of mem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nitializeCriticalSection (&amp;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eadHandle = CreateThread (NULL, 0, IncrementCount, NULL, 0, &amp;thread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crementCount (NULL);</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itForSingleObject (threadHandle, INFIN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leteCriticalSection (&amp;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c unsigned int __stdcall IncrementCount (void *thread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terCriticalSection (&amp;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unt = count +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aveCriticalSection (&amp;countLock);</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ostDeferredCallToThread() to install a callback that is called in another thread.  This can be used to notify another thread when an operation is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GetExitCodeThread() to determine whether another thread has finished execut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weigh the cost of multithreading against the benefits. The overhead of locking functions used to protect data slows down the execution of the program. If you create many threads, the operating system has to switch between those threads periodically. Switching between threads incurs a performance penalty. Finally, the difficulty of doing multithreaded programming must be accounted for in the development schedu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adlock can occur if two threads attempt to acquire the same set of locks in a different order. The onus is on the programmer to make sure that locks are acquired and released in the same order by all threads in the progra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eThread() can cause various problems and should be avoided in all but the most extreme circumstances.  Some of the problems that can result from using Terminate Thread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al Sections owned by the target thread are not re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target thread is executing certain kernel32 functions when it is terminated, the kernel32 state could get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arget thread does not execute DLLMaint() for DLLThreadDetach, so thread-specific resources are not f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red method is to have the target thread periodically check a flag.  The controlling thread sets a flag when it wants the target thread to terminate.  The target thread can then exit gracefully either by returning from the thread function or by calling Exit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528E-4E96-4E9B-9A1B-D61F36EFEC0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65320" y="714240"/>
            <a:ext cx="4527360" cy="3395880"/>
          </a:xfrm>
          <a:prstGeom prst="rect">
            <a:avLst/>
          </a:prstGeom>
          <a:ln w="0">
            <a:noFill/>
          </a:ln>
        </p:spPr>
      </p:sp>
      <p:sp>
        <p:nvSpPr>
          <p:cNvPr id="194"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SuspendThread because it may suspend a thread while the thread is holding on to a lock (mutex, critical section, etc.).  This might  lead to a deadlock situation if another thread needs to acquire the 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a thread suspend itself by calling SuspendThread(GetCurrentThreadId()) or waiting on some synchronization object such as an event, mutex, or critical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in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ToSleep =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condary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ToSle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spendThread(GetCurrentThrea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t the priority of a process or a thread.  The operating system combines the Process Priority Class and Thread Priority to determine how often to give a thread processing time.  The Process Priority Class sets a range of priorities for the threads in a process.  The Thread Priority sets the priority of the threads within that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Multiple executables running at the same time.  For example, you can download a file using ftp while you are editing a document in a word processing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ve Multitasking:  Programs must explicitly give control back to the system periodically so that another program is given a chance to execute.  Windows 3.1 and MacOS are examples of cooperative multitask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mptive Multitasking: System periodically suspends a program to give other programs a chance to execute.  The program does not need to explicitly give control to the system.  Each program is executed for a few milliseconds and then suspended while other programs execute.  Windows 9X, NT, and Solaris are examples of pre-emptive multitask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Multiple threads execute in the same program.  Unlike multitasking, all of the threads have access to the global data in the program.  Multithreaded programs require support from the operating system.  Windows 9X, NT, and Solaris 2 provide support for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rocessor Machines:  Machines with multiple processors increase performance if you have pre-emptive multitasking or multithreading.  Separate programs or threads are run on each CP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1210-53E4-4D69-A41A-233426246A6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65320" y="714240"/>
            <a:ext cx="4527360" cy="3395880"/>
          </a:xfrm>
          <a:prstGeom prst="rect">
            <a:avLst/>
          </a:prstGeom>
          <a:ln w="0">
            <a:noFill/>
          </a:ln>
        </p:spPr>
      </p:sp>
      <p:sp>
        <p:nvSpPr>
          <p:cNvPr id="200"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etPriorityClass() to set the priority class of all threads in a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a process  priority to REALTIME_PRIORITY_CLASS will give the process higher priority than the mouse and keyboard.  This can cause the system to hang because you will not be able to use the mouse or keyboard to stop your program.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2778-5F1F-461B-8129-544850D1985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65320" y="714240"/>
            <a:ext cx="4527360" cy="3395880"/>
          </a:xfrm>
          <a:prstGeom prst="rect">
            <a:avLst/>
          </a:prstGeom>
          <a:ln w="0">
            <a:noFill/>
          </a:ln>
        </p:spPr>
      </p:sp>
      <p:sp>
        <p:nvSpPr>
          <p:cNvPr id="204"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all the function </a:t>
            </a:r>
            <a:r>
              <a:rPr b="0" lang="en-US" sz="1200" spc="-1" strike="noStrike">
                <a:solidFill>
                  <a:srgbClr val="000000"/>
                </a:solidFill>
                <a:latin typeface="Courier New"/>
              </a:rPr>
              <a:t>SetThreadPriority()</a:t>
            </a:r>
            <a:r>
              <a:rPr b="0" lang="en-US" sz="1200" spc="-1" strike="noStrike">
                <a:solidFill>
                  <a:srgbClr val="000000"/>
                </a:solidFill>
                <a:latin typeface="Times New Roman"/>
              </a:rPr>
              <a:t> to specify the priority of a thread of execution within an application. Thread priorities are specified relative to the priority class of the creating process.  The thread priority is relative to that priority cla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F457-1D34-409A-A74F-A3602CB30C9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65320" y="714240"/>
            <a:ext cx="4527360" cy="3395880"/>
          </a:xfrm>
          <a:prstGeom prst="rect">
            <a:avLst/>
          </a:prstGeom>
          <a:ln w="0">
            <a:noFill/>
          </a:ln>
        </p:spPr>
      </p:sp>
      <p:sp>
        <p:nvSpPr>
          <p:cNvPr id="208"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able programs, whether created in CVI or in an external compiler, can safely call CVI libraries from more than on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VI 5.0 development environment does not support the debugging of multithreaded programs.  For that reason, CVI libraries are not yet thread-safe in the CVI environmen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02E9-EEC8-4E25-8507-BFCB1A9B095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65320" y="714240"/>
            <a:ext cx="4527360" cy="3395880"/>
          </a:xfrm>
          <a:prstGeom prst="rect">
            <a:avLst/>
          </a:prstGeom>
          <a:ln w="0">
            <a:noFill/>
          </a:ln>
        </p:spPr>
      </p:sp>
      <p:sp>
        <p:nvSpPr>
          <p:cNvPr id="212"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I 5.5 provides full multithreading support.  You can debug multithreaded programs inside the environment.  You can view each thread of execution in your program. CVI 5.5 also provides multithreading utilities to make multithreaded programming easi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pools allow you to schedule functions for execution in a separate threads.  They handle caching of threads to minimize overhead of creating and destroying th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afe queues abstract passing data between threads.  One thread can read from a queue at the same time that another thread is writing to the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afe variables effectively combine a Critical Section and an arbitrary data type.  You can call a single function to acquire the critical section, set the variable value and release the critical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al variables provide per-thread instances of variables.  The operating system places a limitation on the number of thread local variables available to each process.  CVI’s implementation consolidates the thread local variables, using only one process thread local for all of the thread locals in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ks wrap simplify using a critical section or mutex by providing a consistent API and using the appropriate mechanism when necessary. For example, a Mutex is used if the lock needs to be shared between processes or if threads need to process messages while waiting for the lock.  A critical section is used in other cases because it is more effici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ox represents a separate executable (process). From the user perspective, these two programs run simultaneously. On a multiprocessor machine, these two programs could actually run simultaneous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box represents a single process. Each blue box represents a single thread of execution. From the user perspective, the UI responds to user input at the same time that the program is printing. On multiprocessor machine or a fast machine, the user might not be able to see a degradation of UI responsiveness while a print operation is run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thread is created by the operating system and begins executing the program’s main() function. The main thread calls CreateThread() to create Thread 2. Thread 2 begins executing the Print() function. The operating system destroys Thread 2 when it is finished executing, which is after the Print() function returns. The operating system destroys the main thread after it returns from the executable’s main fun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4956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function </a:t>
            </a:r>
            <a:r>
              <a:rPr b="0" lang="en-US" sz="1200" spc="-1" strike="noStrike">
                <a:solidFill>
                  <a:srgbClr val="000000"/>
                </a:solidFill>
                <a:latin typeface="Courier New"/>
              </a:rPr>
              <a:t>CreateThread()</a:t>
            </a:r>
            <a:r>
              <a:rPr b="0" lang="en-US" sz="1200" spc="-1" strike="noStrike">
                <a:solidFill>
                  <a:srgbClr val="000000"/>
                </a:solidFill>
                <a:latin typeface="Times New Roman"/>
              </a:rPr>
              <a:t> to create a separate thread of execution in your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CreateThread()</a:t>
            </a:r>
            <a:r>
              <a:rPr b="0" lang="en-US" sz="1200" spc="-1" strike="noStrike">
                <a:solidFill>
                  <a:srgbClr val="000000"/>
                </a:solidFill>
                <a:latin typeface="Times New Roman"/>
              </a:rPr>
              <a:t> function takes as one of its arguments (startAddress) a function that serves as the </a:t>
            </a:r>
            <a:r>
              <a:rPr b="0" lang="en-US" sz="1200" spc="-1" strike="noStrike">
                <a:solidFill>
                  <a:srgbClr val="000000"/>
                </a:solidFill>
                <a:latin typeface="Courier New"/>
              </a:rPr>
              <a:t>main()</a:t>
            </a:r>
            <a:r>
              <a:rPr b="0" lang="en-US" sz="1200" spc="-1" strike="noStrike">
                <a:solidFill>
                  <a:srgbClr val="000000"/>
                </a:solidFill>
                <a:latin typeface="Times New Roman"/>
              </a:rPr>
              <a:t> for the spawned thread, and you may pass one void * argument to that function through the params argument. The thread is active until you return from the thread’s start function or call </a:t>
            </a:r>
            <a:r>
              <a:rPr b="0" lang="en-US" sz="1200" spc="-1" strike="noStrike">
                <a:solidFill>
                  <a:srgbClr val="000000"/>
                </a:solidFill>
                <a:latin typeface="Courier New"/>
              </a:rPr>
              <a:t>ExitThrea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reateThread()</a:t>
            </a:r>
            <a:r>
              <a:rPr b="0" lang="en-US" sz="1200" spc="-1" strike="noStrike">
                <a:solidFill>
                  <a:srgbClr val="000000"/>
                </a:solidFill>
                <a:latin typeface="Times New Roman"/>
              </a:rPr>
              <a:t> returns a handle to the newly created program thread, and the thread ID is returned through the last parameter. You also can specify flags for the creation of the thread and its security attributes. All of the parameters are clearly outlined, as with any function, in the SDK on-line help, accessed via InfoVie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pecify the size of the stack that the operating system allocates for the thread.  All local variables (variables declared inside a function without the static qualifier) are allocated on the stack. This means that even if two threads are executing the same function at the same time, they each get their own copy of the function’s local variables. Therefore, the programmer does not have to protect local variables from concurrent access (access from more than one thread at a time). Since global variables and dynamically allocated memory are not on the stack, but rather are in process’s address space, the programmer does have to protect them from concurren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rease the reliability of your data acquisition or control by executing the data acquisition or control in one thread while the UI executes in another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ecute lengthy operations in a spawned thread so that the main application thread can always respond to UI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mplement an algorithm so that different pieces of the algorithm are executed in separate threads.  If an algorithm implemented in such a manner is executed on a machine with multiple processors, the algorithm will execute faster than a traditional single threaded implementation of the algorithm.   A classic example of this is a compiler that is implemented in such a way that the preprocessor runs in one thread and another thread does the actual comp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ometimes easier to implement a program when independent pieces of the program are run in separate threads.  For example, a TCP server application that responds to multiple clients is easier to write if each client is handled by a separate thread in the server applic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5" name="NIdays99Noeagle" descr=""/>
          <p:cNvPicPr/>
          <p:nvPr/>
        </p:nvPicPr>
        <p:blipFill>
          <a:blip r:embed="rId3"/>
          <a:stretch/>
        </p:blipFill>
        <p:spPr>
          <a:xfrm>
            <a:off x="7442280" y="6151680"/>
            <a:ext cx="1549440" cy="58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days99" descr=""/>
          <p:cNvPicPr/>
          <p:nvPr/>
        </p:nvPicPr>
        <p:blipFill>
          <a:blip r:embed="rId4"/>
          <a:stretch/>
        </p:blipFill>
        <p:spPr>
          <a:xfrm>
            <a:off x="76320" y="228600"/>
            <a:ext cx="4039920" cy="10810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Programming in LabWindows/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ng Data I</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 count + 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value of cou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1 to valu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value of cou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threads can perform same increment leaving count with wrong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ng Data II</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starts at 5</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on of two thread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1: get value of count  (5)</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2: get value of count  (5)</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2: add 1 to value (5+1 = 6)</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2: set value of count (count = 6)</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1: add 1 to value (5+1 = 6)</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1: set value of count (count = 6)</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should be 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itical Sections and Mutexes</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thread can acquire the object at a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er must put in calls to acquire the object before accessing the shared re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Sections are more effici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texes provide more function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35" name="finalbody2no%20logo"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ode Snippet: Using a Critical Section</a:t>
            </a:r>
            <a:endParaRPr b="1" lang="en-US" sz="4400" spc="-1" strike="noStrike">
              <a:solidFill>
                <a:srgbClr val="ffff66"/>
              </a:solidFill>
              <a:latin typeface="Arial"/>
            </a:endParaRPr>
          </a:p>
        </p:txBody>
      </p:sp>
      <p:sp>
        <p:nvSpPr>
          <p:cNvPr id="137"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138" name="NIdays99Noeagle" descr=""/>
          <p:cNvPicPr/>
          <p:nvPr/>
        </p:nvPicPr>
        <p:blipFill>
          <a:blip r:embed="rId2"/>
          <a:stretch/>
        </p:blipFill>
        <p:spPr>
          <a:xfrm>
            <a:off x="7442280" y="6151680"/>
            <a:ext cx="1549440" cy="58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tting Thread Results</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DeferredCallToThr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ExitCodeThr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sts of Multithreading</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head of thread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of programm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 benefit against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adlock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waiting for each oth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ave the checkbook, waiting for p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he pen, waiting for checkboo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acquire locks in consistent ord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 get pen before getting checkboo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opping a Thread</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use TerminateThr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thread must periodically check termination fla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ing thread sets termination fla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2120"/>
            <a:ext cx="7772400" cy="60624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uspending Threads</a:t>
            </a:r>
            <a:endParaRPr b="1" lang="en-US" sz="3600" spc="-1" strike="noStrike">
              <a:solidFill>
                <a:srgbClr val="ffff66"/>
              </a:solidFill>
              <a:latin typeface="Arial"/>
            </a:endParaRPr>
          </a:p>
        </p:txBody>
      </p:sp>
      <p:sp>
        <p:nvSpPr>
          <p:cNvPr id="148" name="PlaceHolder 2"/>
          <p:cNvSpPr>
            <a:spLocks noGrp="1"/>
          </p:cNvSpPr>
          <p:nvPr>
            <p:ph/>
          </p:nvPr>
        </p:nvSpPr>
        <p:spPr>
          <a:xfrm>
            <a:off x="642600" y="1676160"/>
            <a:ext cx="7721640" cy="42670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90000"/>
              </a:lnSpc>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Do not use SuspendThread() to suspend another thread</a:t>
            </a:r>
            <a:endParaRPr b="0" lang="en-US" sz="2800" spc="-1" strike="noStrike">
              <a:solidFill>
                <a:srgbClr val="ffffff"/>
              </a:solidFill>
              <a:latin typeface="Arial"/>
            </a:endParaRPr>
          </a:p>
          <a:p>
            <a:pPr lvl="1" marL="574560" indent="-231480">
              <a:lnSpc>
                <a:spcPct val="9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Can lead to deadlock (program hangs)</a:t>
            </a:r>
            <a:endParaRPr b="0" lang="en-US" sz="2400" spc="-1" strike="noStrike">
              <a:solidFill>
                <a:srgbClr val="ffffff"/>
              </a:solidFill>
              <a:latin typeface="Arial"/>
            </a:endParaRPr>
          </a:p>
          <a:p>
            <a:pPr marL="228600" indent="-228600">
              <a:lnSpc>
                <a:spcPct val="90000"/>
              </a:lnSpc>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Set a flag and check flag in thread</a:t>
            </a:r>
            <a:endParaRPr b="0" lang="en-US" sz="28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000" spc="-1" strike="noStrike">
                <a:solidFill>
                  <a:srgbClr val="ffffff"/>
                </a:solidFill>
                <a:latin typeface="Arial"/>
              </a:rPr>
              <a:t>// in main thread</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goToSleep = TRUE;</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in secondary thread </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while (…) {</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f (goToSleep)</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uspendThread(GetCurrentThreadId());</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and Thread Prioritie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work in process or thr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iority Cla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priority range for threads in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riority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ment to process prior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ve priority of  threads in proc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Terms</a:t>
            </a:r>
            <a:endParaRPr b="1" lang="en-US" sz="3600" spc="-1" strike="noStrike">
              <a:solidFill>
                <a:srgbClr val="ffff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ask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executables running concurrent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s. non-pre-emptiv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in a single execut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cessor machin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processors (CPUs) in a mach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60660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etting Process Priority Class</a:t>
            </a:r>
            <a:endParaRPr b="1" lang="en-US" sz="3600" spc="-1" strike="noStrike">
              <a:solidFill>
                <a:srgbClr val="ffff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BOOL SetPriorityClass (</a:t>
            </a:r>
            <a:endParaRPr b="0" lang="en-US" sz="2800" spc="-1" strike="noStrike">
              <a:solidFill>
                <a:srgbClr val="ffffff"/>
              </a:solidFill>
              <a:latin typeface="Arial"/>
            </a:endParaRPr>
          </a:p>
          <a:p>
            <a:pPr lvl="2" marL="920880" indent="0">
              <a:spcBef>
                <a:spcPts val="499"/>
              </a:spcBef>
              <a:buNone/>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ANDLE</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hProcess</a:t>
            </a:r>
            <a:r>
              <a:rPr b="0" lang="en-US" sz="2000" spc="-1" strike="noStrike">
                <a:solidFill>
                  <a:srgbClr val="ffffff"/>
                </a:solidFill>
                <a:latin typeface="Arial"/>
              </a:rPr>
              <a:t>, </a:t>
            </a:r>
            <a:endParaRPr b="0" lang="en-US" sz="2000" spc="-1" strike="noStrike">
              <a:solidFill>
                <a:srgbClr val="ffffff"/>
              </a:solidFill>
              <a:latin typeface="Arial"/>
            </a:endParaRPr>
          </a:p>
          <a:p>
            <a:pPr lvl="2" marL="920880" indent="0">
              <a:spcBef>
                <a:spcPts val="499"/>
              </a:spcBef>
              <a:buNone/>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WORD</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priorityClass</a:t>
            </a:r>
            <a:r>
              <a:rPr b="0" lang="en-US" sz="2000" spc="-1" strike="noStrike">
                <a:solidFill>
                  <a:srgbClr val="ffffff"/>
                </a:solidFill>
                <a:latin typeface="Arial"/>
              </a:rPr>
              <a:t>);</a:t>
            </a:r>
            <a:endParaRPr b="0" lang="en-US" sz="20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REALTIME_PRIORITY_CLASS</a:t>
            </a:r>
            <a:endParaRPr b="0" lang="en-US" sz="24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HIGH_PRIORITY_CLASS</a:t>
            </a:r>
            <a:endParaRPr b="0" lang="en-US" sz="24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NORMAL_PRIORITY_CLASS</a:t>
            </a:r>
            <a:endParaRPr b="0" lang="en-US" sz="24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IDLE_PRIORITY_CLASS</a:t>
            </a:r>
            <a:endParaRPr b="0" lang="en-US" sz="24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Beware of Realtime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2120"/>
            <a:ext cx="7772400" cy="60624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etting Thread Priority</a:t>
            </a:r>
            <a:endParaRPr b="1" lang="en-US" sz="3600" spc="-1" strike="noStrike">
              <a:solidFill>
                <a:srgbClr val="ffff66"/>
              </a:solidFill>
              <a:latin typeface="Arial"/>
            </a:endParaRPr>
          </a:p>
        </p:txBody>
      </p:sp>
      <p:sp>
        <p:nvSpPr>
          <p:cNvPr id="154" name="PlaceHolder 2"/>
          <p:cNvSpPr>
            <a:spLocks noGrp="1"/>
          </p:cNvSpPr>
          <p:nvPr>
            <p:ph/>
          </p:nvPr>
        </p:nvSpPr>
        <p:spPr>
          <a:xfrm>
            <a:off x="609120" y="1752480"/>
            <a:ext cx="772164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601"/>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BOOL SetThreadPriority (HANDLE </a:t>
            </a:r>
            <a:r>
              <a:rPr b="0" lang="en-US" sz="2400" spc="-1" strike="noStrike">
                <a:solidFill>
                  <a:srgbClr val="ffffff"/>
                </a:solidFill>
                <a:latin typeface="Arial"/>
              </a:rPr>
              <a:t>	</a:t>
            </a:r>
            <a:r>
              <a:rPr b="0" i="1" lang="en-US" sz="2400" spc="-1" strike="noStrike">
                <a:solidFill>
                  <a:srgbClr val="ffffff"/>
                </a:solidFill>
                <a:latin typeface="Arial"/>
              </a:rPr>
              <a:t>hThread</a:t>
            </a:r>
            <a:r>
              <a:rPr b="0" lang="en-US" sz="2400" spc="-1" strike="noStrike">
                <a:solidFill>
                  <a:srgbClr val="ffffff"/>
                </a:solidFill>
                <a:latin typeface="Arial"/>
              </a:rPr>
              <a:t>,</a:t>
            </a:r>
            <a:endParaRPr b="0" lang="en-US" sz="2400" spc="-1" strike="noStrike">
              <a:solidFill>
                <a:srgbClr val="ffffff"/>
              </a:solidFill>
              <a:latin typeface="Arial"/>
            </a:endParaRPr>
          </a:p>
          <a:p>
            <a:pPr lvl="1" marL="574560" indent="0">
              <a:spcBef>
                <a:spcPts val="6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priority</a:t>
            </a:r>
            <a:r>
              <a:rPr b="0" lang="en-US" sz="2400" spc="-1" strike="noStrike">
                <a:solidFill>
                  <a:srgbClr val="ffffff"/>
                </a:solidFill>
                <a:latin typeface="Arial"/>
              </a:rPr>
              <a:t>);</a:t>
            </a:r>
            <a:endParaRPr b="0" lang="en-US" sz="24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HIGHEST</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ABOVE_NORMAL</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BELOW_NORMAL</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IDLE</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LOWEST</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NORMAL</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TIME_CRITIC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60660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CVI 5.0 Multithreading Support</a:t>
            </a:r>
            <a:endParaRPr b="1" lang="en-US" sz="3600" spc="-1" strike="noStrike">
              <a:solidFill>
                <a:srgbClr val="ffff66"/>
              </a:solidFill>
              <a:latin typeface="Arial"/>
            </a:endParaRPr>
          </a:p>
        </p:txBody>
      </p:sp>
      <p:sp>
        <p:nvSpPr>
          <p:cNvPr id="156" name="PlaceHolder 2"/>
          <p:cNvSpPr>
            <a:spLocks noGrp="1"/>
          </p:cNvSpPr>
          <p:nvPr>
            <p:ph/>
          </p:nvPr>
        </p:nvSpPr>
        <p:spPr>
          <a:xfrm>
            <a:off x="685800" y="1828800"/>
            <a:ext cx="7772400" cy="4038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5.0 runtime libraries are multithreaded saf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environment is not thread-safe.  </a:t>
            </a:r>
            <a:endParaRPr b="0" lang="en-US" sz="28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Do not run multithreaded applications in environment</a:t>
            </a:r>
            <a:endParaRPr b="0" lang="en-US" sz="24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CVI 5.0 standalone applications can use multiple threa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685440"/>
            <a:ext cx="7772400" cy="60660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CVI 5.5 Multithreading Support</a:t>
            </a:r>
            <a:endParaRPr b="1" lang="en-US" sz="3600" spc="-1" strike="noStrike">
              <a:solidFill>
                <a:srgbClr val="ffff66"/>
              </a:solidFill>
              <a:latin typeface="Arial"/>
            </a:endParaRPr>
          </a:p>
        </p:txBody>
      </p:sp>
      <p:sp>
        <p:nvSpPr>
          <p:cNvPr id="158" name="PlaceHolder 2"/>
          <p:cNvSpPr>
            <a:spLocks noGrp="1"/>
          </p:cNvSpPr>
          <p:nvPr>
            <p:ph/>
          </p:nvPr>
        </p:nvSpPr>
        <p:spPr>
          <a:xfrm>
            <a:off x="685800" y="1980720"/>
            <a:ext cx="7772400" cy="40388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5.5 runtime libraries are multithreaded saf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5.5 environment IS multithreaded safe  </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CVI 5.5 provides utilities to simplify threading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I 5.5 Threading Utilities</a:t>
            </a:r>
            <a:endParaRPr b="1" lang="en-US" sz="3600" spc="-1" strike="noStrike">
              <a:solidFill>
                <a:srgbClr val="ffff66"/>
              </a:solidFill>
              <a:latin typeface="Arial"/>
            </a:endParaRPr>
          </a:p>
        </p:txBody>
      </p:sp>
      <p:sp>
        <p:nvSpPr>
          <p:cNvPr id="160"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o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rea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Queu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ing data safely between multiple thread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Variabl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ng dat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al Variabl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 thread values for variable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Section or Mute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asking</a:t>
            </a:r>
            <a:endParaRPr b="1" lang="en-US" sz="3600" spc="-1" strike="noStrike">
              <a:solidFill>
                <a:srgbClr val="ffff66"/>
              </a:solidFill>
              <a:latin typeface="Arial"/>
            </a:endParaRPr>
          </a:p>
        </p:txBody>
      </p:sp>
      <p:sp>
        <p:nvSpPr>
          <p:cNvPr id="95" name=""/>
          <p:cNvSpPr/>
          <p:nvPr/>
        </p:nvSpPr>
        <p:spPr>
          <a:xfrm>
            <a:off x="14479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or</a:t>
            </a:r>
            <a:endParaRPr b="0" lang="en-US" sz="2400" spc="-1" strike="noStrike">
              <a:solidFill>
                <a:srgbClr val="000000"/>
              </a:solidFill>
              <a:latin typeface="Times New Roman"/>
            </a:endParaRPr>
          </a:p>
        </p:txBody>
      </p:sp>
      <p:sp>
        <p:nvSpPr>
          <p:cNvPr id="96" name=""/>
          <p:cNvSpPr/>
          <p:nvPr/>
        </p:nvSpPr>
        <p:spPr>
          <a:xfrm>
            <a:off x="3809880" y="2209680"/>
            <a:ext cx="16765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TP Client</a:t>
            </a:r>
            <a:endParaRPr b="0" lang="en-US" sz="2400" spc="-1" strike="noStrike">
              <a:solidFill>
                <a:srgbClr val="000000"/>
              </a:solidFill>
              <a:latin typeface="Times New Roman"/>
            </a:endParaRPr>
          </a:p>
        </p:txBody>
      </p:sp>
      <p:sp>
        <p:nvSpPr>
          <p:cNvPr id="97"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00" name=""/>
          <p:cNvSpPr/>
          <p:nvPr/>
        </p:nvSpPr>
        <p:spPr>
          <a:xfrm>
            <a:off x="1447920" y="2209680"/>
            <a:ext cx="32763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03" name=""/>
          <p:cNvSpPr/>
          <p:nvPr/>
        </p:nvSpPr>
        <p:spPr>
          <a:xfrm>
            <a:off x="1600200" y="320040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I</a:t>
            </a:r>
            <a:endParaRPr b="0" lang="en-US" sz="2400" spc="-1" strike="noStrike">
              <a:solidFill>
                <a:srgbClr val="000000"/>
              </a:solidFill>
              <a:latin typeface="Times New Roman"/>
            </a:endParaRPr>
          </a:p>
        </p:txBody>
      </p:sp>
      <p:sp>
        <p:nvSpPr>
          <p:cNvPr id="104" name=""/>
          <p:cNvSpPr/>
          <p:nvPr/>
        </p:nvSpPr>
        <p:spPr>
          <a:xfrm>
            <a:off x="3200400" y="3200400"/>
            <a:ext cx="129528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ing</a:t>
            </a:r>
            <a:endParaRPr b="0" lang="en-US" sz="2400" spc="-1" strike="noStrike">
              <a:solidFill>
                <a:srgbClr val="000000"/>
              </a:solidFill>
              <a:latin typeface="Times New Roman"/>
            </a:endParaRPr>
          </a:p>
        </p:txBody>
      </p:sp>
      <p:sp>
        <p:nvSpPr>
          <p:cNvPr id="105" name=""/>
          <p:cNvSpPr/>
          <p:nvPr/>
        </p:nvSpPr>
        <p:spPr>
          <a:xfrm>
            <a:off x="251460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am</a:t>
            </a:r>
            <a:endParaRPr b="0" lang="en-US" sz="2400" spc="-1" strike="noStrike">
              <a:solidFill>
                <a:srgbClr val="000000"/>
              </a:solidFill>
              <a:latin typeface="Times New Roman"/>
            </a:endParaRPr>
          </a:p>
        </p:txBody>
      </p:sp>
      <p:sp>
        <p:nvSpPr>
          <p:cNvPr id="106" name=""/>
          <p:cNvSpPr/>
          <p:nvPr/>
        </p:nvSpPr>
        <p:spPr>
          <a:xfrm>
            <a:off x="1600200" y="4800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107" name=""/>
          <p:cNvSpPr/>
          <p:nvPr/>
        </p:nvSpPr>
        <p:spPr>
          <a:xfrm>
            <a:off x="3124080" y="4800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in C</a:t>
            </a:r>
            <a:endParaRPr b="1" lang="en-US" sz="3600" spc="-1" strike="noStrike">
              <a:solidFill>
                <a:srgbClr val="ffff66"/>
              </a:solidFill>
              <a:latin typeface="Arial"/>
            </a:endParaRPr>
          </a:p>
        </p:txBody>
      </p:sp>
      <p:sp>
        <p:nvSpPr>
          <p:cNvPr id="109" name=""/>
          <p:cNvSpPr/>
          <p:nvPr/>
        </p:nvSpPr>
        <p:spPr>
          <a:xfrm>
            <a:off x="1447920" y="1676520"/>
            <a:ext cx="6248160" cy="4343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2" name=""/>
          <p:cNvSpPr/>
          <p:nvPr/>
        </p:nvSpPr>
        <p:spPr>
          <a:xfrm>
            <a:off x="1981080" y="5410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Thread</a:t>
            </a:r>
            <a:endParaRPr b="0" lang="en-US" sz="2400" spc="-1" strike="noStrike">
              <a:solidFill>
                <a:srgbClr val="000000"/>
              </a:solidFill>
              <a:latin typeface="Times New Roman"/>
            </a:endParaRPr>
          </a:p>
        </p:txBody>
      </p:sp>
      <p:sp>
        <p:nvSpPr>
          <p:cNvPr id="113" name=""/>
          <p:cNvSpPr/>
          <p:nvPr/>
        </p:nvSpPr>
        <p:spPr>
          <a:xfrm>
            <a:off x="55627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
        <p:nvSpPr>
          <p:cNvPr id="114" name=""/>
          <p:cNvSpPr/>
          <p:nvPr/>
        </p:nvSpPr>
        <p:spPr>
          <a:xfrm>
            <a:off x="1828800" y="2286000"/>
            <a:ext cx="243828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 Ma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i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reateThread (Pri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ocessEvent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leanu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ve Main()     </a:t>
            </a:r>
            <a:endParaRPr b="0" lang="en-US" sz="1600" spc="-1" strike="noStrike">
              <a:solidFill>
                <a:srgbClr val="000000"/>
              </a:solidFill>
              <a:latin typeface="Times New Roman"/>
            </a:endParaRPr>
          </a:p>
        </p:txBody>
      </p:sp>
      <p:sp>
        <p:nvSpPr>
          <p:cNvPr id="115" name=""/>
          <p:cNvSpPr/>
          <p:nvPr/>
        </p:nvSpPr>
        <p:spPr>
          <a:xfrm>
            <a:off x="4441680" y="31240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029200" y="3048120"/>
            <a:ext cx="220968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 Pri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itPrint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endToPrint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losePrint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ve Print()  </a:t>
            </a:r>
            <a:endParaRPr b="0" lang="en-US" sz="1600" spc="-1" strike="noStrike">
              <a:solidFill>
                <a:srgbClr val="000000"/>
              </a:solidFill>
              <a:latin typeface="Times New Roman"/>
            </a:endParaRPr>
          </a:p>
        </p:txBody>
      </p:sp>
      <p:sp>
        <p:nvSpPr>
          <p:cNvPr id="117" name=""/>
          <p:cNvSpPr/>
          <p:nvPr/>
        </p:nvSpPr>
        <p:spPr>
          <a:xfrm>
            <a:off x="1676520" y="2133720"/>
            <a:ext cx="2438280" cy="3276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76920" y="3048120"/>
            <a:ext cx="2590560" cy="2361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Threads</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CreateThrea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SECURITY_ATTRIBUTE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Attrs,</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stackSiz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THREAD_START_ROUTINE</a:t>
            </a:r>
            <a:r>
              <a:rPr b="0" lang="en-US" sz="2400" spc="-1" strike="noStrike">
                <a:solidFill>
                  <a:srgbClr val="ffffff"/>
                </a:solidFill>
                <a:latin typeface="Arial"/>
              </a:rPr>
              <a:t>	</a:t>
            </a:r>
            <a:r>
              <a:rPr b="0" i="1" lang="en-US" sz="2400" spc="-1" strike="noStrike">
                <a:solidFill>
                  <a:srgbClr val="ffffff"/>
                </a:solidFill>
                <a:latin typeface="Arial"/>
              </a:rPr>
              <a:t>startAddres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VOI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param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createFlag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DWO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threadId</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Multithreading</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ime critical tasks from being greatly affected by UI</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UI responsive while performing command in backgroun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ting in background</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performance on multiprocessor machin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separation of independent program pa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23" name="finalbody2no%20logo"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Demo: Multithreaded DAQ Application</a:t>
            </a:r>
            <a:endParaRPr b="1" lang="en-US" sz="4400" spc="-1" strike="noStrike">
              <a:solidFill>
                <a:srgbClr val="ffff66"/>
              </a:solidFill>
              <a:latin typeface="Arial"/>
            </a:endParaRPr>
          </a:p>
        </p:txBody>
      </p:sp>
      <p:sp>
        <p:nvSpPr>
          <p:cNvPr id="125"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126" name="NIdays99Noeagle" descr=""/>
          <p:cNvPicPr/>
          <p:nvPr/>
        </p:nvPicPr>
        <p:blipFill>
          <a:blip r:embed="rId2"/>
          <a:stretch/>
        </p:blipFill>
        <p:spPr>
          <a:xfrm>
            <a:off x="7442280" y="6151680"/>
            <a:ext cx="1549440" cy="58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Programming Considerations</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data shared between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ting thread resul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s of multithrea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ping a thr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6T07:01:18Z</dcterms:created>
  <dc:creator>Nigel D'Souza</dc:creator>
  <dc:description/>
  <dc:language>en-US</dc:language>
  <cp:lastModifiedBy>Chris S Matthews</cp:lastModifiedBy>
  <cp:lastPrinted>1999-09-10T17:57:25Z</cp:lastPrinted>
  <dcterms:modified xsi:type="dcterms:W3CDTF">1999-11-29T21:10:33Z</dcterms:modified>
  <cp:revision>26</cp:revision>
  <dc:subject/>
  <dc:title>No Slide Title</dc:title>
</cp:coreProperties>
</file>