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41.wmf" ContentType="image/x-wmf"/>
  <Override PartName="/ppt/media/image38.png" ContentType="image/png"/>
  <Override PartName="/ppt/media/image40.png" ContentType="image/png"/>
  <Override PartName="/ppt/media/image14.png" ContentType="image/png"/>
  <Override PartName="/ppt/media/image39.wmf" ContentType="image/x-wmf"/>
  <Override PartName="/ppt/media/image9.wmf" ContentType="image/x-wmf"/>
  <Override PartName="/ppt/media/image1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7.jpeg" ContentType="image/jpeg"/>
  <Override PartName="/ppt/media/image5.wmf" ContentType="image/x-wmf"/>
  <Override PartName="/ppt/media/image3.jpeg" ContentType="image/jpeg"/>
  <Override PartName="/ppt/media/image37.jpeg" ContentType="image/jpeg"/>
  <Override PartName="/ppt/media/image28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99072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99%20copy" descr=""/>
          <p:cNvPicPr/>
          <p:nvPr/>
        </p:nvPicPr>
        <p:blipFill>
          <a:blip r:embed="rId3"/>
          <a:stretch/>
        </p:blipFill>
        <p:spPr>
          <a:xfrm>
            <a:off x="7162920" y="6248520"/>
            <a:ext cx="18288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1280" y="6248520"/>
              <a:ext cx="18694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ww.natinst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8600" y="216000"/>
            <a:ext cx="3289320" cy="1168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2.wmf"/><Relationship Id="rId4" Type="http://schemas.openxmlformats.org/officeDocument/2006/relationships/image" Target="../media/image28.wmf"/><Relationship Id="rId5" Type="http://schemas.openxmlformats.org/officeDocument/2006/relationships/image" Target="../media/image31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33.wmf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38.png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27.wmf"/><Relationship Id="rId5" Type="http://schemas.openxmlformats.org/officeDocument/2006/relationships/image" Target="../media/image38.png"/><Relationship Id="rId6" Type="http://schemas.openxmlformats.org/officeDocument/2006/relationships/image" Target="../media/image27.wmf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7.wmf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Developments for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and Compact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sten Pu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XI/CompactPC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Marketing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9680" y="632448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 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ystems Alliance Memb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744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epe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E Systems (Marc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TE-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ovative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inetic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C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N Mikro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on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multivendorchassis" descr=""/>
          <p:cNvPicPr/>
          <p:nvPr/>
        </p:nvPicPr>
        <p:blipFill>
          <a:blip r:embed="rId1"/>
          <a:stretch/>
        </p:blipFill>
        <p:spPr>
          <a:xfrm>
            <a:off x="3457440" y="2529000"/>
            <a:ext cx="2560680" cy="1973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0948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qir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Power Desig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Test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phi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a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C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VOO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&amp;T Engineering Tech. Ct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&amp;B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ttWare Researc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de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&amp;H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A 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p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lch Compute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812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on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ckering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X Instrument Te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c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BS Green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anxi HiT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incraft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well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I Te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o Electronics (AP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ginia Panel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r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ek Mi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lar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80880" y="1219320"/>
            <a:ext cx="8382240" cy="4914720"/>
            <a:chOff x="380880" y="1219320"/>
            <a:chExt cx="8382240" cy="4914720"/>
          </a:xfrm>
        </p:grpSpPr>
        <p:pic>
          <p:nvPicPr>
            <p:cNvPr id="373" name="Analogic%20Logo" descr=""/>
            <p:cNvPicPr/>
            <p:nvPr/>
          </p:nvPicPr>
          <p:blipFill>
            <a:blip r:embed="rId2"/>
            <a:stretch/>
          </p:blipFill>
          <p:spPr>
            <a:xfrm>
              <a:off x="2971800" y="5715000"/>
              <a:ext cx="3809880" cy="41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grpSp>
          <p:nvGrpSpPr>
            <p:cNvPr id="374" name=""/>
            <p:cNvGrpSpPr/>
            <p:nvPr/>
          </p:nvGrpSpPr>
          <p:grpSpPr>
            <a:xfrm>
              <a:off x="7010280" y="1295280"/>
              <a:ext cx="1457280" cy="676440"/>
              <a:chOff x="7010280" y="1295280"/>
              <a:chExt cx="1457280" cy="676440"/>
            </a:xfrm>
          </p:grpSpPr>
          <p:sp>
            <p:nvSpPr>
              <p:cNvPr id="375" name=""/>
              <p:cNvSpPr/>
              <p:nvPr/>
            </p:nvSpPr>
            <p:spPr>
              <a:xfrm>
                <a:off x="7086240" y="137160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GTE%20Logo1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1295280"/>
                <a:ext cx="1457280" cy="67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7" name="WelcometoLeCroy" descr=""/>
            <p:cNvPicPr/>
            <p:nvPr/>
          </p:nvPicPr>
          <p:blipFill>
            <a:blip r:embed="rId4"/>
            <a:stretch/>
          </p:blipFill>
          <p:spPr>
            <a:xfrm>
              <a:off x="380880" y="2895480"/>
              <a:ext cx="2660760" cy="747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378" name="racbig" descr=""/>
            <p:cNvPicPr/>
            <p:nvPr/>
          </p:nvPicPr>
          <p:blipFill>
            <a:blip r:embed="rId5"/>
            <a:stretch/>
          </p:blipFill>
          <p:spPr>
            <a:xfrm>
              <a:off x="380880" y="1447920"/>
              <a:ext cx="2743200" cy="714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379" name=""/>
            <p:cNvGrpSpPr/>
            <p:nvPr/>
          </p:nvGrpSpPr>
          <p:grpSpPr>
            <a:xfrm>
              <a:off x="3276720" y="1219320"/>
              <a:ext cx="3123720" cy="739440"/>
              <a:chOff x="3276720" y="1219320"/>
              <a:chExt cx="3123720" cy="739440"/>
            </a:xfrm>
          </p:grpSpPr>
          <p:sp>
            <p:nvSpPr>
              <p:cNvPr id="380" name=""/>
              <p:cNvSpPr/>
              <p:nvPr/>
            </p:nvSpPr>
            <p:spPr>
              <a:xfrm>
                <a:off x="3276720" y="1219320"/>
                <a:ext cx="3123720" cy="73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81" name="genradlogo2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1219320"/>
                <a:ext cx="3041640" cy="70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2" name="dolchlogo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kineticsyslogo" descr=""/>
            <p:cNvPicPr/>
            <p:nvPr/>
          </p:nvPicPr>
          <p:blipFill>
            <a:blip r:embed="rId8"/>
            <a:stretch/>
          </p:blipFill>
          <p:spPr>
            <a:xfrm>
              <a:off x="6781680" y="4114800"/>
              <a:ext cx="1981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marconilogo" descr=""/>
            <p:cNvPicPr/>
            <p:nvPr/>
          </p:nvPicPr>
          <p:blipFill>
            <a:blip r:embed="rId9"/>
            <a:stretch/>
          </p:blipFill>
          <p:spPr>
            <a:xfrm>
              <a:off x="380880" y="4495680"/>
              <a:ext cx="273384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97160" y="2925720"/>
            <a:ext cx="2070000" cy="1549440"/>
          </a:xfrm>
          <a:prstGeom prst="ellipse">
            <a:avLst/>
          </a:prstGeom>
          <a:solidFill>
            <a:srgbClr val="2742b6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6080" y="3386160"/>
            <a:ext cx="153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P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90440" y="1523880"/>
            <a:ext cx="7191720" cy="3994200"/>
          </a:xfrm>
          <a:custGeom>
            <a:avLst/>
            <a:gdLst/>
            <a:ahLst/>
            <a:rect l="l" t="t" r="r" b="b"/>
            <a:pathLst>
              <a:path w="4530" h="2516">
                <a:moveTo>
                  <a:pt x="0" y="0"/>
                </a:moveTo>
                <a:lnTo>
                  <a:pt x="0" y="2515"/>
                </a:lnTo>
                <a:lnTo>
                  <a:pt x="4457" y="2515"/>
                </a:lnTo>
                <a:lnTo>
                  <a:pt x="4529" y="2515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282960" y="2221560"/>
            <a:ext cx="1071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70480" y="5607000"/>
            <a:ext cx="167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30200" y="3922560"/>
            <a:ext cx="194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ktop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05440" y="1498680"/>
            <a:ext cx="1201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283360" y="3494160"/>
            <a:ext cx="3322800" cy="585720"/>
            <a:chOff x="5283360" y="3494160"/>
            <a:chExt cx="3322800" cy="585720"/>
          </a:xfrm>
        </p:grpSpPr>
        <p:sp>
          <p:nvSpPr>
            <p:cNvPr id="393" name=""/>
            <p:cNvSpPr/>
            <p:nvPr/>
          </p:nvSpPr>
          <p:spPr>
            <a:xfrm>
              <a:off x="5738760" y="3494160"/>
              <a:ext cx="2867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ular Instru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 Mainstream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83360" y="3641400"/>
              <a:ext cx="465120" cy="237960"/>
            </a:xfrm>
            <a:prstGeom prst="leftArrow">
              <a:avLst>
                <a:gd name="adj1" fmla="val 50000"/>
                <a:gd name="adj2" fmla="val 977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95280" y="4248000"/>
            <a:ext cx="1339920" cy="1121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511960" y="1644480"/>
            <a:ext cx="1752480" cy="13892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3402000" y="3340080"/>
            <a:ext cx="1635120" cy="692280"/>
            <a:chOff x="3402000" y="3340080"/>
            <a:chExt cx="1635120" cy="69228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3433680" y="3376440"/>
              <a:ext cx="15890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402000" y="3589200"/>
              <a:ext cx="1635120" cy="525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64200" y="3340080"/>
              <a:ext cx="168120" cy="19836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54480" y="3851280"/>
              <a:ext cx="193680" cy="1810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1080" y="3371760"/>
              <a:ext cx="517320" cy="6588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86320" y="3365640"/>
              <a:ext cx="288720" cy="66672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89520" y="3365640"/>
              <a:ext cx="728640" cy="1404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Fills a Gap between PCs and VX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roducts and Technolog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2819520" cy="1379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0000" y="1311120"/>
            <a:ext cx="625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rument Chas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bitrary Waveform Gen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-time acquisition/control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ine PXI Configu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mote PC control of PXI with MXI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XI-7030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19810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047600" y="1486080"/>
            <a:ext cx="1846080" cy="1571760"/>
            <a:chOff x="1047600" y="1486080"/>
            <a:chExt cx="1846080" cy="1571760"/>
          </a:xfrm>
        </p:grpSpPr>
        <p:sp>
          <p:nvSpPr>
            <p:cNvPr id="411" name=""/>
            <p:cNvSpPr/>
            <p:nvPr/>
          </p:nvSpPr>
          <p:spPr>
            <a:xfrm>
              <a:off x="1455480" y="1486080"/>
              <a:ext cx="0" cy="9558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61960" y="1630800"/>
              <a:ext cx="1095120" cy="70776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3080" y="1660680"/>
              <a:ext cx="100080" cy="6368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1172880" y="2175120"/>
              <a:ext cx="126720" cy="3776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5760" y="1714680"/>
              <a:ext cx="11192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XI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93400" y="2472120"/>
              <a:ext cx="170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XI-8150B Se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477120" y="3581280"/>
            <a:ext cx="2152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TERFA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SI+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+ Devic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4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733920" y="1523880"/>
            <a:ext cx="1439280" cy="941400"/>
            <a:chOff x="3733920" y="1523880"/>
            <a:chExt cx="1439280" cy="941400"/>
          </a:xfrm>
        </p:grpSpPr>
        <p:sp>
          <p:nvSpPr>
            <p:cNvPr id="419" name=""/>
            <p:cNvSpPr/>
            <p:nvPr/>
          </p:nvSpPr>
          <p:spPr>
            <a:xfrm>
              <a:off x="4111560" y="1523880"/>
              <a:ext cx="0" cy="9414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17680" y="1666440"/>
              <a:ext cx="1012680" cy="69552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81400" y="1695240"/>
              <a:ext cx="91800" cy="62712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3846240" y="2214360"/>
              <a:ext cx="123840" cy="3488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11560" y="1766520"/>
              <a:ext cx="10360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+ PXI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81280" y="3581280"/>
            <a:ext cx="28195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ATA ACQ. &amp; CONTR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og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er/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3581280"/>
            <a:ext cx="324180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STRU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scillo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Multi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erature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 Multiplex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Data Analy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XI-2 Kits for VXI/V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867280" y="1219320"/>
            <a:ext cx="2362320" cy="1757160"/>
            <a:chOff x="5867280" y="1219320"/>
            <a:chExt cx="2362320" cy="1757160"/>
          </a:xfrm>
        </p:grpSpPr>
        <p:pic>
          <p:nvPicPr>
            <p:cNvPr id="427" name="" descr=""/>
            <p:cNvPicPr/>
            <p:nvPr/>
          </p:nvPicPr>
          <p:blipFill>
            <a:blip r:embed="rId1"/>
            <a:stretch/>
          </p:blipFill>
          <p:spPr>
            <a:xfrm>
              <a:off x="5881680" y="1238400"/>
              <a:ext cx="23302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5872320" y="1228680"/>
              <a:ext cx="2352600" cy="118116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1219320"/>
              <a:ext cx="2362320" cy="1757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715000" y="2971800"/>
            <a:ext cx="237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and 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 PXI/CompactPCI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XIlogo-blackonwhite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914400" cy="37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687920" y="3987720"/>
            <a:ext cx="677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8840" y="3998880"/>
            <a:ext cx="843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492280" y="5315040"/>
            <a:ext cx="1125720" cy="514440"/>
            <a:chOff x="2492280" y="5315040"/>
            <a:chExt cx="1125720" cy="51444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2514600" y="5342040"/>
              <a:ext cx="10936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492280" y="5499720"/>
              <a:ext cx="1125720" cy="39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85920" y="5315040"/>
              <a:ext cx="115560" cy="1468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78720" y="5694840"/>
              <a:ext cx="133920" cy="13464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90640" y="5338440"/>
              <a:ext cx="356760" cy="48924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38920" y="5333400"/>
              <a:ext cx="198360" cy="4953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96920" y="5334120"/>
              <a:ext cx="501840" cy="10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17600" y="2914560"/>
            <a:ext cx="1969920" cy="10652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3046320" cy="266544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3027240" y="2992320"/>
            <a:ext cx="1730520" cy="1343160"/>
            <a:chOff x="3027240" y="2992320"/>
            <a:chExt cx="1730520" cy="1343160"/>
          </a:xfrm>
        </p:grpSpPr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3038400" y="3006720"/>
              <a:ext cx="17067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3030480" y="2998800"/>
              <a:ext cx="1724040" cy="90324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27240" y="2992320"/>
              <a:ext cx="1730520" cy="1343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970680" y="5181480"/>
            <a:ext cx="1204920" cy="5572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400800" y="2743200"/>
            <a:ext cx="2743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VXI or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05240" y="3720960"/>
            <a:ext cx="1470240" cy="695520"/>
          </a:xfrm>
          <a:custGeom>
            <a:avLst/>
            <a:gdLst/>
            <a:ahLst/>
            <a:rect l="l" t="t" r="r" b="b"/>
            <a:pathLst>
              <a:path w="878" h="378">
                <a:moveTo>
                  <a:pt x="0" y="0"/>
                </a:moveTo>
                <a:lnTo>
                  <a:pt x="0" y="378"/>
                </a:lnTo>
                <a:lnTo>
                  <a:pt x="878" y="378"/>
                </a:lnTo>
              </a:path>
            </a:pathLst>
          </a:custGeom>
          <a:noFill/>
          <a:ln w="57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68360" y="3813120"/>
            <a:ext cx="2035080" cy="538200"/>
          </a:xfrm>
          <a:custGeom>
            <a:avLst/>
            <a:gdLst/>
            <a:ahLst/>
            <a:rect l="l" t="t" r="r" b="b"/>
            <a:pathLst>
              <a:path w="961" h="339">
                <a:moveTo>
                  <a:pt x="0" y="0"/>
                </a:moveTo>
                <a:lnTo>
                  <a:pt x="0" y="338"/>
                </a:lnTo>
                <a:lnTo>
                  <a:pt x="960" y="338"/>
                </a:lnTo>
                <a:lnTo>
                  <a:pt x="960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2209680"/>
            <a:ext cx="2898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-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25800" y="2738520"/>
            <a:ext cx="1774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208320" y="4095360"/>
            <a:ext cx="352440" cy="12193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970440" y="4172040"/>
            <a:ext cx="257040" cy="1123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40080" y="582768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3920" y="58276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03480" y="504180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36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667400" y="2438280"/>
            <a:ext cx="990360" cy="852480"/>
            <a:chOff x="4667400" y="2438280"/>
            <a:chExt cx="990360" cy="852480"/>
          </a:xfrm>
        </p:grpSpPr>
        <p:sp>
          <p:nvSpPr>
            <p:cNvPr id="461" name=""/>
            <p:cNvSpPr/>
            <p:nvPr/>
          </p:nvSpPr>
          <p:spPr>
            <a:xfrm>
              <a:off x="4667400" y="2438280"/>
              <a:ext cx="990360" cy="85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2" name="" descr=""/>
            <p:cNvPicPr/>
            <p:nvPr/>
          </p:nvPicPr>
          <p:blipFill>
            <a:blip r:embed="rId7"/>
            <a:srcRect l="0" t="0" r="0" b="14731"/>
            <a:stretch/>
          </p:blipFill>
          <p:spPr>
            <a:xfrm>
              <a:off x="4684320" y="2454480"/>
              <a:ext cx="9504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orks with Other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819520" y="1143000"/>
            <a:ext cx="2153880" cy="2387520"/>
            <a:chOff x="2819520" y="1143000"/>
            <a:chExt cx="2153880" cy="2387520"/>
          </a:xfrm>
        </p:grpSpPr>
        <p:grpSp>
          <p:nvGrpSpPr>
            <p:cNvPr id="465" name=""/>
            <p:cNvGrpSpPr/>
            <p:nvPr/>
          </p:nvGrpSpPr>
          <p:grpSpPr>
            <a:xfrm>
              <a:off x="3657600" y="1143000"/>
              <a:ext cx="1315800" cy="1150560"/>
              <a:chOff x="3657600" y="1143000"/>
              <a:chExt cx="1315800" cy="1150560"/>
            </a:xfrm>
          </p:grpSpPr>
          <p:pic>
            <p:nvPicPr>
              <p:cNvPr id="4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657600" y="1143000"/>
                <a:ext cx="131580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9"/>
              <a:srcRect l="0" t="0" r="33140" b="8738"/>
              <a:stretch/>
            </p:blipFill>
            <p:spPr>
              <a:xfrm>
                <a:off x="4000680" y="1253520"/>
                <a:ext cx="61812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"/>
            <p:cNvSpPr/>
            <p:nvPr/>
          </p:nvSpPr>
          <p:spPr>
            <a:xfrm>
              <a:off x="2819520" y="1905120"/>
              <a:ext cx="990360" cy="1625400"/>
            </a:xfrm>
            <a:custGeom>
              <a:avLst/>
              <a:gdLst/>
              <a:ahLst/>
              <a:rect l="l" t="t" r="r" b="b"/>
              <a:pathLst>
                <a:path w="624" h="1024">
                  <a:moveTo>
                    <a:pt x="624" y="16"/>
                  </a:moveTo>
                  <a:cubicBezTo>
                    <a:pt x="564" y="8"/>
                    <a:pt x="504" y="0"/>
                    <a:pt x="432" y="16"/>
                  </a:cubicBezTo>
                  <a:cubicBezTo>
                    <a:pt x="360" y="32"/>
                    <a:pt x="256" y="72"/>
                    <a:pt x="192" y="112"/>
                  </a:cubicBezTo>
                  <a:cubicBezTo>
                    <a:pt x="128" y="152"/>
                    <a:pt x="72" y="176"/>
                    <a:pt x="48" y="256"/>
                  </a:cubicBezTo>
                  <a:cubicBezTo>
                    <a:pt x="24" y="336"/>
                    <a:pt x="0" y="464"/>
                    <a:pt x="48" y="592"/>
                  </a:cubicBezTo>
                  <a:cubicBezTo>
                    <a:pt x="96" y="720"/>
                    <a:pt x="288" y="952"/>
                    <a:pt x="336" y="102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nfigurator -- Online!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70" name="PXIconfig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694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794480" y="1781640"/>
            <a:ext cx="4150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has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G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ce modules i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view the online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der complete systems on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8880" y="57913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6324480"/>
            <a:ext cx="1905120" cy="38124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mxifam4c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3956040"/>
          </a:xfrm>
          <a:prstGeom prst="rect">
            <a:avLst/>
          </a:prstGeom>
          <a:ln w="0">
            <a:noFill/>
          </a:ln>
        </p:spPr>
      </p:pic>
      <p:pic>
        <p:nvPicPr>
          <p:cNvPr id="475" name="ni%20MXI-3%20white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819520" cy="7412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ultisystem Extension Interface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or PXI/Compact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507480" y="2895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S488 - 8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523880" y="1600200"/>
            <a:ext cx="6237360" cy="1120680"/>
            <a:chOff x="1523880" y="1600200"/>
            <a:chExt cx="6237360" cy="1120680"/>
          </a:xfrm>
        </p:grpSpPr>
        <p:pic>
          <p:nvPicPr>
            <p:cNvPr id="479" name="" descr=""/>
            <p:cNvPicPr/>
            <p:nvPr/>
          </p:nvPicPr>
          <p:blipFill>
            <a:blip r:embed="rId1"/>
            <a:stretch/>
          </p:blipFill>
          <p:spPr>
            <a:xfrm>
              <a:off x="5791320" y="1600200"/>
              <a:ext cx="1969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"/>
            <a:stretch/>
          </p:blipFill>
          <p:spPr>
            <a:xfrm>
              <a:off x="1523880" y="1600200"/>
              <a:ext cx="13399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3048120" y="2133720"/>
              <a:ext cx="266688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82680" y="1717560"/>
              <a:ext cx="740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27160" y="2325600"/>
              <a:ext cx="1050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gt;1 MB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569960" y="4857840"/>
            <a:ext cx="5626080" cy="1230120"/>
            <a:chOff x="1569960" y="4857840"/>
            <a:chExt cx="5626080" cy="1230120"/>
          </a:xfrm>
        </p:grpSpPr>
        <p:pic>
          <p:nvPicPr>
            <p:cNvPr id="485" name="" descr=""/>
            <p:cNvPicPr/>
            <p:nvPr/>
          </p:nvPicPr>
          <p:blipFill>
            <a:blip r:embed="rId3"/>
            <a:stretch/>
          </p:blipFill>
          <p:spPr>
            <a:xfrm>
              <a:off x="1569960" y="4857840"/>
              <a:ext cx="13399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3246480" y="5616720"/>
              <a:ext cx="215244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90960" y="5162400"/>
              <a:ext cx="79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XI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5570640" y="4944960"/>
              <a:ext cx="1625400" cy="1143000"/>
              <a:chOff x="5570640" y="4944960"/>
              <a:chExt cx="1625400" cy="1143000"/>
            </a:xfrm>
          </p:grpSpPr>
          <p:pic>
            <p:nvPicPr>
              <p:cNvPr id="489" name="pxi1000" descr=""/>
              <p:cNvPicPr/>
              <p:nvPr/>
            </p:nvPicPr>
            <p:blipFill>
              <a:blip r:embed="rId4"/>
              <a:stretch/>
            </p:blipFill>
            <p:spPr>
              <a:xfrm>
                <a:off x="5643720" y="4995720"/>
                <a:ext cx="150156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6229440" y="4944960"/>
                <a:ext cx="966600" cy="50796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96240" y="5315040"/>
                <a:ext cx="14904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24520" y="5699160"/>
                <a:ext cx="112716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70640" y="4950000"/>
                <a:ext cx="852480" cy="26172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10240" y="5122800"/>
                <a:ext cx="174600" cy="93024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35520" y="5530680"/>
                <a:ext cx="708120" cy="51768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700800" y="5734080"/>
              <a:ext cx="1303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~100 MB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447920" y="3110040"/>
            <a:ext cx="5929200" cy="1538280"/>
            <a:chOff x="1447920" y="3110040"/>
            <a:chExt cx="5929200" cy="1538280"/>
          </a:xfrm>
        </p:grpSpPr>
        <p:pic>
          <p:nvPicPr>
            <p:cNvPr id="498" name="" descr=""/>
            <p:cNvPicPr/>
            <p:nvPr/>
          </p:nvPicPr>
          <p:blipFill>
            <a:blip r:embed="rId5"/>
            <a:stretch/>
          </p:blipFill>
          <p:spPr>
            <a:xfrm>
              <a:off x="1447920" y="3198960"/>
              <a:ext cx="13395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3073320" y="3919680"/>
              <a:ext cx="215280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88840" y="3503520"/>
              <a:ext cx="1325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XI, MXI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87840" y="4095720"/>
              <a:ext cx="117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gt;10 MB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443560" y="3110040"/>
              <a:ext cx="1933560" cy="1538280"/>
              <a:chOff x="5443560" y="3110040"/>
              <a:chExt cx="1933560" cy="1538280"/>
            </a:xfrm>
          </p:grpSpPr>
          <p:pic>
            <p:nvPicPr>
              <p:cNvPr id="5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94320" y="3198960"/>
                <a:ext cx="1752480" cy="13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5443560" y="3157560"/>
                <a:ext cx="1266840" cy="719280"/>
              </a:xfrm>
              <a:custGeom>
                <a:avLst/>
                <a:gdLst/>
                <a:ahLst/>
                <a:rect l="l" t="t" r="r" b="b"/>
                <a:pathLst>
                  <a:path w="798" h="453">
                    <a:moveTo>
                      <a:pt x="9" y="453"/>
                    </a:moveTo>
                    <a:lnTo>
                      <a:pt x="276" y="342"/>
                    </a:lnTo>
                    <a:lnTo>
                      <a:pt x="276" y="282"/>
                    </a:lnTo>
                    <a:lnTo>
                      <a:pt x="798" y="9"/>
                    </a:lnTo>
                    <a:lnTo>
                      <a:pt x="0" y="0"/>
                    </a:lnTo>
                    <a:lnTo>
                      <a:pt x="9" y="453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86400" y="4319640"/>
                <a:ext cx="1085760" cy="318960"/>
              </a:xfrm>
              <a:custGeom>
                <a:avLst/>
                <a:gdLst/>
                <a:ahLst/>
                <a:rect l="l" t="t" r="r" b="b"/>
                <a:pathLst>
                  <a:path w="684" h="201">
                    <a:moveTo>
                      <a:pt x="0" y="99"/>
                    </a:moveTo>
                    <a:lnTo>
                      <a:pt x="123" y="36"/>
                    </a:lnTo>
                    <a:lnTo>
                      <a:pt x="162" y="54"/>
                    </a:lnTo>
                    <a:lnTo>
                      <a:pt x="255" y="0"/>
                    </a:lnTo>
                    <a:lnTo>
                      <a:pt x="318" y="24"/>
                    </a:lnTo>
                    <a:lnTo>
                      <a:pt x="345" y="9"/>
                    </a:lnTo>
                    <a:lnTo>
                      <a:pt x="684" y="198"/>
                    </a:lnTo>
                    <a:lnTo>
                      <a:pt x="0" y="201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77040" y="4162320"/>
                <a:ext cx="904680" cy="486000"/>
              </a:xfrm>
              <a:custGeom>
                <a:avLst/>
                <a:gdLst/>
                <a:ahLst/>
                <a:rect l="l" t="t" r="r" b="b"/>
                <a:pathLst>
                  <a:path w="570" h="306">
                    <a:moveTo>
                      <a:pt x="0" y="306"/>
                    </a:moveTo>
                    <a:lnTo>
                      <a:pt x="567" y="0"/>
                    </a:lnTo>
                    <a:lnTo>
                      <a:pt x="570" y="30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67480" y="3110040"/>
                <a:ext cx="809640" cy="466560"/>
              </a:xfrm>
              <a:custGeom>
                <a:avLst/>
                <a:gdLst/>
                <a:ahLst/>
                <a:rect l="l" t="t" r="r" b="b"/>
                <a:pathLst>
                  <a:path w="510" h="294">
                    <a:moveTo>
                      <a:pt x="0" y="12"/>
                    </a:moveTo>
                    <a:lnTo>
                      <a:pt x="510" y="294"/>
                    </a:lnTo>
                    <a:lnTo>
                      <a:pt x="51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523880" y="14670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Virtual Instrumentation via PC Control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 What’s the Problem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s are low on 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ded computers cost more than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CompactPCI slots aren’t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2 can’t extend P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2590560" cy="21668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1218960" cy="262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431280"/>
            <a:ext cx="8569440" cy="10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andard PCI Expansion</a:t>
            </a:r>
            <a:br>
              <a:rPr sz="36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CI-to-PCI Bridgin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2590920"/>
            <a:ext cx="1143000" cy="6858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562040"/>
            <a:ext cx="1143000" cy="685800"/>
          </a:xfrm>
          <a:prstGeom prst="rect">
            <a:avLst/>
          </a:prstGeom>
          <a:solidFill>
            <a:srgbClr val="d60093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2590920"/>
            <a:ext cx="1143000" cy="6858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4041720"/>
            <a:ext cx="228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63760" y="4041720"/>
            <a:ext cx="228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62320" y="4041720"/>
            <a:ext cx="228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3695760"/>
            <a:ext cx="1905120" cy="1676520"/>
          </a:xfrm>
          <a:prstGeom prst="rect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120" y="3619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70120" y="438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8120" y="3695760"/>
            <a:ext cx="1828800" cy="1676520"/>
          </a:xfrm>
          <a:prstGeom prst="rect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79520" y="36608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CI Bus #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76520" y="29336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29336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22474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2590920"/>
            <a:ext cx="1143000" cy="685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77120" y="3695760"/>
            <a:ext cx="1828800" cy="167652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91240" y="36608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CI Bus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14600" y="3297240"/>
            <a:ext cx="144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0400" y="331488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05240" y="1847880"/>
            <a:ext cx="1235160" cy="741240"/>
          </a:xfrm>
          <a:custGeom>
            <a:avLst/>
            <a:gdLst/>
            <a:ahLst/>
            <a:rect l="l" t="t" r="r" b="b"/>
            <a:pathLst>
              <a:path w="789" h="556">
                <a:moveTo>
                  <a:pt x="789" y="556"/>
                </a:moveTo>
                <a:lnTo>
                  <a:pt x="78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25600" y="4035600"/>
            <a:ext cx="32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12680" y="4035600"/>
            <a:ext cx="32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11200" y="4035600"/>
            <a:ext cx="32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10400" y="4106880"/>
            <a:ext cx="2286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91280" y="4106880"/>
            <a:ext cx="2286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72520" y="4106880"/>
            <a:ext cx="2286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53400" y="4106880"/>
            <a:ext cx="2286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16880" y="4065480"/>
            <a:ext cx="22212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91280" y="406404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72520" y="406404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853400" y="406548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334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706440" y="53341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249800"/>
            <a:ext cx="1285920" cy="811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I-to-P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69000" y="4637160"/>
            <a:ext cx="158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26280" y="4637160"/>
            <a:ext cx="158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4920" y="4065480"/>
            <a:ext cx="22248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9680" y="406404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0560" y="406404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1800" y="4065480"/>
            <a:ext cx="228600" cy="137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o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96200" y="150804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 Trans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CompactPCI and PXI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XI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XI-3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3 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andard PCI-PCI Bridg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57" name="bridg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553440" cy="39891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flipH="1">
            <a:off x="431640" y="3581280"/>
            <a:ext cx="635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620120" y="3581280"/>
            <a:ext cx="635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1080" y="2949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21920" y="2949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2360" y="104400"/>
            <a:ext cx="932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Implementation of PCI-PCI Bridg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698400" y="1486080"/>
          <a:ext cx="7480440" cy="40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486080"/>
                    <a:ext cx="748044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1003680" y="55022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5760" y="550224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52360" y="3581280"/>
            <a:ext cx="635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00" y="2949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999200" y="3581280"/>
            <a:ext cx="634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80640" y="29494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2286000"/>
            <a:ext cx="4356000" cy="1333440"/>
          </a:xfrm>
          <a:custGeom>
            <a:avLst/>
            <a:gdLst/>
            <a:ahLst/>
            <a:rect l="l" t="t" r="r" b="b"/>
            <a:pathLst>
              <a:path w="2744" h="840">
                <a:moveTo>
                  <a:pt x="2744" y="768"/>
                </a:moveTo>
                <a:cubicBezTo>
                  <a:pt x="2428" y="804"/>
                  <a:pt x="2112" y="840"/>
                  <a:pt x="1976" y="768"/>
                </a:cubicBezTo>
                <a:cubicBezTo>
                  <a:pt x="1840" y="696"/>
                  <a:pt x="1944" y="440"/>
                  <a:pt x="1928" y="336"/>
                </a:cubicBezTo>
                <a:cubicBezTo>
                  <a:pt x="1912" y="232"/>
                  <a:pt x="1952" y="192"/>
                  <a:pt x="1880" y="144"/>
                </a:cubicBezTo>
                <a:cubicBezTo>
                  <a:pt x="1808" y="96"/>
                  <a:pt x="1736" y="64"/>
                  <a:pt x="1496" y="48"/>
                </a:cubicBezTo>
                <a:cubicBezTo>
                  <a:pt x="1256" y="32"/>
                  <a:pt x="680" y="0"/>
                  <a:pt x="440" y="48"/>
                </a:cubicBezTo>
                <a:cubicBezTo>
                  <a:pt x="200" y="96"/>
                  <a:pt x="112" y="248"/>
                  <a:pt x="56" y="336"/>
                </a:cubicBezTo>
                <a:cubicBezTo>
                  <a:pt x="0" y="424"/>
                  <a:pt x="56" y="528"/>
                  <a:pt x="104" y="576"/>
                </a:cubicBezTo>
                <a:cubicBezTo>
                  <a:pt x="152" y="624"/>
                  <a:pt x="248" y="624"/>
                  <a:pt x="344" y="62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295280" y="2895480"/>
            <a:ext cx="2438280" cy="1606320"/>
            <a:chOff x="1295280" y="2895480"/>
            <a:chExt cx="2438280" cy="1606320"/>
          </a:xfrm>
        </p:grpSpPr>
        <p:sp>
          <p:nvSpPr>
            <p:cNvPr id="573" name=""/>
            <p:cNvSpPr/>
            <p:nvPr/>
          </p:nvSpPr>
          <p:spPr>
            <a:xfrm>
              <a:off x="1473480" y="2895480"/>
              <a:ext cx="2260080" cy="1368720"/>
            </a:xfrm>
            <a:custGeom>
              <a:avLst/>
              <a:gdLst/>
              <a:ahLst/>
              <a:rect l="l" t="t" r="r" b="b"/>
              <a:pathLst>
                <a:path w="1824" h="1104">
                  <a:moveTo>
                    <a:pt x="0" y="0"/>
                  </a:moveTo>
                  <a:lnTo>
                    <a:pt x="1824" y="0"/>
                  </a:lnTo>
                  <a:lnTo>
                    <a:pt x="1824" y="1008"/>
                  </a:lnTo>
                  <a:lnTo>
                    <a:pt x="1248" y="1008"/>
                  </a:lnTo>
                  <a:lnTo>
                    <a:pt x="1248" y="1104"/>
                  </a:lnTo>
                  <a:lnTo>
                    <a:pt x="432" y="1104"/>
                  </a:lnTo>
                  <a:lnTo>
                    <a:pt x="432" y="1008"/>
                  </a:lnTo>
                  <a:lnTo>
                    <a:pt x="192" y="1008"/>
                  </a:lnTo>
                  <a:lnTo>
                    <a:pt x="192" y="1104"/>
                  </a:lnTo>
                  <a:lnTo>
                    <a:pt x="0" y="1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ce24"/>
            </a:solidFill>
            <a:ln w="12600">
              <a:solidFill>
                <a:srgbClr val="12ce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2954880"/>
              <a:ext cx="118800" cy="1546920"/>
            </a:xfrm>
            <a:custGeom>
              <a:avLst/>
              <a:gdLst/>
              <a:ahLst/>
              <a:rect l="l" t="t" r="r" b="b"/>
              <a:pathLst>
                <a:path w="96" h="1248">
                  <a:moveTo>
                    <a:pt x="0" y="0"/>
                  </a:moveTo>
                  <a:lnTo>
                    <a:pt x="96" y="0"/>
                  </a:lnTo>
                  <a:lnTo>
                    <a:pt x="96" y="1248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494240" y="2612880"/>
            <a:ext cx="2763000" cy="1696680"/>
            <a:chOff x="4494240" y="2612880"/>
            <a:chExt cx="2763000" cy="1696680"/>
          </a:xfrm>
        </p:grpSpPr>
        <p:sp>
          <p:nvSpPr>
            <p:cNvPr id="576" name=""/>
            <p:cNvSpPr/>
            <p:nvPr/>
          </p:nvSpPr>
          <p:spPr>
            <a:xfrm>
              <a:off x="5219280" y="2612880"/>
              <a:ext cx="0" cy="169668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30080" y="2869200"/>
              <a:ext cx="1945440" cy="125748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79760" y="2922840"/>
              <a:ext cx="177480" cy="11300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4717080" y="3835440"/>
              <a:ext cx="225000" cy="6710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238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92720" y="370512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19600" y="464508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peed Seri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11400" y="3129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3000" y="5334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2600" y="289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38080" y="1743120"/>
            <a:ext cx="6477120" cy="3336840"/>
            <a:chOff x="838080" y="1743120"/>
            <a:chExt cx="6477120" cy="3336840"/>
          </a:xfrm>
        </p:grpSpPr>
        <p:sp>
          <p:nvSpPr>
            <p:cNvPr id="590" name=""/>
            <p:cNvSpPr/>
            <p:nvPr/>
          </p:nvSpPr>
          <p:spPr>
            <a:xfrm>
              <a:off x="838080" y="1746360"/>
              <a:ext cx="6477120" cy="333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52840" y="174312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CI-to-PCI Brid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818800" y="5562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ill Software Transpa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91520" y="320040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294920" y="4343400"/>
            <a:ext cx="1371600" cy="1752480"/>
          </a:xfrm>
          <a:custGeom>
            <a:avLst/>
            <a:gdLst>
              <a:gd name="textAreaLeft" fmla="*/ 360 w 1371600"/>
              <a:gd name="textAreaRight" fmla="*/ 1372320 w 137160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58" stAng="10800000" swAng="5400000"/>
                <a:lnTo>
                  <a:pt x="15150" y="3502"/>
                </a:lnTo>
                <a:lnTo>
                  <a:pt x="15150" y="0"/>
                </a:lnTo>
                <a:lnTo>
                  <a:pt x="21600" y="6079"/>
                </a:lnTo>
                <a:lnTo>
                  <a:pt x="15150" y="12158"/>
                </a:lnTo>
                <a:lnTo>
                  <a:pt x="15150" y="8656"/>
                </a:lnTo>
                <a:lnTo>
                  <a:pt x="12427" y="8656"/>
                </a:lnTo>
                <a:arcTo wR="7273" hR="3504" stAng="16200000" swAng="-5400000"/>
                <a:lnTo>
                  <a:pt x="515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11480" y="28195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58160" y="2819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2156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016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itial Applications for MXI-3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16560" y="233532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88920" y="457200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I/CPCI to PXI/C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990720" y="1447920"/>
            <a:ext cx="4298040" cy="4401720"/>
            <a:chOff x="990720" y="1447920"/>
            <a:chExt cx="4298040" cy="4401720"/>
          </a:xfrm>
        </p:grpSpPr>
        <p:grpSp>
          <p:nvGrpSpPr>
            <p:cNvPr id="604" name=""/>
            <p:cNvGrpSpPr/>
            <p:nvPr/>
          </p:nvGrpSpPr>
          <p:grpSpPr>
            <a:xfrm>
              <a:off x="1523880" y="3810240"/>
              <a:ext cx="1707480" cy="1201320"/>
              <a:chOff x="1523880" y="3810240"/>
              <a:chExt cx="1707480" cy="1201320"/>
            </a:xfrm>
          </p:grpSpPr>
          <p:pic>
            <p:nvPicPr>
              <p:cNvPr id="605" name="pxi1000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920" y="386352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2214720" y="381024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21480" y="419904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95760" y="460188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23880" y="381564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66000" y="399600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97040" y="442728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819160" y="4648320"/>
              <a:ext cx="1707480" cy="1201320"/>
              <a:chOff x="2819160" y="4648320"/>
              <a:chExt cx="1707480" cy="1201320"/>
            </a:xfrm>
          </p:grpSpPr>
          <p:pic>
            <p:nvPicPr>
              <p:cNvPr id="613" name="pxi100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47016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3510000" y="46483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16760" y="50371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91040" y="54399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19160" y="46537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61280" y="48340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2320" y="52653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581280" y="1905120"/>
              <a:ext cx="1707480" cy="1201320"/>
              <a:chOff x="3581280" y="1905120"/>
              <a:chExt cx="1707480" cy="1201320"/>
            </a:xfrm>
          </p:grpSpPr>
          <p:pic>
            <p:nvPicPr>
              <p:cNvPr id="621" name="pxi100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8320" y="19584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4272120" y="19051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78880" y="22939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53160" y="26967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81280" y="19105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23400" y="20908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54440" y="25221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2133360" y="4496040"/>
              <a:ext cx="985680" cy="792000"/>
            </a:xfrm>
            <a:custGeom>
              <a:avLst/>
              <a:gdLst/>
              <a:ahLst/>
              <a:rect l="l" t="t" r="r" b="b"/>
              <a:pathLst>
                <a:path w="621" h="499">
                  <a:moveTo>
                    <a:pt x="101" y="0"/>
                  </a:moveTo>
                  <a:cubicBezTo>
                    <a:pt x="55" y="50"/>
                    <a:pt x="10" y="101"/>
                    <a:pt x="5" y="144"/>
                  </a:cubicBezTo>
                  <a:cubicBezTo>
                    <a:pt x="0" y="187"/>
                    <a:pt x="18" y="216"/>
                    <a:pt x="69" y="256"/>
                  </a:cubicBezTo>
                  <a:cubicBezTo>
                    <a:pt x="120" y="296"/>
                    <a:pt x="232" y="344"/>
                    <a:pt x="309" y="384"/>
                  </a:cubicBezTo>
                  <a:cubicBezTo>
                    <a:pt x="386" y="424"/>
                    <a:pt x="481" y="499"/>
                    <a:pt x="533" y="496"/>
                  </a:cubicBezTo>
                  <a:cubicBezTo>
                    <a:pt x="585" y="493"/>
                    <a:pt x="603" y="430"/>
                    <a:pt x="621" y="368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001880" y="2755800"/>
            <a:ext cx="3328920" cy="1511280"/>
          </a:xfrm>
          <a:custGeom>
            <a:avLst/>
            <a:gdLst/>
            <a:ahLst/>
            <a:rect l="l" t="t" r="r" b="b"/>
            <a:pathLst>
              <a:path w="2097" h="952">
                <a:moveTo>
                  <a:pt x="2097" y="0"/>
                </a:moveTo>
                <a:cubicBezTo>
                  <a:pt x="2053" y="79"/>
                  <a:pt x="2010" y="159"/>
                  <a:pt x="1865" y="232"/>
                </a:cubicBezTo>
                <a:cubicBezTo>
                  <a:pt x="1720" y="305"/>
                  <a:pt x="1465" y="384"/>
                  <a:pt x="1225" y="440"/>
                </a:cubicBezTo>
                <a:cubicBezTo>
                  <a:pt x="985" y="496"/>
                  <a:pt x="616" y="520"/>
                  <a:pt x="425" y="568"/>
                </a:cubicBezTo>
                <a:cubicBezTo>
                  <a:pt x="234" y="616"/>
                  <a:pt x="140" y="672"/>
                  <a:pt x="81" y="728"/>
                </a:cubicBezTo>
                <a:cubicBezTo>
                  <a:pt x="22" y="784"/>
                  <a:pt x="0" y="867"/>
                  <a:pt x="73" y="904"/>
                </a:cubicBezTo>
                <a:cubicBezTo>
                  <a:pt x="146" y="941"/>
                  <a:pt x="446" y="944"/>
                  <a:pt x="521" y="952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1371600"/>
            <a:ext cx="4952880" cy="449568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990720" y="1447920"/>
            <a:ext cx="4217400" cy="4287240"/>
            <a:chOff x="990720" y="1447920"/>
            <a:chExt cx="4217400" cy="4287240"/>
          </a:xfrm>
        </p:grpSpPr>
        <p:grpSp>
          <p:nvGrpSpPr>
            <p:cNvPr id="634" name=""/>
            <p:cNvGrpSpPr/>
            <p:nvPr/>
          </p:nvGrpSpPr>
          <p:grpSpPr>
            <a:xfrm>
              <a:off x="3582720" y="2022480"/>
              <a:ext cx="1625400" cy="1142640"/>
              <a:chOff x="3582720" y="2022480"/>
              <a:chExt cx="1625400" cy="1142640"/>
            </a:xfrm>
          </p:grpSpPr>
          <p:pic>
            <p:nvPicPr>
              <p:cNvPr id="635" name="pxi100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6160" y="207288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240800" y="202248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08680" y="239184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36600" y="277632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582720" y="202716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622320" y="219960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747240" y="260856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2" name="" descr="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512720" y="3792600"/>
              <a:ext cx="1625400" cy="1142640"/>
              <a:chOff x="1512720" y="3792600"/>
              <a:chExt cx="1625400" cy="1142640"/>
            </a:xfrm>
          </p:grpSpPr>
          <p:pic>
            <p:nvPicPr>
              <p:cNvPr id="645" name="pxi100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6160" y="384300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"/>
              <p:cNvSpPr/>
              <p:nvPr/>
            </p:nvSpPr>
            <p:spPr>
              <a:xfrm>
                <a:off x="2170800" y="379260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38680" y="416196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66600" y="454644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512720" y="379728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552320" y="396972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677240" y="437868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782800" y="4592520"/>
              <a:ext cx="1625400" cy="1142640"/>
              <a:chOff x="2782800" y="4592520"/>
              <a:chExt cx="1625400" cy="1142640"/>
            </a:xfrm>
          </p:grpSpPr>
          <p:pic>
            <p:nvPicPr>
              <p:cNvPr id="653" name="pxi1000" descr=""/>
              <p:cNvPicPr/>
              <p:nvPr/>
            </p:nvPicPr>
            <p:blipFill>
              <a:blip r:embed="rId8"/>
              <a:stretch/>
            </p:blipFill>
            <p:spPr>
              <a:xfrm>
                <a:off x="2856240" y="464292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3440880" y="459252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08760" y="496188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36680" y="534636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82800" y="459720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2400" y="476964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7320" y="517860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116000" y="2354400"/>
              <a:ext cx="2055240" cy="1990440"/>
            </a:xfrm>
            <a:custGeom>
              <a:avLst/>
              <a:gdLst/>
              <a:ahLst/>
              <a:rect l="l" t="t" r="r" b="b"/>
              <a:pathLst>
                <a:path w="1295" h="1254">
                  <a:moveTo>
                    <a:pt x="1061" y="0"/>
                  </a:moveTo>
                  <a:cubicBezTo>
                    <a:pt x="1140" y="6"/>
                    <a:pt x="1219" y="13"/>
                    <a:pt x="1247" y="45"/>
                  </a:cubicBezTo>
                  <a:cubicBezTo>
                    <a:pt x="1275" y="77"/>
                    <a:pt x="1295" y="131"/>
                    <a:pt x="1232" y="193"/>
                  </a:cubicBezTo>
                  <a:cubicBezTo>
                    <a:pt x="1169" y="255"/>
                    <a:pt x="1041" y="331"/>
                    <a:pt x="869" y="415"/>
                  </a:cubicBezTo>
                  <a:cubicBezTo>
                    <a:pt x="697" y="499"/>
                    <a:pt x="344" y="608"/>
                    <a:pt x="202" y="697"/>
                  </a:cubicBezTo>
                  <a:cubicBezTo>
                    <a:pt x="60" y="786"/>
                    <a:pt x="34" y="869"/>
                    <a:pt x="17" y="949"/>
                  </a:cubicBezTo>
                  <a:cubicBezTo>
                    <a:pt x="0" y="1029"/>
                    <a:pt x="55" y="1128"/>
                    <a:pt x="99" y="1178"/>
                  </a:cubicBezTo>
                  <a:cubicBezTo>
                    <a:pt x="143" y="1228"/>
                    <a:pt x="229" y="1250"/>
                    <a:pt x="284" y="1252"/>
                  </a:cubicBezTo>
                  <a:cubicBezTo>
                    <a:pt x="339" y="1254"/>
                    <a:pt x="385" y="1223"/>
                    <a:pt x="432" y="1193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6360" y="2262240"/>
              <a:ext cx="825120" cy="2847960"/>
            </a:xfrm>
            <a:custGeom>
              <a:avLst/>
              <a:gdLst/>
              <a:ahLst/>
              <a:rect l="l" t="t" r="r" b="b"/>
              <a:pathLst>
                <a:path w="520" h="1794">
                  <a:moveTo>
                    <a:pt x="75" y="36"/>
                  </a:moveTo>
                  <a:cubicBezTo>
                    <a:pt x="198" y="18"/>
                    <a:pt x="322" y="0"/>
                    <a:pt x="394" y="14"/>
                  </a:cubicBezTo>
                  <a:cubicBezTo>
                    <a:pt x="466" y="28"/>
                    <a:pt x="490" y="55"/>
                    <a:pt x="505" y="118"/>
                  </a:cubicBezTo>
                  <a:cubicBezTo>
                    <a:pt x="520" y="181"/>
                    <a:pt x="506" y="209"/>
                    <a:pt x="483" y="392"/>
                  </a:cubicBezTo>
                  <a:cubicBezTo>
                    <a:pt x="460" y="575"/>
                    <a:pt x="436" y="1010"/>
                    <a:pt x="364" y="1214"/>
                  </a:cubicBezTo>
                  <a:cubicBezTo>
                    <a:pt x="292" y="1418"/>
                    <a:pt x="106" y="1520"/>
                    <a:pt x="53" y="1614"/>
                  </a:cubicBezTo>
                  <a:cubicBezTo>
                    <a:pt x="0" y="1708"/>
                    <a:pt x="10" y="1760"/>
                    <a:pt x="46" y="1777"/>
                  </a:cubicBezTo>
                  <a:cubicBezTo>
                    <a:pt x="82" y="1794"/>
                    <a:pt x="175" y="1756"/>
                    <a:pt x="268" y="1718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990360" y="2754000"/>
            <a:ext cx="7118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flexible cable, 2 twisted pai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10M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Fiber Optic C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 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a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159520" y="1060560"/>
            <a:ext cx="1938240" cy="1363680"/>
            <a:chOff x="5159520" y="1060560"/>
            <a:chExt cx="1938240" cy="1363680"/>
          </a:xfrm>
        </p:grpSpPr>
        <p:pic>
          <p:nvPicPr>
            <p:cNvPr id="664" name="pxi1000" descr=""/>
            <p:cNvPicPr/>
            <p:nvPr/>
          </p:nvPicPr>
          <p:blipFill>
            <a:blip r:embed="rId1"/>
            <a:stretch/>
          </p:blipFill>
          <p:spPr>
            <a:xfrm>
              <a:off x="5246640" y="1120680"/>
              <a:ext cx="17906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5943600" y="1060560"/>
              <a:ext cx="1154160" cy="60480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59440" y="1501920"/>
              <a:ext cx="177840" cy="9111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1800" y="1959120"/>
              <a:ext cx="1342800" cy="46512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59520" y="1066680"/>
              <a:ext cx="1015920" cy="31140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07040" y="1271520"/>
              <a:ext cx="208080" cy="111132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56080" y="1760400"/>
              <a:ext cx="843120" cy="61596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673680" y="2014560"/>
            <a:ext cx="1938600" cy="1363680"/>
            <a:chOff x="6673680" y="2014560"/>
            <a:chExt cx="1938600" cy="1363680"/>
          </a:xfrm>
        </p:grpSpPr>
        <p:pic>
          <p:nvPicPr>
            <p:cNvPr id="672" name="pxi1000" descr=""/>
            <p:cNvPicPr/>
            <p:nvPr/>
          </p:nvPicPr>
          <p:blipFill>
            <a:blip r:embed="rId2"/>
            <a:stretch/>
          </p:blipFill>
          <p:spPr>
            <a:xfrm>
              <a:off x="6761160" y="2075040"/>
              <a:ext cx="179064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7458120" y="2014560"/>
              <a:ext cx="1154160" cy="60480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73960" y="2455920"/>
              <a:ext cx="177840" cy="9111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95960" y="2913120"/>
              <a:ext cx="1343160" cy="46512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73680" y="2021040"/>
              <a:ext cx="1016280" cy="31104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21560" y="2225520"/>
              <a:ext cx="207720" cy="111132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70600" y="2714760"/>
              <a:ext cx="843120" cy="61596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269080" y="179712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’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56000" y="2124000"/>
            <a:ext cx="1522440" cy="16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dia Types and Distanc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46760" y="1924200"/>
            <a:ext cx="1174680" cy="944280"/>
          </a:xfrm>
          <a:custGeom>
            <a:avLst/>
            <a:gdLst/>
            <a:ahLst/>
            <a:rect l="l" t="t" r="r" b="b"/>
            <a:pathLst>
              <a:path w="621" h="499">
                <a:moveTo>
                  <a:pt x="101" y="0"/>
                </a:moveTo>
                <a:cubicBezTo>
                  <a:pt x="55" y="50"/>
                  <a:pt x="10" y="101"/>
                  <a:pt x="5" y="144"/>
                </a:cubicBezTo>
                <a:cubicBezTo>
                  <a:pt x="0" y="187"/>
                  <a:pt x="18" y="216"/>
                  <a:pt x="69" y="256"/>
                </a:cubicBezTo>
                <a:cubicBezTo>
                  <a:pt x="120" y="296"/>
                  <a:pt x="232" y="344"/>
                  <a:pt x="309" y="384"/>
                </a:cubicBezTo>
                <a:cubicBezTo>
                  <a:pt x="386" y="424"/>
                  <a:pt x="481" y="499"/>
                  <a:pt x="533" y="496"/>
                </a:cubicBezTo>
                <a:cubicBezTo>
                  <a:pt x="585" y="493"/>
                  <a:pt x="603" y="430"/>
                  <a:pt x="621" y="368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ni%20MXI-3%20white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133720" cy="5619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Benefits 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 for PCs and PXI/Compact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trans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high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nd L O N G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cost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446120" y="1406520"/>
            <a:ext cx="19036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687" name=""/>
          <p:cNvGrpSpPr/>
          <p:nvPr/>
        </p:nvGrpSpPr>
        <p:grpSpPr>
          <a:xfrm>
            <a:off x="4038480" y="1981080"/>
            <a:ext cx="3467160" cy="1157400"/>
            <a:chOff x="4038480" y="1981080"/>
            <a:chExt cx="3467160" cy="1157400"/>
          </a:xfrm>
        </p:grpSpPr>
        <p:pic>
          <p:nvPicPr>
            <p:cNvPr id="688" name="pxi1000" descr=""/>
            <p:cNvPicPr/>
            <p:nvPr/>
          </p:nvPicPr>
          <p:blipFill>
            <a:blip r:embed="rId3"/>
            <a:stretch/>
          </p:blipFill>
          <p:spPr>
            <a:xfrm>
              <a:off x="4111560" y="20318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4697280" y="1981080"/>
              <a:ext cx="96696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64080" y="2351160"/>
              <a:ext cx="149400" cy="7635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92720" y="27352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38480" y="1986120"/>
              <a:ext cx="852480" cy="26172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78440" y="21589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03720" y="2567160"/>
              <a:ext cx="708120" cy="51732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5" name="pxi1000" descr=""/>
            <p:cNvPicPr/>
            <p:nvPr/>
          </p:nvPicPr>
          <p:blipFill>
            <a:blip r:embed="rId4"/>
            <a:stretch/>
          </p:blipFill>
          <p:spPr>
            <a:xfrm>
              <a:off x="5952960" y="20462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6539040" y="1995480"/>
              <a:ext cx="96660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05840" y="2365200"/>
              <a:ext cx="149040" cy="76392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4120" y="27496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80240" y="2000160"/>
              <a:ext cx="852480" cy="26208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19840" y="21733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45120" y="2581200"/>
              <a:ext cx="708120" cy="51768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13200" y="2529000"/>
              <a:ext cx="1371600" cy="330120"/>
            </a:xfrm>
            <a:custGeom>
              <a:avLst/>
              <a:gdLst/>
              <a:ahLst/>
              <a:rect l="l" t="t" r="r" b="b"/>
              <a:pathLst>
                <a:path w="864" h="208">
                  <a:moveTo>
                    <a:pt x="0" y="48"/>
                  </a:moveTo>
                  <a:cubicBezTo>
                    <a:pt x="16" y="112"/>
                    <a:pt x="32" y="176"/>
                    <a:pt x="144" y="192"/>
                  </a:cubicBezTo>
                  <a:cubicBezTo>
                    <a:pt x="256" y="208"/>
                    <a:pt x="552" y="176"/>
                    <a:pt x="672" y="144"/>
                  </a:cubicBezTo>
                  <a:cubicBezTo>
                    <a:pt x="792" y="112"/>
                    <a:pt x="828" y="56"/>
                    <a:pt x="864" y="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3" name="ni%20MXI-3%20blue" descr=""/>
          <p:cNvPicPr/>
          <p:nvPr/>
        </p:nvPicPr>
        <p:blipFill>
          <a:blip r:embed="rId5"/>
          <a:stretch/>
        </p:blipFill>
        <p:spPr>
          <a:xfrm>
            <a:off x="4267080" y="1219320"/>
            <a:ext cx="2514600" cy="6620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3214800" y="2131920"/>
            <a:ext cx="1092240" cy="158760"/>
          </a:xfrm>
          <a:custGeom>
            <a:avLst/>
            <a:gdLst/>
            <a:ahLst/>
            <a:rect l="l" t="t" r="r" b="b"/>
            <a:pathLst>
              <a:path w="688" h="100">
                <a:moveTo>
                  <a:pt x="0" y="76"/>
                </a:moveTo>
                <a:cubicBezTo>
                  <a:pt x="89" y="50"/>
                  <a:pt x="179" y="24"/>
                  <a:pt x="224" y="12"/>
                </a:cubicBezTo>
                <a:cubicBezTo>
                  <a:pt x="269" y="0"/>
                  <a:pt x="224" y="1"/>
                  <a:pt x="272" y="4"/>
                </a:cubicBezTo>
                <a:cubicBezTo>
                  <a:pt x="320" y="7"/>
                  <a:pt x="443" y="12"/>
                  <a:pt x="512" y="28"/>
                </a:cubicBezTo>
                <a:cubicBezTo>
                  <a:pt x="581" y="44"/>
                  <a:pt x="634" y="72"/>
                  <a:pt x="688" y="100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lication Examp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cost Functional Test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 developmen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XI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security surveillance - Los Al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drill-site monitoring - Data Science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otic actuator testing - UT Robotics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Receiver End-of-Line Test - NDS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1600" y="54100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 to www.natinst.com and click on Custom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1320" y="3586320"/>
            <a:ext cx="2711160" cy="1785960"/>
            <a:chOff x="3181320" y="3586320"/>
            <a:chExt cx="2711160" cy="17859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207240" y="3641400"/>
              <a:ext cx="264060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20600" y="3596040"/>
              <a:ext cx="2171880" cy="1766160"/>
            </a:xfrm>
            <a:custGeom>
              <a:avLst/>
              <a:gdLst/>
              <a:ahLst/>
              <a:rect l="l" t="t" r="r" b="b"/>
              <a:pathLst>
                <a:path w="1900" h="1468">
                  <a:moveTo>
                    <a:pt x="0" y="0"/>
                  </a:moveTo>
                  <a:lnTo>
                    <a:pt x="0" y="208"/>
                  </a:lnTo>
                  <a:lnTo>
                    <a:pt x="68" y="208"/>
                  </a:lnTo>
                  <a:lnTo>
                    <a:pt x="68" y="232"/>
                  </a:lnTo>
                  <a:lnTo>
                    <a:pt x="1672" y="232"/>
                  </a:lnTo>
                  <a:lnTo>
                    <a:pt x="1696" y="252"/>
                  </a:lnTo>
                  <a:lnTo>
                    <a:pt x="1800" y="252"/>
                  </a:lnTo>
                  <a:lnTo>
                    <a:pt x="1800" y="1224"/>
                  </a:lnTo>
                  <a:lnTo>
                    <a:pt x="1696" y="1224"/>
                  </a:lnTo>
                  <a:lnTo>
                    <a:pt x="1680" y="1256"/>
                  </a:lnTo>
                  <a:lnTo>
                    <a:pt x="60" y="1256"/>
                  </a:lnTo>
                  <a:lnTo>
                    <a:pt x="60" y="1316"/>
                  </a:lnTo>
                  <a:lnTo>
                    <a:pt x="12" y="1316"/>
                  </a:lnTo>
                  <a:lnTo>
                    <a:pt x="8" y="1464"/>
                  </a:lnTo>
                  <a:lnTo>
                    <a:pt x="1900" y="1468"/>
                  </a:lnTo>
                  <a:lnTo>
                    <a:pt x="190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1320" y="3586320"/>
              <a:ext cx="552960" cy="1785960"/>
            </a:xfrm>
            <a:custGeom>
              <a:avLst/>
              <a:gdLst/>
              <a:ahLst/>
              <a:rect l="l" t="t" r="r" b="b"/>
              <a:pathLst>
                <a:path w="484" h="1484">
                  <a:moveTo>
                    <a:pt x="484" y="1416"/>
                  </a:moveTo>
                  <a:lnTo>
                    <a:pt x="480" y="1484"/>
                  </a:lnTo>
                  <a:lnTo>
                    <a:pt x="0" y="1484"/>
                  </a:lnTo>
                  <a:lnTo>
                    <a:pt x="8" y="0"/>
                  </a:lnTo>
                  <a:lnTo>
                    <a:pt x="440" y="0"/>
                  </a:lnTo>
                  <a:lnTo>
                    <a:pt x="444" y="1168"/>
                  </a:lnTo>
                  <a:lnTo>
                    <a:pt x="352" y="1204"/>
                  </a:lnTo>
                  <a:lnTo>
                    <a:pt x="64" y="1224"/>
                  </a:lnTo>
                  <a:lnTo>
                    <a:pt x="56" y="1268"/>
                  </a:lnTo>
                  <a:lnTo>
                    <a:pt x="340" y="1340"/>
                  </a:lnTo>
                  <a:lnTo>
                    <a:pt x="348" y="1400"/>
                  </a:lnTo>
                  <a:lnTo>
                    <a:pt x="424" y="1424"/>
                  </a:lnTo>
                  <a:lnTo>
                    <a:pt x="484" y="1416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30520" y="139212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4880" y="273204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6200" y="481824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48360" y="491508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5600" y="3781440"/>
            <a:ext cx="3504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87760" y="3209760"/>
            <a:ext cx="333360" cy="524160"/>
          </a:xfrm>
          <a:prstGeom prst="downArrow">
            <a:avLst>
              <a:gd name="adj1" fmla="val 50000"/>
              <a:gd name="adj2" fmla="val 7862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500000">
            <a:off x="2736720" y="44157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8100000">
            <a:off x="6389640" y="46065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P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XIlogo-blackonwhite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251460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5228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mbines Standard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89240" y="1666800"/>
            <a:ext cx="2886120" cy="1352520"/>
            <a:chOff x="3189240" y="1666800"/>
            <a:chExt cx="2886120" cy="1352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246480" y="1738440"/>
              <a:ext cx="28033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89240" y="2152800"/>
              <a:ext cx="2886120" cy="1047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1680" y="1666800"/>
              <a:ext cx="295200" cy="3859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92600" y="2665440"/>
              <a:ext cx="344520" cy="3538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7200" y="1728720"/>
              <a:ext cx="916200" cy="128592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3720" y="1716120"/>
              <a:ext cx="507960" cy="13017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6040" y="1717560"/>
              <a:ext cx="1287360" cy="2880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0880" y="2011320"/>
            <a:ext cx="2357640" cy="3270240"/>
            <a:chOff x="380880" y="2011320"/>
            <a:chExt cx="2357640" cy="327024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2357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41360" y="2011320"/>
              <a:ext cx="1392480" cy="1816200"/>
            </a:xfrm>
            <a:custGeom>
              <a:avLst/>
              <a:gdLst>
                <a:gd name="textAreaLeft" fmla="*/ 0 w 1392480"/>
                <a:gd name="textAreaRight" fmla="*/ 1392840 w 139248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87640" y="1916280"/>
            <a:ext cx="2056320" cy="3695400"/>
            <a:chOff x="6587640" y="1916280"/>
            <a:chExt cx="2056320" cy="3695400"/>
          </a:xfrm>
        </p:grpSpPr>
        <p:grpSp>
          <p:nvGrpSpPr>
            <p:cNvPr id="118" name=""/>
            <p:cNvGrpSpPr/>
            <p:nvPr/>
          </p:nvGrpSpPr>
          <p:grpSpPr>
            <a:xfrm>
              <a:off x="6858000" y="3870360"/>
              <a:ext cx="1785960" cy="1741320"/>
              <a:chOff x="6858000" y="3870360"/>
              <a:chExt cx="1785960" cy="1741320"/>
            </a:xfrm>
          </p:grpSpPr>
          <p:sp>
            <p:nvSpPr>
              <p:cNvPr id="119" name=""/>
              <p:cNvSpPr/>
              <p:nvPr/>
            </p:nvSpPr>
            <p:spPr>
              <a:xfrm>
                <a:off x="6858000" y="3870360"/>
                <a:ext cx="1785960" cy="1741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5"/>
              <a:srcRect l="0" t="0" r="0" b="14731"/>
              <a:stretch/>
            </p:blipFill>
            <p:spPr>
              <a:xfrm>
                <a:off x="6888600" y="3903480"/>
                <a:ext cx="1713960" cy="166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 flipH="1">
              <a:off x="6587280" y="1916280"/>
              <a:ext cx="1428840" cy="1815840"/>
            </a:xfrm>
            <a:custGeom>
              <a:avLst/>
              <a:gdLst>
                <a:gd name="textAreaLeft" fmla="*/ -360 w 1428840"/>
                <a:gd name="textAreaRight" fmla="*/ 1428840 w 142884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90920" y="390384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54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90920" y="4955760"/>
            <a:ext cx="3886200" cy="1716480"/>
            <a:chOff x="2590920" y="4955760"/>
            <a:chExt cx="3886200" cy="1716480"/>
          </a:xfrm>
        </p:grpSpPr>
        <p:sp>
          <p:nvSpPr>
            <p:cNvPr id="124" name=""/>
            <p:cNvSpPr/>
            <p:nvPr/>
          </p:nvSpPr>
          <p:spPr>
            <a:xfrm>
              <a:off x="2590920" y="5567400"/>
              <a:ext cx="3886200" cy="110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r>
                <a:rPr b="1" i="1" lang="en-US" sz="5400" spc="-1" strike="noStrike">
                  <a:solidFill>
                    <a:srgbClr val="ffffff"/>
                  </a:solidFill>
                  <a:latin typeface="Impact"/>
                </a:rPr>
                <a:t>CI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198200">
              <a:off x="4331880" y="4697280"/>
              <a:ext cx="611280" cy="11289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151160" y="3292560"/>
            <a:ext cx="1051200" cy="61128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28680" y="2562120"/>
            <a:ext cx="5715000" cy="1206720"/>
            <a:chOff x="1228680" y="2562120"/>
            <a:chExt cx="5715000" cy="1206720"/>
          </a:xfrm>
        </p:grpSpPr>
        <p:sp>
          <p:nvSpPr>
            <p:cNvPr id="128" name=""/>
            <p:cNvSpPr/>
            <p:nvPr/>
          </p:nvSpPr>
          <p:spPr>
            <a:xfrm>
              <a:off x="1228680" y="3132000"/>
              <a:ext cx="57150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5400" y="3165480"/>
              <a:ext cx="154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lectr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5360" y="318456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chan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8280" y="320184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2600" y="312264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7600" y="31338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93960" y="2562120"/>
              <a:ext cx="443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nstrumentation Exten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235160" y="3754440"/>
            <a:ext cx="5715000" cy="13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56880" y="3876840"/>
            <a:ext cx="2395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Impact"/>
              </a:rPr>
              <a:t>CompactP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35160" y="4448160"/>
            <a:ext cx="573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6520" y="45147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00680" y="451656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24000" y="44244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erform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9840" y="2525760"/>
            <a:ext cx="5715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2600" y="445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27600" y="44625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79680" y="2557440"/>
            <a:ext cx="1052640" cy="522360"/>
            <a:chOff x="3379680" y="2557440"/>
            <a:chExt cx="1052640" cy="5223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400200" y="2584800"/>
              <a:ext cx="102276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379680" y="2745000"/>
              <a:ext cx="1052640" cy="39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34800" y="2557440"/>
              <a:ext cx="108000" cy="14904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7960" y="2943000"/>
              <a:ext cx="125280" cy="13680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5080" y="2581200"/>
              <a:ext cx="333720" cy="4968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77720" y="2576160"/>
              <a:ext cx="185400" cy="50292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040" y="2576880"/>
              <a:ext cx="469440" cy="1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042320" y="2427120"/>
            <a:ext cx="1978920" cy="2676600"/>
            <a:chOff x="7042320" y="2427120"/>
            <a:chExt cx="1978920" cy="2676600"/>
          </a:xfrm>
        </p:grpSpPr>
        <p:sp>
          <p:nvSpPr>
            <p:cNvPr id="153" name=""/>
            <p:cNvSpPr/>
            <p:nvPr/>
          </p:nvSpPr>
          <p:spPr>
            <a:xfrm>
              <a:off x="7042320" y="4583160"/>
              <a:ext cx="197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mpon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5080" y="2427120"/>
              <a:ext cx="136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850160" y="3120840"/>
              <a:ext cx="0" cy="137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is a System-level Specifica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chanical Extens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 add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vironmental spec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o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3U cards 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6U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11520" y="1835280"/>
            <a:ext cx="12031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4-bit PCI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9360" y="2011320"/>
            <a:ext cx="111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XI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76920" y="1523880"/>
            <a:ext cx="2374920" cy="1533600"/>
            <a:chOff x="4876920" y="1523880"/>
            <a:chExt cx="2374920" cy="1533600"/>
          </a:xfrm>
        </p:grpSpPr>
        <p:sp>
          <p:nvSpPr>
            <p:cNvPr id="162" name=""/>
            <p:cNvSpPr/>
            <p:nvPr/>
          </p:nvSpPr>
          <p:spPr>
            <a:xfrm>
              <a:off x="5462640" y="17017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47000" y="17366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9320" y="15238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1880" y="27684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1880" y="17017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0520" y="22906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940360" y="1944720"/>
            <a:ext cx="617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7720" y="2006640"/>
            <a:ext cx="5598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000" y="2362320"/>
            <a:ext cx="1436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XI/CPC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89760" y="24606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77160" y="18954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1400" y="2467080"/>
            <a:ext cx="889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-bit 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76920" y="3124080"/>
            <a:ext cx="3550320" cy="3087720"/>
            <a:chOff x="4876920" y="3124080"/>
            <a:chExt cx="3550320" cy="3087720"/>
          </a:xfrm>
        </p:grpSpPr>
        <p:sp>
          <p:nvSpPr>
            <p:cNvPr id="177" name=""/>
            <p:cNvSpPr/>
            <p:nvPr/>
          </p:nvSpPr>
          <p:spPr>
            <a:xfrm>
              <a:off x="5462640" y="3308400"/>
              <a:ext cx="1658880" cy="272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37280" y="4451400"/>
              <a:ext cx="212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45360" y="4448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6000" y="4448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280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4996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0892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6608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4040" y="44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4040" y="450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4040" y="45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4040" y="458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462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4040" y="467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4040" y="471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4040" y="475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040" y="47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040" y="483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42320" y="4881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336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62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76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1044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5360" y="486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5360" y="4818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45360" y="477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45360" y="473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45360" y="469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5360" y="464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5360" y="460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45360" y="456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453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45360" y="44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43760" y="4886280"/>
              <a:ext cx="201600" cy="110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6080" y="3130560"/>
              <a:ext cx="38160" cy="30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8640" y="5919840"/>
              <a:ext cx="1476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7280" y="3335400"/>
              <a:ext cx="21276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6000" y="3332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9280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996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0892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6608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334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34040" y="34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4040" y="347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34040" y="35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34040" y="35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34040" y="35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34040" y="363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3404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4040" y="37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34040" y="37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3404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3404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040" y="38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34040" y="393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040" y="397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34040" y="401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3404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34040" y="41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34040" y="41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34040" y="41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34040" y="42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34040" y="427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34040" y="431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34040" y="435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34040" y="43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34040" y="444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34040" y="4451400"/>
              <a:ext cx="25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2320" y="4451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336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262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76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1044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45360" y="44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45360" y="438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45360" y="434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45360" y="430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5360" y="426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5360" y="42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45360" y="4176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45360" y="413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5360" y="40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45360" y="405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45360" y="400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45360" y="396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5360" y="392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45360" y="388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45360" y="384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5360" y="379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45360" y="375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45360" y="37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5360" y="367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362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5360" y="358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45360" y="3543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45360" y="35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5360" y="345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45360" y="341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337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45360" y="334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  <a:lnTo>
                    <a:pt x="298" y="1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08640" y="3308400"/>
              <a:ext cx="147600" cy="1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3908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8192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658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090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39080" y="54421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07680" y="4282920"/>
              <a:ext cx="5598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6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62000" y="4648320"/>
              <a:ext cx="1436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XI/CPC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72480" y="34862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72480" y="404352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72480" y="45576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2480" y="50562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72480" y="55958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24120" y="4987800"/>
              <a:ext cx="12031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4-bit PCI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22320" y="5162400"/>
              <a:ext cx="111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54000" y="5610240"/>
              <a:ext cx="889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2-bit P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06480" y="339264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06480" y="3946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0880" y="4495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extender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256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44560" y="1699920"/>
            <a:ext cx="703728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s MUST Support a standard software framework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95/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s MUST be supplied with a WIN32 Device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1592280" cy="1776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592200" y="3951360"/>
            <a:ext cx="8018280" cy="1535040"/>
            <a:chOff x="592200" y="3951360"/>
            <a:chExt cx="8018280" cy="1535040"/>
          </a:xfrm>
        </p:grpSpPr>
        <p:sp>
          <p:nvSpPr>
            <p:cNvPr id="310" name=""/>
            <p:cNvSpPr/>
            <p:nvPr/>
          </p:nvSpPr>
          <p:spPr>
            <a:xfrm>
              <a:off x="592200" y="5072040"/>
              <a:ext cx="7713720" cy="414360"/>
            </a:xfrm>
            <a:prstGeom prst="leftArrow">
              <a:avLst>
                <a:gd name="adj1" fmla="val 75009"/>
                <a:gd name="adj2" fmla="val 68862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66760" y="5138640"/>
              <a:ext cx="1468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igger 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0860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3384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952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15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05920" y="5072040"/>
              <a:ext cx="304560" cy="414360"/>
            </a:xfrm>
            <a:prstGeom prst="rightArrow">
              <a:avLst>
                <a:gd name="adj1" fmla="val 75009"/>
                <a:gd name="adj2" fmla="val 100000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70040" y="2444760"/>
            <a:ext cx="64800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5776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688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5020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3120" y="2387520"/>
            <a:ext cx="1087200" cy="157320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6572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909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2720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664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725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99440" y="4483080"/>
            <a:ext cx="295200" cy="399960"/>
          </a:xfrm>
          <a:prstGeom prst="rightArrow">
            <a:avLst>
              <a:gd name="adj1" fmla="val 75009"/>
              <a:gd name="adj2" fmla="val 100000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7800" y="4495680"/>
            <a:ext cx="7769160" cy="398520"/>
          </a:xfrm>
          <a:prstGeom prst="leftArrow">
            <a:avLst>
              <a:gd name="adj1" fmla="val 75009"/>
              <a:gd name="adj2" fmla="val 79875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801720" y="2285640"/>
            <a:ext cx="1181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571840" y="233352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386856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6167520" y="233208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744048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971800" y="1371600"/>
            <a:ext cx="4883040" cy="1074240"/>
            <a:chOff x="2971800" y="1371600"/>
            <a:chExt cx="4883040" cy="1074240"/>
          </a:xfrm>
        </p:grpSpPr>
        <p:sp>
          <p:nvSpPr>
            <p:cNvPr id="336" name=""/>
            <p:cNvSpPr/>
            <p:nvPr/>
          </p:nvSpPr>
          <p:spPr>
            <a:xfrm>
              <a:off x="297180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1335" y="0"/>
                  </a:moveTo>
                  <a:lnTo>
                    <a:pt x="1335" y="171"/>
                  </a:lnTo>
                  <a:lnTo>
                    <a:pt x="0" y="171"/>
                  </a:lnTo>
                  <a:lnTo>
                    <a:pt x="0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3408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0" y="0"/>
                  </a:moveTo>
                  <a:lnTo>
                    <a:pt x="0" y="171"/>
                  </a:lnTo>
                  <a:lnTo>
                    <a:pt x="1335" y="171"/>
                  </a:lnTo>
                  <a:lnTo>
                    <a:pt x="1335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520" y="1571400"/>
              <a:ext cx="990720" cy="874440"/>
            </a:xfrm>
            <a:custGeom>
              <a:avLst/>
              <a:gdLst/>
              <a:ahLst/>
              <a:rect l="l" t="t" r="r" b="b"/>
              <a:pathLst>
                <a:path w="624" h="551">
                  <a:moveTo>
                    <a:pt x="623" y="0"/>
                  </a:moveTo>
                  <a:lnTo>
                    <a:pt x="623" y="297"/>
                  </a:lnTo>
                  <a:lnTo>
                    <a:pt x="0" y="297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9360" y="1550880"/>
              <a:ext cx="990720" cy="894960"/>
            </a:xfrm>
            <a:custGeom>
              <a:avLst/>
              <a:gdLst/>
              <a:ahLst/>
              <a:rect l="l" t="t" r="r" b="b"/>
              <a:pathLst>
                <a:path w="624" h="564">
                  <a:moveTo>
                    <a:pt x="0" y="0"/>
                  </a:moveTo>
                  <a:lnTo>
                    <a:pt x="0" y="304"/>
                  </a:lnTo>
                  <a:lnTo>
                    <a:pt x="623" y="304"/>
                  </a:lnTo>
                  <a:lnTo>
                    <a:pt x="623" y="563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98880" y="1371600"/>
              <a:ext cx="1152720" cy="295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29120" y="1684080"/>
              <a:ext cx="971280" cy="574920"/>
            </a:xfrm>
            <a:prstGeom prst="rect">
              <a:avLst/>
            </a:prstGeom>
            <a:solidFill>
              <a:srgbClr val="0cecf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369520" y="4551480"/>
            <a:ext cx="4439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2 Mb/s, 33 MHz, 32-bit Compute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111400" y="1231920"/>
            <a:ext cx="5459400" cy="1987560"/>
            <a:chOff x="2111400" y="1231920"/>
            <a:chExt cx="5459400" cy="1987560"/>
          </a:xfrm>
        </p:grpSpPr>
        <p:sp>
          <p:nvSpPr>
            <p:cNvPr id="344" name=""/>
            <p:cNvSpPr/>
            <p:nvPr/>
          </p:nvSpPr>
          <p:spPr>
            <a:xfrm>
              <a:off x="2334960" y="1231920"/>
              <a:ext cx="1480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 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9240" y="1670040"/>
              <a:ext cx="1728720" cy="1351080"/>
            </a:xfrm>
            <a:custGeom>
              <a:avLst/>
              <a:gdLst/>
              <a:ahLst/>
              <a:rect l="l" t="t" r="r" b="b"/>
              <a:pathLst>
                <a:path w="1089" h="851">
                  <a:moveTo>
                    <a:pt x="177" y="850"/>
                  </a:moveTo>
                  <a:lnTo>
                    <a:pt x="0" y="85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476"/>
                  </a:lnTo>
                  <a:lnTo>
                    <a:pt x="1088" y="489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09680" y="1590840"/>
              <a:ext cx="4130640" cy="1528560"/>
            </a:xfrm>
            <a:custGeom>
              <a:avLst/>
              <a:gdLst/>
              <a:ahLst/>
              <a:rect l="l" t="t" r="r" b="b"/>
              <a:pathLst>
                <a:path w="2602" h="963">
                  <a:moveTo>
                    <a:pt x="238" y="962"/>
                  </a:moveTo>
                  <a:lnTo>
                    <a:pt x="0" y="962"/>
                  </a:lnTo>
                  <a:lnTo>
                    <a:pt x="0" y="0"/>
                  </a:lnTo>
                  <a:lnTo>
                    <a:pt x="2601" y="0"/>
                  </a:lnTo>
                  <a:lnTo>
                    <a:pt x="2601" y="521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11400" y="1511280"/>
              <a:ext cx="5459400" cy="1708200"/>
            </a:xfrm>
            <a:custGeom>
              <a:avLst/>
              <a:gdLst/>
              <a:ahLst/>
              <a:rect l="l" t="t" r="r" b="b"/>
              <a:pathLst>
                <a:path w="3439" h="1076">
                  <a:moveTo>
                    <a:pt x="287" y="1075"/>
                  </a:moveTo>
                  <a:lnTo>
                    <a:pt x="0" y="1075"/>
                  </a:lnTo>
                  <a:lnTo>
                    <a:pt x="0" y="0"/>
                  </a:lnTo>
                  <a:lnTo>
                    <a:pt x="3438" y="0"/>
                  </a:lnTo>
                  <a:lnTo>
                    <a:pt x="3438" y="291"/>
                  </a:lnTo>
                  <a:lnTo>
                    <a:pt x="3438" y="557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320840" y="4567320"/>
            <a:ext cx="833400" cy="23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507528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0640" y="3159000"/>
            <a:ext cx="10656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780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251160" y="3029040"/>
            <a:ext cx="4170240" cy="987480"/>
            <a:chOff x="3251160" y="3029040"/>
            <a:chExt cx="4170240" cy="987480"/>
          </a:xfrm>
        </p:grpSpPr>
        <p:sp>
          <p:nvSpPr>
            <p:cNvPr id="353" name=""/>
            <p:cNvSpPr/>
            <p:nvPr/>
          </p:nvSpPr>
          <p:spPr>
            <a:xfrm>
              <a:off x="4956840" y="3387600"/>
              <a:ext cx="919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51160" y="3049560"/>
              <a:ext cx="406440" cy="30312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7600" y="3048120"/>
              <a:ext cx="163440" cy="30456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1520" y="3059280"/>
              <a:ext cx="387360" cy="303120"/>
            </a:xfrm>
            <a:prstGeom prst="leftArrow">
              <a:avLst>
                <a:gd name="adj1" fmla="val 50000"/>
                <a:gd name="adj2" fmla="val 6504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8880" y="3057480"/>
              <a:ext cx="182520" cy="30492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23000" y="3040200"/>
              <a:ext cx="309600" cy="303120"/>
            </a:xfrm>
            <a:prstGeom prst="leftArrow">
              <a:avLst>
                <a:gd name="adj1" fmla="val 50000"/>
                <a:gd name="adj2" fmla="val 5106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87840" y="3029040"/>
              <a:ext cx="309600" cy="304560"/>
            </a:xfrm>
            <a:prstGeom prst="rightArrow">
              <a:avLst>
                <a:gd name="adj1" fmla="val 50000"/>
                <a:gd name="adj2" fmla="val 5083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ectr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90360" y="2971440"/>
            <a:ext cx="76928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 of this multivendor group is to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mote PXI/CompactPC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sure Interoper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trol the PXI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-use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50 multinational compan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ww.pxisa.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334120" y="1447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xi-logo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048120" cy="1231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066680" y="2438280"/>
            <a:ext cx="304812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Impact"/>
              </a:rPr>
              <a:t>Systems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PX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20:01:31Z</dcterms:created>
  <dc:creator>Carsten Puls</dc:creator>
  <dc:description/>
  <dc:language>en-US</dc:language>
  <cp:lastModifiedBy>Carsten Puls</cp:lastModifiedBy>
  <cp:lastPrinted>1999-06-25T20:44:30Z</cp:lastPrinted>
  <dcterms:modified xsi:type="dcterms:W3CDTF">1999-08-19T21:29:59Z</dcterms:modified>
  <cp:revision>26</cp:revision>
  <dc:subject/>
  <dc:title>MXI-3</dc:title>
</cp:coreProperties>
</file>