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0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png" ContentType="image/png"/>
  <Override PartName="/ppt/media/image27.jpeg" ContentType="image/jpeg"/>
  <Override PartName="/ppt/media/image31.png" ContentType="image/png"/>
  <Override PartName="/ppt/media/image36.png" ContentType="image/png"/>
  <Override PartName="/ppt/media/image9.png" ContentType="image/png"/>
  <Override PartName="/ppt/media/image40.jpeg" ContentType="image/jpeg"/>
  <Override PartName="/ppt/media/image37.wmf" ContentType="image/x-wmf"/>
  <Override PartName="/ppt/media/image41.jpeg" ContentType="image/jpeg"/>
  <Override PartName="/ppt/media/image30.png" ContentType="image/png"/>
  <Override PartName="/ppt/media/image42.png" ContentType="image/png"/>
  <Override PartName="/ppt/media/image43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jpeg" ContentType="image/jpeg"/>
  <Override PartName="/ppt/media/image1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6.wmf" ContentType="image/x-wmf"/>
  <Override PartName="/ppt/media/image47.jpeg" ContentType="image/jpeg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2BF3-5915-4CC4-9825-D42EC8AA7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4F7C-E2FB-4366-A660-70C7F7A15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576F-9E9F-4A58-ABAD-24DFD7D51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9ADC-55FE-49E1-9BBB-4202EBBCB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4E2F-59CE-4A03-AFB5-0E61FAC30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9E98-92B4-4A16-BEBA-218902A5D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2710-F2A1-4949-BE39-2DA4229A3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828F-BFC1-40FD-9F60-B114DC51A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72DE-86A0-40B3-A01F-744E164CD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028-3311-4B92-88E5-1CB14948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74E-3AFE-47C3-A119-079575AD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F10-0F24-4F28-96C8-F58333E9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704-0E35-4671-BCB6-E712C263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16D-FA92-40AC-BA80-C0A08F91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15D9-00CB-4E91-A30B-CE22F8CF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80A6-7EE4-499C-A73D-75E970ED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E0FE-B240-4D42-8CF3-CD727B28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038C-5F93-4513-9C0A-A703A483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A326-7DEF-4988-B5F7-B5F550EE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EA0E-8A6D-41ED-92C0-42F52770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861-79D4-4C60-A794-40D84D67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854D-2979-4A81-879D-B18AA008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26A9-D5DD-48D3-A0A7-D83439D1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E0EE-2838-49E7-A258-CA3B5A3E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2941-E7AA-46A2-9F83-0EAEC782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25E0-43B0-4C9D-BC43-DC2C8A93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A8B-2CD5-41C7-8207-7DEAB696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80E-D7C5-489D-8CAB-28AB8F36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810-718E-4949-A206-C4380B8E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CF4-7AB4-4C78-8A71-CD5F0F64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278-6A0A-4DE0-8256-8FCA5EF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2CE-28AC-46CC-A6E1-50C53A1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B83-7CB0-475A-BFBA-20969E33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C8E3-7E05-4264-9F9B-962429808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06668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86160" y="6197760"/>
            <a:ext cx="206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www.natins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inaltitl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27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3DDB-6395-4050-977F-CBE67AF94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6248520"/>
            <a:ext cx="1869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ww.natins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png"/><Relationship Id="rId3" Type="http://schemas.openxmlformats.org/officeDocument/2006/relationships/image" Target="../media/image35.wmf"/><Relationship Id="rId4" Type="http://schemas.openxmlformats.org/officeDocument/2006/relationships/image" Target="../media/image6.wmf"/><Relationship Id="rId5" Type="http://schemas.openxmlformats.org/officeDocument/2006/relationships/image" Target="../media/image36.png"/><Relationship Id="rId6" Type="http://schemas.openxmlformats.org/officeDocument/2006/relationships/image" Target="../media/image11.wmf"/><Relationship Id="rId7" Type="http://schemas.openxmlformats.org/officeDocument/2006/relationships/image" Target="../media/image13.png"/><Relationship Id="rId8" Type="http://schemas.openxmlformats.org/officeDocument/2006/relationships/image" Target="../media/image37.wmf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5.wmf"/><Relationship Id="rId5" Type="http://schemas.openxmlformats.org/officeDocument/2006/relationships/image" Target="../media/image42.png"/><Relationship Id="rId6" Type="http://schemas.openxmlformats.org/officeDocument/2006/relationships/image" Target="../media/image5.wmf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54097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XI and CompactPCI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 Measurement and Automatio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200400" y="2057400"/>
            <a:ext cx="3351960" cy="1418400"/>
            <a:chOff x="3200400" y="2057400"/>
            <a:chExt cx="3351960" cy="14184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3265200" y="2131560"/>
              <a:ext cx="3257640" cy="13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200400" y="2567880"/>
              <a:ext cx="3351960" cy="10764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8000" y="2057400"/>
              <a:ext cx="344520" cy="40644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3105000"/>
              <a:ext cx="397080" cy="37080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960" y="2122200"/>
              <a:ext cx="1060560" cy="135000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23400" y="2109600"/>
              <a:ext cx="591840" cy="136620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04600" y="2109600"/>
              <a:ext cx="1493640" cy="2844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362320" y="3276720"/>
            <a:ext cx="48765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Impact"/>
              </a:rPr>
              <a:t>CompactP</a:t>
            </a:r>
            <a:r>
              <a:rPr b="1" i="1" lang="en-US" sz="4800" spc="-1" strike="noStrike">
                <a:solidFill>
                  <a:srgbClr val="ffffff"/>
                </a:solidFill>
                <a:latin typeface="Impact"/>
              </a:rPr>
              <a:t>CI </a:t>
            </a:r>
            <a:r>
              <a:rPr b="1" i="1" lang="en-US" sz="66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22860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Combines Standard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189240" y="1666800"/>
            <a:ext cx="2886120" cy="1352520"/>
            <a:chOff x="3189240" y="1666800"/>
            <a:chExt cx="2886120" cy="135252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3246480" y="1738440"/>
              <a:ext cx="28033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189240" y="2152800"/>
              <a:ext cx="2886120" cy="10476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11680" y="1666800"/>
              <a:ext cx="295200" cy="3859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92600" y="2665440"/>
              <a:ext cx="344520" cy="35388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7200" y="1728720"/>
              <a:ext cx="916200" cy="128592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03720" y="1716120"/>
              <a:ext cx="507960" cy="130176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26040" y="1717560"/>
              <a:ext cx="1287360" cy="2880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2011320"/>
            <a:ext cx="2357640" cy="3270240"/>
            <a:chOff x="380880" y="2011320"/>
            <a:chExt cx="2357640" cy="3270240"/>
          </a:xfrm>
        </p:grpSpPr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235764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341360" y="2011320"/>
              <a:ext cx="1392480" cy="1816200"/>
            </a:xfrm>
            <a:custGeom>
              <a:avLst/>
              <a:gdLst>
                <a:gd name="textAreaLeft" fmla="*/ 0 w 1392480"/>
                <a:gd name="textAreaRight" fmla="*/ 1392840 w 139248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587640" y="1916280"/>
            <a:ext cx="2056320" cy="3695400"/>
            <a:chOff x="6587640" y="1916280"/>
            <a:chExt cx="2056320" cy="3695400"/>
          </a:xfrm>
        </p:grpSpPr>
        <p:grpSp>
          <p:nvGrpSpPr>
            <p:cNvPr id="206" name=""/>
            <p:cNvGrpSpPr/>
            <p:nvPr/>
          </p:nvGrpSpPr>
          <p:grpSpPr>
            <a:xfrm>
              <a:off x="6858000" y="3870360"/>
              <a:ext cx="1785960" cy="1741320"/>
              <a:chOff x="6858000" y="3870360"/>
              <a:chExt cx="1785960" cy="1741320"/>
            </a:xfrm>
          </p:grpSpPr>
          <p:sp>
            <p:nvSpPr>
              <p:cNvPr id="207" name=""/>
              <p:cNvSpPr/>
              <p:nvPr/>
            </p:nvSpPr>
            <p:spPr>
              <a:xfrm>
                <a:off x="6858000" y="3870360"/>
                <a:ext cx="1785960" cy="1741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4"/>
              <a:srcRect l="0" t="0" r="0" b="14731"/>
              <a:stretch/>
            </p:blipFill>
            <p:spPr>
              <a:xfrm>
                <a:off x="6888600" y="3903480"/>
                <a:ext cx="1713960" cy="166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"/>
            <p:cNvSpPr/>
            <p:nvPr/>
          </p:nvSpPr>
          <p:spPr>
            <a:xfrm flipH="1">
              <a:off x="6587280" y="1916280"/>
              <a:ext cx="1428840" cy="1815840"/>
            </a:xfrm>
            <a:custGeom>
              <a:avLst/>
              <a:gdLst>
                <a:gd name="textAreaLeft" fmla="*/ -360 w 1428840"/>
                <a:gd name="textAreaRight" fmla="*/ 1428840 w 142884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590920" y="3903840"/>
            <a:ext cx="38862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CompactP</a:t>
            </a:r>
            <a:r>
              <a:rPr b="1" i="1" lang="en-US" sz="54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590920" y="4955760"/>
            <a:ext cx="3886200" cy="1716480"/>
            <a:chOff x="2590920" y="4955760"/>
            <a:chExt cx="3886200" cy="1716480"/>
          </a:xfrm>
        </p:grpSpPr>
        <p:sp>
          <p:nvSpPr>
            <p:cNvPr id="212" name=""/>
            <p:cNvSpPr/>
            <p:nvPr/>
          </p:nvSpPr>
          <p:spPr>
            <a:xfrm>
              <a:off x="2590920" y="5567400"/>
              <a:ext cx="3886200" cy="1104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ffffff"/>
                  </a:solidFill>
                  <a:latin typeface="Impact"/>
                </a:rPr>
                <a:t>P</a:t>
              </a:r>
              <a:r>
                <a:rPr b="1" i="1" lang="en-US" sz="5400" spc="-1" strike="noStrike">
                  <a:solidFill>
                    <a:srgbClr val="ffffff"/>
                  </a:solidFill>
                  <a:latin typeface="Impact"/>
                </a:rPr>
                <a:t>CI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 rot="16198200">
              <a:off x="4331880" y="4697280"/>
              <a:ext cx="611280" cy="11289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51160" y="3292560"/>
            <a:ext cx="1051200" cy="61128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98720" y="1357200"/>
            <a:ext cx="5298840" cy="4370400"/>
          </a:xfrm>
          <a:prstGeom prst="triangle">
            <a:avLst>
              <a:gd name="adj" fmla="val 4999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4880" y="1336680"/>
            <a:ext cx="2681280" cy="219852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68480" y="3538440"/>
            <a:ext cx="2687760" cy="21988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0400" y="3538440"/>
            <a:ext cx="2681280" cy="21988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95520" y="2693880"/>
            <a:ext cx="2567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05200" y="4986360"/>
            <a:ext cx="2568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40040" y="4979880"/>
            <a:ext cx="2762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151160" y="3900600"/>
            <a:ext cx="1043280" cy="442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4600" y="1447920"/>
            <a:ext cx="33948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XI system specif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nds CompactPCI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ru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1523880"/>
            <a:ext cx="15242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234200" y="1828800"/>
            <a:ext cx="603360" cy="258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6560" y="2133720"/>
            <a:ext cx="1373040" cy="8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ision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gust 20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Open PXI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1371600"/>
            <a:ext cx="6781680" cy="43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Eurocard packagin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Mod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Rug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Shock/vibration re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adds Active Coo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requires Temperature Ra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defines system-level environment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defines controller to be on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echanical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/CompactPCI Form Facto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3U cards work in 6U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11520" y="1835280"/>
            <a:ext cx="120312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4-bit PCI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09360" y="2011320"/>
            <a:ext cx="111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XI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876920" y="1523880"/>
            <a:ext cx="2374920" cy="1533600"/>
            <a:chOff x="4876920" y="1523880"/>
            <a:chExt cx="2374920" cy="1533600"/>
          </a:xfrm>
        </p:grpSpPr>
        <p:sp>
          <p:nvSpPr>
            <p:cNvPr id="235" name=""/>
            <p:cNvSpPr/>
            <p:nvPr/>
          </p:nvSpPr>
          <p:spPr>
            <a:xfrm>
              <a:off x="5462640" y="1701720"/>
              <a:ext cx="1676520" cy="117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7000" y="1736640"/>
              <a:ext cx="198360" cy="11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9320" y="1523880"/>
              <a:ext cx="39960" cy="152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76920" y="27619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  <a:lnTo>
                    <a:pt x="30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6920" y="27619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11880" y="2768400"/>
              <a:ext cx="146160" cy="10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11880" y="1701720"/>
              <a:ext cx="146160" cy="10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40520" y="229068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940360" y="1944720"/>
            <a:ext cx="61776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67720" y="2006640"/>
            <a:ext cx="5598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000" y="2362320"/>
            <a:ext cx="14364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XI/CPC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89760" y="2460600"/>
            <a:ext cx="355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77160" y="1895400"/>
            <a:ext cx="355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41400" y="2467080"/>
            <a:ext cx="8892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2-bit P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876920" y="3124080"/>
            <a:ext cx="3550320" cy="3087720"/>
            <a:chOff x="4876920" y="3124080"/>
            <a:chExt cx="3550320" cy="3087720"/>
          </a:xfrm>
        </p:grpSpPr>
        <p:sp>
          <p:nvSpPr>
            <p:cNvPr id="250" name=""/>
            <p:cNvSpPr/>
            <p:nvPr/>
          </p:nvSpPr>
          <p:spPr>
            <a:xfrm>
              <a:off x="5462640" y="3308400"/>
              <a:ext cx="1658880" cy="272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37280" y="4451400"/>
              <a:ext cx="21276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45360" y="4448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36000" y="4448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9280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4996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892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6608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34040" y="44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34040" y="450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34040" y="454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34040" y="458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34040" y="462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34040" y="467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34040" y="4713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34040" y="4754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34040" y="479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34040" y="4838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42320" y="48816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8336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620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6760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1044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45360" y="4861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45360" y="4818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45360" y="4775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45360" y="4734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45360" y="469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45360" y="4649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45360" y="4606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45360" y="456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45360" y="452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45360" y="447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43760" y="4886280"/>
              <a:ext cx="201600" cy="110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6080" y="3130560"/>
              <a:ext cx="38160" cy="30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76920" y="591336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0"/>
                  </a:moveTo>
                  <a:lnTo>
                    <a:pt x="33" y="37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32" y="149"/>
                  </a:lnTo>
                  <a:lnTo>
                    <a:pt x="232" y="187"/>
                  </a:lnTo>
                  <a:lnTo>
                    <a:pt x="331" y="187"/>
                  </a:lnTo>
                  <a:lnTo>
                    <a:pt x="329" y="177"/>
                  </a:lnTo>
                  <a:lnTo>
                    <a:pt x="29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76920" y="591336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0"/>
                  </a:moveTo>
                  <a:lnTo>
                    <a:pt x="33" y="37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32" y="149"/>
                  </a:lnTo>
                  <a:lnTo>
                    <a:pt x="232" y="187"/>
                  </a:lnTo>
                  <a:lnTo>
                    <a:pt x="331" y="187"/>
                  </a:lnTo>
                  <a:lnTo>
                    <a:pt x="329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08640" y="5919840"/>
              <a:ext cx="147600" cy="10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37280" y="3335400"/>
              <a:ext cx="212760" cy="11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5360" y="3332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36000" y="3332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280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4996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0892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6608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4040" y="334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34040" y="33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34040" y="3427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34040" y="347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4040" y="351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4040" y="355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34040" y="35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34040" y="363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34040" y="368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34040" y="372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4040" y="376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34040" y="380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34040" y="384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34040" y="389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34040" y="393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34040" y="3976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34040" y="4019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34040" y="4060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34040" y="410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34040" y="414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34040" y="418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34040" y="423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34040" y="427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34040" y="431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34040" y="435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34040" y="439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34040" y="444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34040" y="4451400"/>
              <a:ext cx="255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42320" y="44514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8336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2620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6760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1044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45360" y="443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45360" y="4389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45360" y="434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45360" y="4303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45360" y="4262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45360" y="421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45360" y="4176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45360" y="413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45360" y="409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45360" y="405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45360" y="400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45360" y="396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45360" y="3924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45360" y="3881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45360" y="384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5360" y="379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45360" y="3754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45360" y="37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5360" y="3670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45360" y="3629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45360" y="358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45360" y="3543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45360" y="350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45360" y="345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45360" y="341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45360" y="337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45360" y="334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45360" y="3332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76920" y="312408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187"/>
                  </a:moveTo>
                  <a:lnTo>
                    <a:pt x="33" y="150"/>
                  </a:lnTo>
                  <a:lnTo>
                    <a:pt x="0" y="187"/>
                  </a:lnTo>
                  <a:lnTo>
                    <a:pt x="0" y="112"/>
                  </a:lnTo>
                  <a:lnTo>
                    <a:pt x="232" y="37"/>
                  </a:lnTo>
                  <a:lnTo>
                    <a:pt x="232" y="0"/>
                  </a:lnTo>
                  <a:lnTo>
                    <a:pt x="331" y="0"/>
                  </a:lnTo>
                  <a:lnTo>
                    <a:pt x="329" y="10"/>
                  </a:lnTo>
                  <a:lnTo>
                    <a:pt x="298" y="18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312408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187"/>
                  </a:moveTo>
                  <a:lnTo>
                    <a:pt x="33" y="150"/>
                  </a:lnTo>
                  <a:lnTo>
                    <a:pt x="0" y="187"/>
                  </a:lnTo>
                  <a:lnTo>
                    <a:pt x="0" y="112"/>
                  </a:lnTo>
                  <a:lnTo>
                    <a:pt x="232" y="37"/>
                  </a:lnTo>
                  <a:lnTo>
                    <a:pt x="232" y="0"/>
                  </a:lnTo>
                  <a:lnTo>
                    <a:pt x="331" y="0"/>
                  </a:lnTo>
                  <a:lnTo>
                    <a:pt x="329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08640" y="3308400"/>
              <a:ext cx="147600" cy="10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3908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8192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2476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6580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0900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9080" y="544212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07680" y="4282920"/>
              <a:ext cx="5598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6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000" y="4648320"/>
              <a:ext cx="14364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PXI/CPCI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72480" y="348624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72480" y="404352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72480" y="455760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72480" y="505620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72480" y="559584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4120" y="4987800"/>
              <a:ext cx="12031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4-bit PCI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22320" y="5162400"/>
              <a:ext cx="1111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54000" y="5610240"/>
              <a:ext cx="889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2-bit P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06480" y="339264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6480" y="394668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20880" y="449568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extender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400200" cy="3714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144800" y="57150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U Adapter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844560" y="1699920"/>
            <a:ext cx="703728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rs MUST Support a SW Framework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indows 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indows 95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s MUST be supplied with a WIN32 Device Dri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1592280" cy="17762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oftware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3046320" y="1928880"/>
            <a:ext cx="5694480" cy="4240080"/>
            <a:chOff x="3046320" y="1928880"/>
            <a:chExt cx="5694480" cy="424008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3106800" y="1998720"/>
              <a:ext cx="5565600" cy="417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5" name=""/>
            <p:cNvGrpSpPr/>
            <p:nvPr/>
          </p:nvGrpSpPr>
          <p:grpSpPr>
            <a:xfrm>
              <a:off x="3046320" y="1928880"/>
              <a:ext cx="5694480" cy="3138480"/>
              <a:chOff x="3046320" y="1928880"/>
              <a:chExt cx="5694480" cy="3138480"/>
            </a:xfrm>
          </p:grpSpPr>
          <p:sp>
            <p:nvSpPr>
              <p:cNvPr id="386" name=""/>
              <p:cNvSpPr/>
              <p:nvPr/>
            </p:nvSpPr>
            <p:spPr>
              <a:xfrm>
                <a:off x="3046320" y="1928880"/>
                <a:ext cx="4962600" cy="3138480"/>
              </a:xfrm>
              <a:custGeom>
                <a:avLst/>
                <a:gdLst/>
                <a:ahLst/>
                <a:rect l="l" t="t" r="r" b="b"/>
                <a:pathLst>
                  <a:path w="3126" h="1977">
                    <a:moveTo>
                      <a:pt x="39" y="1976"/>
                    </a:moveTo>
                    <a:lnTo>
                      <a:pt x="198" y="1880"/>
                    </a:lnTo>
                    <a:lnTo>
                      <a:pt x="159" y="1824"/>
                    </a:lnTo>
                    <a:lnTo>
                      <a:pt x="222" y="1720"/>
                    </a:lnTo>
                    <a:lnTo>
                      <a:pt x="286" y="1592"/>
                    </a:lnTo>
                    <a:lnTo>
                      <a:pt x="389" y="1200"/>
                    </a:lnTo>
                    <a:lnTo>
                      <a:pt x="508" y="1088"/>
                    </a:lnTo>
                    <a:lnTo>
                      <a:pt x="659" y="1024"/>
                    </a:lnTo>
                    <a:lnTo>
                      <a:pt x="803" y="1024"/>
                    </a:lnTo>
                    <a:lnTo>
                      <a:pt x="938" y="1040"/>
                    </a:lnTo>
                    <a:lnTo>
                      <a:pt x="1017" y="1168"/>
                    </a:lnTo>
                    <a:lnTo>
                      <a:pt x="1065" y="1248"/>
                    </a:lnTo>
                    <a:lnTo>
                      <a:pt x="1073" y="1656"/>
                    </a:lnTo>
                    <a:lnTo>
                      <a:pt x="1121" y="1648"/>
                    </a:lnTo>
                    <a:lnTo>
                      <a:pt x="1264" y="1464"/>
                    </a:lnTo>
                    <a:lnTo>
                      <a:pt x="1264" y="1344"/>
                    </a:lnTo>
                    <a:lnTo>
                      <a:pt x="1152" y="1272"/>
                    </a:lnTo>
                    <a:lnTo>
                      <a:pt x="1145" y="1152"/>
                    </a:lnTo>
                    <a:lnTo>
                      <a:pt x="1542" y="1088"/>
                    </a:lnTo>
                    <a:lnTo>
                      <a:pt x="1669" y="1216"/>
                    </a:lnTo>
                    <a:lnTo>
                      <a:pt x="1789" y="1344"/>
                    </a:lnTo>
                    <a:lnTo>
                      <a:pt x="1820" y="1464"/>
                    </a:lnTo>
                    <a:lnTo>
                      <a:pt x="1852" y="1120"/>
                    </a:lnTo>
                    <a:lnTo>
                      <a:pt x="2146" y="1096"/>
                    </a:lnTo>
                    <a:lnTo>
                      <a:pt x="2123" y="944"/>
                    </a:lnTo>
                    <a:lnTo>
                      <a:pt x="2242" y="840"/>
                    </a:lnTo>
                    <a:lnTo>
                      <a:pt x="2496" y="792"/>
                    </a:lnTo>
                    <a:lnTo>
                      <a:pt x="2560" y="784"/>
                    </a:lnTo>
                    <a:lnTo>
                      <a:pt x="2536" y="672"/>
                    </a:lnTo>
                    <a:lnTo>
                      <a:pt x="2449" y="536"/>
                    </a:lnTo>
                    <a:lnTo>
                      <a:pt x="2528" y="208"/>
                    </a:lnTo>
                    <a:lnTo>
                      <a:pt x="2743" y="96"/>
                    </a:lnTo>
                    <a:lnTo>
                      <a:pt x="2950" y="120"/>
                    </a:lnTo>
                    <a:lnTo>
                      <a:pt x="3037" y="232"/>
                    </a:lnTo>
                    <a:lnTo>
                      <a:pt x="3101" y="360"/>
                    </a:lnTo>
                    <a:lnTo>
                      <a:pt x="3125" y="344"/>
                    </a:lnTo>
                    <a:lnTo>
                      <a:pt x="3125" y="0"/>
                    </a:lnTo>
                    <a:lnTo>
                      <a:pt x="15" y="16"/>
                    </a:lnTo>
                    <a:lnTo>
                      <a:pt x="0" y="1976"/>
                    </a:lnTo>
                  </a:path>
                </a:pathLst>
              </a:custGeom>
              <a:solidFill>
                <a:srgbClr val="21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67720" y="1967040"/>
                <a:ext cx="973080" cy="165240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143" y="16"/>
                    </a:moveTo>
                    <a:lnTo>
                      <a:pt x="612" y="0"/>
                    </a:lnTo>
                    <a:lnTo>
                      <a:pt x="604" y="1024"/>
                    </a:lnTo>
                    <a:lnTo>
                      <a:pt x="445" y="1040"/>
                    </a:lnTo>
                    <a:lnTo>
                      <a:pt x="373" y="912"/>
                    </a:lnTo>
                    <a:lnTo>
                      <a:pt x="302" y="856"/>
                    </a:lnTo>
                    <a:lnTo>
                      <a:pt x="55" y="808"/>
                    </a:lnTo>
                    <a:lnTo>
                      <a:pt x="0" y="760"/>
                    </a:lnTo>
                    <a:lnTo>
                      <a:pt x="31" y="664"/>
                    </a:lnTo>
                    <a:lnTo>
                      <a:pt x="127" y="504"/>
                    </a:lnTo>
                    <a:lnTo>
                      <a:pt x="158" y="272"/>
                    </a:lnTo>
                    <a:lnTo>
                      <a:pt x="135" y="168"/>
                    </a:lnTo>
                    <a:lnTo>
                      <a:pt x="143" y="16"/>
                    </a:lnTo>
                  </a:path>
                </a:pathLst>
              </a:custGeom>
              <a:solidFill>
                <a:srgbClr val="21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8" name=""/>
          <p:cNvSpPr/>
          <p:nvPr/>
        </p:nvSpPr>
        <p:spPr>
          <a:xfrm>
            <a:off x="532440" y="4419720"/>
            <a:ext cx="233244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Tvision Sy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XI-8156/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XI-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ultiple PXI-1408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XI-DAQ Op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33520" y="2057400"/>
            <a:ext cx="60958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“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e ported from a desktop PC to PXI 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thout changing any code"  - Len Burczyk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os Alamos National Laboratories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orting from PCs to PX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592200" y="3951360"/>
            <a:ext cx="8018280" cy="1535040"/>
            <a:chOff x="592200" y="3951360"/>
            <a:chExt cx="8018280" cy="1535040"/>
          </a:xfrm>
        </p:grpSpPr>
        <p:sp>
          <p:nvSpPr>
            <p:cNvPr id="392" name=""/>
            <p:cNvSpPr/>
            <p:nvPr/>
          </p:nvSpPr>
          <p:spPr>
            <a:xfrm>
              <a:off x="592200" y="5072040"/>
              <a:ext cx="7713720" cy="414360"/>
            </a:xfrm>
            <a:prstGeom prst="leftArrow">
              <a:avLst>
                <a:gd name="adj1" fmla="val 75009"/>
                <a:gd name="adj2" fmla="val 68862"/>
              </a:avLst>
            </a:prstGeom>
            <a:solidFill>
              <a:srgbClr val="0c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66760" y="5138640"/>
              <a:ext cx="1468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igger 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0860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384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70080" y="3951360"/>
              <a:ext cx="0" cy="11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2952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15080" y="3951360"/>
              <a:ext cx="0" cy="11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5920" y="5072040"/>
              <a:ext cx="304560" cy="414360"/>
            </a:xfrm>
            <a:prstGeom prst="rightArrow">
              <a:avLst>
                <a:gd name="adj1" fmla="val 75009"/>
                <a:gd name="adj2" fmla="val 100000"/>
              </a:avLst>
            </a:prstGeom>
            <a:solidFill>
              <a:srgbClr val="0c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2570040" y="2444760"/>
            <a:ext cx="64800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5776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7688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5020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43120" y="2387520"/>
            <a:ext cx="1087200" cy="157320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6572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9096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2720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8664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97256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99440" y="4483080"/>
            <a:ext cx="295200" cy="399960"/>
          </a:xfrm>
          <a:prstGeom prst="rightArrow">
            <a:avLst>
              <a:gd name="adj1" fmla="val 75009"/>
              <a:gd name="adj2" fmla="val 100000"/>
            </a:avLst>
          </a:prstGeom>
          <a:solidFill>
            <a:srgbClr val="01c2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7800" y="4495680"/>
            <a:ext cx="7769160" cy="398520"/>
          </a:xfrm>
          <a:prstGeom prst="leftArrow">
            <a:avLst>
              <a:gd name="adj1" fmla="val 75009"/>
              <a:gd name="adj2" fmla="val 79875"/>
            </a:avLst>
          </a:prstGeom>
          <a:solidFill>
            <a:srgbClr val="01c2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801720" y="2285640"/>
            <a:ext cx="118116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571840" y="2333520"/>
            <a:ext cx="7048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3868560" y="2332080"/>
            <a:ext cx="7048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6167520" y="2332080"/>
            <a:ext cx="7048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7440480" y="2332080"/>
            <a:ext cx="7048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971800" y="1371600"/>
            <a:ext cx="4883040" cy="1074240"/>
            <a:chOff x="2971800" y="1371600"/>
            <a:chExt cx="4883040" cy="1074240"/>
          </a:xfrm>
        </p:grpSpPr>
        <p:sp>
          <p:nvSpPr>
            <p:cNvPr id="418" name=""/>
            <p:cNvSpPr/>
            <p:nvPr/>
          </p:nvSpPr>
          <p:spPr>
            <a:xfrm>
              <a:off x="2971800" y="1630080"/>
              <a:ext cx="2120760" cy="792000"/>
            </a:xfrm>
            <a:custGeom>
              <a:avLst/>
              <a:gdLst/>
              <a:ahLst/>
              <a:rect l="l" t="t" r="r" b="b"/>
              <a:pathLst>
                <a:path w="1336" h="499">
                  <a:moveTo>
                    <a:pt x="1335" y="0"/>
                  </a:moveTo>
                  <a:lnTo>
                    <a:pt x="1335" y="171"/>
                  </a:lnTo>
                  <a:lnTo>
                    <a:pt x="0" y="171"/>
                  </a:lnTo>
                  <a:lnTo>
                    <a:pt x="0" y="498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34080" y="1630080"/>
              <a:ext cx="2120760" cy="792000"/>
            </a:xfrm>
            <a:custGeom>
              <a:avLst/>
              <a:gdLst/>
              <a:ahLst/>
              <a:rect l="l" t="t" r="r" b="b"/>
              <a:pathLst>
                <a:path w="1336" h="499">
                  <a:moveTo>
                    <a:pt x="0" y="0"/>
                  </a:moveTo>
                  <a:lnTo>
                    <a:pt x="0" y="171"/>
                  </a:lnTo>
                  <a:lnTo>
                    <a:pt x="1335" y="171"/>
                  </a:lnTo>
                  <a:lnTo>
                    <a:pt x="1335" y="498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68520" y="1571400"/>
              <a:ext cx="990720" cy="874440"/>
            </a:xfrm>
            <a:custGeom>
              <a:avLst/>
              <a:gdLst/>
              <a:ahLst/>
              <a:rect l="l" t="t" r="r" b="b"/>
              <a:pathLst>
                <a:path w="624" h="551">
                  <a:moveTo>
                    <a:pt x="623" y="0"/>
                  </a:moveTo>
                  <a:lnTo>
                    <a:pt x="623" y="297"/>
                  </a:lnTo>
                  <a:lnTo>
                    <a:pt x="0" y="297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89360" y="1550880"/>
              <a:ext cx="990720" cy="894960"/>
            </a:xfrm>
            <a:custGeom>
              <a:avLst/>
              <a:gdLst/>
              <a:ahLst/>
              <a:rect l="l" t="t" r="r" b="b"/>
              <a:pathLst>
                <a:path w="624" h="564">
                  <a:moveTo>
                    <a:pt x="0" y="0"/>
                  </a:moveTo>
                  <a:lnTo>
                    <a:pt x="0" y="304"/>
                  </a:lnTo>
                  <a:lnTo>
                    <a:pt x="623" y="304"/>
                  </a:lnTo>
                  <a:lnTo>
                    <a:pt x="623" y="563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98880" y="1371600"/>
              <a:ext cx="1152720" cy="295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29120" y="1684080"/>
              <a:ext cx="971280" cy="574920"/>
            </a:xfrm>
            <a:prstGeom prst="rect">
              <a:avLst/>
            </a:prstGeom>
            <a:solidFill>
              <a:srgbClr val="0cecf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M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369520" y="4551480"/>
            <a:ext cx="44398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2 Mb/s, 33 MHz, 32-bit Compute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111400" y="1231920"/>
            <a:ext cx="5459400" cy="1987560"/>
            <a:chOff x="2111400" y="1231920"/>
            <a:chExt cx="5459400" cy="1987560"/>
          </a:xfrm>
        </p:grpSpPr>
        <p:sp>
          <p:nvSpPr>
            <p:cNvPr id="426" name=""/>
            <p:cNvSpPr/>
            <p:nvPr/>
          </p:nvSpPr>
          <p:spPr>
            <a:xfrm>
              <a:off x="2334960" y="1231920"/>
              <a:ext cx="14803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ar Trig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9240" y="1670040"/>
              <a:ext cx="1728720" cy="1351080"/>
            </a:xfrm>
            <a:custGeom>
              <a:avLst/>
              <a:gdLst/>
              <a:ahLst/>
              <a:rect l="l" t="t" r="r" b="b"/>
              <a:pathLst>
                <a:path w="1089" h="851">
                  <a:moveTo>
                    <a:pt x="177" y="850"/>
                  </a:moveTo>
                  <a:lnTo>
                    <a:pt x="0" y="85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476"/>
                  </a:lnTo>
                  <a:lnTo>
                    <a:pt x="1088" y="489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1590840"/>
              <a:ext cx="4130640" cy="1528560"/>
            </a:xfrm>
            <a:custGeom>
              <a:avLst/>
              <a:gdLst/>
              <a:ahLst/>
              <a:rect l="l" t="t" r="r" b="b"/>
              <a:pathLst>
                <a:path w="2602" h="963">
                  <a:moveTo>
                    <a:pt x="238" y="962"/>
                  </a:moveTo>
                  <a:lnTo>
                    <a:pt x="0" y="962"/>
                  </a:lnTo>
                  <a:lnTo>
                    <a:pt x="0" y="0"/>
                  </a:lnTo>
                  <a:lnTo>
                    <a:pt x="2601" y="0"/>
                  </a:lnTo>
                  <a:lnTo>
                    <a:pt x="2601" y="521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11400" y="1511280"/>
              <a:ext cx="5459400" cy="1708200"/>
            </a:xfrm>
            <a:custGeom>
              <a:avLst/>
              <a:gdLst/>
              <a:ahLst/>
              <a:rect l="l" t="t" r="r" b="b"/>
              <a:pathLst>
                <a:path w="3439" h="1076">
                  <a:moveTo>
                    <a:pt x="287" y="1075"/>
                  </a:moveTo>
                  <a:lnTo>
                    <a:pt x="0" y="1075"/>
                  </a:lnTo>
                  <a:lnTo>
                    <a:pt x="0" y="0"/>
                  </a:lnTo>
                  <a:lnTo>
                    <a:pt x="3438" y="0"/>
                  </a:lnTo>
                  <a:lnTo>
                    <a:pt x="3438" y="291"/>
                  </a:lnTo>
                  <a:lnTo>
                    <a:pt x="3438" y="557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320840" y="4567320"/>
            <a:ext cx="833400" cy="237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431" name=""/>
          <p:cNvSpPr/>
          <p:nvPr/>
        </p:nvSpPr>
        <p:spPr>
          <a:xfrm>
            <a:off x="5075280" y="3159000"/>
            <a:ext cx="10620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00640" y="3159000"/>
            <a:ext cx="10656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527800" y="3159000"/>
            <a:ext cx="10620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251160" y="3029040"/>
            <a:ext cx="4170240" cy="987480"/>
            <a:chOff x="3251160" y="3029040"/>
            <a:chExt cx="4170240" cy="987480"/>
          </a:xfrm>
        </p:grpSpPr>
        <p:sp>
          <p:nvSpPr>
            <p:cNvPr id="435" name=""/>
            <p:cNvSpPr/>
            <p:nvPr/>
          </p:nvSpPr>
          <p:spPr>
            <a:xfrm>
              <a:off x="4956840" y="3387600"/>
              <a:ext cx="9194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1160" y="3049560"/>
              <a:ext cx="406440" cy="303120"/>
            </a:xfrm>
            <a:prstGeom prst="leftArrow">
              <a:avLst>
                <a:gd name="adj1" fmla="val 50000"/>
                <a:gd name="adj2" fmla="val 6180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57600" y="3048120"/>
              <a:ext cx="163440" cy="30456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1520" y="3059280"/>
              <a:ext cx="387360" cy="303120"/>
            </a:xfrm>
            <a:prstGeom prst="leftArrow">
              <a:avLst>
                <a:gd name="adj1" fmla="val 50000"/>
                <a:gd name="adj2" fmla="val 6504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3057480"/>
              <a:ext cx="182520" cy="30492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23000" y="3040200"/>
              <a:ext cx="309600" cy="303120"/>
            </a:xfrm>
            <a:prstGeom prst="leftArrow">
              <a:avLst>
                <a:gd name="adj1" fmla="val 50000"/>
                <a:gd name="adj2" fmla="val 5106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7840" y="3029040"/>
              <a:ext cx="309600" cy="304560"/>
            </a:xfrm>
            <a:prstGeom prst="rightArrow">
              <a:avLst>
                <a:gd name="adj1" fmla="val 50000"/>
                <a:gd name="adj2" fmla="val 5083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lectrical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9520" y="2895480"/>
            <a:ext cx="77886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Bu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gger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X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 lin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TTL, 2 EC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MHz EC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-size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X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 lin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TT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MHz TT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per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2819520"/>
            <a:ext cx="7848360" cy="1523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3276720"/>
            <a:ext cx="7848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809880"/>
            <a:ext cx="7848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866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Leverages VXI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346040" y="1828800"/>
            <a:ext cx="70200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0160" y="4703760"/>
            <a:ext cx="653760" cy="63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4920" y="1903320"/>
            <a:ext cx="7945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PXI-6070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56160" y="183996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79920" y="4714920"/>
            <a:ext cx="654120" cy="63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81000" y="1914480"/>
            <a:ext cx="6271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NI 51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15200" y="183996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38960" y="4714920"/>
            <a:ext cx="654120" cy="63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11240" y="1913040"/>
            <a:ext cx="711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PXI-65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 rot="5400000">
            <a:off x="715680" y="335628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 rot="5400000">
            <a:off x="6670440" y="335628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97000" y="2297160"/>
            <a:ext cx="3310200" cy="690480"/>
          </a:xfrm>
          <a:prstGeom prst="rightArrow">
            <a:avLst>
              <a:gd name="adj1" fmla="val 50000"/>
              <a:gd name="adj2" fmla="val 67139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32120" y="2502000"/>
            <a:ext cx="1314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S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73240" y="3751200"/>
            <a:ext cx="3333960" cy="690480"/>
          </a:xfrm>
          <a:prstGeom prst="rightArrow">
            <a:avLst>
              <a:gd name="adj1" fmla="val 50000"/>
              <a:gd name="adj2" fmla="val 67151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57800" y="3943440"/>
            <a:ext cx="1824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SI Oscil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 rot="5400000">
            <a:off x="4836960" y="335628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92720" y="2297160"/>
            <a:ext cx="1096920" cy="690480"/>
          </a:xfrm>
          <a:prstGeom prst="rightArrow">
            <a:avLst>
              <a:gd name="adj1" fmla="val 50000"/>
              <a:gd name="adj2" fmla="val 58316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92720" y="3773520"/>
            <a:ext cx="1096920" cy="690480"/>
          </a:xfrm>
          <a:prstGeom prst="rightArrow">
            <a:avLst>
              <a:gd name="adj1" fmla="val 50000"/>
              <a:gd name="adj2" fmla="val 58316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2240" y="5494320"/>
            <a:ext cx="198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function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42880" y="5486400"/>
            <a:ext cx="1604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cill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81840" y="5494320"/>
            <a:ext cx="1250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odules Synchronize with the PXI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rigger Bu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324080" y="183204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47840" y="4707000"/>
            <a:ext cx="654120" cy="63000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7000" y="2502000"/>
            <a:ext cx="404640" cy="392040"/>
          </a:xfrm>
          <a:prstGeom prst="ellipse">
            <a:avLst/>
          </a:prstGeom>
          <a:solidFill>
            <a:srgbClr val="f8103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62040" y="2585880"/>
            <a:ext cx="220680" cy="21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467000" y="2990880"/>
            <a:ext cx="404640" cy="392040"/>
            <a:chOff x="1467000" y="2990880"/>
            <a:chExt cx="404640" cy="392040"/>
          </a:xfrm>
        </p:grpSpPr>
        <p:sp>
          <p:nvSpPr>
            <p:cNvPr id="479" name=""/>
            <p:cNvSpPr/>
            <p:nvPr/>
          </p:nvSpPr>
          <p:spPr>
            <a:xfrm>
              <a:off x="1467000" y="2990880"/>
              <a:ext cx="404640" cy="39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62040" y="3074760"/>
              <a:ext cx="220680" cy="21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467000" y="3490920"/>
            <a:ext cx="404640" cy="392040"/>
          </a:xfrm>
          <a:prstGeom prst="ellipse">
            <a:avLst/>
          </a:prstGeom>
          <a:solidFill>
            <a:srgbClr val="f8103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2040" y="3575160"/>
            <a:ext cx="220680" cy="214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467000" y="3979800"/>
            <a:ext cx="404640" cy="392040"/>
            <a:chOff x="1467000" y="3979800"/>
            <a:chExt cx="404640" cy="392040"/>
          </a:xfrm>
        </p:grpSpPr>
        <p:sp>
          <p:nvSpPr>
            <p:cNvPr id="484" name=""/>
            <p:cNvSpPr/>
            <p:nvPr/>
          </p:nvSpPr>
          <p:spPr>
            <a:xfrm>
              <a:off x="1467000" y="3979800"/>
              <a:ext cx="404640" cy="39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62040" y="4063680"/>
              <a:ext cx="220680" cy="214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342080" y="1887480"/>
            <a:ext cx="721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NI 4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553080" y="184320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76840" y="4718160"/>
            <a:ext cx="654120" cy="63000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69640" y="1887480"/>
            <a:ext cx="721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NI 2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292880" y="184320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16640" y="4718160"/>
            <a:ext cx="654120" cy="63000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85680" y="1887480"/>
            <a:ext cx="721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NI 25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 rot="5400000">
            <a:off x="5897520" y="335952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 rot="5400000">
            <a:off x="6648120" y="335952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75040" y="2300400"/>
            <a:ext cx="4464000" cy="690480"/>
          </a:xfrm>
          <a:prstGeom prst="rightArrow">
            <a:avLst>
              <a:gd name="adj1" fmla="val 50000"/>
              <a:gd name="adj2" fmla="val 65997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99880" y="2492280"/>
            <a:ext cx="2394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 Meter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50920" y="3754440"/>
            <a:ext cx="4464360" cy="690480"/>
          </a:xfrm>
          <a:prstGeom prst="leftArrow">
            <a:avLst>
              <a:gd name="adj1" fmla="val 50000"/>
              <a:gd name="adj2" fmla="val 65943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53120" y="3935520"/>
            <a:ext cx="1745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30720" y="4357800"/>
            <a:ext cx="1446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N_AD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36160" y="4429080"/>
            <a:ext cx="678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8400" y="1927080"/>
            <a:ext cx="846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96920" y="1797120"/>
            <a:ext cx="678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960" y="5462640"/>
            <a:ext cx="2099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Multi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61800" y="5477040"/>
            <a:ext cx="2315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itch Multiplex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NI, ASCO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nstruments use the PXI Trigger Bus for Handshaking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of PXI and CompactPCI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rd Party Suppo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ICM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XI Systems Al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 PXI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90360" y="2971440"/>
            <a:ext cx="769284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er of this multivendor group is to: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omote PXI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nsure Interoperab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trol the PXI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nd-user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50 multinational company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ww.pxis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34120" y="1447920"/>
          <a:ext cx="21333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447920"/>
                    <a:ext cx="2133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1066680" y="1219320"/>
            <a:ext cx="3048120" cy="34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xi-logo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3048120" cy="12319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66680" y="2438280"/>
            <a:ext cx="3048120" cy="97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Impact"/>
              </a:rPr>
              <a:t>Systems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PXI Specification Bod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Systems Alliance Membe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5744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R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sp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epel 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DE Systems (Marco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TE-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ovative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inetic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Cro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C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N Mikro Elektro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lon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multivendorchassis" descr=""/>
          <p:cNvPicPr/>
          <p:nvPr/>
        </p:nvPicPr>
        <p:blipFill>
          <a:blip r:embed="rId1"/>
          <a:stretch/>
        </p:blipFill>
        <p:spPr>
          <a:xfrm>
            <a:off x="3457440" y="2529000"/>
            <a:ext cx="2560680" cy="19731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0948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qir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ed Power Desig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ed Test 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phi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a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C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VOO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&amp;T Engineering Tech. Ct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&amp;B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ttWare Research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de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&amp;H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OMA 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Patte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pp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lch Compute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1812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onal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ckering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X Instrument Te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cal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ntum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BS Green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anxi HiT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incraft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ewell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I Test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o Electronics (AP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ginia Panel Cor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r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ek Mi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llard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80880" y="1219320"/>
            <a:ext cx="8382240" cy="4914720"/>
            <a:chOff x="380880" y="1219320"/>
            <a:chExt cx="8382240" cy="4914720"/>
          </a:xfrm>
        </p:grpSpPr>
        <p:pic>
          <p:nvPicPr>
            <p:cNvPr id="519" name="Analogic%20Logo" descr=""/>
            <p:cNvPicPr/>
            <p:nvPr/>
          </p:nvPicPr>
          <p:blipFill>
            <a:blip r:embed="rId2"/>
            <a:stretch/>
          </p:blipFill>
          <p:spPr>
            <a:xfrm>
              <a:off x="2971800" y="5715000"/>
              <a:ext cx="3809880" cy="419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grpSp>
          <p:nvGrpSpPr>
            <p:cNvPr id="520" name=""/>
            <p:cNvGrpSpPr/>
            <p:nvPr/>
          </p:nvGrpSpPr>
          <p:grpSpPr>
            <a:xfrm>
              <a:off x="7010280" y="1295280"/>
              <a:ext cx="1457280" cy="676440"/>
              <a:chOff x="7010280" y="1295280"/>
              <a:chExt cx="1457280" cy="676440"/>
            </a:xfrm>
          </p:grpSpPr>
          <p:sp>
            <p:nvSpPr>
              <p:cNvPr id="521" name=""/>
              <p:cNvSpPr/>
              <p:nvPr/>
            </p:nvSpPr>
            <p:spPr>
              <a:xfrm>
                <a:off x="7086240" y="1371600"/>
                <a:ext cx="12193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2" name="GTE%20Logo1" descr=""/>
              <p:cNvPicPr/>
              <p:nvPr/>
            </p:nvPicPr>
            <p:blipFill>
              <a:blip r:embed="rId3"/>
              <a:stretch/>
            </p:blipFill>
            <p:spPr>
              <a:xfrm>
                <a:off x="7010280" y="1295280"/>
                <a:ext cx="1457280" cy="676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3" name="WelcometoLeCroy" descr=""/>
            <p:cNvPicPr/>
            <p:nvPr/>
          </p:nvPicPr>
          <p:blipFill>
            <a:blip r:embed="rId4"/>
            <a:stretch/>
          </p:blipFill>
          <p:spPr>
            <a:xfrm>
              <a:off x="380880" y="2895480"/>
              <a:ext cx="2660760" cy="747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pic>
          <p:nvPicPr>
            <p:cNvPr id="524" name="racbig" descr=""/>
            <p:cNvPicPr/>
            <p:nvPr/>
          </p:nvPicPr>
          <p:blipFill>
            <a:blip r:embed="rId5"/>
            <a:stretch/>
          </p:blipFill>
          <p:spPr>
            <a:xfrm>
              <a:off x="380880" y="1447920"/>
              <a:ext cx="2743200" cy="714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grpSp>
          <p:nvGrpSpPr>
            <p:cNvPr id="525" name=""/>
            <p:cNvGrpSpPr/>
            <p:nvPr/>
          </p:nvGrpSpPr>
          <p:grpSpPr>
            <a:xfrm>
              <a:off x="3276720" y="1219320"/>
              <a:ext cx="3123720" cy="739440"/>
              <a:chOff x="3276720" y="1219320"/>
              <a:chExt cx="3123720" cy="739440"/>
            </a:xfrm>
          </p:grpSpPr>
          <p:sp>
            <p:nvSpPr>
              <p:cNvPr id="526" name=""/>
              <p:cNvSpPr/>
              <p:nvPr/>
            </p:nvSpPr>
            <p:spPr>
              <a:xfrm>
                <a:off x="3276720" y="1219320"/>
                <a:ext cx="3123720" cy="73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7" name="genradlogo2" descr=""/>
              <p:cNvPicPr/>
              <p:nvPr/>
            </p:nvPicPr>
            <p:blipFill>
              <a:blip r:embed="rId6"/>
              <a:stretch/>
            </p:blipFill>
            <p:spPr>
              <a:xfrm>
                <a:off x="3276720" y="1219320"/>
                <a:ext cx="3041640" cy="70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8" name="dolchlogo" descr=""/>
            <p:cNvPicPr/>
            <p:nvPr/>
          </p:nvPicPr>
          <p:blipFill>
            <a:blip r:embed="rId7"/>
            <a:stretch/>
          </p:blipFill>
          <p:spPr>
            <a:xfrm>
              <a:off x="7086600" y="2362320"/>
              <a:ext cx="140976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kineticsyslogo" descr=""/>
            <p:cNvPicPr/>
            <p:nvPr/>
          </p:nvPicPr>
          <p:blipFill>
            <a:blip r:embed="rId8"/>
            <a:stretch/>
          </p:blipFill>
          <p:spPr>
            <a:xfrm>
              <a:off x="6781680" y="4114800"/>
              <a:ext cx="198144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marconilogo" descr=""/>
            <p:cNvPicPr/>
            <p:nvPr/>
          </p:nvPicPr>
          <p:blipFill>
            <a:blip r:embed="rId9"/>
            <a:stretch/>
          </p:blipFill>
          <p:spPr>
            <a:xfrm>
              <a:off x="380880" y="4495680"/>
              <a:ext cx="273384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lexible Install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914400" y="1219320"/>
          <a:ext cx="7023240" cy="47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02324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XIlogo-blackonwhite" descr=""/>
          <p:cNvPicPr/>
          <p:nvPr/>
        </p:nvPicPr>
        <p:blipFill>
          <a:blip r:embed="rId1"/>
          <a:stretch/>
        </p:blipFill>
        <p:spPr>
          <a:xfrm>
            <a:off x="2590920" y="5410080"/>
            <a:ext cx="914400" cy="3700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687920" y="3987720"/>
            <a:ext cx="677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8840" y="3998880"/>
            <a:ext cx="843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492280" y="5315040"/>
            <a:ext cx="1125720" cy="514440"/>
            <a:chOff x="2492280" y="5315040"/>
            <a:chExt cx="1125720" cy="514440"/>
          </a:xfrm>
        </p:grpSpPr>
        <p:pic>
          <p:nvPicPr>
            <p:cNvPr id="538" name="" descr=""/>
            <p:cNvPicPr/>
            <p:nvPr/>
          </p:nvPicPr>
          <p:blipFill>
            <a:blip r:embed="rId2"/>
            <a:stretch/>
          </p:blipFill>
          <p:spPr>
            <a:xfrm>
              <a:off x="2514600" y="5342040"/>
              <a:ext cx="10936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492280" y="5499720"/>
              <a:ext cx="1125720" cy="39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85920" y="5315040"/>
              <a:ext cx="115560" cy="14688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78720" y="5694840"/>
              <a:ext cx="133920" cy="13464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90640" y="5338440"/>
              <a:ext cx="356760" cy="48924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38920" y="5333400"/>
              <a:ext cx="198360" cy="49536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96920" y="5334120"/>
              <a:ext cx="501840" cy="10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417600" y="2914560"/>
            <a:ext cx="1969920" cy="10652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3046320" cy="266544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3027240" y="2992320"/>
            <a:ext cx="1730520" cy="1343160"/>
            <a:chOff x="3027240" y="2992320"/>
            <a:chExt cx="1730520" cy="1343160"/>
          </a:xfrm>
        </p:grpSpPr>
        <p:pic>
          <p:nvPicPr>
            <p:cNvPr id="548" name="" descr=""/>
            <p:cNvPicPr/>
            <p:nvPr/>
          </p:nvPicPr>
          <p:blipFill>
            <a:blip r:embed="rId5"/>
            <a:stretch/>
          </p:blipFill>
          <p:spPr>
            <a:xfrm>
              <a:off x="3038400" y="3006720"/>
              <a:ext cx="170676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3030480" y="2998800"/>
              <a:ext cx="1724040" cy="903240"/>
            </a:xfrm>
            <a:custGeom>
              <a:avLst/>
              <a:gdLst/>
              <a:ahLst/>
              <a:rect l="l" t="t" r="r" b="b"/>
              <a:pathLst>
                <a:path w="2934" h="1536">
                  <a:moveTo>
                    <a:pt x="0" y="0"/>
                  </a:moveTo>
                  <a:lnTo>
                    <a:pt x="306" y="192"/>
                  </a:lnTo>
                  <a:lnTo>
                    <a:pt x="1146" y="138"/>
                  </a:lnTo>
                  <a:lnTo>
                    <a:pt x="2808" y="456"/>
                  </a:lnTo>
                  <a:lnTo>
                    <a:pt x="2610" y="1536"/>
                  </a:lnTo>
                  <a:lnTo>
                    <a:pt x="2934" y="1536"/>
                  </a:lnTo>
                  <a:lnTo>
                    <a:pt x="29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27240" y="2992320"/>
              <a:ext cx="1730520" cy="1343160"/>
            </a:xfrm>
            <a:custGeom>
              <a:avLst/>
              <a:gdLst/>
              <a:ahLst/>
              <a:rect l="l" t="t" r="r" b="b"/>
              <a:pathLst>
                <a:path w="2946" h="2286">
                  <a:moveTo>
                    <a:pt x="0" y="0"/>
                  </a:moveTo>
                  <a:lnTo>
                    <a:pt x="312" y="198"/>
                  </a:lnTo>
                  <a:lnTo>
                    <a:pt x="132" y="1698"/>
                  </a:lnTo>
                  <a:lnTo>
                    <a:pt x="2316" y="2136"/>
                  </a:lnTo>
                  <a:lnTo>
                    <a:pt x="2616" y="1542"/>
                  </a:lnTo>
                  <a:lnTo>
                    <a:pt x="2946" y="1542"/>
                  </a:lnTo>
                  <a:lnTo>
                    <a:pt x="2946" y="2286"/>
                  </a:lnTo>
                  <a:lnTo>
                    <a:pt x="0" y="2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6"/>
          <a:stretch/>
        </p:blipFill>
        <p:spPr>
          <a:xfrm>
            <a:off x="6970680" y="5181480"/>
            <a:ext cx="1204920" cy="557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400800" y="2743200"/>
            <a:ext cx="2743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VXI orV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05240" y="3720960"/>
            <a:ext cx="1470240" cy="695520"/>
          </a:xfrm>
          <a:custGeom>
            <a:avLst/>
            <a:gdLst/>
            <a:ahLst/>
            <a:rect l="l" t="t" r="r" b="b"/>
            <a:pathLst>
              <a:path w="878" h="378">
                <a:moveTo>
                  <a:pt x="0" y="0"/>
                </a:moveTo>
                <a:lnTo>
                  <a:pt x="0" y="378"/>
                </a:lnTo>
                <a:lnTo>
                  <a:pt x="878" y="378"/>
                </a:lnTo>
              </a:path>
            </a:pathLst>
          </a:custGeom>
          <a:noFill/>
          <a:ln w="57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68360" y="3813120"/>
            <a:ext cx="2035080" cy="538200"/>
          </a:xfrm>
          <a:custGeom>
            <a:avLst/>
            <a:gdLst/>
            <a:ahLst/>
            <a:rect l="l" t="t" r="r" b="b"/>
            <a:pathLst>
              <a:path w="961" h="339">
                <a:moveTo>
                  <a:pt x="0" y="0"/>
                </a:moveTo>
                <a:lnTo>
                  <a:pt x="0" y="338"/>
                </a:lnTo>
                <a:lnTo>
                  <a:pt x="960" y="338"/>
                </a:lnTo>
                <a:lnTo>
                  <a:pt x="960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2209680"/>
            <a:ext cx="2898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-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025800" y="2738520"/>
            <a:ext cx="1774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XI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8320" y="4095360"/>
            <a:ext cx="352440" cy="1219320"/>
          </a:xfrm>
          <a:prstGeom prst="line">
            <a:avLst/>
          </a:prstGeom>
          <a:ln w="57240">
            <a:solidFill>
              <a:srgbClr val="b2b2b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3970440" y="4172040"/>
            <a:ext cx="257040" cy="1123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40080" y="5827680"/>
            <a:ext cx="12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63920" y="5827680"/>
            <a:ext cx="121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03480" y="5041800"/>
            <a:ext cx="38862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36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36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67400" y="2438280"/>
            <a:ext cx="990360" cy="852480"/>
            <a:chOff x="4667400" y="2438280"/>
            <a:chExt cx="990360" cy="852480"/>
          </a:xfrm>
        </p:grpSpPr>
        <p:sp>
          <p:nvSpPr>
            <p:cNvPr id="563" name=""/>
            <p:cNvSpPr/>
            <p:nvPr/>
          </p:nvSpPr>
          <p:spPr>
            <a:xfrm>
              <a:off x="4667400" y="2438280"/>
              <a:ext cx="990360" cy="85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7"/>
            <a:srcRect l="0" t="0" r="0" b="14731"/>
            <a:stretch/>
          </p:blipFill>
          <p:spPr>
            <a:xfrm>
              <a:off x="4684320" y="2454480"/>
              <a:ext cx="9504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Works with Other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86000" y="1143000"/>
            <a:ext cx="2687400" cy="2387520"/>
            <a:chOff x="2286000" y="1143000"/>
            <a:chExt cx="2687400" cy="2387520"/>
          </a:xfrm>
        </p:grpSpPr>
        <p:grpSp>
          <p:nvGrpSpPr>
            <p:cNvPr id="567" name=""/>
            <p:cNvGrpSpPr/>
            <p:nvPr/>
          </p:nvGrpSpPr>
          <p:grpSpPr>
            <a:xfrm>
              <a:off x="2819520" y="1143000"/>
              <a:ext cx="2153880" cy="2387520"/>
              <a:chOff x="2819520" y="1143000"/>
              <a:chExt cx="2153880" cy="238752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3657600" y="1143000"/>
                <a:ext cx="1315800" cy="1150560"/>
                <a:chOff x="3657600" y="1143000"/>
                <a:chExt cx="1315800" cy="1150560"/>
              </a:xfrm>
            </p:grpSpPr>
            <p:pic>
              <p:nvPicPr>
                <p:cNvPr id="5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57600" y="1143000"/>
                  <a:ext cx="1315800" cy="115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9"/>
                <a:srcRect l="0" t="0" r="33140" b="8738"/>
                <a:stretch/>
              </p:blipFill>
              <p:spPr>
                <a:xfrm>
                  <a:off x="4000680" y="1253520"/>
                  <a:ext cx="618120" cy="43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1" name=""/>
              <p:cNvSpPr/>
              <p:nvPr/>
            </p:nvSpPr>
            <p:spPr>
              <a:xfrm>
                <a:off x="2819520" y="1905120"/>
                <a:ext cx="990360" cy="1625400"/>
              </a:xfrm>
              <a:custGeom>
                <a:avLst/>
                <a:gdLst/>
                <a:ahLst/>
                <a:rect l="l" t="t" r="r" b="b"/>
                <a:pathLst>
                  <a:path w="624" h="1024">
                    <a:moveTo>
                      <a:pt x="624" y="16"/>
                    </a:moveTo>
                    <a:cubicBezTo>
                      <a:pt x="564" y="8"/>
                      <a:pt x="504" y="0"/>
                      <a:pt x="432" y="16"/>
                    </a:cubicBezTo>
                    <a:cubicBezTo>
                      <a:pt x="360" y="32"/>
                      <a:pt x="256" y="72"/>
                      <a:pt x="192" y="112"/>
                    </a:cubicBezTo>
                    <a:cubicBezTo>
                      <a:pt x="128" y="152"/>
                      <a:pt x="72" y="176"/>
                      <a:pt x="48" y="256"/>
                    </a:cubicBezTo>
                    <a:cubicBezTo>
                      <a:pt x="24" y="336"/>
                      <a:pt x="0" y="464"/>
                      <a:pt x="48" y="592"/>
                    </a:cubicBezTo>
                    <a:cubicBezTo>
                      <a:pt x="96" y="720"/>
                      <a:pt x="288" y="952"/>
                      <a:pt x="336" y="102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2286000" y="1752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XI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is for the Whole Enterpris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74" name="PCauto2" descr=""/>
          <p:cNvPicPr/>
          <p:nvPr/>
        </p:nvPicPr>
        <p:blipFill>
          <a:blip r:embed="rId1"/>
          <a:stretch/>
        </p:blipFill>
        <p:spPr>
          <a:xfrm>
            <a:off x="1414440" y="2743200"/>
            <a:ext cx="5418000" cy="34844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59691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ble, bench top, and rack-mount i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nd Measur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qui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ial Auto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047600" y="1486080"/>
            <a:ext cx="1846080" cy="1571760"/>
            <a:chOff x="1047600" y="1486080"/>
            <a:chExt cx="1846080" cy="1571760"/>
          </a:xfrm>
        </p:grpSpPr>
        <p:sp>
          <p:nvSpPr>
            <p:cNvPr id="577" name=""/>
            <p:cNvSpPr/>
            <p:nvPr/>
          </p:nvSpPr>
          <p:spPr>
            <a:xfrm>
              <a:off x="1455480" y="1486080"/>
              <a:ext cx="0" cy="95580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61960" y="1630800"/>
              <a:ext cx="1095120" cy="70776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03080" y="1660680"/>
              <a:ext cx="100080" cy="63684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172880" y="2175120"/>
              <a:ext cx="126720" cy="3776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45760" y="1714680"/>
              <a:ext cx="111924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XI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193400" y="2472120"/>
              <a:ext cx="17002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XI-8150B  and MXI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6477120" y="3581280"/>
            <a:ext cx="2152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NTERFA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SI+E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CM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 + Device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4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733920" y="1523880"/>
            <a:ext cx="1439280" cy="941400"/>
            <a:chOff x="3733920" y="1523880"/>
            <a:chExt cx="1439280" cy="941400"/>
          </a:xfrm>
        </p:grpSpPr>
        <p:sp>
          <p:nvSpPr>
            <p:cNvPr id="585" name=""/>
            <p:cNvSpPr/>
            <p:nvPr/>
          </p:nvSpPr>
          <p:spPr>
            <a:xfrm>
              <a:off x="4111560" y="1523880"/>
              <a:ext cx="0" cy="94140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17680" y="1666440"/>
              <a:ext cx="1012680" cy="69552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81400" y="1695240"/>
              <a:ext cx="91800" cy="62712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846240" y="2214360"/>
              <a:ext cx="123840" cy="3488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11560" y="1766520"/>
              <a:ext cx="10360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+ PXI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u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581280" y="3581280"/>
            <a:ext cx="281952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ATA ACQ. &amp; CONTRO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T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ltifunction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gital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og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age Acqui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tio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er/Ti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2280" y="3581280"/>
            <a:ext cx="324180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NSTRU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scillosco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gital Multi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bitrary Waveform 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mperature 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 Multiplex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Data Analyz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XI-2 Kits for VXI/V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867280" y="1219320"/>
            <a:ext cx="2362320" cy="1757160"/>
            <a:chOff x="5867280" y="1219320"/>
            <a:chExt cx="2362320" cy="1757160"/>
          </a:xfrm>
        </p:grpSpPr>
        <p:pic>
          <p:nvPicPr>
            <p:cNvPr id="593" name="" descr=""/>
            <p:cNvPicPr/>
            <p:nvPr/>
          </p:nvPicPr>
          <p:blipFill>
            <a:blip r:embed="rId1"/>
            <a:stretch/>
          </p:blipFill>
          <p:spPr>
            <a:xfrm>
              <a:off x="5881680" y="1238400"/>
              <a:ext cx="23302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872320" y="1228680"/>
              <a:ext cx="2352600" cy="1181160"/>
            </a:xfrm>
            <a:custGeom>
              <a:avLst/>
              <a:gdLst/>
              <a:ahLst/>
              <a:rect l="l" t="t" r="r" b="b"/>
              <a:pathLst>
                <a:path w="2934" h="1536">
                  <a:moveTo>
                    <a:pt x="0" y="0"/>
                  </a:moveTo>
                  <a:lnTo>
                    <a:pt x="306" y="192"/>
                  </a:lnTo>
                  <a:lnTo>
                    <a:pt x="1146" y="138"/>
                  </a:lnTo>
                  <a:lnTo>
                    <a:pt x="2808" y="456"/>
                  </a:lnTo>
                  <a:lnTo>
                    <a:pt x="2610" y="1536"/>
                  </a:lnTo>
                  <a:lnTo>
                    <a:pt x="2934" y="1536"/>
                  </a:lnTo>
                  <a:lnTo>
                    <a:pt x="29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67280" y="1219320"/>
              <a:ext cx="2362320" cy="1757160"/>
            </a:xfrm>
            <a:custGeom>
              <a:avLst/>
              <a:gdLst/>
              <a:ahLst/>
              <a:rect l="l" t="t" r="r" b="b"/>
              <a:pathLst>
                <a:path w="2946" h="2286">
                  <a:moveTo>
                    <a:pt x="0" y="0"/>
                  </a:moveTo>
                  <a:lnTo>
                    <a:pt x="312" y="198"/>
                  </a:lnTo>
                  <a:lnTo>
                    <a:pt x="132" y="1698"/>
                  </a:lnTo>
                  <a:lnTo>
                    <a:pt x="2316" y="2136"/>
                  </a:lnTo>
                  <a:lnTo>
                    <a:pt x="2616" y="1542"/>
                  </a:lnTo>
                  <a:lnTo>
                    <a:pt x="2946" y="1542"/>
                  </a:lnTo>
                  <a:lnTo>
                    <a:pt x="2946" y="2286"/>
                  </a:lnTo>
                  <a:lnTo>
                    <a:pt x="0" y="2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5715000" y="2971800"/>
            <a:ext cx="23702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XI and PXI/SCXI Cha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I PXI/CompactPCI Produc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mxifam4c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48160" cy="3956040"/>
          </a:xfrm>
          <a:prstGeom prst="rect">
            <a:avLst/>
          </a:prstGeom>
          <a:ln w="0">
            <a:noFill/>
          </a:ln>
        </p:spPr>
      </p:pic>
      <p:pic>
        <p:nvPicPr>
          <p:cNvPr id="599" name="ni%20MXI-3%20white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819520" cy="74124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ultisystem Extension Interface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or PCs and PXI/CompactPCI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2286000"/>
            <a:ext cx="4356000" cy="1333440"/>
          </a:xfrm>
          <a:custGeom>
            <a:avLst/>
            <a:gdLst/>
            <a:ahLst/>
            <a:rect l="l" t="t" r="r" b="b"/>
            <a:pathLst>
              <a:path w="2744" h="840">
                <a:moveTo>
                  <a:pt x="2744" y="768"/>
                </a:moveTo>
                <a:cubicBezTo>
                  <a:pt x="2428" y="804"/>
                  <a:pt x="2112" y="840"/>
                  <a:pt x="1976" y="768"/>
                </a:cubicBezTo>
                <a:cubicBezTo>
                  <a:pt x="1840" y="696"/>
                  <a:pt x="1944" y="440"/>
                  <a:pt x="1928" y="336"/>
                </a:cubicBezTo>
                <a:cubicBezTo>
                  <a:pt x="1912" y="232"/>
                  <a:pt x="1952" y="192"/>
                  <a:pt x="1880" y="144"/>
                </a:cubicBezTo>
                <a:cubicBezTo>
                  <a:pt x="1808" y="96"/>
                  <a:pt x="1736" y="64"/>
                  <a:pt x="1496" y="48"/>
                </a:cubicBezTo>
                <a:cubicBezTo>
                  <a:pt x="1256" y="32"/>
                  <a:pt x="680" y="0"/>
                  <a:pt x="440" y="48"/>
                </a:cubicBezTo>
                <a:cubicBezTo>
                  <a:pt x="200" y="96"/>
                  <a:pt x="112" y="248"/>
                  <a:pt x="56" y="336"/>
                </a:cubicBezTo>
                <a:cubicBezTo>
                  <a:pt x="0" y="424"/>
                  <a:pt x="56" y="528"/>
                  <a:pt x="104" y="576"/>
                </a:cubicBezTo>
                <a:cubicBezTo>
                  <a:pt x="152" y="624"/>
                  <a:pt x="248" y="624"/>
                  <a:pt x="344" y="624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295280" y="2895480"/>
            <a:ext cx="2438280" cy="1606320"/>
            <a:chOff x="1295280" y="2895480"/>
            <a:chExt cx="2438280" cy="1606320"/>
          </a:xfrm>
        </p:grpSpPr>
        <p:sp>
          <p:nvSpPr>
            <p:cNvPr id="603" name=""/>
            <p:cNvSpPr/>
            <p:nvPr/>
          </p:nvSpPr>
          <p:spPr>
            <a:xfrm>
              <a:off x="1473480" y="2895480"/>
              <a:ext cx="2260080" cy="1368720"/>
            </a:xfrm>
            <a:custGeom>
              <a:avLst/>
              <a:gdLst/>
              <a:ahLst/>
              <a:rect l="l" t="t" r="r" b="b"/>
              <a:pathLst>
                <a:path w="1824" h="1104">
                  <a:moveTo>
                    <a:pt x="0" y="0"/>
                  </a:moveTo>
                  <a:lnTo>
                    <a:pt x="1824" y="0"/>
                  </a:lnTo>
                  <a:lnTo>
                    <a:pt x="1824" y="1008"/>
                  </a:lnTo>
                  <a:lnTo>
                    <a:pt x="1248" y="1008"/>
                  </a:lnTo>
                  <a:lnTo>
                    <a:pt x="1248" y="1104"/>
                  </a:lnTo>
                  <a:lnTo>
                    <a:pt x="432" y="1104"/>
                  </a:lnTo>
                  <a:lnTo>
                    <a:pt x="432" y="1008"/>
                  </a:lnTo>
                  <a:lnTo>
                    <a:pt x="192" y="1008"/>
                  </a:lnTo>
                  <a:lnTo>
                    <a:pt x="192" y="1104"/>
                  </a:lnTo>
                  <a:lnTo>
                    <a:pt x="0" y="1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ce24"/>
            </a:solidFill>
            <a:ln w="12600">
              <a:solidFill>
                <a:srgbClr val="12ce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95280" y="2954880"/>
              <a:ext cx="118800" cy="1546920"/>
            </a:xfrm>
            <a:custGeom>
              <a:avLst/>
              <a:gdLst/>
              <a:ahLst/>
              <a:rect l="l" t="t" r="r" b="b"/>
              <a:pathLst>
                <a:path w="96" h="1248">
                  <a:moveTo>
                    <a:pt x="0" y="0"/>
                  </a:moveTo>
                  <a:lnTo>
                    <a:pt x="96" y="0"/>
                  </a:lnTo>
                  <a:lnTo>
                    <a:pt x="96" y="1248"/>
                  </a:ln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94240" y="2612880"/>
            <a:ext cx="2763000" cy="1696680"/>
            <a:chOff x="4494240" y="2612880"/>
            <a:chExt cx="2763000" cy="1696680"/>
          </a:xfrm>
        </p:grpSpPr>
        <p:sp>
          <p:nvSpPr>
            <p:cNvPr id="606" name=""/>
            <p:cNvSpPr/>
            <p:nvPr/>
          </p:nvSpPr>
          <p:spPr>
            <a:xfrm>
              <a:off x="5219280" y="2612880"/>
              <a:ext cx="0" cy="169668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30080" y="2869200"/>
              <a:ext cx="1945440" cy="125748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79760" y="2922840"/>
              <a:ext cx="177480" cy="113004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4717080" y="3835440"/>
              <a:ext cx="225000" cy="6710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XI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2388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2448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XI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92720" y="370512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919600" y="464508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Speed Seri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11400" y="3129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3000" y="53341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392600" y="28954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838080" y="1743120"/>
            <a:ext cx="6477120" cy="3336840"/>
            <a:chOff x="838080" y="1743120"/>
            <a:chExt cx="6477120" cy="3336840"/>
          </a:xfrm>
        </p:grpSpPr>
        <p:sp>
          <p:nvSpPr>
            <p:cNvPr id="620" name=""/>
            <p:cNvSpPr/>
            <p:nvPr/>
          </p:nvSpPr>
          <p:spPr>
            <a:xfrm>
              <a:off x="838080" y="1746360"/>
              <a:ext cx="6477120" cy="3333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52840" y="1743120"/>
              <a:ext cx="305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PCI-to-PCI Brid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818800" y="5562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ill Software Transpa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91520" y="320040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1294920" y="4343400"/>
            <a:ext cx="1371600" cy="1752480"/>
          </a:xfrm>
          <a:custGeom>
            <a:avLst/>
            <a:gdLst>
              <a:gd name="textAreaLeft" fmla="*/ 360 w 1371600"/>
              <a:gd name="textAreaRight" fmla="*/ 1372320 w 1371600"/>
              <a:gd name="textAreaTop" fmla="*/ 360 h 1752480"/>
              <a:gd name="textAreaBottom" fmla="*/ 1753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58" stAng="10800000" swAng="5400000"/>
                <a:lnTo>
                  <a:pt x="15150" y="3502"/>
                </a:lnTo>
                <a:lnTo>
                  <a:pt x="15150" y="0"/>
                </a:lnTo>
                <a:lnTo>
                  <a:pt x="21600" y="6079"/>
                </a:lnTo>
                <a:lnTo>
                  <a:pt x="15150" y="12158"/>
                </a:lnTo>
                <a:lnTo>
                  <a:pt x="15150" y="8656"/>
                </a:lnTo>
                <a:lnTo>
                  <a:pt x="12427" y="8656"/>
                </a:lnTo>
                <a:arcTo wR="7273" hR="3504" stAng="16200000" swAng="-5400000"/>
                <a:lnTo>
                  <a:pt x="5154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11480" y="28195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258160" y="28195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21560" y="3352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01640" y="5410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Configur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416560" y="233532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I to PXI/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86400" y="4572000"/>
            <a:ext cx="27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XI/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XI/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990720" y="1447920"/>
            <a:ext cx="4298040" cy="4401720"/>
            <a:chOff x="990720" y="1447920"/>
            <a:chExt cx="4298040" cy="4401720"/>
          </a:xfrm>
        </p:grpSpPr>
        <p:grpSp>
          <p:nvGrpSpPr>
            <p:cNvPr id="634" name=""/>
            <p:cNvGrpSpPr/>
            <p:nvPr/>
          </p:nvGrpSpPr>
          <p:grpSpPr>
            <a:xfrm>
              <a:off x="1523880" y="3810240"/>
              <a:ext cx="1707480" cy="1201320"/>
              <a:chOff x="1523880" y="3810240"/>
              <a:chExt cx="1707480" cy="1201320"/>
            </a:xfrm>
          </p:grpSpPr>
          <p:pic>
            <p:nvPicPr>
              <p:cNvPr id="635" name="pxi1000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0920" y="386352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2214720" y="381024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21480" y="419904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895760" y="460188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523880" y="381564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566000" y="399600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697040" y="442728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2819160" y="4648320"/>
              <a:ext cx="1707480" cy="1201320"/>
              <a:chOff x="2819160" y="4648320"/>
              <a:chExt cx="1707480" cy="1201320"/>
            </a:xfrm>
          </p:grpSpPr>
          <p:pic>
            <p:nvPicPr>
              <p:cNvPr id="643" name="pxi100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470160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3510000" y="464832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16760" y="503712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191040" y="543996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819160" y="465372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861280" y="483408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992320" y="526536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581280" y="1905120"/>
              <a:ext cx="1707480" cy="1201320"/>
              <a:chOff x="3581280" y="1905120"/>
              <a:chExt cx="1707480" cy="1201320"/>
            </a:xfrm>
          </p:grpSpPr>
          <p:pic>
            <p:nvPicPr>
              <p:cNvPr id="651" name="pxi1000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8320" y="195840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4272120" y="190512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078880" y="229392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953160" y="269676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81280" y="191052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623400" y="209088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54440" y="252216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2759040" y="2173320"/>
              <a:ext cx="1091880" cy="158760"/>
            </a:xfrm>
            <a:custGeom>
              <a:avLst/>
              <a:gdLst/>
              <a:ahLst/>
              <a:rect l="l" t="t" r="r" b="b"/>
              <a:pathLst>
                <a:path w="688" h="100">
                  <a:moveTo>
                    <a:pt x="0" y="76"/>
                  </a:moveTo>
                  <a:cubicBezTo>
                    <a:pt x="89" y="50"/>
                    <a:pt x="179" y="24"/>
                    <a:pt x="224" y="12"/>
                  </a:cubicBezTo>
                  <a:cubicBezTo>
                    <a:pt x="269" y="0"/>
                    <a:pt x="224" y="1"/>
                    <a:pt x="272" y="4"/>
                  </a:cubicBezTo>
                  <a:cubicBezTo>
                    <a:pt x="320" y="7"/>
                    <a:pt x="443" y="12"/>
                    <a:pt x="512" y="28"/>
                  </a:cubicBezTo>
                  <a:cubicBezTo>
                    <a:pt x="581" y="44"/>
                    <a:pt x="634" y="72"/>
                    <a:pt x="688" y="100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4"/>
            <a:stretch/>
          </p:blipFill>
          <p:spPr>
            <a:xfrm>
              <a:off x="990720" y="1447920"/>
              <a:ext cx="190332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2133360" y="4496040"/>
              <a:ext cx="985680" cy="792000"/>
            </a:xfrm>
            <a:custGeom>
              <a:avLst/>
              <a:gdLst/>
              <a:ahLst/>
              <a:rect l="l" t="t" r="r" b="b"/>
              <a:pathLst>
                <a:path w="621" h="499">
                  <a:moveTo>
                    <a:pt x="101" y="0"/>
                  </a:moveTo>
                  <a:cubicBezTo>
                    <a:pt x="55" y="50"/>
                    <a:pt x="10" y="101"/>
                    <a:pt x="5" y="144"/>
                  </a:cubicBezTo>
                  <a:cubicBezTo>
                    <a:pt x="0" y="187"/>
                    <a:pt x="18" y="216"/>
                    <a:pt x="69" y="256"/>
                  </a:cubicBezTo>
                  <a:cubicBezTo>
                    <a:pt x="120" y="296"/>
                    <a:pt x="232" y="344"/>
                    <a:pt x="309" y="384"/>
                  </a:cubicBezTo>
                  <a:cubicBezTo>
                    <a:pt x="386" y="424"/>
                    <a:pt x="481" y="499"/>
                    <a:pt x="533" y="496"/>
                  </a:cubicBezTo>
                  <a:cubicBezTo>
                    <a:pt x="585" y="493"/>
                    <a:pt x="603" y="430"/>
                    <a:pt x="621" y="368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001880" y="2755800"/>
            <a:ext cx="3328920" cy="1511280"/>
          </a:xfrm>
          <a:custGeom>
            <a:avLst/>
            <a:gdLst/>
            <a:ahLst/>
            <a:rect l="l" t="t" r="r" b="b"/>
            <a:pathLst>
              <a:path w="2097" h="952">
                <a:moveTo>
                  <a:pt x="2097" y="0"/>
                </a:moveTo>
                <a:cubicBezTo>
                  <a:pt x="2053" y="79"/>
                  <a:pt x="2010" y="159"/>
                  <a:pt x="1865" y="232"/>
                </a:cubicBezTo>
                <a:cubicBezTo>
                  <a:pt x="1720" y="305"/>
                  <a:pt x="1465" y="384"/>
                  <a:pt x="1225" y="440"/>
                </a:cubicBezTo>
                <a:cubicBezTo>
                  <a:pt x="985" y="496"/>
                  <a:pt x="616" y="520"/>
                  <a:pt x="425" y="568"/>
                </a:cubicBezTo>
                <a:cubicBezTo>
                  <a:pt x="234" y="616"/>
                  <a:pt x="140" y="672"/>
                  <a:pt x="81" y="728"/>
                </a:cubicBezTo>
                <a:cubicBezTo>
                  <a:pt x="22" y="784"/>
                  <a:pt x="0" y="867"/>
                  <a:pt x="73" y="904"/>
                </a:cubicBezTo>
                <a:cubicBezTo>
                  <a:pt x="146" y="941"/>
                  <a:pt x="446" y="944"/>
                  <a:pt x="521" y="952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" y="1371600"/>
            <a:ext cx="4952880" cy="4495680"/>
          </a:xfrm>
          <a:prstGeom prst="rect">
            <a:avLst/>
          </a:prstGeom>
          <a:solidFill>
            <a:srgbClr val="27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990720" y="1447920"/>
            <a:ext cx="4217400" cy="4287240"/>
            <a:chOff x="990720" y="1447920"/>
            <a:chExt cx="4217400" cy="4287240"/>
          </a:xfrm>
        </p:grpSpPr>
        <p:grpSp>
          <p:nvGrpSpPr>
            <p:cNvPr id="664" name=""/>
            <p:cNvGrpSpPr/>
            <p:nvPr/>
          </p:nvGrpSpPr>
          <p:grpSpPr>
            <a:xfrm>
              <a:off x="3582720" y="2022480"/>
              <a:ext cx="1625400" cy="1142640"/>
              <a:chOff x="3582720" y="2022480"/>
              <a:chExt cx="1625400" cy="1142640"/>
            </a:xfrm>
          </p:grpSpPr>
          <p:pic>
            <p:nvPicPr>
              <p:cNvPr id="665" name="pxi1000" descr=""/>
              <p:cNvPicPr/>
              <p:nvPr/>
            </p:nvPicPr>
            <p:blipFill>
              <a:blip r:embed="rId5"/>
              <a:stretch/>
            </p:blipFill>
            <p:spPr>
              <a:xfrm>
                <a:off x="3656160" y="207288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6" name=""/>
              <p:cNvSpPr/>
              <p:nvPr/>
            </p:nvSpPr>
            <p:spPr>
              <a:xfrm>
                <a:off x="4240800" y="202248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08680" y="239184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36600" y="277632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582720" y="202716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22320" y="219960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47240" y="260856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72" name="" descr=""/>
            <p:cNvPicPr/>
            <p:nvPr/>
          </p:nvPicPr>
          <p:blipFill>
            <a:blip r:embed="rId6"/>
            <a:stretch/>
          </p:blipFill>
          <p:spPr>
            <a:xfrm>
              <a:off x="990720" y="1447920"/>
              <a:ext cx="190332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2759040" y="2173320"/>
              <a:ext cx="1091880" cy="158760"/>
            </a:xfrm>
            <a:custGeom>
              <a:avLst/>
              <a:gdLst/>
              <a:ahLst/>
              <a:rect l="l" t="t" r="r" b="b"/>
              <a:pathLst>
                <a:path w="688" h="100">
                  <a:moveTo>
                    <a:pt x="0" y="76"/>
                  </a:moveTo>
                  <a:cubicBezTo>
                    <a:pt x="89" y="50"/>
                    <a:pt x="179" y="24"/>
                    <a:pt x="224" y="12"/>
                  </a:cubicBezTo>
                  <a:cubicBezTo>
                    <a:pt x="269" y="0"/>
                    <a:pt x="224" y="1"/>
                    <a:pt x="272" y="4"/>
                  </a:cubicBezTo>
                  <a:cubicBezTo>
                    <a:pt x="320" y="7"/>
                    <a:pt x="443" y="12"/>
                    <a:pt x="512" y="28"/>
                  </a:cubicBezTo>
                  <a:cubicBezTo>
                    <a:pt x="581" y="44"/>
                    <a:pt x="634" y="72"/>
                    <a:pt x="688" y="100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1512720" y="3792600"/>
              <a:ext cx="1625400" cy="1142640"/>
              <a:chOff x="1512720" y="3792600"/>
              <a:chExt cx="1625400" cy="1142640"/>
            </a:xfrm>
          </p:grpSpPr>
          <p:pic>
            <p:nvPicPr>
              <p:cNvPr id="675" name="pxi1000" descr=""/>
              <p:cNvPicPr/>
              <p:nvPr/>
            </p:nvPicPr>
            <p:blipFill>
              <a:blip r:embed="rId7"/>
              <a:stretch/>
            </p:blipFill>
            <p:spPr>
              <a:xfrm>
                <a:off x="1586160" y="384300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2170800" y="379260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938680" y="416196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866600" y="454644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512720" y="379728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552320" y="396972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677240" y="437868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782800" y="4592520"/>
              <a:ext cx="1625400" cy="1142640"/>
              <a:chOff x="2782800" y="4592520"/>
              <a:chExt cx="1625400" cy="1142640"/>
            </a:xfrm>
          </p:grpSpPr>
          <p:pic>
            <p:nvPicPr>
              <p:cNvPr id="683" name="pxi1000" descr=""/>
              <p:cNvPicPr/>
              <p:nvPr/>
            </p:nvPicPr>
            <p:blipFill>
              <a:blip r:embed="rId8"/>
              <a:stretch/>
            </p:blipFill>
            <p:spPr>
              <a:xfrm>
                <a:off x="2856240" y="464292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"/>
              <p:cNvSpPr/>
              <p:nvPr/>
            </p:nvSpPr>
            <p:spPr>
              <a:xfrm>
                <a:off x="3440880" y="459252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208760" y="496188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36680" y="534636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82800" y="459720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22400" y="476964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947320" y="517860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1116000" y="2354400"/>
              <a:ext cx="2055240" cy="1990440"/>
            </a:xfrm>
            <a:custGeom>
              <a:avLst/>
              <a:gdLst/>
              <a:ahLst/>
              <a:rect l="l" t="t" r="r" b="b"/>
              <a:pathLst>
                <a:path w="1295" h="1254">
                  <a:moveTo>
                    <a:pt x="1061" y="0"/>
                  </a:moveTo>
                  <a:cubicBezTo>
                    <a:pt x="1140" y="6"/>
                    <a:pt x="1219" y="13"/>
                    <a:pt x="1247" y="45"/>
                  </a:cubicBezTo>
                  <a:cubicBezTo>
                    <a:pt x="1275" y="77"/>
                    <a:pt x="1295" y="131"/>
                    <a:pt x="1232" y="193"/>
                  </a:cubicBezTo>
                  <a:cubicBezTo>
                    <a:pt x="1169" y="255"/>
                    <a:pt x="1041" y="331"/>
                    <a:pt x="869" y="415"/>
                  </a:cubicBezTo>
                  <a:cubicBezTo>
                    <a:pt x="697" y="499"/>
                    <a:pt x="344" y="608"/>
                    <a:pt x="202" y="697"/>
                  </a:cubicBezTo>
                  <a:cubicBezTo>
                    <a:pt x="60" y="786"/>
                    <a:pt x="34" y="869"/>
                    <a:pt x="17" y="949"/>
                  </a:cubicBezTo>
                  <a:cubicBezTo>
                    <a:pt x="0" y="1029"/>
                    <a:pt x="55" y="1128"/>
                    <a:pt x="99" y="1178"/>
                  </a:cubicBezTo>
                  <a:cubicBezTo>
                    <a:pt x="143" y="1228"/>
                    <a:pt x="229" y="1250"/>
                    <a:pt x="284" y="1252"/>
                  </a:cubicBezTo>
                  <a:cubicBezTo>
                    <a:pt x="339" y="1254"/>
                    <a:pt x="385" y="1223"/>
                    <a:pt x="432" y="1193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46360" y="2262240"/>
              <a:ext cx="825120" cy="2847960"/>
            </a:xfrm>
            <a:custGeom>
              <a:avLst/>
              <a:gdLst/>
              <a:ahLst/>
              <a:rect l="l" t="t" r="r" b="b"/>
              <a:pathLst>
                <a:path w="520" h="1794">
                  <a:moveTo>
                    <a:pt x="75" y="36"/>
                  </a:moveTo>
                  <a:cubicBezTo>
                    <a:pt x="198" y="18"/>
                    <a:pt x="322" y="0"/>
                    <a:pt x="394" y="14"/>
                  </a:cubicBezTo>
                  <a:cubicBezTo>
                    <a:pt x="466" y="28"/>
                    <a:pt x="490" y="55"/>
                    <a:pt x="505" y="118"/>
                  </a:cubicBezTo>
                  <a:cubicBezTo>
                    <a:pt x="520" y="181"/>
                    <a:pt x="506" y="209"/>
                    <a:pt x="483" y="392"/>
                  </a:cubicBezTo>
                  <a:cubicBezTo>
                    <a:pt x="460" y="575"/>
                    <a:pt x="436" y="1010"/>
                    <a:pt x="364" y="1214"/>
                  </a:cubicBezTo>
                  <a:cubicBezTo>
                    <a:pt x="292" y="1418"/>
                    <a:pt x="106" y="1520"/>
                    <a:pt x="53" y="1614"/>
                  </a:cubicBezTo>
                  <a:cubicBezTo>
                    <a:pt x="0" y="1708"/>
                    <a:pt x="10" y="1760"/>
                    <a:pt x="46" y="1777"/>
                  </a:cubicBezTo>
                  <a:cubicBezTo>
                    <a:pt x="82" y="1794"/>
                    <a:pt x="175" y="1756"/>
                    <a:pt x="268" y="1718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105520" y="1828800"/>
            <a:ext cx="3657600" cy="3796920"/>
          </a:xfrm>
          <a:prstGeom prst="rect">
            <a:avLst/>
          </a:prstGeom>
          <a:solidFill>
            <a:srgbClr val="27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b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pper (up to 10 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ber Optic (up to 20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ni%20MXI-3%20white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2133720" cy="56196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Benefi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lots for PCs and PXI/Compact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high performance serial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integrate -- software transpar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and L O N G di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1446120" y="1406520"/>
            <a:ext cx="1903680" cy="1593720"/>
          </a:xfrm>
          <a:prstGeom prst="rect">
            <a:avLst/>
          </a:prstGeom>
          <a:ln w="0">
            <a:noFill/>
          </a:ln>
        </p:spPr>
      </p:pic>
      <p:grpSp>
        <p:nvGrpSpPr>
          <p:cNvPr id="697" name=""/>
          <p:cNvGrpSpPr/>
          <p:nvPr/>
        </p:nvGrpSpPr>
        <p:grpSpPr>
          <a:xfrm>
            <a:off x="4038480" y="1981080"/>
            <a:ext cx="3467160" cy="1157400"/>
            <a:chOff x="4038480" y="1981080"/>
            <a:chExt cx="3467160" cy="1157400"/>
          </a:xfrm>
        </p:grpSpPr>
        <p:pic>
          <p:nvPicPr>
            <p:cNvPr id="698" name="pxi1000" descr=""/>
            <p:cNvPicPr/>
            <p:nvPr/>
          </p:nvPicPr>
          <p:blipFill>
            <a:blip r:embed="rId3"/>
            <a:stretch/>
          </p:blipFill>
          <p:spPr>
            <a:xfrm>
              <a:off x="4111560" y="2031840"/>
              <a:ext cx="1501920" cy="10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4697280" y="1981080"/>
              <a:ext cx="966960" cy="507960"/>
            </a:xfrm>
            <a:custGeom>
              <a:avLst/>
              <a:gdLst/>
              <a:ahLst/>
              <a:rect l="l" t="t" r="r" b="b"/>
              <a:pathLst>
                <a:path w="776" h="412">
                  <a:moveTo>
                    <a:pt x="4" y="28"/>
                  </a:moveTo>
                  <a:lnTo>
                    <a:pt x="776" y="412"/>
                  </a:lnTo>
                  <a:lnTo>
                    <a:pt x="776" y="0"/>
                  </a:lnTo>
                  <a:lnTo>
                    <a:pt x="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464080" y="2351160"/>
              <a:ext cx="149400" cy="76356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92720" y="2735280"/>
              <a:ext cx="1127160" cy="388800"/>
            </a:xfrm>
            <a:custGeom>
              <a:avLst/>
              <a:gdLst/>
              <a:ahLst/>
              <a:rect l="l" t="t" r="r" b="b"/>
              <a:pathLst>
                <a:path w="904" h="316">
                  <a:moveTo>
                    <a:pt x="0" y="276"/>
                  </a:moveTo>
                  <a:lnTo>
                    <a:pt x="904" y="0"/>
                  </a:lnTo>
                  <a:lnTo>
                    <a:pt x="904" y="316"/>
                  </a:lnTo>
                  <a:lnTo>
                    <a:pt x="0" y="312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38480" y="1986120"/>
              <a:ext cx="852480" cy="261720"/>
            </a:xfrm>
            <a:custGeom>
              <a:avLst/>
              <a:gdLst/>
              <a:ahLst/>
              <a:rect l="l" t="t" r="r" b="b"/>
              <a:pathLst>
                <a:path w="684" h="212">
                  <a:moveTo>
                    <a:pt x="684" y="72"/>
                  </a:moveTo>
                  <a:lnTo>
                    <a:pt x="0" y="212"/>
                  </a:lnTo>
                  <a:lnTo>
                    <a:pt x="4" y="0"/>
                  </a:lnTo>
                  <a:lnTo>
                    <a:pt x="684" y="8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78440" y="2158920"/>
              <a:ext cx="174600" cy="930240"/>
            </a:xfrm>
            <a:custGeom>
              <a:avLst/>
              <a:gdLst/>
              <a:ahLst/>
              <a:rect l="l" t="t" r="r" b="b"/>
              <a:pathLst>
                <a:path w="140" h="756">
                  <a:moveTo>
                    <a:pt x="140" y="0"/>
                  </a:moveTo>
                  <a:lnTo>
                    <a:pt x="120" y="756"/>
                  </a:lnTo>
                  <a:lnTo>
                    <a:pt x="0" y="752"/>
                  </a:lnTo>
                  <a:lnTo>
                    <a:pt x="4" y="1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03720" y="2567160"/>
              <a:ext cx="708120" cy="517320"/>
            </a:xfrm>
            <a:custGeom>
              <a:avLst/>
              <a:gdLst/>
              <a:ahLst/>
              <a:rect l="l" t="t" r="r" b="b"/>
              <a:pathLst>
                <a:path w="568" h="420">
                  <a:moveTo>
                    <a:pt x="0" y="0"/>
                  </a:moveTo>
                  <a:lnTo>
                    <a:pt x="568" y="324"/>
                  </a:lnTo>
                  <a:lnTo>
                    <a:pt x="220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5" name="pxi1000" descr=""/>
            <p:cNvPicPr/>
            <p:nvPr/>
          </p:nvPicPr>
          <p:blipFill>
            <a:blip r:embed="rId4"/>
            <a:stretch/>
          </p:blipFill>
          <p:spPr>
            <a:xfrm>
              <a:off x="5952960" y="2046240"/>
              <a:ext cx="1501920" cy="10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6539040" y="1995480"/>
              <a:ext cx="966600" cy="507960"/>
            </a:xfrm>
            <a:custGeom>
              <a:avLst/>
              <a:gdLst/>
              <a:ahLst/>
              <a:rect l="l" t="t" r="r" b="b"/>
              <a:pathLst>
                <a:path w="776" h="412">
                  <a:moveTo>
                    <a:pt x="4" y="28"/>
                  </a:moveTo>
                  <a:lnTo>
                    <a:pt x="776" y="412"/>
                  </a:lnTo>
                  <a:lnTo>
                    <a:pt x="776" y="0"/>
                  </a:lnTo>
                  <a:lnTo>
                    <a:pt x="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05840" y="2365200"/>
              <a:ext cx="149040" cy="76392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34120" y="2749680"/>
              <a:ext cx="1127160" cy="388800"/>
            </a:xfrm>
            <a:custGeom>
              <a:avLst/>
              <a:gdLst/>
              <a:ahLst/>
              <a:rect l="l" t="t" r="r" b="b"/>
              <a:pathLst>
                <a:path w="904" h="316">
                  <a:moveTo>
                    <a:pt x="0" y="276"/>
                  </a:moveTo>
                  <a:lnTo>
                    <a:pt x="904" y="0"/>
                  </a:lnTo>
                  <a:lnTo>
                    <a:pt x="904" y="316"/>
                  </a:lnTo>
                  <a:lnTo>
                    <a:pt x="0" y="312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80240" y="2000160"/>
              <a:ext cx="852480" cy="262080"/>
            </a:xfrm>
            <a:custGeom>
              <a:avLst/>
              <a:gdLst/>
              <a:ahLst/>
              <a:rect l="l" t="t" r="r" b="b"/>
              <a:pathLst>
                <a:path w="684" h="212">
                  <a:moveTo>
                    <a:pt x="684" y="72"/>
                  </a:moveTo>
                  <a:lnTo>
                    <a:pt x="0" y="212"/>
                  </a:lnTo>
                  <a:lnTo>
                    <a:pt x="4" y="0"/>
                  </a:lnTo>
                  <a:lnTo>
                    <a:pt x="684" y="8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19840" y="2173320"/>
              <a:ext cx="174600" cy="930240"/>
            </a:xfrm>
            <a:custGeom>
              <a:avLst/>
              <a:gdLst/>
              <a:ahLst/>
              <a:rect l="l" t="t" r="r" b="b"/>
              <a:pathLst>
                <a:path w="140" h="756">
                  <a:moveTo>
                    <a:pt x="140" y="0"/>
                  </a:moveTo>
                  <a:lnTo>
                    <a:pt x="120" y="756"/>
                  </a:lnTo>
                  <a:lnTo>
                    <a:pt x="0" y="752"/>
                  </a:lnTo>
                  <a:lnTo>
                    <a:pt x="4" y="1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45120" y="2581200"/>
              <a:ext cx="708120" cy="517680"/>
            </a:xfrm>
            <a:custGeom>
              <a:avLst/>
              <a:gdLst/>
              <a:ahLst/>
              <a:rect l="l" t="t" r="r" b="b"/>
              <a:pathLst>
                <a:path w="568" h="420">
                  <a:moveTo>
                    <a:pt x="0" y="0"/>
                  </a:moveTo>
                  <a:lnTo>
                    <a:pt x="568" y="324"/>
                  </a:lnTo>
                  <a:lnTo>
                    <a:pt x="220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13200" y="2529000"/>
              <a:ext cx="1371600" cy="330120"/>
            </a:xfrm>
            <a:custGeom>
              <a:avLst/>
              <a:gdLst/>
              <a:ahLst/>
              <a:rect l="l" t="t" r="r" b="b"/>
              <a:pathLst>
                <a:path w="864" h="208">
                  <a:moveTo>
                    <a:pt x="0" y="48"/>
                  </a:moveTo>
                  <a:cubicBezTo>
                    <a:pt x="16" y="112"/>
                    <a:pt x="32" y="176"/>
                    <a:pt x="144" y="192"/>
                  </a:cubicBezTo>
                  <a:cubicBezTo>
                    <a:pt x="256" y="208"/>
                    <a:pt x="552" y="176"/>
                    <a:pt x="672" y="144"/>
                  </a:cubicBezTo>
                  <a:cubicBezTo>
                    <a:pt x="792" y="112"/>
                    <a:pt x="828" y="56"/>
                    <a:pt x="864" y="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3" name="ni%20MXI-3%20blue" descr=""/>
          <p:cNvPicPr/>
          <p:nvPr/>
        </p:nvPicPr>
        <p:blipFill>
          <a:blip r:embed="rId5"/>
          <a:stretch/>
        </p:blipFill>
        <p:spPr>
          <a:xfrm>
            <a:off x="4267080" y="1219320"/>
            <a:ext cx="2514600" cy="66204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3214800" y="2131920"/>
            <a:ext cx="1092240" cy="158760"/>
          </a:xfrm>
          <a:custGeom>
            <a:avLst/>
            <a:gdLst/>
            <a:ahLst/>
            <a:rect l="l" t="t" r="r" b="b"/>
            <a:pathLst>
              <a:path w="688" h="100">
                <a:moveTo>
                  <a:pt x="0" y="76"/>
                </a:moveTo>
                <a:cubicBezTo>
                  <a:pt x="89" y="50"/>
                  <a:pt x="179" y="24"/>
                  <a:pt x="224" y="12"/>
                </a:cubicBezTo>
                <a:cubicBezTo>
                  <a:pt x="269" y="0"/>
                  <a:pt x="224" y="1"/>
                  <a:pt x="272" y="4"/>
                </a:cubicBezTo>
                <a:cubicBezTo>
                  <a:pt x="320" y="7"/>
                  <a:pt x="443" y="12"/>
                  <a:pt x="512" y="28"/>
                </a:cubicBezTo>
                <a:cubicBezTo>
                  <a:pt x="581" y="44"/>
                  <a:pt x="634" y="72"/>
                  <a:pt x="688" y="100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97160" y="2925720"/>
            <a:ext cx="2070000" cy="1549440"/>
          </a:xfrm>
          <a:prstGeom prst="ellipse">
            <a:avLst/>
          </a:prstGeom>
          <a:solidFill>
            <a:srgbClr val="3333cc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6080" y="3386160"/>
            <a:ext cx="1538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P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90440" y="1523880"/>
            <a:ext cx="7191720" cy="3994200"/>
          </a:xfrm>
          <a:custGeom>
            <a:avLst/>
            <a:gdLst/>
            <a:ahLst/>
            <a:rect l="l" t="t" r="r" b="b"/>
            <a:pathLst>
              <a:path w="4530" h="2516">
                <a:moveTo>
                  <a:pt x="0" y="0"/>
                </a:moveTo>
                <a:lnTo>
                  <a:pt x="0" y="2515"/>
                </a:lnTo>
                <a:lnTo>
                  <a:pt x="4457" y="2515"/>
                </a:lnTo>
                <a:lnTo>
                  <a:pt x="4529" y="2515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82960" y="2221560"/>
            <a:ext cx="1071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70480" y="5607000"/>
            <a:ext cx="1679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0200" y="3922560"/>
            <a:ext cx="194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ktop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05440" y="1498680"/>
            <a:ext cx="12016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283360" y="3494160"/>
            <a:ext cx="3322800" cy="585720"/>
            <a:chOff x="5283360" y="3494160"/>
            <a:chExt cx="3322800" cy="585720"/>
          </a:xfrm>
        </p:grpSpPr>
        <p:sp>
          <p:nvSpPr>
            <p:cNvPr id="116" name=""/>
            <p:cNvSpPr/>
            <p:nvPr/>
          </p:nvSpPr>
          <p:spPr>
            <a:xfrm>
              <a:off x="5738760" y="3494160"/>
              <a:ext cx="2867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dular Instru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r Mainstream U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83360" y="3641400"/>
              <a:ext cx="465120" cy="237960"/>
            </a:xfrm>
            <a:prstGeom prst="leftArrow">
              <a:avLst>
                <a:gd name="adj1" fmla="val 50000"/>
                <a:gd name="adj2" fmla="val 9772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4248000"/>
            <a:ext cx="1339920" cy="1121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11960" y="1644480"/>
            <a:ext cx="1752480" cy="138924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3402000" y="3340080"/>
            <a:ext cx="1635120" cy="692280"/>
            <a:chOff x="3402000" y="3340080"/>
            <a:chExt cx="1635120" cy="69228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3433680" y="3376440"/>
              <a:ext cx="158904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402000" y="3589200"/>
              <a:ext cx="1635120" cy="525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4200" y="3340080"/>
              <a:ext cx="168120" cy="19836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54480" y="3851280"/>
              <a:ext cx="193680" cy="18108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91080" y="3371760"/>
              <a:ext cx="517320" cy="65880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86320" y="3365640"/>
              <a:ext cx="288720" cy="66672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89520" y="3365640"/>
              <a:ext cx="728640" cy="1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lling the G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with RT Series Modul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time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VIEW 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-bit and 12-bi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ltifunction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7030 S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XI-7030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276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Chassis Produc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838080" y="2894040"/>
            <a:ext cx="6393600" cy="1679400"/>
            <a:chOff x="838080" y="2894040"/>
            <a:chExt cx="6393600" cy="1679400"/>
          </a:xfrm>
        </p:grpSpPr>
        <p:pic>
          <p:nvPicPr>
            <p:cNvPr id="720" name="" descr=""/>
            <p:cNvPicPr/>
            <p:nvPr/>
          </p:nvPicPr>
          <p:blipFill>
            <a:blip r:embed="rId1"/>
            <a:stretch/>
          </p:blipFill>
          <p:spPr>
            <a:xfrm>
              <a:off x="838080" y="3124080"/>
              <a:ext cx="281952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4339800" y="2894040"/>
              <a:ext cx="289188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XI-10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uilt-in 6.4” L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D-R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inting de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 and DC power 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914400" y="1371600"/>
            <a:ext cx="2133360" cy="1655280"/>
            <a:chOff x="914400" y="1371600"/>
            <a:chExt cx="2133360" cy="1655280"/>
          </a:xfrm>
        </p:grpSpPr>
        <p:pic>
          <p:nvPicPr>
            <p:cNvPr id="723" name="" descr=""/>
            <p:cNvPicPr/>
            <p:nvPr/>
          </p:nvPicPr>
          <p:blipFill>
            <a:blip r:embed="rId2"/>
            <a:stretch/>
          </p:blipFill>
          <p:spPr>
            <a:xfrm>
              <a:off x="928080" y="1389240"/>
              <a:ext cx="21042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918360" y="1379520"/>
              <a:ext cx="2125440" cy="1113120"/>
            </a:xfrm>
            <a:custGeom>
              <a:avLst/>
              <a:gdLst/>
              <a:ahLst/>
              <a:rect l="l" t="t" r="r" b="b"/>
              <a:pathLst>
                <a:path w="2934" h="1536">
                  <a:moveTo>
                    <a:pt x="0" y="0"/>
                  </a:moveTo>
                  <a:lnTo>
                    <a:pt x="306" y="192"/>
                  </a:lnTo>
                  <a:lnTo>
                    <a:pt x="1146" y="138"/>
                  </a:lnTo>
                  <a:lnTo>
                    <a:pt x="2808" y="456"/>
                  </a:lnTo>
                  <a:lnTo>
                    <a:pt x="2610" y="1536"/>
                  </a:lnTo>
                  <a:lnTo>
                    <a:pt x="2934" y="1536"/>
                  </a:lnTo>
                  <a:lnTo>
                    <a:pt x="29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14400" y="1371600"/>
              <a:ext cx="2133360" cy="1655280"/>
            </a:xfrm>
            <a:custGeom>
              <a:avLst/>
              <a:gdLst/>
              <a:ahLst/>
              <a:rect l="l" t="t" r="r" b="b"/>
              <a:pathLst>
                <a:path w="2946" h="2286">
                  <a:moveTo>
                    <a:pt x="0" y="0"/>
                  </a:moveTo>
                  <a:lnTo>
                    <a:pt x="312" y="198"/>
                  </a:lnTo>
                  <a:lnTo>
                    <a:pt x="132" y="1698"/>
                  </a:lnTo>
                  <a:lnTo>
                    <a:pt x="2316" y="2136"/>
                  </a:lnTo>
                  <a:lnTo>
                    <a:pt x="2616" y="1542"/>
                  </a:lnTo>
                  <a:lnTo>
                    <a:pt x="2946" y="1542"/>
                  </a:lnTo>
                  <a:lnTo>
                    <a:pt x="2946" y="2286"/>
                  </a:lnTo>
                  <a:lnTo>
                    <a:pt x="0" y="2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4339080" y="1384560"/>
            <a:ext cx="266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XI-1000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-32 VDC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itional AC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ery backup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4648320"/>
            <a:ext cx="7674120" cy="2012760"/>
            <a:chOff x="609480" y="4648320"/>
            <a:chExt cx="7674120" cy="2012760"/>
          </a:xfrm>
        </p:grpSpPr>
        <p:grpSp>
          <p:nvGrpSpPr>
            <p:cNvPr id="728" name=""/>
            <p:cNvGrpSpPr/>
            <p:nvPr/>
          </p:nvGrpSpPr>
          <p:grpSpPr>
            <a:xfrm>
              <a:off x="609480" y="4648320"/>
              <a:ext cx="3353040" cy="1893600"/>
              <a:chOff x="609480" y="4648320"/>
              <a:chExt cx="3353040" cy="1893600"/>
            </a:xfrm>
          </p:grpSpPr>
          <p:pic>
            <p:nvPicPr>
              <p:cNvPr id="7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8720" y="4687560"/>
                <a:ext cx="3146040" cy="179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0" name=""/>
              <p:cNvSpPr/>
              <p:nvPr/>
            </p:nvSpPr>
            <p:spPr>
              <a:xfrm>
                <a:off x="609480" y="4648320"/>
                <a:ext cx="3274200" cy="1893600"/>
              </a:xfrm>
              <a:custGeom>
                <a:avLst/>
                <a:gdLst/>
                <a:ahLst/>
                <a:rect l="l" t="t" r="r" b="b"/>
                <a:pathLst>
                  <a:path w="3984" h="2304">
                    <a:moveTo>
                      <a:pt x="0" y="0"/>
                    </a:moveTo>
                    <a:lnTo>
                      <a:pt x="3984" y="0"/>
                    </a:lnTo>
                    <a:lnTo>
                      <a:pt x="3984" y="576"/>
                    </a:lnTo>
                    <a:lnTo>
                      <a:pt x="3312" y="576"/>
                    </a:lnTo>
                    <a:lnTo>
                      <a:pt x="3264" y="432"/>
                    </a:lnTo>
                    <a:lnTo>
                      <a:pt x="2832" y="384"/>
                    </a:lnTo>
                    <a:lnTo>
                      <a:pt x="1920" y="432"/>
                    </a:lnTo>
                    <a:lnTo>
                      <a:pt x="1968" y="960"/>
                    </a:lnTo>
                    <a:lnTo>
                      <a:pt x="2160" y="1056"/>
                    </a:lnTo>
                    <a:lnTo>
                      <a:pt x="960" y="1008"/>
                    </a:lnTo>
                    <a:lnTo>
                      <a:pt x="432" y="1248"/>
                    </a:lnTo>
                    <a:lnTo>
                      <a:pt x="432" y="2016"/>
                    </a:lnTo>
                    <a:lnTo>
                      <a:pt x="480" y="2016"/>
                    </a:lnTo>
                    <a:lnTo>
                      <a:pt x="528" y="1968"/>
                    </a:lnTo>
                    <a:lnTo>
                      <a:pt x="1776" y="2064"/>
                    </a:lnTo>
                    <a:lnTo>
                      <a:pt x="1776" y="2112"/>
                    </a:lnTo>
                    <a:lnTo>
                      <a:pt x="1872" y="2112"/>
                    </a:lnTo>
                    <a:lnTo>
                      <a:pt x="2112" y="1728"/>
                    </a:lnTo>
                    <a:lnTo>
                      <a:pt x="2112" y="1536"/>
                    </a:lnTo>
                    <a:lnTo>
                      <a:pt x="2160" y="1488"/>
                    </a:lnTo>
                    <a:lnTo>
                      <a:pt x="2160" y="1392"/>
                    </a:lnTo>
                    <a:lnTo>
                      <a:pt x="2208" y="1344"/>
                    </a:lnTo>
                    <a:lnTo>
                      <a:pt x="2256" y="1392"/>
                    </a:lnTo>
                    <a:lnTo>
                      <a:pt x="2256" y="1536"/>
                    </a:lnTo>
                    <a:lnTo>
                      <a:pt x="2496" y="1824"/>
                    </a:lnTo>
                    <a:lnTo>
                      <a:pt x="3648" y="1632"/>
                    </a:lnTo>
                    <a:lnTo>
                      <a:pt x="3648" y="1536"/>
                    </a:lnTo>
                    <a:lnTo>
                      <a:pt x="3360" y="1248"/>
                    </a:lnTo>
                    <a:lnTo>
                      <a:pt x="3456" y="1248"/>
                    </a:lnTo>
                    <a:lnTo>
                      <a:pt x="3408" y="1152"/>
                    </a:lnTo>
                    <a:lnTo>
                      <a:pt x="3360" y="1056"/>
                    </a:lnTo>
                    <a:lnTo>
                      <a:pt x="3312" y="576"/>
                    </a:lnTo>
                    <a:lnTo>
                      <a:pt x="3984" y="624"/>
                    </a:lnTo>
                    <a:lnTo>
                      <a:pt x="3936" y="2304"/>
                    </a:lnTo>
                    <a:lnTo>
                      <a:pt x="0" y="23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331440" y="5042520"/>
                <a:ext cx="631080" cy="1180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4343400" y="4676760"/>
              <a:ext cx="394020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XI-1025 MegaP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rge 10.4” built-in L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D-R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inting device + keybo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/DC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PXI Controlle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8155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ions for PXI-1020 and PXI-102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tium 233 MHz or AMD-K6-2 333 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dog t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er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GB Ultra-DMA Hard Dr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ous DRAM (up to 256 M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8156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155B features plus Ethernet, GPIB, and 2nd serial 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controller" descr=""/>
          <p:cNvPicPr/>
          <p:nvPr/>
        </p:nvPicPr>
        <p:blipFill>
          <a:blip r:embed="rId1"/>
          <a:stretch/>
        </p:blipFill>
        <p:spPr>
          <a:xfrm>
            <a:off x="6705720" y="2971800"/>
            <a:ext cx="21333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Configurator -- Online!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37" name="PXIconfig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343400" cy="36943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4794480" y="1781640"/>
            <a:ext cx="41508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INT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ww.natinst.com/pxiconf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chas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FIG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ce modules in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lect acces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view the online price qu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rder complete systems onli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8880" y="5791320"/>
            <a:ext cx="43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ww.natinst.com/pxi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6248520"/>
            <a:ext cx="2133720" cy="380880"/>
          </a:xfrm>
          <a:prstGeom prst="rect">
            <a:avLst/>
          </a:prstGeom>
          <a:solidFill>
            <a:srgbClr val="21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4560" y="609120"/>
            <a:ext cx="8569440" cy="484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XI/CompactPCI Products from Other Vendor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600200" y="1523880"/>
            <a:ext cx="20908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155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13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AD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ADC-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D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MVR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7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A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DAC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TM-65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M-Bus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CIO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soray 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SP31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57600" y="1523880"/>
            <a:ext cx="2008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naggletooth CP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DC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6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P 202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TH269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LAN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320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340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log 83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00C3, FD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-CPC4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bre 65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soray 7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67280" y="1523880"/>
            <a:ext cx="200844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I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SI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SC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1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AD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M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WWB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log 83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nsan SCSI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370PQ T1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TCD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VME3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3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338PQ 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20094600">
            <a:off x="2557440" y="3174840"/>
            <a:ext cx="3958560" cy="1190520"/>
          </a:xfrm>
          <a:prstGeom prst="rect">
            <a:avLst/>
          </a:prstGeom>
          <a:solidFill>
            <a:srgbClr val="21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ww.picmg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ww.pxisa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181320" y="3586320"/>
            <a:ext cx="2711160" cy="1785960"/>
            <a:chOff x="3181320" y="3586320"/>
            <a:chExt cx="2711160" cy="17859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207240" y="3641400"/>
              <a:ext cx="2640600" cy="1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720600" y="3596040"/>
              <a:ext cx="2171880" cy="1766160"/>
            </a:xfrm>
            <a:custGeom>
              <a:avLst/>
              <a:gdLst/>
              <a:ahLst/>
              <a:rect l="l" t="t" r="r" b="b"/>
              <a:pathLst>
                <a:path w="1900" h="1468">
                  <a:moveTo>
                    <a:pt x="0" y="0"/>
                  </a:moveTo>
                  <a:lnTo>
                    <a:pt x="0" y="208"/>
                  </a:lnTo>
                  <a:lnTo>
                    <a:pt x="68" y="208"/>
                  </a:lnTo>
                  <a:lnTo>
                    <a:pt x="68" y="232"/>
                  </a:lnTo>
                  <a:lnTo>
                    <a:pt x="1672" y="232"/>
                  </a:lnTo>
                  <a:lnTo>
                    <a:pt x="1696" y="252"/>
                  </a:lnTo>
                  <a:lnTo>
                    <a:pt x="1800" y="252"/>
                  </a:lnTo>
                  <a:lnTo>
                    <a:pt x="1800" y="1224"/>
                  </a:lnTo>
                  <a:lnTo>
                    <a:pt x="1696" y="1224"/>
                  </a:lnTo>
                  <a:lnTo>
                    <a:pt x="1680" y="1256"/>
                  </a:lnTo>
                  <a:lnTo>
                    <a:pt x="60" y="1256"/>
                  </a:lnTo>
                  <a:lnTo>
                    <a:pt x="60" y="1316"/>
                  </a:lnTo>
                  <a:lnTo>
                    <a:pt x="12" y="1316"/>
                  </a:lnTo>
                  <a:lnTo>
                    <a:pt x="8" y="1464"/>
                  </a:lnTo>
                  <a:lnTo>
                    <a:pt x="1900" y="1468"/>
                  </a:lnTo>
                  <a:lnTo>
                    <a:pt x="190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1320" y="3586320"/>
              <a:ext cx="552960" cy="1785960"/>
            </a:xfrm>
            <a:custGeom>
              <a:avLst/>
              <a:gdLst/>
              <a:ahLst/>
              <a:rect l="l" t="t" r="r" b="b"/>
              <a:pathLst>
                <a:path w="484" h="1484">
                  <a:moveTo>
                    <a:pt x="484" y="1416"/>
                  </a:moveTo>
                  <a:lnTo>
                    <a:pt x="480" y="1484"/>
                  </a:lnTo>
                  <a:lnTo>
                    <a:pt x="0" y="1484"/>
                  </a:lnTo>
                  <a:lnTo>
                    <a:pt x="8" y="0"/>
                  </a:lnTo>
                  <a:lnTo>
                    <a:pt x="440" y="0"/>
                  </a:lnTo>
                  <a:lnTo>
                    <a:pt x="444" y="1168"/>
                  </a:lnTo>
                  <a:lnTo>
                    <a:pt x="352" y="1204"/>
                  </a:lnTo>
                  <a:lnTo>
                    <a:pt x="64" y="1224"/>
                  </a:lnTo>
                  <a:lnTo>
                    <a:pt x="56" y="1268"/>
                  </a:lnTo>
                  <a:lnTo>
                    <a:pt x="340" y="1340"/>
                  </a:lnTo>
                  <a:lnTo>
                    <a:pt x="348" y="1400"/>
                  </a:lnTo>
                  <a:lnTo>
                    <a:pt x="424" y="1424"/>
                  </a:lnTo>
                  <a:lnTo>
                    <a:pt x="484" y="1416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730520" y="1392120"/>
            <a:ext cx="577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I electric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card mecha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st connector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14880" y="2732040"/>
            <a:ext cx="9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200" y="4818240"/>
            <a:ext cx="23986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rocard 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8360" y="4915080"/>
            <a:ext cx="2554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C conn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65600" y="3781440"/>
            <a:ext cx="3504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87760" y="3209760"/>
            <a:ext cx="333360" cy="524160"/>
          </a:xfrm>
          <a:prstGeom prst="downArrow">
            <a:avLst>
              <a:gd name="adj1" fmla="val 50000"/>
              <a:gd name="adj2" fmla="val 78625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3500000">
            <a:off x="2736720" y="441576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rot="8100000">
            <a:off x="6389640" y="460656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Starts with CompactP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371600"/>
            <a:ext cx="815652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2- and 64-bit data transfers (132/264 MB/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ansion with PCI-PCI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 volt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g and Play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de Industr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I is the de facto bus standa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PCs, Cardbus, PMC, PC-104+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257640" cy="2200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y PC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749840" y="1914480"/>
            <a:ext cx="3800520" cy="3019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31440" y="161928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in 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Sh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dance Match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d by IEC-10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 T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mportantly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LO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84920" y="4476600"/>
            <a:ext cx="738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J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9800" y="4191120"/>
            <a:ext cx="738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J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y New Connectors?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3640" y="1336680"/>
            <a:ext cx="1898640" cy="438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54400" y="3875040"/>
            <a:ext cx="341280" cy="178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51160" y="4770360"/>
            <a:ext cx="35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3160" y="2198520"/>
            <a:ext cx="15825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U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18400" y="417348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19840" y="502776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54400" y="1405080"/>
            <a:ext cx="341280" cy="17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51160" y="2300400"/>
            <a:ext cx="35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18400" y="170352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19840" y="255744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54400" y="3208320"/>
            <a:ext cx="34128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19840" y="338616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99760" y="3870360"/>
            <a:ext cx="1725480" cy="0"/>
          </a:xfrm>
          <a:prstGeom prst="line">
            <a:avLst/>
          </a:prstGeom>
          <a:ln w="255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8200" y="4425840"/>
            <a:ext cx="8524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U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3875040"/>
            <a:ext cx="489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9440" y="3208320"/>
            <a:ext cx="237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82520" y="4890960"/>
            <a:ext cx="3035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ctPCI - 32 Bits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0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72080" y="4040280"/>
            <a:ext cx="38239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4-Bit and PXI, or Rear I/O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0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3320" y="3200400"/>
            <a:ext cx="2147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r Panel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95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9800" y="1766880"/>
            <a:ext cx="52686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nd CompactPCI Bus, Rear Panel I/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D 32, VME, Telecom TDM, or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20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03440" y="5719680"/>
            <a:ext cx="6015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02000" y="1352520"/>
            <a:ext cx="5981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24120" y="4581360"/>
            <a:ext cx="652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3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35480" y="3321000"/>
            <a:ext cx="652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6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61440" y="388296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61440" y="50306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73880" y="1333440"/>
            <a:ext cx="0" cy="1941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73880" y="3824280"/>
            <a:ext cx="0" cy="1892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Backplane Connector Func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y Eurocard and IEEE 1101.10?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n over decades of use for rugged applications (VME, VXI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ly available mechanical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lent therm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 and Comp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d injector/ejector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43200" y="4724280"/>
            <a:ext cx="2374920" cy="1533600"/>
            <a:chOff x="2743200" y="4724280"/>
            <a:chExt cx="2374920" cy="1533600"/>
          </a:xfrm>
        </p:grpSpPr>
        <p:sp>
          <p:nvSpPr>
            <p:cNvPr id="182" name=""/>
            <p:cNvSpPr/>
            <p:nvPr/>
          </p:nvSpPr>
          <p:spPr>
            <a:xfrm>
              <a:off x="3328920" y="4902120"/>
              <a:ext cx="1676520" cy="117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13280" y="4937040"/>
              <a:ext cx="198360" cy="11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25600" y="4724280"/>
              <a:ext cx="39960" cy="152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59623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  <a:lnTo>
                    <a:pt x="30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43200" y="59623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78160" y="5968800"/>
              <a:ext cx="146160" cy="10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78160" y="4902120"/>
              <a:ext cx="146160" cy="10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06800" y="549108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2520" y="121932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23920" indent="0">
              <a:spcBef>
                <a:spcPts val="700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MG</a:t>
            </a:r>
            <a:br>
              <a:rPr sz="32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dustri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pu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ufactur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formed for Slot card 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with about 15 compa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400+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focus on telecom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picmg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2178000" cy="2060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CompactPCI Specification Bod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3T20:35:09Z</dcterms:created>
  <dc:creator>shanonk</dc:creator>
  <dc:description/>
  <dc:language>en-US</dc:language>
  <cp:lastModifiedBy>Carsten Puls</cp:lastModifiedBy>
  <dcterms:modified xsi:type="dcterms:W3CDTF">1999-08-14T20:59:27Z</dcterms:modified>
  <cp:revision>7</cp:revision>
  <dc:subject/>
  <dc:title>No Slide Title</dc:title>
</cp:coreProperties>
</file>