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8F99-0A81-4988-823A-A9CFEC8B4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ensors used for dynamic signal measurements are accelerometers, microphones, and tachometers. Other common sensors include displacement probes, velocity probes, and h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n before doing any actual measurements, it is important to select your sensors carefully and to make sure that they will be well suited for the analysis you plan to per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next slides, we will briefly introduce you to accelerometer transducers, their principle of operation, and their typic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word </a:t>
            </a:r>
            <a:r>
              <a:rPr b="0" i="1" lang="en-US" sz="1200" spc="-1" strike="noStrike">
                <a:solidFill>
                  <a:srgbClr val="000000"/>
                </a:solidFill>
                <a:latin typeface="Times New Roman"/>
                <a:ea typeface="Times New Roman"/>
              </a:rPr>
              <a:t>piezoelectricity</a:t>
            </a:r>
            <a:r>
              <a:rPr b="0" lang="en-US" sz="1200" spc="-1" strike="noStrike">
                <a:solidFill>
                  <a:srgbClr val="000000"/>
                </a:solidFill>
                <a:latin typeface="Times New Roman"/>
                <a:ea typeface="Times New Roman"/>
              </a:rPr>
              <a:t> literally means “pressure electricity” in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zoelectric accelerometers use a polarized material, which when mechanically stressed, will generate an electrical charge which is proportional to the applied force.  There are two basic materials used – quartz and ceramics.  Each type of crystal possesses unique characteristics that can enhance the performance of an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iezoelectric accelerometer has some very important characteristic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Very wide frequency and dynamic range with good linearity throug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Robust and reliable because there are no moving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Stable characteristic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Self-generating as it does NOT need an external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iezoelectric accelerometer is also a good choice because you can integrate its acceleration-proportional output to get velocity- and displacement- proportion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actical accelerometer designs, the piezoelectric element is arranged so that when the accelerometer is vibrated, an internal mass applies a force to the element which is proportional to the vibratory acceleration according to the Forc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ce = Mass * Accel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ension/compression deformation the charge is picked up in the polarization direction.  This has the distinct DISADVANTAGE that non-vibrational inputs like temperature fluctuations cause charge to be developed in the polarization direction and thus induce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shear deformation type transducers, the charge is picked up in a direction perpendicular to the polarization direction and therefore temperature effects are not picke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uartz is widely known for its ability to perform accurate measurement tasks.  Since quartz is naturally piezoelectric it has no tendency to relax to an alternative state and is considered the most stable of piezoelectric materials.  Also, quartz does not suffer from temperature change effects, which provides stability in thermally active environments.  The useful temperature range of quartz is limited to approximately 350</a:t>
            </a:r>
            <a:r>
              <a:rPr b="0" lang="en-US" sz="1200" spc="-1" strike="noStrike">
                <a:solidFill>
                  <a:srgbClr val="000000"/>
                </a:solidFill>
                <a:latin typeface="Arial"/>
                <a:ea typeface="Arial"/>
              </a:rPr>
              <a:t>º </a:t>
            </a: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variety of ceramic materials are used for accelerometers, depending on the requirements of the particular application.  All ceramics are man-made and are forced to be piezoelectric by a polarization process.  If the material is exposed to out-of-range temperatures, strong electric fields, or accumulates high levels of static charge, then the material may depolarize.  The main advantage of ceramics is that you can tailor it to fit a particular application o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hoice of accelerometer amplifier depends on whether we want to detect charge or voltage as the electrical output of the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istinct advantage of the charge amplifier is that you can use both very long and very short cables without changing the overall sensitivity of the system.  However, when you use a voltage amplifier, a change of cable type or cable length will necessitate the recalibration of the system sensitivity.  This recalibration is necessary as the voltage produced by the accelerometer is divided between the accelerometer’s capacitance and the cable’s capacitance.  Though the sensitivity of a charge amp will not be significantly attenuated by changes in cable length, the use of very long cables will slightly attenuate the high frequen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cause of the high impedance output characteristics of the accelerometer, external noise can easily couple into the cable and cause error.  One method of limiting this error is to include a preamplifier inside the accelerometer, which lowers the output impedance of the accelerometer and reduces its sensitivity to external noise coupling.  The major disadvantage of this system is that this type of accelerometer is not rugged and is restricted in its usable temperature and dynamic range.  Brüel &amp; Kjær uses the Line-Drive system, PCB uses the ICP system and Endevco uses the ISOTRON system to integrate the preamp in the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grated circuit piezoelectric (ICP) – Term describing a voltage mode sensor from PCB Piezotronics that combines an integrated preamp circuit and the piezoelectric sensing element in a single housing to provide a voltage out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types of transducers require a constant current power source for proper operation.  This signal conditioner consists of a well-regulated 18 to 30 VDC source in series with a current-regulating circuit like a diode and a capacitor to remove the DC-bias from the signal going to the measuring system.  The current supplied should be a minimum of 2 mA and a max of 20 mA per transdu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rüel &amp; Kjær in-line system requires a 15 VDC power supply and recommends using one of their line-drive supplies like the model 28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devco’s ISOTRON system requires 18 to 24 VDC with currents of 2 mA to 20 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be compatible with most integrated preamps, it is sufficient to supply 4 mA at 24 V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sensitivity (high output levels) usually means using a large piezoelectric assembly and therefore a large and heavy unit. Because you want the assembly mass to be a maximum of 0.1 * mass of object being measured, pick the accelerometer required based on weight first. You can compensate for the lower output level by using a good analog preamplifier stage. Once you have chosen a weight class, select the transducer with the highest sensitivity you need or can aff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useful acceleration range is determined at the lower limit by the total system noise including cables and circuitry. You determine the upper limit by the structural strength of the transdu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determine the useful frequency range at the lower limit by either the electronics or temperature effect fluctuation.  Because in shear-type accelerometers the temperature effect is minimal, the lower limit is typically well below 1 Hz.  At the upper frequency the limit is determined by the resonant frequency of the mass-spring system of the accelerometer itself.  There are differing opinions on what you should set the upper range to, but the most conservative is the 1/10 f</a:t>
            </a:r>
            <a:r>
              <a:rPr b="0" lang="en-US" sz="1200" spc="-1" strike="noStrike" baseline="-30000">
                <a:solidFill>
                  <a:srgbClr val="000000"/>
                </a:solidFill>
                <a:latin typeface="Times New Roman"/>
                <a:ea typeface="Times New Roman"/>
              </a:rPr>
              <a:t>r</a:t>
            </a:r>
            <a:r>
              <a:rPr b="0" lang="en-US" sz="1200" spc="-1" strike="noStrike">
                <a:solidFill>
                  <a:srgbClr val="000000"/>
                </a:solidFill>
                <a:latin typeface="Times New Roman"/>
                <a:ea typeface="Times New Roman"/>
              </a:rPr>
              <a:t> of mounted accelerometer. By choosing the useful limit to be 1/3 f</a:t>
            </a:r>
            <a:r>
              <a:rPr b="0" lang="en-US" sz="1200" spc="-1" strike="noStrike" baseline="-30000">
                <a:solidFill>
                  <a:srgbClr val="000000"/>
                </a:solidFill>
                <a:latin typeface="Times New Roman"/>
                <a:ea typeface="Times New Roman"/>
              </a:rPr>
              <a:t>r  </a:t>
            </a:r>
            <a:r>
              <a:rPr b="0" lang="en-US" sz="1200" spc="-1" strike="noStrike">
                <a:solidFill>
                  <a:srgbClr val="000000"/>
                </a:solidFill>
                <a:latin typeface="Times New Roman"/>
                <a:ea typeface="Times New Roman"/>
              </a:rPr>
              <a:t>of mounted accelerometer</a:t>
            </a:r>
            <a:r>
              <a:rPr b="0" lang="en-US" sz="1200" spc="-1" strike="noStrike" baseline="-30000">
                <a:solidFill>
                  <a:srgbClr val="000000"/>
                </a:solidFill>
                <a:latin typeface="Times New Roman"/>
                <a:ea typeface="Times New Roman"/>
              </a:rPr>
              <a:t> </a:t>
            </a:r>
            <a:r>
              <a:rPr b="0" lang="en-US" sz="1200" spc="-1" strike="noStrike">
                <a:solidFill>
                  <a:srgbClr val="000000"/>
                </a:solidFill>
                <a:latin typeface="Times New Roman"/>
                <a:ea typeface="Times New Roman"/>
              </a:rPr>
              <a:t>, the components measured at the upper frequency will have no more than 12 percent error (1dB). You must ultimately decide what upper limit makes sense for your application and what amount of error you can tol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bration tests are run for a number of reason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Engineering development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Qualification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Reliability qualification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Production screening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Machinery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bration testing is the art and science of measuring and understanding a structure’s response while exposed to a specific dynamic environment; and if necessary, simulating this environment in a satisfactory manner to ensure that the structure will either survive or function properly when exposed to this dynamic environment under field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6240" y="687240"/>
            <a:ext cx="4567320" cy="342612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purpose of any accelerometer is of course to measure the acceleration level at a particular point of the system under test. But this signal, if properly integrated, also allows the simultaneous measurement of the velocity and the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bration parameters are almost universally measured in metric units (m/s</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The gravitational constant “g” is often used for acceleration, but is not a standard metric unit of measure.  Fortunately, a conversion factor exists with which you can perform quick mental calculations with only 2% of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g = 9.81 m/s</a:t>
            </a:r>
            <a:r>
              <a:rPr b="0" lang="en-US"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1D) accelerometers measure the component of the acceleration in one particular direction. If three of these accelerometers are combined in a single unit (3D accelerometer), the acceleration can me measured simultaneously in three orthogona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of an accelerometer is typically performed with a shaker generating a constant and known level of acceleration at a particular frequenc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6240" y="687240"/>
            <a:ext cx="4567320" cy="3426120"/>
          </a:xfrm>
          <a:prstGeom prst="rect">
            <a:avLst/>
          </a:prstGeom>
          <a:ln w="0">
            <a:noFill/>
          </a:ln>
        </p:spPr>
      </p:sp>
      <p:sp>
        <p:nvSpPr>
          <p:cNvPr id="14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ccelerometers rely on the use of the piezoelectric effect. In the case of compression mode accelerometers, the acceleration of the test structure is transmitted to a seismic mass that generates a proportional force on the piezoelectric crystal. This external stress on the crystal then generates an electrical charge proportional to the applied force, and thus also proportional to the acceleration. Another common design is the shear mode, which is less sensitive to temperature effects (the charge is picked up in a direction perpendicular to the polarization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ezoelectric accelerometer has some very important characterist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ry wide frequency and dynamic range with good linearity through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ust and reliable because there are no moving pa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ble characteristics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lf-generating, as it does not need an external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ccelerometers use built-in microelectronics (ICP) and require only a constant-current source to power internally amplified sensors. Other accelerometers (charge mode) do not have built-in signal conditioning and require external charge amplification and conditioning to convert charge to volta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6240" y="687240"/>
            <a:ext cx="4567320" cy="342612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P signal conditioning provides a constant-current source to power internally amplified sen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P is a registered trademark of PCB Piezotronics and stands for Integrated Circuit Piezoelectric. All major accelerometer suppliers have their own equivalent solution, such as Isotron from Endevco, DeltaTron from Brüel &amp; Kjaer, and Piezotron from Kist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advantage of the ICP accelerometer is that it is simple and easy to use due to the built-in microelectronics and the simple conditioner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are a limited temperature range, especially for high temperatures, and a fixed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6240" y="687240"/>
            <a:ext cx="4567320" cy="342612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 mode accelerometers are used essentially for measurements in high-temperature environments. They also offer variable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s they do not have built-in signal conditioning, they require an external charge amplification and conditioning to convert charge to voltage.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800" spc="-1" strike="noStrike" baseline="-25000">
                <a:solidFill>
                  <a:srgbClr val="000000"/>
                </a:solidFill>
                <a:latin typeface="Times New Roman"/>
              </a:rPr>
              <a:t>out</a:t>
            </a:r>
            <a:r>
              <a:rPr b="0" lang="en-US" sz="1200" spc="-1" strike="noStrike">
                <a:solidFill>
                  <a:srgbClr val="000000"/>
                </a:solidFill>
                <a:latin typeface="Times New Roman"/>
              </a:rPr>
              <a:t> = q/C</a:t>
            </a:r>
            <a:r>
              <a:rPr b="0" lang="en-US" sz="800" spc="-1" strike="noStrike" baseline="-25000">
                <a:solidFill>
                  <a:srgbClr val="000000"/>
                </a:solidFill>
                <a:latin typeface="Times New Roman"/>
              </a:rPr>
              <a:t>f</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require low noise cabling and are sensitive to environmental influenc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6240" y="687240"/>
            <a:ext cx="4567320" cy="342612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frequency limit is determined by the resonant frequency of the mass-spring system of the accelerometer itself. When using any accelerometer, filtering is a must to remove this resonant frequency peak.  Failure to do so could create an overload condition that will corrupt data and measur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ypical characteristics of accelerometers are given in this table. Two important parameters are the frequency range, which should be carefully selected based on the problem under investigation, and the mass of the sensor, which could affect the dynamical behavior of the structure under test, especially for light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ingle accelerometer can cover the whole range of characteristics mentioned here. The choice of a particular sensor is thus always a comprom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characteristics are available for special measurements, like seismic and shock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6D5CA-61E0-4AF6-8C0B-736469BBD1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C7B5248F-4E45-4A43-8536-C2EC44BE68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636C1ED3-9663-4E95-8D26-3567AFC191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1E6F1811-E24E-433D-8B0C-F8098F830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B07D2-9C45-476B-B1C3-2C3569AB53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31BF2-F012-40F2-A554-B80F7C1E37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7F9B-84CE-405C-A6DE-00CEF27C49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9EBFE-DD9E-4E6A-8349-B0790203E5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E7D23-A745-42FC-A620-0B73195016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D7355-5DDD-471E-AF52-9E505C0E94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77BD-C282-4230-857F-868D7123C6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842A678-4F2F-4F6D-975D-288916A870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5DC84-CA7E-458D-A8BB-453006B4B0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FD58-3E8A-44D9-9388-32BC52324E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EBA23-6125-4093-A0F2-E1D2CB71C9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058D5-02EA-476E-A332-4CB448F5EE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731C4-5EC3-4385-A63B-02179FC3B9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57A752A-B9EA-4CBB-BEAA-E9CD048A74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1472FBAB-EF09-489A-8DD1-BE3013795E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D3D146C3-52BB-484A-A8A5-559229BD0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54EFCC68-A840-42CA-B1CF-D21ACBA2E9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0ECD72F-D4EE-4F75-BDE0-187A08B561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F55C649-17C7-4CC4-9926-12A65B685A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B14C765-5910-490C-987E-5BEBCCD05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5F3D-B579-4C74-A1C9-4AA1D2FD62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4353-531C-484F-86EF-FF76F3ECD8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50496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a:t>
            </a:r>
            <a:br>
              <a:rPr sz="3600"/>
            </a:br>
            <a:r>
              <a:rPr b="1" lang="en-US" sz="3600" spc="-1" strike="noStrike">
                <a:solidFill>
                  <a:srgbClr val="ffff66"/>
                </a:solidFill>
                <a:latin typeface="Arial"/>
                <a:ea typeface="Times New Roman"/>
              </a:rPr>
              <a:t>Sensors </a:t>
            </a:r>
            <a:br>
              <a:rPr sz="3600"/>
            </a:b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Piezoelectric Accelerometer</a:t>
            </a:r>
            <a:endParaRPr b="1" lang="en-US" sz="3600" spc="-1" strike="noStrike">
              <a:solidFill>
                <a:srgbClr val="ffff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for vibration measure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s an electrical charge (q) across its pole faces which is proportional to the applied accel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Types</a:t>
            </a:r>
            <a:endParaRPr b="1" lang="en-US" sz="3600" spc="-1" strike="noStrike">
              <a:solidFill>
                <a:srgbClr val="ffff66"/>
              </a:solidFill>
              <a:latin typeface="Arial"/>
            </a:endParaRPr>
          </a:p>
        </p:txBody>
      </p:sp>
      <p:sp>
        <p:nvSpPr>
          <p:cNvPr id="125" name="PlaceHolder 2"/>
          <p:cNvSpPr>
            <a:spLocks noGrp="1"/>
          </p:cNvSpPr>
          <p:nvPr>
            <p:ph/>
          </p:nvPr>
        </p:nvSpPr>
        <p:spPr>
          <a:xfrm>
            <a:off x="685800" y="1523880"/>
            <a:ext cx="31240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6" name=""/>
          <p:cNvGraphicFramePr/>
          <p:nvPr/>
        </p:nvGraphicFramePr>
        <p:xfrm>
          <a:off x="5029200" y="1295280"/>
          <a:ext cx="2467080" cy="4410360"/>
        </p:xfrm>
        <a:graphic>
          <a:graphicData uri="http://schemas.openxmlformats.org/presentationml/2006/ole">
            <p:oleObj r:id="rId1" spid="">
              <p:embed/>
              <p:pic>
                <p:nvPicPr>
                  <p:cNvPr id="127" name="" descr=""/>
                  <p:cNvPicPr/>
                  <p:nvPr/>
                </p:nvPicPr>
                <p:blipFill>
                  <a:blip r:embed="rId2"/>
                  <a:stretch/>
                </p:blipFill>
                <p:spPr>
                  <a:xfrm>
                    <a:off x="5029200" y="1295280"/>
                    <a:ext cx="2467080" cy="441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Material Types</a:t>
            </a:r>
            <a:endParaRPr b="1" lang="en-US" sz="3600" spc="-1" strike="noStrike">
              <a:solidFill>
                <a:srgbClr val="ffff66"/>
              </a:solidFill>
              <a:latin typeface="Arial"/>
            </a:endParaRPr>
          </a:p>
        </p:txBody>
      </p:sp>
      <p:sp>
        <p:nvSpPr>
          <p:cNvPr id="129" name="PlaceHolder 2"/>
          <p:cNvSpPr>
            <a:spLocks noGrp="1"/>
          </p:cNvSpPr>
          <p:nvPr>
            <p:ph/>
          </p:nvPr>
        </p:nvSpPr>
        <p:spPr>
          <a:xfrm>
            <a:off x="685800" y="137160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ezoelectric man-made CERAMIC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to depolarize if temperature range is exceeded (usually above 250° 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dependent sensi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harge sensitiv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ezoelectric QUARTZ</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ly piezoelectric and therefore very st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st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apacitance and low charge sensi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848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Signal Conditioning</a:t>
            </a:r>
            <a:endParaRPr b="1" lang="en-US" sz="3600" spc="-1" strike="noStrike">
              <a:solidFill>
                <a:srgbClr val="ffff66"/>
              </a:solidFill>
              <a:latin typeface="Arial"/>
            </a:endParaRPr>
          </a:p>
        </p:txBody>
      </p:sp>
      <p:sp>
        <p:nvSpPr>
          <p:cNvPr id="13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mpedance (voltage mode) amplifi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impedance devices, like piezoelectric, require attention to wiring capacitance and input characteristics of amplifier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ge type amplifi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roduce a voltage proportional to the input char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widely used type of amplifier because of superior character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51920"/>
            <a:ext cx="7848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Signal Conditioning</a:t>
            </a:r>
            <a:endParaRPr b="1" lang="en-US" sz="3600" spc="-1" strike="noStrike">
              <a:solidFill>
                <a:srgbClr val="ffff66"/>
              </a:solidFill>
              <a:latin typeface="Arial"/>
            </a:endParaRPr>
          </a:p>
        </p:txBody>
      </p:sp>
      <p:sp>
        <p:nvSpPr>
          <p:cNvPr id="13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fy input signal to take advantage of full dynamic range of conver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n of overload conditions at the input of pream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the input signal rejecting unwanted low and high frequency compon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constant current power source if the transducer contains an integrated preamp (IC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Rules of Thumb</a:t>
            </a:r>
            <a:endParaRPr b="1" lang="en-US" sz="3600" spc="-1" strike="noStrike">
              <a:solidFill>
                <a:srgbClr val="ffff66"/>
              </a:solidFill>
              <a:latin typeface="Arial"/>
            </a:endParaRPr>
          </a:p>
        </p:txBody>
      </p:sp>
      <p:sp>
        <p:nvSpPr>
          <p:cNvPr id="13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ducer mass &lt; 0.1 mass being measur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etermine the useful upper frequency limit by 1/10 of the mounted resonant frequency (f</a:t>
            </a:r>
            <a:r>
              <a:rPr b="0" lang="en-US" sz="2800" spc="-1" strike="noStrike" baseline="-25000">
                <a:solidFill>
                  <a:srgbClr val="ffffff"/>
                </a:solidFill>
                <a:latin typeface="Arial"/>
              </a:rPr>
              <a:t>r</a:t>
            </a:r>
            <a:r>
              <a:rPr b="0" lang="en-US" sz="2800" spc="-1" strike="noStrike">
                <a:solidFill>
                  <a:srgbClr val="ffffff"/>
                </a:solidFill>
                <a:latin typeface="Arial"/>
              </a:rPr>
              <a:t>) of the accelerome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lowpass filter to remove frequency data amplified by the resonant pea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me Rules of Thumb</a:t>
            </a:r>
            <a:endParaRPr b="1" lang="en-US" sz="3600" spc="-1" strike="noStrike">
              <a:solidFill>
                <a:srgbClr val="ffff66"/>
              </a:solidFill>
              <a:latin typeface="Arial"/>
            </a:endParaRPr>
          </a:p>
        </p:txBody>
      </p:sp>
      <p:sp>
        <p:nvSpPr>
          <p:cNvPr id="13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vibration level should not exceed 1/3 of shock ra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a transducer beyond its useful range will probably cause non-linear resu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bration Components</a:t>
            </a:r>
            <a:endParaRPr b="1" lang="en-US" sz="3600" spc="-1" strike="noStrike">
              <a:solidFill>
                <a:srgbClr val="ffff66"/>
              </a:solidFill>
              <a:latin typeface="Arial"/>
            </a:endParaRPr>
          </a:p>
        </p:txBody>
      </p:sp>
      <p:sp>
        <p:nvSpPr>
          <p:cNvPr id="9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tudes are related by a function of frequency and time for sinusoidal excit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is the most commonly measure compon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is used to compute the frequency response due to a known force input</a:t>
            </a:r>
            <a:endParaRPr b="0" lang="en-US" sz="2800" spc="-1" strike="noStrike">
              <a:solidFill>
                <a:srgbClr val="ffffff"/>
              </a:solidFill>
              <a:latin typeface="Arial"/>
            </a:endParaRPr>
          </a:p>
        </p:txBody>
      </p:sp>
      <p:sp>
        <p:nvSpPr>
          <p:cNvPr id="97" name=""/>
          <p:cNvSpPr/>
          <p:nvPr/>
        </p:nvSpPr>
        <p:spPr>
          <a:xfrm>
            <a:off x="533520" y="1143000"/>
            <a:ext cx="80010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cceleration, Velocity and Displa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Measure Vibration?</a:t>
            </a:r>
            <a:endParaRPr b="1" lang="en-US" sz="3600" spc="-1" strike="noStrike">
              <a:solidFill>
                <a:srgbClr val="ffff66"/>
              </a:solidFill>
              <a:latin typeface="Arial"/>
            </a:endParaRPr>
          </a:p>
        </p:txBody>
      </p:sp>
      <p:sp>
        <p:nvSpPr>
          <p:cNvPr id="9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 structural response of an object in order to modify or reduce vib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small vibrations can excite resonant frequencies of a structure and amplify them into major vibrations and noise sourc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ultrasonic cleaning bath, this is GO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airplane, this is B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
          <p:cNvSpPr/>
          <p:nvPr/>
        </p:nvSpPr>
        <p:spPr>
          <a:xfrm>
            <a:off x="5950080" y="1606680"/>
            <a:ext cx="2120760" cy="977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685800" y="1600200"/>
            <a:ext cx="7772400" cy="38498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ler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and displacement</a:t>
            </a:r>
            <a:br>
              <a:rPr sz="2400"/>
            </a:br>
            <a:r>
              <a:rPr b="0" lang="en-US" sz="2400" spc="-1" strike="noStrike">
                <a:solidFill>
                  <a:srgbClr val="ffffff"/>
                </a:solidFill>
                <a:latin typeface="Arial"/>
              </a:rPr>
              <a:t>(via integration versus tim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is expressed in m/s</a:t>
            </a:r>
            <a:r>
              <a:rPr b="0" lang="en-US" sz="2800" spc="-1" strike="noStrike" baseline="30000">
                <a:solidFill>
                  <a:srgbClr val="ffffff"/>
                </a:solidFill>
                <a:latin typeface="Arial"/>
              </a:rPr>
              <a:t>2</a:t>
            </a:r>
            <a:r>
              <a:rPr b="0" lang="en-US" sz="2800" spc="-1" strike="noStrike">
                <a:solidFill>
                  <a:srgbClr val="ffffff"/>
                </a:solidFill>
                <a:latin typeface="Arial"/>
              </a:rPr>
              <a:t> or 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g : acceleration at the surface of Eart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g = 9.81 m/s</a:t>
            </a:r>
            <a:r>
              <a:rPr b="0" lang="en-US" sz="2400" spc="-1" strike="noStrike" baseline="30000">
                <a:solidFill>
                  <a:srgbClr val="ffffff"/>
                </a:solidFill>
                <a:latin typeface="Arial"/>
              </a:rPr>
              <a:t>2</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D or 3D (triaxial) accelerome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is performed with a vibration shaker</a:t>
            </a:r>
            <a:endParaRPr b="0" lang="en-US" sz="2800" spc="-1" strike="noStrike">
              <a:solidFill>
                <a:srgbClr val="ffffff"/>
              </a:solidFill>
              <a:latin typeface="Arial"/>
            </a:endParaRPr>
          </a:p>
        </p:txBody>
      </p:sp>
      <p:sp>
        <p:nvSpPr>
          <p:cNvPr id="102" name="PlaceHolder 2"/>
          <p:cNvSpPr>
            <a:spLocks noGrp="1"/>
          </p:cNvSpPr>
          <p:nvPr>
            <p:ph type="title"/>
          </p:nvPr>
        </p:nvSpPr>
        <p:spPr>
          <a:xfrm>
            <a:off x="76212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s</a:t>
            </a:r>
            <a:endParaRPr b="1" lang="en-US" sz="3600" spc="-1" strike="noStrike">
              <a:solidFill>
                <a:srgbClr val="ffff66"/>
              </a:solidFill>
              <a:latin typeface="Arial"/>
            </a:endParaRPr>
          </a:p>
        </p:txBody>
      </p:sp>
      <p:pic>
        <p:nvPicPr>
          <p:cNvPr id="103" name="" descr=""/>
          <p:cNvPicPr/>
          <p:nvPr/>
        </p:nvPicPr>
        <p:blipFill>
          <a:blip r:embed="rId1"/>
          <a:stretch/>
        </p:blipFill>
        <p:spPr>
          <a:xfrm>
            <a:off x="5562720" y="1523880"/>
            <a:ext cx="3136680" cy="141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How an Accelerometer Works</a:t>
            </a:r>
            <a:endParaRPr b="1" lang="en-US" sz="3600" spc="-1" strike="noStrike">
              <a:solidFill>
                <a:srgbClr val="ffff66"/>
              </a:solidFill>
              <a:latin typeface="Arial"/>
            </a:endParaRPr>
          </a:p>
        </p:txBody>
      </p:sp>
      <p:sp>
        <p:nvSpPr>
          <p:cNvPr id="105" name="PlaceHolder 2"/>
          <p:cNvSpPr>
            <a:spLocks noGrp="1"/>
          </p:cNvSpPr>
          <p:nvPr>
            <p:ph/>
          </p:nvPr>
        </p:nvSpPr>
        <p:spPr>
          <a:xfrm>
            <a:off x="685440" y="3885840"/>
            <a:ext cx="7162920" cy="25909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es on the piezoelectric effec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esign: shear mode (less temperature sensit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ing: built-in microelectronics (ICP) or external (charge mode)</a:t>
            </a:r>
            <a:endParaRPr b="0" lang="en-US" sz="2800" spc="-1" strike="noStrike">
              <a:solidFill>
                <a:srgbClr val="ffffff"/>
              </a:solidFill>
              <a:latin typeface="Arial"/>
            </a:endParaRPr>
          </a:p>
        </p:txBody>
      </p:sp>
      <p:pic>
        <p:nvPicPr>
          <p:cNvPr id="106" name="" descr=""/>
          <p:cNvPicPr/>
          <p:nvPr/>
        </p:nvPicPr>
        <p:blipFill>
          <a:blip r:embed="rId1"/>
          <a:stretch/>
        </p:blipFill>
        <p:spPr>
          <a:xfrm>
            <a:off x="3581280" y="1371600"/>
            <a:ext cx="5280120" cy="2365200"/>
          </a:xfrm>
          <a:prstGeom prst="rect">
            <a:avLst/>
          </a:prstGeom>
          <a:ln w="0">
            <a:noFill/>
          </a:ln>
        </p:spPr>
      </p:pic>
      <p:pic>
        <p:nvPicPr>
          <p:cNvPr id="107" name="" descr=""/>
          <p:cNvPicPr/>
          <p:nvPr/>
        </p:nvPicPr>
        <p:blipFill>
          <a:blip r:embed="rId2"/>
          <a:stretch/>
        </p:blipFill>
        <p:spPr>
          <a:xfrm>
            <a:off x="1600200" y="2438280"/>
            <a:ext cx="911160" cy="1059120"/>
          </a:xfrm>
          <a:prstGeom prst="rect">
            <a:avLst/>
          </a:prstGeom>
          <a:ln w="0">
            <a:noFill/>
          </a:ln>
        </p:spPr>
      </p:pic>
      <p:sp>
        <p:nvSpPr>
          <p:cNvPr id="108" name=""/>
          <p:cNvSpPr/>
          <p:nvPr/>
        </p:nvSpPr>
        <p:spPr>
          <a:xfrm>
            <a:off x="493200" y="1522440"/>
            <a:ext cx="2963160" cy="824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compres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accelerome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P Accelerometers</a:t>
            </a:r>
            <a:endParaRPr b="1" lang="en-US" sz="3600" spc="-1" strike="noStrike">
              <a:solidFill>
                <a:srgbClr val="ffff66"/>
              </a:solidFill>
              <a:latin typeface="Arial"/>
            </a:endParaRPr>
          </a:p>
        </p:txBody>
      </p:sp>
      <p:sp>
        <p:nvSpPr>
          <p:cNvPr id="110" name="PlaceHolder 2"/>
          <p:cNvSpPr>
            <a:spLocks noGrp="1"/>
          </p:cNvSpPr>
          <p:nvPr>
            <p:ph/>
          </p:nvPr>
        </p:nvSpPr>
        <p:spPr>
          <a:xfrm>
            <a:off x="685800" y="1371600"/>
            <a:ext cx="7772400" cy="41148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and easy to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microelectronic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constant current signal conditioner</a:t>
            </a:r>
            <a:br>
              <a:rPr sz="2400"/>
            </a:br>
            <a:r>
              <a:rPr b="0" lang="en-US" sz="2400" spc="-1" strike="noStrike">
                <a:solidFill>
                  <a:srgbClr val="ffffff"/>
                </a:solidFill>
                <a:latin typeface="Arial"/>
              </a:rPr>
              <a:t>(18-30 VDC ; 2 m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range: max 250 °F (some 325 °F)</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sensi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449280"/>
            <a:ext cx="777096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arge Mode Accelerometers</a:t>
            </a:r>
            <a:endParaRPr b="1" lang="en-US" sz="3600" spc="-1" strike="noStrike">
              <a:solidFill>
                <a:srgbClr val="ffff66"/>
              </a:solidFill>
              <a:latin typeface="Arial"/>
            </a:endParaRPr>
          </a:p>
        </p:txBody>
      </p:sp>
      <p:sp>
        <p:nvSpPr>
          <p:cNvPr id="112" name="PlaceHolder 2"/>
          <p:cNvSpPr>
            <a:spLocks noGrp="1"/>
          </p:cNvSpPr>
          <p:nvPr>
            <p:ph/>
          </p:nvPr>
        </p:nvSpPr>
        <p:spPr>
          <a:xfrm>
            <a:off x="685800" y="1295280"/>
            <a:ext cx="7772400" cy="41148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up to 1000 °F</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sensitiv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conditioning requir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low-noise cabl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e to environmental influen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Frequency Response</a:t>
            </a:r>
            <a:endParaRPr b="1" lang="en-US" sz="3600" spc="-1" strike="noStrike">
              <a:solidFill>
                <a:srgbClr val="ffff66"/>
              </a:solidFill>
              <a:latin typeface="Arial"/>
            </a:endParaRPr>
          </a:p>
        </p:txBody>
      </p:sp>
      <p:grpSp>
        <p:nvGrpSpPr>
          <p:cNvPr id="114" name=""/>
          <p:cNvGrpSpPr/>
          <p:nvPr/>
        </p:nvGrpSpPr>
        <p:grpSpPr>
          <a:xfrm>
            <a:off x="688320" y="1233360"/>
            <a:ext cx="7320600" cy="4862880"/>
            <a:chOff x="688320" y="1233360"/>
            <a:chExt cx="7320600" cy="4862880"/>
          </a:xfrm>
        </p:grpSpPr>
        <p:pic>
          <p:nvPicPr>
            <p:cNvPr id="115" name="" descr=""/>
            <p:cNvPicPr/>
            <p:nvPr/>
          </p:nvPicPr>
          <p:blipFill>
            <a:blip r:embed="rId1"/>
            <a:stretch/>
          </p:blipFill>
          <p:spPr>
            <a:xfrm>
              <a:off x="1474920" y="1625760"/>
              <a:ext cx="6534000" cy="4230360"/>
            </a:xfrm>
            <a:prstGeom prst="rect">
              <a:avLst/>
            </a:prstGeom>
            <a:ln w="0">
              <a:noFill/>
            </a:ln>
          </p:spPr>
        </p:pic>
        <p:sp>
          <p:nvSpPr>
            <p:cNvPr id="116" name=""/>
            <p:cNvSpPr/>
            <p:nvPr/>
          </p:nvSpPr>
          <p:spPr>
            <a:xfrm>
              <a:off x="2849400" y="5729400"/>
              <a:ext cx="40392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natural resonant frequency</a:t>
              </a:r>
              <a:endParaRPr b="0" lang="en-US" sz="1800" spc="-1" strike="noStrike">
                <a:solidFill>
                  <a:srgbClr val="000000"/>
                </a:solidFill>
                <a:latin typeface="Times New Roman"/>
              </a:endParaRPr>
            </a:p>
          </p:txBody>
        </p:sp>
        <p:sp>
          <p:nvSpPr>
            <p:cNvPr id="117" name=""/>
            <p:cNvSpPr/>
            <p:nvPr/>
          </p:nvSpPr>
          <p:spPr>
            <a:xfrm>
              <a:off x="688320" y="1233360"/>
              <a:ext cx="50176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leration output/acceleration of the structure</a:t>
              </a:r>
              <a:endParaRPr b="0" lang="en-US" sz="1800" spc="-1" strike="noStrike">
                <a:solidFill>
                  <a:srgbClr val="000000"/>
                </a:solidFill>
                <a:latin typeface="Times New Roman"/>
              </a:endParaRPr>
            </a:p>
          </p:txBody>
        </p:sp>
        <p:sp>
          <p:nvSpPr>
            <p:cNvPr id="118" name=""/>
            <p:cNvSpPr/>
            <p:nvPr/>
          </p:nvSpPr>
          <p:spPr>
            <a:xfrm flipV="1">
              <a:off x="1627200" y="2154240"/>
              <a:ext cx="0" cy="13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078440" y="5576760"/>
              <a:ext cx="13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Characteristics</a:t>
            </a:r>
            <a:endParaRPr b="1" lang="en-US" sz="3600" spc="-1" strike="noStrike">
              <a:solidFill>
                <a:srgbClr val="ffff66"/>
              </a:solidFill>
              <a:latin typeface="Arial"/>
            </a:endParaRPr>
          </a:p>
        </p:txBody>
      </p:sp>
      <p:graphicFrame>
        <p:nvGraphicFramePr>
          <p:cNvPr id="121" name=""/>
          <p:cNvGraphicFramePr/>
          <p:nvPr/>
        </p:nvGraphicFramePr>
        <p:xfrm>
          <a:off x="685800" y="1523880"/>
          <a:ext cx="7772400" cy="4114800"/>
        </p:xfrm>
        <a:graphic>
          <a:graphicData uri="http://schemas.openxmlformats.org/drawingml/2006/table">
            <a:tbl>
              <a:tblPr/>
              <a:tblGrid>
                <a:gridCol w="2666880"/>
                <a:gridCol w="2590920"/>
                <a:gridCol w="2514600"/>
              </a:tblGrid>
              <a:tr h="819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ical</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cy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2 Hz to 25 kHz</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it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to 1,000 mV/g</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o 10 V/g (seismic)</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to 40 gram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 grams (seismic)</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tude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0 g (peak)</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 g (shock)</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Trent Bronson Butcher</cp:lastModifiedBy>
  <dcterms:modified xsi:type="dcterms:W3CDTF">2000-09-19T05:41:26Z</dcterms:modified>
  <cp:revision>95</cp:revision>
  <dc:subject>Accelerometers</dc:subject>
  <dc:title>Dynamic Signal Measurement Basics</dc:title>
</cp:coreProperties>
</file>