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36CC-12C8-417D-901A-347EC227B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sensors used for dynamic signal measurements are accelerometers, microphones, and tachometers. Other common sensors include displacement probes, velocity probes, and h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 before doing any actual measurements, it is important to select your sensors carefully and to make sure that they will be well suited for the analysis you plan to per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ill briefly introduce you to tachometers, their principle of operation, and their typical characteristic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6240" y="687240"/>
            <a:ext cx="4567320" cy="342612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rotating machines, it is important to be able to relate any measurement from an accelerometer or a microphone to the actual rotational speed of the machine under test. A tachometer will basically track the angular position of a shaft versus time and so lead to the measurement of the angular speed (commonly expressed in rpm, revolutions per min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providing this angular speed information, the signal from the tachometer is needed to perform advanced analysis such as order tracking, order analysis, and angular averag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6240" y="687240"/>
            <a:ext cx="4567320" cy="342612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asure the angular position, a wheel with N teeth is commonly mounted on the shaft. The tachometer then detects the presence of the teeth via either an optical sensor (transition from a reflective surface to a nonreflective one) or a magnetic sensor (proximity of the tooth). In some cases, a small stripe of reflective tape is simply attached to the shaft, generating one pulse per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signal of the tachometer is a pulse train, the time between two consecutive pulses being directly related to the angular speed of the sh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bsolute angular position is needed, a special wheel with a “missing” tooth can be used. A typical example would be a wheel with 59 teeth uniformly placed every 6° (360°/60), the missing (60th) tooth being related to a known position of the shaft (such as the top dead center for the crankshaft in an eng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B4D55-1854-453B-9879-E3514BD7F8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68F635ED-34E0-4BA7-9E2D-5774946992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3CD44624-BCCD-4D62-A73D-A4727299A9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DE28C157-CA41-4F02-8495-BFD2E700B9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1AE8E-D28F-4556-8E0E-AF1DBECFAF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03FB1-6519-4DCB-A677-1B28FA7A1D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13AC2-A9D5-40E1-8790-5D99727593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142A-4320-4502-8F7A-C41AE3DF56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537EC-E9DC-40F2-BAA4-BFBE1C29C8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1CB08-86A4-4525-96A1-6BBC9FC8F2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7AF9-A726-4456-968F-164E02F695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1342B69-BB46-41B3-8335-9988C5898D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5D437-9E45-437F-A8DA-CE6FCA795F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B8424-97DC-4642-8C39-D4DFCD4E11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3914D-CD79-4ECA-AFCC-4F303E9D89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BFD18-84E9-4B07-915E-3B167AF0F2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F5ED1-761D-4FD7-A9A6-3826AF8A0B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FA56ABF-3AD1-41FF-96C8-497E8E6894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8B9CA898-5FCE-431C-BD75-19A6F68733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C06553AC-B704-4963-A69C-31ABB2A788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9145EC8A-81F4-4B73-A622-A43BFD48D7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FF8AB03-7793-4602-A67D-09CCE593E8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D5CA829-A7A9-4500-9ECC-DADF9DD8D2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9A2AC5C-9C6C-4FB8-8A22-5006EA02B2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837E-0E5C-4D3B-9D3E-81AC4E8873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C9A3-4C90-4DD6-966B-58D8AB4650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286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a:t>
            </a:r>
            <a:br>
              <a:rPr sz="3600"/>
            </a:br>
            <a:r>
              <a:rPr b="1" lang="en-US" sz="3600" spc="-1" strike="noStrike">
                <a:solidFill>
                  <a:srgbClr val="ffff66"/>
                </a:solidFill>
                <a:latin typeface="Arial"/>
                <a:ea typeface="Times New Roman"/>
              </a:rPr>
              <a:t>Sensor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chometer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5720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chometers</a:t>
            </a:r>
            <a:endParaRPr b="1" lang="en-US" sz="3600" spc="-1" strike="noStrike">
              <a:solidFill>
                <a:srgbClr val="ffff66"/>
              </a:solidFill>
              <a:latin typeface="Arial"/>
            </a:endParaRPr>
          </a:p>
        </p:txBody>
      </p:sp>
      <p:sp>
        <p:nvSpPr>
          <p:cNvPr id="96" name="PlaceHolder 2"/>
          <p:cNvSpPr>
            <a:spLocks noGrp="1"/>
          </p:cNvSpPr>
          <p:nvPr>
            <p:ph/>
          </p:nvPr>
        </p:nvSpPr>
        <p:spPr>
          <a:xfrm>
            <a:off x="990360" y="1981080"/>
            <a:ext cx="4267080" cy="36576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po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speed (rpm)</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fo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track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averaging</a:t>
            </a:r>
            <a:endParaRPr b="0" lang="en-US" sz="2400" spc="-1" strike="noStrike">
              <a:solidFill>
                <a:srgbClr val="ffffff"/>
              </a:solidFill>
              <a:latin typeface="Arial"/>
            </a:endParaRPr>
          </a:p>
        </p:txBody>
      </p:sp>
      <p:pic>
        <p:nvPicPr>
          <p:cNvPr id="97" name="" descr=""/>
          <p:cNvPicPr/>
          <p:nvPr/>
        </p:nvPicPr>
        <p:blipFill>
          <a:blip r:embed="rId1"/>
          <a:stretch/>
        </p:blipFill>
        <p:spPr>
          <a:xfrm>
            <a:off x="4876920" y="1981080"/>
            <a:ext cx="3570120" cy="19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a Tachometer Works</a:t>
            </a:r>
            <a:endParaRPr b="1" lang="en-US" sz="3600" spc="-1" strike="noStrike">
              <a:solidFill>
                <a:srgbClr val="ffff66"/>
              </a:solidFill>
              <a:latin typeface="Arial"/>
            </a:endParaRPr>
          </a:p>
        </p:txBody>
      </p:sp>
      <p:sp>
        <p:nvSpPr>
          <p:cNvPr id="99" name="PlaceHolder 2"/>
          <p:cNvSpPr>
            <a:spLocks noGrp="1"/>
          </p:cNvSpPr>
          <p:nvPr>
            <p:ph/>
          </p:nvPr>
        </p:nvSpPr>
        <p:spPr>
          <a:xfrm>
            <a:off x="761760" y="4303800"/>
            <a:ext cx="7467480" cy="165888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a wheel with N teeth (N pulses/rev)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ts the presence of  the teeth via an optical sensor (reflection) or a magnetic sensor (proximity)</a:t>
            </a:r>
            <a:endParaRPr b="0" lang="en-US" sz="2800" spc="-1" strike="noStrike">
              <a:solidFill>
                <a:srgbClr val="ffffff"/>
              </a:solidFill>
              <a:latin typeface="Arial"/>
            </a:endParaRPr>
          </a:p>
        </p:txBody>
      </p:sp>
      <p:grpSp>
        <p:nvGrpSpPr>
          <p:cNvPr id="100" name=""/>
          <p:cNvGrpSpPr/>
          <p:nvPr/>
        </p:nvGrpSpPr>
        <p:grpSpPr>
          <a:xfrm>
            <a:off x="1370520" y="1447920"/>
            <a:ext cx="5971680" cy="2287080"/>
            <a:chOff x="1370520" y="1447920"/>
            <a:chExt cx="5971680" cy="2287080"/>
          </a:xfrm>
        </p:grpSpPr>
        <p:sp>
          <p:nvSpPr>
            <p:cNvPr id="101" name=""/>
            <p:cNvSpPr/>
            <p:nvPr/>
          </p:nvSpPr>
          <p:spPr>
            <a:xfrm>
              <a:off x="4341600" y="3276720"/>
              <a:ext cx="72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000000"/>
                </a:solidFill>
                <a:latin typeface="Times New Roman"/>
              </a:endParaRPr>
            </a:p>
          </p:txBody>
        </p:sp>
        <p:sp>
          <p:nvSpPr>
            <p:cNvPr id="102" name=""/>
            <p:cNvSpPr/>
            <p:nvPr/>
          </p:nvSpPr>
          <p:spPr>
            <a:xfrm>
              <a:off x="1500120" y="243828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t>
              </a:r>
              <a:endParaRPr b="0" lang="en-US" sz="2400" spc="-1" strike="noStrike">
                <a:solidFill>
                  <a:srgbClr val="000000"/>
                </a:solidFill>
                <a:latin typeface="Times New Roman"/>
              </a:endParaRPr>
            </a:p>
          </p:txBody>
        </p:sp>
        <p:sp>
          <p:nvSpPr>
            <p:cNvPr id="103" name=""/>
            <p:cNvSpPr/>
            <p:nvPr/>
          </p:nvSpPr>
          <p:spPr>
            <a:xfrm>
              <a:off x="1370520" y="1447920"/>
              <a:ext cx="67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pm</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2133720" y="1523880"/>
              <a:ext cx="5208480" cy="19400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11-15T00:14:50Z</dcterms:modified>
  <cp:revision>100</cp:revision>
  <dc:subject>Tachometers</dc:subject>
  <dc:title>Dynamic Signal Measurement Basics</dc:title>
</cp:coreProperties>
</file>