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136E7-E3FB-47D7-B363-F67C0E76BE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pical sensors used for dynamic signal measurements are accelerometers, microphones, and tachometers. Other common sensors include displacement probes, velocity probes, and ham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ven before doing any actual measurements, it is important to select your sensors carefully and to make sure that they will be well suited for the analysis you plan to per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will briefly introduce you to tachometers, their principle of operation, and their typical characteristic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6240" y="687240"/>
            <a:ext cx="4567320" cy="342612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aling with rotating machines, it is important to be able to relate any measurement from an accelerometer or a microphone to the actual rotational speed of the machine under test. A tachometer will basically track the angular position of a shaft versus time and so lead to the measurement of the angular speed (commonly expressed in rpm, revolutions per min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providing this angular speed information, the signal from the tachometer is needed to perform advanced analysis such as order tracking, order analysis, and angular averag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6240" y="687240"/>
            <a:ext cx="4567320" cy="342612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easure the angular position, a wheel with N teeth is commonly mounted on the shaft. The tachometer then detects the presence of the teeth via either an optical sensor (transition from a reflective surface to a nonreflective one) or a magnetic sensor (proximity of the tooth). In some cases, a small stripe of reflective tape is simply attached to the shaft, generating one pulse per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put signal of the tachometer is a pulse train, the time between two consecutive pulses being directly related to the angular speed of the sha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absolute angular position is needed, a special wheel with a “missing” tooth can be used. A typical example would be a wheel with 59 teeth uniformly placed every 6° (360°/60), the missing (60th) tooth being related to a known position of the shaft (such as the top dead center for the crankshaft in an engi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202013-508A-4873-B50F-3A16BB456C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E8C19353-CBE2-41C8-8F86-7ED0FD5D8A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4C8158C7-87F1-4552-90D7-D1BDC6DCA7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B0BAA067-165F-48EC-9AA0-0C982C6D0C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9CF3D6-DF1B-4FE7-9742-27A23E7E9B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1B616-5849-46E1-827C-9AB4356BBD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41DB1-1E57-48DF-822A-05A5293D24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26108-7C8E-470C-90FD-3DEF7D46F5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41A5D-DA41-49BA-961C-C823F3063E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0948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4998D-AE09-4C6D-879D-9C9F814899D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DC1B5-0F67-47EC-AABF-77F869A196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7A095E92-6DE7-4411-BE41-4AF1C63DF9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33BD7-4DB7-4D9B-BF10-62A345398F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14EA3-4C7D-427A-998A-E0F42EB30C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FADDC-E0A1-40F3-9EDD-056712CB47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390DB-3F8B-458C-9DC5-D0AF1644E9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13140-B00B-4729-9C75-2C3795EA4B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89BCF54D-EF78-41C0-8501-92EAC22722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1D4986EA-5303-4CF4-A9AC-4558E3DBC4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sldNum" idx="1"/>
          </p:nvPr>
        </p:nvSpPr>
        <p:spPr/>
        <p:txBody>
          <a:bodyPr/>
          <a:p>
            <a:fld id="{B4EB40EB-BE52-40EA-A123-3EDEFE38C5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C299003C-6A60-452E-A8A3-307B430361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4F8578CF-E9D2-4D57-B4A0-5973195446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6BE08E7E-6BB5-4FAA-B224-230C1F1EF9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85D0FA00-EE1E-47B1-A6DC-86E0B84F83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77DFF-EDEF-4935-A0F1-48AEC80912C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 name=""/>
          <p:cNvSpPr/>
          <p:nvPr/>
        </p:nvSpPr>
        <p:spPr>
          <a:xfrm>
            <a:off x="685800" y="106668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 name="nilogoClr" descr=""/>
          <p:cNvPicPr/>
          <p:nvPr/>
        </p:nvPicPr>
        <p:blipFill>
          <a:blip r:embed="rId3"/>
          <a:stretch/>
        </p:blipFill>
        <p:spPr>
          <a:xfrm>
            <a:off x="7010280" y="6305400"/>
            <a:ext cx="1981440" cy="476280"/>
          </a:xfrm>
          <a:prstGeom prst="rect">
            <a:avLst/>
          </a:prstGeom>
          <a:ln w="0">
            <a:noFill/>
          </a:ln>
        </p:spPr>
      </p:pic>
      <p:sp>
        <p:nvSpPr>
          <p:cNvPr id="5" name=""/>
          <p:cNvSpPr/>
          <p:nvPr/>
        </p:nvSpPr>
        <p:spPr>
          <a:xfrm>
            <a:off x="381960" y="6172200"/>
            <a:ext cx="918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ni.com</a:t>
            </a:r>
            <a:endParaRPr b="0" lang="en-US" sz="2200" spc="-1" strike="noStrike">
              <a:solidFill>
                <a:srgbClr val="000000"/>
              </a:solidFill>
              <a:latin typeface="Times New Roman"/>
            </a:endParaRPr>
          </a:p>
        </p:txBody>
      </p:sp>
      <p:sp>
        <p:nvSpPr>
          <p:cNvPr id="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46"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A1AB8-B33C-4140-BE32-539B6F0F087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47" name="nilogoClr" descr=""/>
          <p:cNvPicPr/>
          <p:nvPr/>
        </p:nvPicPr>
        <p:blipFill>
          <a:blip r:embed="rId3"/>
          <a:stretch/>
        </p:blipFill>
        <p:spPr>
          <a:xfrm>
            <a:off x="7010280" y="6305400"/>
            <a:ext cx="1981440" cy="476280"/>
          </a:xfrm>
          <a:prstGeom prst="rect">
            <a:avLst/>
          </a:prstGeom>
          <a:ln w="0">
            <a:noFill/>
          </a:ln>
        </p:spPr>
      </p:pic>
      <p:sp>
        <p:nvSpPr>
          <p:cNvPr id="48" name=""/>
          <p:cNvSpPr/>
          <p:nvPr/>
        </p:nvSpPr>
        <p:spPr>
          <a:xfrm>
            <a:off x="763560" y="6324480"/>
            <a:ext cx="13878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42864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ea typeface="Times New Roman"/>
              </a:rPr>
              <a:t>Dynamic Signal Measurement Basics</a:t>
            </a:r>
            <a:br>
              <a:rPr sz="3600"/>
            </a:br>
            <a:r>
              <a:rPr b="1" lang="en-US" sz="3600" spc="-1" strike="noStrike">
                <a:solidFill>
                  <a:srgbClr val="ffff66"/>
                </a:solidFill>
                <a:latin typeface="Arial"/>
                <a:ea typeface="Times New Roman"/>
              </a:rPr>
              <a:t>Sensors</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46483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chometers</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National Instruments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45720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achometers</a:t>
            </a:r>
            <a:endParaRPr b="1" lang="en-US" sz="3600" spc="-1" strike="noStrike">
              <a:solidFill>
                <a:srgbClr val="ffff66"/>
              </a:solidFill>
              <a:latin typeface="Arial"/>
            </a:endParaRPr>
          </a:p>
        </p:txBody>
      </p:sp>
      <p:sp>
        <p:nvSpPr>
          <p:cNvPr id="96" name="PlaceHolder 2"/>
          <p:cNvSpPr>
            <a:spLocks noGrp="1"/>
          </p:cNvSpPr>
          <p:nvPr>
            <p:ph/>
          </p:nvPr>
        </p:nvSpPr>
        <p:spPr>
          <a:xfrm>
            <a:off x="990360" y="1981080"/>
            <a:ext cx="4267080" cy="365760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posi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speed (rpm)</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fo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der analy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der track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averaging</a:t>
            </a:r>
            <a:endParaRPr b="0" lang="en-US" sz="2400" spc="-1" strike="noStrike">
              <a:solidFill>
                <a:srgbClr val="ffffff"/>
              </a:solidFill>
              <a:latin typeface="Arial"/>
            </a:endParaRPr>
          </a:p>
        </p:txBody>
      </p:sp>
      <p:pic>
        <p:nvPicPr>
          <p:cNvPr id="97" name="" descr=""/>
          <p:cNvPicPr/>
          <p:nvPr/>
        </p:nvPicPr>
        <p:blipFill>
          <a:blip r:embed="rId1"/>
          <a:stretch/>
        </p:blipFill>
        <p:spPr>
          <a:xfrm>
            <a:off x="4876920" y="1981080"/>
            <a:ext cx="3570120" cy="191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ow a Tachometer Works</a:t>
            </a:r>
            <a:endParaRPr b="1" lang="en-US" sz="3600" spc="-1" strike="noStrike">
              <a:solidFill>
                <a:srgbClr val="ffff66"/>
              </a:solidFill>
              <a:latin typeface="Arial"/>
            </a:endParaRPr>
          </a:p>
        </p:txBody>
      </p:sp>
      <p:sp>
        <p:nvSpPr>
          <p:cNvPr id="99" name="PlaceHolder 2"/>
          <p:cNvSpPr>
            <a:spLocks noGrp="1"/>
          </p:cNvSpPr>
          <p:nvPr>
            <p:ph/>
          </p:nvPr>
        </p:nvSpPr>
        <p:spPr>
          <a:xfrm>
            <a:off x="761760" y="4303800"/>
            <a:ext cx="7467480" cy="165888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s a wheel with N teeth (N pulses/rev)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cts the presence of  the teeth via an optical sensor (reflection) or a magnetic sensor (proximity)</a:t>
            </a:r>
            <a:endParaRPr b="0" lang="en-US" sz="2800" spc="-1" strike="noStrike">
              <a:solidFill>
                <a:srgbClr val="ffffff"/>
              </a:solidFill>
              <a:latin typeface="Arial"/>
            </a:endParaRPr>
          </a:p>
        </p:txBody>
      </p:sp>
      <p:grpSp>
        <p:nvGrpSpPr>
          <p:cNvPr id="100" name=""/>
          <p:cNvGrpSpPr/>
          <p:nvPr/>
        </p:nvGrpSpPr>
        <p:grpSpPr>
          <a:xfrm>
            <a:off x="1370520" y="1447920"/>
            <a:ext cx="5971680" cy="2287080"/>
            <a:chOff x="1370520" y="1447920"/>
            <a:chExt cx="5971680" cy="2287080"/>
          </a:xfrm>
        </p:grpSpPr>
        <p:sp>
          <p:nvSpPr>
            <p:cNvPr id="101" name=""/>
            <p:cNvSpPr/>
            <p:nvPr/>
          </p:nvSpPr>
          <p:spPr>
            <a:xfrm>
              <a:off x="4341600" y="3276720"/>
              <a:ext cx="729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a:t>
              </a:r>
              <a:endParaRPr b="0" lang="en-US" sz="2400" spc="-1" strike="noStrike">
                <a:solidFill>
                  <a:srgbClr val="000000"/>
                </a:solidFill>
                <a:latin typeface="Times New Roman"/>
              </a:endParaRPr>
            </a:p>
          </p:txBody>
        </p:sp>
        <p:sp>
          <p:nvSpPr>
            <p:cNvPr id="102" name=""/>
            <p:cNvSpPr/>
            <p:nvPr/>
          </p:nvSpPr>
          <p:spPr>
            <a:xfrm>
              <a:off x="1500120" y="2438280"/>
              <a:ext cx="404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t>
              </a:r>
              <a:endParaRPr b="0" lang="en-US" sz="2400" spc="-1" strike="noStrike">
                <a:solidFill>
                  <a:srgbClr val="000000"/>
                </a:solidFill>
                <a:latin typeface="Times New Roman"/>
              </a:endParaRPr>
            </a:p>
          </p:txBody>
        </p:sp>
        <p:sp>
          <p:nvSpPr>
            <p:cNvPr id="103" name=""/>
            <p:cNvSpPr/>
            <p:nvPr/>
          </p:nvSpPr>
          <p:spPr>
            <a:xfrm>
              <a:off x="1370520" y="1447920"/>
              <a:ext cx="677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pm</a:t>
              </a:r>
              <a:endParaRPr b="0" lang="en-US" sz="2400" spc="-1" strike="noStrike">
                <a:solidFill>
                  <a:srgbClr val="000000"/>
                </a:solidFill>
                <a:latin typeface="Times New Roman"/>
              </a:endParaRPr>
            </a:p>
          </p:txBody>
        </p:sp>
        <p:pic>
          <p:nvPicPr>
            <p:cNvPr id="104" name="" descr=""/>
            <p:cNvPicPr/>
            <p:nvPr/>
          </p:nvPicPr>
          <p:blipFill>
            <a:blip r:embed="rId1"/>
            <a:stretch/>
          </p:blipFill>
          <p:spPr>
            <a:xfrm>
              <a:off x="2133720" y="1523880"/>
              <a:ext cx="5208480" cy="194004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8T03:10:53Z</dcterms:created>
  <dc:creator>National Instruments</dc:creator>
  <dc:description/>
  <dc:language>en-US</dc:language>
  <cp:lastModifiedBy>Trent Bronson Butcher</cp:lastModifiedBy>
  <dcterms:modified xsi:type="dcterms:W3CDTF">2000-11-15T00:14:50Z</dcterms:modified>
  <cp:revision>100</cp:revision>
  <dc:subject>Tachometers</dc:subject>
  <dc:title>Dynamic Signal Measurement Basics</dc:title>
</cp:coreProperties>
</file>