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8457-E544-463F-9DD3-AF0903055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ill briefly introduce you to tachometers, their principle of operation, and their typical characteristic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6240" y="687240"/>
            <a:ext cx="4567320" cy="342612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rotating machines, it is important to be able to relate any measurement from an accelerometer or a microphone to the actual rotational speed of the machine under test. A tachometer will basically track the angular position of a shaft versus time and so lead to the measurement of the angular speed (commonly expressed in rpm, revolutions per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providing this angular speed information, the signal from the tachometer is needed to perform advanced analysis such as order tracking, order analysis, and angular averag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6240" y="687240"/>
            <a:ext cx="4567320" cy="342612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angular position, a wheel with N teeth is commonly mounted on the shaft. The tachometer then detects the presence of the teeth via either an optical sensor (transition from a reflective surface to a nonreflective one) or a magnetic sensor (proximity of the tooth). In some cases, a small stripe of reflective tape is simply attached to the shaft, generating one pulse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signal of the tachometer is a pulse train, the time between two consecutive pulses being directly related to the angular speed of the s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bsolute angular position is needed, a special wheel with a “missing” tooth can be used. A typical example would be a wheel with 59 teeth uniformly placed every 6° (360°/60), the missing (60th) tooth being related to a known position of the shaft (such as the top dead center for the crankshaft in an eng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E671E-C34C-4426-95BA-2DE1B0B80B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B7DB30B-5A83-4747-B381-F699CCC8D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BC5490D3-79CC-4566-A36B-28170E818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049F4B13-3F08-47F5-9FDA-1401431A5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42B54-E163-40B9-A424-F5FACC9E05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2FC89-302B-4857-9C42-9F4131B9DC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D893-2EA4-420B-8981-F89792D6CA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8AA23-5131-490E-9CB5-5ABCC84003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FBC8-BE3B-432D-ACC2-6469D94C7A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443F-5B7F-4FBC-9026-2C81D0B1B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6A82-8DFA-4681-BB7E-0DEDBDB90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C8444C0-AB67-4DE4-8554-7CD3477BD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7AA5-0F28-48B3-A8D7-457F09171D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6B50-3CF9-45D4-814C-43C3D6FB83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775B-6D97-49B0-ADB0-495C1F231C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56CDB-16C5-4829-AF22-CAF60B1FE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E034B-9CB1-475D-A880-CE52BE17B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AADC289-CF6F-477D-94F8-2439B66F5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40927DF-A754-4820-96A0-DE29051159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F34751A9-E9B6-40EC-870B-1BA48E311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BFB7D1D-1B07-4F07-B7D1-1B2352DD2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897B4E8-16F9-48EF-80F2-87F0D510CC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69A321E-67A6-459C-B87E-E6B721FD7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B6909C5-21E2-4180-83C3-6423DEC38D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3E64-519A-4DCF-B35F-01DB61DF07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A0F8-1CFA-452B-8B82-13A747F9B1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286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720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hometers</a:t>
            </a:r>
            <a:endParaRPr b="1" lang="en-US" sz="3600" spc="-1" strike="noStrike">
              <a:solidFill>
                <a:srgbClr val="ffff66"/>
              </a:solidFill>
              <a:latin typeface="Arial"/>
            </a:endParaRPr>
          </a:p>
        </p:txBody>
      </p:sp>
      <p:sp>
        <p:nvSpPr>
          <p:cNvPr id="96" name="PlaceHolder 2"/>
          <p:cNvSpPr>
            <a:spLocks noGrp="1"/>
          </p:cNvSpPr>
          <p:nvPr>
            <p:ph/>
          </p:nvPr>
        </p:nvSpPr>
        <p:spPr>
          <a:xfrm>
            <a:off x="990360" y="1981080"/>
            <a:ext cx="4267080" cy="36576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po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speed (rpm)</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trac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averaging</a:t>
            </a:r>
            <a:endParaRPr b="0" lang="en-US" sz="2400" spc="-1" strike="noStrike">
              <a:solidFill>
                <a:srgbClr val="ffffff"/>
              </a:solidFill>
              <a:latin typeface="Arial"/>
            </a:endParaRPr>
          </a:p>
        </p:txBody>
      </p:sp>
      <p:pic>
        <p:nvPicPr>
          <p:cNvPr id="97" name="" descr=""/>
          <p:cNvPicPr/>
          <p:nvPr/>
        </p:nvPicPr>
        <p:blipFill>
          <a:blip r:embed="rId1"/>
          <a:stretch/>
        </p:blipFill>
        <p:spPr>
          <a:xfrm>
            <a:off x="4876920" y="1981080"/>
            <a:ext cx="3570120" cy="19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Tachometer Works</a:t>
            </a:r>
            <a:endParaRPr b="1" lang="en-US" sz="3600" spc="-1" strike="noStrike">
              <a:solidFill>
                <a:srgbClr val="ffff66"/>
              </a:solidFill>
              <a:latin typeface="Arial"/>
            </a:endParaRPr>
          </a:p>
        </p:txBody>
      </p:sp>
      <p:sp>
        <p:nvSpPr>
          <p:cNvPr id="99" name="PlaceHolder 2"/>
          <p:cNvSpPr>
            <a:spLocks noGrp="1"/>
          </p:cNvSpPr>
          <p:nvPr>
            <p:ph/>
          </p:nvPr>
        </p:nvSpPr>
        <p:spPr>
          <a:xfrm>
            <a:off x="761760" y="4303800"/>
            <a:ext cx="7467480" cy="16588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 wheel with N teeth (N pulses/rev)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s the presence of  the teeth via an optical sensor (reflection) or a magnetic sensor (proximity)</a:t>
            </a:r>
            <a:endParaRPr b="0" lang="en-US" sz="2800" spc="-1" strike="noStrike">
              <a:solidFill>
                <a:srgbClr val="ffffff"/>
              </a:solidFill>
              <a:latin typeface="Arial"/>
            </a:endParaRPr>
          </a:p>
        </p:txBody>
      </p:sp>
      <p:grpSp>
        <p:nvGrpSpPr>
          <p:cNvPr id="100" name=""/>
          <p:cNvGrpSpPr/>
          <p:nvPr/>
        </p:nvGrpSpPr>
        <p:grpSpPr>
          <a:xfrm>
            <a:off x="1370520" y="1447920"/>
            <a:ext cx="5971680" cy="2287080"/>
            <a:chOff x="1370520" y="1447920"/>
            <a:chExt cx="5971680" cy="2287080"/>
          </a:xfrm>
        </p:grpSpPr>
        <p:sp>
          <p:nvSpPr>
            <p:cNvPr id="101" name=""/>
            <p:cNvSpPr/>
            <p:nvPr/>
          </p:nvSpPr>
          <p:spPr>
            <a:xfrm>
              <a:off x="4341600" y="3276720"/>
              <a:ext cx="72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02" name=""/>
            <p:cNvSpPr/>
            <p:nvPr/>
          </p:nvSpPr>
          <p:spPr>
            <a:xfrm>
              <a:off x="1500120" y="24382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03" name=""/>
            <p:cNvSpPr/>
            <p:nvPr/>
          </p:nvSpPr>
          <p:spPr>
            <a:xfrm>
              <a:off x="1370520" y="1447920"/>
              <a:ext cx="67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2133720" y="1523880"/>
              <a:ext cx="5208480" cy="1940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1-15T00:14:50Z</dcterms:modified>
  <cp:revision>100</cp:revision>
  <dc:subject>Tachometers</dc:subject>
  <dc:title>Dynamic Signal Measurement Basics</dc:title>
</cp:coreProperties>
</file>