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0C1D-3444-430A-85E3-4650CAB5E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signal processing techniques used to perform vibration analysis in rotating machinery is Order Analysis. Some of the basic concepts on this technique are briefly overview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the ideal technique to analyze complex noise and vibration problems directly related to the rotational speed of the machin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applications include the analysis of gear mesh and bearing defects that exhibit complex array of components at different frequencies as well as sideban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balance and misalignment are lower order components present in most, if not all, of rotational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lso the perfect tool to study resonance phenomena and understand the contribution from the source (constant order excitation) and the response of the structure (constant frequency). The worst resonance problems appear at particular rotational speeds where a high, order-related, excitation emphasizes the weakness of a structural reso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mmon applications cover the analysis of speed reducer, timing chain, valve noise,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 technique dedicated to the analysis of rotating machines operated over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will show up at 200 Hz.</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order analysis is to lock the sampling times to constant shaft positions. So, when the rotational speed is changed, the original signal is no longer sampled at constant time intervals but, instead, at constant ang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this signal sampled at constant shaft position, two different techniques can be used. The first one, external sampling, relies on the hardware to lock the sampling times to constant shaft positions. The second one, digital resampling, is based on the use of an interpola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n FFT on this signal then transforms the angular domain into the order domain (in the same way as an FFT transforms the time domain into the frequency domain). The resulting spectral lines represent constant orders (instead of constant frequenc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to transform the angular domain into the order domain leads to some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order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which can be analyzed is directly related to the angular sampling frequency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s</a:t>
            </a:r>
            <a:r>
              <a:rPr b="0" lang="en-US" sz="1200" spc="-1" strike="noStrike">
                <a:solidFill>
                  <a:srgbClr val="000000"/>
                </a:solidFill>
                <a:latin typeface="Times New Roman"/>
              </a:rPr>
              <a:t> (number of samples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resolution is given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lationships are similar to the ones obtained for the frequency domain:</a:t>
            </a:r>
            <a:endParaRPr b="0" lang="en-US" sz="1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449360" y="5227560"/>
                <a:ext cx="782640" cy="47808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5" name=""/>
              <p:cNvSpPr txBox="1"/>
              <p:nvPr/>
            </p:nvSpPr>
            <p:spPr>
              <a:xfrm>
                <a:off x="1450800" y="5959440"/>
                <a:ext cx="777960" cy="47628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mc:AlternateContent>
        <mc:Choice xmlns:a14="http://schemas.microsoft.com/office/drawing/2010/main" Requires="a14">
          <p:sp>
            <p:nvSpPr>
              <p:cNvPr id="136" name=""/>
              <p:cNvSpPr txBox="1"/>
              <p:nvPr/>
            </p:nvSpPr>
            <p:spPr>
              <a:xfrm>
                <a:off x="1440000" y="6904080"/>
                <a:ext cx="706320" cy="49032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7" name=""/>
              <p:cNvSpPr txBox="1"/>
              <p:nvPr/>
            </p:nvSpPr>
            <p:spPr>
              <a:xfrm>
                <a:off x="2655720" y="6904080"/>
                <a:ext cx="776520" cy="47772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138" name=""/>
          <p:cNvSpPr/>
          <p:nvPr/>
        </p:nvSpPr>
        <p:spPr>
          <a:xfrm>
            <a:off x="2017800" y="6956280"/>
            <a:ext cx="689040" cy="254160"/>
          </a:xfrm>
          <a:prstGeom prst="rect">
            <a:avLst/>
          </a:prstGeom>
          <a:noFill/>
          <a:ln w="0">
            <a:noFill/>
          </a:ln>
        </p:spPr>
        <p:style>
          <a:lnRef idx="0"/>
          <a:fillRef idx="0"/>
          <a:effectRef idx="0"/>
          <a:fontRef idx="minor"/>
        </p:style>
        <p:txBody>
          <a:bodyPr lIns="92160" rIns="92160" tIns="47520" bIns="47520" anchor="t">
            <a:spAutoFit/>
          </a:bodyPr>
          <a:p>
            <a:pPr algn="ctr">
              <a:lnSpc>
                <a:spcPct val="87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obtain this signal sampled at constant shaft positions, two different techniqu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external sampling, relies on the hardware to lock the sampling times to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digital resampling, is based on the use of a reconstruc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FFT then transforms the angular domain into the order domain. Results are displayed as waterfall, color map or order tr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generate the sampling pulses at uniform angular intervals, the “ideal” technique would be based on the use of a shaft encoder. But in most cases shaft encoders are not practical to install and one has to look for anothe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tachometer is then used to generate one pulse per revolution and a ratio synthesizer (phase-locked loop) generates higher number of pulses per revolution. But this technique introduces serious limitations for rapidly changing shaft speed due to the time delay of the phase-locked loop and also for higher orders due to the phase noise of the ratio synthesizer (“smearing” of the higher order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anti-aliasing has to be provided by an analog low pass tracking filter, adding to the need of addition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gital resampling is used, the original signal is acquired at a constant sampling frequency. The new sampling times are calculated based on the tachometer pulses and a model for the evolution of the shaft speed. A reconstruction function is then used to resample the original signal at these new sampling times, hence closely approaching the ideal sampling times that would be generated by a shaft enco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is ensured by the classical use of an analog low pass filter during the acquisition at constant frequency,  in conjunction with digital low pass filtering during reconstruction, so eliminating the need (and the limitations) of low pass tracking filters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results in more accurate order tracking and less hardware requirements. It can be used for both post processing and real-time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D8F7-0750-481E-A14E-D3A2B166C6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75588E5-4BAC-47B8-8D4D-BE382215A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0035DE7-60EE-4430-99C4-7000DEA7E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96CBAA52-FD68-4D8C-BAA8-9DA5878936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D95D7-6069-4E55-9A5F-30A0654BA7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8CF91-13ED-4FFA-B4BA-CFE8473719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5660-8937-4C08-82E4-318885523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B896-D31C-4628-8E2C-A80EF4E586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7BFD-F834-4F3D-93FE-2CF72474CC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8160-CE73-4776-8353-CA267D91CC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9647-CEA3-4A85-A216-EF1F33A03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CADAFDC-388F-41E4-8035-E53ACEAD0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514F-0EE0-4270-8701-EAF807D4B1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FC50-F67A-4477-B8A4-7CFD71E3AD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4046A-DED4-4B46-9611-C3159FC0B1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A0FAF-94DC-4423-8C75-5505599B10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BEB0B-14FE-46A8-B0AF-4041DF5136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2A5A4A3-BF73-418E-B239-528BB1B97F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DDC42C8-CFD8-4FB6-B380-069CEC88C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47D8764D-AA10-4738-B17E-6DDEF0B583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8FF1650-4036-4F96-97DC-BEED78E67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FCF3651-16E8-4D6F-949E-A21AF978B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FFCA01C-F860-4920-A9FC-EA9960328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7CB58C8-A675-422E-B056-883D0F876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6ECC-6366-427B-9CDE-968715BC6D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7ECC-9FE7-4804-821C-D58980F578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Analysi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891560" cy="41911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 dedicated to the analysis of rotating machines operated over a wide range of spee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i.e. harmonics of the rotational speed.</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3,000 rpm order 1 = 50 Hz, order 2 = 100 Hz,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6,000 rpm 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8" name="PlaceHolder 2"/>
          <p:cNvSpPr>
            <a:spLocks noGrp="1"/>
          </p:cNvSpPr>
          <p:nvPr>
            <p:ph/>
          </p:nvPr>
        </p:nvSpPr>
        <p:spPr>
          <a:xfrm>
            <a:off x="685800" y="1294920"/>
            <a:ext cx="784872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noise and vibration problems are directly related to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ring def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imbal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ve noise</a:t>
            </a:r>
            <a:endParaRPr b="0" lang="en-US" sz="2400" spc="-1" strike="noStrike">
              <a:solidFill>
                <a:srgbClr val="ffffff"/>
              </a:solidFill>
              <a:latin typeface="Arial"/>
            </a:endParaRPr>
          </a:p>
        </p:txBody>
      </p:sp>
      <p:graphicFrame>
        <p:nvGraphicFramePr>
          <p:cNvPr id="99" name=""/>
          <p:cNvGraphicFramePr/>
          <p:nvPr/>
        </p:nvGraphicFramePr>
        <p:xfrm>
          <a:off x="5715000" y="3809880"/>
          <a:ext cx="1481040" cy="1071720"/>
        </p:xfrm>
        <a:graphic>
          <a:graphicData uri="http://schemas.openxmlformats.org/presentationml/2006/ole">
            <p:oleObj progId="Word.Document.12" r:id="rId1" spid="">
              <p:embed/>
              <p:pic>
                <p:nvPicPr>
                  <p:cNvPr id="100" name="" descr=""/>
                  <p:cNvPicPr/>
                  <p:nvPr/>
                </p:nvPicPr>
                <p:blipFill>
                  <a:blip r:embed="rId2"/>
                  <a:stretch/>
                </p:blipFill>
                <p:spPr>
                  <a:xfrm>
                    <a:off x="5715000" y="3809880"/>
                    <a:ext cx="1481040" cy="1071720"/>
                  </a:xfrm>
                  <a:prstGeom prst="rect">
                    <a:avLst/>
                  </a:prstGeom>
                  <a:ln w="0">
                    <a:noFill/>
                  </a:ln>
                </p:spPr>
              </p:pic>
            </p:oleObj>
          </a:graphicData>
        </a:graphic>
      </p:graphicFrame>
      <p:graphicFrame>
        <p:nvGraphicFramePr>
          <p:cNvPr id="101" name=""/>
          <p:cNvGraphicFramePr/>
          <p:nvPr/>
        </p:nvGraphicFramePr>
        <p:xfrm>
          <a:off x="4572000" y="2475000"/>
          <a:ext cx="1754280" cy="1106280"/>
        </p:xfrm>
        <a:graphic>
          <a:graphicData uri="http://schemas.openxmlformats.org/presentationml/2006/ole">
            <p:oleObj progId="Word.Document.12" r:id="rId3" spid="">
              <p:embed/>
              <p:pic>
                <p:nvPicPr>
                  <p:cNvPr id="102" name="" descr=""/>
                  <p:cNvPicPr/>
                  <p:nvPr/>
                </p:nvPicPr>
                <p:blipFill>
                  <a:blip r:embed="rId4"/>
                  <a:stretch/>
                </p:blipFill>
                <p:spPr>
                  <a:xfrm>
                    <a:off x="4572000" y="2475000"/>
                    <a:ext cx="1754280" cy="110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04" name="PlaceHolder 2"/>
          <p:cNvSpPr>
            <a:spLocks noGrp="1"/>
          </p:cNvSpPr>
          <p:nvPr>
            <p:ph/>
          </p:nvPr>
        </p:nvSpPr>
        <p:spPr>
          <a:xfrm>
            <a:off x="685800" y="1294920"/>
            <a:ext cx="7696080" cy="8636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k the sampling times to constant shaft positions</a:t>
            </a:r>
            <a:endParaRPr b="0" lang="en-US" sz="2800" spc="-1" strike="noStrike">
              <a:solidFill>
                <a:srgbClr val="ffffff"/>
              </a:solidFill>
              <a:latin typeface="Arial"/>
            </a:endParaRPr>
          </a:p>
        </p:txBody>
      </p:sp>
      <p:sp>
        <p:nvSpPr>
          <p:cNvPr id="105" name=""/>
          <p:cNvSpPr/>
          <p:nvPr/>
        </p:nvSpPr>
        <p:spPr>
          <a:xfrm>
            <a:off x="615960" y="5029200"/>
            <a:ext cx="7721640" cy="9144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FT transforms the angular domain into the order domai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784080" y="2362320"/>
            <a:ext cx="3692520" cy="2046240"/>
          </a:xfrm>
          <a:prstGeom prst="rect">
            <a:avLst/>
          </a:prstGeom>
          <a:ln w="0">
            <a:noFill/>
          </a:ln>
        </p:spPr>
      </p:pic>
      <p:pic>
        <p:nvPicPr>
          <p:cNvPr id="107" name="" descr=""/>
          <p:cNvPicPr/>
          <p:nvPr/>
        </p:nvPicPr>
        <p:blipFill>
          <a:blip r:embed="rId2"/>
          <a:stretch/>
        </p:blipFill>
        <p:spPr>
          <a:xfrm>
            <a:off x="4724280" y="2362320"/>
            <a:ext cx="3691080" cy="2046240"/>
          </a:xfrm>
          <a:prstGeom prst="rect">
            <a:avLst/>
          </a:prstGeom>
          <a:ln w="0">
            <a:noFill/>
          </a:ln>
        </p:spPr>
      </p:pic>
      <p:sp>
        <p:nvSpPr>
          <p:cNvPr id="108" name=""/>
          <p:cNvSpPr/>
          <p:nvPr/>
        </p:nvSpPr>
        <p:spPr>
          <a:xfrm>
            <a:off x="1400040" y="4419720"/>
            <a:ext cx="243864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time</a:t>
            </a:r>
            <a:endParaRPr b="0" lang="en-US" sz="1800" spc="-1" strike="noStrike">
              <a:solidFill>
                <a:srgbClr val="000000"/>
              </a:solidFill>
              <a:latin typeface="Times New Roman"/>
            </a:endParaRPr>
          </a:p>
        </p:txBody>
      </p:sp>
      <p:sp>
        <p:nvSpPr>
          <p:cNvPr id="109" name=""/>
          <p:cNvSpPr/>
          <p:nvPr/>
        </p:nvSpPr>
        <p:spPr>
          <a:xfrm>
            <a:off x="5338800" y="4419720"/>
            <a:ext cx="243828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angle</a:t>
            </a:r>
            <a:endParaRPr b="0" lang="en-US" sz="1800" spc="-1" strike="noStrike">
              <a:solidFill>
                <a:srgbClr val="000000"/>
              </a:solidFill>
              <a:latin typeface="Times New Roman"/>
            </a:endParaRPr>
          </a:p>
        </p:txBody>
      </p:sp>
      <p:sp>
        <p:nvSpPr>
          <p:cNvPr id="110" name=""/>
          <p:cNvSpPr/>
          <p:nvPr/>
        </p:nvSpPr>
        <p:spPr>
          <a:xfrm>
            <a:off x="49320" y="5257800"/>
            <a:ext cx="307800" cy="468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1" name=""/>
              <p:cNvSpPr txBox="1"/>
              <p:nvPr/>
            </p:nvSpPr>
            <p:spPr>
              <a:xfrm>
                <a:off x="1371600" y="1981080"/>
                <a:ext cx="1728720" cy="105912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12" name=""/>
              <p:cNvSpPr txBox="1"/>
              <p:nvPr/>
            </p:nvSpPr>
            <p:spPr>
              <a:xfrm>
                <a:off x="1371600" y="4191120"/>
                <a:ext cx="2577960" cy="125712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p:sp>
        <p:nvSpPr>
          <p:cNvPr id="113" name=""/>
          <p:cNvSpPr/>
          <p:nvPr/>
        </p:nvSpPr>
        <p:spPr>
          <a:xfrm>
            <a:off x="685800" y="1295280"/>
            <a:ext cx="739152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order which can be analyzed</a:t>
            </a:r>
            <a:endParaRPr b="0" lang="en-US" sz="2800" spc="-1" strike="noStrike">
              <a:solidFill>
                <a:srgbClr val="000000"/>
              </a:solidFill>
              <a:latin typeface="Times New Roman"/>
            </a:endParaRPr>
          </a:p>
        </p:txBody>
      </p:sp>
      <p:sp>
        <p:nvSpPr>
          <p:cNvPr id="114" name=""/>
          <p:cNvSpPr/>
          <p:nvPr/>
        </p:nvSpPr>
        <p:spPr>
          <a:xfrm>
            <a:off x="685800" y="3581280"/>
            <a:ext cx="502920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rder resolution</a:t>
            </a:r>
            <a:endParaRPr b="0" lang="en-US" sz="2800" spc="-1" strike="noStrike">
              <a:solidFill>
                <a:srgbClr val="000000"/>
              </a:solidFill>
              <a:latin typeface="Times New Roman"/>
            </a:endParaRPr>
          </a:p>
        </p:txBody>
      </p:sp>
      <p:sp>
        <p:nvSpPr>
          <p:cNvPr id="115" name=""/>
          <p:cNvSpPr/>
          <p:nvPr/>
        </p:nvSpPr>
        <p:spPr>
          <a:xfrm>
            <a:off x="4419720" y="2286000"/>
            <a:ext cx="441936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angular sampling frequency</a:t>
            </a:r>
            <a:endParaRPr b="0" lang="en-US" sz="2000" spc="-1" strike="noStrike">
              <a:solidFill>
                <a:srgbClr val="000000"/>
              </a:solidFill>
              <a:latin typeface="Times New Roman"/>
            </a:endParaRPr>
          </a:p>
        </p:txBody>
      </p:sp>
      <p:sp>
        <p:nvSpPr>
          <p:cNvPr id="116" name=""/>
          <p:cNvSpPr/>
          <p:nvPr/>
        </p:nvSpPr>
        <p:spPr>
          <a:xfrm>
            <a:off x="4419720" y="4343400"/>
            <a:ext cx="396216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r>
              <a:rPr b="0" lang="en-US" sz="2400" spc="-1" strike="noStrike">
                <a:solidFill>
                  <a:srgbClr val="ffffff"/>
                </a:solidFill>
                <a:latin typeface="Times New Roman"/>
              </a:rPr>
              <a:t> </a:t>
            </a:r>
            <a:r>
              <a:rPr b="0" lang="en-US" sz="2000" spc="-1" strike="noStrike">
                <a:solidFill>
                  <a:srgbClr val="ffffff"/>
                </a:solidFill>
                <a:latin typeface="Arial"/>
              </a:rPr>
              <a:t>: total number of revolu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19" name="PlaceHolder 2"/>
          <p:cNvSpPr>
            <a:spLocks noGrp="1"/>
          </p:cNvSpPr>
          <p:nvPr>
            <p:ph/>
          </p:nvPr>
        </p:nvSpPr>
        <p:spPr>
          <a:xfrm>
            <a:off x="685800" y="1294920"/>
            <a:ext cx="7772400" cy="35053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techniques can be used to obtain a signal sampled at constant shaft pos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sam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e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1" name="PlaceHolder 2"/>
          <p:cNvSpPr>
            <a:spLocks noGrp="1"/>
          </p:cNvSpPr>
          <p:nvPr>
            <p:ph/>
          </p:nvPr>
        </p:nvSpPr>
        <p:spPr>
          <a:xfrm>
            <a:off x="642600" y="1295280"/>
            <a:ext cx="773892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pulses are generated by a shaft encoder or a ratio synthesi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is ensured by an analog tracking filte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limitations for rapidly changing shaft speed and higher ord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specific hardware is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3" name="PlaceHolder 2"/>
          <p:cNvSpPr>
            <a:spLocks noGrp="1"/>
          </p:cNvSpPr>
          <p:nvPr>
            <p:ph/>
          </p:nvPr>
        </p:nvSpPr>
        <p:spPr>
          <a:xfrm>
            <a:off x="642600" y="1295280"/>
            <a:ext cx="772164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re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ampling times calculated from tachometer puls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nstruction function resamples the original signal at new sampling 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ensured by analog filter and digital low pass filtering during reconstruct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ccurate order analysis with less hardware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6:14:49Z</dcterms:modified>
  <cp:revision>113</cp:revision>
  <dc:subject>Order Analysis</dc:subject>
  <dc:title>Dynamic Signal Measurement Basics</dc:title>
</cp:coreProperties>
</file>