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de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C-</a:t>
            </a:r>
            <a:fld id="{0A6FA69A-421F-4484-9286-70C08BB935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uns VIs in a multi-tasking system that runs many tasks in parallel. The mechanisms of LabVIEW are transparent to users who expect things to “just work.” It is not necessary to understand the “insides” of LabVIEW to make good use of it. However, it is often rewarding for users to understand the technology of LabVIEW. This can give you a better understanding about your application. This presentation gives LabVIEW users an inside view of some of the inner workings of LabVIEW when it runs V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Rogers has been a LabVIEW developer since late 1985 during the development of Version 1.0. He continues to work on the project, focusing on the compiler, execution system, and multi-threading and performance aspects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National Instruments shipped its first products that run LabVIEW RT. On normal desktop operating systems such as Windows NT, there are many elements of the system that make writing a deterministic loop that always executes at a certain rate difficult or impossible. The idea behind LabVIEW RT is to remove as many of those factors as possible by running the deterministic loop on its own processor. The RT system has no local front panels (no keyboard, no mouse, no screen). It simply has an efficient kernel that provides multi-threading capabilities, and one or more I/O dri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lit architecture of multi-threaded LabVIEW that separated the UI from the execution systems was ideal for moving onto an intelligent DAQ board (with its own 486 processor). The architecture of the LabVIEW RT system on the board is much the same as multi-threaded LabVIEW, except the role of the UI thread is played by the “communication” th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 compiled for a win32 platform run as compiled on the 7030 boards. The execution system is exactly as expected by the VIs. What is different is that all of the other applications are absent, no unused drivers or interrupts are active, and the multi-threading support has been specifically built to be quick and deterministic in switch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with host or client is through a TCP/IP (sockets) connection, which for the 7030 boards is built upon shared mem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VIs with LabVIEW RT, the user sits at a user interface that runs on a host computer. All of the execution of user VIs are performed on the target system (in the case of the 7030 products, a plug-in board). A protocol for downloading and interacting with the downloaded VIs is conducted automatically by the LabVIEW RT develop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ituation, there are two computers active. Still, the basic LabVIEW execution architecture is the same. User interactions on the host computer are handled by the UI, loop which handles them by sending various messages to the LabVIEW RT target machine. The target machine’s “communication” thread then interacts with the running VIs on that system. Similarly, the host is sent messages from the RT engine to display data. The full set of LabVIEW debugging features are implemented across the communication channel. Of course, these features themselves impact the determinism of the programs. When debugging is finished and the code is run without its panel open, then you achieve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edded LabVIEW does not require the host development system to stick around once it starts running. It is truly a separate independent computer. Be sure to attend the LabVIEW RT hands-on sessions to see this technology in a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f several communication techniques, a “regular” LabVIEW application can work in conjunction with a LabVIEW RT application. In this case, there is no user interface for the VIs running on the RT target system. The regular LabVIEW client system can have normal LabVIEW panels and displays. The “remote VI call” feature of the VI server, which was introduced in LabVIEW 5.0, is a powerful way to implement distributed applications (meaning applications that run parts of themselves on multiple computers). LabVIEW RT can perform all of the necessary VI server activities to make the RT board part of a distributed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you can build a library of VIs and export the VIs as entry points in a .dll. The entry point procedures are named, prototyped, and associated with the inputs to a selected VI. The process of transforming parameters to and from LabVIEW native types is specified through a configuration dialog box. The resulting .dll file uses the LabVIEW runtime system .dll (LVRT.dll), which it loads when it initializes. When the vi.dll is loaded, it loads the LVRT.dll. The first to load the LVRT.dll begins its initialization,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itializes the runtime system so that a normal LabVIEW environment is available. This includes starting the execution threads of LabVIEW (as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ad the VIs that support the entry points of the vi.dll and prepare them to run with caller proxies (same mechanism used by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that calls LoadLibrary() and initializes the LVRT.dll is designated the UI thread as far as LabVIEW execution systems are concerned. This thread is not explicitly started by LabVIEW, but adopted in the role of UI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s run in the address space of the calling process. This means that the thread in which the VI entry points are called are not threads of LabVIEW. Instead, we create and cache a special execution system that can run many VIs without a thread sw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saw that the execution systems of multi-threaded LabVIEW communicate with the user interface through shared variables and posted messages. As an example of this we can talk about what happens when the running VI code displays its data on a front panel indicator (this is what happens when a wire meets a front panel terminal on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see what happens in a single threaded system. In a single threaded system, there is no issue with protection of data structures. LabVIEW can largely read and write its variables whenever it wants. There are two copies of the data involved in the display process. One is the value computed on the diagram, which is the new value to be displayed. It is called the “execution” data.  The other is a stored copy of the data owned by the display called the “operate/display” data. The display can recompute its appearance from this data at any time. In the case of a control, as a user operates the control, the new value is stored in the “operate/display” data until the diagram code wants to rea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e data display in single threaded LabVIEW, you simply copy the execution data into the operate/display data and call the proper display function for that indicator ob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hreaded system must manipulate global data to prevent corruption of the data. Since two threads can be “swapped” between any two machine instructions, “collisions” can easily occur when one thread is modifying data that another thread has only “halfway”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al with this problem, the OS provides primitives that can prevent two threads from accessing a piece of data at the same time. We use the term mutex, to mean a “mutual exclusion” object. A mutex can be “acquired” by only one thread at a time. Other threads block in an attempt to acquire the mutex until the thread that possesses it releases the mutex. Then another thread can acquire the mu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tter to hold a mutex for brief periods of time so that threads conflict less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data on the indicator, a new copy of the data is introduced called the “transfer” data. Along with the transfer data is a mutex and some flags. The mutex is acquired when reading or writing the data and setting or clearing the flags. We attempt to do this in a direct manner so as to minimize the time spent holding the mutex. The transfer data is a shared variable to transfer the actual value between the threads. A posted message is sent to the User interface thread to tell it to look at the transfer data for this particular control and to initiate the display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ea in LabVIEW where synchronization is important is at the entry and exit of a subVI. Normal (serial, non-reentrant) VIs run on one caller at a time. Because of the parallel execution in LabVIEW, a caller may arrive at a subVI while it is busy running on behalf of another caller. LabVIEW takes care of serializing a subVI using some fields which are in the header of every VI dat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I has in its data space the top-level QElement that begins and ends that VI. Also, there is a curElem, which in the context of a data space, represents the QElement of the current caller that is running the VI. Also there is a “waitQ,” which like the runQ, is a queue of QElements. There is also a mutex used to protect access to the curElem and waitQ in multi-thread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ller is running its code in one of its clumps. It arrives at a call to a subVI. The execution system’s curElem refers to that clump’s QElement (because it is currently running). To call the subVI, the caller loads the DS register (ebp) to point at the subVIs data space, and jumps to the subVI entry point with its QElement pointer in a register. If the subVI’s data space curElem is NULL, the subVI is available. The caller QElement contains a field or an array of parameter pointers, which is how the subVI gets its argu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starts running for the caller, it switches things around a little. It writes the caller’s QElement Address into is curElem field, indicating that that QElement is it’s current caller, as well as marking the VI as busy to other callers. Also it replaces the execution system’s curElem, which is supposed to represent the currently executing code clump, to its own “top level” QElement. It is now in the “running” state and can execute for its new c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ller arrives at a subVI and the subVIs curElem is not NULL, then the subVI is “busy.” The caller QElement is placed on the waitQ of the subVI, waiting its turn to run the subVI. After going on the waitQ, NULL is returned to Exec() and it looks for something else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finishes, it puts the current caller QElement from the data space onto the runQ of the execution system (this is a return from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ny other callers on its waitQ, it dequeues them from the waitQ into the curElem of the data space and re-reruns for a new c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additional callers, it writes NULL to its data space curElem and returns NULL to Ex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system, all of the tests and writes to the data space curElem and accesses to the waitQ are performed while holding the mutex associated with the data space. This way these data structures are kept consis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milar processes in the LabVIEW compiled code and execution system such as resetting a VI hierarchy, waiting for an occurrence, accessing global and local variables, and running attribute nodes. The protection and mechanism necessary for these operations is taken care of fo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is running, its curCaller refers to the QElement which governs the part of the caller VI which made the call. The curElem of the execution system refers to one or more of the QElements of the subVI. If other callers arrive while the subVI is busy, they are placed on the waitQ of the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VI code can multi-task in the normal manner, but does not multi-task with the clump which called it. It can multi-task with other clumps of the caller VI (if there are an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s these topics at a pretty “high” level, revealing the overall architecture. We use some computer science terminology such as thread, mutex, and queue. If there are parts of this presentation that are obscure to you because your background does not include some of the ideas discussed, do not despair! Unlike many other NI Week presentations, this topic is as much for enrichment as it is for practical application. Hopefully you can take away a new understanding about what is inside of a piece of software like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new, but it does review some material that you may have seen before. Specifically, we discuss the execution system and the architecture of multi-threaded LabVIEW and how this architecture extends to LabVIEW RT. As we discuss this architecture, we see many cases in which the performance of LabVIEW has been improv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if there are no subsequent callers on the subVIs waitQ, the return is ideally performed by setting the execution systems curElem to the caller QElement and jumping to the PC location in the caller VI. (this is the address to which the call should return). In cases where we must return to a specific different execution system, instead of jumping, we place the caller QElement on the appropriate runQ, and then return a NULL to Exec() which will find another QElement to run in the present syst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when there is a subsequent caller on the subVIs waitQ, the return is more complicated. The current thread of executions can do two things 1) schedule the current caller QElement on the execution system runQ and immediately start running on behalf of the new caller or 2) schedule the subVIs starting QElment to begin running the VI for the new caller, and “jump” back to the current caller. You make the choice by checking the relative priorities of the current caller and the next caller. A further complication occurs when the return to the current caller requires a schedule to another execution system, or when the next caller must run the VI in another execution system than the curren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al situation is when the VI simply jumps back to its caller. This situation is common and has the least call over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rtual instruments, or VIs, are normally stored as individual files on disk. A VI file contains all of the data structures for the front panel and block diagram, initialized data and the compiled code. These are stored in a resource file so that you can load the individual pieces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a self-contained piece of software in that it contains all of its source code and user interface resources in the same file as its executabl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not self-contained in that the subVIs that a VI may need to call are stored in their own files. The VI contains resources that contain the “linker information” about which subVIs, controls, .dll, and external code resources the VI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abVIEW file type is a .llb file, which contains a collection of VIs. Within an .llb file, the compressed whole files of the VIs are stored in addition to a directory of the VIs within the .l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its panel window, a VI must load its front panel resource, which contains all of the objects visible on the front pa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dit or display the block diagram, a VI must load its block diagram resource, which contains the objects that represent the dataflow diagram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VI is simply used as a subVI with no panel or diagram visible, it is possible to leave the VI on disk and only load the code and data space necessary to run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nerate the code resource of a VI by compiling the block diagram into machine code for whatever platform on which LabVIEW is running. LabVIEW currently cannot generate code for platform different from the one on which LabVIEW is running (cross compi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makes a series of passes across the graph of block diagram data structures. Several early passes check the syntax and type of the diagram. A subsequent pass on correct diagrams gathers simple nodes into “clumps” of nodes, within which the nodes have a fixed execution order. As the nodes are ordered, LabVIEW determines which data elements LabVIEW can reuse while still upholding the semantics of the program. Another pass allocates the data space of the VI, in which all of the execution data is stored and operated. Finally, LabVIEW generates the code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produces three sections of code or “clumps.” One of the clumps starts and finishes the VI and the other two contain the loops, which can be scheduled independently and “multi-tasked” so that each makes progress before either fin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n the previous slide is “clumped” by the LabVIEW compiler from a graph containing numerous nodes to a graph of clumps with fewer clumps. Each clump produces a section of code that can be scheduled by LabVIEW. Within a clump, LabVIEW offers no parallelism. Between clumps, LabVIEW can multi-task by using its execu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ny shaped clump in the above slide represents both the beginning and the ending of the diagram. The clump is “asleep” while the two for loops execute, and “awakes” to complete the VI (two divide prim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for a VI presumes the existence of a LabVIEW execution system. Each clump has a record in the VIs data space called a QElement. You can place the QElement can be placed on a queue called the “runQ,” which is used by the LabVIEW execution system to schedule the associated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runQ of QElements representing all of the sections of compiled VI code that are ready to run. These sections of code are independent from each other (though they may depend on other sections of code that have run before) and can be executed in any order without changing the outcome of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variable called “curElem,” which points to the currently running QEl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Elements contain the information necessary for LabVIEW to run their section of code. Two relevant pieces of QElement information are the PC (program counter), which is the code address at which the next instruction of the code section should be executed, and the data space (DS), or data space pointer, which by convention is always pointing at VIs data space when that VI code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addresses the VI data as an offset off of the data space register.  On the PC platform, register ebp is used as the data space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190760"/>
            <a:ext cx="5105520" cy="472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on system is run by a routine called Exec(). It is structured as a loop that repeatedly checks its runQ for a new QElement, and assigns this to its curElem variable. It executes the code for the section of code represented by curElem by loading the data space register (ebp on the PC), with the value of the curElem DS field. It then calls the program counter (PC) address in curE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executing in LabVIEW can return to Exec() at any time. It either returns a value of zero (NULL) or a new PC address. A return value of NULL tells exec to discard curElem, and choose another QElement from the runQ. This might happen when a section of code is complete, or when it arranges to be rescheduled by another mechanism such as an occurrence. A return value of a new PC causes Exec() to store the new PC in curElem and to put curElem back on the runQ. This effectively “rotates” the runQ, making a cooperative task switch between two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VI with the two for loops, this type of task “rotation” would keep both loops progressing before either one is finished. The for loop sections would return a new PC to exec and take turns on the runQ until one of the loops finished. Then, the other loop would run until it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 the example VI, the first section of the diagram starts up by scheduling both of the loop sections</a:t>
            </a:r>
            <a:r>
              <a:rPr b="0" i="1" lang="en-US" sz="1200" spc="-1" strike="noStrike">
                <a:solidFill>
                  <a:srgbClr val="000000"/>
                </a:solidFill>
                <a:latin typeface="Times New Roman"/>
              </a:rPr>
              <a:t>.</a:t>
            </a:r>
            <a:r>
              <a:rPr b="0" lang="en-US" sz="1200" spc="-1" strike="noStrike">
                <a:solidFill>
                  <a:srgbClr val="000000"/>
                </a:solidFill>
                <a:latin typeface="Times New Roman"/>
              </a:rPr>
              <a:t> It does this by putting their QElements onto the runQ. It prepares its own QElement’s PC to hold the address at which the diagram “rejoins,” and then returns to Exec() the value N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the loop sections put the QElement for the final section of onto the runQ when the last of the two sections is finish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execution system implements a “cooperative” multi-tasking system. A cooperative system switches tasks at predefined locations that are explicitly compiled into the code. LabVIEW puts a possible cooperative switch at the end of each neste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pre-emptive” multi-tasking is implemented between OS threads on systems that provide them. In preemptive multi-tasking, a task switch can happen between any two machine instructions and no code need to be created by a program to enable the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ngle-threaded LabVIEW configurations, LabVIEW uses one OS thread to implement its entire system. Within that thread layers of “cooperative” balancing is implemented – between clumps of LabVIEW code, between LabVIEW code and the handling of user interface (UI) events (keyboard, mouse), and on some systems, between all of LabVIEW and other processes on the machine (MAC OS, Windows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routine has slightly different behaviors on the single and multi-threaded cases. In the single threaded case, the Exec() loop occasionally returns to the UI loop to achieve this balance betwee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process .dll calls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e execution systems created for the entry points stay in Exec until the top level VI (entry point vi of a .dll) finishes, and then it returns, and the .dll entry point returns to its call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LabVIEW split the program into a single UI thread (which still contains an execution system), and multiple execution threads that use Exec() as their main thread procedure. The separate execution threads are swapped by the OS pre-emptively. Within themselves, they still do LabVIEW style cooperative multi-tas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loops in multi-threaded LabVIEW never return (until LabVIEW quits running). When there is nothing to do, they are asleep waiting for a QElement to appear on their runQ. An OS primitive signals the placing of a QElement on their runQ. Threads cost some system resources to allocate, but when they are asleep, they do not take processor cycles. Idle execution threads do not take performance away from the rest of the run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parate execution threads communicate with the rest of LabVIEW by using carefully protected shared variables and posted messages. The discussion of how indicators are displayed is an example of both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not familiar with threads, a thread is an independent sub-program that runs within a program or process. LabVIEW is a process, its threads run independently within it. Threads access all of the address space of the owning process, so all global variables are shared. This sharing is powerful and useful, but it is also a source of complicated bugs and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a:t>
            </a:r>
            <a:r>
              <a:rPr b="1" lang="en-US" sz="3600" spc="-1" strike="noStrike" baseline="30000">
                <a:solidFill>
                  <a:srgbClr val="ffff00"/>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400" y="3505320"/>
            <a:ext cx="7391520" cy="2743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ve Roger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ef Architect,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Target System</a:t>
            </a:r>
            <a:endParaRPr b="1" lang="en-US" sz="3600" spc="-1" strike="noStrike">
              <a:solidFill>
                <a:srgbClr val="ffff66"/>
              </a:solidFill>
              <a:latin typeface="Arial"/>
            </a:endParaRPr>
          </a:p>
        </p:txBody>
      </p:sp>
      <p:grpSp>
        <p:nvGrpSpPr>
          <p:cNvPr id="250" name=""/>
          <p:cNvGrpSpPr/>
          <p:nvPr/>
        </p:nvGrpSpPr>
        <p:grpSpPr>
          <a:xfrm>
            <a:off x="5105520" y="1905120"/>
            <a:ext cx="1904760" cy="2057400"/>
            <a:chOff x="5105520" y="1905120"/>
            <a:chExt cx="1904760" cy="2057400"/>
          </a:xfrm>
        </p:grpSpPr>
        <p:sp>
          <p:nvSpPr>
            <p:cNvPr id="251"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54"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59"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06560" y="1857960"/>
            <a:ext cx="20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T computer</a:t>
            </a:r>
            <a:endParaRPr b="0" lang="en-US" sz="2400" spc="-1" strike="noStrike">
              <a:solidFill>
                <a:srgbClr val="000000"/>
              </a:solidFill>
              <a:latin typeface="Times New Roman"/>
            </a:endParaRPr>
          </a:p>
        </p:txBody>
      </p:sp>
      <p:sp>
        <p:nvSpPr>
          <p:cNvPr id="261" name=""/>
          <p:cNvSpPr/>
          <p:nvPr/>
        </p:nvSpPr>
        <p:spPr>
          <a:xfrm>
            <a:off x="914400" y="2362320"/>
            <a:ext cx="3581280" cy="29718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2819520"/>
            <a:ext cx="3276720" cy="22860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90720" y="3274560"/>
            <a:ext cx="327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64"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65" name=""/>
          <p:cNvSpPr/>
          <p:nvPr/>
        </p:nvSpPr>
        <p:spPr>
          <a:xfrm>
            <a:off x="2209680" y="396252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4648320" y="3505320"/>
            <a:ext cx="1904760" cy="2057400"/>
            <a:chOff x="4648320" y="3505320"/>
            <a:chExt cx="1904760" cy="2057400"/>
          </a:xfrm>
        </p:grpSpPr>
        <p:sp>
          <p:nvSpPr>
            <p:cNvPr id="267"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0"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75" name=""/>
          <p:cNvGrpSpPr/>
          <p:nvPr/>
        </p:nvGrpSpPr>
        <p:grpSpPr>
          <a:xfrm>
            <a:off x="6095880" y="3276720"/>
            <a:ext cx="1904760" cy="2057400"/>
            <a:chOff x="6095880" y="3276720"/>
            <a:chExt cx="1904760" cy="2057400"/>
          </a:xfrm>
        </p:grpSpPr>
        <p:sp>
          <p:nvSpPr>
            <p:cNvPr id="276"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9"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84" name=""/>
          <p:cNvGrpSpPr/>
          <p:nvPr/>
        </p:nvGrpSpPr>
        <p:grpSpPr>
          <a:xfrm>
            <a:off x="6629400" y="1905120"/>
            <a:ext cx="1904760" cy="2057400"/>
            <a:chOff x="6629400" y="1905120"/>
            <a:chExt cx="1904760" cy="2057400"/>
          </a:xfrm>
        </p:grpSpPr>
        <p:sp>
          <p:nvSpPr>
            <p:cNvPr id="285"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88"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93"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94" name=""/>
          <p:cNvSpPr/>
          <p:nvPr/>
        </p:nvSpPr>
        <p:spPr>
          <a:xfrm flipH="1">
            <a:off x="3885840" y="2743200"/>
            <a:ext cx="121932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190760" y="4724280"/>
            <a:ext cx="19810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114440" y="2895480"/>
            <a:ext cx="2514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4419720" y="4419720"/>
            <a:ext cx="167616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7200" y="3657600"/>
            <a:ext cx="1371600" cy="53352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49000" y="368676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00" name=""/>
          <p:cNvSpPr/>
          <p:nvPr/>
        </p:nvSpPr>
        <p:spPr>
          <a:xfrm>
            <a:off x="182880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24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a:t>
            </a:r>
            <a:r>
              <a:rPr b="1" lang="en-US" sz="3200" spc="-1" strike="noStrike">
                <a:solidFill>
                  <a:srgbClr val="ffff00"/>
                </a:solidFill>
                <a:latin typeface="Arial"/>
              </a:rPr>
              <a:t>Development System</a:t>
            </a:r>
            <a:endParaRPr b="1" lang="en-US" sz="3200" spc="-1" strike="noStrike">
              <a:solidFill>
                <a:srgbClr val="ffff66"/>
              </a:solidFill>
              <a:latin typeface="Arial"/>
            </a:endParaRPr>
          </a:p>
        </p:txBody>
      </p:sp>
      <p:sp>
        <p:nvSpPr>
          <p:cNvPr id="303" name=""/>
          <p:cNvSpPr/>
          <p:nvPr/>
        </p:nvSpPr>
        <p:spPr>
          <a:xfrm>
            <a:off x="685800" y="2895480"/>
            <a:ext cx="2819520" cy="25909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6720" y="19036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LabVIEW 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6"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8"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629400" y="2666880"/>
            <a:ext cx="1143000" cy="1143000"/>
            <a:chOff x="6629400" y="2666880"/>
            <a:chExt cx="1143000" cy="1143000"/>
          </a:xfrm>
        </p:grpSpPr>
        <p:sp>
          <p:nvSpPr>
            <p:cNvPr id="312"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5720" y="286488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20" name=""/>
          <p:cNvGrpSpPr/>
          <p:nvPr/>
        </p:nvGrpSpPr>
        <p:grpSpPr>
          <a:xfrm>
            <a:off x="7315200" y="3352680"/>
            <a:ext cx="1143000" cy="1143000"/>
            <a:chOff x="7315200" y="3352680"/>
            <a:chExt cx="1143000" cy="1143000"/>
          </a:xfrm>
        </p:grpSpPr>
        <p:sp>
          <p:nvSpPr>
            <p:cNvPr id="321"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391520" y="354996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3"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578720" y="394560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29" name=""/>
          <p:cNvGrpSpPr/>
          <p:nvPr/>
        </p:nvGrpSpPr>
        <p:grpSpPr>
          <a:xfrm>
            <a:off x="6705720" y="3733920"/>
            <a:ext cx="1143000" cy="1143000"/>
            <a:chOff x="6705720" y="3733920"/>
            <a:chExt cx="1143000" cy="1143000"/>
          </a:xfrm>
        </p:grpSpPr>
        <p:sp>
          <p:nvSpPr>
            <p:cNvPr id="330"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782040" y="39312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969240" y="43268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38" name=""/>
          <p:cNvGrpSpPr/>
          <p:nvPr/>
        </p:nvGrpSpPr>
        <p:grpSpPr>
          <a:xfrm>
            <a:off x="7315200" y="4419720"/>
            <a:ext cx="1143000" cy="1143000"/>
            <a:chOff x="7315200" y="4419720"/>
            <a:chExt cx="1143000" cy="1143000"/>
          </a:xfrm>
        </p:grpSpPr>
        <p:sp>
          <p:nvSpPr>
            <p:cNvPr id="339"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91520" y="46170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578720" y="50126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sp>
        <p:nvSpPr>
          <p:cNvPr id="347"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77200" y="291024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p:txBody>
      </p:sp>
      <p:sp>
        <p:nvSpPr>
          <p:cNvPr id="349" name=""/>
          <p:cNvSpPr/>
          <p:nvPr/>
        </p:nvSpPr>
        <p:spPr>
          <a:xfrm>
            <a:off x="5486400" y="3487320"/>
            <a:ext cx="114300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mun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 host or cli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sp>
        <p:nvSpPr>
          <p:cNvPr id="350"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33520" y="3078720"/>
            <a:ext cx="312408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r Interface Lo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ion to targ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sibly Exec()</a:t>
            </a:r>
            <a:endParaRPr b="0" lang="en-US" sz="2000" spc="-1" strike="noStrike">
              <a:solidFill>
                <a:srgbClr val="000000"/>
              </a:solidFill>
              <a:latin typeface="Times New Roman"/>
            </a:endParaRPr>
          </a:p>
        </p:txBody>
      </p:sp>
      <p:sp>
        <p:nvSpPr>
          <p:cNvPr id="352" name=""/>
          <p:cNvSpPr/>
          <p:nvPr/>
        </p:nvSpPr>
        <p:spPr>
          <a:xfrm>
            <a:off x="3989160" y="286272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5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Deployed System</a:t>
            </a:r>
            <a:endParaRPr b="1" lang="en-US" sz="3600" spc="-1" strike="noStrike">
              <a:solidFill>
                <a:srgbClr val="ffff66"/>
              </a:solidFill>
              <a:latin typeface="Arial"/>
            </a:endParaRPr>
          </a:p>
        </p:txBody>
      </p:sp>
      <p:sp>
        <p:nvSpPr>
          <p:cNvPr id="355"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919080" y="1903680"/>
            <a:ext cx="2433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 Lab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7"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9"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629400" y="2666880"/>
            <a:ext cx="1143000" cy="1143000"/>
            <a:chOff x="6629400" y="2666880"/>
            <a:chExt cx="1143000" cy="1143000"/>
          </a:xfrm>
        </p:grpSpPr>
        <p:sp>
          <p:nvSpPr>
            <p:cNvPr id="363"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057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71" name=""/>
          <p:cNvGrpSpPr/>
          <p:nvPr/>
        </p:nvGrpSpPr>
        <p:grpSpPr>
          <a:xfrm>
            <a:off x="7315200" y="3352680"/>
            <a:ext cx="1143000" cy="1143000"/>
            <a:chOff x="7315200" y="3352680"/>
            <a:chExt cx="1143000" cy="1143000"/>
          </a:xfrm>
        </p:grpSpPr>
        <p:sp>
          <p:nvSpPr>
            <p:cNvPr id="372"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3915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4"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5430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80" name=""/>
          <p:cNvGrpSpPr/>
          <p:nvPr/>
        </p:nvGrpSpPr>
        <p:grpSpPr>
          <a:xfrm>
            <a:off x="6705720" y="3733920"/>
            <a:ext cx="1143000" cy="1143000"/>
            <a:chOff x="6705720" y="3733920"/>
            <a:chExt cx="1143000" cy="1143000"/>
          </a:xfrm>
        </p:grpSpPr>
        <p:sp>
          <p:nvSpPr>
            <p:cNvPr id="381"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820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3"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933600" y="4311360"/>
              <a:ext cx="78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389" name=""/>
          <p:cNvGrpSpPr/>
          <p:nvPr/>
        </p:nvGrpSpPr>
        <p:grpSpPr>
          <a:xfrm>
            <a:off x="7315200" y="4419720"/>
            <a:ext cx="1143000" cy="1143000"/>
            <a:chOff x="7315200" y="4419720"/>
            <a:chExt cx="1143000" cy="1143000"/>
          </a:xfrm>
        </p:grpSpPr>
        <p:sp>
          <p:nvSpPr>
            <p:cNvPr id="390"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3915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2"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5430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398"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636160" y="289512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
        <p:nvSpPr>
          <p:cNvPr id="400" name=""/>
          <p:cNvSpPr/>
          <p:nvPr/>
        </p:nvSpPr>
        <p:spPr>
          <a:xfrm>
            <a:off x="54864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host or cli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01"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09240" y="2832840"/>
            <a:ext cx="132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CP/IP</a:t>
            </a:r>
            <a:endParaRPr b="0" lang="en-US" sz="2800" spc="-1" strike="noStrike">
              <a:solidFill>
                <a:srgbClr val="000000"/>
              </a:solidFill>
              <a:latin typeface="Times New Roman"/>
            </a:endParaRPr>
          </a:p>
        </p:txBody>
      </p:sp>
      <p:sp>
        <p:nvSpPr>
          <p:cNvPr id="40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grpSp>
        <p:nvGrpSpPr>
          <p:cNvPr id="404" name=""/>
          <p:cNvGrpSpPr/>
          <p:nvPr/>
        </p:nvGrpSpPr>
        <p:grpSpPr>
          <a:xfrm>
            <a:off x="685800" y="2666880"/>
            <a:ext cx="1143000" cy="1143000"/>
            <a:chOff x="685800" y="2666880"/>
            <a:chExt cx="1143000" cy="1143000"/>
          </a:xfrm>
        </p:grpSpPr>
        <p:sp>
          <p:nvSpPr>
            <p:cNvPr id="405" name=""/>
            <p:cNvSpPr/>
            <p:nvPr/>
          </p:nvSpPr>
          <p:spPr>
            <a:xfrm>
              <a:off x="6858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
            <p:cNvSpPr/>
            <p:nvPr/>
          </p:nvSpPr>
          <p:spPr>
            <a:xfrm>
              <a:off x="9381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6239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1664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381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2430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36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13" name=""/>
          <p:cNvGrpSpPr/>
          <p:nvPr/>
        </p:nvGrpSpPr>
        <p:grpSpPr>
          <a:xfrm>
            <a:off x="1371600" y="3352680"/>
            <a:ext cx="1143000" cy="1143000"/>
            <a:chOff x="1371600" y="3352680"/>
            <a:chExt cx="1143000" cy="1143000"/>
          </a:xfrm>
        </p:grpSpPr>
        <p:sp>
          <p:nvSpPr>
            <p:cNvPr id="414" name=""/>
            <p:cNvSpPr/>
            <p:nvPr/>
          </p:nvSpPr>
          <p:spPr>
            <a:xfrm>
              <a:off x="13716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479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6239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23097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8522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239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288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994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22" name=""/>
          <p:cNvGrpSpPr/>
          <p:nvPr/>
        </p:nvGrpSpPr>
        <p:grpSpPr>
          <a:xfrm>
            <a:off x="762120" y="3733920"/>
            <a:ext cx="1143000" cy="1143000"/>
            <a:chOff x="762120" y="3733920"/>
            <a:chExt cx="1143000" cy="1143000"/>
          </a:xfrm>
        </p:grpSpPr>
        <p:sp>
          <p:nvSpPr>
            <p:cNvPr id="423" name=""/>
            <p:cNvSpPr/>
            <p:nvPr/>
          </p:nvSpPr>
          <p:spPr>
            <a:xfrm>
              <a:off x="7621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384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5" name=""/>
            <p:cNvSpPr/>
            <p:nvPr/>
          </p:nvSpPr>
          <p:spPr>
            <a:xfrm>
              <a:off x="10144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7002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12427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144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194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990000" y="43113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31" name=""/>
          <p:cNvGrpSpPr/>
          <p:nvPr/>
        </p:nvGrpSpPr>
        <p:grpSpPr>
          <a:xfrm>
            <a:off x="1371600" y="4419720"/>
            <a:ext cx="1143000" cy="1143000"/>
            <a:chOff x="1371600" y="4419720"/>
            <a:chExt cx="1143000" cy="1143000"/>
          </a:xfrm>
        </p:grpSpPr>
        <p:sp>
          <p:nvSpPr>
            <p:cNvPr id="432" name=""/>
            <p:cNvSpPr/>
            <p:nvPr/>
          </p:nvSpPr>
          <p:spPr>
            <a:xfrm>
              <a:off x="13716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479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4" name=""/>
            <p:cNvSpPr/>
            <p:nvPr/>
          </p:nvSpPr>
          <p:spPr>
            <a:xfrm>
              <a:off x="16239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3097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18522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239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88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994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440" name=""/>
          <p:cNvSpPr/>
          <p:nvPr/>
        </p:nvSpPr>
        <p:spPr>
          <a:xfrm>
            <a:off x="25146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146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I Lo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42" name=""/>
          <p:cNvSpPr/>
          <p:nvPr/>
        </p:nvSpPr>
        <p:spPr>
          <a:xfrm>
            <a:off x="30481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64360" y="297144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VRT.dll runs VIs as .dll procs</a:t>
            </a:r>
            <a:endParaRPr b="1" lang="en-US" sz="3600" spc="-1" strike="noStrike">
              <a:solidFill>
                <a:srgbClr val="ffff66"/>
              </a:solidFill>
              <a:latin typeface="Arial"/>
            </a:endParaRPr>
          </a:p>
        </p:txBody>
      </p:sp>
      <p:grpSp>
        <p:nvGrpSpPr>
          <p:cNvPr id="445" name=""/>
          <p:cNvGrpSpPr/>
          <p:nvPr/>
        </p:nvGrpSpPr>
        <p:grpSpPr>
          <a:xfrm>
            <a:off x="5715000" y="1905120"/>
            <a:ext cx="1904760" cy="2057400"/>
            <a:chOff x="5715000" y="1905120"/>
            <a:chExt cx="1904760" cy="2057400"/>
          </a:xfrm>
        </p:grpSpPr>
        <p:sp>
          <p:nvSpPr>
            <p:cNvPr id="446" name=""/>
            <p:cNvSpPr/>
            <p:nvPr/>
          </p:nvSpPr>
          <p:spPr>
            <a:xfrm>
              <a:off x="57150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95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261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49" name=""/>
            <p:cNvSpPr/>
            <p:nvPr/>
          </p:nvSpPr>
          <p:spPr>
            <a:xfrm flipV="1">
              <a:off x="73152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6290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195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294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631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54"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4280" y="18277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456" name=""/>
          <p:cNvSpPr/>
          <p:nvPr/>
        </p:nvSpPr>
        <p:spPr>
          <a:xfrm>
            <a:off x="914400" y="2057400"/>
            <a:ext cx="4572000" cy="3200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809880" y="3962520"/>
            <a:ext cx="1676520" cy="152388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790800" y="4296240"/>
            <a:ext cx="16956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xec()</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59" name=""/>
          <p:cNvSpPr/>
          <p:nvPr/>
        </p:nvSpPr>
        <p:spPr>
          <a:xfrm>
            <a:off x="2100600" y="2194200"/>
            <a:ext cx="14166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a:t>
            </a:r>
            <a:endParaRPr b="0" lang="en-US" sz="2400" spc="-1" strike="noStrike">
              <a:solidFill>
                <a:srgbClr val="000000"/>
              </a:solidFill>
              <a:latin typeface="Times New Roman"/>
            </a:endParaRPr>
          </a:p>
        </p:txBody>
      </p:sp>
      <p:grpSp>
        <p:nvGrpSpPr>
          <p:cNvPr id="460" name=""/>
          <p:cNvGrpSpPr/>
          <p:nvPr/>
        </p:nvGrpSpPr>
        <p:grpSpPr>
          <a:xfrm>
            <a:off x="5486400" y="3505320"/>
            <a:ext cx="1904760" cy="2057400"/>
            <a:chOff x="5486400" y="3505320"/>
            <a:chExt cx="1904760" cy="2057400"/>
          </a:xfrm>
        </p:grpSpPr>
        <p:sp>
          <p:nvSpPr>
            <p:cNvPr id="461" name=""/>
            <p:cNvSpPr/>
            <p:nvPr/>
          </p:nvSpPr>
          <p:spPr>
            <a:xfrm>
              <a:off x="548640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79096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89752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64" name=""/>
            <p:cNvSpPr/>
            <p:nvPr/>
          </p:nvSpPr>
          <p:spPr>
            <a:xfrm flipV="1">
              <a:off x="708660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640044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9096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0080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3452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469" name=""/>
          <p:cNvGrpSpPr/>
          <p:nvPr/>
        </p:nvGrpSpPr>
        <p:grpSpPr>
          <a:xfrm>
            <a:off x="6629400" y="3276720"/>
            <a:ext cx="1904760" cy="2057400"/>
            <a:chOff x="6629400" y="3276720"/>
            <a:chExt cx="1904760" cy="2057400"/>
          </a:xfrm>
        </p:grpSpPr>
        <p:sp>
          <p:nvSpPr>
            <p:cNvPr id="470" name=""/>
            <p:cNvSpPr/>
            <p:nvPr/>
          </p:nvSpPr>
          <p:spPr>
            <a:xfrm>
              <a:off x="662940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93396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04052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73" name=""/>
            <p:cNvSpPr/>
            <p:nvPr/>
          </p:nvSpPr>
          <p:spPr>
            <a:xfrm flipV="1">
              <a:off x="822960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754344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93396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54380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97752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a:t>
              </a:r>
              <a:endParaRPr b="0" lang="en-US" sz="2400" spc="-1" strike="noStrike">
                <a:solidFill>
                  <a:srgbClr val="000000"/>
                </a:solidFill>
                <a:latin typeface="Times New Roman"/>
              </a:endParaRPr>
            </a:p>
          </p:txBody>
        </p:sp>
      </p:grpSp>
      <p:grpSp>
        <p:nvGrpSpPr>
          <p:cNvPr id="478" name=""/>
          <p:cNvGrpSpPr/>
          <p:nvPr/>
        </p:nvGrpSpPr>
        <p:grpSpPr>
          <a:xfrm>
            <a:off x="6629400" y="1905120"/>
            <a:ext cx="1904760" cy="2057400"/>
            <a:chOff x="6629400" y="1905120"/>
            <a:chExt cx="1904760" cy="2057400"/>
          </a:xfrm>
        </p:grpSpPr>
        <p:sp>
          <p:nvSpPr>
            <p:cNvPr id="479"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82"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87" name=""/>
          <p:cNvSpPr/>
          <p:nvPr/>
        </p:nvSpPr>
        <p:spPr>
          <a:xfrm>
            <a:off x="4503600" y="1902600"/>
            <a:ext cx="139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ssages</a:t>
            </a:r>
            <a:endParaRPr b="0" lang="en-US" sz="2000" spc="-1" strike="noStrike">
              <a:solidFill>
                <a:srgbClr val="000000"/>
              </a:solidFill>
              <a:latin typeface="Times New Roman"/>
            </a:endParaRPr>
          </a:p>
        </p:txBody>
      </p:sp>
      <p:sp>
        <p:nvSpPr>
          <p:cNvPr id="488" name=""/>
          <p:cNvSpPr/>
          <p:nvPr/>
        </p:nvSpPr>
        <p:spPr>
          <a:xfrm flipH="1">
            <a:off x="5105160" y="2743200"/>
            <a:ext cx="609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409720" y="4038480"/>
            <a:ext cx="228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5257800" y="297180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410080" y="380988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09880" y="2133720"/>
            <a:ext cx="0" cy="304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83520" y="3619440"/>
            <a:ext cx="2637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oadLibrary(“vilibname.d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vi = GetProcAddress(“vi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vi)(arg1,arg2,arg3)</a:t>
            </a:r>
            <a:endParaRPr b="0" lang="en-US" sz="1400" spc="-1" strike="noStrike">
              <a:solidFill>
                <a:srgbClr val="000000"/>
              </a:solidFill>
              <a:latin typeface="Times New Roman"/>
            </a:endParaRPr>
          </a:p>
        </p:txBody>
      </p:sp>
      <p:sp>
        <p:nvSpPr>
          <p:cNvPr id="494" name=""/>
          <p:cNvSpPr/>
          <p:nvPr/>
        </p:nvSpPr>
        <p:spPr>
          <a:xfrm>
            <a:off x="1145160" y="31734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495" name=""/>
          <p:cNvSpPr/>
          <p:nvPr/>
        </p:nvSpPr>
        <p:spPr>
          <a:xfrm>
            <a:off x="3963600" y="256068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i()</a:t>
            </a:r>
            <a:endParaRPr b="0" lang="en-US" sz="2000" spc="-1" strike="noStrike">
              <a:solidFill>
                <a:srgbClr val="000000"/>
              </a:solidFill>
              <a:latin typeface="Times New Roman"/>
            </a:endParaRPr>
          </a:p>
        </p:txBody>
      </p:sp>
      <p:sp>
        <p:nvSpPr>
          <p:cNvPr id="496" name=""/>
          <p:cNvSpPr/>
          <p:nvPr/>
        </p:nvSpPr>
        <p:spPr>
          <a:xfrm flipV="1">
            <a:off x="3200400" y="2742840"/>
            <a:ext cx="914400" cy="1600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33920" y="31496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VRT.dll</a:t>
            </a:r>
            <a:endParaRPr b="0" lang="en-US" sz="2000" spc="-1" strike="noStrike">
              <a:solidFill>
                <a:srgbClr val="000000"/>
              </a:solidFill>
              <a:latin typeface="Times New Roman"/>
            </a:endParaRPr>
          </a:p>
        </p:txBody>
      </p:sp>
      <p:sp>
        <p:nvSpPr>
          <p:cNvPr id="498" name=""/>
          <p:cNvSpPr/>
          <p:nvPr/>
        </p:nvSpPr>
        <p:spPr>
          <a:xfrm>
            <a:off x="3809880" y="31240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246560" y="361620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 )</a:t>
            </a:r>
            <a:endParaRPr b="0" lang="en-US" sz="2000" spc="-1" strike="noStrike">
              <a:solidFill>
                <a:srgbClr val="000000"/>
              </a:solidFill>
              <a:latin typeface="Times New Roman"/>
            </a:endParaRPr>
          </a:p>
        </p:txBody>
      </p:sp>
      <p:sp>
        <p:nvSpPr>
          <p:cNvPr id="500" name=""/>
          <p:cNvSpPr/>
          <p:nvPr/>
        </p:nvSpPr>
        <p:spPr>
          <a:xfrm>
            <a:off x="4191120" y="2895480"/>
            <a:ext cx="152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1" name=""/>
          <p:cNvSpPr/>
          <p:nvPr/>
        </p:nvSpPr>
        <p:spPr>
          <a:xfrm>
            <a:off x="0" y="457200"/>
            <a:ext cx="9144000" cy="5943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83808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99072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single thread)</a:t>
            </a:r>
            <a:endParaRPr b="1" lang="en-US" sz="2400" spc="-1" strike="noStrike">
              <a:solidFill>
                <a:srgbClr val="ffff66"/>
              </a:solidFill>
              <a:latin typeface="Arial"/>
            </a:endParaRPr>
          </a:p>
        </p:txBody>
      </p:sp>
      <p:sp>
        <p:nvSpPr>
          <p:cNvPr id="504" name=""/>
          <p:cNvSpPr/>
          <p:nvPr/>
        </p:nvSpPr>
        <p:spPr>
          <a:xfrm>
            <a:off x="685800" y="20574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029200" y="1981080"/>
            <a:ext cx="3505320" cy="76212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185440" y="20865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07" name=""/>
          <p:cNvSpPr/>
          <p:nvPr/>
        </p:nvSpPr>
        <p:spPr>
          <a:xfrm>
            <a:off x="850680" y="216252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08" name=""/>
          <p:cNvSpPr/>
          <p:nvPr/>
        </p:nvSpPr>
        <p:spPr>
          <a:xfrm>
            <a:off x="762120" y="2926080"/>
            <a:ext cx="7483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nning code copies execution data to the operate/display, and calls the display function for the indicator</a:t>
            </a:r>
            <a:endParaRPr b="0" lang="en-US" sz="3600" spc="-1" strike="noStrike">
              <a:solidFill>
                <a:srgbClr val="000000"/>
              </a:solidFill>
              <a:latin typeface="Times New Roman"/>
            </a:endParaRPr>
          </a:p>
        </p:txBody>
      </p:sp>
      <p:sp>
        <p:nvSpPr>
          <p:cNvPr id="509" name=""/>
          <p:cNvSpPr/>
          <p:nvPr/>
        </p:nvSpPr>
        <p:spPr>
          <a:xfrm>
            <a:off x="3429000" y="2362320"/>
            <a:ext cx="16002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multi-thread)</a:t>
            </a:r>
            <a:endParaRPr b="1" lang="en-US" sz="2400" spc="-1" strike="noStrike">
              <a:solidFill>
                <a:srgbClr val="ffff66"/>
              </a:solidFill>
              <a:latin typeface="Arial"/>
            </a:endParaRPr>
          </a:p>
        </p:txBody>
      </p:sp>
      <p:sp>
        <p:nvSpPr>
          <p:cNvPr id="511" name=""/>
          <p:cNvSpPr/>
          <p:nvPr/>
        </p:nvSpPr>
        <p:spPr>
          <a:xfrm>
            <a:off x="152280" y="1600200"/>
            <a:ext cx="3962520" cy="4678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95680" y="1600200"/>
            <a:ext cx="4648320" cy="4449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2120" y="21636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105520" y="2087640"/>
            <a:ext cx="3504960" cy="7617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261760" y="21927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16" name=""/>
          <p:cNvSpPr/>
          <p:nvPr/>
        </p:nvSpPr>
        <p:spPr>
          <a:xfrm>
            <a:off x="927000" y="226908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17" name=""/>
          <p:cNvSpPr/>
          <p:nvPr/>
        </p:nvSpPr>
        <p:spPr>
          <a:xfrm>
            <a:off x="762120" y="3121200"/>
            <a:ext cx="2057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 code acquires 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pies execution data to transfer data, releases mutex and posts message to UI thread.</a:t>
            </a:r>
            <a:endParaRPr b="0" lang="en-US" sz="1800" spc="-1" strike="noStrike">
              <a:solidFill>
                <a:srgbClr val="000000"/>
              </a:solidFill>
              <a:latin typeface="Times New Roman"/>
            </a:endParaRPr>
          </a:p>
        </p:txBody>
      </p:sp>
      <p:sp>
        <p:nvSpPr>
          <p:cNvPr id="518" name=""/>
          <p:cNvSpPr/>
          <p:nvPr/>
        </p:nvSpPr>
        <p:spPr>
          <a:xfrm>
            <a:off x="1752480" y="2849400"/>
            <a:ext cx="129564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048120" y="3154320"/>
            <a:ext cx="3124080" cy="198108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0760" y="3380760"/>
            <a:ext cx="23997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ansfer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ut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dirty fla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update flag”</a:t>
            </a:r>
            <a:endParaRPr b="0" lang="en-US" sz="2400" spc="-1" strike="noStrike">
              <a:solidFill>
                <a:srgbClr val="000000"/>
              </a:solidFill>
              <a:latin typeface="Times New Roman"/>
            </a:endParaRPr>
          </a:p>
        </p:txBody>
      </p:sp>
      <p:sp>
        <p:nvSpPr>
          <p:cNvPr id="521" name=""/>
          <p:cNvSpPr/>
          <p:nvPr/>
        </p:nvSpPr>
        <p:spPr>
          <a:xfrm flipV="1">
            <a:off x="6172200" y="2849400"/>
            <a:ext cx="12193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00800" y="3251160"/>
            <a:ext cx="25909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I thread receives message, acquires mutex, copies transfer data to operate/display data, releases mutex and displays indicator</a:t>
            </a:r>
            <a:endParaRPr b="0" lang="en-US" sz="1800" spc="-1" strike="noStrike">
              <a:solidFill>
                <a:srgbClr val="000000"/>
              </a:solidFill>
              <a:latin typeface="Times New Roman"/>
            </a:endParaRPr>
          </a:p>
        </p:txBody>
      </p:sp>
      <p:sp>
        <p:nvSpPr>
          <p:cNvPr id="523" name=""/>
          <p:cNvSpPr/>
          <p:nvPr/>
        </p:nvSpPr>
        <p:spPr>
          <a:xfrm>
            <a:off x="3068280" y="603288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 queue</a:t>
            </a:r>
            <a:endParaRPr b="0" lang="en-US" sz="2400" spc="-1" strike="noStrike">
              <a:solidFill>
                <a:srgbClr val="000000"/>
              </a:solidFill>
              <a:latin typeface="Times New Roman"/>
            </a:endParaRPr>
          </a:p>
        </p:txBody>
      </p:sp>
      <p:sp>
        <p:nvSpPr>
          <p:cNvPr id="524" name=""/>
          <p:cNvSpPr/>
          <p:nvPr/>
        </p:nvSpPr>
        <p:spPr>
          <a:xfrm>
            <a:off x="1676520" y="5135400"/>
            <a:ext cx="1295280" cy="10670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562720" y="3763800"/>
            <a:ext cx="914400" cy="2438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91720" y="1643760"/>
            <a:ext cx="2245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on thread</a:t>
            </a:r>
            <a:endParaRPr b="0" lang="en-US" sz="2000" spc="-1" strike="noStrike">
              <a:solidFill>
                <a:srgbClr val="000000"/>
              </a:solidFill>
              <a:latin typeface="Times New Roman"/>
            </a:endParaRPr>
          </a:p>
        </p:txBody>
      </p:sp>
      <p:sp>
        <p:nvSpPr>
          <p:cNvPr id="527" name=""/>
          <p:cNvSpPr/>
          <p:nvPr/>
        </p:nvSpPr>
        <p:spPr>
          <a:xfrm>
            <a:off x="6154560" y="1629360"/>
            <a:ext cx="128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Not Busy)</a:t>
            </a:r>
            <a:endParaRPr b="1" lang="en-US" sz="3600" spc="-1" strike="noStrike">
              <a:solidFill>
                <a:srgbClr val="ffff66"/>
              </a:solidFill>
              <a:latin typeface="Arial"/>
            </a:endParaRPr>
          </a:p>
        </p:txBody>
      </p:sp>
      <p:sp>
        <p:nvSpPr>
          <p:cNvPr id="529"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32"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33" name=""/>
          <p:cNvGrpSpPr/>
          <p:nvPr/>
        </p:nvGrpSpPr>
        <p:grpSpPr>
          <a:xfrm>
            <a:off x="1981080" y="2362320"/>
            <a:ext cx="1524240" cy="1674360"/>
            <a:chOff x="1981080" y="2362320"/>
            <a:chExt cx="1524240" cy="1674360"/>
          </a:xfrm>
        </p:grpSpPr>
        <p:sp>
          <p:nvSpPr>
            <p:cNvPr id="534"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36" name=""/>
          <p:cNvGrpSpPr/>
          <p:nvPr/>
        </p:nvGrpSpPr>
        <p:grpSpPr>
          <a:xfrm>
            <a:off x="1981080" y="4114800"/>
            <a:ext cx="1524240" cy="1371600"/>
            <a:chOff x="1981080" y="4114800"/>
            <a:chExt cx="1524240" cy="1371600"/>
          </a:xfrm>
        </p:grpSpPr>
        <p:sp>
          <p:nvSpPr>
            <p:cNvPr id="537"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39"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0"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41" name=""/>
          <p:cNvGrpSpPr/>
          <p:nvPr/>
        </p:nvGrpSpPr>
        <p:grpSpPr>
          <a:xfrm>
            <a:off x="5791320" y="3429000"/>
            <a:ext cx="1979280" cy="1599840"/>
            <a:chOff x="5791320" y="3429000"/>
            <a:chExt cx="1979280" cy="1599840"/>
          </a:xfrm>
        </p:grpSpPr>
        <p:sp>
          <p:nvSpPr>
            <p:cNvPr id="542"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44" name=""/>
          <p:cNvSpPr/>
          <p:nvPr/>
        </p:nvSpPr>
        <p:spPr>
          <a:xfrm>
            <a:off x="5942880" y="229932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45" name=""/>
          <p:cNvSpPr/>
          <p:nvPr/>
        </p:nvSpPr>
        <p:spPr>
          <a:xfrm>
            <a:off x="2247480" y="582048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
        <p:nvSpPr>
          <p:cNvPr id="546" name=""/>
          <p:cNvSpPr/>
          <p:nvPr/>
        </p:nvSpPr>
        <p:spPr>
          <a:xfrm flipH="1" flipV="1">
            <a:off x="3504960" y="2925360"/>
            <a:ext cx="1523880" cy="3017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bVI Calls (SubVI Running Caller)</a:t>
            </a:r>
            <a:endParaRPr b="1" lang="en-US" sz="3200" spc="-1" strike="noStrike">
              <a:solidFill>
                <a:srgbClr val="ffff66"/>
              </a:solidFill>
              <a:latin typeface="Arial"/>
            </a:endParaRPr>
          </a:p>
        </p:txBody>
      </p:sp>
      <p:sp>
        <p:nvSpPr>
          <p:cNvPr id="548"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51"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52" name=""/>
          <p:cNvGrpSpPr/>
          <p:nvPr/>
        </p:nvGrpSpPr>
        <p:grpSpPr>
          <a:xfrm>
            <a:off x="1981080" y="2362320"/>
            <a:ext cx="1524240" cy="1674360"/>
            <a:chOff x="1981080" y="2362320"/>
            <a:chExt cx="1524240" cy="1674360"/>
          </a:xfrm>
        </p:grpSpPr>
        <p:sp>
          <p:nvSpPr>
            <p:cNvPr id="553"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55" name=""/>
          <p:cNvGrpSpPr/>
          <p:nvPr/>
        </p:nvGrpSpPr>
        <p:grpSpPr>
          <a:xfrm>
            <a:off x="1981080" y="4114800"/>
            <a:ext cx="1524240" cy="1371600"/>
            <a:chOff x="1981080" y="4114800"/>
            <a:chExt cx="1524240" cy="1371600"/>
          </a:xfrm>
        </p:grpSpPr>
        <p:sp>
          <p:nvSpPr>
            <p:cNvPr id="556"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58"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60" name=""/>
          <p:cNvGrpSpPr/>
          <p:nvPr/>
        </p:nvGrpSpPr>
        <p:grpSpPr>
          <a:xfrm>
            <a:off x="5791320" y="3429000"/>
            <a:ext cx="1979280" cy="1599840"/>
            <a:chOff x="5791320" y="3429000"/>
            <a:chExt cx="1979280" cy="1599840"/>
          </a:xfrm>
        </p:grpSpPr>
        <p:sp>
          <p:nvSpPr>
            <p:cNvPr id="561"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63" name=""/>
          <p:cNvSpPr/>
          <p:nvPr/>
        </p:nvSpPr>
        <p:spPr>
          <a:xfrm>
            <a:off x="6012720" y="2299320"/>
            <a:ext cx="17794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64" name=""/>
          <p:cNvSpPr/>
          <p:nvPr/>
        </p:nvSpPr>
        <p:spPr>
          <a:xfrm>
            <a:off x="261828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65" name=""/>
          <p:cNvSpPr/>
          <p:nvPr/>
        </p:nvSpPr>
        <p:spPr>
          <a:xfrm flipV="1">
            <a:off x="5257800" y="3428640"/>
            <a:ext cx="457200" cy="2438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flipV="1">
            <a:off x="3505320" y="2362320"/>
            <a:ext cx="259056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Is Busy)</a:t>
            </a:r>
            <a:endParaRPr b="1" lang="en-US" sz="3600" spc="-1" strike="noStrike">
              <a:solidFill>
                <a:srgbClr val="ffff66"/>
              </a:solidFill>
              <a:latin typeface="Arial"/>
            </a:endParaRPr>
          </a:p>
        </p:txBody>
      </p:sp>
      <p:sp>
        <p:nvSpPr>
          <p:cNvPr id="568" name=""/>
          <p:cNvSpPr/>
          <p:nvPr/>
        </p:nvSpPr>
        <p:spPr>
          <a:xfrm>
            <a:off x="49528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8580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99396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71" name=""/>
          <p:cNvSpPr/>
          <p:nvPr/>
        </p:nvSpPr>
        <p:spPr>
          <a:xfrm>
            <a:off x="516456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72" name=""/>
          <p:cNvGrpSpPr/>
          <p:nvPr/>
        </p:nvGrpSpPr>
        <p:grpSpPr>
          <a:xfrm>
            <a:off x="1828800" y="2362320"/>
            <a:ext cx="1523880" cy="1674360"/>
            <a:chOff x="1828800" y="2362320"/>
            <a:chExt cx="1523880" cy="1674360"/>
          </a:xfrm>
        </p:grpSpPr>
        <p:sp>
          <p:nvSpPr>
            <p:cNvPr id="573" name=""/>
            <p:cNvSpPr/>
            <p:nvPr/>
          </p:nvSpPr>
          <p:spPr>
            <a:xfrm>
              <a:off x="1828800" y="236232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9684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75" name=""/>
          <p:cNvGrpSpPr/>
          <p:nvPr/>
        </p:nvGrpSpPr>
        <p:grpSpPr>
          <a:xfrm>
            <a:off x="1828800" y="4114800"/>
            <a:ext cx="1523880" cy="1371600"/>
            <a:chOff x="1828800" y="4114800"/>
            <a:chExt cx="1523880" cy="1371600"/>
          </a:xfrm>
        </p:grpSpPr>
        <p:sp>
          <p:nvSpPr>
            <p:cNvPr id="576" name=""/>
            <p:cNvSpPr/>
            <p:nvPr/>
          </p:nvSpPr>
          <p:spPr>
            <a:xfrm>
              <a:off x="1828800" y="411480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0340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78" name=""/>
          <p:cNvSpPr/>
          <p:nvPr/>
        </p:nvSpPr>
        <p:spPr>
          <a:xfrm>
            <a:off x="132084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160020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80" name=""/>
          <p:cNvGrpSpPr/>
          <p:nvPr/>
        </p:nvGrpSpPr>
        <p:grpSpPr>
          <a:xfrm>
            <a:off x="5638680" y="3429000"/>
            <a:ext cx="1979280" cy="1599840"/>
            <a:chOff x="5638680" y="3429000"/>
            <a:chExt cx="1979280" cy="1599840"/>
          </a:xfrm>
        </p:grpSpPr>
        <p:sp>
          <p:nvSpPr>
            <p:cNvPr id="581" name=""/>
            <p:cNvSpPr/>
            <p:nvPr/>
          </p:nvSpPr>
          <p:spPr>
            <a:xfrm>
              <a:off x="563868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8492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83" name=""/>
          <p:cNvSpPr/>
          <p:nvPr/>
        </p:nvSpPr>
        <p:spPr>
          <a:xfrm>
            <a:off x="5862600" y="229932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584" name=""/>
          <p:cNvSpPr/>
          <p:nvPr/>
        </p:nvSpPr>
        <p:spPr>
          <a:xfrm>
            <a:off x="261972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85" name=""/>
          <p:cNvSpPr/>
          <p:nvPr/>
        </p:nvSpPr>
        <p:spPr>
          <a:xfrm flipH="1" flipV="1">
            <a:off x="3352320" y="2514240"/>
            <a:ext cx="1752840" cy="3429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238880" y="228600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flipV="1">
            <a:off x="3352320" y="2362320"/>
            <a:ext cx="259092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500240" y="198036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uns</a:t>
            </a:r>
            <a:endParaRPr b="1" lang="en-US" sz="3600" spc="-1" strike="noStrike">
              <a:solidFill>
                <a:srgbClr val="ffff66"/>
              </a:solidFill>
              <a:latin typeface="Arial"/>
            </a:endParaRPr>
          </a:p>
        </p:txBody>
      </p:sp>
      <p:sp>
        <p:nvSpPr>
          <p:cNvPr id="590" name=""/>
          <p:cNvSpPr/>
          <p:nvPr/>
        </p:nvSpPr>
        <p:spPr>
          <a:xfrm>
            <a:off x="495288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68580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103040" y="1826640"/>
            <a:ext cx="205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r data space</a:t>
            </a:r>
            <a:endParaRPr b="0" lang="en-US" sz="1800" spc="-1" strike="noStrike">
              <a:solidFill>
                <a:srgbClr val="000000"/>
              </a:solidFill>
              <a:latin typeface="Times New Roman"/>
            </a:endParaRPr>
          </a:p>
        </p:txBody>
      </p:sp>
      <p:sp>
        <p:nvSpPr>
          <p:cNvPr id="593" name=""/>
          <p:cNvSpPr/>
          <p:nvPr/>
        </p:nvSpPr>
        <p:spPr>
          <a:xfrm>
            <a:off x="5274720" y="1826640"/>
            <a:ext cx="2096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e data space</a:t>
            </a:r>
            <a:endParaRPr b="0" lang="en-US" sz="1800" spc="-1" strike="noStrike">
              <a:solidFill>
                <a:srgbClr val="000000"/>
              </a:solidFill>
              <a:latin typeface="Times New Roman"/>
            </a:endParaRPr>
          </a:p>
        </p:txBody>
      </p:sp>
      <p:grpSp>
        <p:nvGrpSpPr>
          <p:cNvPr id="594" name=""/>
          <p:cNvGrpSpPr/>
          <p:nvPr/>
        </p:nvGrpSpPr>
        <p:grpSpPr>
          <a:xfrm>
            <a:off x="1828800" y="2316240"/>
            <a:ext cx="1523880" cy="1674360"/>
            <a:chOff x="1828800" y="2316240"/>
            <a:chExt cx="1523880" cy="1674360"/>
          </a:xfrm>
        </p:grpSpPr>
        <p:sp>
          <p:nvSpPr>
            <p:cNvPr id="595" name=""/>
            <p:cNvSpPr/>
            <p:nvPr/>
          </p:nvSpPr>
          <p:spPr>
            <a:xfrm>
              <a:off x="1828800" y="231624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56960" y="2633040"/>
              <a:ext cx="12474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Ptr</a:t>
              </a:r>
              <a:endParaRPr b="0" lang="en-US" sz="1800" spc="-1" strike="noStrike">
                <a:solidFill>
                  <a:srgbClr val="000000"/>
                </a:solidFill>
                <a:latin typeface="Times New Roman"/>
              </a:endParaRPr>
            </a:p>
          </p:txBody>
        </p:sp>
      </p:grpSp>
      <p:grpSp>
        <p:nvGrpSpPr>
          <p:cNvPr id="597" name=""/>
          <p:cNvGrpSpPr/>
          <p:nvPr/>
        </p:nvGrpSpPr>
        <p:grpSpPr>
          <a:xfrm>
            <a:off x="1828800" y="4068720"/>
            <a:ext cx="1523880" cy="1371600"/>
            <a:chOff x="1828800" y="4068720"/>
            <a:chExt cx="1523880" cy="1371600"/>
          </a:xfrm>
        </p:grpSpPr>
        <p:sp>
          <p:nvSpPr>
            <p:cNvPr id="598" name=""/>
            <p:cNvSpPr/>
            <p:nvPr/>
          </p:nvSpPr>
          <p:spPr>
            <a:xfrm>
              <a:off x="1828800" y="406872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053080" y="4355640"/>
              <a:ext cx="105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1</a:t>
              </a:r>
              <a:endParaRPr b="0" lang="en-US" sz="1800" spc="-1" strike="noStrike">
                <a:solidFill>
                  <a:srgbClr val="000000"/>
                </a:solidFill>
                <a:latin typeface="Times New Roman"/>
              </a:endParaRPr>
            </a:p>
          </p:txBody>
        </p:sp>
      </p:grpSp>
      <p:sp>
        <p:nvSpPr>
          <p:cNvPr id="600" name=""/>
          <p:cNvSpPr/>
          <p:nvPr/>
        </p:nvSpPr>
        <p:spPr>
          <a:xfrm>
            <a:off x="1320840" y="376380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a:off x="1600200" y="414504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02" name=""/>
          <p:cNvGrpSpPr/>
          <p:nvPr/>
        </p:nvGrpSpPr>
        <p:grpSpPr>
          <a:xfrm>
            <a:off x="5638680" y="3382920"/>
            <a:ext cx="1979280" cy="1599840"/>
            <a:chOff x="5638680" y="3382920"/>
            <a:chExt cx="1979280" cy="1599840"/>
          </a:xfrm>
        </p:grpSpPr>
        <p:sp>
          <p:nvSpPr>
            <p:cNvPr id="603" name=""/>
            <p:cNvSpPr/>
            <p:nvPr/>
          </p:nvSpPr>
          <p:spPr>
            <a:xfrm>
              <a:off x="5638680" y="338292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0800" y="3654360"/>
              <a:ext cx="1337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top 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grpSp>
      <p:sp>
        <p:nvSpPr>
          <p:cNvPr id="605" name=""/>
          <p:cNvSpPr/>
          <p:nvPr/>
        </p:nvSpPr>
        <p:spPr>
          <a:xfrm>
            <a:off x="5865120" y="2298240"/>
            <a:ext cx="116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Ca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itQ</a:t>
            </a:r>
            <a:endParaRPr b="0" lang="en-US" sz="1800" spc="-1" strike="noStrike">
              <a:solidFill>
                <a:srgbClr val="000000"/>
              </a:solidFill>
              <a:latin typeface="Times New Roman"/>
            </a:endParaRPr>
          </a:p>
        </p:txBody>
      </p:sp>
      <p:sp>
        <p:nvSpPr>
          <p:cNvPr id="606" name=""/>
          <p:cNvSpPr/>
          <p:nvPr/>
        </p:nvSpPr>
        <p:spPr>
          <a:xfrm>
            <a:off x="2619720" y="580428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07" name=""/>
          <p:cNvSpPr/>
          <p:nvPr/>
        </p:nvSpPr>
        <p:spPr>
          <a:xfrm flipV="1">
            <a:off x="4343400" y="1752120"/>
            <a:ext cx="609480" cy="40388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781680" y="266688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flipV="1">
            <a:off x="3962160" y="1676160"/>
            <a:ext cx="198108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36240" y="2147400"/>
            <a:ext cx="1520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ther call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 – Topics</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organizatio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VIs are compil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emote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indicators display</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you call a sub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No Waiting Second Caller)</a:t>
            </a:r>
            <a:endParaRPr b="1" lang="en-US" sz="3600" spc="-1" strike="noStrike">
              <a:solidFill>
                <a:srgbClr val="ffff66"/>
              </a:solidFill>
              <a:latin typeface="Arial"/>
            </a:endParaRPr>
          </a:p>
        </p:txBody>
      </p:sp>
      <p:sp>
        <p:nvSpPr>
          <p:cNvPr id="612" name=""/>
          <p:cNvSpPr/>
          <p:nvPr/>
        </p:nvSpPr>
        <p:spPr>
          <a:xfrm>
            <a:off x="5105520" y="167652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8380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940320" y="1751400"/>
            <a:ext cx="2687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ller data space</a:t>
            </a:r>
            <a:endParaRPr b="0" lang="en-US" sz="2400" spc="-1" strike="noStrike">
              <a:solidFill>
                <a:srgbClr val="000000"/>
              </a:solidFill>
              <a:latin typeface="Times New Roman"/>
            </a:endParaRPr>
          </a:p>
        </p:txBody>
      </p:sp>
      <p:sp>
        <p:nvSpPr>
          <p:cNvPr id="615" name=""/>
          <p:cNvSpPr/>
          <p:nvPr/>
        </p:nvSpPr>
        <p:spPr>
          <a:xfrm>
            <a:off x="531684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16" name=""/>
          <p:cNvGrpSpPr/>
          <p:nvPr/>
        </p:nvGrpSpPr>
        <p:grpSpPr>
          <a:xfrm>
            <a:off x="1981080" y="2286000"/>
            <a:ext cx="1524240" cy="1674360"/>
            <a:chOff x="1981080" y="2286000"/>
            <a:chExt cx="1524240" cy="1674360"/>
          </a:xfrm>
        </p:grpSpPr>
        <p:sp>
          <p:nvSpPr>
            <p:cNvPr id="617" name=""/>
            <p:cNvSpPr/>
            <p:nvPr/>
          </p:nvSpPr>
          <p:spPr>
            <a:xfrm>
              <a:off x="1981080" y="228600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4948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19" name=""/>
          <p:cNvGrpSpPr/>
          <p:nvPr/>
        </p:nvGrpSpPr>
        <p:grpSpPr>
          <a:xfrm>
            <a:off x="1981080" y="4038480"/>
            <a:ext cx="1524240" cy="1371600"/>
            <a:chOff x="1981080" y="4038480"/>
            <a:chExt cx="1524240" cy="1371600"/>
          </a:xfrm>
        </p:grpSpPr>
        <p:sp>
          <p:nvSpPr>
            <p:cNvPr id="620" name=""/>
            <p:cNvSpPr/>
            <p:nvPr/>
          </p:nvSpPr>
          <p:spPr>
            <a:xfrm>
              <a:off x="1981080" y="40384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15604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22" name=""/>
          <p:cNvSpPr/>
          <p:nvPr/>
        </p:nvSpPr>
        <p:spPr>
          <a:xfrm>
            <a:off x="147312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3" name=""/>
          <p:cNvSpPr/>
          <p:nvPr/>
        </p:nvSpPr>
        <p:spPr>
          <a:xfrm>
            <a:off x="175248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24" name=""/>
          <p:cNvGrpSpPr/>
          <p:nvPr/>
        </p:nvGrpSpPr>
        <p:grpSpPr>
          <a:xfrm>
            <a:off x="5791320" y="3352680"/>
            <a:ext cx="1979280" cy="1599840"/>
            <a:chOff x="5791320" y="3352680"/>
            <a:chExt cx="1979280" cy="1599840"/>
          </a:xfrm>
        </p:grpSpPr>
        <p:sp>
          <p:nvSpPr>
            <p:cNvPr id="625" name=""/>
            <p:cNvSpPr/>
            <p:nvPr/>
          </p:nvSpPr>
          <p:spPr>
            <a:xfrm>
              <a:off x="579132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03756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27" name=""/>
          <p:cNvSpPr/>
          <p:nvPr/>
        </p:nvSpPr>
        <p:spPr>
          <a:xfrm>
            <a:off x="5942880" y="222300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628" name=""/>
          <p:cNvSpPr/>
          <p:nvPr/>
        </p:nvSpPr>
        <p:spPr>
          <a:xfrm flipH="1" flipV="1">
            <a:off x="3505320" y="2514240"/>
            <a:ext cx="1752480" cy="35053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323800" y="574452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With Waiting Second Caller)</a:t>
            </a:r>
            <a:endParaRPr b="1" lang="en-US" sz="3600" spc="-1" strike="noStrike">
              <a:solidFill>
                <a:srgbClr val="ffff66"/>
              </a:solidFill>
              <a:latin typeface="Arial"/>
            </a:endParaRPr>
          </a:p>
        </p:txBody>
      </p:sp>
      <p:sp>
        <p:nvSpPr>
          <p:cNvPr id="631" name=""/>
          <p:cNvSpPr/>
          <p:nvPr/>
        </p:nvSpPr>
        <p:spPr>
          <a:xfrm>
            <a:off x="49528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8580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93960" y="178200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634" name=""/>
          <p:cNvSpPr/>
          <p:nvPr/>
        </p:nvSpPr>
        <p:spPr>
          <a:xfrm>
            <a:off x="516456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35" name=""/>
          <p:cNvGrpSpPr/>
          <p:nvPr/>
        </p:nvGrpSpPr>
        <p:grpSpPr>
          <a:xfrm>
            <a:off x="1828800" y="2286000"/>
            <a:ext cx="1523880" cy="1674360"/>
            <a:chOff x="1828800" y="2286000"/>
            <a:chExt cx="1523880" cy="1674360"/>
          </a:xfrm>
        </p:grpSpPr>
        <p:sp>
          <p:nvSpPr>
            <p:cNvPr id="636" name=""/>
            <p:cNvSpPr/>
            <p:nvPr/>
          </p:nvSpPr>
          <p:spPr>
            <a:xfrm>
              <a:off x="1828800" y="228600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9684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38" name=""/>
          <p:cNvGrpSpPr/>
          <p:nvPr/>
        </p:nvGrpSpPr>
        <p:grpSpPr>
          <a:xfrm>
            <a:off x="1828800" y="4038480"/>
            <a:ext cx="1523880" cy="1371600"/>
            <a:chOff x="1828800" y="4038480"/>
            <a:chExt cx="1523880" cy="1371600"/>
          </a:xfrm>
        </p:grpSpPr>
        <p:sp>
          <p:nvSpPr>
            <p:cNvPr id="639" name=""/>
            <p:cNvSpPr/>
            <p:nvPr/>
          </p:nvSpPr>
          <p:spPr>
            <a:xfrm>
              <a:off x="1828800" y="40384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00340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41" name=""/>
          <p:cNvSpPr/>
          <p:nvPr/>
        </p:nvSpPr>
        <p:spPr>
          <a:xfrm>
            <a:off x="132084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2" name=""/>
          <p:cNvSpPr/>
          <p:nvPr/>
        </p:nvSpPr>
        <p:spPr>
          <a:xfrm>
            <a:off x="160020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43" name=""/>
          <p:cNvGrpSpPr/>
          <p:nvPr/>
        </p:nvGrpSpPr>
        <p:grpSpPr>
          <a:xfrm>
            <a:off x="5638680" y="3352680"/>
            <a:ext cx="1979280" cy="1599840"/>
            <a:chOff x="5638680" y="3352680"/>
            <a:chExt cx="1979280" cy="1599840"/>
          </a:xfrm>
        </p:grpSpPr>
        <p:sp>
          <p:nvSpPr>
            <p:cNvPr id="644" name=""/>
            <p:cNvSpPr/>
            <p:nvPr/>
          </p:nvSpPr>
          <p:spPr>
            <a:xfrm>
              <a:off x="563868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8492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46" name=""/>
          <p:cNvSpPr/>
          <p:nvPr/>
        </p:nvSpPr>
        <p:spPr>
          <a:xfrm>
            <a:off x="5862600" y="222300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647" name=""/>
          <p:cNvSpPr/>
          <p:nvPr/>
        </p:nvSpPr>
        <p:spPr>
          <a:xfrm>
            <a:off x="2543400" y="577440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48" name=""/>
          <p:cNvSpPr/>
          <p:nvPr/>
        </p:nvSpPr>
        <p:spPr>
          <a:xfrm flipV="1">
            <a:off x="4572000" y="1722600"/>
            <a:ext cx="380880" cy="4114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781680" y="259092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flipV="1">
            <a:off x="3352320" y="2255760"/>
            <a:ext cx="25909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558920" y="2255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xt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arts of a VI</a:t>
            </a:r>
            <a:endParaRPr b="1" lang="en-US" sz="3600" spc="-1" strike="noStrike">
              <a:solidFill>
                <a:srgbClr val="ffff66"/>
              </a:solidFill>
              <a:latin typeface="Arial"/>
            </a:endParaRPr>
          </a:p>
        </p:txBody>
      </p:sp>
      <p:sp>
        <p:nvSpPr>
          <p:cNvPr id="97" name=""/>
          <p:cNvSpPr/>
          <p:nvPr/>
        </p:nvSpPr>
        <p:spPr>
          <a:xfrm>
            <a:off x="3962520" y="2057400"/>
            <a:ext cx="3581280" cy="34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362320"/>
            <a:ext cx="106704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3962520"/>
            <a:ext cx="129528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320" y="3962520"/>
            <a:ext cx="16002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3962520"/>
            <a:ext cx="144792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3962520"/>
            <a:ext cx="11430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209680" y="2666880"/>
            <a:ext cx="1828800" cy="129564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276720" y="3200400"/>
            <a:ext cx="76176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05520" y="2590920"/>
            <a:ext cx="1218960" cy="137160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5520" y="3200400"/>
            <a:ext cx="45720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26040" y="2589840"/>
            <a:ext cx="564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a:t>
            </a:r>
            <a:endParaRPr b="0" lang="en-US" sz="3200" spc="-1" strike="noStrike">
              <a:solidFill>
                <a:srgbClr val="000000"/>
              </a:solidFill>
              <a:latin typeface="Times New Roman"/>
            </a:endParaRPr>
          </a:p>
        </p:txBody>
      </p:sp>
      <p:sp>
        <p:nvSpPr>
          <p:cNvPr id="108" name=""/>
          <p:cNvSpPr/>
          <p:nvPr/>
        </p:nvSpPr>
        <p:spPr>
          <a:xfrm>
            <a:off x="1226880" y="4143600"/>
            <a:ext cx="9763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nel</a:t>
            </a:r>
            <a:endParaRPr b="0" lang="en-US" sz="2400" spc="-1" strike="noStrike">
              <a:solidFill>
                <a:srgbClr val="000000"/>
              </a:solidFill>
              <a:latin typeface="Times New Roman"/>
            </a:endParaRPr>
          </a:p>
        </p:txBody>
      </p:sp>
      <p:sp>
        <p:nvSpPr>
          <p:cNvPr id="109" name=""/>
          <p:cNvSpPr/>
          <p:nvPr/>
        </p:nvSpPr>
        <p:spPr>
          <a:xfrm>
            <a:off x="2443320" y="4143600"/>
            <a:ext cx="1366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gram</a:t>
            </a:r>
            <a:endParaRPr b="0" lang="en-US" sz="2400" spc="-1" strike="noStrike">
              <a:solidFill>
                <a:srgbClr val="000000"/>
              </a:solidFill>
              <a:latin typeface="Times New Roman"/>
            </a:endParaRPr>
          </a:p>
        </p:txBody>
      </p:sp>
      <p:sp>
        <p:nvSpPr>
          <p:cNvPr id="110" name=""/>
          <p:cNvSpPr/>
          <p:nvPr/>
        </p:nvSpPr>
        <p:spPr>
          <a:xfrm>
            <a:off x="4282920" y="4145040"/>
            <a:ext cx="104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pace</a:t>
            </a:r>
            <a:endParaRPr b="0" lang="en-US" sz="2400" spc="-1" strike="noStrike">
              <a:solidFill>
                <a:srgbClr val="000000"/>
              </a:solidFill>
              <a:latin typeface="Times New Roman"/>
            </a:endParaRPr>
          </a:p>
        </p:txBody>
      </p:sp>
      <p:sp>
        <p:nvSpPr>
          <p:cNvPr id="111" name=""/>
          <p:cNvSpPr/>
          <p:nvPr/>
        </p:nvSpPr>
        <p:spPr>
          <a:xfrm>
            <a:off x="5763600" y="4145040"/>
            <a:ext cx="1569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il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de</a:t>
            </a:r>
            <a:endParaRPr b="0" lang="en-US" sz="2400" spc="-1" strike="noStrike">
              <a:solidFill>
                <a:srgbClr val="000000"/>
              </a:solidFill>
              <a:latin typeface="Times New Roman"/>
            </a:endParaRPr>
          </a:p>
        </p:txBody>
      </p:sp>
      <p:sp>
        <p:nvSpPr>
          <p:cNvPr id="112" name=""/>
          <p:cNvSpPr/>
          <p:nvPr/>
        </p:nvSpPr>
        <p:spPr>
          <a:xfrm>
            <a:off x="5257800" y="2254320"/>
            <a:ext cx="2492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ways present in memory</a:t>
            </a:r>
            <a:endParaRPr b="0" lang="en-US" sz="2400" spc="-1" strike="noStrike">
              <a:solidFill>
                <a:srgbClr val="000000"/>
              </a:solidFill>
              <a:latin typeface="Times New Roman"/>
            </a:endParaRPr>
          </a:p>
        </p:txBody>
      </p:sp>
      <p:sp>
        <p:nvSpPr>
          <p:cNvPr id="113" name=""/>
          <p:cNvSpPr/>
          <p:nvPr/>
        </p:nvSpPr>
        <p:spPr>
          <a:xfrm>
            <a:off x="914400" y="2101320"/>
            <a:ext cx="2133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aded when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a:t>
            </a:r>
            <a:endParaRPr b="1" lang="en-US" sz="3600" spc="-1" strike="noStrike">
              <a:solidFill>
                <a:srgbClr val="ffff66"/>
              </a:solidFill>
              <a:latin typeface="Arial"/>
            </a:endParaRPr>
          </a:p>
        </p:txBody>
      </p:sp>
      <p:pic>
        <p:nvPicPr>
          <p:cNvPr id="115" name="diagram1" descr=""/>
          <p:cNvPicPr/>
          <p:nvPr/>
        </p:nvPicPr>
        <p:blipFill>
          <a:blip r:embed="rId1"/>
          <a:stretch/>
        </p:blipFill>
        <p:spPr>
          <a:xfrm>
            <a:off x="74520" y="1600200"/>
            <a:ext cx="90680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761760"/>
            <a:ext cx="792468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 – “Clumps”</a:t>
            </a:r>
            <a:endParaRPr b="1" lang="en-US" sz="3600" spc="-1" strike="noStrike">
              <a:solidFill>
                <a:srgbClr val="ffff66"/>
              </a:solidFill>
              <a:latin typeface="Arial"/>
            </a:endParaRPr>
          </a:p>
        </p:txBody>
      </p:sp>
      <p:sp>
        <p:nvSpPr>
          <p:cNvPr id="117" name=""/>
          <p:cNvSpPr/>
          <p:nvPr/>
        </p:nvSpPr>
        <p:spPr>
          <a:xfrm>
            <a:off x="762120" y="3276720"/>
            <a:ext cx="7632720" cy="3276360"/>
          </a:xfrm>
          <a:custGeom>
            <a:avLst/>
            <a:gdLst/>
            <a:ahLst/>
            <a:rect l="l" t="t" r="r" b="b"/>
            <a:pathLst>
              <a:path w="4768" h="1920">
                <a:moveTo>
                  <a:pt x="824" y="0"/>
                </a:moveTo>
                <a:cubicBezTo>
                  <a:pt x="552" y="0"/>
                  <a:pt x="16" y="408"/>
                  <a:pt x="8" y="624"/>
                </a:cubicBezTo>
                <a:cubicBezTo>
                  <a:pt x="0" y="840"/>
                  <a:pt x="384" y="1080"/>
                  <a:pt x="776" y="1296"/>
                </a:cubicBezTo>
                <a:cubicBezTo>
                  <a:pt x="1168" y="1512"/>
                  <a:pt x="1816" y="1920"/>
                  <a:pt x="2360" y="1920"/>
                </a:cubicBezTo>
                <a:cubicBezTo>
                  <a:pt x="2904" y="1920"/>
                  <a:pt x="3640" y="1512"/>
                  <a:pt x="4040" y="1296"/>
                </a:cubicBezTo>
                <a:cubicBezTo>
                  <a:pt x="4440" y="1080"/>
                  <a:pt x="4768" y="840"/>
                  <a:pt x="4760" y="624"/>
                </a:cubicBezTo>
                <a:cubicBezTo>
                  <a:pt x="4752" y="408"/>
                  <a:pt x="4264" y="0"/>
                  <a:pt x="3992" y="0"/>
                </a:cubicBezTo>
                <a:cubicBezTo>
                  <a:pt x="3720" y="0"/>
                  <a:pt x="3296" y="416"/>
                  <a:pt x="3128" y="624"/>
                </a:cubicBezTo>
                <a:cubicBezTo>
                  <a:pt x="2960" y="832"/>
                  <a:pt x="3112" y="1096"/>
                  <a:pt x="2984" y="1248"/>
                </a:cubicBezTo>
                <a:cubicBezTo>
                  <a:pt x="2856" y="1400"/>
                  <a:pt x="2568" y="1552"/>
                  <a:pt x="2360" y="1536"/>
                </a:cubicBezTo>
                <a:cubicBezTo>
                  <a:pt x="2152" y="1520"/>
                  <a:pt x="1856" y="1304"/>
                  <a:pt x="1736" y="1152"/>
                </a:cubicBezTo>
                <a:cubicBezTo>
                  <a:pt x="1616" y="1000"/>
                  <a:pt x="1792" y="816"/>
                  <a:pt x="1640" y="624"/>
                </a:cubicBezTo>
                <a:cubicBezTo>
                  <a:pt x="1488" y="432"/>
                  <a:pt x="1096" y="0"/>
                  <a:pt x="824" y="0"/>
                </a:cubicBezTo>
                <a:close/>
              </a:path>
            </a:pathLst>
          </a:custGeom>
          <a:solidFill>
            <a:srgbClr val="3366ff"/>
          </a:solidFill>
          <a:ln w="316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1066680" y="3687120"/>
            <a:ext cx="213372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art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ads controls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stants, t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chedules Clumps 1 and 2 (for loo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n sleeps...</a:t>
            </a:r>
            <a:endParaRPr b="0" lang="en-US" sz="1400" spc="-1" strike="noStrike">
              <a:solidFill>
                <a:srgbClr val="000000"/>
              </a:solidFill>
              <a:latin typeface="Times New Roman"/>
            </a:endParaRPr>
          </a:p>
        </p:txBody>
      </p:sp>
      <p:sp>
        <p:nvSpPr>
          <p:cNvPr id="119" name=""/>
          <p:cNvSpPr/>
          <p:nvPr/>
        </p:nvSpPr>
        <p:spPr>
          <a:xfrm>
            <a:off x="5867280" y="3884760"/>
            <a:ext cx="25909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letion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vide nodes, displa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s, then VI exit.</a:t>
            </a:r>
            <a:endParaRPr b="0" lang="en-US" sz="1400" spc="-1" strike="noStrike">
              <a:solidFill>
                <a:srgbClr val="000000"/>
              </a:solidFill>
              <a:latin typeface="Times New Roman"/>
            </a:endParaRPr>
          </a:p>
        </p:txBody>
      </p:sp>
      <p:sp>
        <p:nvSpPr>
          <p:cNvPr id="120" name=""/>
          <p:cNvSpPr/>
          <p:nvPr/>
        </p:nvSpPr>
        <p:spPr>
          <a:xfrm>
            <a:off x="3429000" y="16002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5320" y="34290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29000" y="19508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p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3" name=""/>
          <p:cNvSpPr/>
          <p:nvPr/>
        </p:nvSpPr>
        <p:spPr>
          <a:xfrm>
            <a:off x="3429000" y="38084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ottom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4" name=""/>
          <p:cNvSpPr/>
          <p:nvPr/>
        </p:nvSpPr>
        <p:spPr>
          <a:xfrm>
            <a:off x="345960" y="3047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0</a:t>
            </a:r>
            <a:endParaRPr b="0" lang="en-US" sz="2400" spc="-1" strike="noStrike">
              <a:solidFill>
                <a:srgbClr val="000000"/>
              </a:solidFill>
              <a:latin typeface="Times New Roman"/>
            </a:endParaRPr>
          </a:p>
        </p:txBody>
      </p:sp>
      <p:sp>
        <p:nvSpPr>
          <p:cNvPr id="125" name=""/>
          <p:cNvSpPr/>
          <p:nvPr/>
        </p:nvSpPr>
        <p:spPr>
          <a:xfrm>
            <a:off x="2174760" y="16754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1</a:t>
            </a:r>
            <a:endParaRPr b="0" lang="en-US" sz="2400" spc="-1" strike="noStrike">
              <a:solidFill>
                <a:srgbClr val="000000"/>
              </a:solidFill>
              <a:latin typeface="Times New Roman"/>
            </a:endParaRPr>
          </a:p>
        </p:txBody>
      </p:sp>
      <p:sp>
        <p:nvSpPr>
          <p:cNvPr id="126" name=""/>
          <p:cNvSpPr/>
          <p:nvPr/>
        </p:nvSpPr>
        <p:spPr>
          <a:xfrm>
            <a:off x="2539800" y="312300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2</a:t>
            </a:r>
            <a:endParaRPr b="0" lang="en-US" sz="2400" spc="-1" strike="noStrike">
              <a:solidFill>
                <a:srgbClr val="000000"/>
              </a:solidFill>
              <a:latin typeface="Times New Roman"/>
            </a:endParaRPr>
          </a:p>
        </p:txBody>
      </p:sp>
      <p:sp>
        <p:nvSpPr>
          <p:cNvPr id="127" name=""/>
          <p:cNvSpPr/>
          <p:nvPr/>
        </p:nvSpPr>
        <p:spPr>
          <a:xfrm flipV="1">
            <a:off x="3200400" y="3047760"/>
            <a:ext cx="53352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0400" y="4114800"/>
            <a:ext cx="3049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2590920"/>
            <a:ext cx="762120" cy="12189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562720" y="3885840"/>
            <a:ext cx="6094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Execution System</a:t>
            </a:r>
            <a:endParaRPr b="1" lang="en-US" sz="3600" spc="-1" strike="noStrike">
              <a:solidFill>
                <a:srgbClr val="ffff66"/>
              </a:solidFill>
              <a:latin typeface="Arial"/>
            </a:endParaRPr>
          </a:p>
        </p:txBody>
      </p:sp>
      <p:grpSp>
        <p:nvGrpSpPr>
          <p:cNvPr id="132" name=""/>
          <p:cNvGrpSpPr/>
          <p:nvPr/>
        </p:nvGrpSpPr>
        <p:grpSpPr>
          <a:xfrm>
            <a:off x="6349320" y="1676520"/>
            <a:ext cx="1604160" cy="1371600"/>
            <a:chOff x="6349320" y="1676520"/>
            <a:chExt cx="1604160" cy="1371600"/>
          </a:xfrm>
        </p:grpSpPr>
        <p:sp>
          <p:nvSpPr>
            <p:cNvPr id="133" name=""/>
            <p:cNvSpPr/>
            <p:nvPr/>
          </p:nvSpPr>
          <p:spPr>
            <a:xfrm>
              <a:off x="6399000" y="16765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49320" y="18270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5" name=""/>
          <p:cNvGrpSpPr/>
          <p:nvPr/>
        </p:nvGrpSpPr>
        <p:grpSpPr>
          <a:xfrm>
            <a:off x="5968440" y="1905120"/>
            <a:ext cx="1604160" cy="1371600"/>
            <a:chOff x="5968440" y="1905120"/>
            <a:chExt cx="1604160" cy="1371600"/>
          </a:xfrm>
        </p:grpSpPr>
        <p:sp>
          <p:nvSpPr>
            <p:cNvPr id="136" name=""/>
            <p:cNvSpPr/>
            <p:nvPr/>
          </p:nvSpPr>
          <p:spPr>
            <a:xfrm>
              <a:off x="6018120" y="19051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68440" y="20556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8" name=""/>
          <p:cNvGrpSpPr/>
          <p:nvPr/>
        </p:nvGrpSpPr>
        <p:grpSpPr>
          <a:xfrm>
            <a:off x="5663520" y="2133720"/>
            <a:ext cx="1604160" cy="1371600"/>
            <a:chOff x="5663520" y="2133720"/>
            <a:chExt cx="1604160" cy="1371600"/>
          </a:xfrm>
        </p:grpSpPr>
        <p:sp>
          <p:nvSpPr>
            <p:cNvPr id="139" name=""/>
            <p:cNvSpPr/>
            <p:nvPr/>
          </p:nvSpPr>
          <p:spPr>
            <a:xfrm>
              <a:off x="5713200" y="21337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63520" y="22842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41" name=""/>
          <p:cNvGrpSpPr/>
          <p:nvPr/>
        </p:nvGrpSpPr>
        <p:grpSpPr>
          <a:xfrm>
            <a:off x="5358960" y="2438280"/>
            <a:ext cx="1604160" cy="1371600"/>
            <a:chOff x="5358960" y="2438280"/>
            <a:chExt cx="1604160" cy="1371600"/>
          </a:xfrm>
        </p:grpSpPr>
        <p:sp>
          <p:nvSpPr>
            <p:cNvPr id="142" name=""/>
            <p:cNvSpPr/>
            <p:nvPr/>
          </p:nvSpPr>
          <p:spPr>
            <a:xfrm>
              <a:off x="5408280" y="24382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5896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44" name=""/>
          <p:cNvSpPr/>
          <p:nvPr/>
        </p:nvSpPr>
        <p:spPr>
          <a:xfrm>
            <a:off x="3506040" y="1904040"/>
            <a:ext cx="1697040" cy="155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RunQ”</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il</a:t>
            </a:r>
            <a:endParaRPr b="0" lang="en-US" sz="3200" spc="-1" strike="noStrike">
              <a:solidFill>
                <a:srgbClr val="000000"/>
              </a:solidFill>
              <a:latin typeface="Times New Roman"/>
            </a:endParaRPr>
          </a:p>
        </p:txBody>
      </p:sp>
      <p:sp>
        <p:nvSpPr>
          <p:cNvPr id="145" name=""/>
          <p:cNvSpPr/>
          <p:nvPr/>
        </p:nvSpPr>
        <p:spPr>
          <a:xfrm>
            <a:off x="4722840" y="2666880"/>
            <a:ext cx="6858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646520" y="1676520"/>
            <a:ext cx="1752840" cy="1371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29400" y="3199320"/>
            <a:ext cx="1656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oritized</a:t>
            </a:r>
            <a:endParaRPr b="0" lang="en-US" sz="2400" spc="-1" strike="noStrike">
              <a:solidFill>
                <a:srgbClr val="000000"/>
              </a:solidFill>
              <a:latin typeface="Times New Roman"/>
            </a:endParaRPr>
          </a:p>
        </p:txBody>
      </p:sp>
      <p:sp>
        <p:nvSpPr>
          <p:cNvPr id="148" name=""/>
          <p:cNvSpPr/>
          <p:nvPr/>
        </p:nvSpPr>
        <p:spPr>
          <a:xfrm flipH="1">
            <a:off x="7999200" y="2666880"/>
            <a:ext cx="53316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313760" y="3657600"/>
            <a:ext cx="30456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9160" y="1904040"/>
            <a:ext cx="2192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curElem”</a:t>
            </a:r>
            <a:endParaRPr b="0" lang="en-US" sz="3200" spc="-1" strike="noStrike">
              <a:solidFill>
                <a:srgbClr val="000000"/>
              </a:solidFill>
              <a:latin typeface="Times New Roman"/>
            </a:endParaRPr>
          </a:p>
        </p:txBody>
      </p:sp>
      <p:grpSp>
        <p:nvGrpSpPr>
          <p:cNvPr id="151" name=""/>
          <p:cNvGrpSpPr/>
          <p:nvPr/>
        </p:nvGrpSpPr>
        <p:grpSpPr>
          <a:xfrm>
            <a:off x="862920" y="2438280"/>
            <a:ext cx="1604160" cy="1371600"/>
            <a:chOff x="862920" y="2438280"/>
            <a:chExt cx="1604160" cy="1371600"/>
          </a:xfrm>
        </p:grpSpPr>
        <p:sp>
          <p:nvSpPr>
            <p:cNvPr id="152" name=""/>
            <p:cNvSpPr/>
            <p:nvPr/>
          </p:nvSpPr>
          <p:spPr>
            <a:xfrm>
              <a:off x="912600" y="24382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6292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54" name=""/>
          <p:cNvSpPr/>
          <p:nvPr/>
        </p:nvSpPr>
        <p:spPr>
          <a:xfrm>
            <a:off x="3884760" y="4495680"/>
            <a:ext cx="24382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75200" y="464724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data space</a:t>
            </a:r>
            <a:endParaRPr b="0" lang="en-US" sz="2400" spc="-1" strike="noStrike">
              <a:solidFill>
                <a:srgbClr val="000000"/>
              </a:solidFill>
              <a:latin typeface="Times New Roman"/>
            </a:endParaRPr>
          </a:p>
        </p:txBody>
      </p:sp>
      <p:sp>
        <p:nvSpPr>
          <p:cNvPr id="156" name=""/>
          <p:cNvSpPr/>
          <p:nvPr/>
        </p:nvSpPr>
        <p:spPr>
          <a:xfrm>
            <a:off x="988920" y="4495680"/>
            <a:ext cx="24386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92920" y="449460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code </a:t>
            </a:r>
            <a:endParaRPr b="0" lang="en-US" sz="2400" spc="-1" strike="noStrike">
              <a:solidFill>
                <a:srgbClr val="000000"/>
              </a:solidFill>
              <a:latin typeface="Times New Roman"/>
            </a:endParaRPr>
          </a:p>
        </p:txBody>
      </p:sp>
      <p:sp>
        <p:nvSpPr>
          <p:cNvPr id="158" name=""/>
          <p:cNvSpPr/>
          <p:nvPr/>
        </p:nvSpPr>
        <p:spPr>
          <a:xfrm>
            <a:off x="2559240" y="3550680"/>
            <a:ext cx="296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ds register)</a:t>
            </a:r>
            <a:endParaRPr b="0" lang="en-US" sz="2800" spc="-1" strike="noStrike">
              <a:solidFill>
                <a:srgbClr val="000000"/>
              </a:solidFill>
              <a:latin typeface="Times New Roman"/>
            </a:endParaRPr>
          </a:p>
        </p:txBody>
      </p:sp>
      <p:sp>
        <p:nvSpPr>
          <p:cNvPr id="159" name=""/>
          <p:cNvSpPr/>
          <p:nvPr/>
        </p:nvSpPr>
        <p:spPr>
          <a:xfrm>
            <a:off x="1979640" y="3200400"/>
            <a:ext cx="91440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27560" y="3886200"/>
            <a:ext cx="129528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1293480" y="3581280"/>
            <a:ext cx="609480" cy="1828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61360" y="4951080"/>
            <a:ext cx="1363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ec() is a Loop</a:t>
            </a:r>
            <a:endParaRPr b="1" lang="en-US" sz="3600" spc="-1" strike="noStrike">
              <a:solidFill>
                <a:srgbClr val="ffff66"/>
              </a:solidFill>
              <a:latin typeface="Arial"/>
            </a:endParaRPr>
          </a:p>
        </p:txBody>
      </p:sp>
      <p:sp>
        <p:nvSpPr>
          <p:cNvPr id="164" name=""/>
          <p:cNvSpPr/>
          <p:nvPr/>
        </p:nvSpPr>
        <p:spPr>
          <a:xfrm>
            <a:off x="1681920" y="2269080"/>
            <a:ext cx="5278680" cy="3080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Dequeue(runQ)</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 curElem 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 = call curElem P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urElem PC = 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Enqueue(runQ, curEl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NULL</a:t>
            </a:r>
            <a:endParaRPr b="0" lang="en-US" sz="2800" spc="-1" strike="noStrike">
              <a:solidFill>
                <a:srgbClr val="000000"/>
              </a:solidFill>
              <a:latin typeface="Times New Roman"/>
            </a:endParaRPr>
          </a:p>
        </p:txBody>
      </p:sp>
      <p:sp>
        <p:nvSpPr>
          <p:cNvPr id="165" name=""/>
          <p:cNvSpPr/>
          <p:nvPr/>
        </p:nvSpPr>
        <p:spPr>
          <a:xfrm>
            <a:off x="609480" y="1676520"/>
            <a:ext cx="7162920" cy="464796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772400" y="388584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038120" y="16765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480" y="380988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6324480"/>
            <a:ext cx="533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6553080" y="228600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 name=""/>
          <p:cNvSpPr/>
          <p:nvPr/>
        </p:nvSpPr>
        <p:spPr>
          <a:xfrm flipH="1">
            <a:off x="1752480" y="220968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057400" y="5867280"/>
            <a:ext cx="15228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flipV="1">
            <a:off x="6629400" y="5562360"/>
            <a:ext cx="22860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994440" y="1844640"/>
            <a:ext cx="184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83400" y="1721880"/>
            <a:ext cx="24606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leeps on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multi-threa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r if in .dll entry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top VI not finished</a:t>
            </a:r>
            <a:endParaRPr b="0" lang="en-US" sz="1600" spc="-1" strike="noStrike">
              <a:solidFill>
                <a:srgbClr val="000000"/>
              </a:solidFill>
              <a:latin typeface="Times New Roman"/>
            </a:endParaRPr>
          </a:p>
        </p:txBody>
      </p:sp>
      <p:sp>
        <p:nvSpPr>
          <p:cNvPr id="176" name=""/>
          <p:cNvSpPr/>
          <p:nvPr/>
        </p:nvSpPr>
        <p:spPr>
          <a:xfrm flipH="1">
            <a:off x="6400800" y="1920960"/>
            <a:ext cx="380880" cy="5331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5106600"/>
            <a:ext cx="21812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ly retur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in UI th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top level)</a:t>
            </a:r>
            <a:endParaRPr b="0" lang="en-US" sz="1600" spc="-1" strike="noStrike">
              <a:solidFill>
                <a:srgbClr val="000000"/>
              </a:solidFill>
              <a:latin typeface="Times New Roman"/>
            </a:endParaRPr>
          </a:p>
        </p:txBody>
      </p:sp>
      <p:sp>
        <p:nvSpPr>
          <p:cNvPr id="178" name=""/>
          <p:cNvSpPr/>
          <p:nvPr/>
        </p:nvSpPr>
        <p:spPr>
          <a:xfrm flipV="1">
            <a:off x="1600200" y="5654160"/>
            <a:ext cx="10666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0120" y="4312800"/>
            <a:ext cx="1523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r>
              <a:rPr b="1" lang="en-US" sz="1600" spc="-1" strike="noStrike">
                <a:solidFill>
                  <a:srgbClr val="ffff00"/>
                </a:solidFill>
                <a:latin typeface="Arial"/>
              </a:rPr>
              <a:t>rotates” the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 multi-tasking</a:t>
            </a:r>
            <a:endParaRPr b="0" lang="en-US" sz="1600" spc="-1" strike="noStrike">
              <a:solidFill>
                <a:srgbClr val="000000"/>
              </a:solidFill>
              <a:latin typeface="Times New Roman"/>
            </a:endParaRPr>
          </a:p>
        </p:txBody>
      </p:sp>
      <p:sp>
        <p:nvSpPr>
          <p:cNvPr id="180" name=""/>
          <p:cNvSpPr/>
          <p:nvPr/>
        </p:nvSpPr>
        <p:spPr>
          <a:xfrm flipH="1">
            <a:off x="7238880" y="4495680"/>
            <a:ext cx="53352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ngle Threaded LabVIEW</a:t>
            </a:r>
            <a:endParaRPr b="1" lang="en-US" sz="3600" spc="-1" strike="noStrike">
              <a:solidFill>
                <a:srgbClr val="ffff66"/>
              </a:solidFill>
              <a:latin typeface="Arial"/>
            </a:endParaRPr>
          </a:p>
        </p:txBody>
      </p:sp>
      <p:sp>
        <p:nvSpPr>
          <p:cNvPr id="182" name=""/>
          <p:cNvSpPr/>
          <p:nvPr/>
        </p:nvSpPr>
        <p:spPr>
          <a:xfrm>
            <a:off x="914400" y="1981080"/>
            <a:ext cx="7543800" cy="35053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2666880"/>
            <a:ext cx="3200400" cy="221004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666880"/>
            <a:ext cx="2057400" cy="2057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43400" y="3657600"/>
            <a:ext cx="1752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3360" y="1828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uter</a:t>
            </a:r>
            <a:endParaRPr b="0" lang="en-US" sz="2800" spc="-1" strike="noStrike">
              <a:solidFill>
                <a:srgbClr val="000000"/>
              </a:solidFill>
              <a:latin typeface="Times New Roman"/>
            </a:endParaRPr>
          </a:p>
        </p:txBody>
      </p:sp>
      <p:sp>
        <p:nvSpPr>
          <p:cNvPr id="188" name=""/>
          <p:cNvSpPr/>
          <p:nvPr/>
        </p:nvSpPr>
        <p:spPr>
          <a:xfrm>
            <a:off x="4073760" y="198036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ead</a:t>
            </a:r>
            <a:endParaRPr b="0" lang="en-US" sz="2800" spc="-1" strike="noStrike">
              <a:solidFill>
                <a:srgbClr val="000000"/>
              </a:solidFill>
              <a:latin typeface="Times New Roman"/>
            </a:endParaRPr>
          </a:p>
        </p:txBody>
      </p:sp>
      <p:sp>
        <p:nvSpPr>
          <p:cNvPr id="189" name=""/>
          <p:cNvSpPr/>
          <p:nvPr/>
        </p:nvSpPr>
        <p:spPr>
          <a:xfrm>
            <a:off x="1351800" y="3396960"/>
            <a:ext cx="25552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r interfa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op</a:t>
            </a:r>
            <a:endParaRPr b="0" lang="en-US" sz="2800" spc="-1" strike="noStrike">
              <a:solidFill>
                <a:srgbClr val="000000"/>
              </a:solidFill>
              <a:latin typeface="Times New Roman"/>
            </a:endParaRPr>
          </a:p>
        </p:txBody>
      </p:sp>
      <p:sp>
        <p:nvSpPr>
          <p:cNvPr id="190" name=""/>
          <p:cNvSpPr/>
          <p:nvPr/>
        </p:nvSpPr>
        <p:spPr>
          <a:xfrm>
            <a:off x="6347520" y="341244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 )</a:t>
            </a:r>
            <a:endParaRPr b="0" lang="en-US" sz="2800" spc="-1" strike="noStrike">
              <a:solidFill>
                <a:srgbClr val="000000"/>
              </a:solidFill>
              <a:latin typeface="Times New Roman"/>
            </a:endParaRPr>
          </a:p>
        </p:txBody>
      </p:sp>
      <p:sp>
        <p:nvSpPr>
          <p:cNvPr id="191" name=""/>
          <p:cNvSpPr/>
          <p:nvPr/>
        </p:nvSpPr>
        <p:spPr>
          <a:xfrm>
            <a:off x="4093560" y="3017160"/>
            <a:ext cx="2174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routines</a:t>
            </a:r>
            <a:endParaRPr b="0" lang="en-US" sz="2800" spc="-1" strike="noStrike">
              <a:solidFill>
                <a:srgbClr val="000000"/>
              </a:solidFill>
              <a:latin typeface="Times New Roman"/>
            </a:endParaRPr>
          </a:p>
        </p:txBody>
      </p:sp>
      <p:sp>
        <p:nvSpPr>
          <p:cNvPr id="192" name=""/>
          <p:cNvSpPr/>
          <p:nvPr/>
        </p:nvSpPr>
        <p:spPr>
          <a:xfrm flipV="1">
            <a:off x="8153280" y="3657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009920" y="266688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58128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2920" y="472428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343400" y="3733560"/>
            <a:ext cx="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143000" y="365760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666880" y="266688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66880" y="487692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ulti-Threaded LabVIEW</a:t>
            </a:r>
            <a:endParaRPr b="1" lang="en-US" sz="3600" spc="-1" strike="noStrike">
              <a:solidFill>
                <a:srgbClr val="ffff66"/>
              </a:solidFill>
              <a:latin typeface="Arial"/>
            </a:endParaRPr>
          </a:p>
        </p:txBody>
      </p:sp>
      <p:grpSp>
        <p:nvGrpSpPr>
          <p:cNvPr id="201" name=""/>
          <p:cNvGrpSpPr/>
          <p:nvPr/>
        </p:nvGrpSpPr>
        <p:grpSpPr>
          <a:xfrm>
            <a:off x="5105520" y="1905120"/>
            <a:ext cx="1904760" cy="2057400"/>
            <a:chOff x="5105520" y="1905120"/>
            <a:chExt cx="1904760" cy="2057400"/>
          </a:xfrm>
        </p:grpSpPr>
        <p:sp>
          <p:nvSpPr>
            <p:cNvPr id="202"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05"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10"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02160" y="18579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212" name=""/>
          <p:cNvSpPr/>
          <p:nvPr/>
        </p:nvSpPr>
        <p:spPr>
          <a:xfrm>
            <a:off x="914400" y="2362320"/>
            <a:ext cx="3276720" cy="236196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19320" y="2819520"/>
            <a:ext cx="2666880" cy="17524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04040" y="3122280"/>
            <a:ext cx="24879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I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15"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16" name=""/>
          <p:cNvSpPr/>
          <p:nvPr/>
        </p:nvSpPr>
        <p:spPr>
          <a:xfrm>
            <a:off x="1828800" y="342900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4648320" y="3505320"/>
            <a:ext cx="1904760" cy="2057400"/>
            <a:chOff x="4648320" y="3505320"/>
            <a:chExt cx="1904760" cy="2057400"/>
          </a:xfrm>
        </p:grpSpPr>
        <p:sp>
          <p:nvSpPr>
            <p:cNvPr id="218"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21"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26" name=""/>
          <p:cNvGrpSpPr/>
          <p:nvPr/>
        </p:nvGrpSpPr>
        <p:grpSpPr>
          <a:xfrm>
            <a:off x="6095880" y="3276720"/>
            <a:ext cx="1904760" cy="2057400"/>
            <a:chOff x="6095880" y="3276720"/>
            <a:chExt cx="1904760" cy="2057400"/>
          </a:xfrm>
        </p:grpSpPr>
        <p:sp>
          <p:nvSpPr>
            <p:cNvPr id="227"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0"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35" name=""/>
          <p:cNvGrpSpPr/>
          <p:nvPr/>
        </p:nvGrpSpPr>
        <p:grpSpPr>
          <a:xfrm>
            <a:off x="6629400" y="1905120"/>
            <a:ext cx="1904760" cy="2057400"/>
            <a:chOff x="6629400" y="1905120"/>
            <a:chExt cx="1904760" cy="2057400"/>
          </a:xfrm>
        </p:grpSpPr>
        <p:sp>
          <p:nvSpPr>
            <p:cNvPr id="236"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9"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44"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45" name=""/>
          <p:cNvSpPr/>
          <p:nvPr/>
        </p:nvSpPr>
        <p:spPr>
          <a:xfrm flipH="1">
            <a:off x="3809520" y="274320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3352320" y="464832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962520" y="2895480"/>
            <a:ext cx="26668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657240" y="4419720"/>
            <a:ext cx="24382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7T16:10:57Z</dcterms:created>
  <dc:creator>Scott Kovner</dc:creator>
  <dc:description/>
  <dc:language>en-US</dc:language>
  <cp:lastModifiedBy>David Steele</cp:lastModifiedBy>
  <cp:lastPrinted>2000-03-25T01:01:27Z</cp:lastPrinted>
  <dcterms:modified xsi:type="dcterms:W3CDTF">2000-07-13T18:01:02Z</dcterms:modified>
  <cp:revision>82</cp:revision>
  <dc:subject/>
  <dc:title>No Slide Title</dc:title>
</cp:coreProperties>
</file>