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derstanding COM/ActiveX</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C-</a:t>
            </a:r>
            <a:fld id="{729BB80E-C8B4-4E3A-80D7-0E12C7E89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 objects are well encapsulated. You never access COM objects directly, only via interfac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 act as a contract because they specify not only the names, parameters, and return types of the methods they contain, but also how the object behaves when the methods are called. They do not specify implementation details. The object is free to implement the interface however it chooses as long as the contract is fulf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 cannot be changed after they have been published, or released to the “public.” This immutable characteristic of interfaces makes it possible to update the implementation of a component or allow an alternate provider to introduce another implementation of the compon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for in-memory layout of interfaces allows for compiler and language neutr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nterfaces are syntactically and semantically immutable contracts means they can be updated without recompiling and without (generally) breaking existing code. Clients link against an interface definition, not an object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 help with versioning because the new functionality of an updated version of a component can be placed in a new interface. Newer clients can query the object for the newer interface. If the newer interface is not present, the client simply works with the older interfa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yInterface returns a specific error value if the requested interface is not supported by the object. With this mechanism, allows a client can query an object at run-time about its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RESULT is a 32-bit type defined by COM to hold error codes. A REFIID is a reference to an IID or Interface ID. An IID is an example of a Globally Unique Identifier (GUID) which is a 128-bit value. GUIDs are generated by a utility (guidgen) which uses the current data/time as well as the unique network card identifier to come up with an ID that is guaranteed to be unique from all other generated GU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lients can share access to a single object. Having any one of the clients delete the object before the others are finished would be problematic. Along with memory management concerns, this is why objects are responsible for deleting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 run-time uses this registration information to determine what DLL/EXE to load when a client creates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LL and executable servers know how to register themselves. Register DLLs by calling regsvr32 utility. Register EXEs by running them with a command line switch /reg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 ugly string is the text representation of the CLSID. The CLSID is a GUID and uniquely identifies an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AnimalLib.GuardDog” to identify the object and it is called the ProgI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interfaces are also called “source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ent typically supplies the event interface pointer to the server through a method in one of the server’s regular interfac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rs of scripting clients cannot possibly know the prototypes of all the interface functions that will be called in scripts at the time when the scripting client application is written. The developers do however know the prototype of the Invoke function and know how to call it. With this mechanism, scripting clients can indirectly call functions with varying prototypes when running 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ispatch interface is one of the most commonly used mechanisms for accessing the functionality of a COM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oke mechanism involves a performance penalty due to the packing and unpacking of parameters when making function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on types are generally the same as Visual Basic types. This can make using IDispatch interfaces less than ideal from other languages, including C/C++. Some environments include support for varying levels of automatic data type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dispatch interfaces do not have these data type restric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the document object example, Excel is listed in the task li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X technologies often define a type of object by specifying a group of interfaces with which it must work. These are called standard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beginning, Microsoft released OLE 1.0 which dealt specifically with embedded and linked objects. They later realized that these “compound document objects” were just a particular case of component software. In OLE 2.0, they provided a major infrastructure that would serve as the basis for “compound document objects” as well as many other technologies. These new technologies grew beyond the scope of “object linking and embedding”. Over time, the general infrastructure became known as COM and the set of technologies built on this infrastructure became known as ActiveX.</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ponents are object based, meaning that program development tends to work from a set of available objects and the operations supported by thos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software means components that are all part of the same application can reside on different machines that are connected by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transparency means that the client does not do anything differently based on the type of server or where the server is located. In COM, the server can be a dynamic link library (DLL) that is loaded in the same process, an executable that runs in a separate process on the same machine, or a separate process that runs on another machine across a net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allocation that occurs in a DLL is tracked separately from allocation that occurs in an executable that uses the DLL. This causes problems when memory is allocated in one module and released in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linking is the most common mechanism for accessing DLLs, but is not sufficient for component software. Calling GetProcAddress for every function you want to call and making all calls thru function pointers can be a hindrance. This is further complicated by the fact that C++ name decoration is not standard across compi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resources at the end for more detailed explanations of shortcomings of C++ and DLLs and how addressing these issues results in something very similar to CO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ary and network standard provides a mechanism for components to communicate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 has a run-time that must be implemented on any operating system that will host clients or servers. If the run-time is available, your client can access remote components running on another operat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 run-time provides services such as looking up registration information for servers, loading/launching servers, creating objects, and making calls across thread, process, and network boundaries. COM servers can reside in separate thread, process or even machine from the client program. As a result, function calls may involve passing parameters and return values from one address space to another and back again. This process is called “marsha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ion of the run-time system that handles accessing components across machine boundaries is called the distributed component object model, or DCO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 server is activated when the COM run-time loads the DLL or launches the executable that implements the object requested by the cli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Understanding COM/ActiveX</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14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ff Pault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ff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 Objects</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s view objects as black box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s communicate with objects only through interfa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s can handle more than one interface</a:t>
            </a:r>
            <a:endParaRPr b="0" lang="en-US" sz="2800" spc="-1" strike="noStrike">
              <a:solidFill>
                <a:srgbClr val="ffffff"/>
              </a:solidFill>
              <a:latin typeface="Arial"/>
            </a:endParaRPr>
          </a:p>
        </p:txBody>
      </p:sp>
      <p:sp>
        <p:nvSpPr>
          <p:cNvPr id="131" name=""/>
          <p:cNvSpPr/>
          <p:nvPr/>
        </p:nvSpPr>
        <p:spPr>
          <a:xfrm>
            <a:off x="3581280" y="4191120"/>
            <a:ext cx="266724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19720" y="4800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133" name=""/>
          <p:cNvSpPr/>
          <p:nvPr/>
        </p:nvSpPr>
        <p:spPr>
          <a:xfrm flipH="1">
            <a:off x="3047760" y="5048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19520" y="49338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371600" y="4819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2</a:t>
            </a:r>
            <a:endParaRPr b="0" lang="en-US" sz="2400" spc="-1" strike="noStrike">
              <a:solidFill>
                <a:srgbClr val="000000"/>
              </a:solidFill>
              <a:latin typeface="Times New Roman"/>
            </a:endParaRPr>
          </a:p>
        </p:txBody>
      </p:sp>
      <p:sp>
        <p:nvSpPr>
          <p:cNvPr id="136" name=""/>
          <p:cNvSpPr/>
          <p:nvPr/>
        </p:nvSpPr>
        <p:spPr>
          <a:xfrm flipH="1">
            <a:off x="3047760" y="45720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9520" y="445284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71600" y="430524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1</a:t>
            </a:r>
            <a:endParaRPr b="0" lang="en-US" sz="2400" spc="-1" strike="noStrike">
              <a:solidFill>
                <a:srgbClr val="000000"/>
              </a:solidFill>
              <a:latin typeface="Times New Roman"/>
            </a:endParaRPr>
          </a:p>
        </p:txBody>
      </p:sp>
      <p:sp>
        <p:nvSpPr>
          <p:cNvPr id="139" name=""/>
          <p:cNvSpPr/>
          <p:nvPr/>
        </p:nvSpPr>
        <p:spPr>
          <a:xfrm flipH="1">
            <a:off x="3047760" y="55245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19520" y="54100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371600" y="529596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 Interfaces</a:t>
            </a:r>
            <a:endParaRPr b="1" lang="en-US" sz="3600" spc="-1" strike="noStrike">
              <a:solidFill>
                <a:srgbClr val="ffff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of related metho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table contra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s not describ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ember data (functions only)</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defines a standard for in-memory layout of interfa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face Benefits</a:t>
            </a:r>
            <a:endParaRPr b="1" lang="en-US" sz="3600" spc="-1" strike="noStrike">
              <a:solidFill>
                <a:srgbClr val="ffff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iler neutr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neutr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implementations can change without affecting cli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never need to be recompil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Interfaces</a:t>
            </a:r>
            <a:endParaRPr b="1" lang="en-US" sz="3600" spc="-1" strike="noStrike">
              <a:solidFill>
                <a:srgbClr val="ffff66"/>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nim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ee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k</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og : IAnim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tch</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seCat</a:t>
            </a:r>
            <a:endParaRPr b="0" lang="en-US" sz="2000" spc="-1" strike="noStrike">
              <a:solidFill>
                <a:srgbClr val="ffffff"/>
              </a:solidFill>
              <a:latin typeface="Arial"/>
            </a:endParaRPr>
          </a:p>
        </p:txBody>
      </p:sp>
      <p:sp>
        <p:nvSpPr>
          <p:cNvPr id="148"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uar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Alarm</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ackBadGu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Object</a:t>
            </a:r>
            <a:endParaRPr b="1" lang="en-US" sz="3600" spc="-1" strike="noStrike">
              <a:solidFill>
                <a:srgbClr val="ffff66"/>
              </a:solidFill>
              <a:latin typeface="Arial"/>
            </a:endParaRPr>
          </a:p>
        </p:txBody>
      </p:sp>
      <p:sp>
        <p:nvSpPr>
          <p:cNvPr id="150" name=""/>
          <p:cNvSpPr/>
          <p:nvPr/>
        </p:nvSpPr>
        <p:spPr>
          <a:xfrm>
            <a:off x="3886200" y="2590920"/>
            <a:ext cx="28954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038480" y="31240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rd Dog Object</a:t>
            </a:r>
            <a:endParaRPr b="0" lang="en-US" sz="2400" spc="-1" strike="noStrike">
              <a:solidFill>
                <a:srgbClr val="000000"/>
              </a:solidFill>
              <a:latin typeface="Times New Roman"/>
            </a:endParaRPr>
          </a:p>
        </p:txBody>
      </p:sp>
      <p:sp>
        <p:nvSpPr>
          <p:cNvPr id="152" name=""/>
          <p:cNvSpPr/>
          <p:nvPr/>
        </p:nvSpPr>
        <p:spPr>
          <a:xfrm flipH="1">
            <a:off x="3352680" y="3181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124080" y="3067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676520" y="29527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nimal</a:t>
            </a:r>
            <a:endParaRPr b="0" lang="en-US" sz="2400" spc="-1" strike="noStrike">
              <a:solidFill>
                <a:srgbClr val="000000"/>
              </a:solidFill>
              <a:latin typeface="Times New Roman"/>
            </a:endParaRPr>
          </a:p>
        </p:txBody>
      </p:sp>
      <p:sp>
        <p:nvSpPr>
          <p:cNvPr id="155" name=""/>
          <p:cNvSpPr/>
          <p:nvPr/>
        </p:nvSpPr>
        <p:spPr>
          <a:xfrm flipH="1">
            <a:off x="3352680" y="3657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24080" y="35434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76520" y="3429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og</a:t>
            </a:r>
            <a:endParaRPr b="0" lang="en-US" sz="2400" spc="-1" strike="noStrike">
              <a:solidFill>
                <a:srgbClr val="000000"/>
              </a:solidFill>
              <a:latin typeface="Times New Roman"/>
            </a:endParaRPr>
          </a:p>
        </p:txBody>
      </p:sp>
      <p:sp>
        <p:nvSpPr>
          <p:cNvPr id="158" name=""/>
          <p:cNvSpPr/>
          <p:nvPr/>
        </p:nvSpPr>
        <p:spPr>
          <a:xfrm flipH="1">
            <a:off x="3352680" y="4191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24080" y="407664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76520" y="392436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u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Unknown Interface</a:t>
            </a:r>
            <a:endParaRPr b="1" lang="en-US" sz="3600" spc="-1" strike="noStrike">
              <a:solidFill>
                <a:srgbClr val="ffff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COM interface inherits from IUnknow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Unknown includes functionality needed by every obje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a mechanism for clients to obtain one interface from another interf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object lifetime manan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Unknown Interface</a:t>
            </a:r>
            <a:endParaRPr b="1" lang="en-US" sz="3600" spc="-1" strike="noStrike">
              <a:solidFill>
                <a:srgbClr val="ffff66"/>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sm to get from one interface on an object to another interface on the object</a:t>
            </a:r>
            <a:endParaRPr b="0" lang="en-US" sz="2400" spc="-1" strike="noStrike">
              <a:solidFill>
                <a:srgbClr val="ffffff"/>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HRESULT QueryInterface (REFIID riid, void **ppvObject);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sm to manage object lifetimes</a:t>
            </a:r>
            <a:endParaRPr b="0" lang="en-US" sz="24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do not delete COM objects directly</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 objects are responsible for deleting themselves</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 objects are reference counted</a:t>
            </a:r>
            <a:endParaRPr b="0" lang="en-US" sz="20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ULONG AddRef ( );</a:t>
            </a:r>
            <a:r>
              <a:rPr b="0" lang="en-US" sz="1800" spc="-1" strike="noStrike">
                <a:solidFill>
                  <a:srgbClr val="ffffff"/>
                </a:solidFill>
                <a:latin typeface="Arial Unicode MS"/>
              </a:rPr>
              <a:t> </a:t>
            </a:r>
            <a:endParaRPr b="0" lang="en-US" sz="18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en-US" sz="2000" spc="-1" strike="noStrike">
                <a:solidFill>
                  <a:srgbClr val="ffffff"/>
                </a:solidFill>
                <a:latin typeface="Arial Unicode MS"/>
              </a:rPr>
              <a:t>ULONG Release ( );</a:t>
            </a:r>
            <a:r>
              <a:rPr b="0" lang="en-US" sz="2400" spc="-1" strike="noStrike">
                <a:solidFill>
                  <a:srgbClr val="ffffff"/>
                </a:solidFill>
                <a:latin typeface="Arial Unicode MS"/>
              </a:rPr>
              <a:t> </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gistration of Servers</a:t>
            </a:r>
            <a:endParaRPr b="1" lang="en-US" sz="3600" spc="-1" strike="noStrike">
              <a:solidFill>
                <a:srgbClr val="ffff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rs are registered with the system</a:t>
            </a:r>
            <a:endParaRPr b="0" lang="en-US" sz="32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HKEY_CLASSES_ROOT</a:t>
            </a:r>
            <a:r>
              <a:rPr b="0" lang="en-US" sz="1800" spc="-1" strike="noStrike">
                <a:solidFill>
                  <a:srgbClr val="ffffff"/>
                </a:solidFill>
                <a:latin typeface="Arial Unicode MS"/>
              </a:rPr>
              <a:t> </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	</a:t>
            </a:r>
            <a:r>
              <a:rPr b="0" lang="en-US" sz="2000" spc="-1" strike="noStrike">
                <a:solidFill>
                  <a:srgbClr val="ffffff"/>
                </a:solidFill>
                <a:latin typeface="Arial Unicode MS"/>
              </a:rPr>
              <a:t>CLSID</a:t>
            </a:r>
            <a:r>
              <a:rPr b="0" lang="en-US" sz="1800" spc="-1" strike="noStrike">
                <a:solidFill>
                  <a:srgbClr val="ffffff"/>
                </a:solidFill>
                <a:latin typeface="Arial Unicode MS"/>
              </a:rPr>
              <a:t> </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E312522E-A7B7-11D1-A52E-0000F8751BA7}</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Default = “Guard Dog Object” </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InprocServer32 = "D:\Examples\AnimalLib\AnimalLib.dll" </a:t>
            </a:r>
            <a:endParaRPr b="0" lang="en-US" sz="1800" spc="-1" strike="noStrike">
              <a:solidFill>
                <a:srgbClr val="ffffff"/>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AnimalLib.GuardDog</a:t>
            </a:r>
            <a:endParaRPr b="0" lang="en-US" sz="20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1800" spc="-1" strike="noStrike">
                <a:solidFill>
                  <a:srgbClr val="ffffff"/>
                </a:solidFill>
                <a:latin typeface="Arial Unicode MS"/>
              </a:rPr>
              <a:t>CLSID</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1800" spc="-1" strike="noStrike">
                <a:solidFill>
                  <a:srgbClr val="ffffff"/>
                </a:solidFill>
                <a:latin typeface="Arial Unicode MS"/>
              </a:rPr>
              <a:t>Default = “{E312522E-A7B7-11D1-A52E-0000F8751BA7}”</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vent Interfaces</a:t>
            </a:r>
            <a:endParaRPr b="1" lang="en-US" sz="36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ace provides communication from the server back to the cli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 defines an interface that it calls to notify the client that an event occurr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 supplies server with a pointer to the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s code is executed when the server calls methods in the event interf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Event Interface</a:t>
            </a:r>
            <a:endParaRPr b="1" lang="en-US" sz="3600" spc="-1" strike="noStrike">
              <a:solidFill>
                <a:srgbClr val="ffff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ogEv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Hung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ntAtten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ToGoOuts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ctive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use COM/Active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CO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ActiveX/COM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Dispatch Interface</a:t>
            </a:r>
            <a:endParaRPr b="1" lang="en-US" sz="3600" spc="-1" strike="noStrike">
              <a:solidFill>
                <a:srgbClr val="ffff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on servers must handle IDispatc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 controls must handle IDispatc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ispatch gives scripting clients access to COM objec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Off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Explor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versions of Visual Bas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Dispatch Interface</a:t>
            </a:r>
            <a:endParaRPr b="1" lang="en-US" sz="3600" spc="-1" strike="noStrike">
              <a:solidFill>
                <a:srgbClr val="ffff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ispatch::Invoke provides access to an entire interface through a single func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use the Invoke function to call all method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method by method I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 parameters in a single large structure</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ke understands only Automation typ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Yes</a:t>
            </a:r>
            <a:r>
              <a:rPr b="0" lang="en-US" sz="2000" spc="-1" strike="noStrike">
                <a:solidFill>
                  <a:srgbClr val="ffffff"/>
                </a:solidFill>
                <a:latin typeface="Arial"/>
              </a:rPr>
              <a:t>: int, double, enum, boolean, structur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Yes</a:t>
            </a:r>
            <a:r>
              <a:rPr b="0" lang="en-US" sz="2000" spc="-1" strike="noStrike">
                <a:solidFill>
                  <a:srgbClr val="ffffff"/>
                </a:solidFill>
                <a:latin typeface="Arial"/>
              </a:rPr>
              <a:t>: BSTR, SafeArray, Varia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a:t>
            </a:r>
            <a:r>
              <a:rPr b="0" lang="en-US" sz="2000" spc="-1" strike="noStrike">
                <a:solidFill>
                  <a:srgbClr val="ffffff"/>
                </a:solidFill>
                <a:latin typeface="Arial"/>
              </a:rPr>
              <a:t>: unions, C style arrays, C style string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ActiveX Programming</a:t>
            </a:r>
            <a:endParaRPr b="1" lang="en-US" sz="3600" spc="-1" strike="noStrike">
              <a:solidFill>
                <a:srgbClr val="ffff66"/>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environments provide some tools to make writing COM servers and clients easi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appers for accessing COM serv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zards to create skeleton servers or control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s to add interfaces, methods, propert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implementations of some standard interface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Studi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Basic, Visual C++, LabWindows/CVI  </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a:solidFill>
                  <a:srgbClr val="ffffff"/>
                </a:solidFill>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tiveX and NI Products</a:t>
            </a:r>
            <a:endParaRPr b="1" lang="en-US" sz="3600" spc="-1" strike="noStrike">
              <a:solidFill>
                <a:srgbClr val="ffff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Studio</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BridgeVIEW</a:t>
            </a:r>
            <a:r>
              <a:rPr b="0" lang="en-US"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on serv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Measurement Studio, HiQ</a:t>
            </a:r>
            <a:r>
              <a:rPr b="0" lang="en-US" sz="2000" spc="-1" strike="noStrike">
                <a:solidFill>
                  <a:srgbClr val="ffffff"/>
                </a:solidFill>
                <a:latin typeface="Arial"/>
                <a:ea typeface="Arial"/>
              </a:rPr>
              <a:t>™</a:t>
            </a:r>
            <a:r>
              <a:rPr b="0" lang="en-US" sz="2000" spc="-1" strike="noStrike">
                <a:solidFill>
                  <a:srgbClr val="ffffff"/>
                </a:solidFill>
                <a:latin typeface="Arial"/>
              </a:rPr>
              <a:t>, DataSocket</a:t>
            </a:r>
            <a:r>
              <a:rPr b="0" lang="en-US"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BridgeVIEW, Measurement Studio, TestStand</a:t>
            </a:r>
            <a:r>
              <a:rPr b="0" lang="en-US" sz="2000" spc="-1" strike="noStrike">
                <a:solidFill>
                  <a:srgbClr val="ffffff"/>
                </a:solidFill>
                <a:latin typeface="Arial"/>
                <a:ea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ActiveX Resources</a:t>
            </a:r>
            <a:endParaRPr b="1" lang="en-US" sz="3600" spc="-1" strike="noStrike">
              <a:solidFill>
                <a:srgbClr val="ffff66"/>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ssential CO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 Box (Addison-Wesley, 1998)</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side CO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le Rogerson (Microsoft Press, 1997)</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SDN Artic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Product 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ctiveX all about?</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ctiveX?</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me for technologies built on top of CO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E for process control (OP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w out of O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tivation for COM/ActiveX</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software development</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binary software componen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use components from various languag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components without recompiling or breaking existing clients</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based model</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software</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transpar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bout DLLs?</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ing conventions can va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LLs are not object based (Flat AP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ing can be difficul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concer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age iss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COM?</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object mod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and network stand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tim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across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transpare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 Servers</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DLLs or EX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objects for cli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ingle server can provide implementations for more than one obj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t of objects that a server provides and the relationships between them is referred to as an object hierarch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activated by the COM run-time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bject Hierarchy</a:t>
            </a:r>
            <a:endParaRPr b="1" lang="en-US" sz="3600" spc="-1" strike="noStrike">
              <a:solidFill>
                <a:srgbClr val="ffff66"/>
              </a:solidFill>
              <a:latin typeface="Arial"/>
            </a:endParaRPr>
          </a:p>
        </p:txBody>
      </p:sp>
      <p:sp>
        <p:nvSpPr>
          <p:cNvPr id="110" name=""/>
          <p:cNvSpPr/>
          <p:nvPr/>
        </p:nvSpPr>
        <p:spPr>
          <a:xfrm>
            <a:off x="2590920" y="2057400"/>
            <a:ext cx="144756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562720" y="2057400"/>
            <a:ext cx="144756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467480" y="2057400"/>
            <a:ext cx="14479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33720" y="3505320"/>
            <a:ext cx="99036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657600" y="3505320"/>
            <a:ext cx="990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867280" y="3505320"/>
            <a:ext cx="990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6720" y="4572000"/>
            <a:ext cx="609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038480" y="4572000"/>
            <a:ext cx="60984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00600" y="4572000"/>
            <a:ext cx="609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019920" y="4572000"/>
            <a:ext cx="609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352680" y="3048120"/>
            <a:ext cx="76212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2666880" y="3048120"/>
            <a:ext cx="60984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114800" y="4114800"/>
            <a:ext cx="22860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114800" y="4114800"/>
            <a:ext cx="99072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3581280" y="4114800"/>
            <a:ext cx="53352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4480" y="3048120"/>
            <a:ext cx="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324480" y="4114800"/>
            <a:ext cx="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04920" y="2133720"/>
            <a:ext cx="17524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 Level Objects (Creatable)</a:t>
            </a:r>
            <a:endParaRPr b="0" lang="en-US" sz="1800" spc="-1" strike="noStrike">
              <a:solidFill>
                <a:srgbClr val="000000"/>
              </a:solidFill>
              <a:latin typeface="Times New Roman"/>
            </a:endParaRPr>
          </a:p>
        </p:txBody>
      </p:sp>
      <p:sp>
        <p:nvSpPr>
          <p:cNvPr id="128" name=""/>
          <p:cNvSpPr/>
          <p:nvPr/>
        </p:nvSpPr>
        <p:spPr>
          <a:xfrm>
            <a:off x="152280" y="3962520"/>
            <a:ext cx="20574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r Level Objects       (Non-Crea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18:59:39Z</dcterms:created>
  <dc:creator>Jeff Pautler</dc:creator>
  <dc:description/>
  <dc:language>en-US</dc:language>
  <cp:lastModifiedBy>David Steele</cp:lastModifiedBy>
  <dcterms:modified xsi:type="dcterms:W3CDTF">2000-07-15T17:44:07Z</dcterms:modified>
  <cp:revision>554</cp:revision>
  <dc:subject/>
  <dc:title>Basic COM/ActiveX </dc:title>
</cp:coreProperties>
</file>