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Software Techniques: VISA for Instrument Control</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7D7DA229-72C2-48D5-B4A2-10A70734421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92280"/>
            <a:ext cx="4556160" cy="341604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A I/O control (also known as the VISA Resource Name control) is new to LabVIEW 6</a:t>
            </a:r>
            <a:r>
              <a:rPr b="0" i="1" lang="en-US" sz="1200" spc="-1" strike="noStrike">
                <a:solidFill>
                  <a:srgbClr val="000000"/>
                </a:solidFill>
                <a:latin typeface="Times New Roman"/>
              </a:rPr>
              <a:t>i</a:t>
            </a:r>
            <a:r>
              <a:rPr b="0" lang="en-US" sz="1200" spc="-1" strike="noStrike">
                <a:solidFill>
                  <a:srgbClr val="000000"/>
                </a:solidFill>
                <a:latin typeface="Times New Roman"/>
              </a:rPr>
              <a:t>. It replaces the old VISA refnum and makes it a more useful front panel control because it visually displays the VISA resource name or alias. The same control also allows users to select from a drop-down box listing all available VISA resources, thus making initialization easier for both novice and advanced users. The VISA I/O control is similar to the IVI Logical Name and DAQ Channel Name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iring the session control from one VI to another makes for a cleaner diagram, it is no longer required. LabVIEW now recognizes the VISA Resource Name embedded in the control and reuses an existing session to that resource when such a session already exists. If this is the first use of a given resource, LabVIEW automatically opens a session and stores it for future use in other VIs. This does not preclude the use of VISA Open, nor does it preclude advanced practices such as opening multiple sessions to a given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t is still a good idea to call VISA Close because it is better to explicitly release resources when you are done with them. However, if you omit this step, LabVIEW will call VISA Close for you automatically when LabVIEW exi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92280"/>
            <a:ext cx="4556160" cy="341604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ample code performs a simple query to a device at a given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iagram displays the minimal valid working diagram for this task for the respective version of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VISA Open and VISA Close are no longer required steps, the Easy VISA VIs no longer exist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92280"/>
            <a:ext cx="4556160" cy="341604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serial VIs are still handled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and they can be found in the I/O Compatibility palette. However, we recommend that you use the VISA icons instead, which are now displayed on the main Serial palette. Advanced functions that were available in some of the undocumented traditional serial VIs (such as querying or manipulating modem lines) can be accessed with the VISA property n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ncounter problems when converting your G code from the traditional serial VIs to VISA, please contact National Instrum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92280"/>
            <a:ext cx="4556160" cy="341604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amp; Automation Explorer (MAX) is the unified National Instruments configuratio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2.5 is configured through MAX. Viewing and configuring GPIB, PXI, Serial, Ethernet, or VXI controllers and instruments is easy. If you need help, enable the task list in the rightmost pane for assistance with common task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92280"/>
            <a:ext cx="4556160" cy="341604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XI and VME systems, the functionality of T&amp;M Explorer has been brought into MAX, and in many cases made easier. The address map view has been simplified and brought up to the top level for a VXI system. If you click on a VXI system on the left side, device addresses and a complete memory map view will be displayed on the right side. If you expand a VXI system tree on the left side, you will see how all chasses in the system are connected. Finally, local controller details are now configured similarly for all VXI controllers, including the GPIB-VX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erial systems, click on “Ports (Serial &amp; Parallel)” on the left side. All port names will be displayed on the right side, along with their system bindings and port setting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92280"/>
            <a:ext cx="4556160" cy="341604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Studio was introduced in February 2000. It comprises tools for ANSI C, Visual Basic, and Visual C++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products has a VISA interface for instrument control. While this part of this presentation focuses on the C++ API for VISA, National Instruments is committed to further developing the VISA interface for all Measurement Studio us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92280"/>
            <a:ext cx="4556160" cy="341604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efer writing your instrument control code in C++, you should use the VISA C++ classes in Measurement Studio. Anything you can do in NI-VISA with the C API, you should be able to do easier with the C++ A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our slides compare two common tasks that take half the variables and half the code to accomplish in 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92280"/>
            <a:ext cx="4556160" cy="341604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assing the search expression to the CNiVisaResourceList constructor, you don't need to worry about the VISA resource manager session. Iteration over the results is done on the object, not by making repeated driver calls to viFindNext(). And the object is closed automatically when it goes out of scope, such as at the end of th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LabVIEW users know they can do this with one icon and one indicato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92280"/>
            <a:ext cx="4556160" cy="341604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assing the VISA resource name to the CNiVisaSession constructor, you don't need to worry about the VISA resource manager session. I/O is simpler because the C++ types carry the size information with them. Again, the object is closed automatically when it goes out of scope at the end of the func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92280"/>
            <a:ext cx="4556160" cy="341604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nstrument driver is better than none. If you receive an instrument driver along with an instrument, you're almost always better off using the driver, regardless of how it was developed. Some drivers are written in LabVIEW, most are done in LabWindows/CVI, and a few are created in other environments – but LabVIEW can access them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nstrument drivers for GPIB, VXI, and Serial have been written with VISA over the last five years. Most IVI drivers being developed today use VISA for all of these interfaces. IVI drivers are more powerful than many traditional instrument drivers, but they all perform some of the same basic I/O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instrument vendor and you do not currently provide instrument drivers, contact National Instruments for information on the IVI foundation. Also see the IVI Web site at </a:t>
            </a:r>
            <a:r>
              <a:rPr b="1" lang="en-US" sz="1200" spc="-1" strike="noStrike">
                <a:solidFill>
                  <a:srgbClr val="000000"/>
                </a:solidFill>
                <a:latin typeface="Times New Roman"/>
              </a:rPr>
              <a:t>ivifoundation.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ownload drivers from the Instrument Driver Library on the National Instruments Developer Zone at http://zone.ni.com</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92280"/>
            <a:ext cx="4556160" cy="341604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ntrol instruments with LabVIEW, MAX, instrument drivers, or Measurement Studio, then you should download NI-VISA 2.5.</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VISA 2.5 runtime installer is available fre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92280"/>
            <a:ext cx="4556160" cy="341604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ISA provides an application programming interface (API) for many development environments such as Measurement Studio and LabVIEW. VISA presents a common foundation for the development, delivery, and interoperability of high-level multi-vendor system software components, such as instrument drivers and application software. VISA is a published standard that is used by VXIplug&amp;play and IVI instrument d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I-VISA, the National Instruments implementation of the VISA I/O standard, is a comprehensive package for configuring, programming and troubleshooting instrumentation systems. NI-VISA includes libraries, interactive utilities such as NI Spy</a:t>
            </a:r>
            <a:r>
              <a:rPr b="0" lang="en-US" sz="1200" spc="-1" strike="noStrike" baseline="30000">
                <a:solidFill>
                  <a:srgbClr val="000000"/>
                </a:solidFill>
                <a:latin typeface="Times New Roman"/>
                <a:ea typeface="Arial"/>
              </a:rPr>
              <a:t>™</a:t>
            </a:r>
            <a:r>
              <a:rPr b="0" lang="en-US" sz="1200" spc="-1" strike="noStrike">
                <a:solidFill>
                  <a:srgbClr val="000000"/>
                </a:solidFill>
                <a:latin typeface="Times New Roman"/>
                <a:ea typeface="Arial"/>
              </a:rPr>
              <a:t> and the VISA Interactive Control, and configuration programs such as Measurement and Automation Explorer (MAX). See the NI-VISA Web page at </a:t>
            </a:r>
            <a:r>
              <a:rPr b="1" lang="en-US" sz="1200" spc="-1" strike="noStrike">
                <a:solidFill>
                  <a:srgbClr val="000000"/>
                </a:solidFill>
                <a:latin typeface="Times New Roman"/>
                <a:ea typeface="Arial"/>
              </a:rPr>
              <a:t>ni.com/v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I-VISA 2.5 is supported on Windows 2000/NT/98/95, MacOS 8/9, Linux x86, Solaris 2.6/7, and HPUX 10.2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92280"/>
            <a:ext cx="4556160" cy="341604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thernet implementation in NI-VISA 2.5 provides client support only, which allows a user to connect to a device at a given IP address. It does not implement servant support such as listening for and accepting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level socket communication, the VISA resource name includes the port number, such as “TCPIP::&lt;hostname&gt;::&lt;port&gt;::SOCKET”. If an Ethernet device supports the TCP-IP Instrument Protocol, which is a recommended communication mechanism, the VISA resource name is “TCPIP::&lt;hostname&gt;::INS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VISA Ethernet protocols support Write, Read, AssertTrigger, ReadSTB, and Clear. A VXI-11 device also adds SRQ event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instrument vendor and you plan to support the Ethernet interface, contact National Instruments for information on the TCP-IP Instrument Protocol, also known as VXI-11. Implementing this protocol makes it easier for VISA users to integrate your product into their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I-VISA 2.5, Ethernet is currently supported on only Win32.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92280"/>
            <a:ext cx="4556160" cy="341604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2.5 adds support for many customer-requested GPIB features, so you can use VISA for all your GPIB requirements. NI-488 is not going away, but now NI-VISA is on par with NI-488 in terms of supported GPIB features. If you need to control instruments on multiple interface types, such as GPIB and VXI, we recommend that you use V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PIB BoardInterface (INTFC) resource lets a controller interact with any devices connected to the board associated with the given resource. Advanced GPIB users who need to control multiple devices simultaneously or need to have multiple controllers in a single system typically use the INTFC resource. In addition to providing basic I/O services such as Write, Read, and AssertTrigger, the controller can directly manipulate several lines on the bus (ATN, IFC, REN, SRQ) and pass control to other devices with controller capability. Although this resource can also monitor some of the bus lines, the GPIB Analyzer is preferable because it monitors the bus continuously and does not depend on your application making driver calls. If you do not need such advanced functions, use device-level calls with the INSTR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will by default attempt to detect a GPIB-VXI at primary address 1. If you have a device at that address that does not recognize “*IDN?\n”, you should turn this feature off in MAX.</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92280"/>
            <a:ext cx="4556160" cy="341604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2.5 adds support for many customer-requested VXI features, so National Instruments recommends that you use VISA for all your VXI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XI Mainframe/Backplane resource encapsulates the operations and properties of each mainframe (or chassis) in a VXIbus system. This resource type lets a controller query and manipulate specific lines on a specific mainframe in a given VXI system. Backplane services allow the user to map, unmap, assert, and receive hardware triggers, and also to assert and receive various utility and interrupt signals. This includes advanced functionality that might not be available in all implementations or on all controll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92280"/>
            <a:ext cx="4556160" cy="341604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serial support has been extended to support higher baud rates.</a:t>
            </a:r>
            <a:br>
              <a:rPr sz="1200"/>
            </a:br>
            <a:r>
              <a:rPr b="0" lang="en-US" sz="1200" spc="-1" strike="noStrike">
                <a:solidFill>
                  <a:srgbClr val="000000"/>
                </a:solidFill>
                <a:latin typeface="Times New Roman"/>
              </a:rPr>
              <a:t>On the Macintosh, it now supports 115 Kb and 230 Kb. On Windows, some</a:t>
            </a:r>
            <a:br>
              <a:rPr sz="1200"/>
            </a:br>
            <a:r>
              <a:rPr b="0" lang="en-US" sz="1200" spc="-1" strike="noStrike">
                <a:solidFill>
                  <a:srgbClr val="000000"/>
                </a:solidFill>
                <a:latin typeface="Times New Roman"/>
              </a:rPr>
              <a:t>RS-485 interface boards transfer data at 460 Kb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Serial instruments and you do not use VISA, you should still use MAX for configuring your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92280"/>
            <a:ext cx="4556160" cy="341604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s operating system can associate only one kernel driver with a given PCI or PXI card. Therefore, NI-VISA cannot be used to control a system device that has another driver installed, such as a video card. To allow NI-VISA to access your plug-in card, run the PXI Driver Development Wizard, install the output file, and reboot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rite C or C++ source code that uses NI-VISA for the PXI interface, you must define NIVISA_PXI before including visa.h. The NI-VISA 2.5 Programmer Reference Manual documents valid parameters for accessing PXI instruments. PCI and PXI cards are indistinguishable to Windows, so all documentation references to PXI also apply to PCI. To open a device, use the resource string "PXI::&lt;DeviceNumber&gt;::INS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instrument vendor and you plan to provide instruments in the PXI form factor, contact National Instruments for information on the PXI Systems Alliance. Also see the PXI alliance Web site at </a:t>
            </a:r>
            <a:r>
              <a:rPr b="1" lang="en-US" sz="1200" spc="-1" strike="noStrike">
                <a:solidFill>
                  <a:srgbClr val="000000"/>
                </a:solidFill>
                <a:latin typeface="Times New Roman"/>
              </a:rPr>
              <a:t>pxisa.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I-VISA 2.5, PXI is supported on only Win32.</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92280"/>
            <a:ext cx="4556160" cy="341604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now supports an open model for plug-in modules called Passports. If you are a controller vendor and you want to integrate with NI-VISA, contact National Instruments for information on the Passport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release, NI-VISA supports more hardware controller combinations than any other VISA. If you are using Agilent controller hardware and want to use NI-VISA, see the readme.txt in the NIvisa directory for configuration details. LabVIEW and NI-DAQ work best with NI-VIS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Software Techniques</a:t>
            </a:r>
            <a:br>
              <a:rPr sz="3600"/>
            </a:br>
            <a:r>
              <a:rPr b="1" lang="en-US" sz="3600" spc="-1" strike="noStrike">
                <a:solidFill>
                  <a:srgbClr val="ffff66"/>
                </a:solidFill>
                <a:latin typeface="Arial"/>
              </a:rPr>
              <a:t>for Instrument Control</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n Mondrik</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ally create VISA I/O controls</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g a VISA resource or alias from MAX and drop it in LabVIEW 6</a:t>
            </a:r>
            <a:r>
              <a:rPr b="0" i="1" lang="en-US" sz="2400" spc="-1" strike="noStrike">
                <a:solidFill>
                  <a:srgbClr val="ffffff"/>
                </a:solidFill>
                <a:latin typeface="Arial"/>
              </a:rPr>
              <a:t>i</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ombines the functionality of the VISA refnum and the resource name controls from LabVIEW 5</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A session management</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Open is no longer required</a:t>
            </a:r>
            <a:endParaRPr b="0" lang="en-US" sz="2400" spc="-1" strike="noStrike">
              <a:solidFill>
                <a:srgbClr val="ffffff"/>
              </a:solidFill>
              <a:latin typeface="Arial"/>
            </a:endParaRPr>
          </a:p>
          <a:p>
            <a:pPr lvl="2" marL="1108440" indent="-221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will open a session to a resource when it is used as an input</a:t>
            </a:r>
            <a:endParaRPr b="0" lang="en-US" sz="20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Close is optional but recommen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G Source Comparison</a:t>
            </a:r>
            <a:endParaRPr b="1" lang="en-US" sz="3600" spc="-1" strike="noStrike">
              <a:solidFill>
                <a:srgbClr val="ffff66"/>
              </a:solidFill>
              <a:latin typeface="Arial"/>
            </a:endParaRPr>
          </a:p>
        </p:txBody>
      </p:sp>
      <p:sp>
        <p:nvSpPr>
          <p:cNvPr id="113" name="PlaceHolder 2"/>
          <p:cNvSpPr>
            <a:spLocks noGrp="1"/>
          </p:cNvSpPr>
          <p:nvPr>
            <p:ph/>
          </p:nvPr>
        </p:nvSpPr>
        <p:spPr>
          <a:xfrm>
            <a:off x="380880" y="2285640"/>
            <a:ext cx="2362320" cy="762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5</a:t>
            </a:r>
            <a:endParaRPr b="0" lang="en-US" sz="2800" spc="-1" strike="noStrike">
              <a:solidFill>
                <a:srgbClr val="ffffff"/>
              </a:solidFill>
              <a:latin typeface="Arial"/>
            </a:endParaRPr>
          </a:p>
        </p:txBody>
      </p:sp>
      <p:graphicFrame>
        <p:nvGraphicFramePr>
          <p:cNvPr id="114" name=""/>
          <p:cNvGraphicFramePr/>
          <p:nvPr/>
        </p:nvGraphicFramePr>
        <p:xfrm>
          <a:off x="2743200" y="3738600"/>
          <a:ext cx="5484960" cy="1747800"/>
        </p:xfrm>
        <a:graphic>
          <a:graphicData uri="http://schemas.openxmlformats.org/presentationml/2006/ole">
            <p:oleObj r:id="rId1" spid="">
              <p:embed/>
              <p:pic>
                <p:nvPicPr>
                  <p:cNvPr id="115" name="" descr=""/>
                  <p:cNvPicPr/>
                  <p:nvPr/>
                </p:nvPicPr>
                <p:blipFill>
                  <a:blip r:embed="rId2"/>
                  <a:stretch/>
                </p:blipFill>
                <p:spPr>
                  <a:xfrm>
                    <a:off x="2743200" y="3738600"/>
                    <a:ext cx="5484960" cy="1747800"/>
                  </a:xfrm>
                  <a:prstGeom prst="rect">
                    <a:avLst/>
                  </a:prstGeom>
                  <a:ln w="0">
                    <a:noFill/>
                  </a:ln>
                </p:spPr>
              </p:pic>
            </p:oleObj>
          </a:graphicData>
        </a:graphic>
      </p:graphicFrame>
      <p:graphicFrame>
        <p:nvGraphicFramePr>
          <p:cNvPr id="116" name=""/>
          <p:cNvGraphicFramePr/>
          <p:nvPr/>
        </p:nvGraphicFramePr>
        <p:xfrm>
          <a:off x="2744640" y="1676520"/>
          <a:ext cx="5484960" cy="1749240"/>
        </p:xfrm>
        <a:graphic>
          <a:graphicData uri="http://schemas.openxmlformats.org/presentationml/2006/ole">
            <p:oleObj r:id="rId3" spid="">
              <p:embed/>
              <p:pic>
                <p:nvPicPr>
                  <p:cNvPr id="117" name="" descr=""/>
                  <p:cNvPicPr/>
                  <p:nvPr/>
                </p:nvPicPr>
                <p:blipFill>
                  <a:blip r:embed="rId4"/>
                  <a:stretch/>
                </p:blipFill>
                <p:spPr>
                  <a:xfrm>
                    <a:off x="2744640" y="1676520"/>
                    <a:ext cx="5484960" cy="1749240"/>
                  </a:xfrm>
                  <a:prstGeom prst="rect">
                    <a:avLst/>
                  </a:prstGeom>
                  <a:ln w="0">
                    <a:noFill/>
                  </a:ln>
                </p:spPr>
              </p:pic>
            </p:oleObj>
          </a:graphicData>
        </a:graphic>
      </p:graphicFrame>
      <p:sp>
        <p:nvSpPr>
          <p:cNvPr id="118" name=""/>
          <p:cNvSpPr/>
          <p:nvPr/>
        </p:nvSpPr>
        <p:spPr>
          <a:xfrm>
            <a:off x="380880" y="4343400"/>
            <a:ext cx="236232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LabVIEW 6</a:t>
            </a:r>
            <a:r>
              <a:rPr b="1" i="1" lang="en-US" sz="3600" spc="-1" strike="noStrike">
                <a:solidFill>
                  <a:srgbClr val="ffff66"/>
                </a:solidFill>
                <a:latin typeface="Arial"/>
              </a:rPr>
              <a:t>i</a:t>
            </a:r>
            <a:r>
              <a:rPr b="1" lang="en-US" sz="3600" spc="-1" strike="noStrike">
                <a:solidFill>
                  <a:srgbClr val="ffff66"/>
                </a:solidFill>
                <a:latin typeface="Arial"/>
              </a:rPr>
              <a:t> (cont.)</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 palette now displays VISA i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functionality as traditional serial palet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 “serpdrv” is still supported for backward compatibility</a:t>
            </a:r>
            <a:endParaRPr b="0" lang="en-US" sz="2400" spc="-1" strike="noStrike">
              <a:solidFill>
                <a:srgbClr val="ffffff"/>
              </a:solidFill>
              <a:latin typeface="Arial"/>
            </a:endParaRPr>
          </a:p>
        </p:txBody>
      </p:sp>
      <p:graphicFrame>
        <p:nvGraphicFramePr>
          <p:cNvPr id="121" name=""/>
          <p:cNvGraphicFramePr/>
          <p:nvPr/>
        </p:nvGraphicFramePr>
        <p:xfrm>
          <a:off x="3429000" y="3641760"/>
          <a:ext cx="2971800" cy="2682720"/>
        </p:xfrm>
        <a:graphic>
          <a:graphicData uri="http://schemas.openxmlformats.org/presentationml/2006/ole">
            <p:oleObj r:id="rId1" spid="">
              <p:embed/>
              <p:pic>
                <p:nvPicPr>
                  <p:cNvPr id="122" name="" descr=""/>
                  <p:cNvPicPr/>
                  <p:nvPr/>
                </p:nvPicPr>
                <p:blipFill>
                  <a:blip r:embed="rId2"/>
                  <a:stretch/>
                </p:blipFill>
                <p:spPr>
                  <a:xfrm>
                    <a:off x="3429000" y="3641760"/>
                    <a:ext cx="2971800" cy="26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MAX</a:t>
            </a:r>
            <a:endParaRPr b="1" lang="en-US" sz="3600" spc="-1" strike="noStrike">
              <a:solidFill>
                <a:srgbClr val="ffff66"/>
              </a:solidFill>
              <a:latin typeface="Arial"/>
            </a:endParaRPr>
          </a:p>
        </p:txBody>
      </p:sp>
      <p:sp>
        <p:nvSpPr>
          <p:cNvPr id="124"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indows, MAX is the new NI-VISA configuration environ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p;M Explorer is no longer shipped or need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ty pages exist for all VISA resour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or modify VISA aliases in M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MAX (cont.)</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 VME, GPIB-VX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ddress map view for A16, A24, A3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frame connection views for MXI-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 controller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s VISA port settings with O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ets such as HyperTerminal use same setting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automatically adds aliases if not already se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 now use “COM1” for “ASRL1::INST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Measurement Studio</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panels for all VISA oper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for Visual Bas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ActiveX 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erly known as ComponentWorks</a:t>
            </a:r>
            <a:r>
              <a:rPr b="0" lang="en-US" sz="2400" spc="-1" strike="noStrike" baseline="30000">
                <a:solidFill>
                  <a:srgbClr val="ffffff"/>
                </a:solidFill>
                <a:latin typeface="Arial"/>
              </a:rPr>
              <a: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for Visual 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C++ clas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erly known as ComponentWor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C++ API for VISA</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ies I/O programming for C++ us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uitive extension of VISA object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VISA Resource Manager sessions automaticall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support for VISA 2.0 func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2.5 features will be added lat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ccess them now using the C 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nd Resources in CVI</a:t>
            </a:r>
            <a:endParaRPr b="1" lang="en-US" sz="3600" spc="-1" strike="noStrike">
              <a:solidFill>
                <a:srgbClr val="ffff66"/>
              </a:solidFill>
              <a:latin typeface="Arial"/>
            </a:endParaRPr>
          </a:p>
        </p:txBody>
      </p:sp>
      <p:sp>
        <p:nvSpPr>
          <p:cNvPr id="132" name="PlaceHolder 2"/>
          <p:cNvSpPr>
            <a:spLocks noGrp="1"/>
          </p:cNvSpPr>
          <p:nvPr>
            <p:ph/>
          </p:nvPr>
        </p:nvSpPr>
        <p:spPr>
          <a:xfrm>
            <a:off x="685800" y="175212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ession drm, findlist;</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UInt32 count;</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har desc[VI_FIND_BUFLEN];</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OpenDefaultRM (&amp;drm);</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FindRsrc (drm, “?*INSTR”, &amp;findlist, &amp;count, desc);</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count--) {</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intf (“Found: %s\n”, desc);</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FindNext (findlist, desc);</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lose (d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nd Resources in C++</a:t>
            </a:r>
            <a:endParaRPr b="1" lang="en-US" sz="3600" spc="-1" strike="noStrike">
              <a:solidFill>
                <a:srgbClr val="ffff66"/>
              </a:solidFill>
              <a:latin typeface="Arial"/>
            </a:endParaRPr>
          </a:p>
        </p:txBody>
      </p:sp>
      <p:sp>
        <p:nvSpPr>
          <p:cNvPr id="134"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VisaResourceList findlist (“?*INST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UInt32 count = findlist.Get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ut &lt;&lt; “Found:” &lt;&lt; findlist[count] &lt;&lt; end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A I/O in CVI</a:t>
            </a:r>
            <a:endParaRPr b="1" lang="en-US" sz="3600" spc="-1" strike="noStrike">
              <a:solidFill>
                <a:srgbClr val="ffff66"/>
              </a:solidFill>
              <a:latin typeface="Arial"/>
            </a:endParaRPr>
          </a:p>
        </p:txBody>
      </p:sp>
      <p:sp>
        <p:nvSpPr>
          <p:cNvPr id="136"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ession drm, i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UInt32 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har buf[102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OpenDefaultRM (&amp;dr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Open (drm, “GPIB::14::INSTR”, 0, 0, &amp;i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Write (io, “*IDN?\n”, 6, &amp;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ead (io, buf, 1024, &amp;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tf (“Identity: %*s\n”, count, buf);</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lose (d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ation Outline</a:t>
            </a:r>
            <a:endParaRPr b="1" lang="en-US" sz="3600" spc="-1" strike="noStrike">
              <a:solidFill>
                <a:srgbClr val="ffff66"/>
              </a:solidFill>
              <a:latin typeface="Arial"/>
            </a:endParaRPr>
          </a:p>
        </p:txBody>
      </p:sp>
      <p:sp>
        <p:nvSpPr>
          <p:cNvPr id="95" name="PlaceHolder 2"/>
          <p:cNvSpPr>
            <a:spLocks noGrp="1"/>
          </p:cNvSpPr>
          <p:nvPr>
            <p:ph/>
          </p:nvPr>
        </p:nvSpPr>
        <p:spPr>
          <a:xfrm>
            <a:off x="685800" y="1752480"/>
            <a:ext cx="777240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overview of VISA</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s new in NI-VISA</a:t>
            </a:r>
            <a:r>
              <a:rPr b="0" lang="en-US" sz="2800" spc="-1" strike="noStrike" baseline="30000">
                <a:solidFill>
                  <a:srgbClr val="ffffff"/>
                </a:solidFill>
                <a:latin typeface="Arial"/>
              </a:rPr>
              <a:t>™</a:t>
            </a:r>
            <a:r>
              <a:rPr b="0" lang="en-US" sz="2800" spc="-1" strike="noStrike">
                <a:solidFill>
                  <a:srgbClr val="ffffff"/>
                </a:solidFill>
                <a:latin typeface="Arial"/>
              </a:rPr>
              <a:t> 2.5</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I/O functionality for Ethernet, GPIB, VXI</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performance</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integration</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r>
              <a:rPr b="0" lang="en-US" sz="2400" spc="-1" strike="noStrike" baseline="30000">
                <a:solidFill>
                  <a:srgbClr val="ffffff"/>
                </a:solidFill>
                <a:latin typeface="Arial"/>
              </a:rPr>
              <a:t>™</a:t>
            </a:r>
            <a:r>
              <a:rPr b="0" lang="en-US" sz="2400" spc="-1" strike="noStrike">
                <a:solidFill>
                  <a:srgbClr val="ffffff"/>
                </a:solidFill>
                <a:latin typeface="Arial"/>
              </a:rPr>
              <a:t> 6</a:t>
            </a:r>
            <a:r>
              <a:rPr b="0" i="1" lang="en-US" sz="2400" spc="-1" strike="noStrike">
                <a:solidFill>
                  <a:srgbClr val="ffffff"/>
                </a:solidFill>
                <a:latin typeface="Arial"/>
              </a:rPr>
              <a:t>i</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amp; Automation Explorer (MAX)</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Studio</a:t>
            </a:r>
            <a:r>
              <a:rPr b="0" lang="en-US" sz="2400" spc="-1" strike="noStrike" baseline="30000">
                <a:solidFill>
                  <a:srgbClr val="ffffff"/>
                </a:solidFill>
                <a:latin typeface="Arial"/>
              </a:rPr>
              <a:t>™</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A, IVI, and instrument driv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A I/O in C++</a:t>
            </a:r>
            <a:endParaRPr b="1" lang="en-US" sz="3600" spc="-1" strike="noStrike">
              <a:solidFill>
                <a:srgbClr val="ffff66"/>
              </a:solidFill>
              <a:latin typeface="Arial"/>
            </a:endParaRPr>
          </a:p>
        </p:txBody>
      </p:sp>
      <p:sp>
        <p:nvSpPr>
          <p:cNvPr id="13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VisaSession io (“GPIB::14::INST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tring buf;</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Write (“*IDN?\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Read (buf, 102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t &lt;&lt; “Identity:” &lt;&lt; buf &lt;&lt; end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A, IVI, and Instrument Drivers</a:t>
            </a:r>
            <a:endParaRPr b="1" lang="en-US" sz="3600" spc="-1" strike="noStrike">
              <a:solidFill>
                <a:srgbClr val="ffff66"/>
              </a:solidFill>
              <a:latin typeface="Arial"/>
            </a:endParaRPr>
          </a:p>
        </p:txBody>
      </p:sp>
      <p:sp>
        <p:nvSpPr>
          <p:cNvPr id="142" name="PlaceHolder 2"/>
          <p:cNvSpPr>
            <a:spLocks noGrp="1"/>
          </p:cNvSpPr>
          <p:nvPr>
            <p:ph/>
          </p:nvPr>
        </p:nvSpPr>
        <p:spPr>
          <a:xfrm>
            <a:off x="609480" y="160020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n instrument drivers are built with VISA</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drivers add power</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s on the VISA model</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state caching for higher performance</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simulation capabilitie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multi-thread protection</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s each appropriate?</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vendors should provide IVI driver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s should use drivers if they exist</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VISA directly if no driver exi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s</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2.5 is available n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tp://ftp.ni.com/support/visa/driv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ps with LabVIEW 6</a:t>
            </a:r>
            <a:r>
              <a:rPr b="0" i="1" lang="en-US" sz="2400" spc="-1" strike="noStrike">
                <a:solidFill>
                  <a:srgbClr val="ffffff"/>
                </a:solidFill>
                <a:latin typeface="Arial"/>
              </a:rPr>
              <a:t>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VISA 2.5 is faster, more powerful, and supports more interfac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A is the way to program instruments over GPIB, VXI, Serial, PXI, or Ether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Overview of VISA</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Instrument Software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hardware interface typ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 VXI, VME, Serial, PXI, and mor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nstrument drivers use VISA for 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in all NI application development environ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driver, different flavors tailored to each A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Ethernet Support</a:t>
            </a:r>
            <a:endParaRPr b="1" lang="en-US" sz="3600" spc="-1" strike="noStrike">
              <a:solidFill>
                <a:srgbClr val="ffff66"/>
              </a:solidFill>
              <a:latin typeface="Arial"/>
            </a:endParaRPr>
          </a:p>
        </p:txBody>
      </p:sp>
      <p:sp>
        <p:nvSpPr>
          <p:cNvPr id="99"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control of Ethernet instrum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P-IP instrument protoc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used mostly by Agilent instru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488.2 protocol for new Ethernet instrument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TCP-IP socke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LabVIEW and LabWindows</a:t>
            </a:r>
            <a:r>
              <a:rPr b="0" lang="en-US" sz="2400" spc="-1" strike="noStrike" baseline="30000">
                <a:solidFill>
                  <a:srgbClr val="ffffff"/>
                </a:solidFill>
                <a:latin typeface="Arial"/>
              </a:rPr>
              <a:t>™</a:t>
            </a:r>
            <a:r>
              <a:rPr b="0" lang="en-US" sz="2400" spc="-1" strike="noStrike">
                <a:solidFill>
                  <a:srgbClr val="ffffff"/>
                </a:solidFill>
                <a:latin typeface="Arial"/>
              </a:rPr>
              <a:t>/CVI libra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control of “no-delay” and “keep-alive” op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tended GPIB Support</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async performance in LabVIEW 6</a:t>
            </a:r>
            <a:r>
              <a:rPr b="0" i="1" lang="en-US" sz="2800" spc="-1" strike="noStrike">
                <a:solidFill>
                  <a:srgbClr val="ffffff"/>
                </a:solidFill>
                <a:latin typeface="Arial"/>
              </a:rPr>
              <a:t>i</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speed as traditional GPIB call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board-level contr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features</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rt or query bus lines such as IFC or SRQ</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miscellaneous GPIB command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 non-controller I/O (pass control, set status byte)</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resource name is “GPIB::INTF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VISA class is “GPIB BoardInterf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tended VXI Support</a:t>
            </a:r>
            <a:endParaRPr b="1" lang="en-US" sz="3600" spc="-1" strike="noStrike">
              <a:solidFill>
                <a:srgbClr val="ffff66"/>
              </a:solidFill>
              <a:latin typeface="Arial"/>
            </a:endParaRPr>
          </a:p>
        </p:txBody>
      </p:sp>
      <p:sp>
        <p:nvSpPr>
          <p:cNvPr id="103"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mainframe/extender contro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featur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rt or query bus lines such as Sysreset or Sysfai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rt VXI/VME interrupt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 trigger lines together (TTL, ECL, Front Panel)</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resource name is “VXI::BACKPLA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VISA class is “VXI/GPIB-VXI Backplan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NI-VISA rather than NI-VXI</a:t>
            </a:r>
            <a:r>
              <a:rPr b="0" lang="en-US" sz="2800" spc="-1" strike="noStrike" baseline="30000">
                <a:solidFill>
                  <a:srgbClr val="ffffff"/>
                </a:solidFill>
                <a:latin typeface="Arial"/>
              </a:rPr>
              <a:t>™</a:t>
            </a:r>
            <a:r>
              <a:rPr b="0" lang="en-US" sz="2800" spc="-1" strike="noStrike">
                <a:solidFill>
                  <a:srgbClr val="ffffff"/>
                </a:solidFill>
                <a:latin typeface="Arial"/>
              </a:rPr>
              <a:t> for new</a:t>
            </a:r>
            <a:br>
              <a:rPr sz="2800"/>
            </a:br>
            <a:r>
              <a:rPr b="0" lang="en-US" sz="2800" spc="-1" strike="noStrike">
                <a:solidFill>
                  <a:srgbClr val="ffffff"/>
                </a:solidFill>
                <a:latin typeface="Arial"/>
              </a:rPr>
              <a:t>VXI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tended Serial Support</a:t>
            </a:r>
            <a:endParaRPr b="1" lang="en-US" sz="3600" spc="-1" strike="noStrike">
              <a:solidFill>
                <a:srgbClr val="ffff66"/>
              </a:solidFill>
              <a:latin typeface="Arial"/>
            </a:endParaRPr>
          </a:p>
        </p:txBody>
      </p:sp>
      <p:sp>
        <p:nvSpPr>
          <p:cNvPr id="105"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async performance in LabVIEW 6</a:t>
            </a:r>
            <a:r>
              <a:rPr b="0" i="1" lang="en-US" sz="2800" spc="-1" strike="noStrike">
                <a:solidFill>
                  <a:srgbClr val="ffffff"/>
                </a:solidFill>
                <a:latin typeface="Arial"/>
              </a:rPr>
              <a:t>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efficient CPU usage on read oper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upported featu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baud rates, not limited to 256 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value allowed by hardware is now valid in NI-VISA</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up to 256 ports, not limited to 32</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NI-VISA rather than the traditional serial icons for new serial applications in LabVIE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Support</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handles third party PCI and PXI car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featu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level access with efficient peek/pok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moves, including FIFO a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notification at the user level using either queues or callbac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er a device with PXI Driver Wizar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es NI-VISA as the Windows dri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Mixed Systems Support</a:t>
            </a:r>
            <a:endParaRPr b="1" lang="en-US" sz="3600" spc="-1" strike="noStrike">
              <a:solidFill>
                <a:srgbClr val="ffff66"/>
              </a:solidFill>
              <a:latin typeface="Arial"/>
            </a:endParaRPr>
          </a:p>
        </p:txBody>
      </p:sp>
      <p:sp>
        <p:nvSpPr>
          <p:cNvPr id="109"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and Agilent controllers plugged into same PC work seamlessly together with NI-VIS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third party controllers with third party software environ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does not display VISA resources attached to third party controll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VISA Interactive Control (VISAIC) to interact with these resour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6T19:52:13Z</dcterms:created>
  <dc:creator>Dan Mondrik</dc:creator>
  <dc:description/>
  <dc:language>en-US</dc:language>
  <cp:lastModifiedBy>David Steele</cp:lastModifiedBy>
  <cp:lastPrinted>1999-08-14T01:08:40Z</cp:lastPrinted>
  <dcterms:modified xsi:type="dcterms:W3CDTF">2000-07-27T19:23:46Z</dcterms:modified>
  <cp:revision>120</cp:revision>
  <dc:subject/>
  <dc:title>VISA for Instrument Control</dc:title>
</cp:coreProperties>
</file>