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6F51F79F-8809-4430-B395-77438F15278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76212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reviews the most common user interface (UI) design issues facing virtual instrument (VI) designers. We will start with VIs needing help, diagnose the problems, and see how to improve them. We will also cover some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features that make interfaces easier to build and progra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maybe the customer really wants color to identify the items. Try using background blobs or borders rather than coloring all of the elements. In this case, maybe the colors match the color of the machine or a sign on the machine. These are just a decoration or a color numeric placed behind the groups of contro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or grouping of objects is probably the most common problem that VI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somehow simplify what the user has to look at by grouping and associating small objects into larger ones that are more comfortable. You don’t want your user to feel like they are looking at the cockpit of a 747 unless they have to. Try to give them the simplest interface you can that focuses on what they need acces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common tools or techniques that you can and should learn how to use in order to associate objects. They are color, spacing, borders, and, of course, a combination of these is often what is called f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267080"/>
            <a:ext cx="5105520" cy="472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color. It’s not the best tool to use, and is often the worst tool, immediately giving that “not professional” feeling to a panel. When professionals use color,  they use it with finesse and control. There will be more on color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anels have association problems that are “fixed” using color much as a players in a sporting event will wear different color jerseys for different teams. Often, the user grabs the coloring tool and applies jersey colors to various controls to associate them. If the association isn’t strong enough, then the color isn’t strong enough, leading to optical yellow buttons next to acid green slides and the like, what I call “circus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situations when color is a good choice for associating? One case is when the object’s location cannot be controlled. In the example above, we can’t rearrange the letters to separate the vowels from the consonants or it would make for difficult reading. Adding space around the letters or underlining them doesn’t seem to work nearly as well. Giving the vowels and consonants slightly different colors maintains text readability, but distinguishes them when the user wants to coun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scatter plots will frequently use color to distinguish between points on different plots. If we draw temperatures as red circles and pressures as blue crosses, then it is easy to see the overall relationship between the data, and still easy to focus on just one point. Again, this is a situation where the location of the point contains other information and you don’t have complete freedom over it. This technique breaks down with many plots and it’s a good idea to add space to stack the plots vertical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040" y="4267080"/>
            <a:ext cx="5257800" cy="4648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 rules, and lines, all refer to graphical elements used to separate objects or group them together to define their association. These are often used in printed material, and somewhat in computer dialogs, but they are also often overus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refers to the thickness or boldness of the line. The computer screen does not allow for the same level of control in thickness, so you will often need to use shades of gray to fine tune the borders. The lines on the left of the graphic show different weights and styles. The first and second line are the same width, one pixel, but the first looks thinner because it is a lighter shade of gray. Note that a double rule, or two lines barely separated, looks different than a thick gray line. Gradients, 3D bevels, and chisel lines are also all valid borders and use of them is a matter of sty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b pages impose borders by changing the texture of the background graphic. If you use this, keep it very subt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dialogs are a good place to look at border usage, but be careful with boxes. They are valuable borders, but can make a very bold, noisy grid, and often you only need consistent spacing to form a grid. Also, a somewhat algorithmic approach to grouping boxes will lead to boxes within boxes within boxes. While not immediately confusing, it looks less professional than using a simple line or white space to separate the item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267080"/>
            <a:ext cx="5029200" cy="426744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te space, or spacing, is the most important tool to learn to use. It is always the first tool to turn to when you need to associate things, and often the only tool you will need. You often want to make spacing consistent between associated items so that they form a pleasing grid for the user to navigate. Then use larger spacing to make some items stand out from the grid. Pay attention to the spacing between the object and the window or screen border. Just like a page margin in a book, this space helps frame the items professionally in the wind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good examples of this, look at your copying machine, stereo, maybe your remote control (though many of them are done poorly). Perhaps the best example is the keyboard on your computer. The arrow keys, the numeric keypad, the function keys, the numbers on the top row, and the rest are arranged onto separate little grids. There may be some subtle coloring, but most organization is done with spacing. Imagine if the keys were arranged in ASCII order and color were used to group th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reason that spacing is the best tool to use is that we learn it and practice it daily from a very early age. When we first learn to read and write, there are lines on the paper to help us associate the letters. Since this becomes second nature to us, we don’t realize how important it is until these rules are broken. The graphic on the right breaks more and more of these rules as you read the sentence, and serves to remind us of how much these association rules aid us in reading.</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92280"/>
            <a:ext cx="4556160" cy="341604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only learn one technique, let it be control over white space. It is the most rewarding and least intrusive. You can then use borders and color to convey additional information or you can use them to add a bit of style or mood to th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use your stereo, your car, or other real world ideals to guide you, and frequently it’s much more difficult to criticize your own work than that of others. It may be a good idea to bring in an impartial observer to learn what they think of the interface. Beware that their suggestions may be really bad! They may encourage you to grab the paint brush and apply some jerseys to the controls to associate them. Try to focus more on the problem they have with the interface and less on the solution that pops into their head. Most importantly, be prepared to spend some time, make up some alternatives for them to choose between, and experi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ost part, you can pretend that there are only two types of colors – neutral and highlight. The exceptions, like a red sports car exterior, are done intentionally to draw attention because something is out of the ordinary. Your car’s dashboard, seats and carpet are probably a neutral color. The speedometer needle and the warning lights in the dashboard are highlight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se things in mind when making a panel. You need most things to be complimentary neutral colors that vary primarily in their brightness. You can then get away with a few highlight colors for plots, meter needles, company logo,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highlight colors for big things then make the highlights black or a dark color. If done correctly, you will get an industrial look that is cool and unusual. On the other hand, many toys look this way, so be sure not to overdo it. Instead of an industrial look you will wind up with a Tonka toy loo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e you color blind? Do you know someone that is? I’ve heard exaggerated claims about the percentage of engineers that are color blind, and the extent to which they are color blind. I’m not an expert, but I think this must be based on the engineer’s wardrobe choice, not their eyesight. This is a simple color blind test. It is obviously not completely accurate because it is being displayed on a monitor that isn’t calibrated. Several people who suspect they are color blind have failed the test while most others pass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heel at the top right shows a spectrum of colors, and you probably see it correctly. The wheels below depict how a person with strong color blindness perceives the same whe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hree dot clusters to the left are from a classic colorblindness test. If you look at a printout of this slide, you will not be able to make out the numbers because there is no contrast, only slight color differences. Everyone should see the number “12” in the leftmost dot cluster. Depending on the degree and type of colorblindness, you may not be able to see the “2” in the top or “5” in the lower dot clus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is a good Web site discussing the types of color blindness, the percentages of occurrence, and reasons for it. If you are writing the panel for only your use, then you don’t need to worry about color blindness. If you intend to have others use your panels, then a quick test is to print them on a laser printer or a grayscale printer. If you can’t tell the items apart with contrast only, then you are going to run into problems. Just lighten or darken the colors until they appear distinct on the printout, or use plot symbols, borders, labels, or other distinguishing mark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eb site is  http://members.aol.com/nocolorvsn/color.htm</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f fonts have little feet and flourishes on them, primarily at the bottom or baseline. Serifs make it much easier and faster to read large bodies of text – that is why newspapers and published books use them. They aren’t very legible onscreen, and aren’t necessary for titles and larger text so its best not to use them unless the material is destined for the pr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resolution and sans-serif fonts are one of the primary reasons that it is more difficult to read material online compared to a printed manual o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default for PowerPoint is to use a sans-serif font for the slide display, but a serif font for the notes below the slide. Interestingly, the screen version of the notes is done with a sans-serif f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ose little things that people may not really notice, but it adds to the professionalis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 control allows you to group together controls that should be visible and invisible at the same time – making your diagram programming easier. It lets the user navigate between high-level categories – arriving at a slightly modal display that is independent of the other tabs, but not application or system modal. It fits a real-world metaphor – a collection of manila folders. And it looks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s great. That means that they are the “new” next thing that will be overused and abused just like globals, color, and every other new feature. This is your chance to be more professional, avoid some of the pitfalls, and make some really nice interfaces using t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re the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0920" y="692280"/>
            <a:ext cx="455616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was inspired by something we saw at NIWeek last year. To protect the innocent and make it a good teaching example, we’ve simplified and changed it to suit our purpos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267080"/>
            <a:ext cx="5105520" cy="46483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t only makes sense for the user to visit the pages in a certain order, then hide the tab control’s tabs and advance it with a Next and Previous button making a wizard. Vague names will also lead to a find and seek routine the user must navigate. Use names as descriptive as possible, but like menus, they must be very sh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than two rows of tabs will cause confusion, since tab rows get reordered with each user cli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use scrollbars to place all the tabs on one row, but only see a few at a time. This will do in a pinch, but is not preferred. That many tabs probably means that there are too many items in one grab-bag dialog. Break the dialog into more than one, or use a listbox, tree control, or ring to select pages rather than tab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it mean when a user changes tabs? This is a gray area, and you will get different opinions. You almost certainly do not want tab changes to initiate actions – like running, aborting, free running, or pausing an activity. These are actions that should be attached to a menu item or an action button. There is probably some amount of feedback between the buttons, and often you don’t want the contents of the tab to change. This is one of those things that you can do, but probably shouldn’t unless you are absolutely sure of yourself.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about committing the user’s changes when they change tabs? Are they done making changes to that page? If there are some consistency checks on inputs, should they be done when changing tabs, only when OK’d, or when each control is modified? This is up to you. You probably want to avoid having a tab change bring up a dialog saying that something is wrong with the current page and they can’t leave that page until they get it right. You also want to avoid having the user get a list of mistakes that they made on various tabs while editing, but you didn’t notify them until they hit OK. Different platforms and systems take different approaches. It isn’t an easy question, and doesn’t have an easy answ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is point you can open tab.vi and demonstrate some of these problems like many rows if you like.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040" y="4343400"/>
            <a:ext cx="5257800" cy="449568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ost enabling UI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is a diagram feature. Attribute nodes can now be located in subVIs where they are shared across multiple panels and clean up top-level diagrams. Use them carefully or you will introduce race conditions that are difficult to debug. In the past you knew an attribute was being changed somewhere on the diagram and you could even Find each and every attribute. Now the Control reference can be passed to any number of subVIs running in parallel and making changes to the UI without synchronization. It is a great power user feature, but beware of the debugging headach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D controls may be the most noticeable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Some of the controls look nice, but they are not a quick fix for poorly designed panels. Use the same rules for association and coloring, and your panels should look n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phs and charts now have good support for multiple scales, scale name labels, and programmatic control over more attrib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ew control that works well for lists of multicolumn data, like file system lists that include the data or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opup on a meter or gauge and make visible the rotary color ramp. It allows you to associate a color with arbitrary markers on the scale so that you can have color bands and color ranges beneath the need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gital graph and logic analyzer display. The waveform graph now knows how to plot lines and groups of lines much like a logic analyzer. Use the mask data element to specify which bits are placed into which plot and in which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now give your buttons or other controls a tip strip in addition to the information that shows in the help wind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associated controls using space, borders, or white space, group them to maintain the association and manipulate them as a group. You can also lock decorations and other background objects so that they will stay in the background. They will not be accidentally deleted or moved, and you can also popup to drop new controls as if they were just a part of the backgroun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other control and panel attributes/properties that allow for better programmatic control over how the UI works. The value of the control can be read/written to from the property node – making it possible to update lots of properties and the data all at once with less flicker. There is also a panel attribute for turning off updates while lots of attributes or data values are updated, then restore the value to update the panel.</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VirtualBenc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omponents. While not perfect, its appearance is much more professional than the previous panel. It is modeled after real-life instruments and should be familiar to the end user. By building on the interface of traditional instruments, it builds on the work of professional design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040"/>
            <a:ext cx="5105520" cy="441972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common complaint about VI panels is that they don’t look professional. That may be because they are being designed by people like us – with little background, formal training, or experience doing user interface design. We don’t expect graphics designers to design great circuits or software, and they don’t expect us to design great advertisements or posters. What can be done about thi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need to learn some tricks and techniques from the professionals. We need to copy their most common examples and experiment less with what we think may be cool. We also need to apply a bit more attention and gray matter to the pan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analogy is the video camera. Many of us own or know someone that owns a video camera. All of us have seen a movie in a theater. How many of us expect to be able to make a professional quality movie with our video camera? Is the problem with the camera or the person looking through the viewfinder? By paying attention to movies and applying a critical eye to our own work, we can learn some techniques which will then make our home movies much more professional. Similarly, we need to pay attention to the interfaces we see everyday and learn how and why they work, then apply a critical eye to the panels we build. These professional interfaces are all around us – the copying machine, the VCR, the stereo, the oscilloscope, and so 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also some very good books on this topic. See the bibliography for suggestion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looking at several VIs and everyday objects to learn about some of the most useful UI design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on – Grouping or associating objects together is too often overlooked, and VIs are often made worse when trying to fix associa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 It’s not that complicated with a few rules of thumb, but color is often overused when trying to compensate for other pane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s – Your computer has dozens installed. How do you decide which ones to use, and how many of them should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 Controls – LabVIEW 6</a:t>
            </a:r>
            <a:r>
              <a:rPr b="0" i="1" lang="en-US" sz="1200" spc="-1" strike="noStrike">
                <a:solidFill>
                  <a:srgbClr val="000000"/>
                </a:solidFill>
                <a:latin typeface="Times New Roman"/>
              </a:rPr>
              <a:t>i</a:t>
            </a:r>
            <a:r>
              <a:rPr b="0" lang="en-US" sz="1200" spc="-1" strike="noStrike">
                <a:solidFill>
                  <a:srgbClr val="000000"/>
                </a:solidFill>
                <a:latin typeface="Times New Roman"/>
              </a:rPr>
              <a:t> now has a tab control in the palettes. What are some good and bad uses of the ta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ck review of a few new diagramming features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that make it much easier to build User Interfac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92280"/>
            <a:ext cx="4556160" cy="341604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hat jumps out at you are the bright colors. Why are there so many? Why are they so b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hing is that there are too many labels. It looks like the programmer that built this needed a name to refer to every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roblems with the panel, but they are symptoms of a bigger probl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removed all of the color information, and it didn’t fix the problem. Why did we do this? As a test, to see if the major problem was the coloring. The panel is less colorful, but it’s still a m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92280"/>
            <a:ext cx="4556160" cy="341604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rid of the labels and rearranging the knobs in a grid helps a lot. Obviously the knobs are too small to operate now, but we can see how the panel got into the shape it was in. The programmer labeled everything and used knobs that made it difficult to put things into a grid. To fix this association problem, they may have added even more labels and grabbed the coloring t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92280"/>
            <a:ext cx="4556160" cy="341604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ing the knob with a slider lets the user pack the elements tighter and take up a lot less panel read estate. We’ve also regrouped the controls on the right and the indicators on the left. This might not fly depending on what the importance of these elements is, but it’s a good practice in gen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9807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r>
              <a:rPr b="1" lang="en-US" sz="3600" spc="-1" strike="noStrike" baseline="30000">
                <a:solidFill>
                  <a:srgbClr val="ffff66"/>
                </a:solidFill>
                <a:latin typeface="Arial"/>
              </a:rPr>
              <a:t>™</a:t>
            </a:r>
            <a:r>
              <a:rPr b="1" lang="en-US" sz="3600" spc="-1" strike="noStrike">
                <a:solidFill>
                  <a:srgbClr val="ffff66"/>
                </a:solidFill>
                <a:latin typeface="Arial"/>
              </a:rPr>
              <a:t> </a:t>
            </a:r>
            <a:br>
              <a:rPr sz="3600"/>
            </a:br>
            <a:r>
              <a:rPr b="1" lang="en-US" sz="3600" spc="-1" strike="noStrike">
                <a:solidFill>
                  <a:srgbClr val="ffff66"/>
                </a:solidFill>
                <a:latin typeface="Arial"/>
              </a:rPr>
              <a:t>Programming Techniques – </a:t>
            </a:r>
            <a:br>
              <a:rPr sz="3600"/>
            </a:br>
            <a:r>
              <a:rPr b="1" lang="en-US" sz="3600" spc="-1" strike="noStrike">
                <a:solidFill>
                  <a:srgbClr val="ffff66"/>
                </a:solidFill>
                <a:latin typeface="Arial"/>
              </a:rPr>
              <a:t>The Good, the Bad, and the Ug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295280" y="380952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g McKaskl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other Option</a:t>
            </a:r>
            <a:endParaRPr b="1" lang="en-US" sz="3600" spc="-1" strike="noStrike">
              <a:solidFill>
                <a:srgbClr val="ffff66"/>
              </a:solidFill>
              <a:latin typeface="Arial"/>
            </a:endParaRPr>
          </a:p>
        </p:txBody>
      </p:sp>
      <p:pic>
        <p:nvPicPr>
          <p:cNvPr id="111" name="ExampleVI%205" descr=""/>
          <p:cNvPicPr/>
          <p:nvPr/>
        </p:nvPicPr>
        <p:blipFill>
          <a:blip r:embed="rId1"/>
          <a:stretch/>
        </p:blipFill>
        <p:spPr>
          <a:xfrm>
            <a:off x="685800" y="1676520"/>
            <a:ext cx="7086600" cy="407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techn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is to separate and group logical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d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Color</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technique for associa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most overused techn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brute force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used when spatial arrangement cannot be controll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is more important than colo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r>
            <a:r>
              <a:rPr b="0" lang="en-US" sz="2800" spc="-1" strike="noStrike">
                <a:solidFill>
                  <a:srgbClr val="3399ff"/>
                </a:solidFill>
                <a:latin typeface="Arial"/>
              </a:rPr>
              <a:t>e</a:t>
            </a:r>
            <a:r>
              <a:rPr b="0" lang="en-US" sz="2800" spc="-1" strike="noStrike">
                <a:solidFill>
                  <a:srgbClr val="ffffff"/>
                </a:solidFill>
                <a:latin typeface="Arial"/>
              </a:rPr>
              <a:t> r</a:t>
            </a:r>
            <a:r>
              <a:rPr b="0" lang="en-US" sz="2800" spc="-1" strike="noStrike">
                <a:solidFill>
                  <a:srgbClr val="3399ff"/>
                </a:solidFill>
                <a:latin typeface="Arial"/>
              </a:rPr>
              <a:t>e</a:t>
            </a:r>
            <a:r>
              <a:rPr b="0" lang="en-US" sz="2800" spc="-1" strike="noStrike">
                <a:solidFill>
                  <a:srgbClr val="ffffff"/>
                </a:solidFill>
                <a:latin typeface="Arial"/>
              </a:rPr>
              <a:t>d f</a:t>
            </a:r>
            <a:r>
              <a:rPr b="0" lang="en-US" sz="2800" spc="-1" strike="noStrike">
                <a:solidFill>
                  <a:srgbClr val="3399ff"/>
                </a:solidFill>
                <a:latin typeface="Arial"/>
              </a:rPr>
              <a:t>o</a:t>
            </a:r>
            <a:r>
              <a:rPr b="0" lang="en-US" sz="2800" spc="-1" strike="noStrike">
                <a:solidFill>
                  <a:srgbClr val="ffffff"/>
                </a:solidFill>
                <a:latin typeface="Arial"/>
              </a:rPr>
              <a:t>x j</a:t>
            </a:r>
            <a:r>
              <a:rPr b="0" lang="en-US" sz="2800" spc="-1" strike="noStrike">
                <a:solidFill>
                  <a:srgbClr val="3399ff"/>
                </a:solidFill>
                <a:latin typeface="Arial"/>
              </a:rPr>
              <a:t>u</a:t>
            </a:r>
            <a:r>
              <a:rPr b="0" lang="en-US" sz="2800" spc="-1" strike="noStrike">
                <a:solidFill>
                  <a:srgbClr val="ffffff"/>
                </a:solidFill>
                <a:latin typeface="Arial"/>
              </a:rPr>
              <a:t>mp</a:t>
            </a:r>
            <a:r>
              <a:rPr b="0" lang="en-US" sz="2800" spc="-1" strike="noStrike">
                <a:solidFill>
                  <a:srgbClr val="3399ff"/>
                </a:solidFill>
                <a:latin typeface="Arial"/>
              </a:rPr>
              <a:t>e</a:t>
            </a:r>
            <a:r>
              <a:rPr b="0" lang="en-US" sz="2800" spc="-1" strike="noStrike">
                <a:solidFill>
                  <a:srgbClr val="ffffff"/>
                </a:solidFill>
                <a:latin typeface="Arial"/>
              </a:rPr>
              <a:t>d </a:t>
            </a:r>
            <a:r>
              <a:rPr b="0" lang="en-US" sz="2800" spc="-1" strike="noStrike">
                <a:solidFill>
                  <a:srgbClr val="3399ff"/>
                </a:solidFill>
                <a:latin typeface="Arial"/>
              </a:rPr>
              <a:t>o</a:t>
            </a:r>
            <a:r>
              <a:rPr b="0" lang="en-US" sz="2800" spc="-1" strike="noStrike">
                <a:solidFill>
                  <a:srgbClr val="ffffff"/>
                </a:solidFill>
                <a:latin typeface="Arial"/>
              </a:rPr>
              <a:t>v</a:t>
            </a:r>
            <a:r>
              <a:rPr b="0" lang="en-US" sz="2800" spc="-1" strike="noStrike">
                <a:solidFill>
                  <a:srgbClr val="3399ff"/>
                </a:solidFill>
                <a:latin typeface="Arial"/>
              </a:rPr>
              <a:t>e</a:t>
            </a:r>
            <a:r>
              <a:rPr b="0" lang="en-US" sz="2800" spc="-1" strike="noStrike">
                <a:solidFill>
                  <a:srgbClr val="ffffff"/>
                </a:solidFill>
                <a:latin typeface="Arial"/>
              </a:rPr>
              <a:t>r th</a:t>
            </a:r>
            <a:r>
              <a:rPr b="0" lang="en-US" sz="2800" spc="-1" strike="noStrike">
                <a:solidFill>
                  <a:srgbClr val="3399ff"/>
                </a:solidFill>
                <a:latin typeface="Arial"/>
              </a:rPr>
              <a:t>e</a:t>
            </a:r>
            <a:r>
              <a:rPr b="0" lang="en-US" sz="2800" spc="-1" strike="noStrike">
                <a:solidFill>
                  <a:srgbClr val="ffffff"/>
                </a:solidFill>
                <a:latin typeface="Arial"/>
              </a:rPr>
              <a:t> l</a:t>
            </a:r>
            <a:r>
              <a:rPr b="0" lang="en-US" sz="2800" spc="-1" strike="noStrike">
                <a:solidFill>
                  <a:srgbClr val="3399ff"/>
                </a:solidFill>
                <a:latin typeface="Arial"/>
              </a:rPr>
              <a:t>a</a:t>
            </a:r>
            <a:r>
              <a:rPr b="0" lang="en-US" sz="2800" spc="-1" strike="noStrike">
                <a:solidFill>
                  <a:srgbClr val="ffffff"/>
                </a:solidFill>
                <a:latin typeface="Arial"/>
              </a:rPr>
              <a:t>zy d</a:t>
            </a:r>
            <a:r>
              <a:rPr b="0" lang="en-US" sz="2800" spc="-1" strike="noStrike">
                <a:solidFill>
                  <a:srgbClr val="3399ff"/>
                </a:solidFill>
                <a:latin typeface="Arial"/>
              </a:rPr>
              <a:t>o</a:t>
            </a:r>
            <a:r>
              <a:rPr b="0" lang="en-US" sz="2800" spc="-1" strike="noStrike">
                <a:solidFill>
                  <a:srgbClr val="ffffff"/>
                </a:solidFill>
                <a:latin typeface="Arial"/>
              </a:rPr>
              <a:t>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Borders</a:t>
            </a:r>
            <a:endParaRPr b="1" lang="en-US" sz="3600" spc="-1" strike="noStrike">
              <a:solidFill>
                <a:srgbClr val="ffff66"/>
              </a:solidFill>
              <a:latin typeface="Arial"/>
            </a:endParaRPr>
          </a:p>
        </p:txBody>
      </p:sp>
      <p:sp>
        <p:nvSpPr>
          <p:cNvPr id="117" name="PlaceHolder 2"/>
          <p:cNvSpPr>
            <a:spLocks noGrp="1"/>
          </p:cNvSpPr>
          <p:nvPr>
            <p:ph/>
          </p:nvPr>
        </p:nvSpPr>
        <p:spPr>
          <a:xfrm>
            <a:off x="533160" y="1523520"/>
            <a:ext cx="80010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one at the top of the sli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extensively in news medi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 line, box, or transition in tex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border weight to other objects</a:t>
            </a:r>
            <a:endParaRPr b="0" lang="en-US" sz="2800" spc="-1" strike="noStrike">
              <a:solidFill>
                <a:srgbClr val="ffffff"/>
              </a:solidFill>
              <a:latin typeface="Arial"/>
            </a:endParaRPr>
          </a:p>
        </p:txBody>
      </p:sp>
      <p:pic>
        <p:nvPicPr>
          <p:cNvPr id="118" name="Borders" descr=""/>
          <p:cNvPicPr/>
          <p:nvPr/>
        </p:nvPicPr>
        <p:blipFill>
          <a:blip r:embed="rId1"/>
          <a:stretch/>
        </p:blipFill>
        <p:spPr>
          <a:xfrm>
            <a:off x="685800" y="3657600"/>
            <a:ext cx="6705720" cy="22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Spacing</a:t>
            </a:r>
            <a:endParaRPr b="1" lang="en-US" sz="3600" spc="-1" strike="noStrike">
              <a:solidFill>
                <a:srgbClr val="ffff66"/>
              </a:solidFill>
              <a:latin typeface="Arial"/>
            </a:endParaRPr>
          </a:p>
        </p:txBody>
      </p:sp>
      <p:sp>
        <p:nvSpPr>
          <p:cNvPr id="120" name="PlaceHolder 2"/>
          <p:cNvSpPr>
            <a:spLocks noGrp="1"/>
          </p:cNvSpPr>
          <p:nvPr>
            <p:ph/>
          </p:nvPr>
        </p:nvSpPr>
        <p:spPr>
          <a:xfrm>
            <a:off x="533160" y="1981080"/>
            <a:ext cx="51051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ffective techniqu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s, presentations, and computer keyboards rely on white space to associ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cing defines a grid and separates items into groups</a:t>
            </a:r>
            <a:endParaRPr b="0" lang="en-US" sz="2800" spc="-1" strike="noStrike">
              <a:solidFill>
                <a:srgbClr val="ffffff"/>
              </a:solidFill>
              <a:latin typeface="Arial"/>
            </a:endParaRPr>
          </a:p>
        </p:txBody>
      </p:sp>
      <p:pic>
        <p:nvPicPr>
          <p:cNvPr id="121" name="Alignment" descr=""/>
          <p:cNvPicPr/>
          <p:nvPr/>
        </p:nvPicPr>
        <p:blipFill>
          <a:blip r:embed="rId1"/>
          <a:srcRect l="2250" t="9001" r="63009" b="45007"/>
          <a:stretch/>
        </p:blipFill>
        <p:spPr>
          <a:xfrm>
            <a:off x="6172200" y="1905120"/>
            <a:ext cx="26478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sociation – Combinations</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professional interfaces and learn individual techniques fir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learn how to combine the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examples – newspaper, stereo, keyboard, copying machine, toolb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s – How Much is Enough?</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two types of col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al colors (for coloring larg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colors (for coloring small objects)</a:t>
            </a:r>
            <a:endParaRPr b="0" lang="en-US" sz="2400" spc="-1" strike="noStrike">
              <a:solidFill>
                <a:srgbClr val="ffffff"/>
              </a:solidFill>
              <a:latin typeface="Arial"/>
            </a:endParaRPr>
          </a:p>
        </p:txBody>
      </p:sp>
      <p:pic>
        <p:nvPicPr>
          <p:cNvPr id="126" name="color%20picker" descr=""/>
          <p:cNvPicPr/>
          <p:nvPr/>
        </p:nvPicPr>
        <p:blipFill>
          <a:blip r:embed="rId1"/>
          <a:stretch/>
        </p:blipFill>
        <p:spPr>
          <a:xfrm>
            <a:off x="1219320" y="3733920"/>
            <a:ext cx="3835440" cy="1650960"/>
          </a:xfrm>
          <a:prstGeom prst="rect">
            <a:avLst/>
          </a:prstGeom>
          <a:ln w="0">
            <a:noFill/>
          </a:ln>
        </p:spPr>
      </p:pic>
      <p:sp>
        <p:nvSpPr>
          <p:cNvPr id="127" name=""/>
          <p:cNvSpPr/>
          <p:nvPr/>
        </p:nvSpPr>
        <p:spPr>
          <a:xfrm flipH="1" flipV="1">
            <a:off x="4800240" y="3962160"/>
            <a:ext cx="762120" cy="75960"/>
          </a:xfrm>
          <a:prstGeom prst="line">
            <a:avLst/>
          </a:prstGeom>
          <a:ln w="38160">
            <a:solidFill>
              <a:srgbClr val="00000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flipH="1">
            <a:off x="4800240" y="403848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800240" y="449568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800240" y="4876920"/>
            <a:ext cx="762120" cy="228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48680" y="3870360"/>
            <a:ext cx="1716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tral colors</a:t>
            </a:r>
            <a:endParaRPr b="0" lang="en-US" sz="1800" spc="-1" strike="noStrike">
              <a:solidFill>
                <a:srgbClr val="000000"/>
              </a:solidFill>
              <a:latin typeface="Times New Roman"/>
            </a:endParaRPr>
          </a:p>
        </p:txBody>
      </p:sp>
      <p:sp>
        <p:nvSpPr>
          <p:cNvPr id="132" name=""/>
          <p:cNvSpPr/>
          <p:nvPr/>
        </p:nvSpPr>
        <p:spPr>
          <a:xfrm>
            <a:off x="5546880" y="4327560"/>
            <a:ext cx="1924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light colors</a:t>
            </a:r>
            <a:endParaRPr b="0" lang="en-US" sz="1800" spc="-1" strike="noStrike">
              <a:solidFill>
                <a:srgbClr val="000000"/>
              </a:solidFill>
              <a:latin typeface="Times New Roman"/>
            </a:endParaRPr>
          </a:p>
        </p:txBody>
      </p:sp>
      <p:sp>
        <p:nvSpPr>
          <p:cNvPr id="133" name=""/>
          <p:cNvSpPr/>
          <p:nvPr/>
        </p:nvSpPr>
        <p:spPr>
          <a:xfrm>
            <a:off x="5565240" y="4726080"/>
            <a:ext cx="2350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color picker</a:t>
            </a:r>
            <a:endParaRPr b="0" lang="en-US" sz="1800" spc="-1" strike="noStrike">
              <a:solidFill>
                <a:srgbClr val="000000"/>
              </a:solidFill>
              <a:latin typeface="Times New Roman"/>
            </a:endParaRPr>
          </a:p>
        </p:txBody>
      </p:sp>
      <p:sp>
        <p:nvSpPr>
          <p:cNvPr id="134" name=""/>
          <p:cNvSpPr/>
          <p:nvPr/>
        </p:nvSpPr>
        <p:spPr>
          <a:xfrm flipH="1" flipV="1">
            <a:off x="3657240" y="5257800"/>
            <a:ext cx="3049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95680" y="5564160"/>
            <a:ext cx="942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endParaRPr b="0" lang="en-US" sz="1800" spc="-1" strike="noStrike">
              <a:solidFill>
                <a:srgbClr val="000000"/>
              </a:solidFill>
              <a:latin typeface="Times New Roman"/>
            </a:endParaRPr>
          </a:p>
        </p:txBody>
      </p:sp>
      <p:sp>
        <p:nvSpPr>
          <p:cNvPr id="136" name=""/>
          <p:cNvSpPr/>
          <p:nvPr/>
        </p:nvSpPr>
        <p:spPr>
          <a:xfrm flipH="1" flipV="1">
            <a:off x="1523520" y="5257800"/>
            <a:ext cx="3049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145160" y="5564160"/>
            <a:ext cx="15004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par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
          <p:cNvSpPr/>
          <p:nvPr/>
        </p:nvSpPr>
        <p:spPr>
          <a:xfrm>
            <a:off x="152280" y="990720"/>
            <a:ext cx="8915400" cy="5181480"/>
          </a:xfrm>
          <a:prstGeom prst="rect">
            <a:avLst/>
          </a:prstGeom>
          <a:solidFill>
            <a:srgbClr val="e8e8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or Blind?</a:t>
            </a:r>
            <a:endParaRPr b="1" lang="en-US" sz="3600" spc="-1" strike="noStrike">
              <a:solidFill>
                <a:srgbClr val="ffff66"/>
              </a:solidFill>
              <a:latin typeface="Arial"/>
            </a:endParaRPr>
          </a:p>
        </p:txBody>
      </p:sp>
      <p:pic>
        <p:nvPicPr>
          <p:cNvPr id="140" name="ishihara12" descr=""/>
          <p:cNvPicPr/>
          <p:nvPr/>
        </p:nvPicPr>
        <p:blipFill>
          <a:blip r:embed="rId1"/>
          <a:stretch/>
        </p:blipFill>
        <p:spPr>
          <a:xfrm>
            <a:off x="152280" y="990720"/>
            <a:ext cx="2960640" cy="2960640"/>
          </a:xfrm>
          <a:prstGeom prst="rect">
            <a:avLst/>
          </a:prstGeom>
          <a:ln w="0">
            <a:noFill/>
          </a:ln>
        </p:spPr>
      </p:pic>
      <p:pic>
        <p:nvPicPr>
          <p:cNvPr id="141" name="ishihara2" descr=""/>
          <p:cNvPicPr/>
          <p:nvPr/>
        </p:nvPicPr>
        <p:blipFill>
          <a:blip r:embed="rId2"/>
          <a:stretch/>
        </p:blipFill>
        <p:spPr>
          <a:xfrm>
            <a:off x="3048120" y="990720"/>
            <a:ext cx="2993760" cy="2993760"/>
          </a:xfrm>
          <a:prstGeom prst="rect">
            <a:avLst/>
          </a:prstGeom>
          <a:ln w="0">
            <a:noFill/>
          </a:ln>
        </p:spPr>
      </p:pic>
      <p:pic>
        <p:nvPicPr>
          <p:cNvPr id="142" name="ishihara5" descr=""/>
          <p:cNvPicPr/>
          <p:nvPr/>
        </p:nvPicPr>
        <p:blipFill>
          <a:blip r:embed="rId3"/>
          <a:stretch/>
        </p:blipFill>
        <p:spPr>
          <a:xfrm>
            <a:off x="6049800" y="990720"/>
            <a:ext cx="3017880" cy="3017880"/>
          </a:xfrm>
          <a:prstGeom prst="rect">
            <a:avLst/>
          </a:prstGeom>
          <a:ln w="0">
            <a:noFill/>
          </a:ln>
        </p:spPr>
      </p:pic>
      <p:pic>
        <p:nvPicPr>
          <p:cNvPr id="143" name="normalcolor72gif" descr=""/>
          <p:cNvPicPr/>
          <p:nvPr/>
        </p:nvPicPr>
        <p:blipFill>
          <a:blip r:embed="rId4"/>
          <a:stretch/>
        </p:blipFill>
        <p:spPr>
          <a:xfrm>
            <a:off x="884160" y="3962520"/>
            <a:ext cx="2468520" cy="2206440"/>
          </a:xfrm>
          <a:prstGeom prst="rect">
            <a:avLst/>
          </a:prstGeom>
          <a:ln w="0">
            <a:noFill/>
          </a:ln>
        </p:spPr>
      </p:pic>
      <p:pic>
        <p:nvPicPr>
          <p:cNvPr id="144" name="protanope72gif" descr=""/>
          <p:cNvPicPr/>
          <p:nvPr/>
        </p:nvPicPr>
        <p:blipFill>
          <a:blip r:embed="rId5"/>
          <a:stretch/>
        </p:blipFill>
        <p:spPr>
          <a:xfrm>
            <a:off x="3322800" y="3978360"/>
            <a:ext cx="2468520" cy="2193840"/>
          </a:xfrm>
          <a:prstGeom prst="rect">
            <a:avLst/>
          </a:prstGeom>
          <a:ln w="0">
            <a:noFill/>
          </a:ln>
        </p:spPr>
      </p:pic>
      <p:pic>
        <p:nvPicPr>
          <p:cNvPr id="145" name="deuteranope72gif" descr=""/>
          <p:cNvPicPr/>
          <p:nvPr/>
        </p:nvPicPr>
        <p:blipFill>
          <a:blip r:embed="rId6"/>
          <a:stretch/>
        </p:blipFill>
        <p:spPr>
          <a:xfrm>
            <a:off x="5761080" y="3954600"/>
            <a:ext cx="2468520" cy="221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nts – A Few Guidelines</a:t>
            </a:r>
            <a:endParaRPr b="1" lang="en-US" sz="3600" spc="-1" strike="noStrike">
              <a:solidFill>
                <a:srgbClr val="ffff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ery few fonts on a pane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or three fonts is probably the lim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is often the right numb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 the size, weight or boldness inst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rif fonts for printed blocks of tex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on-serif or sans-serif fonts for scr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 Control Guidelines</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includes a built-in tab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lows more information on a pan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implifies the programming and the U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ot foolproo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od, Bad, or Ugly?</a:t>
            </a:r>
            <a:endParaRPr b="1" lang="en-US" sz="3600" spc="-1" strike="noStrike">
              <a:solidFill>
                <a:srgbClr val="ffff66"/>
              </a:solidFill>
              <a:latin typeface="Arial"/>
            </a:endParaRPr>
          </a:p>
        </p:txBody>
      </p:sp>
      <p:pic>
        <p:nvPicPr>
          <p:cNvPr id="95" name="ExampleVI%201" descr=""/>
          <p:cNvPicPr/>
          <p:nvPr/>
        </p:nvPicPr>
        <p:blipFill>
          <a:blip r:embed="rId1"/>
          <a:stretch/>
        </p:blipFill>
        <p:spPr>
          <a:xfrm>
            <a:off x="685800" y="1600200"/>
            <a:ext cx="6324480" cy="448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 Control No-No’s</a:t>
            </a:r>
            <a:endParaRPr b="1" lang="en-US" sz="3600" spc="-1" strike="noStrike">
              <a:solidFill>
                <a:srgbClr val="ffff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scriptive n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any rows of tab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scrollbars if possi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having tabs perform a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rol Features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3</a:t>
            </a:r>
            <a:r>
              <a:rPr b="0" lang="en-US" sz="2800" spc="-1" strike="noStrike">
                <a:solidFill>
                  <a:srgbClr val="ffffff"/>
                </a:solidFill>
                <a:latin typeface="Arial"/>
              </a:rPr>
              <a:t>D controls and line deco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cales on graphs and char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olumn list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 ramp for rotary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graph, logic analyzer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ditor Features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re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bVI can make attribute ch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t to share code and clean up diagra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Strips on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and 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control and panel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od, Bad, or Ugly?</a:t>
            </a:r>
            <a:endParaRPr b="1" lang="en-US" sz="3600" spc="-1" strike="noStrike">
              <a:solidFill>
                <a:srgbClr val="ffff66"/>
              </a:solidFill>
              <a:latin typeface="Arial"/>
            </a:endParaRPr>
          </a:p>
        </p:txBody>
      </p:sp>
      <p:pic>
        <p:nvPicPr>
          <p:cNvPr id="97" name="vbcounter" descr=""/>
          <p:cNvPicPr/>
          <p:nvPr/>
        </p:nvPicPr>
        <p:blipFill>
          <a:blip r:embed="rId1"/>
          <a:stretch/>
        </p:blipFill>
        <p:spPr>
          <a:xfrm>
            <a:off x="685800" y="1981080"/>
            <a:ext cx="7696080" cy="257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 are We to Judge?</a:t>
            </a:r>
            <a:endParaRPr b="1" lang="en-US" sz="3600" spc="-1" strike="noStrike">
              <a:solidFill>
                <a:srgbClr val="ffff66"/>
              </a:solidFill>
              <a:latin typeface="Arial"/>
            </a:endParaRPr>
          </a:p>
        </p:txBody>
      </p:sp>
      <p:sp>
        <p:nvSpPr>
          <p:cNvPr id="99" name="PlaceHolder 2"/>
          <p:cNvSpPr>
            <a:spLocks noGrp="1"/>
          </p:cNvSpPr>
          <p:nvPr>
            <p:ph/>
          </p:nvPr>
        </p:nvSpPr>
        <p:spPr>
          <a:xfrm>
            <a:off x="685800" y="1980720"/>
            <a:ext cx="77724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ial design degre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ic design degre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cri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have experience with the real worl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rely on familiar interfaces to guide 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goal is to recognize our limits, to mimic and copy the profession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VIs, stereo, car, newspap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control guidel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features in LabVIEW 6</a:t>
            </a:r>
            <a:r>
              <a:rPr b="0" i="1" lang="en-US" sz="2800" spc="-1" strike="noStrike">
                <a:solidFill>
                  <a:srgbClr val="ffffff"/>
                </a:solidFill>
                <a:latin typeface="Arial"/>
              </a:rPr>
              <a: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1 – What’s Wrong With It?</a:t>
            </a:r>
            <a:endParaRPr b="1" lang="en-US" sz="3600" spc="-1" strike="noStrike">
              <a:solidFill>
                <a:srgbClr val="ffff66"/>
              </a:solidFill>
              <a:latin typeface="Arial"/>
            </a:endParaRPr>
          </a:p>
        </p:txBody>
      </p:sp>
      <p:pic>
        <p:nvPicPr>
          <p:cNvPr id="103" name="ExampleVI%201" descr=""/>
          <p:cNvPicPr/>
          <p:nvPr/>
        </p:nvPicPr>
        <p:blipFill>
          <a:blip r:embed="rId1"/>
          <a:stretch/>
        </p:blipFill>
        <p:spPr>
          <a:xfrm>
            <a:off x="685800" y="1600200"/>
            <a:ext cx="6324480" cy="44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st, Let’s Remove the Color</a:t>
            </a:r>
            <a:endParaRPr b="1" lang="en-US" sz="3600" spc="-1" strike="noStrike">
              <a:solidFill>
                <a:srgbClr val="ffff66"/>
              </a:solidFill>
              <a:latin typeface="Arial"/>
            </a:endParaRPr>
          </a:p>
        </p:txBody>
      </p:sp>
      <p:pic>
        <p:nvPicPr>
          <p:cNvPr id="105" name="ExampleVI%202" descr=""/>
          <p:cNvPicPr/>
          <p:nvPr/>
        </p:nvPicPr>
        <p:blipFill>
          <a:blip r:embed="rId1"/>
          <a:stretch/>
        </p:blipFill>
        <p:spPr>
          <a:xfrm>
            <a:off x="685800" y="1600200"/>
            <a:ext cx="632448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ve Text Labels</a:t>
            </a:r>
            <a:endParaRPr b="1" lang="en-US" sz="3600" spc="-1" strike="noStrike">
              <a:solidFill>
                <a:srgbClr val="ffff66"/>
              </a:solidFill>
              <a:latin typeface="Arial"/>
            </a:endParaRPr>
          </a:p>
        </p:txBody>
      </p:sp>
      <p:pic>
        <p:nvPicPr>
          <p:cNvPr id="107" name="ExampleVI%203" descr=""/>
          <p:cNvPicPr/>
          <p:nvPr/>
        </p:nvPicPr>
        <p:blipFill>
          <a:blip r:embed="rId1"/>
          <a:stretch/>
        </p:blipFill>
        <p:spPr>
          <a:xfrm>
            <a:off x="685800" y="1600200"/>
            <a:ext cx="5486400" cy="451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ck into a Tighter Grid</a:t>
            </a:r>
            <a:endParaRPr b="1" lang="en-US" sz="3600" spc="-1" strike="noStrike">
              <a:solidFill>
                <a:srgbClr val="ffff66"/>
              </a:solidFill>
              <a:latin typeface="Arial"/>
            </a:endParaRPr>
          </a:p>
        </p:txBody>
      </p:sp>
      <p:pic>
        <p:nvPicPr>
          <p:cNvPr id="109" name="ExampleVI%204" descr=""/>
          <p:cNvPicPr/>
          <p:nvPr/>
        </p:nvPicPr>
        <p:blipFill>
          <a:blip r:embed="rId1"/>
          <a:stretch/>
        </p:blipFill>
        <p:spPr>
          <a:xfrm>
            <a:off x="685800" y="1676520"/>
            <a:ext cx="6858000" cy="41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1T22:12:54Z</dcterms:modified>
  <cp:revision>82</cp:revision>
  <dc:subject/>
  <dc:title>Expanding Your Business with Marketing</dc:title>
</cp:coreProperties>
</file>