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7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crosoft Visual Basic, Visual  C++, and ANSI C Programming Techniqu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4114800"/>
            <a:ext cx="7238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Rohac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 Aug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:00-1:15 p.m., 3:30-4:4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ckory (9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icrosoft Visual C++ Techniqu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reusab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localizab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Reusable Co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-oriented programm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FC’s document/view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y objects and __declspec(property(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parameter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w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andling Err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high-level try/catch blocks to trap unexpected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user to sa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y/catch blocks around code that can fail, but that your program can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rror-check macros or inline functions to translate API return values to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uto_ptr&lt;&gt; to clean up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Localizable 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interface – string resourc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 strings – string resource f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CString multi-by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ode vs. multi-byte character st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not supported on Win9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ng parsing is tricky for multi-byte character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icrosoft Visual Basic Techniqu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reusable code/calling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localizab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Reusable Code/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alling DLL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COM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Visual Basic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ng data from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ing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PI Viewer add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ing DLL procedures man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andling Err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program into proced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that can f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s that do not f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general-purpose error handling procedures that return action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general-purpose error handling procedures from procedures that can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Localizable 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interface – string resourc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 strings – string resourc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B uses Unicode strings and performs all conversions automa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ng sizes provided by external functions are often in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reusab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localizab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use the techniques from the beginning than to “retrofit”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se techniques will help you formalize and develop your ow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ers typically are not formally educated software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ly written programs often produce results quickly, but they usually lead to futur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techniques increase productivity and future flex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I/C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Visual C++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Visual Basic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tivation for Using Techniqu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implementation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inter-project and intra-project code 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update/enhancement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multi-developer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application 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application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you and your application look bet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NSI/C Techniqu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reusab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localizab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VI tricks and t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Reusable Co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parameter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andling Err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 resource variables to 0/N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only one return statement p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ontext-agnostic cleanup c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rror checking mac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lloca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riting Localizable 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 – CVI’s localization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strings – string resource .ini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byte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_mb – style functions on multi-byte strings (for example _mbsst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supported in CVI 5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be supported in future version of C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supported in Win9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lans for support in future version of C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VI Tips and Trick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text to search buffer – Ctrl+Shift+F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Function Panel – Ctrl+Shift+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e through windows – Ctrl+F6, Ctrl+Shift+F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xt – F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ff the find button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keyboard help – in source window help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4:04:06Z</dcterms:created>
  <dc:creator>drohacek</dc:creator>
  <dc:description/>
  <dc:language>en-US</dc:language>
  <cp:lastModifiedBy>David Steele</cp:lastModifiedBy>
  <cp:lastPrinted>1999-08-14T01:08:40Z</cp:lastPrinted>
  <dcterms:modified xsi:type="dcterms:W3CDTF">2000-07-14T22:23:31Z</dcterms:modified>
  <cp:revision>7</cp:revision>
  <dc:subject/>
  <dc:title>Microsoft Visual Basic, Visual  C++, and ANSI C Programming Techniques</dc:title>
</cp:coreProperties>
</file>