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655C7514-3B5B-4AD1-90ED-81434D7DB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Carl Petersen</cp:lastModifiedBy>
  <cp:lastPrinted>2001-04-11T19:24:26Z</cp:lastPrinted>
  <dcterms:modified xsi:type="dcterms:W3CDTF">2001-04-11T19:29:45Z</dcterms:modified>
  <cp:revision>22</cp:revision>
  <dc:subject/>
  <dc:title>Telecom Audio Testing</dc:title>
</cp:coreProperties>
</file>