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52360" y="691920"/>
            <a:ext cx="455472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Habits of Highly Effective LabVIEW DAQ Programmer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HO1A - </a:t>
            </a:r>
            <a:fld id="{F24D6D25-6F64-4EE0-BB7F-83AA95EA9FA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52360" y="692280"/>
            <a:ext cx="4554720" cy="3416040"/>
          </a:xfrm>
          <a:prstGeom prst="rect">
            <a:avLst/>
          </a:prstGeom>
          <a:ln w="0">
            <a:noFill/>
          </a:ln>
        </p:spPr>
      </p:sp>
      <p:sp>
        <p:nvSpPr>
          <p:cNvPr id="151" name="PlaceHolder 2"/>
          <p:cNvSpPr>
            <a:spLocks noGrp="1"/>
          </p:cNvSpPr>
          <p:nvPr>
            <p:ph type="body"/>
          </p:nvPr>
        </p:nvSpPr>
        <p:spPr>
          <a:xfrm>
            <a:off x="914040" y="4343400"/>
            <a:ext cx="5057640" cy="4284720"/>
          </a:xfrm>
          <a:prstGeom prst="rect">
            <a:avLst/>
          </a:prstGeom>
          <a:noFill/>
          <a:ln w="0">
            <a:noFill/>
          </a:ln>
        </p:spPr>
        <p:txBody>
          <a:bodyPr lIns="92160" rIns="92160" tIns="46080" bIns="46080" anchor="t">
            <a:noAutofit/>
          </a:bodyPr>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s to use waveform data type:</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thing on one wire (simpler diagram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ilt-in timing information (start time, and delta T), channel names, error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sis VIs and charts/graphs can use timing information</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vs. scaled data – acquiring binary data is faster and more efficient for saving to disk.</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to index VI – use this VI along with AI Buffered Read to read selective channel data from the driver into LabVIEW memory. This is especially useful in Remote Device Access (RDA) applications. If you were acquiring 100 channels of data on your remote machine but you only needed to see five channels of data, you wouldn’t want to bog down your network with unnecessary traffic from the 95 other channels. By using the Channel to Index VI, you can select which channels of data actually get transferred over the network (even though the remote machine is still acquiring all the channels). In networked applications, this can affect throughput tremendously. See NIWeek example </a:t>
            </a:r>
            <a:r>
              <a:rPr b="1" lang="en-US" sz="1200" spc="-1" strike="noStrike">
                <a:solidFill>
                  <a:srgbClr val="000000"/>
                </a:solidFill>
                <a:latin typeface="Times New Roman"/>
              </a:rPr>
              <a:t>channel to index demo.v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al Retrieval – use this cluster on AI Read to specify acquisition criteria. For boards that do not have HW analog triggers, you can use conditional retrieval to tell NI-DAQ “give me data once the signal crosses .7 volts with a rising edge slope”. See LabVIEW example </a:t>
            </a:r>
            <a:r>
              <a:rPr b="1" lang="en-US" sz="1200" spc="-1" strike="noStrike">
                <a:solidFill>
                  <a:srgbClr val="000000"/>
                </a:solidFill>
                <a:latin typeface="Times New Roman"/>
              </a:rPr>
              <a:t>Acquire N Scans Analog Software Trig.vi</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52360" y="692280"/>
            <a:ext cx="4554720" cy="341604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 panels in MAX allow you to quickly check your signals without any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 channels simplify channel strings and scaling from voltages to engineering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to use cryptic channel strings like ob0!sc1!md4!3. Instead, name the channel something descriptive like “Left front brake temperature”. Also, instead of manually converting a thermocouple’s reading in the mV to degrees, let MAX do i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6</a:t>
            </a:r>
            <a:r>
              <a:rPr b="0" i="1" lang="en-US" sz="1200" spc="-1" strike="noStrike">
                <a:solidFill>
                  <a:srgbClr val="000000"/>
                </a:solidFill>
                <a:latin typeface="Times New Roman"/>
              </a:rPr>
              <a:t>i</a:t>
            </a:r>
            <a:r>
              <a:rPr b="0" lang="en-US" sz="1200" spc="-1" strike="noStrike">
                <a:solidFill>
                  <a:srgbClr val="000000"/>
                </a:solidFill>
                <a:latin typeface="Times New Roman"/>
              </a:rPr>
              <a:t>’s new I/O control allows you to easily select and edit virt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 can contact </a:t>
            </a:r>
            <a:r>
              <a:rPr b="1" lang="en-US" sz="1200" spc="-1" strike="noStrike">
                <a:solidFill>
                  <a:srgbClr val="000000"/>
                </a:solidFill>
                <a:latin typeface="Times New Roman"/>
              </a:rPr>
              <a:t>ni.com</a:t>
            </a:r>
            <a:r>
              <a:rPr b="0" lang="en-US" sz="1200" spc="-1" strike="noStrike">
                <a:solidFill>
                  <a:srgbClr val="000000"/>
                </a:solidFill>
                <a:latin typeface="Times New Roman"/>
              </a:rPr>
              <a:t> to determine whether you have the latest software vers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52360" y="692280"/>
            <a:ext cx="4554720" cy="341604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with an example helps you to understand what VIs to call and in what order they should be called. Examples provide a solid foundation on which to base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how intuitive or easy LabVIEW is, it is still programming. Good programming principles are still important and will lead to code that is easier to debug, easier to add features to, and easier to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te machine can be defined in many different ways. For the purpose of this habit, we’ll define a state machine as a software model that divides an application into logical states such as initialize board, acquire waveform, set output voltage, save data to disk, and most likely, a “wait for user input” state. The transition from state to state depends on several factors including, but not limited to, success/failure of task, user input, time, or data 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machines in LabVIEW involve a case structure in a while loop. The case structure contains cases for each state. To move from state to state, you pass the next state of your application through a shift register wired back into the case structure. See NIWeek example </a:t>
            </a:r>
            <a:r>
              <a:rPr b="1" lang="en-US" sz="1200" spc="-1" strike="noStrike">
                <a:solidFill>
                  <a:srgbClr val="000000"/>
                </a:solidFill>
                <a:latin typeface="Times New Roman"/>
              </a:rPr>
              <a:t>State Machine.llb</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okie cutting common constructs” refers to creating Merge VIs on your Functions palette that are often used. How many times have you created data acquisition program with “config/start/read/clear”? You will add a state machine template to your Functions palette in exercise 1 (see handou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52360" y="692280"/>
            <a:ext cx="4554720" cy="3416040"/>
          </a:xfrm>
          <a:prstGeom prst="rect">
            <a:avLst/>
          </a:prstGeom>
          <a:ln w="0">
            <a:noFill/>
          </a:ln>
        </p:spPr>
      </p:sp>
      <p:sp>
        <p:nvSpPr>
          <p:cNvPr id="143" name="PlaceHolder 2"/>
          <p:cNvSpPr>
            <a:spLocks noGrp="1"/>
          </p:cNvSpPr>
          <p:nvPr>
            <p:ph type="body"/>
          </p:nvPr>
        </p:nvSpPr>
        <p:spPr>
          <a:xfrm>
            <a:off x="914040" y="4343040"/>
            <a:ext cx="5057640" cy="435924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I/O – Simple, one-shot acquisition VIs. These VIs can be called in a loop but you will take a performance hit. A typical acquisition consists of a “config, start, read, and clear”. That’s what the Easy I/O VIs call internally. Calling an Easy I/O VI in a loop causes unnecessary calls to AI Config, AI Start, and AI Clear for each it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diate DAQ VIs – The majority of DAQ users call into the intermediate-level VIs. These VIs offer flexibility while maintaining ease-of-use. The intermediate-level VIs consist of AI Config, AI Start, AI Read, AI Single Scan, and AI Clear. For typical buffered, continuous acquisitions, you call AI Config, AI Start, then AI Read in a while loop, followed by AI Clear. Although the intermediate VIs expose advanced features such as clock and trigger configuration, the default values for those inputs will satisfy most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d DAQ VIs – Most intermediate DAQ VIs internally call the lowest level advanced DAQ VIs. The advanced DAQ VIs can be called when features are not exposed by the intermediate VIs. For example, you might use AI Buffered Read instead of AI Read in order to access the </a:t>
            </a:r>
            <a:r>
              <a:rPr b="1" lang="en-US" sz="1200" spc="-1" strike="noStrike">
                <a:solidFill>
                  <a:srgbClr val="000000"/>
                </a:solidFill>
                <a:latin typeface="Times New Roman"/>
              </a:rPr>
              <a:t>read specification</a:t>
            </a:r>
            <a:r>
              <a:rPr b="0" lang="en-US" sz="1200" spc="-1" strike="noStrike">
                <a:solidFill>
                  <a:srgbClr val="000000"/>
                </a:solidFill>
                <a:latin typeface="Times New Roman"/>
              </a:rPr>
              <a:t> cluster. You can also call advanced VIs to query for low level settings. For instance, if you need to know what gain, range, or polarity was set up by NI-DAQ, you can follow your call to AI Config with AI Hardware Config and interrogate the </a:t>
            </a:r>
            <a:r>
              <a:rPr b="1" lang="en-US" sz="1200" spc="-1" strike="noStrike">
                <a:solidFill>
                  <a:srgbClr val="000000"/>
                </a:solidFill>
                <a:latin typeface="Times New Roman"/>
              </a:rPr>
              <a:t>group channel settings</a:t>
            </a:r>
            <a:r>
              <a:rPr b="0" lang="en-US" sz="1200" spc="-1" strike="noStrike">
                <a:solidFill>
                  <a:srgbClr val="000000"/>
                </a:solidFill>
                <a:latin typeface="Times New Roman"/>
              </a:rPr>
              <a:t> clus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2360" y="692280"/>
            <a:ext cx="4554720" cy="341604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 Read.vi can be used in many ways, some of which are outlined here. Depending on your application, altering the default behavior of AI Read can improve the performance of your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the acquisition status – You want to be able to check how many points your DAQ board has acquired before trying to read the data. If you are reading 1,000 point blocks from the board, you wouldn’t want to read the buffer when only 100 points were available. If you do, AI Read will block (data flow will cease) until the other 900 points are acquired. To check how many points are available, pass 0 for the number of scans to read and check the scan backlog output. Using the scan backlog, you can write your VI so that data is read from the buffer only when all of the data is pres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52360" y="692280"/>
            <a:ext cx="4554720" cy="341604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 Read’s read/search position inpu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I Read reads N points, the default behavior is to read where it last left off. This is useful if you need to see every acquired point. Errors can occur if your acquisition rate is too fast (or your acquisition buffer is too small) resulting in a -10846 buffer overrun error.</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every point is not important to you or if you want to maximize the DAQ board’s sample rate, you can have NI-DAQ read the latest acquired points rather than reading where it left off. To do so, specify relative to end of data for the read/search position. In the above hypothetical example, you would want to read relative to end of data to avoid a buffer overrun.</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roduces a new problem. If you specify relative to end of data and you read two points out at a time, AI Read would block until points 8 and 9 are acquired. You can use a read offset of -2 to have AI Read immediately return points 6 and 7.</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2600" y="674640"/>
            <a:ext cx="4556160" cy="34164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DAQ Occurrence Config VI to set up the occurrence condition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y when the acquisition is comple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y when N scans are acquir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y every time N scans are 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s include digital pattern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 into Wait On Occurrenc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t>
            </a:r>
            <a:r>
              <a:rPr b="1" lang="en-US" sz="1200" spc="-1" strike="noStrike">
                <a:solidFill>
                  <a:srgbClr val="000000"/>
                </a:solidFill>
                <a:latin typeface="Times New Roman"/>
              </a:rPr>
              <a:t>Acquire N Scans – Async Occurrence.vi </a:t>
            </a:r>
            <a:r>
              <a:rPr b="0" lang="en-US" sz="1200" spc="-1" strike="noStrike">
                <a:solidFill>
                  <a:srgbClr val="000000"/>
                </a:solidFill>
                <a:latin typeface="Times New Roman"/>
              </a:rPr>
              <a:t>that ships with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ven Habits of Highly Effective LabVIEW</a:t>
            </a:r>
            <a:r>
              <a:rPr b="1" lang="en-US" sz="3600" spc="-1" strike="noStrike" baseline="30000">
                <a:solidFill>
                  <a:srgbClr val="ffff66"/>
                </a:solidFill>
                <a:latin typeface="Arial"/>
              </a:rPr>
              <a:t>™</a:t>
            </a:r>
            <a:r>
              <a:rPr b="1" lang="en-US" sz="3600" spc="-1" strike="noStrike">
                <a:solidFill>
                  <a:srgbClr val="ffff66"/>
                </a:solidFill>
                <a:latin typeface="Arial"/>
              </a:rPr>
              <a:t> DAQ Programmers</a:t>
            </a:r>
            <a:endParaRPr b="1" lang="en-US" sz="3600" spc="-1" strike="noStrike">
              <a:solidFill>
                <a:srgbClr val="ffff66"/>
              </a:solidFill>
              <a:latin typeface="Arial"/>
            </a:endParaRPr>
          </a:p>
        </p:txBody>
      </p:sp>
      <p:sp>
        <p:nvSpPr>
          <p:cNvPr id="94" name="PlaceHolder 2"/>
          <p:cNvSpPr>
            <a:spLocks noGrp="1"/>
          </p:cNvSpPr>
          <p:nvPr>
            <p:ph type="subTitle"/>
          </p:nvPr>
        </p:nvSpPr>
        <p:spPr>
          <a:xfrm>
            <a:off x="304920" y="3733920"/>
            <a:ext cx="8610480" cy="25905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id Lee</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ff Software Engineer</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3:30-4:45 p.m.</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6</a:t>
            </a:r>
            <a:endParaRPr b="1" lang="en-US" sz="3600" spc="-1" strike="noStrike">
              <a:solidFill>
                <a:srgbClr val="ffff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data efficienc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data type (LabVIEW 6</a:t>
            </a:r>
            <a:r>
              <a:rPr b="0" i="1" lang="en-US" sz="2400" spc="-1" strike="noStrike">
                <a:solidFill>
                  <a:srgbClr val="ffffff"/>
                </a:solidFill>
                <a:latin typeface="Arial"/>
              </a:rPr>
              <a:t>i</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ary vs. scaled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nel to Index and AI Buffer Read V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al retriev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7</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rofi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s Profiler helps you:</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ct memory leak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what VIs your application spends the most time in</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ated NIWeek Sessions</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1A – Check Out The Latest LabVIEW</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day today, Exhibit 3A</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3B – LabVIEW Programming Techniqu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iday, 10:15 AM and 1:45 PM, Ash (10A)</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ing Measuremen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page 7 of your NIWeek program</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mperature : WS1A &amp; SP1B</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cy : WS1B</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ain and Displacement : WS1D</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bration : WS2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sing</a:t>
            </a:r>
            <a:endParaRPr b="1" lang="en-US" sz="3600" spc="-1" strike="noStrike">
              <a:solidFill>
                <a:srgbClr val="ffff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s for exerci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t Developer Zone</a:t>
            </a:r>
            <a:r>
              <a:rPr b="0" lang="en-US" sz="2800" spc="-1" strike="noStrike" baseline="30000">
                <a:solidFill>
                  <a:srgbClr val="ffffff"/>
                </a:solidFill>
                <a:latin typeface="Arial"/>
              </a:rPr>
              <a:t>™</a:t>
            </a:r>
            <a:r>
              <a:rPr b="0" lang="en-US" sz="2800" spc="-1" strike="noStrike">
                <a:solidFill>
                  <a:srgbClr val="ffffff"/>
                </a:solidFill>
                <a:latin typeface="Arial"/>
              </a:rPr>
              <a:t> – zone.ni.co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 libr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present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foru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 key habits and exerci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pectations</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shou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amiliar with LabVIEW and data acquisition terminolog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used LabVIEW to build a V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1</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Measurement &amp; Automation Explorer (MA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hardwa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pan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channel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channel name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ing</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control in LabVIEW 6</a:t>
            </a:r>
            <a:r>
              <a:rPr b="0" i="1" lang="en-US" sz="2400" spc="-1" strike="noStrike">
                <a:solidFill>
                  <a:srgbClr val="ffffff"/>
                </a:solidFill>
                <a:latin typeface="Arial"/>
              </a:rPr>
              <a:t>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 updates wiza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2</a:t>
            </a:r>
            <a:endParaRPr b="1" lang="en-US" sz="3600" spc="-1" strike="noStrike">
              <a:solidFill>
                <a:srgbClr val="ffff66"/>
              </a:solidFill>
              <a:latin typeface="Arial"/>
            </a:endParaRPr>
          </a:p>
        </p:txBody>
      </p:sp>
      <p:sp>
        <p:nvSpPr>
          <p:cNvPr id="102"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and plan</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with examples</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Wizard</a:t>
            </a:r>
            <a:endParaRPr b="0" lang="en-US" sz="20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s verify signal connections </a:t>
            </a:r>
            <a:endParaRPr b="0" lang="en-US" sz="20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s a solid foundation</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rchitecture</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ak application into logical tasks</a:t>
            </a:r>
            <a:endParaRPr b="0" lang="en-US" sz="20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a state machine approach</a:t>
            </a:r>
            <a:endParaRPr b="0" lang="en-US" sz="20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okie cutting common constructs – Merge VI</a:t>
            </a:r>
            <a:endParaRPr b="0" lang="en-US" sz="2000" spc="-1" strike="noStrike">
              <a:solidFill>
                <a:srgbClr val="ffffff"/>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3</a:t>
            </a:r>
            <a:endParaRPr b="1" lang="en-US" sz="3600" spc="-1" strike="noStrike">
              <a:solidFill>
                <a:srgbClr val="ffff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DAQ VI palett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I/O, intermediate, &amp; advanced V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VI placement</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4</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 analog inp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icacies of AI rea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ing acquisition status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ng ‘blocking’</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
          <p:cNvSpPr/>
          <p:nvPr/>
        </p:nvSpPr>
        <p:spPr>
          <a:xfrm>
            <a:off x="920880" y="3505320"/>
            <a:ext cx="949320" cy="987480"/>
          </a:xfrm>
          <a:prstGeom prst="cube">
            <a:avLst>
              <a:gd name="adj" fmla="val 25791"/>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76520" y="3505320"/>
            <a:ext cx="949320" cy="987480"/>
          </a:xfrm>
          <a:prstGeom prst="cube">
            <a:avLst>
              <a:gd name="adj" fmla="val 25791"/>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438280" y="3505320"/>
            <a:ext cx="949320" cy="987480"/>
          </a:xfrm>
          <a:prstGeom prst="cube">
            <a:avLst>
              <a:gd name="adj" fmla="val 25791"/>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200400" y="3505320"/>
            <a:ext cx="949320" cy="987480"/>
          </a:xfrm>
          <a:prstGeom prst="cube">
            <a:avLst>
              <a:gd name="adj" fmla="val 25791"/>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962520" y="3505320"/>
            <a:ext cx="949320" cy="987480"/>
          </a:xfrm>
          <a:prstGeom prst="cube">
            <a:avLst>
              <a:gd name="adj" fmla="val 25791"/>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724280" y="3505320"/>
            <a:ext cx="949320" cy="987480"/>
          </a:xfrm>
          <a:prstGeom prst="cube">
            <a:avLst>
              <a:gd name="adj" fmla="val 25791"/>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486400" y="3505320"/>
            <a:ext cx="949320" cy="987480"/>
          </a:xfrm>
          <a:prstGeom prst="cube">
            <a:avLst>
              <a:gd name="adj" fmla="val 25791"/>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4 (cont.)</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 analog inp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icacies of AI rea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read pointer/offset</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4</a:t>
            </a:r>
            <a:endParaRPr b="0" lang="en-US" sz="2800" spc="-1" strike="noStrike">
              <a:solidFill>
                <a:srgbClr val="ffffff"/>
              </a:solidFill>
              <a:latin typeface="Arial"/>
            </a:endParaRPr>
          </a:p>
        </p:txBody>
      </p:sp>
      <p:sp>
        <p:nvSpPr>
          <p:cNvPr id="116" name=""/>
          <p:cNvSpPr/>
          <p:nvPr/>
        </p:nvSpPr>
        <p:spPr>
          <a:xfrm>
            <a:off x="6248520" y="3505320"/>
            <a:ext cx="949320" cy="987480"/>
          </a:xfrm>
          <a:prstGeom prst="cube">
            <a:avLst>
              <a:gd name="adj" fmla="val 25791"/>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10280" y="3505320"/>
            <a:ext cx="949320" cy="987480"/>
          </a:xfrm>
          <a:prstGeom prst="cube">
            <a:avLst>
              <a:gd name="adj" fmla="val 25791"/>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14912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1</a:t>
            </a:r>
            <a:endParaRPr b="0" lang="en-US" sz="2400" spc="-1" strike="noStrike">
              <a:solidFill>
                <a:srgbClr val="000000"/>
              </a:solidFill>
              <a:latin typeface="Times New Roman"/>
            </a:endParaRPr>
          </a:p>
        </p:txBody>
      </p:sp>
      <p:sp>
        <p:nvSpPr>
          <p:cNvPr id="119" name=""/>
          <p:cNvSpPr/>
          <p:nvPr/>
        </p:nvSpPr>
        <p:spPr>
          <a:xfrm>
            <a:off x="187920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2</a:t>
            </a:r>
            <a:endParaRPr b="0" lang="en-US" sz="2400" spc="-1" strike="noStrike">
              <a:solidFill>
                <a:srgbClr val="000000"/>
              </a:solidFill>
              <a:latin typeface="Times New Roman"/>
            </a:endParaRPr>
          </a:p>
        </p:txBody>
      </p:sp>
      <p:sp>
        <p:nvSpPr>
          <p:cNvPr id="120" name=""/>
          <p:cNvSpPr/>
          <p:nvPr/>
        </p:nvSpPr>
        <p:spPr>
          <a:xfrm>
            <a:off x="262548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3</a:t>
            </a:r>
            <a:endParaRPr b="0" lang="en-US" sz="2400" spc="-1" strike="noStrike">
              <a:solidFill>
                <a:srgbClr val="000000"/>
              </a:solidFill>
              <a:latin typeface="Times New Roman"/>
            </a:endParaRPr>
          </a:p>
        </p:txBody>
      </p:sp>
      <p:sp>
        <p:nvSpPr>
          <p:cNvPr id="121" name=""/>
          <p:cNvSpPr/>
          <p:nvPr/>
        </p:nvSpPr>
        <p:spPr>
          <a:xfrm>
            <a:off x="338724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4</a:t>
            </a:r>
            <a:endParaRPr b="0" lang="en-US" sz="2400" spc="-1" strike="noStrike">
              <a:solidFill>
                <a:srgbClr val="000000"/>
              </a:solidFill>
              <a:latin typeface="Times New Roman"/>
            </a:endParaRPr>
          </a:p>
        </p:txBody>
      </p:sp>
      <p:sp>
        <p:nvSpPr>
          <p:cNvPr id="122" name=""/>
          <p:cNvSpPr/>
          <p:nvPr/>
        </p:nvSpPr>
        <p:spPr>
          <a:xfrm>
            <a:off x="414936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5</a:t>
            </a:r>
            <a:endParaRPr b="0" lang="en-US" sz="2400" spc="-1" strike="noStrike">
              <a:solidFill>
                <a:srgbClr val="000000"/>
              </a:solidFill>
              <a:latin typeface="Times New Roman"/>
            </a:endParaRPr>
          </a:p>
        </p:txBody>
      </p:sp>
      <p:sp>
        <p:nvSpPr>
          <p:cNvPr id="123" name=""/>
          <p:cNvSpPr/>
          <p:nvPr/>
        </p:nvSpPr>
        <p:spPr>
          <a:xfrm>
            <a:off x="491148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6</a:t>
            </a:r>
            <a:endParaRPr b="0" lang="en-US" sz="2400" spc="-1" strike="noStrike">
              <a:solidFill>
                <a:srgbClr val="000000"/>
              </a:solidFill>
              <a:latin typeface="Times New Roman"/>
            </a:endParaRPr>
          </a:p>
        </p:txBody>
      </p:sp>
      <p:sp>
        <p:nvSpPr>
          <p:cNvPr id="124" name=""/>
          <p:cNvSpPr/>
          <p:nvPr/>
        </p:nvSpPr>
        <p:spPr>
          <a:xfrm>
            <a:off x="567324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7</a:t>
            </a:r>
            <a:endParaRPr b="0" lang="en-US" sz="2400" spc="-1" strike="noStrike">
              <a:solidFill>
                <a:srgbClr val="000000"/>
              </a:solidFill>
              <a:latin typeface="Times New Roman"/>
            </a:endParaRPr>
          </a:p>
        </p:txBody>
      </p:sp>
      <p:sp>
        <p:nvSpPr>
          <p:cNvPr id="125" name=""/>
          <p:cNvSpPr/>
          <p:nvPr/>
        </p:nvSpPr>
        <p:spPr>
          <a:xfrm>
            <a:off x="645120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8</a:t>
            </a:r>
            <a:endParaRPr b="0" lang="en-US" sz="2400" spc="-1" strike="noStrike">
              <a:solidFill>
                <a:srgbClr val="000000"/>
              </a:solidFill>
              <a:latin typeface="Times New Roman"/>
            </a:endParaRPr>
          </a:p>
        </p:txBody>
      </p:sp>
      <p:sp>
        <p:nvSpPr>
          <p:cNvPr id="126" name=""/>
          <p:cNvSpPr/>
          <p:nvPr/>
        </p:nvSpPr>
        <p:spPr>
          <a:xfrm>
            <a:off x="719748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9</a:t>
            </a:r>
            <a:endParaRPr b="0" lang="en-US" sz="2400" spc="-1" strike="noStrike">
              <a:solidFill>
                <a:srgbClr val="000000"/>
              </a:solidFill>
              <a:latin typeface="Times New Roman"/>
            </a:endParaRPr>
          </a:p>
        </p:txBody>
      </p:sp>
      <p:sp>
        <p:nvSpPr>
          <p:cNvPr id="127" name=""/>
          <p:cNvSpPr/>
          <p:nvPr/>
        </p:nvSpPr>
        <p:spPr>
          <a:xfrm>
            <a:off x="914400" y="4648320"/>
            <a:ext cx="655308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points acquired, 2 points re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5</a:t>
            </a:r>
            <a:endParaRPr b="1" lang="en-US" sz="3600" spc="-1" strike="noStrike">
              <a:solidFill>
                <a:srgbClr val="ffff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DAQ occurren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processing (eliminates polling)</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does the work</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efficient</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2000-07-31T14:35:57Z</cp:lastPrinted>
  <dcterms:modified xsi:type="dcterms:W3CDTF">2000-07-31T14:36:15Z</dcterms:modified>
  <cp:revision>98</cp:revision>
  <dc:subject/>
  <dc:title>Expanding Your Business with Marketing</dc:title>
</cp:coreProperties>
</file>