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8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scilloscop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En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Engin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 Aug 1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:15-11:30 a.m., 12:00-1:15 p.m.,         1:45-3:00 p.m., 3:30-4:45 p.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ibit (3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User Defined Measure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-Scope 1.6 delivers more than 60 scalar and 20 array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izable frequency domain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ion of digital filters and windows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set of time domain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60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and voltage histogram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tage amplitude/distortion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se width jitter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igitizers/Scopes for NI-Scop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2286000"/>
          <a:ext cx="8001000" cy="2819520"/>
        </p:xfrm>
        <a:graphic>
          <a:graphicData uri="http://schemas.openxmlformats.org/drawingml/2006/table">
            <a:tbl>
              <a:tblPr/>
              <a:tblGrid>
                <a:gridCol w="1824840"/>
                <a:gridCol w="1374840"/>
                <a:gridCol w="1601640"/>
                <a:gridCol w="1599840"/>
                <a:gridCol w="1599840"/>
              </a:tblGrid>
              <a:tr h="71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ling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 5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MS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 5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S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 5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lex Sco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S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ctivity 1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ndowed FFT measur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use the right window for your FFT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about the effects of spectral leakage in your digitized waveform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over how waveform record length affects your FTT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ctivity 2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use the right filter for your spectrum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over the difference between IIR and FIR fil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he order of the IIR and the tap number of the FIF filters make 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set up lowpass, highpass, bandpass, bandstop filters in NI-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ctivity 3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hist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set up the parameters for time histogram measurements of you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set up time histograms to analyze pulse width noise or j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ctivity 4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oltage hist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set up the parameters for voltage histogram measurements of you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set up voltage histograms to analyze pulse height distor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1999-08-14T01:08:40Z</cp:lastPrinted>
  <dcterms:modified xsi:type="dcterms:W3CDTF">2000-08-08T17:29:16Z</dcterms:modified>
  <cp:revision>176</cp:revision>
  <dc:subject/>
  <dc:title>Expanding Your Business with Marketing</dc:title>
</cp:coreProperties>
</file>