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34290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Multithreading Programming in LabWindows/CVI</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3A-</a:t>
            </a:r>
            <a:fld id="{18A4B275-C0AB-4081-AA58-56CFC820BB6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pool’s purpose is to handle creation and caching of a set of threads.  This reduces the amount of time your program spends creating and destroying threads. The thread pool runs your function in one of the threads that it is managing. Depending on its state and configuration at the time, you schedule your function, the thread pool either creates a new thread in which to run your function, uses an existing idle thread to run your function, or waits until an active thread is finished and uses it to run your function. This library provides a default thread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CmtNewThreadPool function to create your own thread pools, or you can use the default thread pool provided by the library by using the identifier DEFAULT_THREAD_POOL_HANDLE wherever a thread pool handle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tScheduleThreadPoolFunction or CmtScheduleThreadPoolFunctionAdv can be used a schedule your function to be executed in a thread from a specific thread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191120"/>
            <a:ext cx="49528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ty is an important issue to address when writing multithreaded programs. When there is more than one thread in a process, there is the possibility of multiple threads accessing the same resource/data and/or executing the same piece of code at the “same time.” So you must take special care to protect resources and segments of code, to prevent adverse behavior. This is referred to as thread safety.</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variables (provided they are not static) do not need to be made multithreaded safe because they are allocated on the stack, and so are thread specific. But global data, static data, and dynamic data are process specific and need to be protected. Also, certain sections of your code may need to be protected against multiple threads executing them at the same time. LabWindows/CVI provides the following mechanisms to implement thread safety.</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lock – Use a thread lock in applications with multiple threads to prevent multiple threads from performing a specific action at the same time.  The thread lock serializes access to segments of code from more than one thread or process. This prevents more than one thread from having access to the data or code-segment at the same time.</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 variables – Use a thread safe variable to store information that must be accessed from more than one thread. The thread safe variable serializes access to the variable from different threads.</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 queue – Use a thread safe queue to safely pass buffered data between two threads. A thread safe queue keeps track of the amount of data available for reading and the amount of space available for writing, and so on.</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local variables – Use a thread local variable to store information that is different for different threads in your program.</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list includes interesting material related to multithrea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Overview.pdf document in the cvi bin\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sample programs in the cvi sample\utility\threading\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data acquisition application in the cvi apps\daqmthread\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SDK – base services section at http://msdn.microsoft.com/library which talks about multithreading among other thing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n threads in “Advanced Windows” by Jeffrey Rich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session –</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he basics of threads in the Win32 operating systems.</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he reasons for writing multithreaded programs.</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o use the multithreading functions in LabWindows/CVI.</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o write and debug a simple multithreaded program in LabWindows/CV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refers to the execution of multiple processes/applications/tasks simultaneously. Win32 (Windows 2000/NT/9x) are multitasking operating systems, while MS-DOS i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refers to multiple paths of execution in an application processed simultaneous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read is a path of execution through a program. It is the smallest unit of execution that the Win32 operating system sched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other things, a thread has its own</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ck – memory used for local variables, function arguments, and return value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xt – state of the CPU register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try in the execution list of the operating system schedu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ually each thread in a process can access all of the resources (like files, ports, and so on) owned by the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can be thought of as your program in memory when it is running (note that some applications can consist of more than on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consists of</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r more thread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de that represents the program logic</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that is used by the program</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resources like files, port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launch a program, the operating system creates the main thread and schedules it to execute the main (or WinMain) function in the program. The code in the program can create other threads (called secondary threads) and execute different functions in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llustrates a simple multithreaded C program. The main thread enters the main function, and calls the Init function. Then, it creates a new secondary thread that is scheduled to start execution in the Print function. The main thread, after returning from the CreateThread call, processes events, and finally calls Cleanup before returning from the main function. While the main thread does these things, the secondary thread created by the main thread, enters the Print function, calls InitPrinter, SentToPrinter, ClosePrinter, …, and finally returns from the Print fun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asons are important to consider when writing multithreaded programs.</a:t>
            </a:r>
            <a:endParaRPr b="0" lang="en-US" sz="1200" spc="-1" strike="noStrike">
              <a:solidFill>
                <a:srgbClr val="000000"/>
              </a:solidFill>
              <a:latin typeface="Times New Roman"/>
            </a:endParaRPr>
          </a:p>
          <a:p>
            <a:pPr marL="115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want to separate the execution of time critical tasks from normal tasks by executing them in different threads. This prevents normal tasks from interfering with the time-critical tasks. Also, you can place the thread executing the time-critical tasks on a higher priority than the thread executing normal tasks, so they get preference over the normal tasks. For example, in many data acquisition applications, it is not possible to acquire at high rates because of the execution overhead of displaying/storing the acquired data. In such cases, the user-interface/data storage can perform in the main thread, and the data acquisition can perform in a separate thread (optionally at a higher priority).</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multiple threads to perform many slow, synchronous tasks in parallel. For example, consider initializing multiple instruments, each of which takes a long time. You can place each of these tasks in an individual thread, while the main thread does other things (so that your program does not look like it is hanging).</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 performance on multiprocessor machines by scheduling some of the tasks to run on one CPU and others on the other CPU. You can only get true concurrent execution with multiple processors.</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times it is convenient to structure the program so that contextually similar multiple tasks execute in their own individual threads. For example, consider a TCP server that serves multiple clients simultaneously. It is easier to write code for the server program so that each client’s requests are serviced in a thread specific to that client. If a single thread is used for all clients and one client requests a time consuming task, then to the other clients the server will appear to hang while it executes the time consuming task.</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imposes the following co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thread has a certain computational and memory overhead. So creating many threads can be expensiv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witch, the act of switching execution from one thread to another, takes some time. So switching between too many threads too frequently can slow down program execu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o global, static, and dynamic data, and other resources (like serial ports, device handles, file handles, and so on) from multiple threads needs to be synchroniz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 program that has multiple threads is more difficult than writing single threaded programs (need to avoid deadlocks, and so 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threading functions in LabWindows/CVI can be grouped as fol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pool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run your program functions in separate threads.  Instead of calling a function from your program’s main thread or creating a new thread to execute the function, you schedule your program function (called a thread function) with a thread pool.</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ad safe queu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safely pass buffered data between two threa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ad safe variabl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cess, and destroy thread safe variabl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al variabl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cess, and destroy thread local variabl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k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quire, release, and discard thread 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asy Multithreaded Programming in LabWindows</a:t>
            </a:r>
            <a:r>
              <a:rPr b="1" lang="en-US" sz="3600" spc="-1" strike="noStrike" baseline="30000">
                <a:solidFill>
                  <a:srgbClr val="ffff66"/>
                </a:solidFill>
                <a:latin typeface="Arial"/>
              </a:rPr>
              <a:t>™</a:t>
            </a:r>
            <a:r>
              <a:rPr b="1" lang="en-US" sz="3600" spc="-1" strike="noStrike">
                <a:solidFill>
                  <a:srgbClr val="ffff66"/>
                </a:solidFill>
                <a:latin typeface="Arial"/>
              </a:rPr>
              <a:t>/CVI</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240" y="3885840"/>
            <a:ext cx="6553080" cy="297180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dras Mohanasundaram</a:t>
            </a:r>
            <a:endParaRPr b="1" lang="en-US" sz="28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11:30 a.m., 12:00-1:15 p.m., </a:t>
            </a:r>
            <a:endParaRPr b="1"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5-3:00 p.m., 3:30-4:45 p.m.</a:t>
            </a:r>
            <a:endParaRPr b="1" lang="en-US" sz="24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Pool</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s creation/caching of a set of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your function in one of its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tScheduleThreadPoolFunction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olHand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eadFuncti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eadFuncDat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p;threadFun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Safety – Protecting Data</a:t>
            </a:r>
            <a:endParaRPr b="1" lang="en-US" sz="3600" spc="-1" strike="noStrike">
              <a:solidFill>
                <a:srgbClr val="ffff66"/>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protec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and static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mem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sources </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ariables and function arguments do not need prot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ty mechanis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 queu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exercis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data acquisition/user interface appl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pool</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 variabl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 queu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lock and thread local variable (optional)</a:t>
            </a:r>
            <a:endParaRPr b="0" lang="en-US" sz="18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Read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Overview.pdf in cvi\bi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i\samples\utility\threading\</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i\apps\daqmthre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urpos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s of thre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for writing multithreaded progra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multithreading functions in LabWindows/C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simple multithreaded application in LabWindows/CV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 and Multithreading</a:t>
            </a:r>
            <a:endParaRPr b="1" lang="en-US" sz="3600" spc="-1" strike="noStrike">
              <a:solidFill>
                <a:srgbClr val="ffff66"/>
              </a:solidFill>
              <a:latin typeface="Arial"/>
            </a:endParaRPr>
          </a:p>
        </p:txBody>
      </p:sp>
      <p:sp>
        <p:nvSpPr>
          <p:cNvPr id="98" name=""/>
          <p:cNvSpPr/>
          <p:nvPr/>
        </p:nvSpPr>
        <p:spPr>
          <a:xfrm>
            <a:off x="5486400" y="2209680"/>
            <a:ext cx="32767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0292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01" name=""/>
          <p:cNvSpPr/>
          <p:nvPr/>
        </p:nvSpPr>
        <p:spPr>
          <a:xfrm>
            <a:off x="563868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a:t>
            </a:r>
            <a:endParaRPr b="0" lang="en-US" sz="2400" spc="-1" strike="noStrike">
              <a:solidFill>
                <a:srgbClr val="000000"/>
              </a:solidFill>
              <a:latin typeface="Times New Roman"/>
            </a:endParaRPr>
          </a:p>
        </p:txBody>
      </p:sp>
      <p:sp>
        <p:nvSpPr>
          <p:cNvPr id="102" name=""/>
          <p:cNvSpPr/>
          <p:nvPr/>
        </p:nvSpPr>
        <p:spPr>
          <a:xfrm>
            <a:off x="7238880" y="3200400"/>
            <a:ext cx="129564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03" name=""/>
          <p:cNvSpPr/>
          <p:nvPr/>
        </p:nvSpPr>
        <p:spPr>
          <a:xfrm>
            <a:off x="6553080" y="1676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a:t>
            </a:r>
            <a:endParaRPr b="0" lang="en-US" sz="2400" spc="-1" strike="noStrike">
              <a:solidFill>
                <a:srgbClr val="000000"/>
              </a:solidFill>
              <a:latin typeface="Times New Roman"/>
            </a:endParaRPr>
          </a:p>
        </p:txBody>
      </p:sp>
      <p:sp>
        <p:nvSpPr>
          <p:cNvPr id="104" name=""/>
          <p:cNvSpPr/>
          <p:nvPr/>
        </p:nvSpPr>
        <p:spPr>
          <a:xfrm>
            <a:off x="5638680" y="4800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05" name=""/>
          <p:cNvSpPr/>
          <p:nvPr/>
        </p:nvSpPr>
        <p:spPr>
          <a:xfrm>
            <a:off x="716292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106" name=""/>
          <p:cNvSpPr/>
          <p:nvPr/>
        </p:nvSpPr>
        <p:spPr>
          <a:xfrm>
            <a:off x="5335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sp>
        <p:nvSpPr>
          <p:cNvPr id="107" name=""/>
          <p:cNvSpPr/>
          <p:nvPr/>
        </p:nvSpPr>
        <p:spPr>
          <a:xfrm>
            <a:off x="2590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th of execution through a progra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st unit of execution in Win32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of central processing unit (CPU) regis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ry in execution list of the system schedul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shares all of the process’s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s and Process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gram in memory) consists of</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r more thread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sourc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reates main thread and starts execution in main or WinMain func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itself can ask the OS to create more threads (secondary threa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in C</a:t>
            </a:r>
            <a:endParaRPr b="1" lang="en-US" sz="3600" spc="-1" strike="noStrike">
              <a:solidFill>
                <a:srgbClr val="ffff66"/>
              </a:solidFill>
              <a:latin typeface="Arial"/>
            </a:endParaRPr>
          </a:p>
        </p:txBody>
      </p:sp>
      <p:sp>
        <p:nvSpPr>
          <p:cNvPr id="113" name=""/>
          <p:cNvSpPr/>
          <p:nvPr/>
        </p:nvSpPr>
        <p:spPr>
          <a:xfrm>
            <a:off x="1447920" y="1676520"/>
            <a:ext cx="6248160" cy="434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16" name=""/>
          <p:cNvSpPr/>
          <p:nvPr/>
        </p:nvSpPr>
        <p:spPr>
          <a:xfrm>
            <a:off x="1905120" y="5410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thread</a:t>
            </a:r>
            <a:endParaRPr b="0" lang="en-US" sz="2400" spc="-1" strike="noStrike">
              <a:solidFill>
                <a:srgbClr val="000000"/>
              </a:solidFill>
              <a:latin typeface="Times New Roman"/>
            </a:endParaRPr>
          </a:p>
        </p:txBody>
      </p:sp>
      <p:sp>
        <p:nvSpPr>
          <p:cNvPr id="117" name=""/>
          <p:cNvSpPr/>
          <p:nvPr/>
        </p:nvSpPr>
        <p:spPr>
          <a:xfrm>
            <a:off x="5181480" y="5410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118" name=""/>
          <p:cNvSpPr/>
          <p:nvPr/>
        </p:nvSpPr>
        <p:spPr>
          <a:xfrm>
            <a:off x="1828800" y="2286000"/>
            <a:ext cx="2438280" cy="29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ma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reateThread (Pr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cessEv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eanu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 main()     </a:t>
            </a:r>
            <a:endParaRPr b="0" lang="en-US" sz="1600" spc="-1" strike="noStrike">
              <a:solidFill>
                <a:srgbClr val="000000"/>
              </a:solidFill>
              <a:latin typeface="Times New Roman"/>
            </a:endParaRPr>
          </a:p>
        </p:txBody>
      </p:sp>
      <p:sp>
        <p:nvSpPr>
          <p:cNvPr id="119" name=""/>
          <p:cNvSpPr/>
          <p:nvPr/>
        </p:nvSpPr>
        <p:spPr>
          <a:xfrm>
            <a:off x="4441680" y="31240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029200" y="3048120"/>
            <a:ext cx="220968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Pr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ndTo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ose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 Print()  </a:t>
            </a:r>
            <a:endParaRPr b="0" lang="en-US" sz="1600" spc="-1" strike="noStrike">
              <a:solidFill>
                <a:srgbClr val="000000"/>
              </a:solidFill>
              <a:latin typeface="Times New Roman"/>
            </a:endParaRPr>
          </a:p>
        </p:txBody>
      </p:sp>
      <p:sp>
        <p:nvSpPr>
          <p:cNvPr id="121" name=""/>
          <p:cNvSpPr/>
          <p:nvPr/>
        </p:nvSpPr>
        <p:spPr>
          <a:xfrm>
            <a:off x="1676520" y="2133720"/>
            <a:ext cx="2438280" cy="3276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3048120"/>
            <a:ext cx="2590560" cy="2361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sons for Multithread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time-critical tasks from normal ta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vs U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many slow tasks in parall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e multiple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performance on multiprocessor mach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separation of independent ta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 server handling multiple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st of Multithreading</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 of thread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of programm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API in LabWindows/CVI</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ool – thread cre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queue – passing data safely between multiple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variables – 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al variables – per thread values for varia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k - protecting code and resources (critical section or Mute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4:51:53Z</dcterms:created>
  <dc:creator>Madras S. Mohanasundaram</dc:creator>
  <dc:description/>
  <dc:language>en-US</dc:language>
  <cp:lastModifiedBy>David Steele</cp:lastModifiedBy>
  <dcterms:modified xsi:type="dcterms:W3CDTF">2000-07-15T18:29:12Z</dcterms:modified>
  <cp:revision>90</cp:revision>
  <dc:subject/>
  <dc:title>Threads </dc:title>
</cp:coreProperties>
</file>