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336-4B87-4129-B64F-1EB0C84A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F8D-746C-4891-8ABF-2645FA54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58D-B176-4CC6-A8DB-CE9E4288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58A-E411-4645-A9C3-83688F23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0265-D827-420C-960F-7280815C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0345-1A66-4F7D-93BE-EC7765E1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E4C-3701-4368-BF4D-9DD18D83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B2ED-475E-460C-AD80-A51760B2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D5C8-CC3B-4E37-A54F-96D3245E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E320-BC69-46B2-8BC8-998C299D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E0AA-9127-4DD8-836B-4DA3E8A6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10C-B538-44F4-B40F-08FF6C74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9A69-0F4D-4C88-9DE3-EF973A5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D05A-968A-48A8-9E10-D9727929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E4A2-8497-44D5-B3AD-2D9D6435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4781-2B7D-4ED3-A651-A57D1E19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2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16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2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16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D8A5-95B9-4B38-95FD-69080394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BFC-490E-47A4-A2E9-913E6711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0D2-D3C1-4CCC-8D4A-DB8FB50E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75C-6B57-4D48-9482-B81A8CB1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CAE-4BEA-462D-9C6E-C6A77D05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C00-B52D-4C62-B1CF-4109336C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060-6260-4998-BB80-81D44768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864-956F-4D3A-850D-03B2F24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BA91-B79C-4A2E-9521-EDEF1CAB2522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182F-0626-45BB-8157-13D826EC8167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Hybrid VXI/PXI System Architecture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ember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90CE-01D9-47DC-AF70-5A4FDC6478F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VXI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1447560" cy="128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16960" y="12952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19520" y="2438280"/>
            <a:ext cx="0" cy="236232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800600"/>
            <a:ext cx="19810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120" y="487692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3 (copper or fiber-optic)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thernet Link to PXI System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05120" y="3276360"/>
            <a:ext cx="838080" cy="15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8720" y="38098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13560" y="1295280"/>
            <a:ext cx="427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XI Slot 0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XIpc Embedded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for MXI-3 link, use a VXIpc Embedded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at contains a built-in PCI slot for PCI MXI-3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ch as the NI VXIpc-872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4800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XI System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XI-MXI-3 or PXI Embedded Controller (for 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43A-B274-4771-B515-CDBE2DB2E49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VXI Control of Hybrid VXI/PXI Systems (cont’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Use Ca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ng a PXI chassis to an existing VXI embedded controller-based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ize large-system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VXI chassis for existing, custom, unique, or high-performance VXI mod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PXI chassis for general-purpose instru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0DC-A5D8-4EFB-9496-ADA251B10E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XI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1447920" cy="1282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640840" y="3124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1277640" cy="93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90920" y="2590920"/>
            <a:ext cx="0" cy="167616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267080"/>
            <a:ext cx="19810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24520" y="4876920"/>
            <a:ext cx="43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XI Slot 0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XI-MXI-2, VXI-MXI-3, VXI-1394 (Firewire), GPI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r VXIpc Embedded Controller (for Etherne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6760" y="15238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61280" y="251460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2, MXI-3, 1394 (FireWire), GPIB, or Ethernet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 VXI Slot 0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76720" y="2971800"/>
            <a:ext cx="9144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3560" y="2819520"/>
            <a:ext cx="23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XI System 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XI Embedded 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2440" y="106668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stall MXI-2, MXI-3, 1394 (FireWire), GPIB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thernet Peripherals in P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1523880"/>
            <a:ext cx="13716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E29-091D-4297-ADD9-C9FA1B9672D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XI Control of Hybrid VXI/PXI Systems (cont’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Use Ca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ng a VXI chassis to an existing PXI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ansion or phased transition of system to high performance and lower-cost PXI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8BD-8B31-4F60-9706-375C7EA2D8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ted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447560" cy="1282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352680" y="43434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8880" y="393876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8240" y="4343400"/>
            <a:ext cx="89154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18148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4648320"/>
            <a:ext cx="1278000" cy="93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010280" y="274320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5280" y="43434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518148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057400" y="2209680"/>
            <a:ext cx="1447920" cy="128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2895480"/>
            <a:ext cx="0" cy="144792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89548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3200400"/>
            <a:ext cx="0" cy="114300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320040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80" y="914400"/>
            <a:ext cx="84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Embedded Controllers in al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fer data between systems us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e Datasocket (LabVIEW, LabWindows/CVI, C/C++, Visual Basic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E0D-2B93-4F89-89DD-AC503552E45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ix and Match as Neede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1278000" cy="1131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1277640" cy="93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2209680"/>
            <a:ext cx="99072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209680"/>
            <a:ext cx="0" cy="221004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419720"/>
            <a:ext cx="99036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114800" y="1447920"/>
            <a:ext cx="1278000" cy="1131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48320" y="4495680"/>
            <a:ext cx="0" cy="53352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5029200"/>
            <a:ext cx="17524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400800" y="312408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95680" y="36576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657600"/>
            <a:ext cx="221004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1278000" cy="1131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6324480" y="457200"/>
            <a:ext cx="1278000" cy="1131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19720" y="11430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1143000"/>
            <a:ext cx="19810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209680"/>
            <a:ext cx="17524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D91-7D19-4E31-9869-C212CE58121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ummary of Hybrid VXI/PXI System Control Op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ny Options Exist for the following Topolog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XI as the hybrid system contro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XI as the hybrid system contro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C as the hybrid system contro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ributed control (ie multiple independent PXI and VXI controllers with inter-communic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binations and permutations (ie multiple chassis systems, etc) are nearly endless.  Mix or match to your need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3D0-1E2A-4B0A-930B-5C8C1105E3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sic VXI/PXI System Integ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C-bas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XI-bas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XI-bas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ribut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56C-4E3B-41F1-8386-B210B3E484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hy Build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tect investments in existing syst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id transition to modern architectu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timize system resources and minimize co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99F-38AC-4D17-804C-DD8149AFD5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st Platfor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990720"/>
          <a:ext cx="7327800" cy="4819680"/>
        </p:xfrm>
        <a:graphic>
          <a:graphicData uri="http://schemas.openxmlformats.org/drawingml/2006/table">
            <a:tbl>
              <a:tblPr/>
              <a:tblGrid>
                <a:gridCol w="1600200"/>
                <a:gridCol w="1155600"/>
                <a:gridCol w="1244880"/>
                <a:gridCol w="1508040"/>
                <a:gridCol w="181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G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V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tandard P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XI / Compact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ransfer Width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, 16,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, 16 (ISA)              8, 16, 32, 64 (P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, 16, 32, 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hroughput (Mbytes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                         8 (HS48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0                          80 (VME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-2 (ISA)                 132-264 (P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32-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iming and Synchron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roprie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roduct Avai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&gt;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&gt;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&gt;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~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Form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mall-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mall-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tandard Software Frame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VXIplug&amp;play 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od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MI Shiel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Op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Board Speci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odule Speci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ystem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edium-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Low-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E41-E351-40C8-861B-824569A4282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Tools : Overview of Controll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4267080"/>
          <a:ext cx="809640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267080"/>
                    <a:ext cx="80964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CBA-1C6E-490A-A480-A66E81EFB9E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parent Remote Control Interfac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219320"/>
          <a:ext cx="8696160" cy="23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69616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80880" y="4038480"/>
          <a:ext cx="6105600" cy="18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6105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06720" y="35812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720" y="838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17D-E712-45DA-9BAA-D4F9EB86E5D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thernet Remote Contro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ypically requires an Embedded Controller combined with softw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ny implementation choices -  depends on HW &amp; SW us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 common examp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SA Server (NI-VISA 2.6 or later) : transparent VXI control over ethern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ent-Server systems (Datasockets, TCP/IP, LabVIEW Remote Front Panels, VI Serve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 common examp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bVIEW Real-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ent-Server systems (Datasockets, TCP/IP, LabVIEW Remote Front Panels, VI Serve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C4C3-63B6-4EA7-893F-58377427ED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C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1278000" cy="113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666880"/>
            <a:ext cx="1828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819520"/>
            <a:ext cx="99036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2819520"/>
            <a:ext cx="0" cy="22096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1360" y="419112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9960" y="17524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352680"/>
            <a:ext cx="21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ktop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ck-Mount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6240" y="525780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3 (copper or fiber-optic)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thernet Link to PXI System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5600" y="1066680"/>
            <a:ext cx="46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2, MXI-3, 1394 (firewire), GPIB, or Ethernet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 VXI Slot 0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800" y="1371600"/>
            <a:ext cx="457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00400" y="4267080"/>
            <a:ext cx="7621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5400" y="3200400"/>
            <a:ext cx="43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XI Slot 0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XI-MXI-2, VXI-MXI-3, VXI-1394 (Firewire), GPI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r VXIpc Embedded Controller (for Etherne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5720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XI System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XI-MXI-3 or PXI Embedded Controller (for 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604-C91C-46A0-BCAD-123D8CBE9FB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C Control of Hybrid VXI/PXI Systems (cont’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Use Ca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ng a new PXI or VXI chassis to an existing system already based on remote PC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want the combination of high processor performance and low-cost of the latest PCs on the mark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ize large-system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VXI chassis for existing, custom, unique, or high-performance VXI mod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PXI chassis for general-purpose instru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2E4-0F08-4017-BC85-500C124077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1:44:00Z</dcterms:created>
  <dc:creator>Diana Kipfer</dc:creator>
  <dc:description/>
  <cp:keywords>core strategic vision core ideology core values mission core purpose</cp:keywords>
  <dc:language>en-US</dc:language>
  <cp:lastModifiedBy>Linda Wallis</cp:lastModifiedBy>
  <cp:lastPrinted>1997-10-30T12:11:06Z</cp:lastPrinted>
  <dcterms:modified xsi:type="dcterms:W3CDTF">2002-11-19T20:33:41Z</dcterms:modified>
  <cp:revision>38</cp:revision>
  <dc:subject>NI Leadership Seminar Series 2001</dc:subject>
  <dc:title>No Slide Title</dc:title>
</cp:coreProperties>
</file>