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9A9-C0D2-476F-8E75-8412305F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3A8-F673-46FA-88F9-40ABA213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D2F-0D62-4544-AC0F-70F403C2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B3B-05C8-4C96-B59B-E0D912CB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2783-593D-4A20-AD43-E0B0867E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DC7-621E-4431-8C11-4720B77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BD8A-D294-4DEF-8BC3-A9308C4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0DD4-A788-46D4-A06A-6A51916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7455-3D81-4C1D-8526-36EC8B5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32FC-F787-46DE-BEE3-D9D9DC9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A092-EA2E-42A3-BB50-92989A1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74B-276E-41CF-BBD3-8279E2F9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05FD-556D-4AAD-B8ED-0DB9D9A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55D-3FD8-4BEB-89EF-69BA8DD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6C76-EDBD-4BC6-BBE2-900AD4D3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004-E24B-43AD-8EC9-41CA5F66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35A8-F7AD-4748-A492-91924DA3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BBE-A59C-4E04-B45C-6699E80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DB9-C76F-41E9-8869-3095769C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780-7A34-4DD6-8FEA-EF5C072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4C6-C9EA-436C-B742-3B29815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69D-CFE9-4D81-AA87-31DE8F5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970-9022-40FD-8F9F-440AC32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98A-045E-4F0D-9AC9-9A7BF76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EF0-64CC-452F-B9BF-03EDEB0378CD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National Instrument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A64-3941-4D62-9175-AC49B6D1A882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Hybrid VXI/PXI System Architectur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A3A3-903A-4C03-9A4D-1A771AF116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116960" y="1295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438280"/>
            <a:ext cx="0" cy="23623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8006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487692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276360"/>
            <a:ext cx="83808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8720" y="3809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3560" y="1295280"/>
            <a:ext cx="427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for MXI-3 link, use a VXIpc Embedde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at contains a built-in PCI slot for PCI MXI-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ch as the NI VXIpc-872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2C9-16EE-4FE4-8B9C-42711EF8BE5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V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PXI chassis to an existing VXI embedded controller-based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845-0306-4E52-B832-2A3508B3B3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640840" y="3124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1277640" cy="93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90920" y="2590920"/>
            <a:ext cx="0" cy="167616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26708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24520" y="487692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6760" y="15238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1280" y="251460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276720" y="2971800"/>
            <a:ext cx="9144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3560" y="2819520"/>
            <a:ext cx="23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 Embedded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2440" y="106668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tall MXI-2, MXI-3, 1394 (FireWire), GPIB,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Peripherals in P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152388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FFC-1718-4D57-81B3-F0CAF28F668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XI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VXI chassis to an existing PXI syst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ansion or phased transition of system to high performance and lower-cost PXI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828-EA36-4A92-92A3-DAEE1C3B3E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ted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447560" cy="12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3526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8880" y="393876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8240" y="4343400"/>
            <a:ext cx="89154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1278000" cy="93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010280" y="27432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43434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5181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1447920" cy="128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2895480"/>
            <a:ext cx="0" cy="14479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89548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200400"/>
            <a:ext cx="0" cy="114300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3200400"/>
            <a:ext cx="685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80" y="914400"/>
            <a:ext cx="84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Embedded Controllers in al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 data between systems us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e Datasocket (LabVIEW, LabWindows/CVI, C/C++, Visual Basic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B8B-67B7-4CD7-AE9C-C3BC7976E80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ix and Match as Neede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27764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220968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09680"/>
            <a:ext cx="0" cy="221004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4197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114800" y="144792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8320" y="4495680"/>
            <a:ext cx="0" cy="53352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02920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495680" y="36576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657600"/>
            <a:ext cx="221004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324480" y="457200"/>
            <a:ext cx="1278000" cy="1131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19720" y="1143000"/>
            <a:ext cx="0" cy="8380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1143000"/>
            <a:ext cx="19810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209680"/>
            <a:ext cx="175248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133-7247-4B04-AE0D-B107DB132E9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ummary of Hybrid VXI/PXI System Control Op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y Options Exist for the following Topolo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 as the hybrid system controll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 (ie multiple independent PXI and VXI controllers with inter-communica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binations and permutations (ie multiple chassis systems, etc) are nearly endless.  Mix or match to your need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A2E-83AF-4423-AA7A-96F92ABED5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ic VXI/PXI System Integ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XI-bas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ributed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80E-F01B-4799-9CC7-606F6A5008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hy Build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tect investments in existing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id transition to modern architect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system resources and minimize co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C78-5B26-4FE2-9C13-5C94CD6789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 Platfor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990720"/>
          <a:ext cx="7327800" cy="4819680"/>
        </p:xfrm>
        <a:graphic>
          <a:graphicData uri="http://schemas.openxmlformats.org/drawingml/2006/table">
            <a:tbl>
              <a:tblPr/>
              <a:tblGrid>
                <a:gridCol w="1600200"/>
                <a:gridCol w="1155600"/>
                <a:gridCol w="1244880"/>
                <a:gridCol w="1508040"/>
                <a:gridCol w="181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G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P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XI / Compact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ransfer Width (bi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 (ISA)              8, 16, 32, 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, 16, 32, 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hroughput (Mbytes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                         8 (HS48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0                          80 (VME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-2 (ISA)                 132-264 (P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32-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Timing and Synchro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prie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roduct Avai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&gt;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~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orm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mall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tandard Software Frame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VXIplug&amp;play 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MI Shiel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Op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oard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odule Speci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System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edium-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Low-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E53-3CDC-4F13-9BF4-5F9B927FFCD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Tools : Overview of Controll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4267080"/>
          <a:ext cx="809640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67080"/>
                    <a:ext cx="80964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E6F-C527-446B-9B48-49F10B84F21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parent Remote Control Interfa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19320"/>
          <a:ext cx="8696160" cy="23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9616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80880" y="4038480"/>
          <a:ext cx="610560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6105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6720" y="35812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720" y="838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DEC-4767-4DDC-9E8F-43064F071E9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thernet Remote Contro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ically requires an Embedded Controller combined with softw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implementation choices -  depends on HW &amp; SW us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A Server (NI-VISA 2.6 or later) : transparent VXI control over ethern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 common exam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VIEW Real-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-Server systems (Datasockets, TCP/IP, LabVIEW Remote Front Panels, VI Serve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27B-6D63-4C06-B709-5E45624E4F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127800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27800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2666880"/>
            <a:ext cx="182880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819520"/>
            <a:ext cx="99036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0" cy="220968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38160">
            <a:solidFill>
              <a:srgbClr val="5c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1360" y="41911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960" y="17524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352680"/>
            <a:ext cx="21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ktop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ck-Mount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240" y="52578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3 (copper or fiber-optic)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thernet Link to PXI System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5600" y="1066680"/>
            <a:ext cx="46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XI-2, MXI-3, 1394 (firewire), GPIB, or Ethernet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 VXI Slot 0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1371600"/>
            <a:ext cx="457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00400" y="4267080"/>
            <a:ext cx="762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5400" y="3200400"/>
            <a:ext cx="43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XI Slot 0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XI-MXI-2, VXI-MXI-3, VXI-1394 (Firewire), GPI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r VXIpc Embedded Controller (for Ether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572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XI System Controller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XI-MXI-3 or PXI Embedded Controller (for 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99-FB79-43C7-B0DC-5C5D49357F4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C Control of Hybrid VXI/PXI Systems (cont’d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mary Use Ca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ng a new PXI or VXI chassis to an existing system already based on remote PC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want the combination of high processor performance and low-cost of the latest PCs on the mar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ize large-system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VXI chassis for existing, custom, unique, or high-performance VXI modu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PXI chassis for general-purpose instru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60B-5B04-4F78-BB54-768E16B116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44:00Z</dcterms:created>
  <dc:creator>Diana Kipfer</dc:creator>
  <dc:description/>
  <cp:keywords>core strategic vision core ideology core values mission core purpose</cp:keywords>
  <dc:language>en-US</dc:language>
  <cp:lastModifiedBy>Linda Wallis</cp:lastModifiedBy>
  <cp:lastPrinted>1997-10-30T12:11:06Z</cp:lastPrinted>
  <dcterms:modified xsi:type="dcterms:W3CDTF">2002-11-19T20:33:41Z</dcterms:modified>
  <cp:revision>38</cp:revision>
  <dc:subject>NI Leadership Seminar Series 2001</dc:subject>
  <dc:title>No Slide Title</dc:title>
</cp:coreProperties>
</file>