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5951-843F-4867-AE1A-F191655F4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3524400"/>
            <a:ext cx="85345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720B-744C-4721-AE16-E02B7C015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41648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4160" y="1295280"/>
            <a:ext cx="41648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3524400"/>
            <a:ext cx="41648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4160" y="3524400"/>
            <a:ext cx="41648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39A5-128A-4826-8197-558AE629F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274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66280" y="1295280"/>
            <a:ext cx="274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51680" y="1295280"/>
            <a:ext cx="274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3524400"/>
            <a:ext cx="274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66280" y="3524400"/>
            <a:ext cx="274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51680" y="3524400"/>
            <a:ext cx="274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530C-82A7-4DDC-A79E-F5C65691F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E6B24-F242-4937-85FE-DF8E260C8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12952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04C1D-1A93-4602-949D-B6D8FD7C0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30535-7733-4E14-98A0-BA61449BF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41648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4160" y="1295280"/>
            <a:ext cx="41648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BAC24-9DE1-4E30-9D9A-32814EC29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9EBC9-2BB2-4E76-8320-9324F1402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80520" y="152280"/>
            <a:ext cx="85345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5D70A-4D4F-4318-B682-E0C3B6548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41648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4160" y="1295280"/>
            <a:ext cx="41648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520" y="3524400"/>
            <a:ext cx="41648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1E272-648E-487C-905A-C79838F3B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2952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0765-CD9A-4236-AD2C-11EC964EB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41648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54160" y="1295280"/>
            <a:ext cx="41648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54160" y="3524400"/>
            <a:ext cx="41648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38B4C-247A-44DA-846F-7816D157E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41648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54160" y="1295280"/>
            <a:ext cx="41648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3524400"/>
            <a:ext cx="85345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5D419-A399-4A48-B51C-64F5F949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80520" y="3524400"/>
            <a:ext cx="85345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33F3A-D7A3-456D-84E7-2B6FC5666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41648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54160" y="1295280"/>
            <a:ext cx="41648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80520" y="3524400"/>
            <a:ext cx="41648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54160" y="3524400"/>
            <a:ext cx="41648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CFF90-BA5E-4114-A52A-E0AFD8426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274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66280" y="1295280"/>
            <a:ext cx="274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51680" y="1295280"/>
            <a:ext cx="274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80520" y="3524400"/>
            <a:ext cx="274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66280" y="3524400"/>
            <a:ext cx="274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51680" y="3524400"/>
            <a:ext cx="274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0975A-0C18-46B5-B0A7-34214C8B3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E73B-2035-4988-973A-A89CD11CE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41648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4160" y="1295280"/>
            <a:ext cx="41648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0402-710D-4D77-9241-546FEA5F4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4768-400B-4DB7-9045-4774CD783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520" y="152280"/>
            <a:ext cx="85345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5C5D-6F9D-43FE-B0EC-9E58AEFF3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41648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4160" y="1295280"/>
            <a:ext cx="41648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3524400"/>
            <a:ext cx="41648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303B-B557-421D-B11F-41614DA25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41648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4160" y="1295280"/>
            <a:ext cx="41648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4160" y="3524400"/>
            <a:ext cx="41648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1FF8-8E2B-4466-910A-6D8FE5B9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41648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4160" y="1295280"/>
            <a:ext cx="41648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3524400"/>
            <a:ext cx="85345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1A14-BEA5-4ABB-A1AF-680C7FF1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2952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857160" indent="-17604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206360" indent="-23472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482840" indent="-1620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482840" indent="-1620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482840" indent="-1620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380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9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9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 Narrow"/>
              </a:rPr>
              <a:t>National Instruments Confident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-360" y="6629040"/>
            <a:ext cx="685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9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AFD49-0CF2-4688-B8F3-E60A992E7883}" type="slidenum">
              <a:rPr b="0" i="1" lang="en-US" sz="9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80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9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9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 Narrow"/>
              </a:rPr>
              <a:t>National Instruments Confident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-360" y="6629040"/>
            <a:ext cx="685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9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7101D-9E3A-4391-9D54-57A27904C027}" type="slidenum">
              <a:rPr b="0" i="1" lang="en-US" sz="9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29052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681120" algn="ctr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971640" algn="ctr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320840" algn="ctr">
              <a:spcBef>
                <a:spcPts val="451"/>
              </a:spcBef>
              <a:buClr>
                <a:srgbClr val="000000"/>
              </a:buClr>
              <a:buFont typeface="Arial Narrow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5" marL="1320840">
              <a:spcBef>
                <a:spcPts val="451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6" marL="1320840">
              <a:spcBef>
                <a:spcPts val="451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 Narrow"/>
              </a:rPr>
              <a:t>Hybrid VXI/PXI System Architecture</a:t>
            </a: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32767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November, 2002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70808-5C60-4419-9BEB-D9020656F910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VXI Control of Hybrid VXI/PXI Systems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048120" y="1752480"/>
            <a:ext cx="1447560" cy="12826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116960" y="1295280"/>
            <a:ext cx="58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VX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495680" y="4267080"/>
            <a:ext cx="1278000" cy="9367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819520" y="2438280"/>
            <a:ext cx="0" cy="2362320"/>
          </a:xfrm>
          <a:prstGeom prst="line">
            <a:avLst/>
          </a:prstGeom>
          <a:ln w="38160">
            <a:solidFill>
              <a:srgbClr val="5c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819520" y="2438280"/>
            <a:ext cx="304560" cy="0"/>
          </a:xfrm>
          <a:prstGeom prst="line">
            <a:avLst/>
          </a:prstGeom>
          <a:ln w="38160">
            <a:solidFill>
              <a:srgbClr val="5c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19520" y="4800600"/>
            <a:ext cx="1981080" cy="0"/>
          </a:xfrm>
          <a:prstGeom prst="line">
            <a:avLst/>
          </a:prstGeom>
          <a:ln w="38160">
            <a:solidFill>
              <a:srgbClr val="5c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26120" y="4876920"/>
            <a:ext cx="337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XI-3 (copper or fiber-optic) 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thernet Link to PXI System 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905120" y="3276360"/>
            <a:ext cx="838080" cy="1523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78720" y="3809880"/>
            <a:ext cx="58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X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13560" y="1295280"/>
            <a:ext cx="4271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VXI Slot 0 Controller Op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VXIpc Embedded 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(for MXI-3 link, use a VXIpc Embedded 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hat contains a built-in PCI slot for PCI MXI-3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uch as the NI VXIpc-872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715000" y="480060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XI System Controller Op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XI-MXI-3 or PXI Embedded Controller (for Etherne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81C2-59A2-4470-A8DE-3038DE178877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VXI Control of Hybrid VXI/PXI Systems (cont’d)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rimary Use Cases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dding a PXI chassis to an existing VXI embedded controller-based system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inimize large-system cos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857160" indent="-17604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se VXI chassis for existing, custom, unique, or high-performance VXI modul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57160" indent="-17604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se PXI chassis for general-purpose instrument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215D-9D54-4C1D-A957-24FDC766640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PXI Control of Hybrid VXI/PXI Systems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495680" y="3581280"/>
            <a:ext cx="1447920" cy="12826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640840" y="3124080"/>
            <a:ext cx="58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VX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905120" y="1981080"/>
            <a:ext cx="1277640" cy="9367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590920" y="2590920"/>
            <a:ext cx="0" cy="1676160"/>
          </a:xfrm>
          <a:prstGeom prst="line">
            <a:avLst/>
          </a:prstGeom>
          <a:ln w="38160">
            <a:solidFill>
              <a:srgbClr val="5c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90920" y="4267080"/>
            <a:ext cx="1981080" cy="0"/>
          </a:xfrm>
          <a:prstGeom prst="line">
            <a:avLst/>
          </a:prstGeom>
          <a:ln w="38160">
            <a:solidFill>
              <a:srgbClr val="5c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24520" y="4876920"/>
            <a:ext cx="433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VXI Slot 0 Controller Op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VXI-MXI-2, VXI-MXI-3, VXI-1394 (Firewire), GPIB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or VXIpc Embedded Controller (for Etherne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16760" y="1523880"/>
            <a:ext cx="58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X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761280" y="2514600"/>
            <a:ext cx="470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XI-2, MXI-3, 1394 (FireWire), GPIB, or Ethernet Lin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o VXI Slot 0 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3276720" y="2971800"/>
            <a:ext cx="914400" cy="1219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3560" y="2819520"/>
            <a:ext cx="234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XI System Controll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Op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XI Embedded Controll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22440" y="1066680"/>
            <a:ext cx="409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stall MXI-2, MXI-3, 1394 (FireWire), GPIB, 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thernet Peripherals in PXI chas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1523880"/>
            <a:ext cx="137160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550B-BE86-40E6-9269-4336BA3A4779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PXI Control of Hybrid VXI/PXI Systems (cont’d)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rimary Use Cases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dding a VXI chassis to an existing PXI system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xpansion or phased transition of system to high performance and lower-cost PXI technolog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17C1-6981-4426-A955-CE364F68AD0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Distributed Control of Hybrid VXI/PXI Systems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962520" y="4572000"/>
            <a:ext cx="1447560" cy="12826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352680" y="4343400"/>
            <a:ext cx="0" cy="838080"/>
          </a:xfrm>
          <a:prstGeom prst="line">
            <a:avLst/>
          </a:prstGeom>
          <a:ln w="38160">
            <a:solidFill>
              <a:srgbClr val="5c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58880" y="3938760"/>
            <a:ext cx="102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th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28240" y="4343400"/>
            <a:ext cx="8915400" cy="0"/>
          </a:xfrm>
          <a:prstGeom prst="line">
            <a:avLst/>
          </a:prstGeom>
          <a:ln w="38160">
            <a:solidFill>
              <a:srgbClr val="5c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352680" y="5181480"/>
            <a:ext cx="685800" cy="0"/>
          </a:xfrm>
          <a:prstGeom prst="line">
            <a:avLst/>
          </a:prstGeom>
          <a:ln w="38160">
            <a:solidFill>
              <a:srgbClr val="5c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1600200" y="4648320"/>
            <a:ext cx="1278000" cy="9363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7010280" y="2743200"/>
            <a:ext cx="1278000" cy="9367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295280" y="4343400"/>
            <a:ext cx="0" cy="838080"/>
          </a:xfrm>
          <a:prstGeom prst="line">
            <a:avLst/>
          </a:prstGeom>
          <a:ln w="38160">
            <a:solidFill>
              <a:srgbClr val="5c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5181480"/>
            <a:ext cx="685800" cy="0"/>
          </a:xfrm>
          <a:prstGeom prst="line">
            <a:avLst/>
          </a:prstGeom>
          <a:ln w="38160">
            <a:solidFill>
              <a:srgbClr val="5c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2057400" y="2209680"/>
            <a:ext cx="1447920" cy="12826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447920" y="2895480"/>
            <a:ext cx="0" cy="1447920"/>
          </a:xfrm>
          <a:prstGeom prst="line">
            <a:avLst/>
          </a:prstGeom>
          <a:ln w="38160">
            <a:solidFill>
              <a:srgbClr val="5c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47920" y="2895480"/>
            <a:ext cx="685800" cy="0"/>
          </a:xfrm>
          <a:prstGeom prst="line">
            <a:avLst/>
          </a:prstGeom>
          <a:ln w="38160">
            <a:solidFill>
              <a:srgbClr val="5c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05720" y="3200400"/>
            <a:ext cx="0" cy="1143000"/>
          </a:xfrm>
          <a:prstGeom prst="line">
            <a:avLst/>
          </a:prstGeom>
          <a:ln w="38160">
            <a:solidFill>
              <a:srgbClr val="5c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705720" y="3200400"/>
            <a:ext cx="685800" cy="0"/>
          </a:xfrm>
          <a:prstGeom prst="line">
            <a:avLst/>
          </a:prstGeom>
          <a:ln w="38160">
            <a:solidFill>
              <a:srgbClr val="5c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72680" y="914400"/>
            <a:ext cx="841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se Embedded Controllers in all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ransfer data between systems using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e Datasocket (LabVIEW, LabWindows/CVI, C/C++, Visual Basic,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BCDA-01FD-4F37-91CB-70E27E1F906C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Mix and Match as Needed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2000160" cy="14731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324480" y="4343400"/>
            <a:ext cx="1278000" cy="11318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3962520" y="3962520"/>
            <a:ext cx="1277640" cy="9363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286000" y="2057400"/>
            <a:ext cx="1828800" cy="0"/>
          </a:xfrm>
          <a:prstGeom prst="line">
            <a:avLst/>
          </a:prstGeom>
          <a:ln w="38160">
            <a:solidFill>
              <a:srgbClr val="5c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0" y="2209680"/>
            <a:ext cx="990720" cy="0"/>
          </a:xfrm>
          <a:prstGeom prst="line">
            <a:avLst/>
          </a:prstGeom>
          <a:ln w="38160">
            <a:solidFill>
              <a:srgbClr val="5c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76720" y="2209680"/>
            <a:ext cx="0" cy="2210040"/>
          </a:xfrm>
          <a:prstGeom prst="line">
            <a:avLst/>
          </a:prstGeom>
          <a:ln w="38160">
            <a:solidFill>
              <a:srgbClr val="5c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76720" y="4419720"/>
            <a:ext cx="990360" cy="0"/>
          </a:xfrm>
          <a:prstGeom prst="line">
            <a:avLst/>
          </a:prstGeom>
          <a:ln w="38160">
            <a:solidFill>
              <a:srgbClr val="5c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4114800" y="1447920"/>
            <a:ext cx="1278000" cy="11318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4648320" y="4495680"/>
            <a:ext cx="0" cy="533520"/>
          </a:xfrm>
          <a:prstGeom prst="line">
            <a:avLst/>
          </a:prstGeom>
          <a:ln w="38160">
            <a:solidFill>
              <a:srgbClr val="5c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5029200"/>
            <a:ext cx="1752480" cy="0"/>
          </a:xfrm>
          <a:prstGeom prst="line">
            <a:avLst/>
          </a:prstGeom>
          <a:ln w="38160">
            <a:solidFill>
              <a:srgbClr val="5c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5"/>
          <a:stretch/>
        </p:blipFill>
        <p:spPr>
          <a:xfrm>
            <a:off x="6400800" y="3124080"/>
            <a:ext cx="1278000" cy="9367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4495680" y="3657600"/>
            <a:ext cx="0" cy="838080"/>
          </a:xfrm>
          <a:prstGeom prst="line">
            <a:avLst/>
          </a:prstGeom>
          <a:ln w="38160">
            <a:solidFill>
              <a:srgbClr val="5c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3657600"/>
            <a:ext cx="2210040" cy="0"/>
          </a:xfrm>
          <a:prstGeom prst="line">
            <a:avLst/>
          </a:prstGeom>
          <a:ln w="38160">
            <a:solidFill>
              <a:srgbClr val="5c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6"/>
          <a:stretch/>
        </p:blipFill>
        <p:spPr>
          <a:xfrm>
            <a:off x="6324480" y="1600200"/>
            <a:ext cx="1278000" cy="11318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7"/>
          <a:stretch/>
        </p:blipFill>
        <p:spPr>
          <a:xfrm>
            <a:off x="6324480" y="457200"/>
            <a:ext cx="1278000" cy="11318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4419720" y="1143000"/>
            <a:ext cx="0" cy="838080"/>
          </a:xfrm>
          <a:prstGeom prst="line">
            <a:avLst/>
          </a:prstGeom>
          <a:ln w="38160">
            <a:solidFill>
              <a:srgbClr val="5c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419720" y="1143000"/>
            <a:ext cx="1981080" cy="0"/>
          </a:xfrm>
          <a:prstGeom prst="line">
            <a:avLst/>
          </a:prstGeom>
          <a:ln w="38160">
            <a:solidFill>
              <a:srgbClr val="5c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0" y="2209680"/>
            <a:ext cx="1752480" cy="0"/>
          </a:xfrm>
          <a:prstGeom prst="line">
            <a:avLst/>
          </a:prstGeom>
          <a:ln w="38160">
            <a:solidFill>
              <a:srgbClr val="5c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F63D-6D3D-4E6A-869F-B894F73D6B00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Summary of Hybrid VXI/PXI System Control Options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Many Options Exist for the following Topologi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VXI as the hybrid system controll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XI as the hybrid system controll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C as the hybrid system controll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istributed control (ie multiple independent PXI and VXI controllers with inter-communication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ombinations and permutations (ie multiple chassis systems, etc) are nearly endless.  Mix or match to your needs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610A-CDEB-4349-BDE7-DC5CC13E6B3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Basic VXI/PXI System Integratio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C-based contro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VXI-based contro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XI-based contro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istributed contro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9023-8184-4611-952D-11875D4056A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Why Build Hybrid VXI/PXI Systems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rotect investments in existing system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id transition to modern architectur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Optimize system resources and minimize cost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3C76-42A8-464B-A543-597CB9D39C8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Test Platforms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914400" y="990720"/>
          <a:ext cx="7327800" cy="4819680"/>
        </p:xfrm>
        <a:graphic>
          <a:graphicData uri="http://schemas.openxmlformats.org/drawingml/2006/table">
            <a:tbl>
              <a:tblPr/>
              <a:tblGrid>
                <a:gridCol w="1600200"/>
                <a:gridCol w="1155600"/>
                <a:gridCol w="1244880"/>
                <a:gridCol w="1508040"/>
                <a:gridCol w="1819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GPI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VX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Standard P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PXI / CompactP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Transfer Width (bit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8, 16, 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8, 16 (ISA)              8, 16, 32, 64 (PCI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8, 16, 32, 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Throughput (Mbytes/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1                         8 (HS488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40                          80 (VME6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1-2 (ISA)                 132-264 (PCI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132-2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Timing and Synchron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N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Defin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Propriet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Defin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Product Availabil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&gt;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&gt;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&gt;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~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Form Fac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Lar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Medi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Small-Medi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Small-Medi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Standard Software Frame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N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VXIplug&amp;play Defin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N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Defin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Modul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N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N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EMI Shield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Op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Defin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Board Specif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Module Specif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System Co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Hig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Medium-Hig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L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Low-Medi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F35B-BA19-45E6-9305-77C2DC6E0311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The Tools : Overview of Controllers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609480" y="4267080"/>
          <a:ext cx="8096400" cy="15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267080"/>
                    <a:ext cx="809640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AFFF-E047-41EE-9A28-3A74FE296406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Transparent Remote Control Interfaces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04920" y="1219320"/>
          <a:ext cx="8696160" cy="2342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219320"/>
                    <a:ext cx="8696160" cy="23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380880" y="4038480"/>
          <a:ext cx="6105600" cy="1828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4038480"/>
                    <a:ext cx="61056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306720" y="3581280"/>
            <a:ext cx="58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X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6720" y="838080"/>
            <a:ext cx="58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VX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F6A6-010D-44C3-B6C5-DD071F1B3996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Ethernet Remote Control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ypically requires an Embedded Controller combined with softwar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any implementation choices -  depends on HW &amp; SW used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VXI common exampl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57160" indent="-176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VISA Server (NI-VISA 2.6 or later) : transparent VXI control over etherne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857160" indent="-176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lient-Server systems (Datasockets, TCP/IP, LabVIEW Remote Front Panels, VI Server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XI common exampl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57160" indent="-176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LabVIEW Real-Tim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857160" indent="-176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lient-Server systems (Datasockets, TCP/IP, LabVIEW Remote Front Panels, VI Server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2B00-8C5B-48C8-8CF6-8DA4DEEE4CA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PC Control of Hybrid VXI/PXI Systems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447920" y="1828800"/>
            <a:ext cx="2000160" cy="1473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800600" y="2133720"/>
            <a:ext cx="1278000" cy="11318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4724280" y="4572000"/>
            <a:ext cx="1278000" cy="936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048120" y="2666880"/>
            <a:ext cx="1828800" cy="0"/>
          </a:xfrm>
          <a:prstGeom prst="line">
            <a:avLst/>
          </a:prstGeom>
          <a:ln w="38160">
            <a:solidFill>
              <a:srgbClr val="5c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8120" y="2819520"/>
            <a:ext cx="990360" cy="0"/>
          </a:xfrm>
          <a:prstGeom prst="line">
            <a:avLst/>
          </a:prstGeom>
          <a:ln w="38160">
            <a:solidFill>
              <a:srgbClr val="5c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38480" y="2819520"/>
            <a:ext cx="0" cy="2209680"/>
          </a:xfrm>
          <a:prstGeom prst="line">
            <a:avLst/>
          </a:prstGeom>
          <a:ln w="38160">
            <a:solidFill>
              <a:srgbClr val="5c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38480" y="5029200"/>
            <a:ext cx="990720" cy="0"/>
          </a:xfrm>
          <a:prstGeom prst="line">
            <a:avLst/>
          </a:prstGeom>
          <a:ln w="38160">
            <a:solidFill>
              <a:srgbClr val="5c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31360" y="4191120"/>
            <a:ext cx="58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X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259960" y="1752480"/>
            <a:ext cx="58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VX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3352680"/>
            <a:ext cx="214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sktop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ack-Mount 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96240" y="5257800"/>
            <a:ext cx="337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XI-3 (copper or fiber-optic) 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thernet Link to PXI System 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5600" y="1066680"/>
            <a:ext cx="460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XI-2, MXI-3, 1394 (firewire), GPIB, or Ethernet Lin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o VXI Slot 0 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4114800" y="1371600"/>
            <a:ext cx="457200" cy="1219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200400" y="4267080"/>
            <a:ext cx="762120" cy="914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05400" y="3200400"/>
            <a:ext cx="433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VXI Slot 0 Controller Op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VXI-MXI-2, VXI-MXI-3, VXI-1394 (Firewire), GPIB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or VXIpc Embedded Controller (for Etherne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5880" y="457200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XI System Controller Op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XI-MXI-3 or PXI Embedded Controller (for Etherne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0338-45AD-454A-968B-88EBAEA569FF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PC Control of Hybrid VXI/PXI Systems (cont’d)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rimary Use Cases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dding a new PXI or VXI chassis to an existing system already based on remote PC contro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You want the combination of high processor performance and low-cost of the latest PCs on the marke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inimize large-system cos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857160" indent="-17604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se VXI chassis for existing, custom, unique, or high-performance VXI modul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57160" indent="-17604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se PXI chassis for general-purpose instrument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C9A8-0C00-43B3-9FB9-740E1504FF4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5T21:44:00Z</dcterms:created>
  <dc:creator>Diana Kipfer</dc:creator>
  <dc:description/>
  <cp:keywords>core strategic vision core ideology core values mission core purpose</cp:keywords>
  <dc:language>en-US</dc:language>
  <cp:lastModifiedBy>Linda Wallis</cp:lastModifiedBy>
  <cp:lastPrinted>1997-10-30T12:11:06Z</cp:lastPrinted>
  <dcterms:modified xsi:type="dcterms:W3CDTF">2002-11-19T20:33:41Z</dcterms:modified>
  <cp:revision>38</cp:revision>
  <dc:subject>NI Leadership Seminar Series 2001</dc:subject>
  <dc:title>No Slide Title</dc:title>
</cp:coreProperties>
</file>