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1029179-F881-41EB-9B9E-77D6CA9DB3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Img"/>
          </p:nvPr>
        </p:nvSpPr>
        <p:spPr>
          <a:xfrm>
            <a:off x="1188720" y="704520"/>
            <a:ext cx="461484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3D94320-5CF3-4794-97A4-B4D5EE37BD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50400" y="4449240"/>
            <a:ext cx="5077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72D8BE4-D458-4087-A2F0-6DD4E161DE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98120" y="4328640"/>
            <a:ext cx="5761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3516C4E-F6CA-4358-BBCD-C592062A16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C0D4AE0-8A2A-457D-87E2-74BA38746A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1A99E19-915A-4743-8635-317CCD83451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719280"/>
            <a:ext cx="4686480" cy="3514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52200" y="4449600"/>
            <a:ext cx="51483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DE7FDCF-EB87-485A-B980-560FF753C8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43466A2-5EBE-41A8-BF91-887C784FE0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09C42C6-5582-4E92-9536-3D0C54EFBF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743D71D-E3EC-4D74-920C-8DE457E4CB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9491F1C-6DC8-40B5-B21B-A890229332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244CD25-6531-4389-B534-48AC1A8AD4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B1EA37B-6E68-411E-A78E-79BBC11EEF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F0426BD-406C-429C-AC2C-B1888AE48A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9D2E837-6125-4C1C-A6F6-233EF15CA3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F73877A-2816-4C6C-B0A5-A36CE3B2A4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F044063-9A91-49B3-BC8E-0820C6E5E9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04FD7C5-0E9C-4FB0-BECC-5F33747F2A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E0D2914-7284-4474-B0E1-BCA009DF4B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3E45DBF-4D59-40E9-A9E3-C2F45DFB95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AC15EF2-9E76-491C-845C-94716CCAC5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E092F26-E439-4A06-B433-A2B7F73139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50400" y="4449240"/>
            <a:ext cx="5077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0401EDC-5D14-40C3-BA1D-23E00EEBB5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6240" y="71928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50400" y="4449240"/>
            <a:ext cx="507708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204-ED94-4655-8513-68A7E724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51A-CFBC-4E53-9B48-D32C271B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EC7-B070-40EB-A753-40C99B31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B53-56DD-49D7-84B7-B33FC2BC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DB3B-45BE-457C-BC08-A643D614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4CAE-58CD-4B17-9AB6-4A8CBF4C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81FC-E71E-47AE-8936-E26A7B81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0A62-A9DB-464D-B38C-C06138D4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58A0-2990-4D83-9C44-0264AF26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8FBE-4F08-446E-A653-4143265B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586F-FB99-42A8-8D74-130A6014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BFD-43B3-4D1A-A864-BB9FFE2D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CAEB-3E33-4AC2-B580-8F879F76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EF1E-7FA7-4F31-A649-E356E946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C6DF-4CD0-4C68-823F-A19EA8CF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A8EC-8E97-44AD-957F-64FEAC6F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A211-C651-4D7E-9DC4-7922AB86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86D-409C-4AB3-86C3-BA6D4E3B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DB1-4FE4-4D4A-B31B-214EB89A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890-15C6-4D9C-BADC-B9B39190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0D6-CE49-4224-8BDD-90B806BC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E54-E899-4242-A421-FF54DD76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0A1-7E74-41B7-82AE-BB37648B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57A-32EA-4BD7-B933-6EFC6AE5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3A25-77FC-421A-BBA2-20B6F2378DFD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9FEC-E2D7-4621-95ED-A22E491EF89F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CF0-FEC0-4DEC-B4E1-79BEE3D261A4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ourquoi Windows n’est pas temps réel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emps processeur partagé entre plusieurs programm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Windows prend le pas sur les applications haute priorité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e nombreux programmes tournent en tâche de fo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antivirus, économiseur d’écran…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Windows doit gérer les interruptions (clavier, souris…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LabVIEW Real-Tim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8720" y="1447920"/>
            <a:ext cx="4191120" cy="319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87480" y="4649760"/>
            <a:ext cx="2209680" cy="1219320"/>
          </a:xfrm>
          <a:prstGeom prst="ellipse">
            <a:avLst/>
          </a:prstGeom>
          <a:solidFill>
            <a:srgbClr val="86a7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48320" y="4651200"/>
            <a:ext cx="2209680" cy="1219320"/>
          </a:xfrm>
          <a:prstGeom prst="ellipse">
            <a:avLst/>
          </a:prstGeom>
          <a:solidFill>
            <a:srgbClr val="86a7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477120" y="1523880"/>
          <a:ext cx="219060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1523880"/>
                    <a:ext cx="21906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314880" y="5257800"/>
            <a:ext cx="2133360" cy="0"/>
          </a:xfrm>
          <a:prstGeom prst="line">
            <a:avLst/>
          </a:prstGeom>
          <a:ln w="38160">
            <a:solidFill>
              <a:srgbClr val="a8ad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933640"/>
            <a:ext cx="1359000" cy="0"/>
          </a:xfrm>
          <a:prstGeom prst="line">
            <a:avLst/>
          </a:prstGeom>
          <a:ln w="38160">
            <a:solidFill>
              <a:srgbClr val="a8ad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546084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Téléchar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76212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Cible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7000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PC hô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xi" descr=""/>
          <p:cNvPicPr/>
          <p:nvPr/>
        </p:nvPicPr>
        <p:blipFill>
          <a:blip r:embed="rId4"/>
          <a:stretch/>
        </p:blipFill>
        <p:spPr>
          <a:xfrm>
            <a:off x="6553080" y="3352680"/>
            <a:ext cx="2057400" cy="1201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580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8adb0"/>
                </a:solidFill>
                <a:latin typeface="Times New Roman"/>
                <a:ea typeface="Times New Roman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24C-0505-41A7-8BDD-D2B157E418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de développement (PC hôte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e sous Windows XP/2000/NT/9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Utilise le langage LabVIEW standar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éalise l’ensemble des tâches non déterministes de l’applica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urnit l’interface utilisateu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Gère les communications avec le système ci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e de façon transparente pour l’utilisateur avec une visualisation de la cible en face-ava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B3D-49FB-4A9B-AE73-92A4D2F417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cible (RT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escription généra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e sous un système d’exploitation temps ré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xécute un ou plusieurs VIs en temps ré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st indépendant et autonome du système hôte vis-à-vis des plantages, redémarrages.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mmunication avec le PC hôt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VI Serveu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CP/IP, UDP et DataSock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06E-EAF3-4080-8455-6939DC7622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 Narrow"/>
              </a:rPr>
              <a:t>Les cibles R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ompact FieldPoint 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FP-2000,2010,202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ontrôleur PXI R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- PXI-817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- série NI 817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- série PXI-8140 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495680" y="3200400"/>
          <a:ext cx="43434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200400"/>
                    <a:ext cx="4343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914400" y="1447920"/>
          <a:ext cx="3038400" cy="19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303840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59B-5F5E-434E-9C9C-46114AA5B6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es mesures autonom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pplications autonomes lancées à l’allumage du châssis PXI (ou module cFP) grâce à l’Application Build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onctionnalités d’un serveur FT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Support de cartes NI (DAQ, vision, commande d’axes, série, GPIB, CAN et SCXI) le tout en mode RT 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3429000"/>
          <a:ext cx="342756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429000"/>
                    <a:ext cx="34275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14800" y="3767040"/>
          <a:ext cx="24120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343400" y="3767040"/>
          <a:ext cx="241200" cy="15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0" y="3767040"/>
          <a:ext cx="241200" cy="156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800600" y="3767040"/>
          <a:ext cx="241200" cy="156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029200" y="3767040"/>
          <a:ext cx="241200" cy="156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257800" y="3767040"/>
          <a:ext cx="241200" cy="156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486400" y="3767040"/>
          <a:ext cx="241200" cy="156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86400" y="3767040"/>
                    <a:ext cx="2412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E6B-1724-478E-9457-23A08F8708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Quelques chiffr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Performances sur PXI-8176, 1,26 GHz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cquisition, calcul PID, géné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1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40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32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2,5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Performances sur PXI-8146, 266 MHz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cquisition, calcul PID, géné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1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6,5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32 PID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1,2 kHz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D61-5269-4D05-98E5-D587F15B61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Implémentation et validation de modèl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D2DF-6A38-4CE1-94B1-3D6756FDE6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Fonction de transfert du modèl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Équation différentielle résultant de l ’analyse du modèle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Fonction de transfert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066680" y="2514600"/>
                <a:ext cx="70106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14600" y="4667400"/>
                <a:ext cx="41450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E33-EE5F-404B-B342-095131DB54E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Implémenter et valider un modèle en LabVIEW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Outils de contrôle avancé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Basé sur les équations et les fonctions de transfe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Fonctions continues, discrètes et non linéaire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ntiblocage de roues et ES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imulation d’environnements de test complex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89040" cy="172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FD5-E4DC-4795-980F-3EF951AC24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10168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800" spc="-1" strike="noStrike">
                <a:solidFill>
                  <a:srgbClr val="000000"/>
                </a:solidFill>
                <a:latin typeface="Arial Narrow"/>
              </a:rPr>
              <a:t>Le Toolkit d’Intégration de Modèle de Simulation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Arial Narrow"/>
              </a:rPr>
              <a:t>Raphaël TILL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9981-834C-4668-83AA-68791CD068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du modèle sous LabVIEW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68280" y="1023840"/>
          <a:ext cx="660888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023840"/>
                    <a:ext cx="660888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624-45F9-4C62-A178-0DB35F90DDE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HIL sous LabVIEW Real-Time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33560" y="1023840"/>
            <a:ext cx="5276880" cy="481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2EC-378F-482A-9E2C-E306C4C7A04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Utiliser un modèle Simulink</a:t>
            </a:r>
            <a:r>
              <a:rPr b="1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 sous LabVIEW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odélisation, simulation et analyse de systèmes dynamiques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Système linéaire et non linéa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ontinu, discret ou hybri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eprésentation des modèles sous forme de diagram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uramment utilisé dans l’aéronautique, l’aérospatiale et l’automobi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1D9-B773-4F41-BEF7-5A6324731F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 Toolkit d'Intégration de Modèle de Sim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’interface uniquement avec MathWorks Simulink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jout des outils de l’interface graphique de LabVIEW dans  l’environnement Simulin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Importation de modèle Simulink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ans l’environnement de développement LabVIE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981080" y="3809880"/>
            <a:ext cx="5105520" cy="2057400"/>
            <a:chOff x="1981080" y="3809880"/>
            <a:chExt cx="5105520" cy="2057400"/>
          </a:xfrm>
        </p:grpSpPr>
        <p:sp>
          <p:nvSpPr>
            <p:cNvPr id="210" name=""/>
            <p:cNvSpPr/>
            <p:nvPr/>
          </p:nvSpPr>
          <p:spPr>
            <a:xfrm>
              <a:off x="3699360" y="4302000"/>
              <a:ext cx="3387240" cy="1565280"/>
            </a:xfrm>
            <a:prstGeom prst="roundRect">
              <a:avLst>
                <a:gd name="adj" fmla="val 12023"/>
              </a:avLst>
            </a:prstGeom>
            <a:solidFill>
              <a:srgbClr val="edb906">
                <a:alpha val="10000"/>
              </a:srgbClr>
            </a:solidFill>
            <a:ln w="9360">
              <a:solidFill>
                <a:srgbClr val="edb9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Lab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3809880"/>
              <a:ext cx="3387240" cy="1565280"/>
            </a:xfrm>
            <a:prstGeom prst="roundRect">
              <a:avLst>
                <a:gd name="adj" fmla="val 12023"/>
              </a:avLst>
            </a:prstGeom>
            <a:solidFill>
              <a:srgbClr val="a8adb0">
                <a:alpha val="10000"/>
              </a:srgbClr>
            </a:solidFill>
            <a:ln w="9360">
              <a:solidFill>
                <a:srgbClr val="a8ad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imu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77280" y="4525560"/>
              <a:ext cx="1227240" cy="626040"/>
            </a:xfrm>
            <a:prstGeom prst="ellipse">
              <a:avLst/>
            </a:prstGeom>
            <a:solidFill>
              <a:srgbClr val="5c81b5">
                <a:alpha val="20000"/>
              </a:srgbClr>
            </a:solidFill>
            <a:ln w="28440">
              <a:solidFill>
                <a:srgbClr val="5e8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0040" y="4525560"/>
              <a:ext cx="1227240" cy="626040"/>
            </a:xfrm>
            <a:prstGeom prst="ellipse">
              <a:avLst/>
            </a:prstGeom>
            <a:solidFill>
              <a:srgbClr val="5c81b5">
                <a:alpha val="20000"/>
              </a:srgbClr>
            </a:solidFill>
            <a:ln w="28440">
              <a:solidFill>
                <a:srgbClr val="5e8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Ver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62800" y="4525560"/>
              <a:ext cx="1227240" cy="626040"/>
            </a:xfrm>
            <a:prstGeom prst="ellipse">
              <a:avLst/>
            </a:prstGeom>
            <a:solidFill>
              <a:srgbClr val="5c81b5">
                <a:alpha val="20000"/>
              </a:srgbClr>
            </a:solidFill>
            <a:ln w="28440">
              <a:solidFill>
                <a:srgbClr val="5e8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Real-Wor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5c81b5"/>
                  </a:solidFill>
                  <a:latin typeface="Arial Narrow"/>
                </a:rPr>
                <a:t>Prototy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4880" y="4346280"/>
              <a:ext cx="932400" cy="178920"/>
            </a:xfrm>
            <a:custGeom>
              <a:avLst/>
              <a:gdLst>
                <a:gd name="textAreaLeft" fmla="*/ 163080 w 932400"/>
                <a:gd name="textAreaRight" fmla="*/ 676080 w 93240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877280" y="5150880"/>
              <a:ext cx="932400" cy="178920"/>
            </a:xfrm>
            <a:custGeom>
              <a:avLst/>
              <a:gdLst>
                <a:gd name="textAreaLeft" fmla="*/ 163440 w 932400"/>
                <a:gd name="textAreaRight" fmla="*/ 676440 w 93240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57280" y="4346280"/>
              <a:ext cx="932400" cy="178920"/>
            </a:xfrm>
            <a:custGeom>
              <a:avLst/>
              <a:gdLst>
                <a:gd name="textAreaLeft" fmla="*/ 163080 w 932400"/>
                <a:gd name="textAreaRight" fmla="*/ 676080 w 93240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158280" y="5150880"/>
              <a:ext cx="932760" cy="178920"/>
            </a:xfrm>
            <a:custGeom>
              <a:avLst/>
              <a:gdLst>
                <a:gd name="textAreaLeft" fmla="*/ 162720 w 932760"/>
                <a:gd name="textAreaRight" fmla="*/ 676080 w 932760"/>
                <a:gd name="textAreaTop" fmla="*/ 23760 h 178920"/>
                <a:gd name="textAreaBottom" fmla="*/ 155160 h 17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8ba95">
                <a:alpha val="50000"/>
              </a:srgbClr>
            </a:solidFill>
            <a:ln w="936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F14-F1C4-445A-839B-BD726E0DB53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4343400" cy="2340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iagramme du Simulation Interface Toolki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267080" y="10666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2286000"/>
            <a:ext cx="175248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543400" cy="1635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1219320"/>
            <a:ext cx="6553080" cy="3429000"/>
          </a:xfrm>
          <a:custGeom>
            <a:avLst/>
            <a:gdLst/>
            <a:ahLst/>
            <a:rect l="l" t="t" r="r" b="b"/>
            <a:pathLst>
              <a:path w="4128" h="2160">
                <a:moveTo>
                  <a:pt x="0" y="1728"/>
                </a:moveTo>
                <a:lnTo>
                  <a:pt x="2544" y="1728"/>
                </a:lnTo>
                <a:lnTo>
                  <a:pt x="2544" y="0"/>
                </a:lnTo>
                <a:lnTo>
                  <a:pt x="4128" y="2064"/>
                </a:lnTo>
                <a:lnTo>
                  <a:pt x="4032" y="2064"/>
                </a:lnTo>
                <a:lnTo>
                  <a:pt x="4032" y="2160"/>
                </a:lnTo>
                <a:lnTo>
                  <a:pt x="0" y="1728"/>
                </a:lnTo>
                <a:close/>
              </a:path>
            </a:pathLst>
          </a:custGeom>
          <a:solidFill>
            <a:srgbClr val="a8adb0">
              <a:alpha val="50000"/>
            </a:srgbClr>
          </a:solidFill>
          <a:ln w="9360">
            <a:solidFill>
              <a:srgbClr val="a8ad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219320"/>
          <a:ext cx="4114800" cy="28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19320"/>
                    <a:ext cx="411480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5F3-7686-4789-9283-FD4FCCBC8C54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rocessus de l’interfaçage du modèl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ATLAB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/Simulink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eal-Time Workshop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icrosoft Visual C++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bVIEW/LabVIEW Real-Ti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(modè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5c81b5"/>
                </a:solidFill>
                <a:latin typeface="Arial Narrow"/>
              </a:rPr>
              <a:t>code</a:t>
            </a: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c81b5"/>
                </a:solidFill>
                <a:latin typeface="Times New Roman"/>
              </a:rPr>
              <a:t>(D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06E-B5AE-4EE6-B287-82030391EC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Étape 1 : Inports &amp; Outport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666880"/>
            <a:ext cx="8380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666880"/>
            <a:ext cx="838080" cy="68580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838080" cy="68580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133720" y="160020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736-41A9-4B98-A366-54497BAF3B2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Étape 2 : Solver Paramet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1981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133720" y="1447920"/>
          <a:ext cx="33145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3314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105520" y="2971800"/>
          <a:ext cx="233676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971800"/>
                    <a:ext cx="23367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DA3-54EE-4C30-A446-3B98942DDA7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Étape 3 : Real-Time Workshop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1295280"/>
          <a:ext cx="350532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35053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733920" y="2438280"/>
            <a:ext cx="5181480" cy="3365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 flipV="1">
            <a:off x="1905120" y="2437920"/>
            <a:ext cx="182880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08A-EE4A-43F1-8FA4-359C3DBA47F2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océdure de compi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eal-Time Workshop génère du code C à partir d’un modè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S VC++ compile ce code en </a:t>
            </a:r>
            <a:r>
              <a:rPr b="0" i="1" lang="fr-FR" sz="3200" spc="-1" strike="noStrike">
                <a:solidFill>
                  <a:srgbClr val="000000"/>
                </a:solidFill>
                <a:latin typeface="Arial Narrow"/>
              </a:rPr>
              <a:t>model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.dl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abVIEW génère deux exemples : </a:t>
            </a:r>
            <a:r>
              <a:rPr b="0" i="1" lang="fr-FR" sz="3200" spc="-1" strike="noStrike">
                <a:solidFill>
                  <a:srgbClr val="000000"/>
                </a:solidFill>
                <a:latin typeface="Arial Narrow"/>
              </a:rPr>
              <a:t>model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_driver.vi et </a:t>
            </a:r>
            <a:r>
              <a:rPr b="0" i="1" lang="fr-FR" sz="3200" spc="-1" strike="noStrike">
                <a:solidFill>
                  <a:srgbClr val="000000"/>
                </a:solidFill>
                <a:latin typeface="Arial Narrow"/>
              </a:rPr>
              <a:t>model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_daq_driver.vi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Un utilitaire télécharge la DLL sur une cible LabVIEW Real-Tim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F1A-C649-4148-AE77-B616EEC79A3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lan de la présent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es outils de simulation NI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bVIEW Real-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Quid des modèles de simulation exista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e Toolkit d’Intégration de Modèle de Simul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8E4-8D21-4781-86E2-95F907A28D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aramètres du modèle de sim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066680"/>
          <a:ext cx="6168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6168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86B-B269-4441-B28A-EE4A3CBACA4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iagramme de</a:t>
            </a:r>
            <a:r>
              <a:rPr b="1" i="1" lang="fr-FR" sz="3600" spc="-1" strike="noStrike">
                <a:solidFill>
                  <a:srgbClr val="000000"/>
                </a:solidFill>
                <a:latin typeface="Arial Narrow"/>
              </a:rPr>
              <a:t> Model</a:t>
            </a: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_driver.vi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402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762120" y="1143000"/>
          <a:ext cx="780552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143000"/>
                    <a:ext cx="78055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33520" y="4267080"/>
          <a:ext cx="1790640" cy="149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267080"/>
                    <a:ext cx="17906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26B-8304-4D66-8268-BF3F425C279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Démo Simulation Interface Toolki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C539-D648-4927-8876-C3E32E50EF3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ogiciels nécessair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ational Instru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bVIEW 6.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ule LabVIEW Real-Time 6.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hWorks version 12.x ou 13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LAB 6.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ulink 4.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teflow 4.2.x (en op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al-Time Workshop 4.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crosoft Visual C++ 6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591-40B3-4B56-81EF-CF42959784F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nnexion au monde réel de manière transparente grâce à Lab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ploiement de système temps réel avec LabVIEW Real-Ti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veloppement d’applications de contrôle/commande en bénéficiant de la puissance de Lab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2E4-A793-4C8F-972C-77DB2F1C592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Arial Narrow"/>
              </a:rPr>
              <a:t>Questions ?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CA30-9E95-47CF-A746-FBD671F3ADA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: quels outils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2705040" y="280368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8040" y="440388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91040" y="440352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58080" y="2803320"/>
            <a:ext cx="381240" cy="65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863720"/>
            <a:ext cx="243864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Définition des besoins de contrôle de trajectoire du miss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463920"/>
            <a:ext cx="259092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Validation du prototype de contrôle de trajectoire avec des données ré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5064120"/>
            <a:ext cx="1600200" cy="64260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Embarquement du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463920"/>
            <a:ext cx="205740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Validation du contrôleur avec un missile sim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1863720"/>
            <a:ext cx="2133720" cy="916920"/>
          </a:xfrm>
          <a:prstGeom prst="rect">
            <a:avLst/>
          </a:prstGeom>
          <a:noFill/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81d58"/>
                </a:solidFill>
                <a:latin typeface="Arial Narrow"/>
              </a:rPr>
              <a:t>Validation du contrôleur sur un vrai miss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9907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xemple : conception du contrôle de trajectoire d’un mis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124080"/>
            <a:ext cx="2667240" cy="1676520"/>
          </a:xfrm>
          <a:prstGeom prst="ellipse">
            <a:avLst/>
          </a:prstGeom>
          <a:noFill/>
          <a:ln w="316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f0e30"/>
                </a:solidFill>
                <a:latin typeface="Arial Narrow"/>
              </a:rPr>
              <a:t>H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774-0CD6-4887-9C27-191F83CBABD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“Hardware-In-the-Loop“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Modélisation de systèm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systèmes complexes et non linéaires sont modélisés par des méthodes empir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systèmes simples sont décrits par des modèles mathémat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mplémentation de simulation temps ré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Besoin de performances temps réel et déterminis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24040" indent="-5335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Besoin d’E/S pour s’interfacer avec le contrôleu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EA2-D6E5-4B70-95CB-6821BF3C6E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imulation “Hardware-In-the-Loop“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22813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. Trans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657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Développement du modèle du miss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16002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. Validation du contrôleur de trajec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752480"/>
            <a:ext cx="2743200" cy="1752480"/>
            <a:chOff x="533520" y="1752480"/>
            <a:chExt cx="2743200" cy="1752480"/>
          </a:xfrm>
        </p:grpSpPr>
        <p:sp>
          <p:nvSpPr>
            <p:cNvPr id="116" name=""/>
            <p:cNvSpPr/>
            <p:nvPr/>
          </p:nvSpPr>
          <p:spPr>
            <a:xfrm>
              <a:off x="1100160" y="1827000"/>
              <a:ext cx="1606680" cy="1227240"/>
            </a:xfrm>
            <a:prstGeom prst="roundRect">
              <a:avLst>
                <a:gd name="adj" fmla="val 14125"/>
              </a:avLst>
            </a:prstGeom>
            <a:solidFill>
              <a:srgbClr val="a8adb0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LabVIEW  RT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ystème de développ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28880" y="1752480"/>
              <a:ext cx="1748160" cy="138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33520" y="3145680"/>
              <a:ext cx="2743200" cy="359280"/>
            </a:xfrm>
            <a:custGeom>
              <a:avLst/>
              <a:gdLst>
                <a:gd name="textAreaLeft" fmla="*/ 508680 w 2743200"/>
                <a:gd name="textAreaRight" fmla="*/ 2234520 w 2743200"/>
                <a:gd name="textAreaTop" fmla="*/ 66600 h 359280"/>
                <a:gd name="textAreaBottom" fmla="*/ 292680 h 3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538" y="21600"/>
                  </a:lnTo>
                  <a:lnTo>
                    <a:pt x="4062" y="21600"/>
                  </a:lnTo>
                  <a:close/>
                </a:path>
              </a:pathLst>
            </a:custGeom>
            <a:solidFill>
              <a:srgbClr val="a8adb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743360" y="2309760"/>
            <a:ext cx="2784600" cy="1724040"/>
          </a:xfrm>
          <a:prstGeom prst="roundRect">
            <a:avLst>
              <a:gd name="adj" fmla="val 907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9120" y="2409840"/>
            <a:ext cx="819360" cy="1504800"/>
          </a:xfrm>
          <a:prstGeom prst="rect">
            <a:avLst/>
          </a:prstGeom>
          <a:solidFill>
            <a:srgbClr val="b8ba9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PXI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8480" y="2409840"/>
            <a:ext cx="533160" cy="1504800"/>
          </a:xfrm>
          <a:prstGeom prst="rect">
            <a:avLst/>
          </a:prstGeom>
          <a:solidFill>
            <a:srgbClr val="a8ad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Séri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438280"/>
            <a:ext cx="533160" cy="1505160"/>
          </a:xfrm>
          <a:prstGeom prst="rect">
            <a:avLst/>
          </a:prstGeom>
          <a:solidFill>
            <a:srgbClr val="a8ad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Séri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15160" y="2409840"/>
            <a:ext cx="533520" cy="1504800"/>
          </a:xfrm>
          <a:prstGeom prst="rect">
            <a:avLst/>
          </a:prstGeom>
          <a:solidFill>
            <a:srgbClr val="a8ad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Ari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738520"/>
            <a:ext cx="2438280" cy="0"/>
          </a:xfrm>
          <a:prstGeom prst="line">
            <a:avLst/>
          </a:prstGeom>
          <a:ln w="5724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186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805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5600" y="4338720"/>
            <a:ext cx="130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onné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41292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43578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32680" y="4262400"/>
            <a:ext cx="13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mis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3881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16640" y="5171040"/>
            <a:ext cx="3342960" cy="703080"/>
          </a:xfrm>
          <a:prstGeom prst="cube">
            <a:avLst>
              <a:gd name="adj" fmla="val 34703"/>
            </a:avLst>
          </a:prstGeom>
          <a:noFill/>
          <a:ln w="38160">
            <a:solidFill>
              <a:srgbClr val="a8ad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ontrôleur de trajec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805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41292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4357800"/>
            <a:ext cx="0" cy="51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9907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xemple : conception du contrôle de trajectoire d’un mis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48120" y="3580920"/>
            <a:ext cx="2133360" cy="1295640"/>
          </a:xfrm>
          <a:prstGeom prst="line">
            <a:avLst/>
          </a:prstGeom>
          <a:ln w="44280">
            <a:solidFill>
              <a:srgbClr val="edb9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9FD-83B7-4800-8140-7EC812587F0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abVIEW Real-Tim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ABB1-398F-4663-A03E-9044C4BB00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Que signifie TEMPS RÉEL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Un système temps réel possède la capacité de répondre à un événement ou d’effectuer une opération dans un temps constant et ce, sans dépassemen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D15-21B9-4BC3-9C0A-E1CDE0DC16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Terminologie temps rée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éterminis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mps de bouc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Jit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4005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8D0-BD54-4452-A945-A9146EC458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5T20:51:44Z</dcterms:created>
  <dc:creator>John Limroth</dc:creator>
  <dc:description/>
  <cp:keywords>core strategic vision core ideology core values mission core purpose</cp:keywords>
  <dc:language>en-US</dc:language>
  <cp:lastModifiedBy>Service informatique</cp:lastModifiedBy>
  <cp:lastPrinted>1997-10-30T12:11:06Z</cp:lastPrinted>
  <dcterms:modified xsi:type="dcterms:W3CDTF">2003-04-03T15:01:43Z</dcterms:modified>
  <cp:revision>51</cp:revision>
  <dc:subject>NI Leadership Seminar Series 2001</dc:subject>
  <dc:title>PowerPoint Presentation</dc:title>
</cp:coreProperties>
</file>