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8"/>
          </p:nvPr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9"/>
          </p:nvPr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D626649-DB9D-4F1E-9AC3-3BB9CDEB1A6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Img"/>
          </p:nvPr>
        </p:nvSpPr>
        <p:spPr>
          <a:xfrm>
            <a:off x="1188720" y="704520"/>
            <a:ext cx="4614840" cy="34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1AE095E-807F-43FE-96B5-7165EB43700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6240" y="71928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50400" y="4449240"/>
            <a:ext cx="507708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20B0338-2544-4F27-9359-7A541B0EF64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6240" y="71928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98120" y="4328640"/>
            <a:ext cx="576108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6CAB53D-5A69-44FF-93F4-8E8A18F48D1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A4CCE8C-750C-4F93-ADA9-B2E4847234E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8AFED5C-6B30-43FC-95D8-C4FF4BC20AE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719280"/>
            <a:ext cx="4686480" cy="35146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52200" y="4449600"/>
            <a:ext cx="51483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A2D9FE7-434E-42EA-AAE0-303E376B3E3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6BAC8D9-8E7A-4EDF-9C04-A13C64AB88E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5D71F91-A8C6-4FF0-B15D-7D41DA30893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D968973-8A4C-4259-93A7-3EC61507B73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C280F0C-95A1-4E9A-B530-4F63D91ED75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8598A06-6EA7-4625-96ED-053F62C7316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4ABA16D-06D4-4E71-AF06-691BD8710CB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0DD5DAD-961E-48B0-AD03-D0853EDF3AE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2D193F5-1D27-49B6-A8CD-6E9A2FF21E7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583A8D1-5B5B-407D-853F-5B1EAC1DA01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225D154-E089-470A-A8AE-C3CEFFA3FE1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2F668A1-C0D4-4FF8-971F-D76091708B6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FF53B3C-3C83-4AD5-B05E-1F629282BB0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F6FD055-0A5D-4114-A178-8AB20DB432E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5A7ADA4-6365-449A-BC62-7AB69BF7A59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584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31680" y="440532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794770B-ED17-4A30-937C-8802F84A8F9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6240" y="71928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50400" y="4449240"/>
            <a:ext cx="507708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95FD8CD-8311-45C2-8600-CE8AF0A3E2E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6240" y="71928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50400" y="4449240"/>
            <a:ext cx="507708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B5AD-A3D9-4404-939E-67CE36AF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9256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2CDF-F37A-44BA-B1BE-1571062A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726F-BA3C-4E08-9845-65F258CD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E19C-3255-4093-8F81-56C97FB4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8981-671B-472F-B35D-A892FE17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E3E1-7F66-42C5-A229-74FCB565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58FD-FE3C-4986-BB3E-F2A910CF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2895-2C4B-4B70-9D77-417E3CC7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4960-FB90-4AE0-B6F3-D3FEBCDA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DDEA-5D51-4D8F-800B-DB4496E5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72EF-D8EE-433A-B3C6-4EF366A1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89BF-7665-408C-B9F1-031EDD32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F01D-3791-47F1-BF46-B7B22E07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3BDC-9D8F-4E27-95F5-9C3D803D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9256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C307-FC4E-4394-A573-2AD8BAE8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772F-7979-4923-97E6-2AF0C390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3DEC-92ED-478C-B5B3-DF6453E6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3DD2-24DE-4696-A3E5-DC6FE921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2F2C-6DC1-407F-8E49-D174565C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F80F-C9F3-4561-8BB9-23131D60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C5C4-1923-4408-B2B1-B4787A50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0FF8-85D1-4EDE-9E22-ADA68DCD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25C3-5752-4561-B2F1-53263957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0C11-01BE-465F-8D76-F50AE652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206360" indent="-23472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National Instruments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-360" y="66290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46BD-3F93-4D2E-BAA4-8BC77919F7FA}" type="slidenum"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National Instruments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-360" y="66290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7D1D-C5B5-4EB7-851D-BDD1F1B21DF4}" type="slidenum"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29052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68112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97164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320840" algn="ctr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132084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132084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67D8-706E-4DE6-8A2A-8450488E627E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Pourquoi Windows n’est pas temps réel ?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Temps processeur partagé entre plusieurs programm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Windows prend le pas sur les applications haute priorité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De nombreux programmes tournent en tâche de fon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(antivirus, économiseur d’écran…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Windows doit gérer les interruptions (clavier, souris…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Système LabVIEW Real-Tim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58720" y="1447920"/>
            <a:ext cx="4191120" cy="3190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87480" y="4649760"/>
            <a:ext cx="2209680" cy="1219320"/>
          </a:xfrm>
          <a:prstGeom prst="ellipse">
            <a:avLst/>
          </a:prstGeom>
          <a:solidFill>
            <a:srgbClr val="86a7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évelopp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48320" y="4651200"/>
            <a:ext cx="2209680" cy="1219320"/>
          </a:xfrm>
          <a:prstGeom prst="ellipse">
            <a:avLst/>
          </a:prstGeom>
          <a:solidFill>
            <a:srgbClr val="86a7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xé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477120" y="1523880"/>
          <a:ext cx="2190600" cy="11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1523880"/>
                    <a:ext cx="21906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3314880" y="5257800"/>
            <a:ext cx="2133360" cy="0"/>
          </a:xfrm>
          <a:prstGeom prst="line">
            <a:avLst/>
          </a:prstGeom>
          <a:ln w="38160">
            <a:solidFill>
              <a:srgbClr val="a8adb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2933640"/>
            <a:ext cx="1359000" cy="0"/>
          </a:xfrm>
          <a:prstGeom prst="line">
            <a:avLst/>
          </a:prstGeom>
          <a:ln w="38160">
            <a:solidFill>
              <a:srgbClr val="a8adb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5460840"/>
            <a:ext cx="22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8adb0"/>
                </a:solidFill>
                <a:latin typeface="Times New Roman"/>
                <a:ea typeface="Times New Roman"/>
              </a:rPr>
              <a:t>Téléchar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762120"/>
            <a:ext cx="20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8adb0"/>
                </a:solidFill>
                <a:latin typeface="Times New Roman"/>
                <a:ea typeface="Times New Roman"/>
              </a:rPr>
              <a:t>Cible 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7000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8adb0"/>
                </a:solidFill>
                <a:latin typeface="Times New Roman"/>
                <a:ea typeface="Times New Roman"/>
              </a:rPr>
              <a:t>PC hô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xi" descr=""/>
          <p:cNvPicPr/>
          <p:nvPr/>
        </p:nvPicPr>
        <p:blipFill>
          <a:blip r:embed="rId4"/>
          <a:stretch/>
        </p:blipFill>
        <p:spPr>
          <a:xfrm>
            <a:off x="6553080" y="3352680"/>
            <a:ext cx="2057400" cy="1201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85800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8adb0"/>
                </a:solidFill>
                <a:latin typeface="Times New Roman"/>
                <a:ea typeface="Times New Roman"/>
              </a:rPr>
              <a:t>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C70B-6EB1-474F-ABA2-4FEC1B481AF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Système de développement (PC hôte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Fonctionne sous Windows XP/2000/NT/9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Utilise le langage LabVIEW standar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Réalise l’ensemble des tâches non déterministes de l’application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Fournit l’interface utilisateu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Gère les communications avec le système cib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Fonctionne de façon transparente pour l’utilisateur avec une visualisation de la cible en face-ava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B7A7-1B0F-48A5-AA6E-EC810F7EEA3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Système cible (RT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Description généra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fonctionne sous un système d’exploitation temps ré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exécute un ou plusieurs VIs en temps ré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est indépendant et autonome du système hôte vis-à-vis des plantages, redémarrages..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Communication avec le PC hôte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VI Serveu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TCP/IP, UDP et DataSocke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8B28-91DD-4431-B60F-A3A3E8EA39C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 Narrow"/>
              </a:rPr>
              <a:t>Les cibles R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Compact FieldPoint R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cFP-2000,2010,202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Contrôleur PXI RT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- PXI-817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- série NI 8171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- série PXI-8140 R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495680" y="3200400"/>
          <a:ext cx="434340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200400"/>
                    <a:ext cx="43434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914400" y="1447920"/>
          <a:ext cx="3038400" cy="192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447920"/>
                    <a:ext cx="3038400" cy="19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5C2F-699E-4848-AAAA-D4C45BD0E68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Des mesures autonom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Applications autonomes lancées à l’allumage du châssis PXI (ou module cFP) grâce à l’Application Build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Fonctionnalités d’un serveur FT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Support de cartes NI (DAQ, vision, commande d’axes, série, GPIB, CAN et SCXI) le tout en mode RT 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743200" y="3429000"/>
          <a:ext cx="3427560" cy="22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429000"/>
                    <a:ext cx="342756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14800" y="3767040"/>
          <a:ext cx="241200" cy="15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3767040"/>
                    <a:ext cx="24120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343400" y="3767040"/>
          <a:ext cx="241200" cy="15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3767040"/>
                    <a:ext cx="24120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572000" y="3767040"/>
          <a:ext cx="241200" cy="156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767040"/>
                    <a:ext cx="24120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800600" y="3767040"/>
          <a:ext cx="241200" cy="1567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767040"/>
                    <a:ext cx="24120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029200" y="3767040"/>
          <a:ext cx="241200" cy="1567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29200" y="3767040"/>
                    <a:ext cx="24120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257800" y="3767040"/>
          <a:ext cx="241200" cy="1567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57800" y="3767040"/>
                    <a:ext cx="24120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5486400" y="3767040"/>
          <a:ext cx="241200" cy="1567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86400" y="3767040"/>
                    <a:ext cx="24120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FEAC-2E99-4F6F-9BED-67501DA072C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Quelques chiffr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Performances sur PXI-8176, 1,26 GHz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acquisition, calcul PID, génér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1 PID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40 kHz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32 PID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2,5 kHz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Performances sur PXI-8146, 266 MHz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acquisition, calcul PID, génér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1 PID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6,5 kHz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32 PID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1,2 kHz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3D31-79D9-487F-B743-4CD3B77AD1A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Implémentation et validation de modèl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5AFC-9E67-4356-98CA-F40277D4EB0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Fonction de transfert du modèl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Équation différentielle résultant de l ’analyse du modèle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Fonction de transfert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066680" y="2514600"/>
                <a:ext cx="70106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b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514600" y="4667400"/>
                <a:ext cx="414504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D3EE-A8F3-4A98-BC1C-60B9CE9D416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Implémenter et valider un modèle en LabVIEW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Outils de contrôle avancé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Basé sur les équations et les fonctions de transfer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Fonctions continues, discrètes et non linéaires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ntiblocage de roues et ES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imulation d’environnements de test complex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477120" y="3962520"/>
            <a:ext cx="2489040" cy="172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B408-E9FB-44A0-8419-D11B52A8157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101680"/>
            <a:ext cx="822960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800" spc="-1" strike="noStrike">
                <a:solidFill>
                  <a:srgbClr val="000000"/>
                </a:solidFill>
                <a:latin typeface="Arial Narrow"/>
              </a:rPr>
              <a:t>Le Toolkit d’Intégration de Modèle de Simulation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3200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Arial Narrow"/>
              </a:rPr>
              <a:t>Raphaël TILLE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2F0B-6644-4120-A3EC-2AD86FE8277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Simulation du modèle sous LabVIEW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268280" y="1023840"/>
          <a:ext cx="660888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1023840"/>
                    <a:ext cx="660888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A53D-0B8D-4DCF-818C-844A73681DAA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Simulation HIL sous LabVIEW Real-Time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933560" y="1023840"/>
            <a:ext cx="5276880" cy="481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EB7-A666-414B-A2A1-F241E136E760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Utiliser un modèle Simulink</a:t>
            </a:r>
            <a:r>
              <a:rPr b="1" lang="fr-FR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 sous LabVIEW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Modélisation, simulation et analyse de systèmes dynamiques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Système linéaire et non linéai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Continu, discret ou hybri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Représentation des modèles sous forme de diagramm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Couramment utilisé dans l’aéronautique, l’aérospatiale et l’automobi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71C1-B4F6-4582-A458-EFCC4EC7D3B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Le Toolkit d'Intégration de Modèle de Simula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S’interface uniquement avec MathWorks Simulink</a:t>
            </a:r>
            <a:r>
              <a:rPr b="0" lang="fr-FR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Ajout des outils de l’interface graphique de LabVIEW dans  l’environnement Simulin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Importation de modèle Simulink</a:t>
            </a:r>
            <a:r>
              <a:rPr b="0" lang="fr-FR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dans l’environnement de développement LabVIEW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981080" y="3809880"/>
            <a:ext cx="5105520" cy="2057400"/>
            <a:chOff x="1981080" y="3809880"/>
            <a:chExt cx="5105520" cy="2057400"/>
          </a:xfrm>
        </p:grpSpPr>
        <p:sp>
          <p:nvSpPr>
            <p:cNvPr id="210" name=""/>
            <p:cNvSpPr/>
            <p:nvPr/>
          </p:nvSpPr>
          <p:spPr>
            <a:xfrm>
              <a:off x="3699360" y="4302000"/>
              <a:ext cx="3387240" cy="1565280"/>
            </a:xfrm>
            <a:prstGeom prst="roundRect">
              <a:avLst>
                <a:gd name="adj" fmla="val 12023"/>
              </a:avLst>
            </a:prstGeom>
            <a:solidFill>
              <a:srgbClr val="edb906">
                <a:alpha val="10000"/>
              </a:srgbClr>
            </a:solidFill>
            <a:ln w="9360">
              <a:solidFill>
                <a:srgbClr val="edb9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Lab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81080" y="3809880"/>
              <a:ext cx="3387240" cy="1565280"/>
            </a:xfrm>
            <a:prstGeom prst="roundRect">
              <a:avLst>
                <a:gd name="adj" fmla="val 12023"/>
              </a:avLst>
            </a:prstGeom>
            <a:solidFill>
              <a:srgbClr val="a8adb0">
                <a:alpha val="10000"/>
              </a:srgbClr>
            </a:solidFill>
            <a:ln w="9360">
              <a:solidFill>
                <a:srgbClr val="a8ad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Simu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77280" y="4525560"/>
              <a:ext cx="1227240" cy="626040"/>
            </a:xfrm>
            <a:prstGeom prst="ellipse">
              <a:avLst/>
            </a:prstGeom>
            <a:solidFill>
              <a:srgbClr val="5c81b5">
                <a:alpha val="20000"/>
              </a:srgbClr>
            </a:solidFill>
            <a:ln w="28440">
              <a:solidFill>
                <a:srgbClr val="5e8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c81b5"/>
                  </a:solidFill>
                  <a:latin typeface="Arial Narrow"/>
                </a:rPr>
                <a:t>Algorith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c81b5"/>
                  </a:solidFill>
                  <a:latin typeface="Arial Narrow"/>
                </a:rPr>
                <a:t>Mode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20040" y="4525560"/>
              <a:ext cx="1227240" cy="626040"/>
            </a:xfrm>
            <a:prstGeom prst="ellipse">
              <a:avLst/>
            </a:prstGeom>
            <a:solidFill>
              <a:srgbClr val="5c81b5">
                <a:alpha val="20000"/>
              </a:srgbClr>
            </a:solidFill>
            <a:ln w="28440">
              <a:solidFill>
                <a:srgbClr val="5e8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c81b5"/>
                  </a:solidFill>
                  <a:latin typeface="Arial Narrow"/>
                </a:rPr>
                <a:t>Algorith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c81b5"/>
                  </a:solidFill>
                  <a:latin typeface="Arial Narrow"/>
                </a:rPr>
                <a:t>Verif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62800" y="4525560"/>
              <a:ext cx="1227240" cy="626040"/>
            </a:xfrm>
            <a:prstGeom prst="ellipse">
              <a:avLst/>
            </a:prstGeom>
            <a:solidFill>
              <a:srgbClr val="5c81b5">
                <a:alpha val="20000"/>
              </a:srgbClr>
            </a:solidFill>
            <a:ln w="28440">
              <a:solidFill>
                <a:srgbClr val="5e8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c81b5"/>
                  </a:solidFill>
                  <a:latin typeface="Arial Narrow"/>
                </a:rPr>
                <a:t>Real-Wor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c81b5"/>
                  </a:solidFill>
                  <a:latin typeface="Arial Narrow"/>
                </a:rPr>
                <a:t>Prototyp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24880" y="4346280"/>
              <a:ext cx="932400" cy="178920"/>
            </a:xfrm>
            <a:custGeom>
              <a:avLst/>
              <a:gdLst>
                <a:gd name="textAreaLeft" fmla="*/ 163080 w 932400"/>
                <a:gd name="textAreaRight" fmla="*/ 676080 w 932400"/>
                <a:gd name="textAreaTop" fmla="*/ 23760 h 178920"/>
                <a:gd name="textAreaBottom" fmla="*/ 155160 h 17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8ba95">
                <a:alpha val="50000"/>
              </a:srgbClr>
            </a:solidFill>
            <a:ln w="936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4877280" y="5150880"/>
              <a:ext cx="932400" cy="178920"/>
            </a:xfrm>
            <a:custGeom>
              <a:avLst/>
              <a:gdLst>
                <a:gd name="textAreaLeft" fmla="*/ 163440 w 932400"/>
                <a:gd name="textAreaRight" fmla="*/ 676440 w 932400"/>
                <a:gd name="textAreaTop" fmla="*/ 23760 h 178920"/>
                <a:gd name="textAreaBottom" fmla="*/ 155160 h 17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8ba95">
                <a:alpha val="50000"/>
              </a:srgbClr>
            </a:solidFill>
            <a:ln w="936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57280" y="4346280"/>
              <a:ext cx="932400" cy="178920"/>
            </a:xfrm>
            <a:custGeom>
              <a:avLst/>
              <a:gdLst>
                <a:gd name="textAreaLeft" fmla="*/ 163080 w 932400"/>
                <a:gd name="textAreaRight" fmla="*/ 676080 w 932400"/>
                <a:gd name="textAreaTop" fmla="*/ 23760 h 178920"/>
                <a:gd name="textAreaBottom" fmla="*/ 155160 h 17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8ba95">
                <a:alpha val="50000"/>
              </a:srgbClr>
            </a:solidFill>
            <a:ln w="936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3158280" y="5150880"/>
              <a:ext cx="932760" cy="178920"/>
            </a:xfrm>
            <a:custGeom>
              <a:avLst/>
              <a:gdLst>
                <a:gd name="textAreaLeft" fmla="*/ 162720 w 932760"/>
                <a:gd name="textAreaRight" fmla="*/ 676080 w 932760"/>
                <a:gd name="textAreaTop" fmla="*/ 23760 h 178920"/>
                <a:gd name="textAreaBottom" fmla="*/ 155160 h 17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8ba95">
                <a:alpha val="50000"/>
              </a:srgbClr>
            </a:solidFill>
            <a:ln w="936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953D-59C6-433C-B944-E911BC23513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114800" y="3429000"/>
            <a:ext cx="4343400" cy="2340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Diagramme du Simulation Interface Toolki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267080" y="1066680"/>
            <a:ext cx="1828800" cy="91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2286000"/>
            <a:ext cx="175248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095880" y="1066680"/>
            <a:ext cx="2543400" cy="16351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33520" y="1219320"/>
            <a:ext cx="6553080" cy="3429000"/>
          </a:xfrm>
          <a:custGeom>
            <a:avLst/>
            <a:gdLst/>
            <a:ahLst/>
            <a:rect l="l" t="t" r="r" b="b"/>
            <a:pathLst>
              <a:path w="4128" h="2160">
                <a:moveTo>
                  <a:pt x="0" y="1728"/>
                </a:moveTo>
                <a:lnTo>
                  <a:pt x="2544" y="1728"/>
                </a:lnTo>
                <a:lnTo>
                  <a:pt x="2544" y="0"/>
                </a:lnTo>
                <a:lnTo>
                  <a:pt x="4128" y="2064"/>
                </a:lnTo>
                <a:lnTo>
                  <a:pt x="4032" y="2064"/>
                </a:lnTo>
                <a:lnTo>
                  <a:pt x="4032" y="2160"/>
                </a:lnTo>
                <a:lnTo>
                  <a:pt x="0" y="1728"/>
                </a:lnTo>
                <a:close/>
              </a:path>
            </a:pathLst>
          </a:custGeom>
          <a:solidFill>
            <a:srgbClr val="a8adb0">
              <a:alpha val="50000"/>
            </a:srgbClr>
          </a:solidFill>
          <a:ln w="9360">
            <a:solidFill>
              <a:srgbClr val="a8ad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1219320"/>
          <a:ext cx="4114800" cy="282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219320"/>
                    <a:ext cx="4114800" cy="28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F3ED-60BE-443D-B0D4-66EA836E4431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Processus de l’interfaçage du modèl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MATLAB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/Simulink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˜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Real-Time Workshop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˜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Microsoft Visual C++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˜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LabVIEW/LabVIEW Real-Tim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4724280" y="2057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c81b5"/>
                </a:solidFill>
                <a:latin typeface="Times New Roman"/>
              </a:rPr>
              <a:t>(modè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428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c81b5"/>
                </a:solidFill>
                <a:latin typeface="Times New Roman"/>
              </a:rPr>
              <a:t>(</a:t>
            </a:r>
            <a:r>
              <a:rPr b="0" lang="fr-FR" sz="2400" spc="-1" strike="noStrike">
                <a:solidFill>
                  <a:srgbClr val="5c81b5"/>
                </a:solidFill>
                <a:latin typeface="Arial Narrow"/>
              </a:rPr>
              <a:t>code</a:t>
            </a: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5c81b5"/>
                </a:solidFill>
                <a:latin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4343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c81b5"/>
                </a:solidFill>
                <a:latin typeface="Times New Roman"/>
              </a:rPr>
              <a:t>(D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0AEF-926D-41D4-A6B4-5604FA9DC76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Étape 1 : Inports &amp; Outport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0" y="2666880"/>
            <a:ext cx="8380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2666880"/>
            <a:ext cx="838080" cy="685800"/>
          </a:xfrm>
          <a:prstGeom prst="ellipse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2895480"/>
            <a:ext cx="838080" cy="685800"/>
          </a:xfrm>
          <a:prstGeom prst="ellipse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133720" y="1600200"/>
          <a:ext cx="41907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41907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54AF-E12E-4496-9055-94860350187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Étape 2 : Solver Parameter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1981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133720" y="1447920"/>
          <a:ext cx="331452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447920"/>
                    <a:ext cx="33145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105520" y="2971800"/>
          <a:ext cx="233676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971800"/>
                    <a:ext cx="23367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257C-4F8E-438B-B897-0720BF90663D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Étape 3 : Real-Time Workshop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80880" y="1295280"/>
          <a:ext cx="3505320" cy="30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350532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3733920" y="2438280"/>
            <a:ext cx="5181480" cy="3365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 flipV="1">
            <a:off x="1905120" y="2437920"/>
            <a:ext cx="1828800" cy="1143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D2F3-7827-4D1B-B27C-E928A5CA66AF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rocédure de compila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Real-Time Workshop génère du code C à partir d’un modè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MS VC++ compile ce code en </a:t>
            </a:r>
            <a:r>
              <a:rPr b="0" i="1" lang="fr-FR" sz="3200" spc="-1" strike="noStrike">
                <a:solidFill>
                  <a:srgbClr val="000000"/>
                </a:solidFill>
                <a:latin typeface="Arial Narrow"/>
              </a:rPr>
              <a:t>model</a:t>
            </a: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.dl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LabVIEW génère deux exemples : </a:t>
            </a:r>
            <a:r>
              <a:rPr b="0" i="1" lang="fr-FR" sz="3200" spc="-1" strike="noStrike">
                <a:solidFill>
                  <a:srgbClr val="000000"/>
                </a:solidFill>
                <a:latin typeface="Arial Narrow"/>
              </a:rPr>
              <a:t>model</a:t>
            </a: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_driver.vi et </a:t>
            </a:r>
            <a:r>
              <a:rPr b="0" i="1" lang="fr-FR" sz="3200" spc="-1" strike="noStrike">
                <a:solidFill>
                  <a:srgbClr val="000000"/>
                </a:solidFill>
                <a:latin typeface="Arial Narrow"/>
              </a:rPr>
              <a:t>model</a:t>
            </a: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_daq_driver.vi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Un utilitaire télécharge la DLL sur une cible LabVIEW Real-Time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3FBD-B8AB-4C38-8FD6-56AF0D1D648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Plan de la présenta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Les outils de simulation NI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abVIEW Real-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Quid des modèles de simulation existan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Le Toolkit d’Intégration de Modèle de Simul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Démonstr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60D6-E9E0-43D9-8273-B6481A0FCBE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Paramètres du modèle de simula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447920" y="1066680"/>
          <a:ext cx="61689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6680"/>
                    <a:ext cx="61689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61A3-7CD0-4A43-A2F4-7EA29ECD814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Diagramme de</a:t>
            </a:r>
            <a:r>
              <a:rPr b="1" i="1" lang="fr-FR" sz="3600" spc="-1" strike="noStrike">
                <a:solidFill>
                  <a:srgbClr val="000000"/>
                </a:solidFill>
                <a:latin typeface="Arial Narrow"/>
              </a:rPr>
              <a:t> Model</a:t>
            </a: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_driver.vi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467840" cy="402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6" name=""/>
          <p:cNvGraphicFramePr/>
          <p:nvPr/>
        </p:nvGraphicFramePr>
        <p:xfrm>
          <a:off x="762120" y="1143000"/>
          <a:ext cx="7805520" cy="426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143000"/>
                    <a:ext cx="78055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533520" y="4267080"/>
          <a:ext cx="1790640" cy="1495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4267080"/>
                    <a:ext cx="179064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6CFB-E0F9-4C92-8C9D-C7F0E61968E3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Démo Simulation Interface Toolkit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CE4B-0B1B-4F5C-82EB-84752FD167E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Logiciels nécessair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ational Instrum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abVIEW 6.1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ule LabVIEW Real-Time 6.1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thWorks version 12.x ou 13.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TLAB 6.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ulink 4.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ateflow 4.2.x (en option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al-Time Workshop 4.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icrosoft Visual C++ 6.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25BC-79E5-4B0F-9333-D1F2AA0E977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Connexion au monde réel de manière transparente grâce à LabVIEW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Déploiement de système temps réel avec LabVIEW Real-Tim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Développement d’applications de contrôle/commande en bénéficiant de la puissance de LabVIEW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D622-0404-4214-B52D-CB444A63A77F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000000"/>
                </a:solidFill>
                <a:latin typeface="Arial Narrow"/>
              </a:rPr>
              <a:t>Questions ?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F3F0-697B-4772-B0E3-4F139952CCF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Simulation : quels outils ?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"/>
          <p:cNvSpPr/>
          <p:nvPr/>
        </p:nvSpPr>
        <p:spPr>
          <a:xfrm>
            <a:off x="2705040" y="2803680"/>
            <a:ext cx="381240" cy="65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8040" y="4403880"/>
            <a:ext cx="381240" cy="65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991040" y="4403520"/>
            <a:ext cx="381240" cy="65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58080" y="2803320"/>
            <a:ext cx="381240" cy="65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863720"/>
            <a:ext cx="2438640" cy="916920"/>
          </a:xfrm>
          <a:prstGeom prst="rect">
            <a:avLst/>
          </a:prstGeom>
          <a:noFill/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Arial Narrow"/>
              </a:rPr>
              <a:t>Définition des besoins de contrôle de trajectoire du missi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463920"/>
            <a:ext cx="2590920" cy="916920"/>
          </a:xfrm>
          <a:prstGeom prst="rect">
            <a:avLst/>
          </a:prstGeom>
          <a:noFill/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Arial Narrow"/>
              </a:rPr>
              <a:t>Validation du prototype de contrôle de trajectoire avec des données rée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5064120"/>
            <a:ext cx="1600200" cy="642600"/>
          </a:xfrm>
          <a:prstGeom prst="rect">
            <a:avLst/>
          </a:prstGeom>
          <a:noFill/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Arial Narrow"/>
              </a:rPr>
              <a:t>Embarquement du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57800" y="3463920"/>
            <a:ext cx="2057400" cy="916920"/>
          </a:xfrm>
          <a:prstGeom prst="rect">
            <a:avLst/>
          </a:prstGeom>
          <a:noFill/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Arial Narrow"/>
              </a:rPr>
              <a:t>Validation du contrôleur avec un missile simu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1863720"/>
            <a:ext cx="2133720" cy="916920"/>
          </a:xfrm>
          <a:prstGeom prst="rect">
            <a:avLst/>
          </a:prstGeom>
          <a:noFill/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Arial Narrow"/>
              </a:rPr>
              <a:t>Validation du contrôleur sur un vrai miss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990720"/>
            <a:ext cx="8534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Exemple : conception du contrôle de trajectoire d’un miss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124080"/>
            <a:ext cx="2667240" cy="1676520"/>
          </a:xfrm>
          <a:prstGeom prst="ellipse">
            <a:avLst/>
          </a:prstGeom>
          <a:noFill/>
          <a:ln w="3168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f0e30"/>
                </a:solidFill>
                <a:latin typeface="Arial Narrow"/>
              </a:rPr>
              <a:t>H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EEF6-30C7-4D3C-8C2A-C6A7D59A187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Simulation “Hardware-In-the-Loop“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Modélisation de systèm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24040" indent="-53352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Les systèmes complexes et non linéaires sont modélisés par des méthodes empiriqu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24040" indent="-53352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Les systèmes simples sont décrits par des modèles mathématiqu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Implémentation de simulation temps ré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24040" indent="-53352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Besoin de performances temps réel et déterminis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24040" indent="-53352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Besoin d’E/S pour s’interfacer avec le contrôleu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C1A9-809F-4A3E-AB0A-4697DDEAEFF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Simulation “Hardware-In-the-Loop“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22813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2. Transf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365760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7960" indent="-23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 Développement du modèle du miss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16002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7960" indent="-2379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3. Validation du contrôleur de traject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33520" y="1752480"/>
            <a:ext cx="2743200" cy="1752480"/>
            <a:chOff x="533520" y="1752480"/>
            <a:chExt cx="2743200" cy="1752480"/>
          </a:xfrm>
        </p:grpSpPr>
        <p:sp>
          <p:nvSpPr>
            <p:cNvPr id="116" name=""/>
            <p:cNvSpPr/>
            <p:nvPr/>
          </p:nvSpPr>
          <p:spPr>
            <a:xfrm>
              <a:off x="1100160" y="1827000"/>
              <a:ext cx="1606680" cy="1227240"/>
            </a:xfrm>
            <a:prstGeom prst="roundRect">
              <a:avLst>
                <a:gd name="adj" fmla="val 14125"/>
              </a:avLst>
            </a:prstGeom>
            <a:solidFill>
              <a:srgbClr val="a8adb0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LabVIEW  RT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Système de développ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28880" y="1752480"/>
              <a:ext cx="1748160" cy="1382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0800000">
              <a:off x="533520" y="3145680"/>
              <a:ext cx="2743200" cy="359280"/>
            </a:xfrm>
            <a:custGeom>
              <a:avLst/>
              <a:gdLst>
                <a:gd name="textAreaLeft" fmla="*/ 508680 w 2743200"/>
                <a:gd name="textAreaRight" fmla="*/ 2234520 w 2743200"/>
                <a:gd name="textAreaTop" fmla="*/ 66600 h 359280"/>
                <a:gd name="textAreaBottom" fmla="*/ 292680 h 35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538" y="21600"/>
                  </a:lnTo>
                  <a:lnTo>
                    <a:pt x="4062" y="21600"/>
                  </a:lnTo>
                  <a:close/>
                </a:path>
              </a:pathLst>
            </a:custGeom>
            <a:solidFill>
              <a:srgbClr val="a8adb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4743360" y="2309760"/>
            <a:ext cx="2784600" cy="1724040"/>
          </a:xfrm>
          <a:prstGeom prst="roundRect">
            <a:avLst>
              <a:gd name="adj" fmla="val 907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29120" y="2409840"/>
            <a:ext cx="819360" cy="1504800"/>
          </a:xfrm>
          <a:prstGeom prst="rect">
            <a:avLst/>
          </a:prstGeom>
          <a:solidFill>
            <a:srgbClr val="b8ba9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PXI 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48480" y="2409840"/>
            <a:ext cx="533160" cy="1504800"/>
          </a:xfrm>
          <a:prstGeom prst="rect">
            <a:avLst/>
          </a:prstGeom>
          <a:solidFill>
            <a:srgbClr val="a8ad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Séri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2438280"/>
            <a:ext cx="533160" cy="1505160"/>
          </a:xfrm>
          <a:prstGeom prst="rect">
            <a:avLst/>
          </a:prstGeom>
          <a:solidFill>
            <a:srgbClr val="a8ad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Séri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15160" y="2409840"/>
            <a:ext cx="533520" cy="1504800"/>
          </a:xfrm>
          <a:prstGeom prst="rect">
            <a:avLst/>
          </a:prstGeom>
          <a:solidFill>
            <a:srgbClr val="a8ad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Ari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2738520"/>
            <a:ext cx="2438280" cy="0"/>
          </a:xfrm>
          <a:prstGeom prst="line">
            <a:avLst/>
          </a:prstGeom>
          <a:ln w="57240">
            <a:solidFill>
              <a:srgbClr val="5c81b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4186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86600" y="3805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5600" y="4338720"/>
            <a:ext cx="130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Donné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d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86600" y="4129200"/>
            <a:ext cx="0" cy="514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86600" y="4357800"/>
            <a:ext cx="0" cy="51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32680" y="4262400"/>
            <a:ext cx="13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Don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miss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38815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16640" y="5171040"/>
            <a:ext cx="3342960" cy="703080"/>
          </a:xfrm>
          <a:prstGeom prst="cube">
            <a:avLst>
              <a:gd name="adj" fmla="val 34703"/>
            </a:avLst>
          </a:prstGeom>
          <a:noFill/>
          <a:ln w="38160">
            <a:solidFill>
              <a:srgbClr val="a8ad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Contrôleur de trajec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3805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53080" y="4129200"/>
            <a:ext cx="0" cy="514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4357800"/>
            <a:ext cx="0" cy="51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990720"/>
            <a:ext cx="8534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Exemple : conception du contrôle de trajectoire d’un miss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048120" y="3580920"/>
            <a:ext cx="2133360" cy="1295640"/>
          </a:xfrm>
          <a:prstGeom prst="line">
            <a:avLst/>
          </a:prstGeom>
          <a:ln w="44280">
            <a:solidFill>
              <a:srgbClr val="edb9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27620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BB5E-F2FE-4576-92DD-D0BEE6B5D74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LabVIEW Real-Tim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884E-EA9F-4638-8ADB-A79EF315AED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Que signifie TEMPS RÉEL ?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Un système temps réel possède la capacité de répondre à un événement ou d’effectuer une opération dans un temps constant et ce, sans dépassement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B6FE-DBB6-4DA5-929B-7374BCBCEFD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Terminologie temps réel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Déterminism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Temps de bouc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Jitt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40056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05E5-F835-40EB-B09B-F3B30C988AC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5T20:51:44Z</dcterms:created>
  <dc:creator>John Limroth</dc:creator>
  <dc:description/>
  <cp:keywords>core strategic vision core ideology core values mission core purpose</cp:keywords>
  <dc:language>en-US</dc:language>
  <cp:lastModifiedBy>Service informatique</cp:lastModifiedBy>
  <cp:lastPrinted>1997-10-30T12:11:06Z</cp:lastPrinted>
  <dcterms:modified xsi:type="dcterms:W3CDTF">2003-04-03T15:01:43Z</dcterms:modified>
  <cp:revision>51</cp:revision>
  <dc:subject>NI Leadership Seminar Series 2001</dc:subject>
  <dc:title>PowerPoint Presentation</dc:title>
</cp:coreProperties>
</file>