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1828A1F-0253-4BBC-8C84-FBD8A9BB4A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Img"/>
          </p:nvPr>
        </p:nvSpPr>
        <p:spPr>
          <a:xfrm>
            <a:off x="1188720" y="704520"/>
            <a:ext cx="461484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0B5D467-3DBE-462B-BA0E-9F414C4FDF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9FADD8E-0AA3-4D35-9410-702B01EB8F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98120" y="4328640"/>
            <a:ext cx="5761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5A4F731-D511-4301-BC59-FCC69C1A08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675A867-5654-4D9A-9BB8-CBAE832274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27B1E11-ADB8-46AE-B127-1FCC7C6634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719280"/>
            <a:ext cx="4686480" cy="3514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52200" y="4449600"/>
            <a:ext cx="51483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FB936C7-2EB9-4540-B1A2-F75B38B375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E9B649D-0FC0-425D-83E6-38B92D9726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1A3295-A3C3-48B3-BBF3-BABDD3CC95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D141BAD-85F3-49C0-8E02-B0473D352E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E18CD2D-344D-47CF-9A93-7BDFCF883E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4ADD9A-7985-4436-850C-1444FE3E7A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747A823-143B-4CA4-9CAF-01088FD928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3941BA0-7965-45AC-B3A3-F028D9B618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962556-0B6A-461C-AC93-A5009D1C7C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DAE1664-02ED-44D5-B723-DB31740A58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480933-AAD1-4B41-96C9-E771CEAFE3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785ED8B-A2B9-479D-9467-C18572F92C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8829554-D0D4-4CF2-9F8D-DD4D1E49B6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83191A5-FDE7-4790-AF44-25A082360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918C7B-59D7-4EAB-8310-531E58906C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6F4FD0-3513-486B-A1AB-05021455F7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8ACF294-6120-4092-A225-157FA89976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11A-0AB4-4ABB-B209-DF079659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E4F-CC41-4394-86EB-5106C5B7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859-997D-4CDC-AEB0-D059300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2B6-E6DE-49A8-BD3F-1E22F8D3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B82F-EC38-4E1C-871C-38795B9A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51D5-5563-4418-9571-84977588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6C65-FBCB-49A4-BFBB-7053293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5E0E-5A03-4CA0-9BE0-ABD5219F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1A5-06CF-4E66-A127-9D07D8E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834-A81D-4BDC-A546-65549A1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C2B8-8C11-4731-8B58-4D13881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06B-4A49-4C2D-8E54-701A145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D10E-C60D-4FC9-B713-971C8DE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4FD-4B3C-405D-B68E-2834F57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D012-A3C8-4896-B95A-D806C085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B30-4799-4CDD-AD26-99C3C235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225D-4AA0-475E-9C97-CFB9C27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5C9-B403-499E-BCF4-55941CF3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4D2-43F4-4A80-B997-FAD5F950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9E1-0766-47D7-B2C9-423DB9B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71A-BC62-426F-86A3-BB5E3A84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910-F1D2-4D73-855A-5860C02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B2C-7F99-4D1A-AAAA-71AC064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8C9-CED8-49B0-8E1A-5884396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543-449C-4786-ADC7-C04CF3AD04F6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73A7-E7CD-4E9A-BE6F-54591D8594BF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CF3-459F-4EC0-BD28-E218E61539F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ourquoi Windows n’est pas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mps processeur partagé entre plusieurs program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prend le pas sur les applications haute priorit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e nombreux programmes tournent en tâche de fo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antivirus, économiseur d’écran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doit gérer les interruptions (clavier, souris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720" y="1447920"/>
            <a:ext cx="4191120" cy="31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87480" y="464976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48320" y="465120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77120" y="1523880"/>
          <a:ext cx="219060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523880"/>
                    <a:ext cx="2190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314880" y="5257800"/>
            <a:ext cx="213336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933640"/>
            <a:ext cx="135900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546084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Téléchar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76212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Cible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000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PC hô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xi" descr=""/>
          <p:cNvPicPr/>
          <p:nvPr/>
        </p:nvPicPr>
        <p:blipFill>
          <a:blip r:embed="rId4"/>
          <a:stretch/>
        </p:blipFill>
        <p:spPr>
          <a:xfrm>
            <a:off x="6553080" y="3352680"/>
            <a:ext cx="2057400" cy="1201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524-2FBC-48D2-A301-8F9E50FDBD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développement (PC hôte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Windows XP/2000/NT/9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Utilise le langage LabVIEW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alise l’ensemble des tâches non déterministes de l’applic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urnit l’interface utilisat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ère les communications avec le système ci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de façon transparente pour l’utilisateur avec une visualisation de la cible en face-av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741-1EC6-41EF-A5E5-0791BA0484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cible (RT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escription généra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un système d’exploitatio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 un ou plusieurs VIs e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st indépendant et autonome du système hôte vis-à-vis des plantages, redémarrages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mmunication avec le PC hôt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I Serv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CP/IP, UDP et DataSoc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F52-E6CF-4A6D-9448-72289F19B6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Les cibles R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mpact FieldPoint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FP-2000,2010,202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rôleur PXI R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PXI-817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NI 817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PXI-8140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495680" y="3200400"/>
          <a:ext cx="4343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4343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14400" y="1447920"/>
          <a:ext cx="3038400" cy="19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0384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5BE-4302-4DB0-B666-36EEB5FAD1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mesures autonom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lications autonomes lancées à l’allumage du châssis PXI (ou module cFP) grâce à l’Application Buil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alités d’un serveur FT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upport de cartes NI (DAQ, vision, commande d’axes, série, GPIB, CAN et SCXI) le tout en mode RT 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3429000"/>
          <a:ext cx="342756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4275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14800" y="3767040"/>
          <a:ext cx="24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43400" y="3767040"/>
          <a:ext cx="241200" cy="15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3767040"/>
          <a:ext cx="241200" cy="15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800600" y="3767040"/>
          <a:ext cx="241200" cy="156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29200" y="3767040"/>
          <a:ext cx="241200" cy="156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257800" y="3767040"/>
          <a:ext cx="241200" cy="15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86400" y="3767040"/>
          <a:ext cx="241200" cy="156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6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F80-B0E8-4146-9D46-A730CF2E6C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lques chiff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76, 1,26 G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40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2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46, 266 M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6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,2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CA7-2348-4072-8859-E5630AA5A2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ation et validation de modè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DFB1-21AC-4228-B82E-055190561D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 de transfert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Équation différentielle résultant de l ’analyse du modèle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 de transfert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66680" y="2514600"/>
                <a:ext cx="70106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4667400"/>
                <a:ext cx="41450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4B9-8AF2-4FD2-AD11-7F16F8F124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er et valider un modèle en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Outils de contrôle avancé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Basé sur les équations et les fonctions de transfe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s continues, discrètes et non linéa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tiblocage de roues et ES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imulation d’environnements de test complex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89040" cy="17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07A-8BDB-461A-B7B0-8740B85C03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016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8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2C2-93E8-4539-9833-A292CB7A2A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du modèle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68280" y="1023840"/>
          <a:ext cx="660888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023840"/>
                    <a:ext cx="660888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8EC-168A-4CD3-A61D-0529A5730A9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HIL sous LabVIEW Real-Tim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33560" y="1023840"/>
            <a:ext cx="5276880" cy="48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EC7-8327-46FC-B724-5529E3B3CB1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tiliser un modèle Simulink</a:t>
            </a:r>
            <a:r>
              <a:rPr b="1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, simulation et analyse de systèmes dynamiques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ystème linéaire et non liné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inu, discret ou hybr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présentation des modèles sous forme de diagram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uramment utilisé dans l’aéronautique, l’aérospatiale et l’automob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800-263E-46EE-A8A6-FCBB5719E0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 Toolkit d'Intégration de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’interface uniquement avec MathWorks Simulink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jout des outils de l’interface graphique de LabVIEW dans  l’environnement Simulin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mportation de modèle Simulink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ans l’environnement de développement Lab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3809880"/>
            <a:ext cx="5105520" cy="2057400"/>
            <a:chOff x="1981080" y="3809880"/>
            <a:chExt cx="5105520" cy="2057400"/>
          </a:xfrm>
        </p:grpSpPr>
        <p:sp>
          <p:nvSpPr>
            <p:cNvPr id="210" name=""/>
            <p:cNvSpPr/>
            <p:nvPr/>
          </p:nvSpPr>
          <p:spPr>
            <a:xfrm>
              <a:off x="3699360" y="430200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edb906">
                <a:alpha val="10000"/>
              </a:srgbClr>
            </a:solidFill>
            <a:ln w="936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380988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a8adb0">
                <a:alpha val="10000"/>
              </a:srgbClr>
            </a:solidFill>
            <a:ln w="9360">
              <a:solidFill>
                <a:srgbClr val="a8ad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imu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28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004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280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Real-Wor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Prototy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48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877280" y="5150880"/>
              <a:ext cx="932400" cy="178920"/>
            </a:xfrm>
            <a:custGeom>
              <a:avLst/>
              <a:gdLst>
                <a:gd name="textAreaLeft" fmla="*/ 163440 w 932400"/>
                <a:gd name="textAreaRight" fmla="*/ 67644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572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158280" y="5150880"/>
              <a:ext cx="932760" cy="178920"/>
            </a:xfrm>
            <a:custGeom>
              <a:avLst/>
              <a:gdLst>
                <a:gd name="textAreaLeft" fmla="*/ 162720 w 932760"/>
                <a:gd name="textAreaRight" fmla="*/ 676080 w 93276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04C-9A27-47E6-A3F4-4EC2F711E1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343400" cy="2340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u Simulation Interface Toolki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267080" y="10666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286000"/>
            <a:ext cx="175248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543400" cy="1635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1219320"/>
            <a:ext cx="6553080" cy="3429000"/>
          </a:xfrm>
          <a:custGeom>
            <a:avLst/>
            <a:gdLst/>
            <a:ahLst/>
            <a:rect l="l" t="t" r="r" b="b"/>
            <a:pathLst>
              <a:path w="4128" h="2160">
                <a:moveTo>
                  <a:pt x="0" y="1728"/>
                </a:moveTo>
                <a:lnTo>
                  <a:pt x="2544" y="1728"/>
                </a:lnTo>
                <a:lnTo>
                  <a:pt x="2544" y="0"/>
                </a:lnTo>
                <a:lnTo>
                  <a:pt x="4128" y="2064"/>
                </a:lnTo>
                <a:lnTo>
                  <a:pt x="4032" y="2064"/>
                </a:lnTo>
                <a:lnTo>
                  <a:pt x="4032" y="2160"/>
                </a:lnTo>
                <a:lnTo>
                  <a:pt x="0" y="1728"/>
                </a:lnTo>
                <a:close/>
              </a:path>
            </a:pathLst>
          </a:custGeom>
          <a:solidFill>
            <a:srgbClr val="a8adb0">
              <a:alpha val="50000"/>
            </a:srgbClr>
          </a:solidFill>
          <a:ln w="9360">
            <a:solidFill>
              <a:srgbClr val="a8ad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219320"/>
          <a:ext cx="4114800" cy="28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41148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992-25AB-4E37-B831-6487FF01496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rocessus de l’interfaçage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ATLA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/Simulink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icrosoft Visual C++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/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modè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5c81b5"/>
                </a:solidFill>
                <a:latin typeface="Arial Narrow"/>
              </a:rPr>
              <a:t>cod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20B-46B8-4732-AFC0-E9CAB8E2C1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1 : Inports &amp; Outport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8380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6668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133720" y="160020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6F9-F50B-4909-BB87-903FD96423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2 : Solver Paramet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981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33720" y="1447920"/>
          <a:ext cx="331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31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105520" y="2971800"/>
          <a:ext cx="23367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971800"/>
                    <a:ext cx="23367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02A-352D-458C-8828-8F00DD7693C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3 : Real-Time Worksho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1295280"/>
          <a:ext cx="35053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35053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733920" y="2438280"/>
            <a:ext cx="5181480" cy="3365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 flipV="1">
            <a:off x="1905120" y="2437920"/>
            <a:ext cx="182880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1AB-19AB-4DB0-911B-F8347051694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cédure de compi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 génère du code C à partir d’un mod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S VC++ compile ce code en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 génère deux exemples :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river.vi et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aq_driver.v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utilitaire télécharge la DLL sur une cible LabVIEW Real-Tim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B6E-2FCE-4013-8D25-6EEF7DDE66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de simulation N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Quid des modèles de simulation exista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B13-9CA4-4543-872B-67DDC2EF08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aramètres du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066680"/>
          <a:ext cx="6168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168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9C5-CB55-415B-BF2E-25CEB09C60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e</a:t>
            </a:r>
            <a:r>
              <a:rPr b="1" i="1" lang="fr-FR" sz="3600" spc="-1" strike="noStrike">
                <a:solidFill>
                  <a:srgbClr val="000000"/>
                </a:solidFill>
                <a:latin typeface="Arial Narrow"/>
              </a:rPr>
              <a:t> Model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_driver.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402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762120" y="1143000"/>
          <a:ext cx="78055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143000"/>
                    <a:ext cx="78055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4267080"/>
          <a:ext cx="1790640" cy="14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267080"/>
                    <a:ext cx="17906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11B-4BF0-4518-AA40-3D34CBAD985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Démo Simulation Interface Toolki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81AF-A645-4087-91D6-91CC1AEA15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ogiciels nécessai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bVIEW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ule LabVIEW Real-Time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Works version 12.x ou 13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LAB 6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ink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teflow 4.2.x (en op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al-Time Workshop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crosoft Visual C++ 6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890-8893-464B-8E9F-B8AE22B2801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au monde réel de manière transparente grâce à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ploiement de système temps réel avec 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veloppement d’applications de contrôle/commande en bénéficiant de la puissance de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32B-3430-4717-AB1E-1CD9CF09F6D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FED-C233-4382-AD87-1532D98BD6A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: quels outils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2705040" y="28036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8040" y="44038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91040" y="44035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58080" y="28033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63720"/>
            <a:ext cx="243864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Définition des besoins de contrôle de trajectoire du miss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463920"/>
            <a:ext cx="25909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prototype de contrôle de trajectoire avec des données ré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64120"/>
            <a:ext cx="1600200" cy="64260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Embarquement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463920"/>
            <a:ext cx="205740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avec un missile sim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863720"/>
            <a:ext cx="21337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sur un vrai miss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124080"/>
            <a:ext cx="2667240" cy="1676520"/>
          </a:xfrm>
          <a:prstGeom prst="ellipse">
            <a:avLst/>
          </a:prstGeom>
          <a:noFill/>
          <a:ln w="316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0e30"/>
                </a:solidFill>
                <a:latin typeface="Arial Narrow"/>
              </a:rPr>
              <a:t>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8D2-F736-4F6D-AED2-0214374C45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 de systè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complexes et non linéaires sont modélisés par des méthodes empir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simples sont décrits par des modèles mathémat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mplémentation de simulation temps ré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e performances temps réel et déterminis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’E/S pour s’interfacer avec le contrôl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403-6AC9-4046-8244-07FDE79617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281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.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Développement du modèle du miss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 Validation du contrôleur de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752480"/>
            <a:ext cx="2743200" cy="1752480"/>
            <a:chOff x="533520" y="1752480"/>
            <a:chExt cx="2743200" cy="1752480"/>
          </a:xfrm>
        </p:grpSpPr>
        <p:sp>
          <p:nvSpPr>
            <p:cNvPr id="116" name=""/>
            <p:cNvSpPr/>
            <p:nvPr/>
          </p:nvSpPr>
          <p:spPr>
            <a:xfrm>
              <a:off x="1100160" y="1827000"/>
              <a:ext cx="1606680" cy="1227240"/>
            </a:xfrm>
            <a:prstGeom prst="roundRect">
              <a:avLst>
                <a:gd name="adj" fmla="val 14125"/>
              </a:avLst>
            </a:prstGeom>
            <a:solidFill>
              <a:srgbClr val="a8adb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abVIEW  RT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ystème de 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28880" y="1752480"/>
              <a:ext cx="1748160" cy="138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33520" y="3145680"/>
              <a:ext cx="2743200" cy="359280"/>
            </a:xfrm>
            <a:custGeom>
              <a:avLst/>
              <a:gdLst>
                <a:gd name="textAreaLeft" fmla="*/ 508680 w 2743200"/>
                <a:gd name="textAreaRight" fmla="*/ 2234520 w 2743200"/>
                <a:gd name="textAreaTop" fmla="*/ 66600 h 359280"/>
                <a:gd name="textAreaBottom" fmla="*/ 292680 h 3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38" y="21600"/>
                  </a:lnTo>
                  <a:lnTo>
                    <a:pt x="4062" y="21600"/>
                  </a:lnTo>
                  <a:close/>
                </a:path>
              </a:pathLst>
            </a:custGeom>
            <a:solidFill>
              <a:srgbClr val="a8adb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743360" y="2309760"/>
            <a:ext cx="2784600" cy="1724040"/>
          </a:xfrm>
          <a:prstGeom prst="roundRect">
            <a:avLst>
              <a:gd name="adj" fmla="val 907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9120" y="2409840"/>
            <a:ext cx="819360" cy="1504800"/>
          </a:xfrm>
          <a:prstGeom prst="rect">
            <a:avLst/>
          </a:prstGeom>
          <a:solidFill>
            <a:srgbClr val="b8ba9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PXI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8480" y="2409840"/>
            <a:ext cx="53316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438280"/>
            <a:ext cx="533160" cy="150516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5160" y="2409840"/>
            <a:ext cx="53352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r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738520"/>
            <a:ext cx="2438280" cy="0"/>
          </a:xfrm>
          <a:prstGeom prst="line">
            <a:avLst/>
          </a:prstGeom>
          <a:ln w="5724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86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0" y="4338720"/>
            <a:ext cx="13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32680" y="4262400"/>
            <a:ext cx="13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3881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16640" y="5171040"/>
            <a:ext cx="3342960" cy="703080"/>
          </a:xfrm>
          <a:prstGeom prst="cube">
            <a:avLst>
              <a:gd name="adj" fmla="val 34703"/>
            </a:avLst>
          </a:prstGeom>
          <a:noFill/>
          <a:ln w="38160">
            <a:solidFill>
              <a:srgbClr val="a8ad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ontrôleur de trajec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48120" y="3580920"/>
            <a:ext cx="2133360" cy="1295640"/>
          </a:xfrm>
          <a:prstGeom prst="line">
            <a:avLst/>
          </a:prstGeom>
          <a:ln w="44280">
            <a:solidFill>
              <a:srgbClr val="edb9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810-6144-4CC2-8733-1BA8A1E9DC1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99E-71FD-466C-95FC-4E0FCFCA28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 signifie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système temps réel possède la capacité de répondre à un événement ou d’effectuer une opération dans un temps constant et ce, sans dépassemen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F9D-DD46-4498-81FC-71ED6ABD40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rminologie temps ré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terminis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mps de bou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Jit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4005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8A8-FBBE-458A-A526-70B6555869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5T20:51:44Z</dcterms:created>
  <dc:creator>John Limroth</dc:creator>
  <dc:description/>
  <cp:keywords>core strategic vision core ideology core values mission core purpose</cp:keywords>
  <dc:language>en-US</dc:language>
  <cp:lastModifiedBy>Service informatique</cp:lastModifiedBy>
  <cp:lastPrinted>1997-10-30T12:11:06Z</cp:lastPrinted>
  <dcterms:modified xsi:type="dcterms:W3CDTF">2003-04-03T15:01:43Z</dcterms:modified>
  <cp:revision>51</cp:revision>
  <dc:subject>NI Leadership Seminar Series 2001</dc:subject>
  <dc:title>PowerPoint Presentation</dc:title>
</cp:coreProperties>
</file>