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667200" cy="980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6"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83800" y="735120"/>
            <a:ext cx="4899240" cy="3674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6"/>
          </p:nvPr>
        </p:nvSpPr>
        <p:spPr>
          <a:xfrm>
            <a:off x="0" y="9310320"/>
            <a:ext cx="2889360" cy="490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7"/>
          </p:nvPr>
        </p:nvSpPr>
        <p:spPr>
          <a:xfrm>
            <a:off x="3778200" y="9310320"/>
            <a:ext cx="288936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4160" y="735120"/>
            <a:ext cx="4899240" cy="3674880"/>
          </a:xfrm>
          <a:prstGeom prst="rect">
            <a:avLst/>
          </a:prstGeom>
          <a:ln w="0">
            <a:noFill/>
          </a:ln>
        </p:spPr>
      </p:sp>
      <p:sp>
        <p:nvSpPr>
          <p:cNvPr id="177"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onction </a:t>
            </a:r>
            <a:r>
              <a:rPr b="1" lang="fr-FR" sz="1200" spc="-1" strike="noStrike">
                <a:solidFill>
                  <a:srgbClr val="000000"/>
                </a:solidFill>
                <a:latin typeface="Times New Roman"/>
              </a:rPr>
              <a:t>AI-Paramètre</a:t>
            </a:r>
            <a:r>
              <a:rPr b="0" lang="fr-FR" sz="1200" spc="-1" strike="noStrike">
                <a:solidFill>
                  <a:srgbClr val="000000"/>
                </a:solidFill>
                <a:latin typeface="Times New Roman"/>
              </a:rPr>
              <a:t> se trouve sur la palette de Fonctions&gt;&gt;Acquisition de données&gt;&gt;Entrées analogiques&gt;&gt;Entrées analogiques avancées. Cette fonction vous permet de lire ou de définir l’état de certains paramètres de configuration. Un nombre important des paramètres que vous pouvez définir ou obtenir avec cette fonction sont spécifiques à certains matériels. Par exemple, cette fonction vous permet de détecter la présence de thermocouples sur les entrées d’une carte 43x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onction </a:t>
            </a:r>
            <a:r>
              <a:rPr b="1" lang="fr-FR" sz="1200" spc="-1" strike="noStrike">
                <a:solidFill>
                  <a:srgbClr val="000000"/>
                </a:solidFill>
                <a:latin typeface="Times New Roman"/>
              </a:rPr>
              <a:t>Définir les infos d’un périphérique DAQ</a:t>
            </a:r>
            <a:r>
              <a:rPr b="0" lang="fr-FR" sz="1200" spc="-1" strike="noStrike">
                <a:solidFill>
                  <a:srgbClr val="000000"/>
                </a:solidFill>
                <a:latin typeface="Times New Roman"/>
              </a:rPr>
              <a:t> se trouve sur la palette de Fonctions&gt;&gt;Acquisition de données&gt;&gt;Étalonnage et configuration. Cette fonction vous permet de définir le mode de transfert des données aussi bien pour les entrées analogiques que pour les sorties analogiques ou les compteurs. Vous pouvez être amené à utiliser un mode de transfert ou un autre si vous réalisez plusieurs types d’opérations sur une même carte en parallèle et que vous souhaitez par exemple garder les canaux DMA pour donner la priorité à une tâche plutôt qu’à une au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onction </a:t>
            </a:r>
            <a:r>
              <a:rPr b="1" lang="fr-FR" sz="1200" spc="-1" strike="noStrike">
                <a:solidFill>
                  <a:srgbClr val="000000"/>
                </a:solidFill>
                <a:latin typeface="Times New Roman"/>
              </a:rPr>
              <a:t>Obtenir les infos sur un périphérique DAQ</a:t>
            </a:r>
            <a:r>
              <a:rPr b="0" lang="fr-FR" sz="1200" spc="-1" strike="noStrike">
                <a:solidFill>
                  <a:srgbClr val="000000"/>
                </a:solidFill>
                <a:latin typeface="Times New Roman"/>
              </a:rPr>
              <a:t> se trouve sur la palette de Fonctions&gt;&gt;Acquisition de données&gt;&gt;Étalonnage et configuration. Cette fonction vous permet d’obtenir par programmation un certain nombre d’informations sur vos périphériques DAQ.</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4160" y="735120"/>
            <a:ext cx="4899240" cy="3674880"/>
          </a:xfrm>
          <a:prstGeom prst="rect">
            <a:avLst/>
          </a:prstGeom>
          <a:ln w="0">
            <a:noFill/>
          </a:ln>
        </p:spPr>
      </p:sp>
      <p:sp>
        <p:nvSpPr>
          <p:cNvPr id="179"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grand nombre d’applications d’acquisition de données sont destinées à mesurer des signaux issus de capteurs. Pour faciliter la programmation de ce type d’application, vous avez la possibilité de déclarer votre type de capteur lors de la création de vos voies virtuelles. Dans ce cas, la conversion de votre grandeur électrique en grandeur physique est transparente et vous n’avez pas besoin de l’implémenter dans votre programme LabVIEW. Une grande variété de capteurs est supportée sous MAX (thermocouples, jauges de contrainte, accéléromè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aussi possible de ne pas utiliser les voies virtuelles et de mener à bien votre acquisition en précisant simplement les numéros de périphérique et de voie sur lesquels vous effectuez votre acquisition. Dans ce cas, vous pouvez utiliser les fonctions se trouvant sur la palette de Fonctions&gt;&gt;Acquisition de données&gt;&gt;Conditionnement de signaux. Elles vous permettent de faire la conversion entre la grandeur électrique mesurée et la grandeur physique qui vous intéresse pour un certain nombre de capteurs. L’utilisation de ces fonctions vous dispense de connaître les formules ou tables de conversion et vous simplifie la program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4160" y="735120"/>
            <a:ext cx="4899240" cy="3674880"/>
          </a:xfrm>
          <a:prstGeom prst="rect">
            <a:avLst/>
          </a:prstGeom>
          <a:ln w="0">
            <a:noFill/>
          </a:ln>
        </p:spPr>
      </p:sp>
      <p:sp>
        <p:nvSpPr>
          <p:cNvPr id="181"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 principe des occurrences sous LabVIEW est de bloquer une partie d’un programme jusqu’à ce qu’une occurrence arrive. Les fonctions occurrences de LabVIEW (palette de Fonctions &gt;&gt; Avancé &gt;&gt; Synchronisation &gt;&gt; Occurrences) vous permettent ce type de programmation. Vous générez une occurrence, puis attendez une occurrence jusqu’à ce qu’elle soit définie. Ces fonctions vous dispensent d’exécuter une boucle sous LabVIEW jusqu’à ce qu’un événement se produise et vous permettent donc d’économiser du temps processeur lorsque vous souhaitez synchroniser des tâches. Une note d’application, en français, sur l’utilisation des fonctions occurrences sous LabVIEW est disponible sur le site ni.com/france (rubrique Support Technique&gt;&gt;Famille LabVIEW&gt;&gt;Utilis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Dans le cas précis de l’acquisition de données, vous avez la possibilité d’utiliser le même type de programmation. La fonction </a:t>
            </a:r>
            <a:r>
              <a:rPr b="1" lang="fr-FR" sz="1100" spc="-1" strike="noStrike">
                <a:solidFill>
                  <a:srgbClr val="000000"/>
                </a:solidFill>
                <a:latin typeface="Times New Roman"/>
              </a:rPr>
              <a:t>Configurer des occurrences DAQ</a:t>
            </a:r>
            <a:r>
              <a:rPr b="0" lang="fr-FR" sz="1100" spc="-1" strike="noStrike">
                <a:solidFill>
                  <a:srgbClr val="000000"/>
                </a:solidFill>
                <a:latin typeface="Times New Roman"/>
              </a:rPr>
              <a:t> vous permet de définir une occurrence lorsqu’un événement DAQ se produit. Vous pouvez par exemple définir une occurrence DAQ lorsque le nombre de balayages acquis est égal à une certaine valeur, ou lorsqu’une acquisition est terminée ou renvoie une erreur, ou encore lorsqu’un signal de déclenchement arriv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Une fois que vous avez configuré une occurrence DAQ, vous utilisez la fonction </a:t>
            </a:r>
            <a:r>
              <a:rPr b="1" lang="fr-FR" sz="1100" spc="-1" strike="noStrike">
                <a:solidFill>
                  <a:srgbClr val="000000"/>
                </a:solidFill>
                <a:latin typeface="Times New Roman"/>
              </a:rPr>
              <a:t>Attendre une occurrence</a:t>
            </a:r>
            <a:r>
              <a:rPr b="0" lang="fr-FR" sz="1100" spc="-1" strike="noStrike">
                <a:solidFill>
                  <a:srgbClr val="000000"/>
                </a:solidFill>
                <a:latin typeface="Times New Roman"/>
              </a:rPr>
              <a:t>. Cette fonction se met en attente jusqu’à ce que l’occurrence configurée précédemment soit définie. L’intérêt est que l’attente de la fonction </a:t>
            </a:r>
            <a:r>
              <a:rPr b="1" lang="fr-FR" sz="1100" spc="-1" strike="noStrike">
                <a:solidFill>
                  <a:srgbClr val="000000"/>
                </a:solidFill>
                <a:latin typeface="Times New Roman"/>
              </a:rPr>
              <a:t>Attendre une occurrence</a:t>
            </a:r>
            <a:r>
              <a:rPr b="0" lang="fr-FR" sz="1100" spc="-1" strike="noStrike">
                <a:solidFill>
                  <a:srgbClr val="000000"/>
                </a:solidFill>
                <a:latin typeface="Times New Roman"/>
              </a:rPr>
              <a:t> ne consomme pas de temps processeu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uite, vous devez à nouveau utiliser la fonction </a:t>
            </a:r>
            <a:r>
              <a:rPr b="1" lang="fr-FR" sz="1100" spc="-1" strike="noStrike">
                <a:solidFill>
                  <a:srgbClr val="000000"/>
                </a:solidFill>
                <a:latin typeface="Times New Roman"/>
              </a:rPr>
              <a:t>Configurer des occurrences DAQ</a:t>
            </a:r>
            <a:r>
              <a:rPr b="0" lang="fr-FR" sz="1100" spc="-1" strike="noStrike">
                <a:solidFill>
                  <a:srgbClr val="000000"/>
                </a:solidFill>
                <a:latin typeface="Times New Roman"/>
              </a:rPr>
              <a:t> pour libérer les occurrences configurées précédem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4160" y="735120"/>
            <a:ext cx="4899240" cy="3674880"/>
          </a:xfrm>
          <a:prstGeom prst="rect">
            <a:avLst/>
          </a:prstGeom>
          <a:ln w="0">
            <a:noFill/>
          </a:ln>
        </p:spPr>
      </p:sp>
      <p:sp>
        <p:nvSpPr>
          <p:cNvPr id="183"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applications nécessitent différents types de mesure et, dans certains cas, pour répondre aux exigences de chacun des types de mesures, il est indispensable d’utiliser différentes cartes. Dans ce cas, il peut être primordial de démarrer toutes les mesures au même instant ou de répondre à des exigences temporelles très strictes. Par exemple, si vous souhaitez pouvoir corréler des mesures de vitesse et de température, vous devez garantir que les mesures sont prises aux mêmes ins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e type de besoin, vous pouvez utiliser une horloge externe. Toutefois vous allez être limité par la fréquence de votre horloge externe ; si cette horloge a une fréquence élevée (à partir de 5 MHz) alors vos signaux risquent d’être détériorés. Pour éviter ce problème, vous pouvez utiliser les lignes de synchronisation du bus PXI ou un câble RTSI entre vos cartes au format 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cision lors de l’utilisation du bus RTSI ou du bus PXI est meilleure que celle obtenue avec une horloge externe. Lors de l’utilisation du PXI, aucun câblage n’est nécessaire : des lignes dédiées à la synchronisation sont intégrées au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4160" y="735120"/>
            <a:ext cx="4899240" cy="3674880"/>
          </a:xfrm>
          <a:prstGeom prst="rect">
            <a:avLst/>
          </a:prstGeom>
          <a:ln w="0">
            <a:noFill/>
          </a:ln>
        </p:spPr>
      </p:sp>
      <p:sp>
        <p:nvSpPr>
          <p:cNvPr id="185"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Avant de commencer à développer votre application d’acquisition de données, utilisez l’Assistant Solutions DAQ ou effectuez manuellement une recherche dans les exemples DAQ. Vous les trouvez dans le répertoire LabVIEW/Examples/daq. Le site Web de National Instruments contient aussi une base d’exempl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Pour optimiser la qualité de vos mesures et exploiter au maximum la résolution du convertisseur de votre carte d’acquisition, il est important de fixer le gain le mieux adapté à votre signal. Vous pouvez fixer le gain directement sous LabVIEW en utilisant le paramètre </a:t>
            </a:r>
            <a:r>
              <a:rPr b="0" i="1" lang="fr-FR" sz="1100" spc="-1" strike="noStrike">
                <a:solidFill>
                  <a:srgbClr val="000000"/>
                </a:solidFill>
                <a:latin typeface="Times New Roman"/>
              </a:rPr>
              <a:t>Limites d’entrée</a:t>
            </a:r>
            <a:r>
              <a:rPr b="0" lang="fr-FR" sz="1100" spc="-1" strike="noStrike">
                <a:solidFill>
                  <a:srgbClr val="000000"/>
                </a:solidFill>
                <a:latin typeface="Times New Roman"/>
              </a:rPr>
              <a:t> ou lorsque vous déclarez des voies virtuelles sous MAX. Attention, il est important de comprendre que le gain va être appliqué avant la conversion analogique-numérique, mais que le résultat retourné par LabVIEW vous donnera la valeur réelle de votre signal avant amplification. En effet, le signal est physiquement amplifié par l’amplificateur opérationnel avant d’être numérisé. En revanche, LabVIEW remet les valeurs à l’échelle avant de renvoyer les mesures. Ainsi, seule la qualité de votre mesure sera affectée par le gain, à moins que vous ne saturiez le signal en appliquant un gain trop élevé, sinon la valeur mesurée sera la même avec ou sans gai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Enfin, si le temps processeur est un paramètre critique de votre application, il est recommandé d’utiliser les occurrences DAQ. De cette manière, aucune boucle While ne s’exécute tant que les données ne sont pas disponibl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4160" y="735120"/>
            <a:ext cx="4899240" cy="3674880"/>
          </a:xfrm>
          <a:prstGeom prst="rect">
            <a:avLst/>
          </a:prstGeom>
          <a:ln w="0">
            <a:noFill/>
          </a:ln>
        </p:spPr>
      </p:sp>
      <p:sp>
        <p:nvSpPr>
          <p:cNvPr id="187"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us êtes utilisateur LabVIEW, mais que vous commencez seulement à manipuler du matériel d’acquisition de données, il existe une formation National Instruments à l’acquisition de données sous LabVIEW. Cette formation dure deux jours et aborde l’acquisition et la génération de signaux analogiques, l’utilisation des lignes numériques et des compteurs des cartes multi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gulièrement, des séminaires relatifs à l’acquisition de données ont lieu partout en France. Consultez le site Web de National Instruments France pour être informé des prochains événements dans votre ré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nombreuses notes d’applications et exemples de programme sont également disponibles, sur le site français ni.com/france comme sur le site ni.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884160" y="735120"/>
            <a:ext cx="4899240" cy="3674880"/>
          </a:xfrm>
          <a:prstGeom prst="rect">
            <a:avLst/>
          </a:prstGeom>
          <a:ln w="0">
            <a:noFill/>
          </a:ln>
        </p:spPr>
      </p:sp>
      <p:sp>
        <p:nvSpPr>
          <p:cNvPr id="161" name="PlaceHolder 2"/>
          <p:cNvSpPr>
            <a:spLocks noGrp="1"/>
          </p:cNvSpPr>
          <p:nvPr>
            <p:ph type="body"/>
          </p:nvPr>
        </p:nvSpPr>
        <p:spPr>
          <a:xfrm>
            <a:off x="963720" y="4573080"/>
            <a:ext cx="5037120" cy="4410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Measurement &amp; Automation eXplorer (MAX) est l’assistant de configuration de tout matériel National Instruments. Il vous permet de configurer et de tester votre matériel d’acquisition de données, mais aussi vos autres produits comme les cartes de vision, de commande d’axes ou de contrôle GPIB.</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Cet utilitaire vous perme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de définir des voies virtuelles. Une voie virtuelle est un raccourci vers une voie physique d’une carte. L’intérêt des voies virtuelles est de faciliter le test, mais aussi de simplifier la programmation. Lors de la création d’une voie virtuelle, vous pouvez définir le gain que vous voulez appliquer, les paramètres de linéarisation ou l’échelle que vous souhaitez utiliser. Après avoir défini une voie virtuelle, vous y avez accès directement sous LabVIEW. Ainsi vous n’avez pas à implémenter dans votre programme LabVIEW le gain, ni la conversion de la grandeur électrique mesurée en grandeur physiqu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de tester et de configurer votre matériel. Dans la rubrique </a:t>
            </a:r>
            <a:r>
              <a:rPr b="0" i="1" lang="fr-FR" sz="1100" spc="-1" strike="noStrike">
                <a:solidFill>
                  <a:srgbClr val="000000"/>
                </a:solidFill>
                <a:latin typeface="Times New Roman"/>
              </a:rPr>
              <a:t>Périphériques et interfaces</a:t>
            </a:r>
            <a:r>
              <a:rPr b="0" lang="fr-FR" sz="1100" spc="-1" strike="noStrike">
                <a:solidFill>
                  <a:srgbClr val="000000"/>
                </a:solidFill>
                <a:latin typeface="Times New Roman"/>
              </a:rPr>
              <a:t>, vous pouvez fixer la gamme d’utilisation de votre carte, la polarité et le mode de connexion. Cette rubrique vous permet aussi de tester votre carte. Vous pouvez d’une part tester la communication entre la carte et le PC (adresse de base, IRQ, DMA), mais aussi vérifier la cohérence des signaux que vous mesurez ou générez.</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de définir des échelles personnalisées. Grâce à cela, lorsque vous avez des capteurs particuliers, vous pouvez définir une échelle qui vous permet de transformer la grandeur électrique mesurée en grandeur physique. Une fois que vous avez créé une échelle, vous pouvez directement l’appliquer lors de la création des voies virtuelles, cela vous évite d’avoir à linéariser le signal par programmatio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enfin, la rubrique </a:t>
            </a:r>
            <a:r>
              <a:rPr b="0" i="1" lang="fr-FR" sz="1100" spc="-1" strike="noStrike">
                <a:solidFill>
                  <a:srgbClr val="000000"/>
                </a:solidFill>
                <a:latin typeface="Times New Roman"/>
              </a:rPr>
              <a:t>Logiciels</a:t>
            </a:r>
            <a:r>
              <a:rPr b="0" lang="fr-FR" sz="1100" spc="-1" strike="noStrike">
                <a:solidFill>
                  <a:srgbClr val="000000"/>
                </a:solidFill>
                <a:latin typeface="Times New Roman"/>
              </a:rPr>
              <a:t> de MAX vous permet de savoir quels sont les logiciels NI installés sur votre ordinateur. Si votre PC est connecté à Internet, l’assistant de mise à jour peut alors vérifier si de nouvelles versions de vos drivers sont disponibles.</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84160" y="735120"/>
            <a:ext cx="4899240" cy="3674880"/>
          </a:xfrm>
          <a:prstGeom prst="rect">
            <a:avLst/>
          </a:prstGeom>
          <a:ln w="0">
            <a:noFill/>
          </a:ln>
        </p:spPr>
      </p:sp>
      <p:sp>
        <p:nvSpPr>
          <p:cNvPr id="163"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s paramètres LabVIEW propres à l’acquisition de données sont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Le nom de voie DAQ</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La wavef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Dans une commande </a:t>
            </a:r>
            <a:r>
              <a:rPr b="0" i="1" lang="fr-FR" sz="1100" spc="-1" strike="noStrike">
                <a:solidFill>
                  <a:srgbClr val="000000"/>
                </a:solidFill>
                <a:latin typeface="Times New Roman"/>
              </a:rPr>
              <a:t>Nom de voie DAQ</a:t>
            </a:r>
            <a:r>
              <a:rPr b="0" lang="fr-FR" sz="1100" spc="-1" strike="noStrike">
                <a:solidFill>
                  <a:srgbClr val="000000"/>
                </a:solidFill>
                <a:latin typeface="Times New Roman"/>
              </a:rPr>
              <a:t>, vous pouvez entrer directement un numéro de voie. Dans ce cas, vous devez aussi préciser à votre fonction d’acquisition le numéro du périphérique sur lequel vous souhaitez effectuer l’opération. Vous avez aussi la possibilité de récupérer les voies virtuelles définies dans MAX. Si votre opération d’acquisition de données concerne plusieurs voies, vous pouvez entrer les différents noms dans une même commande </a:t>
            </a:r>
            <a:r>
              <a:rPr b="0" i="1" lang="fr-FR" sz="1100" spc="-1" strike="noStrike">
                <a:solidFill>
                  <a:srgbClr val="000000"/>
                </a:solidFill>
                <a:latin typeface="Times New Roman"/>
              </a:rPr>
              <a:t>Nom de voie DAQ</a:t>
            </a:r>
            <a:r>
              <a:rPr b="0" lang="fr-FR" sz="1100" spc="-1" strike="noStrike">
                <a:solidFill>
                  <a:srgbClr val="000000"/>
                </a:solidFill>
                <a:latin typeface="Times New Roman"/>
              </a:rPr>
              <a:t> en les séparant par une virgul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ar défaut, la commande </a:t>
            </a:r>
            <a:r>
              <a:rPr b="0" i="1" lang="fr-FR" sz="1100" spc="-1" strike="noStrike">
                <a:solidFill>
                  <a:srgbClr val="000000"/>
                </a:solidFill>
                <a:latin typeface="Times New Roman"/>
              </a:rPr>
              <a:t>Nom de voie DAQ</a:t>
            </a:r>
            <a:r>
              <a:rPr b="0" lang="fr-FR" sz="1100" spc="-1" strike="noStrike">
                <a:solidFill>
                  <a:srgbClr val="000000"/>
                </a:solidFill>
                <a:latin typeface="Times New Roman"/>
              </a:rPr>
              <a:t> est configurée pour contenir le nom ou le numéro d’une entrée analogique. Pour changer sa classe, vous devez faire un clic avec le bouton droit sur la commande. Vous pouvez alors choisir d’utiliser votre </a:t>
            </a:r>
            <a:r>
              <a:rPr b="0" i="1" lang="fr-FR" sz="1100" spc="-1" strike="noStrike">
                <a:solidFill>
                  <a:srgbClr val="000000"/>
                </a:solidFill>
                <a:latin typeface="Times New Roman"/>
              </a:rPr>
              <a:t>Nom de voie DAQ</a:t>
            </a:r>
            <a:r>
              <a:rPr b="0" lang="fr-FR" sz="1100" spc="-1" strike="noStrike">
                <a:solidFill>
                  <a:srgbClr val="000000"/>
                </a:solidFill>
                <a:latin typeface="Times New Roman"/>
              </a:rPr>
              <a:t> pour y entrer une entrée analogique, une sortie numérique ou une ligne numériq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 type waveform est un type de données LabVIEW destiné à contenir des informations définissant un signal. Le type de données waveform est utilisé lors de l’acquisition de signaux. Dans ce cas, il contient un tableau de points avec les valeurs du signal acquis, ainsi que l’instant t0 auquel l’acquisition a commencé (horloge du PC) et l’information dt représentant l’intervalle de temps entre deux points. Il est aussi utilisé dans les opérations de génération de signaux. Dans ce cas, les informations t0 et dt ne sont pas prises en compte.</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84160" y="735120"/>
            <a:ext cx="4899240" cy="3674880"/>
          </a:xfrm>
          <a:prstGeom prst="rect">
            <a:avLst/>
          </a:prstGeom>
          <a:ln w="0">
            <a:noFill/>
          </a:ln>
        </p:spPr>
      </p:sp>
      <p:sp>
        <p:nvSpPr>
          <p:cNvPr id="165"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s fonctions DAQ que vous trouvez sur la palette de Fonctions &gt;&gt; Acquisition de données sont classées en six sous-palettes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Entrées analogiqu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Sorties analogiqu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E/S numériqu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Compteur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Étalonnage et configuration</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Conditionnement de signaux</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s fonctions des palettes Entrées analogiques, Sorties analogiques, E/S numériques et Compteurs sont organisées en trois niveaux hiérarchiques. Sur la première ligne de chacune de ces palettes, vous trouvez les fonctions de haut niveau. Ces fonctions vous permettent d’effectuer de manière très simple des opérations d’acquisition ou de génération de signaux, de piloter des lignes numériques ou d’utiliser les fonctionnalités des compteu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uite, sur la ligne du milieu de ces sous-palettes, vous trouvez les fonctions intermédiaires. Elles requièrent plus de connaissances LabVIEW et de programmation, mais vous offrent davantage de souplesse pour effectuer des opérations d’acquisition plus performant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fin, sur chacune de ces sous-palettes, vous trouvez une sous palette avancée. Vous y trouverez des fonctions de bas niveau qui vous permettent de tirer profit de toutes les possibilités de vos cartes DAQ.</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De manière générale, les fonctions intermédiaires permettent de répondre à 90% des besoins des utilisateu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84160" y="735120"/>
            <a:ext cx="4899240" cy="3674880"/>
          </a:xfrm>
          <a:prstGeom prst="rect">
            <a:avLst/>
          </a:prstGeom>
          <a:ln w="0">
            <a:noFill/>
          </a:ln>
        </p:spPr>
      </p:sp>
      <p:sp>
        <p:nvSpPr>
          <p:cNvPr id="167"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ors d’une opération d’acquisition de données, les opérations suivantes ont lieu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le signal est tout d’abord amplifié. L’amplification peut se faire directement sur la carte d’acquisition ou sur un système de conditionnement externe. Toutes les cartes DAQ multifonctions ont un amplificateur.</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après amplification, le signal est numérisé par le convertisseur analogique-numérique. Suivant le type de carte dont vous disposez, vous pouvez avoir un C A/N par voie ou un multiplexeur avant le convertisseur uniqu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le signal numérisé est d’abord stocké dans la mémoire de la carte. Il s’agit d’une FIFO, c’est-à-dire que les données entrées les premières dans la mémoire seront les premières à être transmises au PC.</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les données numérisées sont transmises à la RAM du PC. Elles peuvent être transmises par DMA (Direct Access Memory, accès direct à la mémoire, c’est-à-dire que les données passent de la mémoire de la carte à la mémoire du PC sans requérir l’intervention du processeur) ou par IRQ, dans ce cas le processeur reçoit une requête d’interruption, et c’est lui qui transfert les données de la mémoire de la carte à la mémoire du PC. Les données sont alors stockées dans le buffer que vous définissez dans la fonction AI-Configurer.</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les données sont stockées dans cet espace mémoire jusqu’à ce qu’elles soient lues par la fonction AI-Lire. Lors de la lecture, les données sont transférées dans l’espace mémoire de LabVIEW et peuvent alors être affichées sur la face-ava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ors d’une acquisition continue, le buffer défini dans la RAM du PC est un buffer circulaire, cela signifie que les données remplissent un espace mémoire alloué et, lorsque cet espace est plein, les premières données stockées sont écrasées par les nouvelles données qui arriv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4160" y="735120"/>
            <a:ext cx="4899240" cy="3674880"/>
          </a:xfrm>
          <a:prstGeom prst="rect">
            <a:avLst/>
          </a:prstGeom>
          <a:ln w="0">
            <a:noFill/>
          </a:ln>
        </p:spPr>
      </p:sp>
      <p:sp>
        <p:nvSpPr>
          <p:cNvPr id="169" name="PlaceHolder 2"/>
          <p:cNvSpPr>
            <a:spLocks noGrp="1"/>
          </p:cNvSpPr>
          <p:nvPr>
            <p:ph type="body"/>
          </p:nvPr>
        </p:nvSpPr>
        <p:spPr>
          <a:xfrm>
            <a:off x="888840" y="4656240"/>
            <a:ext cx="5112000" cy="4736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s fonctions à utiliser pour effectuer une acquisition bufférisée son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1" lang="fr-FR" sz="1100" spc="-1" strike="noStrike">
                <a:solidFill>
                  <a:srgbClr val="000000"/>
                </a:solidFill>
                <a:latin typeface="Times New Roman"/>
              </a:rPr>
              <a:t>AI-Configurer</a:t>
            </a:r>
            <a:r>
              <a:rPr b="0" lang="fr-FR" sz="1100" spc="-1" strike="noStrike">
                <a:solidFill>
                  <a:srgbClr val="000000"/>
                </a:solidFill>
                <a:latin typeface="Times New Roman"/>
              </a:rPr>
              <a:t>, pour définir la ou les voie(s) sur lesquelles vous souhaitez faire une acquisition et la taille du buffer (le nombre de points que vous souhaitez acquérir).</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1" lang="fr-FR" sz="1100" spc="-1" strike="noStrike">
                <a:solidFill>
                  <a:srgbClr val="000000"/>
                </a:solidFill>
                <a:latin typeface="Times New Roman"/>
              </a:rPr>
              <a:t>AI-Démarrer</a:t>
            </a:r>
            <a:r>
              <a:rPr b="0" lang="fr-FR" sz="1100" spc="-1" strike="noStrike">
                <a:solidFill>
                  <a:srgbClr val="000000"/>
                </a:solidFill>
                <a:latin typeface="Times New Roman"/>
              </a:rPr>
              <a:t>, au moment où cette fonction s’exécute, la carte DAQ démarre l’acquisition. Vous précisez dans cette fonction la vitesse de balayage et le type de déclenchement (par défaut, aucun déclenchement n’est attendu).</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1" lang="fr-FR" sz="1100" spc="-1" strike="noStrike">
                <a:solidFill>
                  <a:srgbClr val="000000"/>
                </a:solidFill>
                <a:latin typeface="Times New Roman"/>
              </a:rPr>
              <a:t>AI-Lire</a:t>
            </a:r>
            <a:r>
              <a:rPr b="0" lang="fr-FR" sz="1100" spc="-1" strike="noStrike">
                <a:solidFill>
                  <a:srgbClr val="000000"/>
                </a:solidFill>
                <a:latin typeface="Times New Roman"/>
              </a:rPr>
              <a:t>, récupère les données acquises dans le buffer et les transmet à la mémoire allouée à LabVIEW.</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1" lang="fr-FR" sz="1100" spc="-1" strike="noStrike">
                <a:solidFill>
                  <a:srgbClr val="000000"/>
                </a:solidFill>
                <a:latin typeface="Times New Roman"/>
              </a:rPr>
              <a:t>AI-Réinitialiser</a:t>
            </a:r>
            <a:r>
              <a:rPr b="0" lang="fr-FR" sz="1100" spc="-1" strike="noStrike">
                <a:solidFill>
                  <a:srgbClr val="000000"/>
                </a:solidFill>
                <a:latin typeface="Times New Roman"/>
              </a:rPr>
              <a:t> libère les ressourc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ors d’une acquisition continue, vous utilisez les mêmes fonctions que pour une acquisition bufférisée simple et ces fonctions permettent de configurer les mêmes paramètres (taille du buffer, vitesse d’échantillonnage, paramètres de déclenchement, et ainsi de sui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s différences son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le nombre de balayage à acquérir, défini sur la fonction </a:t>
            </a:r>
            <a:r>
              <a:rPr b="1" lang="fr-FR" sz="1100" spc="-1" strike="noStrike">
                <a:solidFill>
                  <a:srgbClr val="000000"/>
                </a:solidFill>
                <a:latin typeface="Times New Roman"/>
              </a:rPr>
              <a:t>AI-Démarrer</a:t>
            </a:r>
            <a:r>
              <a:rPr b="0" lang="fr-FR" sz="1100" spc="-1" strike="noStrike">
                <a:solidFill>
                  <a:srgbClr val="000000"/>
                </a:solidFill>
                <a:latin typeface="Times New Roman"/>
              </a:rPr>
              <a:t>. Lorsque vous fixez cette valeur à 0, </a:t>
            </a:r>
            <a:r>
              <a:rPr b="0" lang="en-GB" sz="1100" spc="-1" strike="noStrike">
                <a:solidFill>
                  <a:srgbClr val="000000"/>
                </a:solidFill>
                <a:latin typeface="Times New Roman"/>
              </a:rPr>
              <a:t>LabVIEW </a:t>
            </a:r>
            <a:r>
              <a:rPr b="0" lang="fr-FR" sz="1100" spc="-1" strike="noStrike">
                <a:solidFill>
                  <a:srgbClr val="000000"/>
                </a:solidFill>
                <a:latin typeface="Times New Roman"/>
              </a:rPr>
              <a:t>acquiert</a:t>
            </a:r>
            <a:r>
              <a:rPr b="0" lang="en-GB" sz="1100" spc="-1" strike="noStrike">
                <a:solidFill>
                  <a:srgbClr val="000000"/>
                </a:solidFill>
                <a:latin typeface="Times New Roman"/>
              </a:rPr>
              <a:t> les </a:t>
            </a:r>
            <a:r>
              <a:rPr b="0" lang="fr-FR" sz="1100" spc="-1" strike="noStrike">
                <a:solidFill>
                  <a:srgbClr val="000000"/>
                </a:solidFill>
                <a:latin typeface="Times New Roman"/>
              </a:rPr>
              <a:t>données indéfiniment dans le premier (ou unique) buffer jusqu'à ce que vous réinitialisiez l'acquisition</a:t>
            </a:r>
            <a:r>
              <a:rPr b="0" lang="en-GB" sz="1100" spc="-1" strike="noStrike">
                <a:solidFill>
                  <a:srgbClr val="000000"/>
                </a:solidFill>
                <a:latin typeface="Times New Roman"/>
              </a:rPr>
              <a:t> avec le</a:t>
            </a:r>
            <a:r>
              <a:rPr b="0" lang="fr-FR" sz="1100" spc="-1" strike="noStrike">
                <a:solidFill>
                  <a:srgbClr val="000000"/>
                </a:solidFill>
                <a:latin typeface="Times New Roman"/>
              </a:rPr>
              <a:t> VI </a:t>
            </a:r>
            <a:r>
              <a:rPr b="1" lang="fr-FR" sz="1100" spc="-1" strike="noStrike">
                <a:solidFill>
                  <a:srgbClr val="000000"/>
                </a:solidFill>
                <a:latin typeface="Times New Roman"/>
              </a:rPr>
              <a:t>AI-Réinitialiser</a:t>
            </a:r>
            <a:r>
              <a:rPr b="0" lang="fr-FR" sz="1100" spc="-1" strike="noStrike">
                <a:solidFill>
                  <a:srgbClr val="000000"/>
                </a:solidFill>
                <a:latin typeface="Times New Roman"/>
              </a:rPr>
              <a: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vous devez mettre la fonction </a:t>
            </a:r>
            <a:r>
              <a:rPr b="1" lang="fr-FR" sz="1100" spc="-1" strike="noStrike">
                <a:solidFill>
                  <a:srgbClr val="000000"/>
                </a:solidFill>
                <a:latin typeface="Times New Roman"/>
              </a:rPr>
              <a:t>AI-Lire</a:t>
            </a:r>
            <a:r>
              <a:rPr b="0" lang="fr-FR" sz="1100" spc="-1" strike="noStrike">
                <a:solidFill>
                  <a:srgbClr val="000000"/>
                </a:solidFill>
                <a:latin typeface="Times New Roman"/>
              </a:rPr>
              <a:t> dans une boucle, de manière à lire les données en continu.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enfin, il est vivement recommandé de gérer les erreurs à l’intérieur de la boucle de lecture, afin de sortir de la boucle While, si l’utilisateur appuie sur le bouton STOP de la face-avant ou si une erreur se produit. Les erreurs les plus fréquentes sont des erreurs d’écrasement de données.</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4160" y="735120"/>
            <a:ext cx="4899240" cy="3674880"/>
          </a:xfrm>
          <a:prstGeom prst="rect">
            <a:avLst/>
          </a:prstGeom>
          <a:ln w="0">
            <a:noFill/>
          </a:ln>
        </p:spPr>
      </p:sp>
      <p:sp>
        <p:nvSpPr>
          <p:cNvPr id="171"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our optimiser la qualité de vos mesures et exploiter au maximum la résolution du convertisseur de votre carte d’acquisition, il est important de fixer le gain le mieux adapté à votre signal. Sur la plupart des cartes d’acquisition, la gamme d’entrée peut prendre la valeur 0-10 V ou +/-10 V. Une fois que vous avez choisi la gamme adaptée à vos mesures, vous pouvez amplifier votre signal d’entrée de manière à ce qu’il utilise au maximum cette gamm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Vous pouvez fixer le gain directement sous LabVIEW en utilisant le paramètre </a:t>
            </a:r>
            <a:r>
              <a:rPr b="0" i="1" lang="fr-FR" sz="1100" spc="-1" strike="noStrike">
                <a:solidFill>
                  <a:srgbClr val="000000"/>
                </a:solidFill>
                <a:latin typeface="Times New Roman"/>
              </a:rPr>
              <a:t>Limites d’entrée</a:t>
            </a:r>
            <a:r>
              <a:rPr b="0" lang="fr-FR" sz="1100" spc="-1" strike="noStrike">
                <a:solidFill>
                  <a:srgbClr val="000000"/>
                </a:solidFill>
                <a:latin typeface="Times New Roman"/>
              </a:rPr>
              <a:t> ou lorsque vous déclarez des voies virtuelles sous MAX. Le paramètres </a:t>
            </a:r>
            <a:r>
              <a:rPr b="0" i="1" lang="fr-FR" sz="1100" spc="-1" strike="noStrike">
                <a:solidFill>
                  <a:srgbClr val="000000"/>
                </a:solidFill>
                <a:latin typeface="Times New Roman"/>
              </a:rPr>
              <a:t>Limites d’entrée</a:t>
            </a:r>
            <a:r>
              <a:rPr b="0" lang="fr-FR" sz="1100" spc="-1" strike="noStrike">
                <a:solidFill>
                  <a:srgbClr val="000000"/>
                </a:solidFill>
                <a:latin typeface="Times New Roman"/>
              </a:rPr>
              <a:t> est disponible sur les fonctions de haut niveau, mais avec ces fonctions, vous êtes obligé d’appliquer le même gain à toutes les voies de mesure. Si vous voulez appliquer des gains différents à vos différentes voies d’entrées, vous devez utiliser les fonctions de niveau intermédiai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Attention, il est important de comprendre que le gain va être appliqué avant la conversion analogique-numérique, mais que le résultat retourné par LabVIEW vous donnera la valeur réelle de votre signal avant amplification. En effet, le signal est physiquement amplifié par l’amplificateur opérationnel avant d’être numérisé ; en revanche, LabVIEW remet les valeurs à l’échelle avant de renvoyer les mesures. Ainsi, seule la précision de votre mesure sera affectée par le gain. La valeur mesurée restera identique quelle que soit la valeur du gain, à moins que vous ne saturiez l’amplificateur en appliquant un gain trop élevé.</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4160" y="735120"/>
            <a:ext cx="4899240" cy="3674880"/>
          </a:xfrm>
          <a:prstGeom prst="rect">
            <a:avLst/>
          </a:prstGeom>
          <a:ln w="0">
            <a:noFill/>
          </a:ln>
        </p:spPr>
      </p:sp>
      <p:sp>
        <p:nvSpPr>
          <p:cNvPr id="173"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Certaines cartes d’acquisition offrent des fonctionnalités de déclenchement matériel. Le déclenchement matériel peut se faire sur une entrée analogique ou sur une ligne numérique. Certaines cartes permettent les deux types de déclenchement, d’autres ne permettent que le déclenchement sur une ligne numériq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orsque vous utilisez un déclenchement sur une entrée analogique, vous devez préciser sur quelle voie le déclenchement se produit, ainsi que la valeur du signal à atteindre et le sens de la pen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orsque vous utilisez un déclenchement sur une ligne numérique, vous devez préciser de quelle ligne il s’agit et du sens de la transition (front montant ou descenda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ous LabVIEW, vous avez la possibilité de simuler un déclenchement de manière logicielle si votre matériel ne permet pas de répondre à vos besoins de déclenchement. Ce type de déclenchement, à la différence des déclencheurs réels, n'a aucun effet sur l'acquisition de données et permet de rechercher de façon répétée la condition de déclenchement dans un buffer d'acquisi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a récupération conditionnelle vous permet de spécifier les conditions de déclenchement que le VI recherche dans le buffer d'acquisition. La recherche commence à la position spécifiée par la position de lecture/recherche. Une fois que le VI a trouvé les conditions de récupération (déclenchement) dans le buffer, il retourne des données commençant à cette position plus l'offset.</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4160" y="735120"/>
            <a:ext cx="4899240" cy="3674880"/>
          </a:xfrm>
          <a:prstGeom prst="rect">
            <a:avLst/>
          </a:prstGeom>
          <a:ln w="0">
            <a:noFill/>
          </a:ln>
        </p:spPr>
      </p:sp>
      <p:sp>
        <p:nvSpPr>
          <p:cNvPr id="175" name="PlaceHolder 2"/>
          <p:cNvSpPr>
            <a:spLocks noGrp="1"/>
          </p:cNvSpPr>
          <p:nvPr>
            <p:ph type="body"/>
          </p:nvPr>
        </p:nvSpPr>
        <p:spPr>
          <a:xfrm>
            <a:off x="888840" y="4573080"/>
            <a:ext cx="4889520" cy="4410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Dans la plupart des applications d’acquisition de données, il est impératif d’enregistrer les données acquises sur le disque du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ant votre type d’application, vous pouvez décider d’enregistrer toutes vos données en une seule fois à la fin de l’acquisition ou de les enregistrer au fur et à mesure de l’acquisi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our enregistrer toutes vos données en une seule fois, vous pouvez utiliser les fonctions d’enregistrement de waveform de haut niveau qui se trouvent sur la palette de Fonctions&gt;&gt;Waveform&gt;&gt;E/S sur fichiers de waveform. Ces fonctions vous permettent d’enregistrer directement vos données de sortie. Vous pouvez les enregistrer directement dans un fichier tableur au format ASCII ou les enregistrer dans un fichier binaire. Lorsque vous utilisez le format ASCII, vous pouvez ensuite ouvrir directement votre fichier enregistré sous Excel, il se présentera sous la forme d’un tableau, la première colonne contenant l’information temporelle, les autres la valeur des signaux mesuré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i vous effectuez une acquisition continue, il est alors recommandé d’enregistrer vos données au fur et à mesure de l’acquisition. Vous utilisez dans ce cas les fonctions d’E/S sur fichiers. Vous sélectionnez le fichier une seule fois avant le début de l’acquisition, puis vous écrivez des données à chaque tour de boucle, et enfin vous fermez les références à l’opération d’écriture lorsque l’acquisition est terminée. De cette manière, le temps d’enregistrement est réduit au minimu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i le temps est un paramètre critique de votre application, il est alors recommandé d’enregistrer les données au format binaire plutôt que de les formater dans la boucl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De même, si vous effectuez une opération de génération analogique, vous pouvez venir lire un fichier sur le disque dur afin de générer les données qu’il contient.</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nilogoClr" descr=""/>
            <p:cNvPicPr/>
            <p:nvPr/>
          </p:nvPicPr>
          <p:blipFill>
            <a:blip r:embed="rId2"/>
            <a:stretch/>
          </p:blipFill>
          <p:spPr>
            <a:xfrm>
              <a:off x="7238880" y="6342120"/>
              <a:ext cx="1828800" cy="43956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 name=""/>
          <p:cNvSpPr/>
          <p:nvPr/>
        </p:nvSpPr>
        <p:spPr>
          <a:xfrm>
            <a:off x="457200" y="640080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om/fra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 name="NI%20Logo" descr=""/>
          <p:cNvPicPr/>
          <p:nvPr/>
        </p:nvPicPr>
        <p:blipFill>
          <a:blip r:embed="rId2"/>
          <a:stretch/>
        </p:blipFill>
        <p:spPr>
          <a:xfrm>
            <a:off x="3048120" y="762120"/>
            <a:ext cx="3047760" cy="7318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66" name="NI%20Logo" descr=""/>
          <p:cNvPicPr/>
          <p:nvPr/>
        </p:nvPicPr>
        <p:blipFill>
          <a:blip r:embed="rId3"/>
          <a:stretch/>
        </p:blipFill>
        <p:spPr>
          <a:xfrm>
            <a:off x="5257800" y="685800"/>
            <a:ext cx="3505320" cy="8413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ni.com/france/daq" TargetMode="External"/><Relationship Id="rId2" Type="http://schemas.openxmlformats.org/officeDocument/2006/relationships/hyperlink" Target="http://www.ni.com/france/daq" TargetMode="External"/><Relationship Id="rId3" Type="http://schemas.openxmlformats.org/officeDocument/2006/relationships/hyperlink" Target="http://www.ni.com/france/daq" TargetMode="External"/><Relationship Id="rId4" Type="http://schemas.openxmlformats.org/officeDocument/2006/relationships/hyperlink" Target="http://www.ni.com/france/daq" TargetMode="External"/><Relationship Id="rId5" Type="http://schemas.openxmlformats.org/officeDocument/2006/relationships/hyperlink" Target="http://www.ni.com/france/daq" TargetMode="External"/><Relationship Id="rId6" Type="http://schemas.openxmlformats.org/officeDocument/2006/relationships/hyperlink" Target="http://www.ni.com/france/daq" TargetMode="External"/><Relationship Id="rId7" Type="http://schemas.openxmlformats.org/officeDocument/2006/relationships/hyperlink" Target="http://www.ni.com/france" TargetMode="External"/><Relationship Id="rId8" Type="http://schemas.openxmlformats.org/officeDocument/2006/relationships/hyperlink" Target="http://www.ni.com/france" TargetMode="External"/><Relationship Id="rId9" Type="http://schemas.openxmlformats.org/officeDocument/2006/relationships/hyperlink" Target="http://www.ni.com/france" TargetMode="External"/><Relationship Id="rId10" Type="http://schemas.openxmlformats.org/officeDocument/2006/relationships/hyperlink" Target="http://www.ni.com/france" TargetMode="External"/><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752480"/>
            <a:ext cx="6705360" cy="2362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ptimisez l’acquisition de données sous LabVIEW</a:t>
            </a:r>
            <a:endParaRPr b="0" lang="en-US" sz="4400" spc="-1" strike="noStrike">
              <a:solidFill>
                <a:srgbClr val="000000"/>
              </a:solidFill>
              <a:latin typeface="Arial"/>
            </a:endParaRPr>
          </a:p>
        </p:txBody>
      </p:sp>
      <p:sp>
        <p:nvSpPr>
          <p:cNvPr id="113" name=""/>
          <p:cNvSpPr/>
          <p:nvPr/>
        </p:nvSpPr>
        <p:spPr>
          <a:xfrm>
            <a:off x="6324480" y="5486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Sylvaine LOHEZ</a:t>
            </a:r>
            <a:endParaRPr b="0" lang="en-US" sz="2400" spc="-1" strike="noStrike">
              <a:solidFill>
                <a:srgbClr val="ffffff"/>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Quelques autres fonctions DAQ</a:t>
            </a:r>
            <a:endParaRPr b="0" lang="en-US" sz="4400" spc="-1" strike="noStrike">
              <a:solidFill>
                <a:srgbClr val="000000"/>
              </a:solidFill>
              <a:latin typeface="Arial"/>
            </a:endParaRPr>
          </a:p>
        </p:txBody>
      </p:sp>
      <p:sp>
        <p:nvSpPr>
          <p:cNvPr id="14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I-Paramètre</a:t>
            </a:r>
            <a:r>
              <a:rPr b="0" lang="fr-FR" sz="2800" spc="-1" strike="noStrike">
                <a:solidFill>
                  <a:srgbClr val="000000"/>
                </a:solidFill>
                <a:latin typeface="Arial"/>
              </a:rPr>
              <a:t> (Fonctions&gt;&gt;Acquisition de données&gt;&gt;Entrées analogiques&gt;&gt;Entrées analogiques avancées)</a:t>
            </a:r>
            <a:endParaRPr b="0" lang="en-US" sz="28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rmet de définir ou d’obtenir certains paramètres du matériel DAQ (la valeur du gain ou des filtres par exemple)</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éfinir les infos d’un périphérique DAQ</a:t>
            </a:r>
            <a:r>
              <a:rPr b="0" lang="fr-FR" sz="2800" spc="-1" strike="noStrike">
                <a:solidFill>
                  <a:srgbClr val="000000"/>
                </a:solidFill>
                <a:latin typeface="Arial"/>
              </a:rPr>
              <a:t> (Fonctions&gt;&gt;Acquisition de données&gt;&gt;Étalonnage et configuration)</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Obtenir les infos sur un périphérique DAQ</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mesures de capteurs</a:t>
            </a:r>
            <a:endParaRPr b="0" lang="en-US" sz="4400" spc="-1" strike="noStrike">
              <a:solidFill>
                <a:srgbClr val="000000"/>
              </a:solidFill>
              <a:latin typeface="Arial"/>
            </a:endParaRPr>
          </a:p>
        </p:txBody>
      </p:sp>
      <p:sp>
        <p:nvSpPr>
          <p:cNvPr id="150" name="PlaceHolder 2"/>
          <p:cNvSpPr>
            <a:spLocks noGrp="1"/>
          </p:cNvSpPr>
          <p:nvPr>
            <p:ph/>
          </p:nvPr>
        </p:nvSpPr>
        <p:spPr>
          <a:xfrm>
            <a:off x="685440" y="1523520"/>
            <a:ext cx="3809880" cy="40388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grand nombre de capteurs supportés sous MAX</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palette dédiée à la conversion des signaux dans la palette d’acquisition de données</a:t>
            </a:r>
            <a:endParaRPr b="0" lang="en-US" sz="2800" spc="-1" strike="noStrike">
              <a:solidFill>
                <a:srgbClr val="000000"/>
              </a:solidFill>
              <a:latin typeface="Arial"/>
            </a:endParaRPr>
          </a:p>
        </p:txBody>
      </p:sp>
      <p:pic>
        <p:nvPicPr>
          <p:cNvPr id="151" name="" descr=""/>
          <p:cNvPicPr/>
          <p:nvPr/>
        </p:nvPicPr>
        <p:blipFill>
          <a:blip r:embed="rId1"/>
          <a:stretch/>
        </p:blipFill>
        <p:spPr>
          <a:xfrm>
            <a:off x="4800600" y="1600200"/>
            <a:ext cx="3854520" cy="3755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occurrences DAQ</a:t>
            </a:r>
            <a:endParaRPr b="0" lang="en-US" sz="4400" spc="-1" strike="noStrike">
              <a:solidFill>
                <a:srgbClr val="000000"/>
              </a:solidFill>
              <a:latin typeface="Arial"/>
            </a:endParaRPr>
          </a:p>
        </p:txBody>
      </p:sp>
      <p:sp>
        <p:nvSpPr>
          <p:cNvPr id="153"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ermettent à une application d’attendre de manière asynchrone un événement DAQ</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ibèrent du temps processeur</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tilisation des fonctions :</a:t>
            </a:r>
            <a:endParaRPr b="0" lang="en-US" sz="28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figurer des occurrences DAQ</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ttendre une occurrence</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figurer des occurrences DAQ (pour libérer les occurrences)</a:t>
            </a:r>
            <a:endParaRPr b="0"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ynchroniser des mesures</a:t>
            </a:r>
            <a:endParaRPr b="0" lang="en-US" sz="4400" spc="-1" strike="noStrike">
              <a:solidFill>
                <a:srgbClr val="000000"/>
              </a:solidFill>
              <a:latin typeface="Arial"/>
            </a:endParaRPr>
          </a:p>
        </p:txBody>
      </p:sp>
      <p:sp>
        <p:nvSpPr>
          <p:cNvPr id="155"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urquoi ?</a:t>
            </a:r>
            <a:endParaRPr b="0" lang="en-US" sz="28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marrer simultanément des mesures sur différentes cartes</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tager un même signal d’horloge pour toutes les mesures</a:t>
            </a:r>
            <a:endParaRPr b="0" lang="en-US" sz="24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ment ?</a:t>
            </a:r>
            <a:endParaRPr b="0" lang="en-US" sz="28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rloge externe</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us RTSI ou PXI</a:t>
            </a:r>
            <a:endParaRPr b="0"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Quelques astuces</a:t>
            </a:r>
            <a:endParaRPr b="0" lang="en-US" sz="4400" spc="-1" strike="noStrike">
              <a:solidFill>
                <a:srgbClr val="000000"/>
              </a:solidFill>
              <a:latin typeface="Arial"/>
            </a:endParaRPr>
          </a:p>
        </p:txBody>
      </p:sp>
      <p:sp>
        <p:nvSpPr>
          <p:cNvPr id="157"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ase d’exemples (installés avec NI-DAQ et sur le Web)</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ixer le gain</a:t>
            </a:r>
            <a:endParaRPr b="0" lang="en-US" sz="28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us LabVIEW ou en utilisant les voies virtuelles</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choix judicieux du gain vous permet d’optimiser la qualité de vos mesures</a:t>
            </a:r>
            <a:endParaRPr b="0" lang="en-US" sz="24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tilisez les occurrences DAQ pour réduire le temps processeur</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lusion</a:t>
            </a:r>
            <a:endParaRPr b="0" lang="en-US" sz="4400" spc="-1" strike="noStrike">
              <a:solidFill>
                <a:srgbClr val="000000"/>
              </a:solidFill>
              <a:latin typeface="Arial"/>
            </a:endParaRPr>
          </a:p>
        </p:txBody>
      </p:sp>
      <p:sp>
        <p:nvSpPr>
          <p:cNvPr id="15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ormation DAQ sous LabVIEW</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éminair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0033"/>
                </a:solidFill>
                <a:uFillTx/>
                <a:latin typeface="Arial"/>
                <a:hlinkClick r:id="rId1"/>
              </a:rPr>
              <a:t>ni.</a:t>
            </a:r>
            <a:r>
              <a:rPr b="0" lang="fr-FR" sz="2800" spc="-1" strike="noStrike" u="sng">
                <a:solidFill>
                  <a:srgbClr val="ff0033"/>
                </a:solidFill>
                <a:uFillTx/>
                <a:latin typeface="Arial"/>
                <a:hlinkClick r:id="rId2"/>
              </a:rPr>
              <a:t>com</a:t>
            </a:r>
            <a:r>
              <a:rPr b="0" lang="fr-FR" sz="2800" spc="-1" strike="noStrike" u="sng">
                <a:solidFill>
                  <a:srgbClr val="ff0033"/>
                </a:solidFill>
                <a:uFillTx/>
                <a:latin typeface="Arial"/>
                <a:hlinkClick r:id="rId3"/>
              </a:rPr>
              <a:t>/</a:t>
            </a:r>
            <a:r>
              <a:rPr b="0" lang="fr-FR" sz="2800" spc="-1" strike="noStrike" u="sng">
                <a:solidFill>
                  <a:srgbClr val="ff0033"/>
                </a:solidFill>
                <a:uFillTx/>
                <a:latin typeface="Arial"/>
                <a:hlinkClick r:id="rId4"/>
              </a:rPr>
              <a:t>france</a:t>
            </a:r>
            <a:r>
              <a:rPr b="0" lang="fr-FR" sz="2800" spc="-1" strike="noStrike" u="sng">
                <a:solidFill>
                  <a:srgbClr val="ff0033"/>
                </a:solidFill>
                <a:uFillTx/>
                <a:latin typeface="Arial"/>
                <a:hlinkClick r:id="rId5"/>
              </a:rPr>
              <a:t>/</a:t>
            </a:r>
            <a:r>
              <a:rPr b="0" lang="fr-FR" sz="2800" spc="-1" strike="noStrike" u="sng">
                <a:solidFill>
                  <a:srgbClr val="ff0033"/>
                </a:solidFill>
                <a:uFillTx/>
                <a:latin typeface="Arial"/>
                <a:hlinkClick r:id="rId6"/>
              </a:rPr>
              <a:t>daq</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0033"/>
                </a:solidFill>
                <a:uFillTx/>
                <a:latin typeface="Arial"/>
                <a:hlinkClick r:id="rId7"/>
              </a:rPr>
              <a:t>ni.</a:t>
            </a:r>
            <a:r>
              <a:rPr b="0" lang="fr-FR" sz="2800" spc="-1" strike="noStrike" u="sng">
                <a:solidFill>
                  <a:srgbClr val="ff0033"/>
                </a:solidFill>
                <a:uFillTx/>
                <a:latin typeface="Arial"/>
                <a:hlinkClick r:id="rId8"/>
              </a:rPr>
              <a:t>com</a:t>
            </a:r>
            <a:r>
              <a:rPr b="0" lang="fr-FR" sz="2800" spc="-1" strike="noStrike" u="sng">
                <a:solidFill>
                  <a:srgbClr val="ff0033"/>
                </a:solidFill>
                <a:uFillTx/>
                <a:latin typeface="Arial"/>
                <a:hlinkClick r:id="rId9"/>
              </a:rPr>
              <a:t>/</a:t>
            </a:r>
            <a:r>
              <a:rPr b="0" lang="fr-FR" sz="2800" spc="-1" strike="noStrike" u="sng">
                <a:solidFill>
                  <a:srgbClr val="ff0033"/>
                </a:solidFill>
                <a:uFillTx/>
                <a:latin typeface="Arial"/>
                <a:hlinkClick r:id="rId10"/>
              </a:rPr>
              <a:t>france</a:t>
            </a:r>
            <a:r>
              <a:rPr b="0" lang="fr-FR" sz="2800" spc="-1" strike="noStrike">
                <a:solidFill>
                  <a:srgbClr val="000000"/>
                </a:solidFill>
                <a:latin typeface="Arial"/>
              </a:rPr>
              <a:t> rubrique Support Technique, DAQ</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81532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easurement &amp; Automation eXplorer</a:t>
            </a:r>
            <a:endParaRPr b="0" lang="en-US" sz="4400" spc="-1" strike="noStrike">
              <a:solidFill>
                <a:srgbClr val="000000"/>
              </a:solidFill>
              <a:latin typeface="Arial"/>
            </a:endParaRPr>
          </a:p>
        </p:txBody>
      </p:sp>
      <p:sp>
        <p:nvSpPr>
          <p:cNvPr id="115" name="PlaceHolder 2"/>
          <p:cNvSpPr>
            <a:spLocks noGrp="1"/>
          </p:cNvSpPr>
          <p:nvPr>
            <p:ph/>
          </p:nvPr>
        </p:nvSpPr>
        <p:spPr>
          <a:xfrm>
            <a:off x="4838760" y="1523520"/>
            <a:ext cx="400032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til de test</a:t>
            </a:r>
            <a:endParaRPr b="0" lang="en-US" sz="2400" spc="-1" strike="noStrike">
              <a:solidFill>
                <a:srgbClr val="000000"/>
              </a:solidFill>
              <a:latin typeface="Arial"/>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éation des voies virtuelles</a:t>
            </a:r>
            <a:endParaRPr b="0" lang="en-US" sz="2400" spc="-1" strike="noStrike">
              <a:solidFill>
                <a:srgbClr val="000000"/>
              </a:solidFill>
              <a:latin typeface="Arial"/>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ion d’échelles</a:t>
            </a:r>
            <a:endParaRPr b="0" lang="en-US" sz="2400" spc="-1" strike="noStrike">
              <a:solidFill>
                <a:srgbClr val="000000"/>
              </a:solidFill>
              <a:latin typeface="Arial"/>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sistant de mise à jour des logiciels</a:t>
            </a:r>
            <a:endParaRPr b="0" lang="en-US" sz="2400" spc="-1" strike="noStrike">
              <a:solidFill>
                <a:srgbClr val="000000"/>
              </a:solidFill>
              <a:latin typeface="Arial"/>
            </a:endParaRPr>
          </a:p>
        </p:txBody>
      </p:sp>
      <p:pic>
        <p:nvPicPr>
          <p:cNvPr id="116" name="" descr=""/>
          <p:cNvPicPr/>
          <p:nvPr/>
        </p:nvPicPr>
        <p:blipFill>
          <a:blip r:embed="rId1"/>
          <a:stretch/>
        </p:blipFill>
        <p:spPr>
          <a:xfrm>
            <a:off x="685800" y="2112840"/>
            <a:ext cx="4000680" cy="3241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81532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données DAQ sous LabVIEW</a:t>
            </a:r>
            <a:endParaRPr b="0" lang="en-US" sz="4400" spc="-1" strike="noStrike">
              <a:solidFill>
                <a:srgbClr val="000000"/>
              </a:solidFill>
              <a:latin typeface="Arial"/>
            </a:endParaRPr>
          </a:p>
        </p:txBody>
      </p:sp>
      <p:sp>
        <p:nvSpPr>
          <p:cNvPr id="118" name="PlaceHolder 2"/>
          <p:cNvSpPr>
            <a:spLocks noGrp="1"/>
          </p:cNvSpPr>
          <p:nvPr>
            <p:ph/>
          </p:nvPr>
        </p:nvSpPr>
        <p:spPr>
          <a:xfrm>
            <a:off x="685800" y="1599840"/>
            <a:ext cx="5867280" cy="19810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entrées</a:t>
            </a:r>
            <a:r>
              <a:rPr b="0" lang="fr-FR"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noms de voies DAQ (entrées et sorties analogiques, entrées et sorties numériques)</a:t>
            </a:r>
            <a:endParaRPr b="0" lang="en-US" sz="2400" spc="-1" strike="noStrike">
              <a:solidFill>
                <a:srgbClr val="000000"/>
              </a:solidFill>
              <a:latin typeface="Arial"/>
            </a:endParaRPr>
          </a:p>
        </p:txBody>
      </p:sp>
      <p:pic>
        <p:nvPicPr>
          <p:cNvPr id="119" name="" descr=""/>
          <p:cNvPicPr/>
          <p:nvPr/>
        </p:nvPicPr>
        <p:blipFill>
          <a:blip r:embed="rId1"/>
          <a:stretch/>
        </p:blipFill>
        <p:spPr>
          <a:xfrm>
            <a:off x="6858000" y="2133720"/>
            <a:ext cx="1600200" cy="992160"/>
          </a:xfrm>
          <a:prstGeom prst="rect">
            <a:avLst/>
          </a:prstGeom>
          <a:ln w="0">
            <a:noFill/>
          </a:ln>
        </p:spPr>
      </p:pic>
      <p:sp>
        <p:nvSpPr>
          <p:cNvPr id="120" name=""/>
          <p:cNvSpPr/>
          <p:nvPr/>
        </p:nvSpPr>
        <p:spPr>
          <a:xfrm>
            <a:off x="3048120" y="3733920"/>
            <a:ext cx="548640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es sorties :</a:t>
            </a:r>
            <a:endParaRPr b="0" lang="en-US" sz="2800" spc="-1" strike="noStrike">
              <a:solidFill>
                <a:srgbClr val="ffffff"/>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Type de données waveform (contient les informations de mesures et de temps)</a:t>
            </a:r>
            <a:endParaRPr b="0" lang="en-US" sz="2400" spc="-1" strike="noStrike">
              <a:solidFill>
                <a:srgbClr val="ffffff"/>
              </a:solidFill>
              <a:latin typeface="Times New Roman"/>
            </a:endParaRPr>
          </a:p>
        </p:txBody>
      </p:sp>
      <p:pic>
        <p:nvPicPr>
          <p:cNvPr id="121" name="" descr=""/>
          <p:cNvPicPr/>
          <p:nvPr/>
        </p:nvPicPr>
        <p:blipFill>
          <a:blip r:embed="rId2"/>
          <a:stretch/>
        </p:blipFill>
        <p:spPr>
          <a:xfrm>
            <a:off x="838080" y="3962520"/>
            <a:ext cx="1833840" cy="15714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fonctions DAQ</a:t>
            </a:r>
            <a:endParaRPr b="0" lang="en-US" sz="4400" spc="-1" strike="noStrike">
              <a:solidFill>
                <a:srgbClr val="000000"/>
              </a:solidFill>
              <a:latin typeface="Arial"/>
            </a:endParaRPr>
          </a:p>
        </p:txBody>
      </p:sp>
      <p:sp>
        <p:nvSpPr>
          <p:cNvPr id="123" name="PlaceHolder 2"/>
          <p:cNvSpPr>
            <a:spLocks noGrp="1"/>
          </p:cNvSpPr>
          <p:nvPr>
            <p:ph/>
          </p:nvPr>
        </p:nvSpPr>
        <p:spPr>
          <a:xfrm>
            <a:off x="4838760" y="1523520"/>
            <a:ext cx="400032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fonctions DAQ sont organisées sur trois niveaux hiérarchiques :</a:t>
            </a:r>
            <a:endParaRPr b="0" lang="en-US" sz="28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onctions de bas niveau </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onctions intermédiaires</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onctions de haut niveau (Easy I/O)</a:t>
            </a:r>
            <a:endParaRPr b="0" lang="en-US" sz="2400" spc="-1" strike="noStrike">
              <a:solidFill>
                <a:srgbClr val="000000"/>
              </a:solidFill>
              <a:latin typeface="Arial"/>
            </a:endParaRPr>
          </a:p>
        </p:txBody>
      </p:sp>
      <p:pic>
        <p:nvPicPr>
          <p:cNvPr id="124" name="" descr=""/>
          <p:cNvPicPr/>
          <p:nvPr/>
        </p:nvPicPr>
        <p:blipFill>
          <a:blip r:embed="rId1"/>
          <a:stretch/>
        </p:blipFill>
        <p:spPr>
          <a:xfrm>
            <a:off x="838080" y="1523880"/>
            <a:ext cx="3380040" cy="44197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incipe de fonctionnement</a:t>
            </a:r>
            <a:endParaRPr b="0" lang="en-US" sz="4400" spc="-1" strike="noStrike">
              <a:solidFill>
                <a:srgbClr val="000000"/>
              </a:solidFill>
              <a:latin typeface="Arial"/>
            </a:endParaRPr>
          </a:p>
        </p:txBody>
      </p:sp>
      <p:pic>
        <p:nvPicPr>
          <p:cNvPr id="126" name="" descr=""/>
          <p:cNvPicPr/>
          <p:nvPr/>
        </p:nvPicPr>
        <p:blipFill>
          <a:blip r:embed="rId1"/>
          <a:stretch/>
        </p:blipFill>
        <p:spPr>
          <a:xfrm>
            <a:off x="789120" y="1523880"/>
            <a:ext cx="7947000" cy="4419720"/>
          </a:xfrm>
          <a:prstGeom prst="rect">
            <a:avLst/>
          </a:prstGeom>
          <a:ln w="0">
            <a:noFill/>
          </a:ln>
        </p:spPr>
      </p:pic>
      <p:sp>
        <p:nvSpPr>
          <p:cNvPr id="127" name=""/>
          <p:cNvSpPr/>
          <p:nvPr/>
        </p:nvSpPr>
        <p:spPr>
          <a:xfrm>
            <a:off x="609480" y="3505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Votre signal</a:t>
            </a:r>
            <a:endParaRPr b="0" lang="en-US" sz="2400" spc="-1" strike="noStrike">
              <a:solidFill>
                <a:srgbClr val="ffffff"/>
              </a:solidFill>
              <a:latin typeface="Times New Roman"/>
            </a:endParaRPr>
          </a:p>
        </p:txBody>
      </p:sp>
      <p:sp>
        <p:nvSpPr>
          <p:cNvPr id="128" name=""/>
          <p:cNvSpPr/>
          <p:nvPr/>
        </p:nvSpPr>
        <p:spPr>
          <a:xfrm>
            <a:off x="8001000" y="51055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Buffer du PC</a:t>
            </a:r>
            <a:endParaRPr b="0" lang="en-US" sz="1800" spc="-1" strike="noStrike">
              <a:solidFill>
                <a:srgbClr val="ffffff"/>
              </a:solidFill>
              <a:latin typeface="Times New Roman"/>
            </a:endParaRPr>
          </a:p>
        </p:txBody>
      </p:sp>
      <p:sp>
        <p:nvSpPr>
          <p:cNvPr id="129" name=""/>
          <p:cNvSpPr/>
          <p:nvPr/>
        </p:nvSpPr>
        <p:spPr>
          <a:xfrm>
            <a:off x="4648320" y="14479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Mémoire LabVIEW</a:t>
            </a:r>
            <a:endParaRPr b="0" lang="en-US" sz="1800" spc="-1" strike="noStrike">
              <a:solidFill>
                <a:srgbClr val="ffffff"/>
              </a:solidFill>
              <a:latin typeface="Times New Roman"/>
            </a:endParaRPr>
          </a:p>
        </p:txBody>
      </p:sp>
      <p:sp>
        <p:nvSpPr>
          <p:cNvPr id="130" name=""/>
          <p:cNvSpPr/>
          <p:nvPr/>
        </p:nvSpPr>
        <p:spPr>
          <a:xfrm>
            <a:off x="685800" y="495288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Arial"/>
                <a:ea typeface="Times New Roman"/>
              </a:rPr>
              <a:t>FIFO (First In First Out) mémoire de la carte</a:t>
            </a:r>
            <a:endParaRPr b="0" lang="en-US" sz="24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cquisition bufférisée</a:t>
            </a:r>
            <a:endParaRPr b="0" lang="en-US" sz="4400" spc="-1" strike="noStrike">
              <a:solidFill>
                <a:srgbClr val="000000"/>
              </a:solidFill>
              <a:latin typeface="Arial"/>
            </a:endParaRPr>
          </a:p>
        </p:txBody>
      </p:sp>
      <p:sp>
        <p:nvSpPr>
          <p:cNvPr id="132" name="PlaceHolder 2"/>
          <p:cNvSpPr>
            <a:spLocks noGrp="1"/>
          </p:cNvSpPr>
          <p:nvPr>
            <p:ph/>
          </p:nvPr>
        </p:nvSpPr>
        <p:spPr>
          <a:xfrm>
            <a:off x="609480" y="1447560"/>
            <a:ext cx="2819520" cy="14475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cquisition simple buffer</a:t>
            </a:r>
            <a:endParaRPr b="0" lang="en-US" sz="2400" spc="-1" strike="noStrike">
              <a:solidFill>
                <a:srgbClr val="000000"/>
              </a:solidFill>
              <a:latin typeface="Arial"/>
            </a:endParaRPr>
          </a:p>
        </p:txBody>
      </p:sp>
      <p:pic>
        <p:nvPicPr>
          <p:cNvPr id="133" name="" descr=""/>
          <p:cNvPicPr/>
          <p:nvPr/>
        </p:nvPicPr>
        <p:blipFill>
          <a:blip r:embed="rId1"/>
          <a:stretch/>
        </p:blipFill>
        <p:spPr>
          <a:xfrm>
            <a:off x="3581280" y="1523880"/>
            <a:ext cx="4876920" cy="2171880"/>
          </a:xfrm>
          <a:prstGeom prst="rect">
            <a:avLst/>
          </a:prstGeom>
          <a:ln w="0">
            <a:noFill/>
          </a:ln>
        </p:spPr>
      </p:pic>
      <p:pic>
        <p:nvPicPr>
          <p:cNvPr id="134" name="" descr=""/>
          <p:cNvPicPr/>
          <p:nvPr/>
        </p:nvPicPr>
        <p:blipFill>
          <a:blip r:embed="rId2"/>
          <a:stretch/>
        </p:blipFill>
        <p:spPr>
          <a:xfrm>
            <a:off x="533520" y="3603600"/>
            <a:ext cx="5486400" cy="2340000"/>
          </a:xfrm>
          <a:prstGeom prst="rect">
            <a:avLst/>
          </a:prstGeom>
          <a:ln w="0">
            <a:noFill/>
          </a:ln>
        </p:spPr>
      </p:pic>
      <p:sp>
        <p:nvSpPr>
          <p:cNvPr id="135" name=""/>
          <p:cNvSpPr/>
          <p:nvPr/>
        </p:nvSpPr>
        <p:spPr>
          <a:xfrm>
            <a:off x="6477120" y="4191120"/>
            <a:ext cx="25146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cquisition continue</a:t>
            </a: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irer profit du gain</a:t>
            </a:r>
            <a:endParaRPr b="0" lang="en-US" sz="4400" spc="-1" strike="noStrike">
              <a:solidFill>
                <a:srgbClr val="000000"/>
              </a:solidFill>
              <a:latin typeface="Arial"/>
            </a:endParaRPr>
          </a:p>
        </p:txBody>
      </p:sp>
      <p:sp>
        <p:nvSpPr>
          <p:cNvPr id="137" name="PlaceHolder 2"/>
          <p:cNvSpPr>
            <a:spLocks noGrp="1"/>
          </p:cNvSpPr>
          <p:nvPr>
            <p:ph/>
          </p:nvPr>
        </p:nvSpPr>
        <p:spPr>
          <a:xfrm>
            <a:off x="685800" y="1523880"/>
            <a:ext cx="8229600" cy="2362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eut considérablement changer la qualité de vos mesur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us MAX dans les voies virtuell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ar programmation sous LabVIEW</a:t>
            </a:r>
            <a:endParaRPr b="0" lang="en-US" sz="2800" spc="-1" strike="noStrike">
              <a:solidFill>
                <a:srgbClr val="000000"/>
              </a:solidFill>
              <a:latin typeface="Arial"/>
            </a:endParaRPr>
          </a:p>
        </p:txBody>
      </p:sp>
      <p:grpSp>
        <p:nvGrpSpPr>
          <p:cNvPr id="138" name=""/>
          <p:cNvGrpSpPr/>
          <p:nvPr/>
        </p:nvGrpSpPr>
        <p:grpSpPr>
          <a:xfrm>
            <a:off x="762120" y="3581280"/>
            <a:ext cx="8229600" cy="2531880"/>
            <a:chOff x="762120" y="3581280"/>
            <a:chExt cx="8229600" cy="2531880"/>
          </a:xfrm>
        </p:grpSpPr>
        <p:pic>
          <p:nvPicPr>
            <p:cNvPr id="139" name="" descr=""/>
            <p:cNvPicPr/>
            <p:nvPr/>
          </p:nvPicPr>
          <p:blipFill>
            <a:blip r:embed="rId1"/>
            <a:stretch/>
          </p:blipFill>
          <p:spPr>
            <a:xfrm>
              <a:off x="2362320" y="3581280"/>
              <a:ext cx="6629400" cy="2422800"/>
            </a:xfrm>
            <a:prstGeom prst="rect">
              <a:avLst/>
            </a:prstGeom>
            <a:ln w="0">
              <a:noFill/>
            </a:ln>
          </p:spPr>
        </p:pic>
        <p:sp>
          <p:nvSpPr>
            <p:cNvPr id="140" name=""/>
            <p:cNvSpPr/>
            <p:nvPr/>
          </p:nvSpPr>
          <p:spPr>
            <a:xfrm>
              <a:off x="4724280" y="4038480"/>
              <a:ext cx="1905120" cy="304920"/>
            </a:xfrm>
            <a:prstGeom prst="ellipse">
              <a:avLst/>
            </a:prstGeom>
            <a:noFill/>
            <a:ln w="19080">
              <a:solidFill>
                <a:srgbClr val="ff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762120" y="3886200"/>
              <a:ext cx="3657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ea typeface="Times New Roman"/>
                </a:rPr>
                <a:t>limites d’entrée</a:t>
              </a:r>
              <a:r>
                <a:rPr b="0" lang="fr-FR" sz="2800" spc="-1" strike="noStrike">
                  <a:solidFill>
                    <a:srgbClr val="000000"/>
                  </a:solidFill>
                  <a:latin typeface="Arial"/>
                  <a:ea typeface="Times New Roman"/>
                </a:rPr>
                <a:t> est le paramètre qui permet de fixer le gain. Par défaut le gain est 1</a:t>
              </a:r>
              <a:endParaRPr b="0" lang="en-US" sz="28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clenchement</a:t>
            </a:r>
            <a:endParaRPr b="0" lang="en-US" sz="4400" spc="-1" strike="noStrike">
              <a:solidFill>
                <a:srgbClr val="000000"/>
              </a:solidFill>
              <a:latin typeface="Arial"/>
            </a:endParaRPr>
          </a:p>
        </p:txBody>
      </p:sp>
      <p:sp>
        <p:nvSpPr>
          <p:cNvPr id="143"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tériel</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ur une source analogique ou sur une ligne numérique</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ogiciel</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ous pouvez utiliser le paramètre récupération conditionnelle pour simuler un déclenchement</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52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nregistrer les données sur le disque</a:t>
            </a:r>
            <a:endParaRPr b="0" lang="en-US" sz="4400" spc="-1" strike="noStrike">
              <a:solidFill>
                <a:srgbClr val="000000"/>
              </a:solidFill>
              <a:latin typeface="Arial"/>
            </a:endParaRPr>
          </a:p>
        </p:txBody>
      </p:sp>
      <p:sp>
        <p:nvSpPr>
          <p:cNvPr id="145" name="PlaceHolder 2"/>
          <p:cNvSpPr>
            <a:spLocks noGrp="1"/>
          </p:cNvSpPr>
          <p:nvPr>
            <p:ph/>
          </p:nvPr>
        </p:nvSpPr>
        <p:spPr>
          <a:xfrm>
            <a:off x="685440" y="1905120"/>
            <a:ext cx="3505320" cy="3657600"/>
          </a:xfrm>
          <a:prstGeom prst="rect">
            <a:avLst/>
          </a:prstGeom>
          <a:noFill/>
          <a:ln w="0">
            <a:noFill/>
          </a:ln>
        </p:spPr>
        <p:txBody>
          <a:bodyPr lIns="90000" rIns="90000" tIns="46800" bIns="46800" anchor="t">
            <a:normAutofit/>
          </a:bodyPr>
          <a:p>
            <a:pPr marL="533520" indent="-5335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onctions de haut niveau</a:t>
            </a:r>
            <a:endParaRPr b="0" lang="en-US" sz="2800" spc="-1" strike="noStrike">
              <a:solidFill>
                <a:srgbClr val="000000"/>
              </a:solidFill>
              <a:latin typeface="Arial"/>
            </a:endParaRPr>
          </a:p>
          <a:p>
            <a:pPr marL="533520" indent="-5335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nregistrement continu</a:t>
            </a:r>
            <a:endParaRPr b="0" lang="en-US" sz="2800" spc="-1" strike="noStrike">
              <a:solidFill>
                <a:srgbClr val="000000"/>
              </a:solidFill>
              <a:latin typeface="Arial"/>
            </a:endParaRPr>
          </a:p>
          <a:p>
            <a:pPr marL="533520" indent="-5335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u format ASCII ou au format binaire</a:t>
            </a:r>
            <a:endParaRPr b="0" lang="en-US" sz="2800" spc="-1" strike="noStrike">
              <a:solidFill>
                <a:srgbClr val="000000"/>
              </a:solidFill>
              <a:latin typeface="Arial"/>
            </a:endParaRPr>
          </a:p>
        </p:txBody>
      </p:sp>
      <p:pic>
        <p:nvPicPr>
          <p:cNvPr id="146" name="" descr=""/>
          <p:cNvPicPr/>
          <p:nvPr/>
        </p:nvPicPr>
        <p:blipFill>
          <a:blip r:embed="rId1"/>
          <a:stretch/>
        </p:blipFill>
        <p:spPr>
          <a:xfrm>
            <a:off x="4343400" y="1752480"/>
            <a:ext cx="4546440" cy="36291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5:09:37Z</dcterms:created>
  <dc:creator>FrLohezS</dc:creator>
  <dc:description/>
  <dc:language>en-US</dc:language>
  <cp:lastModifiedBy>Service Informatique</cp:lastModifiedBy>
  <dcterms:modified xsi:type="dcterms:W3CDTF">2002-12-20T12:58:28Z</dcterms:modified>
  <cp:revision>76</cp:revision>
  <dc:subject/>
  <dc:title> OPTIMISEZ L’ACQUISITION DE DONNÉES SOUS LABVIEW</dc:title>
</cp:coreProperties>
</file>