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6A5-CDBB-490E-ABA7-B90A71C3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57D-1094-46C6-B6B4-2B0E2BF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F25-3AEE-4421-B18E-11AF5238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497-0D28-47CE-94B3-F9A8AD84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F9A-F448-440C-8F5B-89AAD90F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DB70-5D5A-4D83-B38E-45CE838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5E2E-7AB4-4826-BB18-1314795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9229-5116-4E82-94CA-53DD1924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179B-2FB0-4FAB-8042-C00EF891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ED4B-EAF3-42EE-8211-A3376F7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4898-A602-4902-8137-6AA4E6C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7C6-967D-4111-A72B-E64DC2D9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AC9A-5FA3-4CC1-A874-100C704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2B95-89DB-4D73-A931-202C7CB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F07-0C93-489E-9A8C-BE908F8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83E-E8DF-435C-8323-1CDA8382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812A-007D-4500-A5CD-8AF2E0A8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726-4847-45D1-A680-947822DC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F17-EE12-464B-A627-7E08C245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0F2-94A9-4CE2-BAD7-1C1D09C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0C4-CD93-4485-BB32-8564E00E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831-A9E1-441C-BE99-9836106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ECD-0A58-41E3-A1DC-AF510F9D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A55-BD95-4C7E-9802-48D6115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07C8-F724-4BD9-8150-7BC3BB27B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F8EF-1BC2-4187-905E-5BCC2141F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DF1F-2F1B-46CF-8EA9-49DD4C8DD9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C4A-7981-43FF-94A8-F3AADDCF43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2057400"/>
            <a:ext cx="1371600" cy="4114800"/>
            <a:chOff x="7238880" y="2057400"/>
            <a:chExt cx="1371600" cy="4114800"/>
          </a:xfrm>
        </p:grpSpPr>
        <p:sp>
          <p:nvSpPr>
            <p:cNvPr id="92" name=""/>
            <p:cNvSpPr/>
            <p:nvPr/>
          </p:nvSpPr>
          <p:spPr>
            <a:xfrm>
              <a:off x="7924680" y="48006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27432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41148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u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4680" y="34290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4680" y="20574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9480" y="1371600"/>
            <a:ext cx="8001000" cy="685800"/>
            <a:chOff x="609480" y="1371600"/>
            <a:chExt cx="8001000" cy="685800"/>
          </a:xfrm>
        </p:grpSpPr>
        <p:sp>
          <p:nvSpPr>
            <p:cNvPr id="99" name=""/>
            <p:cNvSpPr/>
            <p:nvPr/>
          </p:nvSpPr>
          <p:spPr>
            <a:xfrm>
              <a:off x="6094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Se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Pr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Ori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Insp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ars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167652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5486400"/>
            <a:ext cx="6629400" cy="685800"/>
            <a:chOff x="609480" y="5486400"/>
            <a:chExt cx="6629400" cy="685800"/>
          </a:xfrm>
        </p:grpSpPr>
        <p:sp>
          <p:nvSpPr>
            <p:cNvPr id="107" name=""/>
            <p:cNvSpPr/>
            <p:nvPr/>
          </p:nvSpPr>
          <p:spPr>
            <a:xfrm flipH="1">
              <a:off x="43434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0720" y="586728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Insp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4008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5486400"/>
              <a:ext cx="18288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haracteriz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Un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2362320"/>
            <a:ext cx="78012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E processes involve standard steps     and have similar goa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2B2-3309-4E8D-A3AC-C5B1C2F966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6040" y="458640"/>
            <a:ext cx="777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s in the OE Compon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1800" y="1371600"/>
            <a:ext cx="5866920" cy="3123720"/>
            <a:chOff x="2971800" y="1371600"/>
            <a:chExt cx="5866920" cy="3123720"/>
          </a:xfrm>
        </p:grpSpPr>
        <p:grpSp>
          <p:nvGrpSpPr>
            <p:cNvPr id="117" name=""/>
            <p:cNvGrpSpPr/>
            <p:nvPr/>
          </p:nvGrpSpPr>
          <p:grpSpPr>
            <a:xfrm>
              <a:off x="5036400" y="1917000"/>
              <a:ext cx="2715840" cy="1685520"/>
              <a:chOff x="5036400" y="1917000"/>
              <a:chExt cx="2715840" cy="1685520"/>
            </a:xfrm>
          </p:grpSpPr>
          <p:sp>
            <p:nvSpPr>
              <p:cNvPr id="118" name=""/>
              <p:cNvSpPr/>
              <p:nvPr/>
            </p:nvSpPr>
            <p:spPr>
              <a:xfrm>
                <a:off x="6774480" y="31068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036400" y="1917000"/>
                <a:ext cx="2498400" cy="1586520"/>
                <a:chOff x="5036400" y="1917000"/>
                <a:chExt cx="2498400" cy="1586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253480" y="24624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036400" y="19170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57040" y="21650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33640" y="3007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7860960" y="1817640"/>
              <a:ext cx="977760" cy="2677320"/>
              <a:chOff x="7860960" y="1817640"/>
              <a:chExt cx="977760" cy="267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349840" y="36025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60960" y="22636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60960" y="3156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60960" y="40489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49840" y="27100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49840" y="18176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134520" y="1371600"/>
              <a:ext cx="5703840" cy="446040"/>
              <a:chOff x="3134520" y="1371600"/>
              <a:chExt cx="5703840" cy="44604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452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8524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0988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6060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12280" y="1569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6336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8800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134520" y="4049280"/>
              <a:ext cx="4725720" cy="446040"/>
              <a:chOff x="3134520" y="4049280"/>
              <a:chExt cx="4725720" cy="44604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5796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112280" y="4296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8560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263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2800" y="40492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452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71800" y="1966680"/>
              <a:ext cx="2553120" cy="1685520"/>
              <a:chOff x="2971800" y="1966680"/>
              <a:chExt cx="2553120" cy="1685520"/>
            </a:xfrm>
          </p:grpSpPr>
          <p:sp>
            <p:nvSpPr>
              <p:cNvPr id="147" name=""/>
              <p:cNvSpPr/>
              <p:nvPr/>
            </p:nvSpPr>
            <p:spPr>
              <a:xfrm>
                <a:off x="3949560" y="19666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97600" y="3057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2640" y="26110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23630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47160" y="3156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380880" y="1371600"/>
            <a:ext cx="25146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ous applications are used, and later reused, during the OE component assembly and test proce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676520"/>
            <a:ext cx="533520" cy="236196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B9A-1108-45DD-8602-AE801FCC485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2590920"/>
            <a:ext cx="4648320" cy="2057400"/>
          </a:xfrm>
          <a:prstGeom prst="rect">
            <a:avLst/>
          </a:prstGeom>
          <a:solidFill>
            <a:srgbClr val="b8ed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971800" y="2057400"/>
            <a:ext cx="5866920" cy="3123720"/>
            <a:chOff x="2971800" y="2057400"/>
            <a:chExt cx="5866920" cy="3123720"/>
          </a:xfrm>
        </p:grpSpPr>
        <p:grpSp>
          <p:nvGrpSpPr>
            <p:cNvPr id="156" name=""/>
            <p:cNvGrpSpPr/>
            <p:nvPr/>
          </p:nvGrpSpPr>
          <p:grpSpPr>
            <a:xfrm>
              <a:off x="5036400" y="2602800"/>
              <a:ext cx="2715840" cy="1685520"/>
              <a:chOff x="5036400" y="2602800"/>
              <a:chExt cx="2715840" cy="1685520"/>
            </a:xfrm>
          </p:grpSpPr>
          <p:sp>
            <p:nvSpPr>
              <p:cNvPr id="157" name=""/>
              <p:cNvSpPr/>
              <p:nvPr/>
            </p:nvSpPr>
            <p:spPr>
              <a:xfrm>
                <a:off x="6774480" y="37926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036400" y="2602800"/>
                <a:ext cx="2498400" cy="1586520"/>
                <a:chOff x="5036400" y="2602800"/>
                <a:chExt cx="2498400" cy="158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253480" y="31482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36400" y="2602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57040" y="28508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33640" y="36936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860960" y="2503440"/>
              <a:ext cx="977760" cy="2677320"/>
              <a:chOff x="7860960" y="2503440"/>
              <a:chExt cx="977760" cy="2677320"/>
            </a:xfrm>
          </p:grpSpPr>
          <p:sp>
            <p:nvSpPr>
              <p:cNvPr id="164" name=""/>
              <p:cNvSpPr/>
              <p:nvPr/>
            </p:nvSpPr>
            <p:spPr>
              <a:xfrm>
                <a:off x="8349840" y="42883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60960" y="2949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60960" y="3842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60960" y="47347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49840" y="33958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49840" y="25034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134520" y="2057400"/>
              <a:ext cx="5703840" cy="446040"/>
              <a:chOff x="3134520" y="2057400"/>
              <a:chExt cx="5703840" cy="446040"/>
            </a:xfrm>
          </p:grpSpPr>
          <p:sp>
            <p:nvSpPr>
              <p:cNvPr id="171" name=""/>
              <p:cNvSpPr/>
              <p:nvPr/>
            </p:nvSpPr>
            <p:spPr>
              <a:xfrm>
                <a:off x="313452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8524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0988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6060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12280" y="2255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6336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8800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134520" y="4735080"/>
              <a:ext cx="4725720" cy="446040"/>
              <a:chOff x="3134520" y="4735080"/>
              <a:chExt cx="4725720" cy="44604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5796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112280" y="4982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8560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263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92800" y="47350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3452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71800" y="2652480"/>
              <a:ext cx="2553120" cy="1685520"/>
              <a:chOff x="2971800" y="2652480"/>
              <a:chExt cx="2553120" cy="1685520"/>
            </a:xfrm>
          </p:grpSpPr>
          <p:sp>
            <p:nvSpPr>
              <p:cNvPr id="186" name=""/>
              <p:cNvSpPr/>
              <p:nvPr/>
            </p:nvSpPr>
            <p:spPr>
              <a:xfrm>
                <a:off x="3949560" y="2652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97600" y="37432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12640" y="32968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71800" y="30488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7160" y="38422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581280"/>
            <a:ext cx="44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371600"/>
            <a:ext cx="7848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mated OE component assembly and test solution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68B-80E6-4C5A-B5EA-4CD2C1F2892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5680" y="209160"/>
            <a:ext cx="77706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81040" y="1393920"/>
            <a:ext cx="3381480" cy="4732200"/>
            <a:chOff x="581040" y="1393920"/>
            <a:chExt cx="3381480" cy="4732200"/>
          </a:xfrm>
        </p:grpSpPr>
        <p:sp>
          <p:nvSpPr>
            <p:cNvPr id="203" name=""/>
            <p:cNvSpPr/>
            <p:nvPr/>
          </p:nvSpPr>
          <p:spPr>
            <a:xfrm>
              <a:off x="609480" y="2367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3129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480" y="3886200"/>
              <a:ext cx="335304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4653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5415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09480" y="1393920"/>
              <a:ext cx="3351960" cy="767520"/>
              <a:chOff x="609480" y="1393920"/>
              <a:chExt cx="3351960" cy="767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09480" y="139392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200" y="17776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05560" y="139392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3640" y="177768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81040" y="144792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A76-774D-436C-8503-B53F3C21E96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31840" y="1295280"/>
            <a:ext cx="3376080" cy="4732200"/>
            <a:chOff x="231840" y="1295280"/>
            <a:chExt cx="3376080" cy="4732200"/>
          </a:xfrm>
        </p:grpSpPr>
        <p:sp>
          <p:nvSpPr>
            <p:cNvPr id="217" name=""/>
            <p:cNvSpPr/>
            <p:nvPr/>
          </p:nvSpPr>
          <p:spPr>
            <a:xfrm>
              <a:off x="255240" y="2268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240" y="3030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240" y="3787560"/>
              <a:ext cx="335268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240" y="4554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240" y="5316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55240" y="1295280"/>
              <a:ext cx="3351240" cy="767520"/>
              <a:chOff x="255240" y="1295280"/>
              <a:chExt cx="3351240" cy="767520"/>
            </a:xfrm>
          </p:grpSpPr>
          <p:sp>
            <p:nvSpPr>
              <p:cNvPr id="223" name=""/>
              <p:cNvSpPr/>
              <p:nvPr/>
            </p:nvSpPr>
            <p:spPr>
              <a:xfrm>
                <a:off x="255240" y="12952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92960" y="167904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51320" y="129528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9040" y="167904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31840" y="1349280"/>
              <a:ext cx="1112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iber Al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962520" y="24210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Stand, DIAdem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2193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alignment, fiber inspection, component characterization, optical power measurement, beam profiling, and m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8098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olkits, Measurement &amp; Automation Explorer, and instrument dri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5720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cquisition, vision, motion, GPIB,  and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486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XI and PCI controllers and chas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VIEW, Measurement Studio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68400" y="1752480"/>
            <a:ext cx="586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5160" y="1752480"/>
            <a:ext cx="113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omp Ch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71600"/>
            <a:ext cx="1413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ber In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9AF-1400-4AE5-9F0C-CA8A56187BA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668-0D04-4ED4-920E-B84B88F5B2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9B2-88DE-40A7-8256-4A770B7D6D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Kate Harwood</cp:lastModifiedBy>
  <cp:lastPrinted>2000-11-01T02:35:38Z</cp:lastPrinted>
  <dcterms:modified xsi:type="dcterms:W3CDTF">2002-02-14T16:34:23Z</dcterms:modified>
  <cp:revision>308</cp:revision>
  <dc:subject/>
  <dc:title>Corning Seminar</dc:title>
</cp:coreProperties>
</file>