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6CF-EDDF-4550-A01B-3B892E20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D1E-157C-4CB4-94D9-719E17A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435-5C89-42D5-BB45-E786E910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1EB-694B-4DC1-9B09-53A12852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112-D9D4-42E1-8BC5-B2A91CC6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57E-CBA2-495F-933F-7E714E7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C8CF-4369-4254-9F74-799D6A1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B68C-BD0C-4154-8FB7-670E4C1D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536-9FA5-48D8-AD9E-34CE09F2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61A5-CDD0-4F83-A17F-4EC250F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7D37-A239-45E5-BF54-DC38470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93D-B853-4893-B636-8CA1C73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D9F3-3ACB-41BF-AD45-BE09B98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EEDD-F12C-402E-BA4C-33E46AA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6DF-1636-4E7C-ABD2-9A86B1C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2C29-9182-4D50-AAEE-212AF89F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196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9680" y="16416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424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196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9680" y="3731400"/>
            <a:ext cx="25117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E4F1-D426-47DF-923E-E25D40C2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1C2-3C8A-4274-B421-05B2A7A7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7CE-9BA3-481C-B5DB-0DFC1B2B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939-D9BD-4F22-ACBE-15FD3B6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5680" y="380880"/>
            <a:ext cx="7770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856-76C2-4C02-BD59-503C1404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5A2-6F69-49ED-8CC7-9F2774B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7314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328-25F2-4E53-8087-B61A901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41600"/>
            <a:ext cx="380664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731400"/>
            <a:ext cx="78012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9E4-BD7B-4243-8614-C17982D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037-9B38-477A-8B12-D6D31004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14240" y="1641600"/>
            <a:ext cx="78012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93720" indent="-285480">
              <a:spcBef>
                <a:spcPts val="15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0920" indent="-342720">
              <a:spcBef>
                <a:spcPts val="150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280" y="1066680"/>
            <a:ext cx="77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F77C-F7E4-4483-92E2-89AA957BA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817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1001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08240" algn="ctr">
              <a:spcBef>
                <a:spcPts val="876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708200" algn="ctr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708200">
              <a:spcBef>
                <a:spcPts val="349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ommunications@ni.com" TargetMode="External"/><Relationship Id="rId3" Type="http://schemas.openxmlformats.org/officeDocument/2006/relationships/hyperlink" Target="http://www.ni.com/communication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438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ational Instruments Optoelectronic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ion Platfor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4C5F-D846-454E-9638-2728587443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5680" y="392040"/>
            <a:ext cx="77706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 Benefits</a:t>
            </a:r>
            <a:endParaRPr b="1" lang="en-US" sz="3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52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-in-class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hangeable subsys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19720" y="1641600"/>
            <a:ext cx="4572000" cy="19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&amp;D to produ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and accurac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able and rel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82960"/>
            <a:ext cx="412884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cal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882960"/>
            <a:ext cx="45720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ble suppl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ienced ‘domain savvy’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E5C-9E90-43A0-A61D-190536393A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604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2057400"/>
            <a:ext cx="1371600" cy="4114800"/>
            <a:chOff x="7238880" y="2057400"/>
            <a:chExt cx="1371600" cy="4114800"/>
          </a:xfrm>
        </p:grpSpPr>
        <p:sp>
          <p:nvSpPr>
            <p:cNvPr id="92" name=""/>
            <p:cNvSpPr/>
            <p:nvPr/>
          </p:nvSpPr>
          <p:spPr>
            <a:xfrm>
              <a:off x="7924680" y="48006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27432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41148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u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4680" y="34290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4680" y="20574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9480" y="1371600"/>
            <a:ext cx="8001000" cy="685800"/>
            <a:chOff x="609480" y="1371600"/>
            <a:chExt cx="8001000" cy="685800"/>
          </a:xfrm>
        </p:grpSpPr>
        <p:sp>
          <p:nvSpPr>
            <p:cNvPr id="99" name=""/>
            <p:cNvSpPr/>
            <p:nvPr/>
          </p:nvSpPr>
          <p:spPr>
            <a:xfrm>
              <a:off x="6094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Se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Bon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Pr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952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Ori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&amp; Insp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8880" y="13716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ars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167652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1676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5486400"/>
            <a:ext cx="6629400" cy="685800"/>
            <a:chOff x="609480" y="5486400"/>
            <a:chExt cx="6629400" cy="685800"/>
          </a:xfrm>
        </p:grpSpPr>
        <p:sp>
          <p:nvSpPr>
            <p:cNvPr id="107" name=""/>
            <p:cNvSpPr/>
            <p:nvPr/>
          </p:nvSpPr>
          <p:spPr>
            <a:xfrm flipH="1">
              <a:off x="43434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0720" y="5867280"/>
              <a:ext cx="838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2920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Fi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Insp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400800" y="586728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5486400"/>
              <a:ext cx="18288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Characteriz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5486400"/>
              <a:ext cx="1371600" cy="6858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Un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ypical OE Component Proces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4240" y="2362320"/>
            <a:ext cx="78012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E processes involve standard steps     and have similar goal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yiel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frequent proces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production efficien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process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720-414C-4706-A5C9-59FDD21954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6040" y="458640"/>
            <a:ext cx="777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pplications in the OE Compon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71800" y="1371600"/>
            <a:ext cx="5866920" cy="3123720"/>
            <a:chOff x="2971800" y="1371600"/>
            <a:chExt cx="5866920" cy="3123720"/>
          </a:xfrm>
        </p:grpSpPr>
        <p:grpSp>
          <p:nvGrpSpPr>
            <p:cNvPr id="117" name=""/>
            <p:cNvGrpSpPr/>
            <p:nvPr/>
          </p:nvGrpSpPr>
          <p:grpSpPr>
            <a:xfrm>
              <a:off x="5036400" y="1917000"/>
              <a:ext cx="2715840" cy="1685520"/>
              <a:chOff x="5036400" y="1917000"/>
              <a:chExt cx="2715840" cy="1685520"/>
            </a:xfrm>
          </p:grpSpPr>
          <p:sp>
            <p:nvSpPr>
              <p:cNvPr id="118" name=""/>
              <p:cNvSpPr/>
              <p:nvPr/>
            </p:nvSpPr>
            <p:spPr>
              <a:xfrm>
                <a:off x="6774480" y="31068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036400" y="1917000"/>
                <a:ext cx="2498400" cy="1586520"/>
                <a:chOff x="5036400" y="1917000"/>
                <a:chExt cx="2498400" cy="1586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253480" y="24624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036400" y="19170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57040" y="21650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33640" y="3007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7860960" y="1817640"/>
              <a:ext cx="977760" cy="2677320"/>
              <a:chOff x="7860960" y="1817640"/>
              <a:chExt cx="977760" cy="267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349840" y="36025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60960" y="22636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60960" y="3156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60960" y="40489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49840" y="27100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49840" y="18176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134520" y="1371600"/>
              <a:ext cx="5703840" cy="446040"/>
              <a:chOff x="3134520" y="1371600"/>
              <a:chExt cx="5703840" cy="446040"/>
            </a:xfrm>
          </p:grpSpPr>
          <p:sp>
            <p:nvSpPr>
              <p:cNvPr id="132" name=""/>
              <p:cNvSpPr/>
              <p:nvPr/>
            </p:nvSpPr>
            <p:spPr>
              <a:xfrm>
                <a:off x="313452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8524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0988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60600" y="13716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12280" y="1569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6336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88000" y="1569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134520" y="4049280"/>
              <a:ext cx="4725720" cy="446040"/>
              <a:chOff x="3134520" y="4049280"/>
              <a:chExt cx="4725720" cy="44604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5796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112280" y="42969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8560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263000" y="42969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2800" y="40492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34520" y="4049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71800" y="1966680"/>
              <a:ext cx="2553120" cy="1685520"/>
              <a:chOff x="2971800" y="1966680"/>
              <a:chExt cx="2553120" cy="1685520"/>
            </a:xfrm>
          </p:grpSpPr>
          <p:sp>
            <p:nvSpPr>
              <p:cNvPr id="147" name=""/>
              <p:cNvSpPr/>
              <p:nvPr/>
            </p:nvSpPr>
            <p:spPr>
              <a:xfrm>
                <a:off x="3949560" y="19666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97600" y="30574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2640" y="26110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23630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47160" y="3156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380880" y="1371600"/>
            <a:ext cx="25146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ous applications are used, and later reused, during the OE component assembly and test proce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676520"/>
            <a:ext cx="533520" cy="2361960"/>
          </a:xfrm>
          <a:custGeom>
            <a:avLst/>
            <a:gdLst>
              <a:gd name="textAreaLeft" fmla="*/ 0 w 533520"/>
              <a:gd name="textAreaRight" fmla="*/ 19260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0C7-C25B-4DC9-8850-EBB97501B51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2590920"/>
            <a:ext cx="4648320" cy="2057400"/>
          </a:xfrm>
          <a:prstGeom prst="rect">
            <a:avLst/>
          </a:prstGeom>
          <a:solidFill>
            <a:srgbClr val="b8ed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971800" y="2057400"/>
            <a:ext cx="5866920" cy="3123720"/>
            <a:chOff x="2971800" y="2057400"/>
            <a:chExt cx="5866920" cy="3123720"/>
          </a:xfrm>
        </p:grpSpPr>
        <p:grpSp>
          <p:nvGrpSpPr>
            <p:cNvPr id="156" name=""/>
            <p:cNvGrpSpPr/>
            <p:nvPr/>
          </p:nvGrpSpPr>
          <p:grpSpPr>
            <a:xfrm>
              <a:off x="5036400" y="2602800"/>
              <a:ext cx="2715840" cy="1685520"/>
              <a:chOff x="5036400" y="2602800"/>
              <a:chExt cx="2715840" cy="1685520"/>
            </a:xfrm>
          </p:grpSpPr>
          <p:sp>
            <p:nvSpPr>
              <p:cNvPr id="157" name=""/>
              <p:cNvSpPr/>
              <p:nvPr/>
            </p:nvSpPr>
            <p:spPr>
              <a:xfrm>
                <a:off x="6774480" y="379260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o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036400" y="2602800"/>
                <a:ext cx="2498400" cy="1586520"/>
                <a:chOff x="5036400" y="2602800"/>
                <a:chExt cx="2498400" cy="158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253480" y="31482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lign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36400" y="26028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iber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spec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57040" y="285084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ea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ract.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633640" y="3693600"/>
                  <a:ext cx="97776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easur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860960" y="2503440"/>
              <a:ext cx="977760" cy="2677320"/>
              <a:chOff x="7860960" y="2503440"/>
              <a:chExt cx="977760" cy="2677320"/>
            </a:xfrm>
          </p:grpSpPr>
          <p:sp>
            <p:nvSpPr>
              <p:cNvPr id="164" name=""/>
              <p:cNvSpPr/>
              <p:nvPr/>
            </p:nvSpPr>
            <p:spPr>
              <a:xfrm>
                <a:off x="8349840" y="428832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60960" y="29494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60960" y="38422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60960" y="473472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ur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49840" y="339588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49840" y="2503440"/>
                <a:ext cx="0" cy="446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134520" y="2057400"/>
              <a:ext cx="5703840" cy="446040"/>
              <a:chOff x="3134520" y="2057400"/>
              <a:chExt cx="5703840" cy="446040"/>
            </a:xfrm>
          </p:grpSpPr>
          <p:sp>
            <p:nvSpPr>
              <p:cNvPr id="171" name=""/>
              <p:cNvSpPr/>
              <p:nvPr/>
            </p:nvSpPr>
            <p:spPr>
              <a:xfrm>
                <a:off x="313452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Setu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8524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Pr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0988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Orient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&amp; Inspec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60600" y="205740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ar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Align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12280" y="2255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6336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88000" y="2255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134520" y="4735080"/>
              <a:ext cx="4725720" cy="446040"/>
              <a:chOff x="3134520" y="4735080"/>
              <a:chExt cx="4725720" cy="44604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5796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112280" y="4982760"/>
                <a:ext cx="597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8560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Fin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Inspe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263000" y="4982760"/>
                <a:ext cx="59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92800" y="4735080"/>
                <a:ext cx="13035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ompon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Characte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34520" y="4735080"/>
                <a:ext cx="977760" cy="4460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81d58"/>
                    </a:solidFill>
                    <a:latin typeface="Arial"/>
                  </a:rPr>
                  <a:t>Unloa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71800" y="2652480"/>
              <a:ext cx="2553120" cy="1685520"/>
              <a:chOff x="2971800" y="2652480"/>
              <a:chExt cx="2553120" cy="1685520"/>
            </a:xfrm>
          </p:grpSpPr>
          <p:sp>
            <p:nvSpPr>
              <p:cNvPr id="186" name=""/>
              <p:cNvSpPr/>
              <p:nvPr/>
            </p:nvSpPr>
            <p:spPr>
              <a:xfrm>
                <a:off x="3949560" y="26524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rn-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97600" y="37432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12640" y="3296880"/>
                <a:ext cx="977760" cy="49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lariz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71800" y="304884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viron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47160" y="3842280"/>
                <a:ext cx="977760" cy="49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y more!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457200" y="334800"/>
            <a:ext cx="750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he NI OE Automation Plat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3657600"/>
            <a:ext cx="4191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3581280"/>
            <a:ext cx="441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I OE Automation Plat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259092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numerous applications on a flexible, scalable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easy to integrate functionality as the process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s ‘best in class’ subsystems sele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371600"/>
            <a:ext cx="7848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mated OE component assembly and test solution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6A0-7D4D-4F86-8DC9-91F1C0A0002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5680" y="209160"/>
            <a:ext cx="77706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utomation Platform Architectur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46876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fers PXI and PCI processing power with synchronization and trigg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42100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ordinates activities in complex test systems and manages resources and te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230640"/>
            <a:ext cx="4876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s acquisition, analysis, and  presentation for measurement and autom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4707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modular I/O hardware for DAQ, vision, motion, signal conditioning, switching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992400"/>
            <a:ext cx="464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es and controls hardware I/O devices via standard and application-specific toolse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81040" y="1393920"/>
            <a:ext cx="3381480" cy="4732200"/>
            <a:chOff x="581040" y="1393920"/>
            <a:chExt cx="3381480" cy="4732200"/>
          </a:xfrm>
        </p:grpSpPr>
        <p:sp>
          <p:nvSpPr>
            <p:cNvPr id="203" name=""/>
            <p:cNvSpPr/>
            <p:nvPr/>
          </p:nvSpPr>
          <p:spPr>
            <a:xfrm>
              <a:off x="609480" y="2367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3129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480" y="3886200"/>
              <a:ext cx="335304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465300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5415120"/>
              <a:ext cx="3353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09480" y="1393920"/>
              <a:ext cx="3351960" cy="767520"/>
              <a:chOff x="609480" y="1393920"/>
              <a:chExt cx="3351960" cy="767520"/>
            </a:xfrm>
          </p:grpSpPr>
          <p:sp>
            <p:nvSpPr>
              <p:cNvPr id="209" name=""/>
              <p:cNvSpPr/>
              <p:nvPr/>
            </p:nvSpPr>
            <p:spPr>
              <a:xfrm>
                <a:off x="609480" y="139392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200" y="17776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05560" y="139392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3640" y="1777680"/>
                <a:ext cx="111780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81040" y="144792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886200" y="14986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s optoelectronic applications requiring automation, measurement and optical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6C8-B733-4626-A812-87C25D1D647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16040" y="381600"/>
            <a:ext cx="77706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Platform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31840" y="1295280"/>
            <a:ext cx="3376080" cy="4732200"/>
            <a:chOff x="231840" y="1295280"/>
            <a:chExt cx="3376080" cy="4732200"/>
          </a:xfrm>
        </p:grpSpPr>
        <p:sp>
          <p:nvSpPr>
            <p:cNvPr id="217" name=""/>
            <p:cNvSpPr/>
            <p:nvPr/>
          </p:nvSpPr>
          <p:spPr>
            <a:xfrm>
              <a:off x="255240" y="2268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ystem 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240" y="3030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Application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240" y="3787560"/>
              <a:ext cx="335268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5240" y="455436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240" y="5316480"/>
              <a:ext cx="335268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omputer Platfo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55240" y="1295280"/>
              <a:ext cx="3351240" cy="767520"/>
              <a:chOff x="255240" y="1295280"/>
              <a:chExt cx="3351240" cy="767520"/>
            </a:xfrm>
          </p:grpSpPr>
          <p:sp>
            <p:nvSpPr>
              <p:cNvPr id="223" name=""/>
              <p:cNvSpPr/>
              <p:nvPr/>
            </p:nvSpPr>
            <p:spPr>
              <a:xfrm>
                <a:off x="255240" y="129528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92960" y="1679040"/>
                <a:ext cx="111636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51320" y="129528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9040" y="1679040"/>
                <a:ext cx="1117440" cy="38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231840" y="1349280"/>
              <a:ext cx="1112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iber Al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962520" y="24210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Stand, DIAdem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12193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alignment, fiber inspection, component characterization, optical power measurement, beam profiling, and m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8098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olkits, Measurement &amp; Automation Explorer, and instrument dri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5720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cquisition, vision, motion, GPIB,  and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4864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XI and PCI controllers and chas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VIEW, Measurement Studio, 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68400" y="1752480"/>
            <a:ext cx="586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P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5160" y="1752480"/>
            <a:ext cx="113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omp Ch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71600"/>
            <a:ext cx="1413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ber In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D8C-F3D5-4732-8F17-4336D80F936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353520"/>
            <a:ext cx="7848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NI OE Automation Platform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emier Applicat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008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Al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speed and quality by synchronizing vision, motions and DA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er Beam Character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 accuracy by implementing NI software as part of your beam characterization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Inspection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manual manufacturing processes by integrating machine vision and motion control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cal Power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 and test your units in a fraction of the time using NI DAQ ad softwar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E81-75EB-42D0-B689-87FABC8CE6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5680" y="380880"/>
            <a:ext cx="7770600" cy="6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NI OE Automation Platform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4240" y="1447920"/>
            <a:ext cx="78012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component assembly and test, provi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a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ex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s multiple ap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more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im Balent, Business Development Manag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12/ 683-569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93760" indent="-336600">
              <a:spcBef>
                <a:spcPts val="876"/>
              </a:spcBef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im.balent@n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2"/>
              </a:rPr>
              <a:t>Communications@ni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49fff"/>
                </a:solidFill>
                <a:uFillTx/>
                <a:latin typeface="Arial"/>
                <a:hlinkClick r:id="rId3"/>
              </a:rPr>
              <a:t>www.ni.com/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447920"/>
            <a:ext cx="4952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 precision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-effectiv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B8D-2B98-4B90-A8AA-90701D1547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i.com/communication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6:35:20Z</dcterms:created>
  <dc:creator>Alex McCarthy &amp; Armando Valim</dc:creator>
  <dc:description/>
  <dc:language>en-US</dc:language>
  <cp:lastModifiedBy>Kate Harwood</cp:lastModifiedBy>
  <cp:lastPrinted>2000-11-01T02:35:38Z</cp:lastPrinted>
  <dcterms:modified xsi:type="dcterms:W3CDTF">2002-02-14T16:34:23Z</dcterms:modified>
  <cp:revision>308</cp:revision>
  <dc:subject/>
  <dc:title>Corning Seminar</dc:title>
</cp:coreProperties>
</file>