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638-660C-41EE-BAC8-0C7759F5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7BA-449D-4F9D-A888-D3094A5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E98-5987-40C1-A64D-3887B5F8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412-4C72-4F9D-8E83-53F9AD35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5FFA-5DB1-4B61-93F1-6A25BF18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E7B5-B06A-48C6-A51C-7527130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5C7A-FA38-4CCB-B9D7-6DA63F7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69EB-0800-4D05-BF9E-758427C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1872-440E-4F83-AA84-ED9C15EF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8E7-D931-4F4B-BB2E-95FCBAE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E13-4B8E-4AF2-ADD6-DCDE255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6E4-2405-466E-8E72-F6FADC60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D165-A576-4AB0-BAB2-CB94F782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1C3E-1F83-4FDF-9143-E4DC9F1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D34-D3AF-4031-B156-4F344F02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24B-59B0-4B19-BFE6-5A307193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9C5D-83B5-4ECE-A949-20972CE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FF5-936D-4426-BF7F-1F68605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F9F-8AC6-4FA8-9D30-E3B2405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BFD-4DFA-4E98-80B1-4DF9590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69B-0120-401F-8D5F-25A878C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F16-EF73-4B4B-8BAE-72BB71A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871-8D71-444A-B5EE-D600B00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419-98CF-4A52-A7F2-C1BF0D0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02D2-E655-40A2-9650-5EBD434D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3720" indent="-28548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1066680"/>
            <a:ext cx="77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7342-87FA-432E-B5B7-770D3BB6A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817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1001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08240" algn="ctr">
              <a:spcBef>
                <a:spcPts val="876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708200" algn="ctr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munications@ni.com" TargetMode="External"/><Relationship Id="rId3" Type="http://schemas.openxmlformats.org/officeDocument/2006/relationships/hyperlink" Target="http://www.ni.com/communication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ational Instruments Optoelectronic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ion Platfor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6FD1-1856-4207-8F2A-F04AB8A905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5680" y="392040"/>
            <a:ext cx="77706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 Benefits</a:t>
            </a:r>
            <a:endParaRPr b="1" lang="en-US" sz="3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52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-in-class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hangeable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19720" y="1641600"/>
            <a:ext cx="457200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&amp;D to p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and accur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able and rel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82960"/>
            <a:ext cx="41288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cal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2960"/>
            <a:ext cx="4572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ble 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ed ‘domain savvy’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807-A754-4E82-8ECE-DCC7759FEF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8880" y="2057400"/>
            <a:ext cx="1371600" cy="4114800"/>
            <a:chOff x="7238880" y="2057400"/>
            <a:chExt cx="1371600" cy="4114800"/>
          </a:xfrm>
        </p:grpSpPr>
        <p:sp>
          <p:nvSpPr>
            <p:cNvPr id="92" name=""/>
            <p:cNvSpPr/>
            <p:nvPr/>
          </p:nvSpPr>
          <p:spPr>
            <a:xfrm>
              <a:off x="7924680" y="48006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27432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Fin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41148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u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24680" y="34290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4680" y="20574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9480" y="1371600"/>
            <a:ext cx="8001000" cy="685800"/>
            <a:chOff x="609480" y="1371600"/>
            <a:chExt cx="8001000" cy="685800"/>
          </a:xfrm>
        </p:grpSpPr>
        <p:sp>
          <p:nvSpPr>
            <p:cNvPr id="99" name=""/>
            <p:cNvSpPr/>
            <p:nvPr/>
          </p:nvSpPr>
          <p:spPr>
            <a:xfrm>
              <a:off x="60948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&amp; Se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Pr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52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Ori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&amp; Inspe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oars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167652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1676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1676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5486400"/>
            <a:ext cx="6629400" cy="685800"/>
            <a:chOff x="609480" y="5486400"/>
            <a:chExt cx="6629400" cy="685800"/>
          </a:xfrm>
        </p:grpSpPr>
        <p:sp>
          <p:nvSpPr>
            <p:cNvPr id="107" name=""/>
            <p:cNvSpPr/>
            <p:nvPr/>
          </p:nvSpPr>
          <p:spPr>
            <a:xfrm flipH="1">
              <a:off x="4343400" y="58672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0720" y="586728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Fi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Insp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400800" y="58672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5486400"/>
              <a:ext cx="18288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haracteriz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Un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2362320"/>
            <a:ext cx="78012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E processes involve standard steps     and have similar goa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y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frequent proces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production efficien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process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594-D493-45C4-8979-49AC0F0CE4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6040" y="458640"/>
            <a:ext cx="777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s in the OE Compon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71800" y="1371600"/>
            <a:ext cx="5866920" cy="3123720"/>
            <a:chOff x="2971800" y="1371600"/>
            <a:chExt cx="5866920" cy="3123720"/>
          </a:xfrm>
        </p:grpSpPr>
        <p:grpSp>
          <p:nvGrpSpPr>
            <p:cNvPr id="117" name=""/>
            <p:cNvGrpSpPr/>
            <p:nvPr/>
          </p:nvGrpSpPr>
          <p:grpSpPr>
            <a:xfrm>
              <a:off x="5036400" y="1917000"/>
              <a:ext cx="2715840" cy="1685520"/>
              <a:chOff x="5036400" y="1917000"/>
              <a:chExt cx="2715840" cy="1685520"/>
            </a:xfrm>
          </p:grpSpPr>
          <p:sp>
            <p:nvSpPr>
              <p:cNvPr id="118" name=""/>
              <p:cNvSpPr/>
              <p:nvPr/>
            </p:nvSpPr>
            <p:spPr>
              <a:xfrm>
                <a:off x="6774480" y="310680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036400" y="1917000"/>
                <a:ext cx="2498400" cy="1586520"/>
                <a:chOff x="5036400" y="1917000"/>
                <a:chExt cx="2498400" cy="15865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253480" y="24624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036400" y="19170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57040" y="216504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ract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33640" y="30078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asur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7860960" y="1817640"/>
              <a:ext cx="977760" cy="2677320"/>
              <a:chOff x="7860960" y="1817640"/>
              <a:chExt cx="977760" cy="267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349840" y="360252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860960" y="22636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60960" y="31564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60960" y="40489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49840" y="271008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49840" y="181764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134520" y="1371600"/>
              <a:ext cx="5703840" cy="446040"/>
              <a:chOff x="3134520" y="1371600"/>
              <a:chExt cx="5703840" cy="446040"/>
            </a:xfrm>
          </p:grpSpPr>
          <p:sp>
            <p:nvSpPr>
              <p:cNvPr id="132" name=""/>
              <p:cNvSpPr/>
              <p:nvPr/>
            </p:nvSpPr>
            <p:spPr>
              <a:xfrm>
                <a:off x="313452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8524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0988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6060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12280" y="15699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63360" y="1569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88000" y="1569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134520" y="4049280"/>
              <a:ext cx="4725720" cy="446040"/>
              <a:chOff x="3134520" y="4049280"/>
              <a:chExt cx="4725720" cy="44604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5796000" y="4296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112280" y="42969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85600" y="4049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263000" y="4296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2800" y="404928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34520" y="4049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71800" y="1966680"/>
              <a:ext cx="2553120" cy="1685520"/>
              <a:chOff x="2971800" y="1966680"/>
              <a:chExt cx="2553120" cy="1685520"/>
            </a:xfrm>
          </p:grpSpPr>
          <p:sp>
            <p:nvSpPr>
              <p:cNvPr id="147" name=""/>
              <p:cNvSpPr/>
              <p:nvPr/>
            </p:nvSpPr>
            <p:spPr>
              <a:xfrm>
                <a:off x="3949560" y="19666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97600" y="3057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12640" y="26110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236304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47160" y="31564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380880" y="1371600"/>
            <a:ext cx="25146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ous applications are used, and later reused, during the OE component assembly and test proce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1676520"/>
            <a:ext cx="533520" cy="236196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2F9-1C53-4441-A478-CF64FCB33ED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2590920"/>
            <a:ext cx="4648320" cy="2057400"/>
          </a:xfrm>
          <a:prstGeom prst="rect">
            <a:avLst/>
          </a:prstGeom>
          <a:solidFill>
            <a:srgbClr val="b8ed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971800" y="2057400"/>
            <a:ext cx="5866920" cy="3123720"/>
            <a:chOff x="2971800" y="2057400"/>
            <a:chExt cx="5866920" cy="3123720"/>
          </a:xfrm>
        </p:grpSpPr>
        <p:grpSp>
          <p:nvGrpSpPr>
            <p:cNvPr id="156" name=""/>
            <p:cNvGrpSpPr/>
            <p:nvPr/>
          </p:nvGrpSpPr>
          <p:grpSpPr>
            <a:xfrm>
              <a:off x="5036400" y="2602800"/>
              <a:ext cx="2715840" cy="1685520"/>
              <a:chOff x="5036400" y="2602800"/>
              <a:chExt cx="2715840" cy="1685520"/>
            </a:xfrm>
          </p:grpSpPr>
          <p:sp>
            <p:nvSpPr>
              <p:cNvPr id="157" name=""/>
              <p:cNvSpPr/>
              <p:nvPr/>
            </p:nvSpPr>
            <p:spPr>
              <a:xfrm>
                <a:off x="6774480" y="379260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036400" y="2602800"/>
                <a:ext cx="2498400" cy="1586520"/>
                <a:chOff x="5036400" y="2602800"/>
                <a:chExt cx="2498400" cy="158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253480" y="31482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36400" y="26028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57040" y="285084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ract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33640" y="36936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asur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7860960" y="2503440"/>
              <a:ext cx="977760" cy="2677320"/>
              <a:chOff x="7860960" y="2503440"/>
              <a:chExt cx="977760" cy="2677320"/>
            </a:xfrm>
          </p:grpSpPr>
          <p:sp>
            <p:nvSpPr>
              <p:cNvPr id="164" name=""/>
              <p:cNvSpPr/>
              <p:nvPr/>
            </p:nvSpPr>
            <p:spPr>
              <a:xfrm>
                <a:off x="8349840" y="428832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60960" y="29494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60960" y="3842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60960" y="47347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49840" y="339588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49840" y="250344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134520" y="2057400"/>
              <a:ext cx="5703840" cy="446040"/>
              <a:chOff x="3134520" y="2057400"/>
              <a:chExt cx="5703840" cy="446040"/>
            </a:xfrm>
          </p:grpSpPr>
          <p:sp>
            <p:nvSpPr>
              <p:cNvPr id="171" name=""/>
              <p:cNvSpPr/>
              <p:nvPr/>
            </p:nvSpPr>
            <p:spPr>
              <a:xfrm>
                <a:off x="313452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8524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0988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6060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12280" y="22557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63360" y="2255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88000" y="2255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134520" y="4735080"/>
              <a:ext cx="4725720" cy="446040"/>
              <a:chOff x="3134520" y="4735080"/>
              <a:chExt cx="4725720" cy="44604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5796000" y="4982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112280" y="49827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85600" y="47350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263000" y="4982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92800" y="473508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34520" y="47350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71800" y="2652480"/>
              <a:ext cx="2553120" cy="1685520"/>
              <a:chOff x="2971800" y="2652480"/>
              <a:chExt cx="2553120" cy="1685520"/>
            </a:xfrm>
          </p:grpSpPr>
          <p:sp>
            <p:nvSpPr>
              <p:cNvPr id="186" name=""/>
              <p:cNvSpPr/>
              <p:nvPr/>
            </p:nvSpPr>
            <p:spPr>
              <a:xfrm>
                <a:off x="3949560" y="26524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97600" y="37432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12640" y="32968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71800" y="304884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47160" y="38422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457200" y="334800"/>
            <a:ext cx="750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NI OE Automation Plat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657600"/>
            <a:ext cx="4191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581280"/>
            <a:ext cx="441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I OE Autom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057400"/>
            <a:ext cx="25909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numerous applications on a flexible, scalable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asy to integrate functionality as the process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‘best in class’ subsystems sel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371600"/>
            <a:ext cx="7848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utomated OE component assembly and test solution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FCE-FAB7-404B-B62E-335AFE7CBCE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5680" y="209160"/>
            <a:ext cx="77706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utomation Platform Architectur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46876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ers PXI and PCI processing power with synchronization and trigg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24210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es activities in complex test systems and manages resources and te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230640"/>
            <a:ext cx="4876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s acquisition, analysis, and  presentation for measurement and autom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4707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modular I/O hardware for DAQ, vision, motion, signal conditioning, switching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992400"/>
            <a:ext cx="464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es and controls hardware I/O devices via standard and application-specific toolse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81040" y="1393920"/>
            <a:ext cx="3381480" cy="4732200"/>
            <a:chOff x="581040" y="1393920"/>
            <a:chExt cx="3381480" cy="4732200"/>
          </a:xfrm>
        </p:grpSpPr>
        <p:sp>
          <p:nvSpPr>
            <p:cNvPr id="203" name=""/>
            <p:cNvSpPr/>
            <p:nvPr/>
          </p:nvSpPr>
          <p:spPr>
            <a:xfrm>
              <a:off x="609480" y="236700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312912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480" y="3886200"/>
              <a:ext cx="335304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465300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541512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09480" y="1393920"/>
              <a:ext cx="3351960" cy="767520"/>
              <a:chOff x="609480" y="1393920"/>
              <a:chExt cx="3351960" cy="767520"/>
            </a:xfrm>
          </p:grpSpPr>
          <p:sp>
            <p:nvSpPr>
              <p:cNvPr id="209" name=""/>
              <p:cNvSpPr/>
              <p:nvPr/>
            </p:nvSpPr>
            <p:spPr>
              <a:xfrm>
                <a:off x="609480" y="139392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200" y="177768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05560" y="1393920"/>
                <a:ext cx="111780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43640" y="1777680"/>
                <a:ext cx="111780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81040" y="144792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886200" y="1498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s optoelectronic applications requiring automation, measurement and optical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B71-6CEB-4AD0-BE28-65FADD40D27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latform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31840" y="1295280"/>
            <a:ext cx="3376080" cy="4732200"/>
            <a:chOff x="231840" y="1295280"/>
            <a:chExt cx="3376080" cy="4732200"/>
          </a:xfrm>
        </p:grpSpPr>
        <p:sp>
          <p:nvSpPr>
            <p:cNvPr id="217" name=""/>
            <p:cNvSpPr/>
            <p:nvPr/>
          </p:nvSpPr>
          <p:spPr>
            <a:xfrm>
              <a:off x="255240" y="226836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240" y="303048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240" y="3787560"/>
              <a:ext cx="335268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240" y="455436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240" y="531648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55240" y="1295280"/>
              <a:ext cx="3351240" cy="767520"/>
              <a:chOff x="255240" y="1295280"/>
              <a:chExt cx="3351240" cy="767520"/>
            </a:xfrm>
          </p:grpSpPr>
          <p:sp>
            <p:nvSpPr>
              <p:cNvPr id="223" name=""/>
              <p:cNvSpPr/>
              <p:nvPr/>
            </p:nvSpPr>
            <p:spPr>
              <a:xfrm>
                <a:off x="255240" y="129528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92960" y="167904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51320" y="1295280"/>
                <a:ext cx="111744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9040" y="1679040"/>
                <a:ext cx="111744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31840" y="1349280"/>
              <a:ext cx="1112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iber Alig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962520" y="24210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Stand, DIAdem,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2193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alignment, fiber inspection, component characterization, optical power measurement, beam profiling, and m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8098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olkits, Measurement &amp; Automation Explorer, and instrument dri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5720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cquisition, vision, motion, GPIB,  and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4864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XI and PCI controllers and chas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VIEW, Measurement Studio,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68400" y="1752480"/>
            <a:ext cx="586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5160" y="1752480"/>
            <a:ext cx="113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omp Ch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371600"/>
            <a:ext cx="1413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ber In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EA4-A24B-4222-8694-A1D3CAF272C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353520"/>
            <a:ext cx="7848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emier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008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speed and quality by synchronizing vision, motions and DA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er Beam Character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accuracy by implementing NI software as part of your beam characteriza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Inspection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manual manufacturing processes by integrating machine vision and motion control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cal Power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and test your units in a fraction of the time using NI DAQ ad softwar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48A-6D11-4E0B-ADE4-EC68DC9204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 OE Automation Platform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4240" y="1447920"/>
            <a:ext cx="78012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component assembly and test, provi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a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s multiple ap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more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m Balent, Business Develop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12/ 683-569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im.balent@n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2"/>
              </a:rPr>
              <a:t>Communications@ni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3"/>
              </a:rPr>
              <a:t>www.ni.com/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447920"/>
            <a:ext cx="4952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-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AE3-BC03-4F4C-9D90-F9161EBFF8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6:35:20Z</dcterms:created>
  <dc:creator>Alex McCarthy &amp; Armando Valim</dc:creator>
  <dc:description/>
  <dc:language>en-US</dc:language>
  <cp:lastModifiedBy>Kate Harwood</cp:lastModifiedBy>
  <cp:lastPrinted>2000-11-01T02:35:38Z</cp:lastPrinted>
  <dcterms:modified xsi:type="dcterms:W3CDTF">2002-02-14T16:34:23Z</dcterms:modified>
  <cp:revision>308</cp:revision>
  <dc:subject/>
  <dc:title>Corning Seminar</dc:title>
</cp:coreProperties>
</file>