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3F3A-A999-474E-A06F-9D4BAEAC4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78012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4240" y="3731400"/>
            <a:ext cx="78012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5602-8405-4577-8112-6E73F103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424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168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7BE4-CFF2-4FFF-96A4-1004CBE51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1960" y="16416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9680" y="16416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4240" y="37314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1960" y="37314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9680" y="37314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CED9-5E23-4189-8721-D71167CEC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721E-E389-4469-B1A1-AE249C11A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4240" y="1641600"/>
            <a:ext cx="78012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2A97-D3BF-468D-8691-FA86F1C1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78012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DA23-2D81-4382-9370-EA81E7D7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1314-5887-4FAA-84BA-9A24B25A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8968-4D0D-46CF-8F64-2F70782F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15680" y="380880"/>
            <a:ext cx="7770600" cy="31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118C-6B4F-4312-9595-B83292FC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424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280A-B656-40FA-9AD1-9A8258DD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4240" y="1641600"/>
            <a:ext cx="78012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0CE3-57AB-4610-B0A4-6B75CB88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168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EA5F-03DD-47D6-8BAC-E70B3760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4240" y="3731400"/>
            <a:ext cx="78012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43EA-137C-4DD9-B94F-E0954979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78012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4240" y="3731400"/>
            <a:ext cx="78012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4555-9E65-4C1F-AFCC-0D9B51FC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424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168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3848-F45B-405A-9238-63A26B21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51960" y="16416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9680" y="16416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14240" y="37314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51960" y="37314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9680" y="37314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DE38-5969-4F58-9E97-3871EB09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78012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DC5E-8C19-4C53-B0DD-DD573BBB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D518-7361-4140-BB7F-75F53FF6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A6DF-81BC-4764-A8B8-67CED1C1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5680" y="380880"/>
            <a:ext cx="7770600" cy="31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814B-9AA2-4B16-B88E-CB9F2057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424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EE87-3C8A-4350-9103-FFB43129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168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CB93-7E6B-4BA2-B989-1785CD88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4240" y="3731400"/>
            <a:ext cx="78012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9AB2-0353-4584-A939-A6AF6E16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EB6F-92EE-45BA-A85A-4658BA316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14240" y="1641600"/>
            <a:ext cx="78012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3760" indent="-336600">
              <a:spcBef>
                <a:spcPts val="150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93720" indent="-285480">
              <a:spcBef>
                <a:spcPts val="1500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0920" indent="-342720">
              <a:spcBef>
                <a:spcPts val="150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0920" indent="-342720">
              <a:spcBef>
                <a:spcPts val="150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0920" indent="-342720">
              <a:spcBef>
                <a:spcPts val="150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19280" y="1066680"/>
            <a:ext cx="77072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C1BF-B05E-4B78-ADB2-69BD32E08E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5800" y="2817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algn="ctr">
              <a:spcBef>
                <a:spcPts val="1001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08240" algn="ctr">
              <a:spcBef>
                <a:spcPts val="876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708200" algn="ctr">
              <a:spcBef>
                <a:spcPts val="876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1708200">
              <a:spcBef>
                <a:spcPts val="349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1708200">
              <a:spcBef>
                <a:spcPts val="349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Communications@ni.com" TargetMode="External"/><Relationship Id="rId3" Type="http://schemas.openxmlformats.org/officeDocument/2006/relationships/hyperlink" Target="http://www.ni.com/communications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243828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National Instruments Optoelectronics 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Automation Platfor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B486-4715-4C12-9F28-D6D94201195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5680" y="392040"/>
            <a:ext cx="7770600" cy="6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Arial"/>
              </a:rPr>
              <a:t>NI OE Automation Platform Benefits</a:t>
            </a:r>
            <a:endParaRPr b="1" lang="en-US" sz="35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052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exibi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st-in-class subsyste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n standar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changeable subsyste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19720" y="1641600"/>
            <a:ext cx="4572000" cy="19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alabi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&amp;D to produc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gh precision and accurac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eatable and relia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3882960"/>
            <a:ext cx="4128840" cy="22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g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o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asur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tical Instrum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3882960"/>
            <a:ext cx="457200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ble suppli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erienced ‘domain savvy’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st effective solu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3E07-2830-4CCB-AC26-3D5D70A6D02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1604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ypical OE Component Proces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04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381600"/>
            <a:ext cx="77706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ypical OE Component Proc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363840" y="2362320"/>
            <a:ext cx="5703840" cy="3124080"/>
            <a:chOff x="3363840" y="2362320"/>
            <a:chExt cx="5703840" cy="3124080"/>
          </a:xfrm>
        </p:grpSpPr>
        <p:grpSp>
          <p:nvGrpSpPr>
            <p:cNvPr id="95" name=""/>
            <p:cNvGrpSpPr/>
            <p:nvPr/>
          </p:nvGrpSpPr>
          <p:grpSpPr>
            <a:xfrm>
              <a:off x="8089920" y="2808360"/>
              <a:ext cx="977760" cy="2677680"/>
              <a:chOff x="8089920" y="2808360"/>
              <a:chExt cx="977760" cy="2677680"/>
            </a:xfrm>
          </p:grpSpPr>
          <p:sp>
            <p:nvSpPr>
              <p:cNvPr id="96" name=""/>
              <p:cNvSpPr/>
              <p:nvPr/>
            </p:nvSpPr>
            <p:spPr>
              <a:xfrm>
                <a:off x="8578800" y="4593600"/>
                <a:ext cx="0" cy="446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089920" y="325440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Fine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Alignmen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89920" y="414720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Bond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089920" y="504000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Bond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Cur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578800" y="3700800"/>
                <a:ext cx="0" cy="446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578800" y="2808360"/>
                <a:ext cx="0" cy="446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3363840" y="2362320"/>
              <a:ext cx="5703840" cy="446040"/>
              <a:chOff x="3363840" y="2362320"/>
              <a:chExt cx="5703840" cy="446040"/>
            </a:xfrm>
          </p:grpSpPr>
          <p:sp>
            <p:nvSpPr>
              <p:cNvPr id="103" name=""/>
              <p:cNvSpPr/>
              <p:nvPr/>
            </p:nvSpPr>
            <p:spPr>
              <a:xfrm>
                <a:off x="3363840" y="236232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Load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&amp; Setu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514560" y="236232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Bond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Pre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939200" y="236232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Orienta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&amp; Inspec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089920" y="236232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Coarse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Alignmen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41600" y="2560680"/>
                <a:ext cx="5976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492320" y="2560680"/>
                <a:ext cx="5972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916960" y="2560680"/>
                <a:ext cx="5972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3363840" y="5040360"/>
              <a:ext cx="4725360" cy="446040"/>
              <a:chOff x="3363840" y="5040360"/>
              <a:chExt cx="4725360" cy="446040"/>
            </a:xfrm>
          </p:grpSpPr>
          <p:sp>
            <p:nvSpPr>
              <p:cNvPr id="111" name=""/>
              <p:cNvSpPr/>
              <p:nvPr/>
            </p:nvSpPr>
            <p:spPr>
              <a:xfrm flipH="1">
                <a:off x="6025320" y="5288040"/>
                <a:ext cx="5972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341600" y="5288040"/>
                <a:ext cx="5976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14560" y="504036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Fina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Inspec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7491960" y="5288040"/>
                <a:ext cx="5972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21760" y="5040360"/>
                <a:ext cx="13035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Componen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Characteriza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363840" y="504036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Unload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>
            <a:off x="304920" y="1295280"/>
            <a:ext cx="8610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ost OE processes use standard steps to achieve similar goals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2362320"/>
            <a:ext cx="30481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 yiel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 frequent process cha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production efficienc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 process ti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5DCA-B4E7-4B51-827B-79852E23D51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16040" y="381600"/>
            <a:ext cx="77706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Applications in the OE Proc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1371600"/>
            <a:ext cx="8458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d  similar applications are used at multiple points in the assembly and test process …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2438280"/>
            <a:ext cx="2819520" cy="28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tion flexibility and interoperability are ke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ules maximize software and hardware re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tion reuse drives need for an open plat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24080" y="2362320"/>
            <a:ext cx="5867280" cy="3124080"/>
            <a:chOff x="3124080" y="2362320"/>
            <a:chExt cx="5867280" cy="3124080"/>
          </a:xfrm>
        </p:grpSpPr>
        <p:grpSp>
          <p:nvGrpSpPr>
            <p:cNvPr id="123" name=""/>
            <p:cNvGrpSpPr/>
            <p:nvPr/>
          </p:nvGrpSpPr>
          <p:grpSpPr>
            <a:xfrm>
              <a:off x="3287520" y="2362320"/>
              <a:ext cx="5703840" cy="3124080"/>
              <a:chOff x="3287520" y="2362320"/>
              <a:chExt cx="5703840" cy="312408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8013600" y="2808360"/>
                <a:ext cx="977760" cy="2677680"/>
                <a:chOff x="8013600" y="2808360"/>
                <a:chExt cx="977760" cy="26776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8502480" y="4593600"/>
                  <a:ext cx="0" cy="4460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8013600" y="325440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Fine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Alignmen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8013600" y="414720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Bon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013600" y="504000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Bond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Cur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502480" y="3700800"/>
                  <a:ext cx="0" cy="4460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2480" y="2808360"/>
                  <a:ext cx="0" cy="4460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3287520" y="2362320"/>
                <a:ext cx="5703840" cy="446040"/>
                <a:chOff x="3287520" y="2362320"/>
                <a:chExt cx="5703840" cy="446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3287520" y="236232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Loa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&amp; Setup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438240" y="236232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Bon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Prep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62880" y="236232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Orientati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&amp; Inspecti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8013600" y="236232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Coarse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Alignmen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265280" y="2560680"/>
                  <a:ext cx="59760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416000" y="2560680"/>
                  <a:ext cx="5972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840640" y="2560680"/>
                  <a:ext cx="5972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3287520" y="5040360"/>
                <a:ext cx="4725360" cy="446040"/>
                <a:chOff x="3287520" y="5040360"/>
                <a:chExt cx="4725360" cy="446040"/>
              </a:xfrm>
            </p:grpSpPr>
            <p:sp>
              <p:nvSpPr>
                <p:cNvPr id="140" name=""/>
                <p:cNvSpPr/>
                <p:nvPr/>
              </p:nvSpPr>
              <p:spPr>
                <a:xfrm flipH="1">
                  <a:off x="5949000" y="5288040"/>
                  <a:ext cx="5972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4265280" y="5288040"/>
                  <a:ext cx="59760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438240" y="504036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Fi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Inspec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>
                  <a:off x="7415640" y="5288040"/>
                  <a:ext cx="5972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645440" y="5040360"/>
                  <a:ext cx="13035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Componen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Characterizati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287520" y="504036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Unloa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6" name=""/>
            <p:cNvGrpSpPr/>
            <p:nvPr/>
          </p:nvGrpSpPr>
          <p:grpSpPr>
            <a:xfrm>
              <a:off x="3124080" y="2908440"/>
              <a:ext cx="4781520" cy="1735200"/>
              <a:chOff x="3124080" y="2908440"/>
              <a:chExt cx="4781520" cy="1735200"/>
            </a:xfrm>
          </p:grpSpPr>
          <p:sp>
            <p:nvSpPr>
              <p:cNvPr id="147" name=""/>
              <p:cNvSpPr/>
              <p:nvPr/>
            </p:nvSpPr>
            <p:spPr>
              <a:xfrm>
                <a:off x="6927840" y="4098960"/>
                <a:ext cx="97776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on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405400" y="3454560"/>
                <a:ext cx="97776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iber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lignmen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187960" y="2908440"/>
                <a:ext cx="977760" cy="49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iber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nspec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10400" y="3156120"/>
                <a:ext cx="977760" cy="49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ea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haract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786280" y="4000680"/>
                <a:ext cx="97776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ow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easur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101840" y="2957760"/>
                <a:ext cx="978120" cy="495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urn-i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449520" y="4048200"/>
                <a:ext cx="977760" cy="49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ateria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Handl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263840" y="3602160"/>
                <a:ext cx="97812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olariza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124080" y="3354480"/>
                <a:ext cx="97776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nviron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698720" y="4148280"/>
                <a:ext cx="97812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any more!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9A8F-106A-4EAE-9C5A-CDA0603B6F79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048120" y="2819520"/>
            <a:ext cx="4876560" cy="213336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334800"/>
            <a:ext cx="7507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he NI OE Automation Platfo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3657600"/>
            <a:ext cx="4191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4572000"/>
            <a:ext cx="4419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I OE Automation Platfor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2327400"/>
            <a:ext cx="2590920" cy="38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ivers numerous applications on a flexible, scalable plat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s easy to integrate functionality as the process chan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ivers ‘best in class’ subsystems selec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1371600"/>
            <a:ext cx="78487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US" sz="2500" spc="-1" strike="noStrike">
                <a:solidFill>
                  <a:srgbClr val="ffffff"/>
                </a:solidFill>
                <a:latin typeface="Arial"/>
              </a:rPr>
              <a:t>so an open Automated OE Platform that is flexible and scales is the better assembly and test solution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124080" y="2362320"/>
            <a:ext cx="5867280" cy="3124080"/>
            <a:chOff x="3124080" y="2362320"/>
            <a:chExt cx="5867280" cy="3124080"/>
          </a:xfrm>
        </p:grpSpPr>
        <p:grpSp>
          <p:nvGrpSpPr>
            <p:cNvPr id="164" name=""/>
            <p:cNvGrpSpPr/>
            <p:nvPr/>
          </p:nvGrpSpPr>
          <p:grpSpPr>
            <a:xfrm>
              <a:off x="3287520" y="2362320"/>
              <a:ext cx="5703840" cy="3124080"/>
              <a:chOff x="3287520" y="2362320"/>
              <a:chExt cx="5703840" cy="312408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8013600" y="2808360"/>
                <a:ext cx="977760" cy="2677680"/>
                <a:chOff x="8013600" y="2808360"/>
                <a:chExt cx="977760" cy="26776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02480" y="4593600"/>
                  <a:ext cx="0" cy="4460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013600" y="325440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Fine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Alignmen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013600" y="414720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Bon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013600" y="504000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Bond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Cur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8502480" y="3700800"/>
                  <a:ext cx="0" cy="4460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8502480" y="2808360"/>
                  <a:ext cx="0" cy="4460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3287520" y="2362320"/>
                <a:ext cx="5703840" cy="446040"/>
                <a:chOff x="3287520" y="2362320"/>
                <a:chExt cx="5703840" cy="4460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3287520" y="236232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Loa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&amp; Setup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438240" y="236232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Bon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Prep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862880" y="236232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Orientati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&amp; Inspecti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8013600" y="236232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Coarse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Alignmen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265280" y="2560680"/>
                  <a:ext cx="59760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416000" y="2560680"/>
                  <a:ext cx="5972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840640" y="2560680"/>
                  <a:ext cx="5972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3287520" y="5040360"/>
                <a:ext cx="4725360" cy="446040"/>
                <a:chOff x="3287520" y="5040360"/>
                <a:chExt cx="4725360" cy="446040"/>
              </a:xfrm>
            </p:grpSpPr>
            <p:sp>
              <p:nvSpPr>
                <p:cNvPr id="181" name=""/>
                <p:cNvSpPr/>
                <p:nvPr/>
              </p:nvSpPr>
              <p:spPr>
                <a:xfrm flipH="1">
                  <a:off x="5949000" y="5288040"/>
                  <a:ext cx="5972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>
                  <a:off x="4265280" y="5288040"/>
                  <a:ext cx="59760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438240" y="504036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Fi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Inspec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7415640" y="5288040"/>
                  <a:ext cx="5972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645440" y="5040360"/>
                  <a:ext cx="13035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Componen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Characterizati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287520" y="504036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Unloa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7" name=""/>
            <p:cNvGrpSpPr/>
            <p:nvPr/>
          </p:nvGrpSpPr>
          <p:grpSpPr>
            <a:xfrm>
              <a:off x="3124080" y="2908440"/>
              <a:ext cx="4781520" cy="1735200"/>
              <a:chOff x="3124080" y="2908440"/>
              <a:chExt cx="4781520" cy="1735200"/>
            </a:xfrm>
          </p:grpSpPr>
          <p:sp>
            <p:nvSpPr>
              <p:cNvPr id="188" name=""/>
              <p:cNvSpPr/>
              <p:nvPr/>
            </p:nvSpPr>
            <p:spPr>
              <a:xfrm>
                <a:off x="6927840" y="4098960"/>
                <a:ext cx="97776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on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405400" y="3454560"/>
                <a:ext cx="97776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iber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lignmen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187960" y="2908440"/>
                <a:ext cx="977760" cy="49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iber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nspec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710400" y="3156120"/>
                <a:ext cx="977760" cy="49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ea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haract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786280" y="4000680"/>
                <a:ext cx="97776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ow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easur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101840" y="2957760"/>
                <a:ext cx="978120" cy="495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urn-i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449520" y="4048200"/>
                <a:ext cx="977760" cy="49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ateria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Handl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263840" y="3602160"/>
                <a:ext cx="97812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olariza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24080" y="3354480"/>
                <a:ext cx="97776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nviron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98720" y="4148280"/>
                <a:ext cx="97812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any more!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B6C4-DE25-436B-8883-BAA6CE5A7775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Automation Platform Architectur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5468760"/>
            <a:ext cx="480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ffers PXI and PCI processing power with synchronization and trigger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2421000"/>
            <a:ext cx="495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ordinates activities in complex test systems and manages resources and test 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14800" y="3230640"/>
            <a:ext cx="48769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grates acquisition, analysis, and  presentation for measurement and automati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4707000"/>
            <a:ext cx="487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ides modular I/O hardware for DAQ, vision, motion, signal conditioning, switching, 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3992400"/>
            <a:ext cx="4648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figures and controls hardware I/O devices via standard and application-specific toolset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80880" y="2514600"/>
            <a:ext cx="3657240" cy="3534120"/>
            <a:chOff x="380880" y="2514600"/>
            <a:chExt cx="3657240" cy="3534120"/>
          </a:xfrm>
        </p:grpSpPr>
        <p:sp>
          <p:nvSpPr>
            <p:cNvPr id="205" name=""/>
            <p:cNvSpPr/>
            <p:nvPr/>
          </p:nvSpPr>
          <p:spPr>
            <a:xfrm>
              <a:off x="380880" y="5460840"/>
              <a:ext cx="3657240" cy="58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uter Platfor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0880" y="4724280"/>
              <a:ext cx="3657240" cy="58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vi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0880" y="3987720"/>
              <a:ext cx="3657240" cy="58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0880" y="3251160"/>
              <a:ext cx="3657240" cy="58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pplication Develop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0880" y="2514600"/>
              <a:ext cx="3657240" cy="58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stem Manage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52280" y="1600200"/>
            <a:ext cx="121932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 Align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66880" y="1600200"/>
            <a:ext cx="121932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ore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71600" y="1600200"/>
            <a:ext cx="121932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1498680"/>
            <a:ext cx="525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pports optoelectronic applications requiring automation, measurement and optical instru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0069-C7AF-46B3-BD89-74B0966933B2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716040" y="381600"/>
            <a:ext cx="77706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Platform Implemen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4994280"/>
            <a:ext cx="2590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uter Platfor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2556000"/>
            <a:ext cx="26668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241800"/>
            <a:ext cx="3124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 Develop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1480" y="4384800"/>
            <a:ext cx="1041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9680" y="1905120"/>
            <a:ext cx="1553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1480" y="3809880"/>
            <a:ext cx="11181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200400" y="2514600"/>
            <a:ext cx="5048280" cy="2895480"/>
            <a:chOff x="3200400" y="2514600"/>
            <a:chExt cx="5048280" cy="2895480"/>
          </a:xfrm>
        </p:grpSpPr>
        <p:sp>
          <p:nvSpPr>
            <p:cNvPr id="222" name=""/>
            <p:cNvSpPr/>
            <p:nvPr/>
          </p:nvSpPr>
          <p:spPr>
            <a:xfrm>
              <a:off x="3200400" y="4952880"/>
              <a:ext cx="504828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XI and PC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00400" y="434340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Q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353120" y="434340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is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05480" y="434340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58200" y="4343400"/>
              <a:ext cx="76176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PI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39040" y="4343400"/>
              <a:ext cx="80964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219480" y="3733920"/>
              <a:ext cx="235296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asurement an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utomation Explor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81800" y="3733920"/>
              <a:ext cx="18288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strum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riv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19960" y="3733920"/>
              <a:ext cx="82872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00400" y="3124080"/>
              <a:ext cx="139068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abVIE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91080" y="3124080"/>
              <a:ext cx="144792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asurem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udi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00400" y="2514600"/>
              <a:ext cx="21528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stStan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39000" y="3124080"/>
              <a:ext cx="1467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olki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80440" y="3124080"/>
              <a:ext cx="76824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8800" y="2514600"/>
              <a:ext cx="214812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Ad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86920" y="2514600"/>
              <a:ext cx="76176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3733920" y="1447920"/>
            <a:ext cx="1676160" cy="838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ber Align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0" y="1447920"/>
            <a:ext cx="1676520" cy="838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y more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1676520"/>
            <a:ext cx="1676160" cy="838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acter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ECFF-5B81-4364-9A05-B9A6B28E65CB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1760" y="353520"/>
            <a:ext cx="784836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Arial"/>
              </a:rPr>
              <a:t>NI OE Automation Platform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Premier Application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8008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 Align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rove speed and quality by synchronizing vision, motions and DA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ser Beam Character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rove accuracy by implementing NI software as part of your beam characterization sys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 Inspection Measu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lace manual manufacturing processes by integrating machine vision and motion control technolog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tical Power Measu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asure and test your units in a fraction of the time using NI DAQ ad software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5993-0398-4EC6-A0BA-9C529605F8B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NI OE Automation Platform 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14240" y="1447920"/>
            <a:ext cx="78012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mates component assembly and test, provid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alabili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lexibili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fers multiple applic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 more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im Balent, Business Development Manag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93760" indent="-336600">
              <a:spcBef>
                <a:spcPts val="876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12/ 683-5692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93760" indent="-336600">
              <a:spcBef>
                <a:spcPts val="876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im.balent@ni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d49fff"/>
                </a:solidFill>
                <a:uFillTx/>
                <a:latin typeface="Arial"/>
                <a:hlinkClick r:id="rId2"/>
              </a:rPr>
              <a:t>Communications@ni.co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d49fff"/>
                </a:solidFill>
                <a:uFillTx/>
                <a:latin typeface="Arial"/>
                <a:hlinkClick r:id="rId3"/>
              </a:rPr>
              <a:t>www.ni.com/commun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86200" y="1447920"/>
            <a:ext cx="49528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gh precision 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st-effective solu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3CCE-5E5D-4CE2-9ABF-C030F42A00D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6:35:20Z</dcterms:created>
  <dc:creator>Alex McCarthy &amp; Armando Valim</dc:creator>
  <dc:description/>
  <dc:language>en-US</dc:language>
  <cp:lastModifiedBy>Stephanie Schultz</cp:lastModifiedBy>
  <cp:lastPrinted>2000-11-01T02:35:38Z</cp:lastPrinted>
  <dcterms:modified xsi:type="dcterms:W3CDTF">2002-02-15T20:09:06Z</dcterms:modified>
  <cp:revision>309</cp:revision>
  <dc:subject/>
  <dc:title>Corning Seminar</dc:title>
</cp:coreProperties>
</file>