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63B9-5F0E-4244-B006-B0DDF52F9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780120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4240" y="3731400"/>
            <a:ext cx="780120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2B91-36F8-41B4-919E-0B341D12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168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4240" y="37314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1680" y="37314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994F-0F74-41E1-8727-A1866FFDD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51960" y="16416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9680" y="16416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4240" y="37314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51960" y="37314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9680" y="37314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27DB-4FF3-4AFE-B92E-8A7CDF355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C1839-A75F-40F7-BD22-4BB72B6E1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14240" y="1641600"/>
            <a:ext cx="78012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2E32-3C38-4E7D-BC7D-2F3C3EBE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78012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6D3E-25A5-4699-92DA-CFEB2176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380664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1680" y="1641600"/>
            <a:ext cx="380664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3E69-EC8E-45E2-B2AA-771F37D7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3F78-1EC0-46B3-847D-FD447C0A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15680" y="380880"/>
            <a:ext cx="7770600" cy="31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2948-CFA5-4BD6-AB89-348473BD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680" y="1641600"/>
            <a:ext cx="380664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14240" y="37314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784E-B772-43EA-A5BC-A67AE249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4240" y="1641600"/>
            <a:ext cx="78012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02E7-1E4B-4EAC-8CEA-0E664C80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380664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168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1680" y="37314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8C56-2F82-4A85-864C-0B54F4DC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168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4240" y="3731400"/>
            <a:ext cx="780120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9E29-7FBF-48F6-B05A-32D02DDD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780120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4240" y="3731400"/>
            <a:ext cx="780120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C0F99-E8EE-44BC-9F7F-44C01E43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168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14240" y="37314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1680" y="37314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3990-0E61-4329-86DD-B601C1C7F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51960" y="16416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9680" y="16416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14240" y="37314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51960" y="37314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9680" y="37314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6BCA-3AA3-4C0C-83C8-9C6542952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78012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7F50-C6C2-4174-AFDC-C49A7087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380664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1680" y="1641600"/>
            <a:ext cx="380664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16C2-59AB-4C6A-81E9-C3C64071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FAAD-4DCF-4F76-B051-0BB82CD5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15680" y="380880"/>
            <a:ext cx="7770600" cy="31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6D8E-2A4F-4459-87EE-4EA6B482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1680" y="1641600"/>
            <a:ext cx="380664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4240" y="37314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96FF-9E75-4846-A102-F8C784E8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380664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168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1680" y="37314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93E8-21AF-4BFB-894C-400615C7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168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4240" y="3731400"/>
            <a:ext cx="780120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99A2-F4D8-4E0A-ADAB-CD37CDB7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8E3B-D7C6-44F4-98E4-868BC9180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14240" y="1641600"/>
            <a:ext cx="78012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3760" indent="-336600">
              <a:spcBef>
                <a:spcPts val="150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93720" indent="-285480">
              <a:spcBef>
                <a:spcPts val="1500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0920" indent="-342720">
              <a:spcBef>
                <a:spcPts val="150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0920" indent="-342720">
              <a:spcBef>
                <a:spcPts val="150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0920" indent="-342720">
              <a:spcBef>
                <a:spcPts val="150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19280" y="1066680"/>
            <a:ext cx="77072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FA24-43D9-4843-9D36-19F58997D7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685800" y="2817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algn="ctr">
              <a:spcBef>
                <a:spcPts val="1001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08240" algn="ctr">
              <a:spcBef>
                <a:spcPts val="876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1708200" algn="ctr">
              <a:spcBef>
                <a:spcPts val="876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5" marL="1708200">
              <a:spcBef>
                <a:spcPts val="349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6" marL="1708200">
              <a:spcBef>
                <a:spcPts val="349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Communications@ni.com" TargetMode="External"/><Relationship Id="rId3" Type="http://schemas.openxmlformats.org/officeDocument/2006/relationships/hyperlink" Target="http://www.ni.com/communications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243828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National Instruments Optoelectronics 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Automation Platfor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EBE5-8FF2-4635-8540-A15980892DF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i.com/communication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5680" y="392040"/>
            <a:ext cx="7770600" cy="6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Arial"/>
              </a:rPr>
              <a:t>NI OE Automation Platform Benefits</a:t>
            </a:r>
            <a:endParaRPr b="1" lang="en-US" sz="35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052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lexibi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st-in-class subsystem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en standard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rchangeable subsystem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19720" y="1641600"/>
            <a:ext cx="4572000" cy="19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alabi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&amp;D to produc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igh precision and accurac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peatable and reliab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3882960"/>
            <a:ext cx="4128840" cy="22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g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tom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asur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tical Instrumen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3882960"/>
            <a:ext cx="457200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ble suppli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erienced ‘domain savvy’ partn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st effective solu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65B8-3753-483D-980E-D090EFFDAE4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i.com/communication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1604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Typical OE Component Proces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04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381600"/>
            <a:ext cx="777060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Typical OE Component Proc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363840" y="2362320"/>
            <a:ext cx="5703840" cy="3124080"/>
            <a:chOff x="3363840" y="2362320"/>
            <a:chExt cx="5703840" cy="3124080"/>
          </a:xfrm>
        </p:grpSpPr>
        <p:grpSp>
          <p:nvGrpSpPr>
            <p:cNvPr id="95" name=""/>
            <p:cNvGrpSpPr/>
            <p:nvPr/>
          </p:nvGrpSpPr>
          <p:grpSpPr>
            <a:xfrm>
              <a:off x="8089920" y="2808360"/>
              <a:ext cx="977760" cy="2677680"/>
              <a:chOff x="8089920" y="2808360"/>
              <a:chExt cx="977760" cy="2677680"/>
            </a:xfrm>
          </p:grpSpPr>
          <p:sp>
            <p:nvSpPr>
              <p:cNvPr id="96" name=""/>
              <p:cNvSpPr/>
              <p:nvPr/>
            </p:nvSpPr>
            <p:spPr>
              <a:xfrm>
                <a:off x="8578800" y="4593600"/>
                <a:ext cx="0" cy="446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089920" y="325440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Fine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Alignmen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89920" y="414720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Bond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089920" y="504000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Bond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Cur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578800" y="3700800"/>
                <a:ext cx="0" cy="446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578800" y="2808360"/>
                <a:ext cx="0" cy="446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3363840" y="2362320"/>
              <a:ext cx="5703840" cy="446040"/>
              <a:chOff x="3363840" y="2362320"/>
              <a:chExt cx="5703840" cy="446040"/>
            </a:xfrm>
          </p:grpSpPr>
          <p:sp>
            <p:nvSpPr>
              <p:cNvPr id="103" name=""/>
              <p:cNvSpPr/>
              <p:nvPr/>
            </p:nvSpPr>
            <p:spPr>
              <a:xfrm>
                <a:off x="3363840" y="236232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Load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&amp; Setu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514560" y="236232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Bond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Pre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939200" y="236232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Orientati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&amp; Inspecti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089920" y="236232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Coarse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Alignmen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41600" y="2560680"/>
                <a:ext cx="5976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492320" y="2560680"/>
                <a:ext cx="59724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916960" y="2560680"/>
                <a:ext cx="59724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3363840" y="5040360"/>
              <a:ext cx="4725360" cy="446040"/>
              <a:chOff x="3363840" y="5040360"/>
              <a:chExt cx="4725360" cy="446040"/>
            </a:xfrm>
          </p:grpSpPr>
          <p:sp>
            <p:nvSpPr>
              <p:cNvPr id="111" name=""/>
              <p:cNvSpPr/>
              <p:nvPr/>
            </p:nvSpPr>
            <p:spPr>
              <a:xfrm flipH="1">
                <a:off x="6025320" y="5288040"/>
                <a:ext cx="59724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341600" y="5288040"/>
                <a:ext cx="5976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14560" y="504036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Fina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Inspec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7491960" y="5288040"/>
                <a:ext cx="59724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721760" y="5040360"/>
                <a:ext cx="13035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Componen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Characterizati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363840" y="504036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Unload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" name=""/>
          <p:cNvSpPr/>
          <p:nvPr/>
        </p:nvSpPr>
        <p:spPr>
          <a:xfrm>
            <a:off x="304920" y="1295280"/>
            <a:ext cx="8610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ost OE processes use standard steps to achieve similar goals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2362320"/>
            <a:ext cx="30481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ove yiel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lement frequent process chan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production efficienc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 process ti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641A-78D8-4358-BA04-8A02FF435F3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i.com/communication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16040" y="381600"/>
            <a:ext cx="777060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Applications in the OE Proc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1371600"/>
            <a:ext cx="84582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nd  similar applications are used at multiple points in the assembly and test process …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280" y="2438280"/>
            <a:ext cx="2819520" cy="28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lication flexibility and interoperability are ke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ules maximize software and hardware re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lication reuse drives need for an open platfo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124080" y="2362320"/>
            <a:ext cx="5867280" cy="3124080"/>
            <a:chOff x="3124080" y="2362320"/>
            <a:chExt cx="5867280" cy="3124080"/>
          </a:xfrm>
        </p:grpSpPr>
        <p:grpSp>
          <p:nvGrpSpPr>
            <p:cNvPr id="123" name=""/>
            <p:cNvGrpSpPr/>
            <p:nvPr/>
          </p:nvGrpSpPr>
          <p:grpSpPr>
            <a:xfrm>
              <a:off x="3287520" y="2362320"/>
              <a:ext cx="5703840" cy="3124080"/>
              <a:chOff x="3287520" y="2362320"/>
              <a:chExt cx="5703840" cy="312408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8013600" y="2808360"/>
                <a:ext cx="977760" cy="2677680"/>
                <a:chOff x="8013600" y="2808360"/>
                <a:chExt cx="977760" cy="267768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8502480" y="4593600"/>
                  <a:ext cx="0" cy="4460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8013600" y="3254400"/>
                  <a:ext cx="977760" cy="4460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Fine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Alignmen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8013600" y="4147200"/>
                  <a:ext cx="977760" cy="4460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Bonding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013600" y="5040000"/>
                  <a:ext cx="977760" cy="4460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Bond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Curing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502480" y="3700800"/>
                  <a:ext cx="0" cy="4460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2480" y="2808360"/>
                  <a:ext cx="0" cy="4460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3287520" y="2362320"/>
                <a:ext cx="5703840" cy="446040"/>
                <a:chOff x="3287520" y="2362320"/>
                <a:chExt cx="5703840" cy="446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3287520" y="2362320"/>
                  <a:ext cx="977760" cy="4460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Loading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&amp; Setup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6438240" y="2362320"/>
                  <a:ext cx="977760" cy="4460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Bonding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Prep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62880" y="2362320"/>
                  <a:ext cx="977760" cy="4460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Orientati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&amp; Inspecti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8013600" y="2362320"/>
                  <a:ext cx="977760" cy="4460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Coarse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Alignmen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265280" y="2560680"/>
                  <a:ext cx="59760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416000" y="2560680"/>
                  <a:ext cx="59724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840640" y="2560680"/>
                  <a:ext cx="59724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3287520" y="5040360"/>
                <a:ext cx="4725360" cy="446040"/>
                <a:chOff x="3287520" y="5040360"/>
                <a:chExt cx="4725360" cy="446040"/>
              </a:xfrm>
            </p:grpSpPr>
            <p:sp>
              <p:nvSpPr>
                <p:cNvPr id="140" name=""/>
                <p:cNvSpPr/>
                <p:nvPr/>
              </p:nvSpPr>
              <p:spPr>
                <a:xfrm flipH="1">
                  <a:off x="5949000" y="5288040"/>
                  <a:ext cx="59724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4265280" y="5288040"/>
                  <a:ext cx="59760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438240" y="5040360"/>
                  <a:ext cx="977760" cy="4460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Final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Inspec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>
                  <a:off x="7415640" y="5288040"/>
                  <a:ext cx="59724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645440" y="5040360"/>
                  <a:ext cx="1303560" cy="4460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Componen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Characterizati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287520" y="5040360"/>
                  <a:ext cx="977760" cy="4460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Unloading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6" name=""/>
            <p:cNvGrpSpPr/>
            <p:nvPr/>
          </p:nvGrpSpPr>
          <p:grpSpPr>
            <a:xfrm>
              <a:off x="3124080" y="2908440"/>
              <a:ext cx="4781520" cy="1735200"/>
              <a:chOff x="3124080" y="2908440"/>
              <a:chExt cx="4781520" cy="1735200"/>
            </a:xfrm>
          </p:grpSpPr>
          <p:sp>
            <p:nvSpPr>
              <p:cNvPr id="147" name=""/>
              <p:cNvSpPr/>
              <p:nvPr/>
            </p:nvSpPr>
            <p:spPr>
              <a:xfrm>
                <a:off x="6927840" y="4098960"/>
                <a:ext cx="977760" cy="495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on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405400" y="3454560"/>
                <a:ext cx="977760" cy="495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iber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lignmen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187960" y="2908440"/>
                <a:ext cx="977760" cy="49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iber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nspec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10400" y="3156120"/>
                <a:ext cx="977760" cy="49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ea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haract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786280" y="4000680"/>
                <a:ext cx="977760" cy="495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owe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easur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101840" y="2957760"/>
                <a:ext cx="978120" cy="495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urn-i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449520" y="4048200"/>
                <a:ext cx="977760" cy="49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ateria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Handl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263840" y="3602160"/>
                <a:ext cx="978120" cy="495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olarizati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124080" y="3354480"/>
                <a:ext cx="977760" cy="495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nviron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698720" y="4148280"/>
                <a:ext cx="978120" cy="495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any more!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0C73-552F-4471-90A8-0CDB613B2EE6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i.com/communication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048120" y="2819520"/>
            <a:ext cx="4876560" cy="2133360"/>
          </a:xfrm>
          <a:prstGeom prst="rect">
            <a:avLst/>
          </a:prstGeom>
          <a:solidFill>
            <a:srgbClr val="336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334800"/>
            <a:ext cx="75074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The NI OE Automation Platfor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3657600"/>
            <a:ext cx="41911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4572000"/>
            <a:ext cx="4419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I OE Automation Platfor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2327400"/>
            <a:ext cx="2590920" cy="38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livers numerous applications on a flexible, scalable platfo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s easy to integrate functionality as the process chan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livers ‘best in class’ subsystems selec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1371600"/>
            <a:ext cx="78487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US" sz="2500" spc="-1" strike="noStrike">
                <a:solidFill>
                  <a:srgbClr val="ffffff"/>
                </a:solidFill>
                <a:latin typeface="Arial"/>
              </a:rPr>
              <a:t>so an open Automated OE Platform that is flexible and scales is the better assembly and test solution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124080" y="2362320"/>
            <a:ext cx="5867280" cy="3124080"/>
            <a:chOff x="3124080" y="2362320"/>
            <a:chExt cx="5867280" cy="3124080"/>
          </a:xfrm>
        </p:grpSpPr>
        <p:grpSp>
          <p:nvGrpSpPr>
            <p:cNvPr id="164" name=""/>
            <p:cNvGrpSpPr/>
            <p:nvPr/>
          </p:nvGrpSpPr>
          <p:grpSpPr>
            <a:xfrm>
              <a:off x="3287520" y="2362320"/>
              <a:ext cx="5703840" cy="3124080"/>
              <a:chOff x="3287520" y="2362320"/>
              <a:chExt cx="5703840" cy="312408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8013600" y="2808360"/>
                <a:ext cx="977760" cy="2677680"/>
                <a:chOff x="8013600" y="2808360"/>
                <a:chExt cx="977760" cy="26776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02480" y="4593600"/>
                  <a:ext cx="0" cy="4460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013600" y="3254400"/>
                  <a:ext cx="977760" cy="4460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Fine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Alignmen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013600" y="4147200"/>
                  <a:ext cx="977760" cy="4460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Bonding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013600" y="5040000"/>
                  <a:ext cx="977760" cy="4460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Bond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Curing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8502480" y="3700800"/>
                  <a:ext cx="0" cy="4460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8502480" y="2808360"/>
                  <a:ext cx="0" cy="4460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3287520" y="2362320"/>
                <a:ext cx="5703840" cy="446040"/>
                <a:chOff x="3287520" y="2362320"/>
                <a:chExt cx="5703840" cy="4460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3287520" y="2362320"/>
                  <a:ext cx="977760" cy="4460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Loading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&amp; Setup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438240" y="2362320"/>
                  <a:ext cx="977760" cy="4460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Bonding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Prep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862880" y="2362320"/>
                  <a:ext cx="977760" cy="4460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Orientati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&amp; Inspecti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8013600" y="2362320"/>
                  <a:ext cx="977760" cy="4460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Coarse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Alignmen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265280" y="2560680"/>
                  <a:ext cx="59760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7416000" y="2560680"/>
                  <a:ext cx="59724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5840640" y="2560680"/>
                  <a:ext cx="59724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3287520" y="5040360"/>
                <a:ext cx="4725360" cy="446040"/>
                <a:chOff x="3287520" y="5040360"/>
                <a:chExt cx="4725360" cy="446040"/>
              </a:xfrm>
            </p:grpSpPr>
            <p:sp>
              <p:nvSpPr>
                <p:cNvPr id="181" name=""/>
                <p:cNvSpPr/>
                <p:nvPr/>
              </p:nvSpPr>
              <p:spPr>
                <a:xfrm flipH="1">
                  <a:off x="5949000" y="5288040"/>
                  <a:ext cx="59724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H="1">
                  <a:off x="4265280" y="5288040"/>
                  <a:ext cx="59760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6438240" y="5040360"/>
                  <a:ext cx="977760" cy="4460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Final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Inspec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7415640" y="5288040"/>
                  <a:ext cx="59724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645440" y="5040360"/>
                  <a:ext cx="1303560" cy="4460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Componen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Characterizati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287520" y="5040360"/>
                  <a:ext cx="977760" cy="4460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Unloading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7" name=""/>
            <p:cNvGrpSpPr/>
            <p:nvPr/>
          </p:nvGrpSpPr>
          <p:grpSpPr>
            <a:xfrm>
              <a:off x="3124080" y="2908440"/>
              <a:ext cx="4781520" cy="1735200"/>
              <a:chOff x="3124080" y="2908440"/>
              <a:chExt cx="4781520" cy="1735200"/>
            </a:xfrm>
          </p:grpSpPr>
          <p:sp>
            <p:nvSpPr>
              <p:cNvPr id="188" name=""/>
              <p:cNvSpPr/>
              <p:nvPr/>
            </p:nvSpPr>
            <p:spPr>
              <a:xfrm>
                <a:off x="6927840" y="4098960"/>
                <a:ext cx="977760" cy="495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on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405400" y="3454560"/>
                <a:ext cx="977760" cy="495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iber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lignmen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187960" y="2908440"/>
                <a:ext cx="977760" cy="49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iber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nspec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710400" y="3156120"/>
                <a:ext cx="977760" cy="49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ea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haract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786280" y="4000680"/>
                <a:ext cx="977760" cy="495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owe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easur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101840" y="2957760"/>
                <a:ext cx="978120" cy="495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urn-i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449520" y="4048200"/>
                <a:ext cx="977760" cy="49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ateria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Handl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263840" y="3602160"/>
                <a:ext cx="978120" cy="495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olarizati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24080" y="3354480"/>
                <a:ext cx="977760" cy="495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nviron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698720" y="4148280"/>
                <a:ext cx="978120" cy="495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any more!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74C6-EDE7-4CAC-876E-4FC43F928C5A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i.com/communication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Automation Platform Architecture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5468760"/>
            <a:ext cx="480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ffers PXI and PCI processing power with synchronization and trigger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2421000"/>
            <a:ext cx="495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ordinates activities in complex test systems and manages resources and test d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14800" y="3230640"/>
            <a:ext cx="48769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grates acquisition, analysis, and  presentation for measurement and automatio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4707000"/>
            <a:ext cx="487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vides modular I/O hardware for DAQ, vision, motion, signal conditioning, switching, 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14800" y="3992400"/>
            <a:ext cx="46483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figures and controls hardware I/O devices via standard and application-specific toolset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80880" y="2514600"/>
            <a:ext cx="3657240" cy="3534120"/>
            <a:chOff x="380880" y="2514600"/>
            <a:chExt cx="3657240" cy="3534120"/>
          </a:xfrm>
        </p:grpSpPr>
        <p:sp>
          <p:nvSpPr>
            <p:cNvPr id="205" name=""/>
            <p:cNvSpPr/>
            <p:nvPr/>
          </p:nvSpPr>
          <p:spPr>
            <a:xfrm>
              <a:off x="380880" y="5460840"/>
              <a:ext cx="3657240" cy="58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mputer Platfor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0880" y="4724280"/>
              <a:ext cx="3657240" cy="58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vi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0880" y="3987720"/>
              <a:ext cx="3657240" cy="58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0880" y="3251160"/>
              <a:ext cx="3657240" cy="58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pplication Develop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0880" y="2514600"/>
              <a:ext cx="3657240" cy="58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ystem Manage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152280" y="1600200"/>
            <a:ext cx="1219320" cy="60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 Align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666880" y="1600200"/>
            <a:ext cx="1219320" cy="60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more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71600" y="1600200"/>
            <a:ext cx="1219320" cy="60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1498680"/>
            <a:ext cx="525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pports optoelectronic applications requiring automation, measurement and optical instru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0618-FDBD-45A4-AF3A-73966217C630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i.com/communication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716040" y="381600"/>
            <a:ext cx="777060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Platform Implemen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4994280"/>
            <a:ext cx="2590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uter Platfor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2556000"/>
            <a:ext cx="26668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3241800"/>
            <a:ext cx="3124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 Develop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31480" y="4384800"/>
            <a:ext cx="10418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9680" y="1905120"/>
            <a:ext cx="15537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1480" y="3809880"/>
            <a:ext cx="11181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200400" y="2514600"/>
            <a:ext cx="5048280" cy="2895480"/>
            <a:chOff x="3200400" y="2514600"/>
            <a:chExt cx="5048280" cy="2895480"/>
          </a:xfrm>
        </p:grpSpPr>
        <p:sp>
          <p:nvSpPr>
            <p:cNvPr id="222" name=""/>
            <p:cNvSpPr/>
            <p:nvPr/>
          </p:nvSpPr>
          <p:spPr>
            <a:xfrm>
              <a:off x="3200400" y="4952880"/>
              <a:ext cx="504828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XI and PC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200400" y="4343400"/>
              <a:ext cx="11430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Q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353120" y="4343400"/>
              <a:ext cx="11430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is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05480" y="4343400"/>
              <a:ext cx="11430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58200" y="4343400"/>
              <a:ext cx="76176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PI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439040" y="4343400"/>
              <a:ext cx="80964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219480" y="3733920"/>
              <a:ext cx="235296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asurement an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utomation Explor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81800" y="3733920"/>
              <a:ext cx="18288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strum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rive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419960" y="3733920"/>
              <a:ext cx="82872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200400" y="3124080"/>
              <a:ext cx="139068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abVIE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91080" y="3124080"/>
              <a:ext cx="144792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asurem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udi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200400" y="2514600"/>
              <a:ext cx="21528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stStan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39000" y="3124080"/>
              <a:ext cx="14670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oolki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480440" y="3124080"/>
              <a:ext cx="76824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38800" y="2514600"/>
              <a:ext cx="214812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Ade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86920" y="2514600"/>
              <a:ext cx="76176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3733920" y="1447920"/>
            <a:ext cx="1676160" cy="838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ber Align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0" y="1447920"/>
            <a:ext cx="1676520" cy="838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y more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1676520"/>
            <a:ext cx="1676160" cy="838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racter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C88F-6840-4B9D-B52F-83DB39661021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i.com/communication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1760" y="353520"/>
            <a:ext cx="784836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Arial"/>
              </a:rPr>
              <a:t>NI OE Automation Platform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Premier Application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80084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ber Align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rove speed and quality by synchronizing vision, motions and DA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ser Beam Character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rove accuracy by implementing NI software as part of your beam characterization syst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ber Inspection Measu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place manual manufacturing processes by integrating machine vision and motion control technolog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tical Power Measu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asure and test your units in a fraction of the time using NI DAQ ad software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4E91-24E0-45F1-ABFC-2B2ABA7B72B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i.com/communication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NI OE Automation Platform 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14240" y="1447920"/>
            <a:ext cx="780120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mates component assembly and test, provid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alabili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lexibili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fers multiple applic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 more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im Balent, Business Development Manag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93760" indent="-336600">
              <a:spcBef>
                <a:spcPts val="876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12/ 683-5692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93760" indent="-336600">
              <a:spcBef>
                <a:spcPts val="876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im.balent@ni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d49fff"/>
                </a:solidFill>
                <a:uFillTx/>
                <a:latin typeface="Arial"/>
                <a:hlinkClick r:id="rId2"/>
              </a:rPr>
              <a:t>Communications@ni.co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d49fff"/>
                </a:solidFill>
                <a:uFillTx/>
                <a:latin typeface="Arial"/>
                <a:hlinkClick r:id="rId3"/>
              </a:rPr>
              <a:t>www.ni.com/communic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86200" y="1447920"/>
            <a:ext cx="49528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igh precision Integ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st-effective solu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BC8C-D28F-4006-B3F9-9172F653C59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i.com/communication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1T16:35:20Z</dcterms:created>
  <dc:creator>Alex McCarthy &amp; Armando Valim</dc:creator>
  <dc:description/>
  <dc:language>en-US</dc:language>
  <cp:lastModifiedBy>Stephanie Schultz</cp:lastModifiedBy>
  <cp:lastPrinted>2000-11-01T02:35:38Z</cp:lastPrinted>
  <dcterms:modified xsi:type="dcterms:W3CDTF">2002-02-15T20:09:06Z</dcterms:modified>
  <cp:revision>309</cp:revision>
  <dc:subject/>
  <dc:title>Corning Seminar</dc:title>
</cp:coreProperties>
</file>