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5F2-8B16-493B-BDA8-0A93F235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CC4-7DD6-49E3-8B51-B003EA00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BE4-9F50-4737-A41E-FD2A66C7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41B-A740-4E63-8646-964C0E72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1B1C-17C9-4E79-896E-639B86D0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C1A-79CD-43DA-802B-E302EDE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E99B-12E9-4D1C-ADD5-A34A5AF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BE3D-83FC-4B17-8679-9C3D191E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BA8-DF9A-4023-9BC3-ABA4FF8E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3EF-F3B5-4B6E-92B9-B3A0A9B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7942-B566-47AD-90A0-AD06CA6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FA1-3E7A-4299-912E-AF7ED211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19ED-95B7-43E8-A35C-E50F489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299-0D7C-4AEE-A887-C5C5C4A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3F75-C519-4086-8318-84C419BA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6729-EE7E-4D4C-ABD6-49F23BA8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C8B-189E-4035-938B-4A9CF299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530-8FA8-43BB-B7B2-BCAC7AFC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E5D-45CA-44FE-9AF3-F29985C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72E-0788-4BB0-AC97-2C89581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B2E-546B-49A0-82EE-E4E205AE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9FA-170A-4362-9567-3F3CFEB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1EE-3B0C-4624-A12D-86A4A56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FB4-B596-4389-B556-B6ED7D5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D499-5658-4DD1-886F-CE5E69321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FFAC-307F-4AE4-B7D2-237E13871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3F3E-6E6A-4F31-9B05-D0D8711E92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653-0B89-4139-B5B7-159D385AF6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363840" y="2362320"/>
            <a:ext cx="5703840" cy="3124080"/>
            <a:chOff x="3363840" y="2362320"/>
            <a:chExt cx="5703840" cy="3124080"/>
          </a:xfrm>
        </p:grpSpPr>
        <p:grpSp>
          <p:nvGrpSpPr>
            <p:cNvPr id="95" name=""/>
            <p:cNvGrpSpPr/>
            <p:nvPr/>
          </p:nvGrpSpPr>
          <p:grpSpPr>
            <a:xfrm>
              <a:off x="8089920" y="2808360"/>
              <a:ext cx="977760" cy="2677680"/>
              <a:chOff x="8089920" y="2808360"/>
              <a:chExt cx="977760" cy="2677680"/>
            </a:xfrm>
          </p:grpSpPr>
          <p:sp>
            <p:nvSpPr>
              <p:cNvPr id="96" name=""/>
              <p:cNvSpPr/>
              <p:nvPr/>
            </p:nvSpPr>
            <p:spPr>
              <a:xfrm>
                <a:off x="8578800" y="45936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89920" y="3254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89920" y="41472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89920" y="50400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78800" y="370080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78800" y="280836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363840" y="2362320"/>
              <a:ext cx="5703840" cy="446040"/>
              <a:chOff x="3363840" y="2362320"/>
              <a:chExt cx="5703840" cy="446040"/>
            </a:xfrm>
          </p:grpSpPr>
          <p:sp>
            <p:nvSpPr>
              <p:cNvPr id="103" name=""/>
              <p:cNvSpPr/>
              <p:nvPr/>
            </p:nvSpPr>
            <p:spPr>
              <a:xfrm>
                <a:off x="336384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1456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3920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89920" y="23623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41600" y="256068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9232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16960" y="256068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363840" y="5040360"/>
              <a:ext cx="4725360" cy="446040"/>
              <a:chOff x="3363840" y="5040360"/>
              <a:chExt cx="4725360" cy="44604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602532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341600" y="528804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1456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7491960" y="528804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1760" y="504036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363840" y="504036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04920" y="1295280"/>
            <a:ext cx="8610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st OE processes use standard steps to achieve similar goals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30481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ABD-F7D7-4EE1-8A50-8F1D18D8A2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pplications in the OE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37160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 similar applications are used at multiple points in the assembly and test process 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438280"/>
            <a:ext cx="281952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flexibility and interoperability are k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s maximize software and hardware re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reuse drives need for an open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23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A5E-B0FC-4E26-A4EC-B40DB868919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8120" y="2819520"/>
            <a:ext cx="4876560" cy="21333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572000"/>
            <a:ext cx="441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32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371600"/>
            <a:ext cx="7848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so an open Automated OE Platform that is flexible and scales is the better assembly and test solu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124080" y="2362320"/>
            <a:ext cx="5867280" cy="3124080"/>
            <a:chOff x="3124080" y="2362320"/>
            <a:chExt cx="5867280" cy="3124080"/>
          </a:xfrm>
        </p:grpSpPr>
        <p:grpSp>
          <p:nvGrpSpPr>
            <p:cNvPr id="164" name=""/>
            <p:cNvGrpSpPr/>
            <p:nvPr/>
          </p:nvGrpSpPr>
          <p:grpSpPr>
            <a:xfrm>
              <a:off x="3287520" y="2362320"/>
              <a:ext cx="5703840" cy="3124080"/>
              <a:chOff x="3287520" y="2362320"/>
              <a:chExt cx="5703840" cy="3124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013600" y="2808360"/>
                <a:ext cx="977760" cy="2677680"/>
                <a:chOff x="8013600" y="2808360"/>
                <a:chExt cx="977760" cy="2677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02480" y="45936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013600" y="32544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013600" y="41472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013600" y="504000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ur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502480" y="370080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502480" y="2808360"/>
                  <a:ext cx="0" cy="446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87520" y="2362320"/>
                <a:ext cx="5703840" cy="446040"/>
                <a:chOff x="3287520" y="2362320"/>
                <a:chExt cx="5703840" cy="446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28752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Setu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3824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Prep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288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Orient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&amp; Inspec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13600" y="236232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ars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5280" y="256068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1600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40640" y="256068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287520" y="5040360"/>
                <a:ext cx="4725360" cy="446040"/>
                <a:chOff x="3287520" y="5040360"/>
                <a:chExt cx="4725360" cy="4460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594900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4265280" y="5288040"/>
                  <a:ext cx="597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43824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Fi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415640" y="5288040"/>
                  <a:ext cx="59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45440" y="5040360"/>
                  <a:ext cx="13035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ompon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Characterizati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287520" y="5040360"/>
                  <a:ext cx="977760" cy="4460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81d58"/>
                      </a:solidFill>
                      <a:latin typeface="Arial"/>
                    </a:rPr>
                    <a:t>Unloa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3124080" y="2908440"/>
              <a:ext cx="4781520" cy="1735200"/>
              <a:chOff x="3124080" y="2908440"/>
              <a:chExt cx="4781520" cy="1735200"/>
            </a:xfrm>
          </p:grpSpPr>
          <p:sp>
            <p:nvSpPr>
              <p:cNvPr id="188" name=""/>
              <p:cNvSpPr/>
              <p:nvPr/>
            </p:nvSpPr>
            <p:spPr>
              <a:xfrm>
                <a:off x="6927840" y="40989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05400" y="345456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87960" y="290844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b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10400" y="315612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e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aract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86280" y="40006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01840" y="2957760"/>
                <a:ext cx="978120" cy="49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520" y="4048200"/>
                <a:ext cx="977760" cy="49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63840" y="360216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24080" y="3354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98720" y="4148280"/>
                <a:ext cx="97812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FDD-3419-4EA3-A296-E3A9BC1B165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2514600"/>
            <a:ext cx="3657240" cy="3534120"/>
            <a:chOff x="380880" y="2514600"/>
            <a:chExt cx="3657240" cy="3534120"/>
          </a:xfrm>
        </p:grpSpPr>
        <p:sp>
          <p:nvSpPr>
            <p:cNvPr id="205" name=""/>
            <p:cNvSpPr/>
            <p:nvPr/>
          </p:nvSpPr>
          <p:spPr>
            <a:xfrm>
              <a:off x="380880" y="546084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0880" y="472428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398772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325116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2514600"/>
              <a:ext cx="3657240" cy="58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522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1600200"/>
            <a:ext cx="1219320" cy="60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5E1-43CF-4C2D-9CAC-2B7059ECD24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994280"/>
            <a:ext cx="259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 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556000"/>
            <a:ext cx="266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241800"/>
            <a:ext cx="3124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4384800"/>
            <a:ext cx="1041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680" y="1905120"/>
            <a:ext cx="155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1480" y="3809880"/>
            <a:ext cx="111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00400" y="2514600"/>
            <a:ext cx="5048280" cy="2895480"/>
            <a:chOff x="3200400" y="2514600"/>
            <a:chExt cx="5048280" cy="2895480"/>
          </a:xfrm>
        </p:grpSpPr>
        <p:sp>
          <p:nvSpPr>
            <p:cNvPr id="222" name=""/>
            <p:cNvSpPr/>
            <p:nvPr/>
          </p:nvSpPr>
          <p:spPr>
            <a:xfrm>
              <a:off x="3200400" y="4952880"/>
              <a:ext cx="5048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and P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040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5312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5480" y="434340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8200" y="43434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PI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39040" y="4343400"/>
              <a:ext cx="8096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19480" y="3733920"/>
              <a:ext cx="23529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 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omation Explor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1800" y="3733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9960" y="3733920"/>
              <a:ext cx="8287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3124080"/>
              <a:ext cx="13906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1080" y="3124080"/>
              <a:ext cx="1447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2514600"/>
              <a:ext cx="2152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St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124080"/>
              <a:ext cx="1467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k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0440" y="3124080"/>
              <a:ext cx="7682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8800" y="2514600"/>
              <a:ext cx="21481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d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6920" y="2514600"/>
              <a:ext cx="7617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733920" y="14479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ber Alig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1447920"/>
            <a:ext cx="16765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y 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676520"/>
            <a:ext cx="16761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19A-E3CE-4E1F-AC79-F2F5CF009FF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1C0-B59F-4A36-B926-EBE632D79B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765-B8F7-4B95-BEF7-B97D8DCA4D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Stephanie Schultz</cp:lastModifiedBy>
  <cp:lastPrinted>2000-11-01T02:35:38Z</cp:lastPrinted>
  <dcterms:modified xsi:type="dcterms:W3CDTF">2002-02-15T20:09:06Z</dcterms:modified>
  <cp:revision>309</cp:revision>
  <dc:subject/>
  <dc:title>Corning Seminar</dc:title>
</cp:coreProperties>
</file>