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jpeg" ContentType="image/jpeg"/>
  <Override PartName="/ppt/media/image18.wmf" ContentType="image/x-wmf"/>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wmf" ContentType="image/x-wmf"/>
  <Override PartName="/ppt/media/image17.png" ContentType="image/png"/>
  <Override PartName="/ppt/media/image14.png" ContentType="image/png"/>
  <Override PartName="/ppt/media/image15.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0899-E207-4B3D-8DAA-EB833C259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pattern matching should work robustly and reliably under various conditions. In automated machine vision applications, the visual appearance of the materials or components under inspection can change due to factors such as orientation of the part, scale changes, lighting changes, and so on. The color pattern matching tool should maintain its ability to locate the reference patterns despite thes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or pattern matching tool should be able to locate the reference pattern in an image even if the pattern in the image is rotated and scaled. When a pattern is rotated in the image, the pattern matching tool detects the pattern in the image and returns the orientation of the pattern with respect to the template image. Also color pattern matching can find multiple instances of a model in the image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matching tool finds the reference pattern in an image under conditions of uniform changes in the lighting across the im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can find patterns in images that have undergone some transformation due to blurring and addition of noise. Blurring usually occurs due to incorrect focus or depth of field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location to quickly locate regions of specific colors in an image. With color location, you create a model or template that represents the colors for which you are searching. Then, your machine vision application searches for the model in each acquired image, calculating a score for each match. The score relates how close the model matches the colors found. You should use color location to locate objects that are fully described by the color in the object. In many applications, an object can be fully described by its color, and spatial information is not needed. Since color location uses only the color information and not spatial information, searching for an object takes less time. By using color location instead of color pattern matching, you can improve the speed of searching for an object. For example, you can count the number of color-coded tablets in an image using color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color pattern match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years ago, camera choices in the machine vision market were limited to simple interlaced cameras. These cameras, following the RS-170 and CCIR analog video standards, limited the acquisition size and frame rate. Over the last several years, higher speed parallel digital cameras have become the cameras of choice for higher speed, higher performance applications. Basic RS-170 and CCIR monochrome cameras have remained the workhorses of the simple, low-speed, or extremely cost-sensitive machine vis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wo new digital standards are emerging that have been designed to compliment and possibly replace the existing standards. IEEE-1394, a PC-centric interface technology, was designed to meet the needs of medium to low-performance machine vision applications. Offering an easy-to-use interface and small camera connector, IEEE-1394 cameras offer users a digital, feature-rich alternative to standard analog cameras – at a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Link is a new interface standard co-developed by many of the machine vision industry camera and frame grabber vendors. National Instruments has taken a leading role in the development of this standard. Using a high-speed serialized protocol, Camera Link promises to achieve parallel digital levels of performance with a simplified and smaller cabling scheme. Serial and timing communications are included in the specification allowing camera companies to define and implement even more full-featured digital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3440" cy="3430440"/>
          </a:xfrm>
          <a:prstGeom prst="rect">
            <a:avLst/>
          </a:prstGeom>
          <a:ln w="0">
            <a:noFill/>
          </a:ln>
        </p:spPr>
      </p:sp>
      <p:sp>
        <p:nvSpPr>
          <p:cNvPr id="19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all of the digital camera standards on the market, which should you choose? The answer to this difficult question depends largely on your particular application. Our recommendation is to choose a camera that meets the needs of your particular application. Camera resolution and frame rate are often the two biggest determiners in choosing the right camera. However, timing and triggering modes, as well as camera form factor, can also play an important role in making your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different standards appear on the market, however, other important criteria you should consider include camera availability and upgradeability. Will the interface standard that you choose be around in the future? As your application needs change, will you be able to easily switch to a different camera without changing your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3440" cy="3430440"/>
          </a:xfrm>
          <a:prstGeom prst="rect">
            <a:avLst/>
          </a:prstGeom>
          <a:ln w="0">
            <a:noFill/>
          </a:ln>
        </p:spPr>
      </p:sp>
      <p:sp>
        <p:nvSpPr>
          <p:cNvPr id="194"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allel digital cameras have been around for many years. They are the industry’s highest performing cameras and are used globally to solve vision applications in a wide variety of fields. While there is no official standard interface for these cameras, the installed customer base has led to a host of support and interfaces from various manufacturers. Look for an EIA-644 (LVDS) interface to achieve the highest possible data rates. LVDS has been rated to run up to a 1.2 GHz clock rate, but no camera or framegrabber on the market today supports this rate. This rating does, however, provide a foreseeable upgrade path to higher performing camera in the fu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cause of the lack of a standard, cameras from different manufacturers have differing connector and cabling schemes. Upgrading or changing cameras is a somewhat arduous task. Also, because the interface is a parallel digital interface, the connector and cable size are sometimes quite lar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a parallel digital camera and a digital camera IMAQ board, you can acquire images at thousands of frames per second with greater grayscale resolution and with higher spatial resolution (up to 4,000 x 4,000 pixels). National Instruments 142x Series boards for PCI and PXI/CompactPCI</a:t>
            </a:r>
            <a:r>
              <a:rPr b="0" lang="en-US" sz="1000" spc="-1" strike="noStrike" baseline="30000">
                <a:solidFill>
                  <a:srgbClr val="000000"/>
                </a:solidFill>
                <a:latin typeface="Times New Roman"/>
                <a:ea typeface="Times New Roman"/>
              </a:rPr>
              <a:t>™</a:t>
            </a:r>
            <a:r>
              <a:rPr b="0" lang="en-US" sz="1000" spc="-1" strike="noStrike">
                <a:solidFill>
                  <a:srgbClr val="000000"/>
                </a:solidFill>
                <a:latin typeface="Times New Roman"/>
                <a:ea typeface="Times New Roman"/>
              </a:rPr>
              <a:t> are some of the fastest digital image acquisition boards available, with a  50 MHz pixel clock and 32-bit wide digital input (four 8-bit pixels). With 80 MB of onboard memory, the NI 1424 can acquire data at a top rate of 200 MB/s. The 1422 Series boards feature a 16-bit input and a 40 MHz pixel clock for lower cost digital image acquisition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can use the digital IMAQ boards for area and line scan cameras. </a:t>
            </a:r>
            <a:r>
              <a:rPr b="0" lang="en-US" sz="1000" spc="-1" strike="noStrike">
                <a:solidFill>
                  <a:srgbClr val="000000"/>
                </a:solidFill>
                <a:latin typeface="Times New Roman"/>
                <a:ea typeface="Times New Roman"/>
              </a:rPr>
              <a:t>Unlike an area scan camera, a line scan camera acquires an image that is only one or a few pixels wide. Line scan cameras are usually chosen for applications where the item images is moving, such as conveyor or stage on a production system. Line scan cameras are useful in high-resolution applications because you can acquire lines at a fast rate as the part moves. IMAQ Vision can process each line individually or process several lines that have been stitched together. You can use the 1424 and 1422 Series boards with line scan camer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3440" cy="3430440"/>
          </a:xfrm>
          <a:prstGeom prst="rect">
            <a:avLst/>
          </a:prstGeom>
          <a:ln w="0">
            <a:noFill/>
          </a:ln>
        </p:spPr>
      </p:sp>
      <p:sp>
        <p:nvSpPr>
          <p:cNvPr id="196"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new standard for digital camera data transmission called Camera Link is being developed jointly by many of the key frame grabber and camera companies. National Instruments is a leading contributor in the development of this specification. This standard is based around a high-speed serial data transmission link called Channel Link which was developed by National Semiconductor. The standardization will improve the connectivity of digital cameras to digital frame grabbers while ensuring an extremely high-level of performance. In a way, this standard combines much of the ease-of-use of an IEEE-1394 standard with the high performance levels of the parallel digital standards. Currently there are only two Camera Link-compatible cameras on the market, but many of the parallel digital camera companies have committed to camera development. While the industry acceptance of this standard is promising, currently there is no installed base of users. For customers planning future projects, Camera Link is a viable option to consider, but until the standard has proven itself on the market, there is some risk of long-term availabil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PCI-1428 is the first Camera Link frame grabber from National Instruments. Soon, you will see many color and monochrome, area and line scan cameras on the market from several different camera manufacturers including PULNiX, Basler, and Dalsa. For more information on these cameras, please contact the respective camera compan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3440" cy="3430440"/>
          </a:xfrm>
          <a:prstGeom prst="rect">
            <a:avLst/>
          </a:prstGeom>
          <a:ln w="0">
            <a:noFill/>
          </a:ln>
        </p:spPr>
      </p:sp>
      <p:sp>
        <p:nvSpPr>
          <p:cNvPr id="198"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omise of IEEE-1394 has always been lower costs and simpler serial connections. Originally designed to connect multiple peripherals to a personal computer, IEEE-1394 has found a niche in the transmission of digital video data between cameras and PCs. After years of promises, there are only five cameras on the market today. These cameras are of reasonable quality and most have extensive feature sets that you can control over a serial link. All IEEE-1394 cameras on the market today follow the digital camera specification for IEEE-1394 cameras. While this specification ensures interoperability between the cameras, it limits the video content to either 8-bit monochrome or YUV color area scan, making IEEE-1394 cameras suitable only for specific applications. The future of IEEE-1394 is unclear, as it is extremely dependent on the PC industry as a whole. The lack of any backing by Intel and only partial backing by Microsoft has opened the door to two other serial standards, USB 2.0 and Serial ATA. IEEE-1394 may be a viable solution for customers with very simple and fixed requirements, but it is a far riskier alternative than choosing a parallel digital solution and much costlier than using an analog solu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898200" y="4354200"/>
            <a:ext cx="50274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IMAQ driver software for image acquisition is designed to scale between many types of acquisition methods. You can start using a low-cost, RS-170 camera and image acquisition board and then upgrade to a faster, higher-resolution camera and board with minimal software changes. To start using a new camera, you configure the new board and camera in Measurement and Application Explorer (MAX); then, you can immediately reuse your software. Because the NI-IMAQ</a:t>
            </a:r>
            <a:r>
              <a:rPr b="0" lang="en-US" sz="1200" spc="-1" strike="noStrike" baseline="30000">
                <a:solidFill>
                  <a:srgbClr val="000000"/>
                </a:solidFill>
                <a:latin typeface="Times New Roman"/>
              </a:rPr>
              <a:t>™  </a:t>
            </a:r>
            <a:r>
              <a:rPr b="0" lang="en-US" sz="1200" spc="-1" strike="noStrike">
                <a:solidFill>
                  <a:srgbClr val="000000"/>
                </a:solidFill>
                <a:latin typeface="Times New Roman"/>
              </a:rPr>
              <a:t>driver software uses one set of function calls that work for a wide variety of cameras, there is no need to rewrite your softwa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3440" cy="3430440"/>
          </a:xfrm>
          <a:prstGeom prst="rect">
            <a:avLst/>
          </a:prstGeom>
          <a:ln w="0">
            <a:noFill/>
          </a:ln>
        </p:spPr>
      </p:sp>
      <p:sp>
        <p:nvSpPr>
          <p:cNvPr id="20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future hold for the camera industry? Faster camera interfaces are a top priority. Camera Link has been developed to meet this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veloping technology is the use of CMOS sensors. While CMOS technologies do not currently yield the same accuracy as traditional CCD processes, CMOS is improving daily. The promises of CMOS include much cheaper image sensors and tighter camera integration, with more of the camera electronics embedded on the same die as the image sensor. Additional benefits of CMOS sensors include higher possible frame rates, especially for the larger megapixel cameras, and smaller camera bod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3440" cy="3430440"/>
          </a:xfrm>
          <a:prstGeom prst="rect">
            <a:avLst/>
          </a:prstGeom>
          <a:ln w="0">
            <a:noFill/>
          </a:ln>
        </p:spPr>
      </p:sp>
      <p:sp>
        <p:nvSpPr>
          <p:cNvPr id="204"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Advisor is a one-stop Web resource for engineers and scientists to select an imaging camera. Using this catalog of cameras, you can view features and specifications for more than 100 cameras. Camera Advisor explains how various cameras work with National Instruments hardware a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visiting this new section of the National Instruments Web site, you can compare different models and makes of cameras, such as line scan, area scan, progressive scan, and digital and analog cameras. You can also use Camera Advisor to compare technical details of various camer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introducing a new set of functions targeted at machine vision applications. The new machine vision functions are a set of high-level, task-based functions that allow you to easily and quickly design your machine vision system. The machine vision functions make common machine vision tasks very simple by incorporating many commonly used utilities such as coordinate systems and non-destructive overlays. Furthermore, machine vision fundamentals, such as identification, inspection, and gauging, are presented in an easy-to-use, task-based manner. By incorporating many commonly used utilities and simplifying the interface to the algorithms, the machine vision functions give you extremely powerful tools to help solve your machine vision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present machine vision tasks in an easy-to-use manner that allow you to perform a task often with only on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ge locators can find edges using rectangles and circles as search areas. Instead of just finding an edge point, the edge locators find the best fit line or circle present in the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measurements allow you to easily perform horizontal and vertical clamping measurements. You define a rectangular search area and the software returns a distance in user-calibrated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location uses our pattern matching technology to easily find features with on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and measuring objects allow you to easily count and measure bright or dark objects in a given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measurements provide light meters that compute the intensity of a region. You can use intensity measurements to detect the presence or absence of a feature or to perform cosmetic test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simplify tasks needed for all machine vision applications. Because the tasks are integrated in the machine vision functions, you only need to program the tasks to solv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chine vision applications require you to define a region of interest. You now have to use only one function to interactively define a region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 part to be inspected moves within the image. To account for this movement, you must define a coordinate system and all measurements are made relative to the coordinate system. Defining a coordinate system and making measurements relative to the coordinate system is incorporated in the machine vision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measurements, it is important for the software to output the results in user-defined units and not in pixels. Use spatial calibration to output results in user units and correct for lens dist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erforming an inspection task, users often want to see an image of the part with the results indicated on the image. Use non-destructive overlays, which are integrated in the machine vision functions, to indicate the result of the each inspection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above illustrates the use of the machine vision functions, including locating edges, measuring distances, finding features, and counting objects. The application also demonstrates the use of relative coordinate systems and non-destructive overlays to indicate search areas and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the machine vision VIs, including interactive region of interest selection, inspection of a part, and display with non-destructive overl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chrome images are used today to solve a large majority of the computer vision applications. For some applications, however, the image data contained in a monochrome image is not sufficient to solve the problem at hand. Using a color image acquisition board and camera can add an extra dimension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inspection in pharmaceutical applications to inspect color coded objects such as IV bags or tablets. Automotive applications, such as fuse box inspections, make use of color machine vision when you can distinguish objects based on color. The food industry uses color inspection to inspect fruit for ripeness and bruises. In all these applications, traditional approaches using monochrome image information can present problems. Color capabilities are suited for machine vision applications where color is the unique identifier for the device under inspection. Color in machine vision applications is a tool whose greatest possibilities are now just being realized. However, with new technologies, such as MMX, PCI, and the availability of low-cost machine vision software, color for machine vision is steadily increasing in app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pattern matching to quickly locate known reference patterns, or fiducials, in a color image. With color pattern matching you create a model or template that represents the object for which you are searching. Then, your machine vision application searches for the model in each acquired image and calculates a score for each match. The score relates how closely the model matches the pattern found. You should use color pattern matching to locate reference patterns that are fully described by the color and spatial information in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scale (monochrome) pattern matching is a well-established tool for alignment, gauging, and inspection applications. In all these application areas, you can often use color to simplify a monochrome problem by improving contrast or separation of the object from the background. The images above show the benefits of using color information when locating color coded fuses. In the grayscale image of the fuse box, the grayscale pattern matching tool finds it difficult to clearly differentiate between the fuse 20 and fuse 25 because of similar grayscale intensities and the translucent nature of the fuses. In the color image of the fuse box, color helps separate the fuses and can distinguish between fuse 20 and 25. In such applications, color helps improve the accuracy and reliability of the pattern matching t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uter Technologies for </a:t>
            </a:r>
            <a:br>
              <a:rPr sz="3600"/>
            </a:br>
            <a:r>
              <a:rPr b="1" lang="en-US" sz="3600" spc="-1" strike="noStrike">
                <a:solidFill>
                  <a:srgbClr val="ffff66"/>
                </a:solidFill>
                <a:latin typeface="Arial"/>
              </a:rPr>
              <a:t>Vision Measurement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les Schroe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 Feature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and rotation invari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nt to about 4 percent change in siz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uniform light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blu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tes about 10 percent occlu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pixel accura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Location</a:t>
            </a:r>
            <a:endParaRPr b="1" lang="en-US" sz="3600" spc="-1" strike="noStrike">
              <a:solidFill>
                <a:srgbClr val="ffff66"/>
              </a:solidFill>
              <a:latin typeface="Arial"/>
            </a:endParaRPr>
          </a:p>
        </p:txBody>
      </p:sp>
      <p:sp>
        <p:nvSpPr>
          <p:cNvPr id="118" name="PlaceHolder 2"/>
          <p:cNvSpPr>
            <a:spLocks noGrp="1"/>
          </p:cNvSpPr>
          <p:nvPr>
            <p:ph/>
          </p:nvPr>
        </p:nvSpPr>
        <p:spPr>
          <a:xfrm>
            <a:off x="685800" y="1752480"/>
            <a:ext cx="7772400" cy="137160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a region of color in an imag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earns color information in the templat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or objects fully described by color information </a:t>
            </a:r>
            <a:endParaRPr b="0" lang="en-US" sz="2800" spc="-1" strike="noStrike">
              <a:solidFill>
                <a:srgbClr val="ffffff"/>
              </a:solidFill>
              <a:latin typeface="Arial"/>
            </a:endParaRPr>
          </a:p>
        </p:txBody>
      </p:sp>
      <p:pic>
        <p:nvPicPr>
          <p:cNvPr id="119" name="" descr=""/>
          <p:cNvPicPr/>
          <p:nvPr/>
        </p:nvPicPr>
        <p:blipFill>
          <a:blip r:embed="rId1"/>
          <a:stretch/>
        </p:blipFill>
        <p:spPr>
          <a:xfrm>
            <a:off x="4038480" y="3962520"/>
            <a:ext cx="2971800" cy="2280960"/>
          </a:xfrm>
          <a:prstGeom prst="rect">
            <a:avLst/>
          </a:prstGeom>
          <a:ln w="0">
            <a:noFill/>
          </a:ln>
        </p:spPr>
      </p:pic>
      <p:pic>
        <p:nvPicPr>
          <p:cNvPr id="120" name="figure1c" descr=""/>
          <p:cNvPicPr/>
          <p:nvPr/>
        </p:nvPicPr>
        <p:blipFill>
          <a:blip r:embed="rId2"/>
          <a:stretch/>
        </p:blipFill>
        <p:spPr>
          <a:xfrm>
            <a:off x="838080" y="3962520"/>
            <a:ext cx="297180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ving a real-world application using the power of color pattern ma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and Interfac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interfacing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digital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 camera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ink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amera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Digital Cameras</a:t>
            </a:r>
            <a:endParaRPr b="1" lang="en-US" sz="3600" spc="-1" strike="noStrike">
              <a:solidFill>
                <a:srgbClr val="ffff66"/>
              </a:solidFill>
              <a:latin typeface="Arial"/>
            </a:endParaRPr>
          </a:p>
        </p:txBody>
      </p:sp>
      <p:sp>
        <p:nvSpPr>
          <p:cNvPr id="126"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era requirements</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rate</a:t>
            </a:r>
            <a:endParaRPr b="0" lang="en-US" sz="18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 and triggering</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 factor</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 grabber requirements</a:t>
            </a:r>
            <a:endParaRPr b="0" lang="en-US" sz="20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quisition rat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lable driver softwar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processing software</a:t>
            </a:r>
            <a:endParaRPr b="0" lang="en-US" sz="1800" spc="-1" strike="noStrike">
              <a:solidFill>
                <a:srgbClr val="ffffff"/>
              </a:solidFill>
              <a:latin typeface="Arial"/>
            </a:endParaRPr>
          </a:p>
        </p:txBody>
      </p:sp>
      <p:pic>
        <p:nvPicPr>
          <p:cNvPr id="127" name="puzzleblue" descr=""/>
          <p:cNvPicPr/>
          <p:nvPr/>
        </p:nvPicPr>
        <p:blipFill>
          <a:blip r:embed="rId1">
            <a:lum bright="70000" contrast="-70000"/>
          </a:blip>
          <a:stretch/>
        </p:blipFill>
        <p:spPr>
          <a:xfrm>
            <a:off x="6531120" y="3022560"/>
            <a:ext cx="1896840" cy="2387520"/>
          </a:xfrm>
          <a:prstGeom prst="rect">
            <a:avLst/>
          </a:prstGeom>
          <a:ln w="0">
            <a:noFill/>
          </a:ln>
        </p:spPr>
      </p:pic>
      <p:pic>
        <p:nvPicPr>
          <p:cNvPr id="128" name="puzzlered" descr=""/>
          <p:cNvPicPr/>
          <p:nvPr/>
        </p:nvPicPr>
        <p:blipFill>
          <a:blip r:embed="rId2">
            <a:lum bright="70000" contrast="-70000"/>
          </a:blip>
          <a:stretch/>
        </p:blipFill>
        <p:spPr>
          <a:xfrm>
            <a:off x="4648320" y="3495600"/>
            <a:ext cx="2368440" cy="1913040"/>
          </a:xfrm>
          <a:prstGeom prst="rect">
            <a:avLst/>
          </a:prstGeom>
          <a:ln w="0">
            <a:noFill/>
          </a:ln>
        </p:spPr>
      </p:pic>
      <p:sp>
        <p:nvSpPr>
          <p:cNvPr id="129" name=""/>
          <p:cNvSpPr/>
          <p:nvPr/>
        </p:nvSpPr>
        <p:spPr>
          <a:xfrm>
            <a:off x="4902120" y="400680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analysis</a:t>
            </a:r>
            <a:endParaRPr b="0" lang="en-US" sz="2400" spc="-1" strike="noStrike">
              <a:solidFill>
                <a:srgbClr val="000000"/>
              </a:solidFill>
              <a:latin typeface="Times New Roman"/>
            </a:endParaRPr>
          </a:p>
        </p:txBody>
      </p:sp>
      <p:sp>
        <p:nvSpPr>
          <p:cNvPr id="130" name=""/>
          <p:cNvSpPr/>
          <p:nvPr/>
        </p:nvSpPr>
        <p:spPr>
          <a:xfrm>
            <a:off x="7010280" y="40384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IMAQ</a:t>
            </a:r>
            <a:endParaRPr b="0" lang="en-US" sz="2400" spc="-1" strike="noStrike">
              <a:solidFill>
                <a:srgbClr val="000000"/>
              </a:solidFill>
              <a:latin typeface="Times New Roman"/>
            </a:endParaRPr>
          </a:p>
        </p:txBody>
      </p:sp>
      <p:pic>
        <p:nvPicPr>
          <p:cNvPr id="131" name="puzzleyellow" descr=""/>
          <p:cNvPicPr/>
          <p:nvPr/>
        </p:nvPicPr>
        <p:blipFill>
          <a:blip r:embed="rId3">
            <a:lum bright="70000" contrast="-70000"/>
          </a:blip>
          <a:stretch/>
        </p:blipFill>
        <p:spPr>
          <a:xfrm>
            <a:off x="4648320" y="1600200"/>
            <a:ext cx="1898640" cy="2387520"/>
          </a:xfrm>
          <a:prstGeom prst="rect">
            <a:avLst/>
          </a:prstGeom>
          <a:ln w="0">
            <a:noFill/>
          </a:ln>
        </p:spPr>
      </p:pic>
      <p:sp>
        <p:nvSpPr>
          <p:cNvPr id="132" name=""/>
          <p:cNvSpPr/>
          <p:nvPr/>
        </p:nvSpPr>
        <p:spPr>
          <a:xfrm>
            <a:off x="4724280" y="2057400"/>
            <a:ext cx="169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era</a:t>
            </a:r>
            <a:endParaRPr b="0" lang="en-US" sz="2400" spc="-1" strike="noStrike">
              <a:solidFill>
                <a:srgbClr val="000000"/>
              </a:solidFill>
              <a:latin typeface="Times New Roman"/>
            </a:endParaRPr>
          </a:p>
        </p:txBody>
      </p:sp>
      <p:pic>
        <p:nvPicPr>
          <p:cNvPr id="133" name="puzzlegreen" descr=""/>
          <p:cNvPicPr/>
          <p:nvPr/>
        </p:nvPicPr>
        <p:blipFill>
          <a:blip r:embed="rId4"/>
          <a:stretch/>
        </p:blipFill>
        <p:spPr>
          <a:xfrm>
            <a:off x="6059520" y="1600200"/>
            <a:ext cx="2368440" cy="1913040"/>
          </a:xfrm>
          <a:prstGeom prst="rect">
            <a:avLst/>
          </a:prstGeom>
          <a:ln w="0">
            <a:noFill/>
          </a:ln>
        </p:spPr>
      </p:pic>
      <p:sp>
        <p:nvSpPr>
          <p:cNvPr id="134" name=""/>
          <p:cNvSpPr/>
          <p:nvPr/>
        </p:nvSpPr>
        <p:spPr>
          <a:xfrm>
            <a:off x="6680160" y="202716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grab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35" name=""/>
          <p:cNvGraphicFramePr/>
          <p:nvPr/>
        </p:nvGraphicFramePr>
        <p:xfrm>
          <a:off x="6039000" y="4352760"/>
          <a:ext cx="3105000" cy="2505240"/>
        </p:xfrm>
        <a:graphic>
          <a:graphicData uri="http://schemas.openxmlformats.org/presentationml/2006/ole">
            <p:oleObj r:id="rId1" spid="">
              <p:embed/>
              <p:pic>
                <p:nvPicPr>
                  <p:cNvPr id="136" name="" descr=""/>
                  <p:cNvPicPr/>
                  <p:nvPr/>
                </p:nvPicPr>
                <p:blipFill>
                  <a:blip r:embed="rId2"/>
                  <a:stretch/>
                </p:blipFill>
                <p:spPr>
                  <a:xfrm>
                    <a:off x="6039000" y="4352760"/>
                    <a:ext cx="3105000" cy="2505240"/>
                  </a:xfrm>
                  <a:prstGeom prst="rect">
                    <a:avLst/>
                  </a:prstGeom>
                  <a:ln w="28440">
                    <a:solidFill>
                      <a:srgbClr val="000000"/>
                    </a:solidFill>
                    <a:miter/>
                  </a:ln>
                </p:spPr>
              </p:pic>
            </p:oleObj>
          </a:graphicData>
        </a:graphic>
      </p:graphicFrame>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igital Cameras</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olutions (up to 4K x 4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ransfer rates (4.8 GB/s theoretical,  200 Mb/s curr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 rates up to 1,000,000 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depths include 8, 10, 12, 14, 16, 24-b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number of current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and line scan model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Link Cameras</a:t>
            </a:r>
            <a:endParaRPr b="1" lang="en-US" sz="3600" spc="-1" strike="noStrike">
              <a:solidFill>
                <a:srgbClr val="ffff66"/>
              </a:solidFill>
              <a:latin typeface="Arial"/>
            </a:endParaRPr>
          </a:p>
        </p:txBody>
      </p:sp>
      <p:sp>
        <p:nvSpPr>
          <p:cNvPr id="140" name="PlaceHolder 2"/>
          <p:cNvSpPr>
            <a:spLocks noGrp="1"/>
          </p:cNvSpPr>
          <p:nvPr>
            <p:ph/>
          </p:nvPr>
        </p:nvSpPr>
        <p:spPr>
          <a:xfrm>
            <a:off x="685440" y="17524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link interface standar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ational Semiconductor channel link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transfer rates (595 MB/s theoretical, 297.5 Mb/s per channe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ndardized connecto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and timing control built into the spec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multiple major camera and frame grabber compan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nd line scan models planned for Q4 2000 relea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CI-1428 frame grabber</a:t>
            </a:r>
            <a:endParaRPr b="0" lang="en-US" sz="2400" spc="-1" strike="noStrike">
              <a:solidFill>
                <a:srgbClr val="ffffff"/>
              </a:solidFill>
              <a:latin typeface="Arial"/>
            </a:endParaRPr>
          </a:p>
        </p:txBody>
      </p:sp>
      <p:pic>
        <p:nvPicPr>
          <p:cNvPr id="141" name="C1000" descr="TMC-1000"/>
          <p:cNvPicPr/>
          <p:nvPr/>
        </p:nvPicPr>
        <p:blipFill>
          <a:blip r:embed="rId1"/>
          <a:stretch/>
        </p:blipFill>
        <p:spPr>
          <a:xfrm>
            <a:off x="7010280" y="152280"/>
            <a:ext cx="1989360" cy="136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Cameras</a:t>
            </a:r>
            <a:endParaRPr b="1" lang="en-US" sz="3600" spc="-1" strike="noStrike">
              <a:solidFill>
                <a:srgbClr val="ffff66"/>
              </a:solidFill>
              <a:latin typeface="Arial"/>
            </a:endParaRPr>
          </a:p>
        </p:txBody>
      </p:sp>
      <p:sp>
        <p:nvSpPr>
          <p:cNvPr id="143" name="PlaceHolder 2"/>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IEEE-1394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rich camera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 size and rate limit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limited to 37.5 MB/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bit monochrome and color area scan cameras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under Microsoft Windows 2000 and 98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is backing competing PC standards of USB 2.0 and Serial ATA making IEEE-1394 future unclea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camera choi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 available</a:t>
            </a:r>
            <a:endParaRPr b="0" lang="en-US" sz="2400" spc="-1" strike="noStrike">
              <a:solidFill>
                <a:srgbClr val="ffffff"/>
              </a:solidFill>
              <a:latin typeface="Arial"/>
            </a:endParaRPr>
          </a:p>
        </p:txBody>
      </p:sp>
      <p:pic>
        <p:nvPicPr>
          <p:cNvPr id="144" name="modelpic" descr=""/>
          <p:cNvPicPr/>
          <p:nvPr/>
        </p:nvPicPr>
        <p:blipFill>
          <a:blip r:embed="rId1"/>
          <a:stretch/>
        </p:blipFill>
        <p:spPr>
          <a:xfrm>
            <a:off x="6095880" y="304920"/>
            <a:ext cx="2675160" cy="216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5" name=""/>
          <p:cNvGraphicFramePr/>
          <p:nvPr/>
        </p:nvGraphicFramePr>
        <p:xfrm>
          <a:off x="76320" y="1523880"/>
          <a:ext cx="7391160" cy="4297320"/>
        </p:xfrm>
        <a:graphic>
          <a:graphicData uri="http://schemas.openxmlformats.org/presentationml/2006/ole">
            <p:oleObj r:id="rId1" spid="">
              <p:embed/>
              <p:pic>
                <p:nvPicPr>
                  <p:cNvPr id="146" name="" descr=""/>
                  <p:cNvPicPr/>
                  <p:nvPr/>
                </p:nvPicPr>
                <p:blipFill>
                  <a:blip r:embed="rId2"/>
                  <a:stretch/>
                </p:blipFill>
                <p:spPr>
                  <a:xfrm>
                    <a:off x="76320" y="1523880"/>
                    <a:ext cx="7391160" cy="4297320"/>
                  </a:xfrm>
                  <a:prstGeom prst="rect">
                    <a:avLst/>
                  </a:prstGeom>
                  <a:ln w="0">
                    <a:noFill/>
                  </a:ln>
                </p:spPr>
              </p:pic>
            </p:oleObj>
          </a:graphicData>
        </a:graphic>
      </p:graphicFrame>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le Cameras</a:t>
            </a:r>
            <a:endParaRPr b="1" lang="en-US" sz="3600" spc="-1" strike="noStrike">
              <a:solidFill>
                <a:srgbClr val="ffff66"/>
              </a:solidFill>
              <a:latin typeface="Arial"/>
            </a:endParaRPr>
          </a:p>
        </p:txBody>
      </p:sp>
      <p:sp>
        <p:nvSpPr>
          <p:cNvPr id="148" name="PlaceHolder 2"/>
          <p:cNvSpPr>
            <a:spLocks noGrp="1"/>
          </p:cNvSpPr>
          <p:nvPr>
            <p:ph/>
          </p:nvPr>
        </p:nvSpPr>
        <p:spPr>
          <a:xfrm>
            <a:off x="5333760" y="1981080"/>
            <a:ext cx="3809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o lower cost or more advanced cameras easi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49" name=""/>
          <p:cNvSpPr/>
          <p:nvPr/>
        </p:nvSpPr>
        <p:spPr>
          <a:xfrm rot="19329600">
            <a:off x="12193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50" name=""/>
          <p:cNvGraphicFramePr/>
          <p:nvPr/>
        </p:nvGraphicFramePr>
        <p:xfrm>
          <a:off x="0" y="1600200"/>
          <a:ext cx="7391520" cy="4073400"/>
        </p:xfrm>
        <a:graphic>
          <a:graphicData uri="http://schemas.openxmlformats.org/presentationml/2006/ole">
            <p:oleObj r:id="rId1" spid="">
              <p:embed/>
              <p:pic>
                <p:nvPicPr>
                  <p:cNvPr id="151" name="" descr=""/>
                  <p:cNvPicPr/>
                  <p:nvPr/>
                </p:nvPicPr>
                <p:blipFill>
                  <a:blip r:embed="rId2"/>
                  <a:stretch/>
                </p:blipFill>
                <p:spPr>
                  <a:xfrm>
                    <a:off x="0" y="1600200"/>
                    <a:ext cx="7391520" cy="4073400"/>
                  </a:xfrm>
                  <a:prstGeom prst="rect">
                    <a:avLst/>
                  </a:prstGeom>
                  <a:ln w="0">
                    <a:noFill/>
                  </a:ln>
                </p:spPr>
              </p:pic>
            </p:oleObj>
          </a:graphicData>
        </a:graphic>
      </p:graphicFrame>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 Bandwidth Increases…</a:t>
            </a:r>
            <a:endParaRPr b="1" lang="en-US" sz="3600" spc="-1" strike="noStrike">
              <a:solidFill>
                <a:srgbClr val="ffff66"/>
              </a:solidFill>
              <a:latin typeface="Arial"/>
            </a:endParaRPr>
          </a:p>
        </p:txBody>
      </p:sp>
      <p:sp>
        <p:nvSpPr>
          <p:cNvPr id="153" name="PlaceHolder 2"/>
          <p:cNvSpPr>
            <a:spLocks noGrp="1"/>
          </p:cNvSpPr>
          <p:nvPr>
            <p:ph/>
          </p:nvPr>
        </p:nvSpPr>
        <p:spPr>
          <a:xfrm>
            <a:off x="5409720" y="1981080"/>
            <a:ext cx="358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becomes increasingly impor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IMAQ continues to scale to cameras of the fu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54" name=""/>
          <p:cNvSpPr/>
          <p:nvPr/>
        </p:nvSpPr>
        <p:spPr>
          <a:xfrm rot="19329600">
            <a:off x="9907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processing adva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vision fun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pattern match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amera and interfacing dir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interfacing op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technolog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Technologies</a:t>
            </a:r>
            <a:endParaRPr b="1" lang="en-US" sz="3600" spc="-1" strike="noStrike">
              <a:solidFill>
                <a:srgbClr val="ffff66"/>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camera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image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frame r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lectronics on photosensitive silic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camera bodies</a:t>
            </a:r>
            <a:endParaRPr b="0" lang="en-US" sz="2800" spc="-1" strike="noStrike">
              <a:solidFill>
                <a:srgbClr val="ffffff"/>
              </a:solidFill>
              <a:latin typeface="Arial"/>
            </a:endParaRPr>
          </a:p>
        </p:txBody>
      </p:sp>
      <p:grpSp>
        <p:nvGrpSpPr>
          <p:cNvPr id="157" name=""/>
          <p:cNvGrpSpPr/>
          <p:nvPr/>
        </p:nvGrpSpPr>
        <p:grpSpPr>
          <a:xfrm>
            <a:off x="2793960" y="2725560"/>
            <a:ext cx="3556080" cy="1387440"/>
            <a:chOff x="2793960" y="2725560"/>
            <a:chExt cx="3556080" cy="1387440"/>
          </a:xfrm>
        </p:grpSpPr>
        <p:sp>
          <p:nvSpPr>
            <p:cNvPr id="158" name=""/>
            <p:cNvSpPr/>
            <p:nvPr/>
          </p:nvSpPr>
          <p:spPr>
            <a:xfrm>
              <a:off x="2793960" y="2725560"/>
              <a:ext cx="3556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2793960" y="2725560"/>
              <a:ext cx="3556080" cy="13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0" name="C1000" descr="TMC-1000"/>
          <p:cNvPicPr/>
          <p:nvPr/>
        </p:nvPicPr>
        <p:blipFill>
          <a:blip r:embed="rId1"/>
          <a:stretch/>
        </p:blipFill>
        <p:spPr>
          <a:xfrm>
            <a:off x="6858000" y="1752480"/>
            <a:ext cx="1989000" cy="1360440"/>
          </a:xfrm>
          <a:prstGeom prst="rect">
            <a:avLst/>
          </a:prstGeom>
          <a:ln w="0">
            <a:noFill/>
          </a:ln>
        </p:spPr>
      </p:pic>
      <p:graphicFrame>
        <p:nvGraphicFramePr>
          <p:cNvPr id="161" name=""/>
          <p:cNvGraphicFramePr/>
          <p:nvPr/>
        </p:nvGraphicFramePr>
        <p:xfrm>
          <a:off x="2819520" y="4800600"/>
          <a:ext cx="3000240" cy="1868400"/>
        </p:xfrm>
        <a:graphic>
          <a:graphicData uri="http://schemas.openxmlformats.org/presentationml/2006/ole">
            <p:oleObj r:id="rId2" spid="">
              <p:embed/>
              <p:pic>
                <p:nvPicPr>
                  <p:cNvPr id="162" name="" descr=""/>
                  <p:cNvPicPr/>
                  <p:nvPr/>
                </p:nvPicPr>
                <p:blipFill>
                  <a:blip r:embed="rId3"/>
                  <a:stretch/>
                </p:blipFill>
                <p:spPr>
                  <a:xfrm>
                    <a:off x="2819520" y="4800600"/>
                    <a:ext cx="3000240" cy="1868400"/>
                  </a:xfrm>
                  <a:prstGeom prst="rect">
                    <a:avLst/>
                  </a:prstGeom>
                  <a:ln w="0">
                    <a:noFill/>
                  </a:ln>
                </p:spPr>
              </p:pic>
            </p:oleObj>
          </a:graphicData>
        </a:graphic>
      </p:graphicFrame>
      <p:pic>
        <p:nvPicPr>
          <p:cNvPr id="163" name="eclipse_camera_glow" descr="Eclipse_cam.jpg (11039 bytes)"/>
          <p:cNvPicPr/>
          <p:nvPr/>
        </p:nvPicPr>
        <p:blipFill>
          <a:blip r:embed="rId4"/>
          <a:stretch/>
        </p:blipFill>
        <p:spPr>
          <a:xfrm>
            <a:off x="6248520" y="3886200"/>
            <a:ext cx="2666880" cy="172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Advisor</a:t>
            </a:r>
            <a:endParaRPr b="1" lang="en-US" sz="3600" spc="-1" strike="noStrike">
              <a:solidFill>
                <a:srgbClr val="ffff66"/>
              </a:solidFill>
              <a:latin typeface="Arial"/>
            </a:endParaRPr>
          </a:p>
        </p:txBody>
      </p:sp>
      <p:pic>
        <p:nvPicPr>
          <p:cNvPr id="165" name="" descr=""/>
          <p:cNvPicPr/>
          <p:nvPr/>
        </p:nvPicPr>
        <p:blipFill>
          <a:blip r:embed="rId1"/>
          <a:stretch/>
        </p:blipFill>
        <p:spPr>
          <a:xfrm>
            <a:off x="685800" y="1981080"/>
            <a:ext cx="3809880" cy="4114800"/>
          </a:xfrm>
          <a:prstGeom prst="rect">
            <a:avLst/>
          </a:prstGeom>
          <a:ln w="28440">
            <a:solidFill>
              <a:srgbClr val="000000"/>
            </a:solidFill>
            <a:miter/>
          </a:ln>
        </p:spPr>
      </p:pic>
      <p:sp>
        <p:nvSpPr>
          <p:cNvPr id="166"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you find the right camera</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full camera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
          <p:cNvSpPr/>
          <p:nvPr/>
        </p:nvSpPr>
        <p:spPr>
          <a:xfrm>
            <a:off x="2133720" y="4038480"/>
            <a:ext cx="5029200" cy="825120"/>
          </a:xfrm>
          <a:prstGeom prst="rect">
            <a:avLst/>
          </a:prstGeom>
          <a:solidFill>
            <a:srgbClr val="003366"/>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ni.com/cameras</a:t>
            </a:r>
            <a:endParaRPr b="0" lang="en-US" sz="4800" spc="-1" strike="noStrike">
              <a:solidFill>
                <a:srgbClr val="000000"/>
              </a:solidFill>
              <a:latin typeface="Times New Roman"/>
            </a:endParaRPr>
          </a:p>
        </p:txBody>
      </p:sp>
      <p:sp>
        <p:nvSpPr>
          <p:cNvPr id="168" name=""/>
          <p:cNvSpPr/>
          <p:nvPr/>
        </p:nvSpPr>
        <p:spPr>
          <a:xfrm>
            <a:off x="15840" y="7162920"/>
            <a:ext cx="9128160" cy="11944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ose who are confused about what camera to buy, and for those who want to look for a camera that meets certain requiremen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ve never used it, please do before giving the seminar…this is a major selling point to some custom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Machine Vision Easi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quickly and easily solve machine vision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ommon machine vision tasks si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u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Func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ed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ng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and measur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intens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Application Developme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regions of interest interactiv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relative coordinate systems with each machine vision tas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results in user-defined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ay results of machine vision task on an im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of Machine Vision Functions</a:t>
            </a:r>
            <a:endParaRPr b="1" lang="en-US" sz="3600" spc="-1" strike="noStrike">
              <a:solidFill>
                <a:srgbClr val="ffff66"/>
              </a:solidFill>
              <a:latin typeface="Arial"/>
            </a:endParaRPr>
          </a:p>
        </p:txBody>
      </p:sp>
      <p:pic>
        <p:nvPicPr>
          <p:cNvPr id="104" name="Disk%20Measures" descr=""/>
          <p:cNvPicPr/>
          <p:nvPr/>
        </p:nvPicPr>
        <p:blipFill>
          <a:blip r:embed="rId1"/>
          <a:stretch/>
        </p:blipFill>
        <p:spPr>
          <a:xfrm>
            <a:off x="1523880" y="1676520"/>
            <a:ext cx="5562720" cy="43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application with ease u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 of interest sel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with over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in Machine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another dimension of infor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the solution to many machine vision inspection probl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 of color-coded mat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otive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product insp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a:t>
            </a:r>
            <a:endParaRPr b="1" lang="en-US" sz="3600" spc="-1" strike="noStrike">
              <a:solidFill>
                <a:srgbClr val="ffff66"/>
              </a:solidFill>
              <a:latin typeface="Arial"/>
            </a:endParaRPr>
          </a:p>
        </p:txBody>
      </p:sp>
      <p:sp>
        <p:nvSpPr>
          <p:cNvPr id="110" name="PlaceHolder 2"/>
          <p:cNvSpPr>
            <a:spLocks noGrp="1"/>
          </p:cNvSpPr>
          <p:nvPr>
            <p:ph/>
          </p:nvPr>
        </p:nvSpPr>
        <p:spPr>
          <a:xfrm>
            <a:off x="685800" y="1752120"/>
            <a:ext cx="7772400" cy="205740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fiducials in a color image</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accuracy and reliability of pattern matching</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color matching and grayscale pattern matching</a:t>
            </a:r>
            <a:endParaRPr b="0"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1" name=""/>
          <p:cNvGraphicFramePr/>
          <p:nvPr/>
        </p:nvGraphicFramePr>
        <p:xfrm>
          <a:off x="1295280" y="4111560"/>
          <a:ext cx="2733840" cy="1981440"/>
        </p:xfrm>
        <a:graphic>
          <a:graphicData uri="http://schemas.openxmlformats.org/presentationml/2006/ole">
            <p:oleObj progId="Word.Document.12" r:id="rId1" spid="">
              <p:embed/>
              <p:pic>
                <p:nvPicPr>
                  <p:cNvPr id="112" name="" descr=""/>
                  <p:cNvPicPr/>
                  <p:nvPr/>
                </p:nvPicPr>
                <p:blipFill>
                  <a:blip r:embed="rId2"/>
                  <a:stretch/>
                </p:blipFill>
                <p:spPr>
                  <a:xfrm>
                    <a:off x="1295280" y="4111560"/>
                    <a:ext cx="2733840" cy="1981440"/>
                  </a:xfrm>
                  <a:prstGeom prst="rect">
                    <a:avLst/>
                  </a:prstGeom>
                  <a:ln w="0">
                    <a:noFill/>
                  </a:ln>
                </p:spPr>
              </p:pic>
            </p:oleObj>
          </a:graphicData>
        </a:graphic>
      </p:graphicFrame>
      <p:graphicFrame>
        <p:nvGraphicFramePr>
          <p:cNvPr id="113" name=""/>
          <p:cNvGraphicFramePr/>
          <p:nvPr/>
        </p:nvGraphicFramePr>
        <p:xfrm>
          <a:off x="4495680" y="4111560"/>
          <a:ext cx="2733840" cy="1984320"/>
        </p:xfrm>
        <a:graphic>
          <a:graphicData uri="http://schemas.openxmlformats.org/presentationml/2006/ole">
            <p:oleObj progId="Word.Document.12" r:id="rId3" spid="">
              <p:embed/>
              <p:pic>
                <p:nvPicPr>
                  <p:cNvPr id="114" name="" descr=""/>
                  <p:cNvPicPr/>
                  <p:nvPr/>
                </p:nvPicPr>
                <p:blipFill>
                  <a:blip r:embed="rId4"/>
                  <a:stretch/>
                </p:blipFill>
                <p:spPr>
                  <a:xfrm>
                    <a:off x="4495680" y="4111560"/>
                    <a:ext cx="2733840" cy="19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22:28:37Z</dcterms:created>
  <dc:creator>Stefanie Breyer</dc:creator>
  <dc:description/>
  <dc:language>en-US</dc:language>
  <cp:lastModifiedBy>David Steele</cp:lastModifiedBy>
  <cp:lastPrinted>2000-07-05T22:44:49Z</cp:lastPrinted>
  <dcterms:modified xsi:type="dcterms:W3CDTF">2000-07-25T20:00:08Z</dcterms:modified>
  <cp:revision>62</cp:revision>
  <dc:subject/>
  <dc:title>Computer Technologies for Vision Measurements</dc:title>
</cp:coreProperties>
</file>