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y Parametric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2D– </a:t>
            </a:r>
            <a:fld id="{19417328-94DF-486B-8E94-F973B39D62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 provides VIs that allow users to specify a limit (mask), then perform limit testing. The limit can be specified in terms of numbers or formula. The limit can be either continuous or segmented. The user can specify the limit as part of the initialization process, then perform limit testing continuously on blocks of data. The output from the limit testing is a Boolean which indicates if the limit testing passed or failed. The VI also returns an array which contains the input signal, a failure array which contains the data points at which limit testing failed and the upper and lower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demo, we will see how easy it is to specify limits and perform limit testing using LabVIEW 6</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56160" cy="34164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 has a number of VIs that implement high level measurements on top of the Advanced Analysi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d DC RMS Measurement VI takes a signal in, applies a window to the signal, and averages the DC and RMS values calculated from the windowed signal with the previous DC and RMS values according to the averaging typ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ract Single Tone Information VI takes a signal in, finds the single tone with the highest amplitude (or searches a specified frequency range) and returns the single tone frequency, amplitude and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pecify a particular frequency to search for or the VI will return the frequency at the first peak it found in the spectrum. The VI internally applies an optimized window and then performs spectrum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emo shows how to use this VI to measure frequency and phase of an inpu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atter demo, we use this VI also to measure the frequency of T1 signal. The trick is that an AMI signal has zero energy at DC and 1/T (fundamental frequency). The peak is found at 1/2T. The trick to get the right frequency is to take the absolute value of the T1 signal and then feed it to the frequency measurement 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8840" y="703440"/>
            <a:ext cx="4419720" cy="3314520"/>
          </a:xfrm>
          <a:prstGeom prst="rect">
            <a:avLst/>
          </a:prstGeom>
          <a:ln w="0">
            <a:noFill/>
          </a:ln>
        </p:spPr>
      </p:sp>
      <p:sp>
        <p:nvSpPr>
          <p:cNvPr id="171" name="PlaceHolder 2"/>
          <p:cNvSpPr>
            <a:spLocks noGrp="1"/>
          </p:cNvSpPr>
          <p:nvPr>
            <p:ph type="body"/>
          </p:nvPr>
        </p:nvSpPr>
        <p:spPr>
          <a:xfrm>
            <a:off x="914400" y="4341960"/>
            <a:ext cx="5029200" cy="4116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uses a National Instruments arbitrary waveform generator (NI 5411) to generate a T1 alternate mark inversion signal. (In the real world, the T1 signal would come from a devic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1 signal goes to a “device under test” (an RC circuit). The output of the RC circuit goes to the analog input of a National Instruments 100 MHz Digitizer (NI 59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911 digitizes the signal, and LabVIEW meas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lse Ma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lit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lse Mask” is set of values over which a measurement is within limit. It is displayed as a “mask” on an oscilloscop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the level and frequency of T1 signals is non-trivial. We use the Extract Single Tone Information VI to measure thes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8840" y="703440"/>
            <a:ext cx="4419720" cy="3314520"/>
          </a:xfrm>
          <a:prstGeom prst="rect">
            <a:avLst/>
          </a:prstGeom>
          <a:ln w="0">
            <a:noFill/>
          </a:ln>
        </p:spPr>
      </p:sp>
      <p:sp>
        <p:nvSpPr>
          <p:cNvPr id="173" name="PlaceHolder 2"/>
          <p:cNvSpPr>
            <a:spLocks noGrp="1"/>
          </p:cNvSpPr>
          <p:nvPr>
            <p:ph type="body"/>
          </p:nvPr>
        </p:nvSpPr>
        <p:spPr>
          <a:xfrm>
            <a:off x="914400" y="4341600"/>
            <a:ext cx="5029200" cy="4421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to test ADSL modems. An ADSL modem sends signals to the telephone company between 26 and 138 kHz, and receives signals from 138 kHz up to 1.2 M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uses the NI 5411 to generate an ADSL upstream signal. (In the real world, the ADSL signal would come from a devic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B is connected to a simulated “device under test.” The output of the device under test is connected to the input of the 5911. The 5911 samples at 12.5 MHz (it i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in the flexible resolution mode) and acquires the incoming signal from 0 Hz to 6.25 M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code analyzes the incoming data and calcul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Power Spectral Density) in the POTS band (0 to 4 kHz) and between the POTS and ADSL band (4 to 26 kHz). This would be unwanted interference generated by the modem under test (it should be very 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in the upstream band (26 to 138 kHz). This is the primary signal generated by the modem. The levels must be within spe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in the downstream band and up to the 5th harmonic of the downstream band (138 kHz to 6.25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ise in the same b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d levels are compared to minimum and maximum limits defined by the ANSI T1.413 standard. Go/No-Go lights for each test are on the righ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6160" cy="341604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ivide the area of telecommunications into four major segments, including telephony, wireless, datacom and broadcast. The end users, products and signals are different for each segment, but the underlying test methodology is very similar. In this presentation, we focus on one of these four segments, namely telephony. We talk about different telephony technologies such as POTS, T1 and ADSL. We describe the signals and data transmission rates associated with these technologies. We then talk about telephony testing which consists of parametric tests (which measure the characteristics of the signal), protocol tests (which analyze the information carried by the signals) and media tests (which analyze the communication channel). In this presentation, we mainly focus on parametric testing. In the latter part of the presentation, we have a number of demos which show how LabVIEW and computer-based instruments can be used for parametric testing of telephony sign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50920" y="692280"/>
            <a:ext cx="4556160" cy="341604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phony is one of the four big segments in the telecommunications market, the other three being broadcast, datacom and wireless. Most people refer to telephony as the technology associated with the “plain old” telephone set that sits on a desk. But in reality, telephony is much more than just voice. It also includes analog data services (faxes and modems), ISDN, older digital services (T1, E1), newer digital services (ADSL) and a host of other less important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pair copper wire is the primary medium of communication. Single-strand copper wire is twisted into color-coded pairs. Pairs of wires are then bound together into distribution cables, which in turn form “binder groups” within larger feeder cables. These cables may terminate at the main distribution frame in a central switching office or at a subscriber loop carrier cabinet where they are multiplexed into higher-bandwidth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ber is becoming popular in telephony recently. Almost all long distance trunks between central offices now use single mode optical cable operating at either 1300 nm or 1500 nm. Optical cable is capable of carrying up to tens of Gbps of data and is also immune to noise and other problems that plague wireless, coaxial cable and twisted pair. Were is not for the cost of replacing metallic networks with fiber, a much larger percentage of the world would be fiber today instead of c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50920" y="692280"/>
            <a:ext cx="4556160" cy="341604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S is the still the most popular means of communication for people at home and work. Recent surveys have shown that POTS lines still make up over 90% of the telephone lines in the world. POTS has not changed much this century. It relies on analog devices to convert sound waves to electrical signals, then transmitting them over a public switched telephone network (PSTN). The biggest change has come in the central office switches. The progression has been from telephone operators with patch panels, to mechanical relays and now to digital switches. Digital switches have greatly increased network speed and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has historical significance and is still used as the first level in a hierarchy that multiplexes ever increasing number of channels. T1 develops a 1.544 Mbps pulsed digital signal by multiplexing 24 voice channels. Each channel is sampled at 8000 samples/s. Each sample is then converted to 8 bits using companded pulse code modulation (PCM). The 24 channels are then time division multiplexed. Each frame which corresponds to one sampling period contains 192 (24 * 8) plus one bit for frame synchronization. Since frames occur at 8000 times/sec, the system transmits at 1.544 Mbps. T1 was developed as an ANSI standard and is use mainly in the US and Canada. The rest of the world uses E1 which transmits at 2.048 Mbps and has 30 channe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0920" y="69228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L is a technology that exploits unused frequencies on copper telephone lines to transmit traffic typically at multi-megabit speeds. DSL allows voice and high-speed data to be sent simultaneously over the same line. You can use your phone and stay connected to the Internet at the sam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SL is an asymmetric variation of DSL that offers differing upload and download speeds. Download speeds range from 256 Kbps to 8 Mbps and upload speeds range from 16 Kbps to 640 Kbps. It is good for general Internet access and for applications where downstream speed is most important, such as video-on-demand. ADSL works by splitting the phone line into two frequency ranges. The frequencies below 4 KHz are reserved for voice, and the range above that is used for data. This makes it possible to use the line for phone calls and Internet access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modems send their signals through PSTN. On the other hand, ADSL modems carry their signals on top of voice signal. At the central office, the line gets split. Voice calls are sent to the PSTN and the data transmission goes to the Internet. This method moves data off the phone companies lines and instead uses connections optimized for carrying Internet traffic.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0920" y="692280"/>
            <a:ext cx="455616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a simplified model of a communication system. The upper section represents a transmitter and the lower section represents a receiver. Input to the transmitter is data from a device such as a computer or a compander, which converts voice data from a cellular phone into digital data. This device then sends the data through a protocol stack. In this figure, the protocol stack represents all the Open Systems Interconnection (OSI) layers other than the physical layer and the data layer. A modem then modulates the digital data using different digital communication tools. We can categorize this process as part of the link layer in the protocol stack. A transmission protocol defines the type of source encoding, modulation and error control coding. The output of the modem is usually a modulated analog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t hardware transmits the analog signal over a channel. There are different types of channels such as coaxial cable, twisted pair copper wires, wireless or fiber optics. </a:t>
            </a:r>
            <a:r>
              <a:rPr b="0" lang="en-US" sz="1200" spc="-1" strike="noStrike">
                <a:solidFill>
                  <a:srgbClr val="000000"/>
                </a:solidFill>
                <a:latin typeface="Times New Roman"/>
              </a:rPr>
              <a:t>The receiver hardware receives the analog signals from the channel. Once again, the modem demodulates the incoming data and converts it back to the digital domain. The data is then consumed by the device on the receiver s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perform different types of tests at different points along a communication system. You can broadly classify these tests into three categories, namely media, parametric, and protoc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tests looks at the physical and electrical characteristics of the channel that transmits data. In case of telephony, the channel consists of the twisted pair copper w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tests looks at the characteristics of the signals themselves (irrespective of media). There are a number of tests that are performed on these signals before they are transmitted over a channel. The ITU/ANSI specifications describe a number of these tests such as pulse mask, amplitude, frequency, jitter and wander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tests are usually performed on the digital data. They test the protocol that defines a particular standard. </a:t>
            </a:r>
            <a:r>
              <a:rPr b="0" lang="en-US" sz="1200" spc="-1" strike="noStrike">
                <a:solidFill>
                  <a:srgbClr val="000000"/>
                </a:solidFill>
                <a:latin typeface="Times New Roman"/>
              </a:rPr>
              <a:t>They look at the logical flow of information (messages, packets, frames, cells, etc). </a:t>
            </a:r>
            <a:r>
              <a:rPr b="0" lang="en-US" sz="1200" spc="-1" strike="noStrike">
                <a:solidFill>
                  <a:srgbClr val="000000"/>
                </a:solidFill>
                <a:latin typeface="Times New Roman"/>
              </a:rPr>
              <a:t>Bit error rate testing (BERT) is one such common protocol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tests address the electrical parameters of the twisted pair itself. Media tests include basic measurements such as DC and AC voltage, current, resistance and capaci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pecialized telephony tests such a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 Coil Detect – Load coils are connected to twisted pair to equalize the capacitance of the line. Reducing capacitance reduces loss, so load coils effectively extend the range of POTS signals. Load coils also reduce the bandwidth of POTS signals to 4000 Hz. You must remove them if you need to install DSL service</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itudinal Balance is a test to determine the balance of AC impedance on each side of the pair with respect to the cable shield (or ground). If the resistance or capacitance to ground on either conductor is different, this creates an imbalance. Poorly balanced twisted pair permits noise to enter (or radiate) from a circuit.</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DR is a measurement technique for locating changes in impedance on transmission lines. TDR works by transmitting a pulse on a line, then looking for reflections of the pulse in the time domain. The distance to “events” can be calculated by measuring the time between the launch pulse and its reflection, then converting time to distance based on the velocity of propagation of the line. TDR can locate events on telephone lines such as shorts, opens, load coils, bridge taps, water in cable, and spli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S measures signal quality parameters such as loss and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k Tests – Regulatory bodies such as ITU and ANSI define masks (envelopes) within which a signal must always lie. It is a common practice to test a predefined number of pulses to ensure that they fall within the mask. The number of hits is defined as a count of the number of pulses that fall outside the mask. Amplitude test measures the peak value of a signal. Sometimes, we also measure the DC component in the signal. Frequency tests measure the frequency of a signal. Jitter test measures the short-term variations of significant instants of a digital signal from their ideal positions in time (reference points). Jitter amplitude is usually measured in unit intervals (UI), which is defined as the nominal bit rate of the transmission of one binary digit. Suppose the nominal bit rate of transmission is 2000 Kbps. The nominal time for the transmission of a binary digit is 1/2000 K = 500 ns. If jitter is present on the signal with a phase deviation of 1 ms peak to peak, then the amplitude could be expressed in UI as 1000/500 = 2 U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4" name="niweek" descr=""/>
          <p:cNvPicPr/>
          <p:nvPr/>
        </p:nvPicPr>
        <p:blipFill>
          <a:blip r:embed="rId3"/>
          <a:stretch/>
        </p:blipFill>
        <p:spPr>
          <a:xfrm>
            <a:off x="7238880" y="6234120"/>
            <a:ext cx="1792440" cy="47772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lephony Parametric Testing</a:t>
            </a:r>
            <a:endParaRPr b="1" lang="en-US" sz="3600" spc="-1" strike="noStrike">
              <a:solidFill>
                <a:srgbClr val="ffffff"/>
              </a:solidFill>
              <a:latin typeface="Arial"/>
            </a:endParaRPr>
          </a:p>
        </p:txBody>
      </p:sp>
      <p:sp>
        <p:nvSpPr>
          <p:cNvPr id="94" name="PlaceHolder 2"/>
          <p:cNvSpPr>
            <a:spLocks noGrp="1"/>
          </p:cNvSpPr>
          <p:nvPr>
            <p:ph type="subTitle"/>
          </p:nvPr>
        </p:nvSpPr>
        <p:spPr>
          <a:xfrm>
            <a:off x="1371600" y="3580920"/>
            <a:ext cx="6477120" cy="2667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hay Saman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sk Testing</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a mas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numb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or segmented mas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limit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use of limit specification and limit testing VIs in LabVIEW 6</a:t>
            </a:r>
            <a:r>
              <a:rPr b="0" i="1" lang="en-US" sz="2400" spc="-1" strike="noStrike">
                <a:solidFill>
                  <a:srgbClr val="ffffff"/>
                </a:solidFill>
                <a:latin typeface="Arial"/>
              </a:rPr>
              <a:t>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s</a:t>
            </a:r>
            <a:endParaRPr b="1" lang="en-US" sz="3600" spc="-1" strike="noStrike">
              <a:solidFill>
                <a:srgbClr val="ffff66"/>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tud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d DC and RMS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single ton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onic distortion analys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application of frequency and phase detection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14040"/>
            <a:ext cx="706896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1 Testing – LabVIEW &amp; 5911</a:t>
            </a:r>
            <a:endParaRPr b="1" lang="en-US" sz="3200" spc="-1" strike="noStrike">
              <a:solidFill>
                <a:srgbClr val="ffff66"/>
              </a:solidFill>
              <a:latin typeface="Arial"/>
            </a:endParaRPr>
          </a:p>
        </p:txBody>
      </p:sp>
      <p:sp>
        <p:nvSpPr>
          <p:cNvPr id="141" name=""/>
          <p:cNvSpPr/>
          <p:nvPr/>
        </p:nvSpPr>
        <p:spPr>
          <a:xfrm>
            <a:off x="762120" y="1066680"/>
            <a:ext cx="7696080" cy="31140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Demonstrations </a:t>
            </a:r>
            <a:endParaRPr b="0" lang="en-US" sz="1600" spc="-1" strike="noStrike">
              <a:solidFill>
                <a:srgbClr val="000000"/>
              </a:solidFill>
              <a:latin typeface="Times New Roman"/>
            </a:endParaRPr>
          </a:p>
        </p:txBody>
      </p:sp>
      <p:graphicFrame>
        <p:nvGraphicFramePr>
          <p:cNvPr id="142" name=""/>
          <p:cNvGraphicFramePr/>
          <p:nvPr/>
        </p:nvGraphicFramePr>
        <p:xfrm>
          <a:off x="533520" y="1447920"/>
          <a:ext cx="7932600" cy="4597200"/>
        </p:xfrm>
        <a:graphic>
          <a:graphicData uri="http://schemas.openxmlformats.org/presentationml/2006/ole">
            <p:oleObj r:id="rId1" spid="">
              <p:embed/>
              <p:pic>
                <p:nvPicPr>
                  <p:cNvPr id="143" name="" descr=""/>
                  <p:cNvPicPr/>
                  <p:nvPr/>
                </p:nvPicPr>
                <p:blipFill>
                  <a:blip r:embed="rId2"/>
                  <a:stretch/>
                </p:blipFill>
                <p:spPr>
                  <a:xfrm>
                    <a:off x="533520" y="1447920"/>
                    <a:ext cx="7932600" cy="4597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914040"/>
            <a:ext cx="706896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SL Testing – LabVIEW &amp; 5911</a:t>
            </a:r>
            <a:endParaRPr b="1" lang="en-US" sz="3200" spc="-1" strike="noStrike">
              <a:solidFill>
                <a:srgbClr val="ffff66"/>
              </a:solidFill>
              <a:latin typeface="Arial"/>
            </a:endParaRPr>
          </a:p>
        </p:txBody>
      </p:sp>
      <p:sp>
        <p:nvSpPr>
          <p:cNvPr id="145" name=""/>
          <p:cNvSpPr/>
          <p:nvPr/>
        </p:nvSpPr>
        <p:spPr>
          <a:xfrm>
            <a:off x="762120" y="1066680"/>
            <a:ext cx="8381880" cy="31140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Demonstrations</a:t>
            </a:r>
            <a:endParaRPr b="0" lang="en-US" sz="1600" spc="-1" strike="noStrike">
              <a:solidFill>
                <a:srgbClr val="000000"/>
              </a:solidFill>
              <a:latin typeface="Times New Roman"/>
            </a:endParaRPr>
          </a:p>
        </p:txBody>
      </p:sp>
      <p:graphicFrame>
        <p:nvGraphicFramePr>
          <p:cNvPr id="146" name=""/>
          <p:cNvGraphicFramePr/>
          <p:nvPr/>
        </p:nvGraphicFramePr>
        <p:xfrm>
          <a:off x="685800" y="1523880"/>
          <a:ext cx="8077320" cy="4114800"/>
        </p:xfrm>
        <a:graphic>
          <a:graphicData uri="http://schemas.openxmlformats.org/presentationml/2006/ole">
            <p:oleObj r:id="rId1" spid="">
              <p:embed/>
              <p:pic>
                <p:nvPicPr>
                  <p:cNvPr id="147" name="" descr=""/>
                  <p:cNvPicPr/>
                  <p:nvPr/>
                </p:nvPicPr>
                <p:blipFill>
                  <a:blip r:embed="rId2"/>
                  <a:stretch/>
                </p:blipFill>
                <p:spPr>
                  <a:xfrm>
                    <a:off x="685800" y="1523880"/>
                    <a:ext cx="8077320" cy="41148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eleph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c tes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eleph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c tes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using LabVIEW</a:t>
            </a:r>
            <a:r>
              <a:rPr b="0" lang="en-US" sz="2800" spc="-1" strike="noStrike" baseline="30000">
                <a:solidFill>
                  <a:srgbClr val="ffffff"/>
                </a:solidFill>
                <a:latin typeface="Arial"/>
              </a:rPr>
              <a:t>™</a:t>
            </a:r>
            <a:r>
              <a:rPr b="0" lang="en-US" sz="2800" spc="-1" strike="noStrike">
                <a:solidFill>
                  <a:srgbClr val="ffffff"/>
                </a:solidFill>
                <a:latin typeface="Arial"/>
              </a:rPr>
              <a:t> and computer-based instru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Telephony?</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lain old” telephone set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is much more than th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data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D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er digital services (T1/E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S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sted pair copper wire is the primary medium of 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chnologie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 old telephone system (PO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of telephone lines in the wor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the central offi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1/E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 : transmission rate 1.544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1)*8000 = 1.544 Mbp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chnologies (con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L (digital subscriber li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e and high-speed data sent simultaneously over copper lin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S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ts the phone line into two frequency r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 KHz is reserved for vo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bandwidth for downloading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faster than analog modem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unication System</a:t>
            </a:r>
            <a:endParaRPr b="1" lang="en-US" sz="3600" spc="-1" strike="noStrike">
              <a:solidFill>
                <a:srgbClr val="ffff66"/>
              </a:solidFill>
              <a:latin typeface="Arial"/>
            </a:endParaRPr>
          </a:p>
        </p:txBody>
      </p:sp>
      <p:pic>
        <p:nvPicPr>
          <p:cNvPr id="104" name="" descr=""/>
          <p:cNvPicPr/>
          <p:nvPr/>
        </p:nvPicPr>
        <p:blipFill>
          <a:blip r:embed="rId1"/>
          <a:stretch/>
        </p:blipFill>
        <p:spPr>
          <a:xfrm>
            <a:off x="457200" y="2133720"/>
            <a:ext cx="1371600" cy="917280"/>
          </a:xfrm>
          <a:prstGeom prst="rect">
            <a:avLst/>
          </a:prstGeom>
          <a:ln w="0">
            <a:noFill/>
          </a:ln>
        </p:spPr>
      </p:pic>
      <p:pic>
        <p:nvPicPr>
          <p:cNvPr id="105" name="" descr=""/>
          <p:cNvPicPr/>
          <p:nvPr/>
        </p:nvPicPr>
        <p:blipFill>
          <a:blip r:embed="rId2"/>
          <a:stretch/>
        </p:blipFill>
        <p:spPr>
          <a:xfrm>
            <a:off x="457200" y="4797360"/>
            <a:ext cx="1371600" cy="917640"/>
          </a:xfrm>
          <a:prstGeom prst="rect">
            <a:avLst/>
          </a:prstGeom>
          <a:ln w="0">
            <a:noFill/>
          </a:ln>
        </p:spPr>
      </p:pic>
      <p:pic>
        <p:nvPicPr>
          <p:cNvPr id="106" name="" descr=""/>
          <p:cNvPicPr/>
          <p:nvPr/>
        </p:nvPicPr>
        <p:blipFill>
          <a:blip r:embed="rId3"/>
          <a:stretch/>
        </p:blipFill>
        <p:spPr>
          <a:xfrm>
            <a:off x="5257800" y="2282760"/>
            <a:ext cx="1523880" cy="536760"/>
          </a:xfrm>
          <a:prstGeom prst="rect">
            <a:avLst/>
          </a:prstGeom>
          <a:ln w="0">
            <a:noFill/>
          </a:ln>
        </p:spPr>
      </p:pic>
      <p:sp>
        <p:nvSpPr>
          <p:cNvPr id="107" name=""/>
          <p:cNvSpPr/>
          <p:nvPr/>
        </p:nvSpPr>
        <p:spPr>
          <a:xfrm>
            <a:off x="2819520" y="4343400"/>
            <a:ext cx="121896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819520" y="2057400"/>
            <a:ext cx="121896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4"/>
          <a:stretch/>
        </p:blipFill>
        <p:spPr>
          <a:xfrm>
            <a:off x="5334120" y="4797360"/>
            <a:ext cx="1523880" cy="536760"/>
          </a:xfrm>
          <a:prstGeom prst="rect">
            <a:avLst/>
          </a:prstGeom>
          <a:ln w="0">
            <a:noFill/>
          </a:ln>
        </p:spPr>
      </p:pic>
      <p:sp>
        <p:nvSpPr>
          <p:cNvPr id="110" name=""/>
          <p:cNvSpPr/>
          <p:nvPr/>
        </p:nvSpPr>
        <p:spPr>
          <a:xfrm>
            <a:off x="2819520" y="2819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19520" y="31240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19520" y="5105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19520" y="54100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543800" y="2971800"/>
            <a:ext cx="990720" cy="1523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15" name=""/>
          <p:cNvSpPr/>
          <p:nvPr/>
        </p:nvSpPr>
        <p:spPr>
          <a:xfrm>
            <a:off x="1981080" y="2590920"/>
            <a:ext cx="762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2590920"/>
            <a:ext cx="761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4191120" y="5105520"/>
            <a:ext cx="83808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1905120" y="5181480"/>
            <a:ext cx="83808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2438280"/>
            <a:ext cx="9907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10280" y="4952880"/>
            <a:ext cx="99072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001000" y="4495680"/>
            <a:ext cx="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001000" y="2438280"/>
            <a:ext cx="0" cy="5335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6560" y="2135160"/>
            <a:ext cx="11088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124" name=""/>
          <p:cNvSpPr/>
          <p:nvPr/>
        </p:nvSpPr>
        <p:spPr>
          <a:xfrm>
            <a:off x="2896560" y="4421160"/>
            <a:ext cx="11088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125" name=""/>
          <p:cNvSpPr/>
          <p:nvPr/>
        </p:nvSpPr>
        <p:spPr>
          <a:xfrm>
            <a:off x="7011360" y="1906560"/>
            <a:ext cx="956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og</a:t>
            </a:r>
            <a:endParaRPr b="0" lang="en-US" sz="1800" spc="-1" strike="noStrike">
              <a:solidFill>
                <a:srgbClr val="000000"/>
              </a:solidFill>
              <a:latin typeface="Times New Roman"/>
            </a:endParaRPr>
          </a:p>
        </p:txBody>
      </p:sp>
      <p:sp>
        <p:nvSpPr>
          <p:cNvPr id="126" name=""/>
          <p:cNvSpPr/>
          <p:nvPr/>
        </p:nvSpPr>
        <p:spPr>
          <a:xfrm>
            <a:off x="4192200" y="1906560"/>
            <a:ext cx="880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a:t>
            </a:r>
            <a:endParaRPr b="0" lang="en-US" sz="1800" spc="-1" strike="noStrike">
              <a:solidFill>
                <a:srgbClr val="000000"/>
              </a:solidFill>
              <a:latin typeface="Times New Roman"/>
            </a:endParaRPr>
          </a:p>
        </p:txBody>
      </p:sp>
      <p:sp>
        <p:nvSpPr>
          <p:cNvPr id="127" name=""/>
          <p:cNvSpPr/>
          <p:nvPr/>
        </p:nvSpPr>
        <p:spPr>
          <a:xfrm>
            <a:off x="5487840" y="3506760"/>
            <a:ext cx="98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m</a:t>
            </a:r>
            <a:endParaRPr b="0" lang="en-US" sz="1800" spc="-1" strike="noStrike">
              <a:solidFill>
                <a:srgbClr val="000000"/>
              </a:solidFill>
              <a:latin typeface="Times New Roman"/>
            </a:endParaRPr>
          </a:p>
        </p:txBody>
      </p:sp>
      <p:sp>
        <p:nvSpPr>
          <p:cNvPr id="128" name=""/>
          <p:cNvSpPr/>
          <p:nvPr/>
        </p:nvSpPr>
        <p:spPr>
          <a:xfrm>
            <a:off x="380160" y="160020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mitter</a:t>
            </a:r>
            <a:endParaRPr b="0" lang="en-US" sz="2000" spc="-1" strike="noStrike">
              <a:solidFill>
                <a:srgbClr val="000000"/>
              </a:solidFill>
              <a:latin typeface="Times New Roman"/>
            </a:endParaRPr>
          </a:p>
        </p:txBody>
      </p:sp>
      <p:sp>
        <p:nvSpPr>
          <p:cNvPr id="129" name=""/>
          <p:cNvSpPr/>
          <p:nvPr/>
        </p:nvSpPr>
        <p:spPr>
          <a:xfrm>
            <a:off x="457200" y="40924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sting</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he channel that transmits the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 current, capacitance, lo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ric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nalog sign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se mask, amplitude, freque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he protocol that defines a particular 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 error rate test (BE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ests</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al parameters of the chann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Volts, AC Volts, curr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telephony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coil detec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 reflecto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itudinal balanc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metric Test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mission and impairment measurement set (TI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on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k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nd frequ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3:48:48Z</dcterms:created>
  <dc:creator>Abhay Samant</dc:creator>
  <dc:description/>
  <dc:language>en-US</dc:language>
  <cp:lastModifiedBy>David Steele</cp:lastModifiedBy>
  <cp:lastPrinted>2000-05-09T17:06:29Z</cp:lastPrinted>
  <dcterms:modified xsi:type="dcterms:W3CDTF">2000-08-08T16:40:46Z</dcterms:modified>
  <cp:revision>91</cp:revision>
  <dc:subject/>
  <dc:title>What is Telephony?</dc:title>
</cp:coreProperties>
</file>