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13F2D420-F762-4FC3-AEFC-DF18FBABB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David Steele</cp:lastModifiedBy>
  <dcterms:modified xsi:type="dcterms:W3CDTF">2000-07-26T15:37:10Z</dcterms:modified>
  <cp:revision>21</cp:revision>
  <dc:subject/>
  <dc:title>Telecom Audio Testing</dc:title>
</cp:coreProperties>
</file>