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5.png" ContentType="image/png"/>
  <Override PartName="/ppt/media/image24.png" ContentType="image/png"/>
  <Override PartName="/ppt/media/image18.jpeg" ContentType="image/jpeg"/>
  <Override PartName="/ppt/media/image22.png" ContentType="image/png"/>
  <Override PartName="/ppt/media/image20.png" ContentType="image/png"/>
  <Override PartName="/ppt/media/image2.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based T&amp;M for Semiconductor Component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K– </a:t>
            </a:r>
            <a:fld id="{56BFE3DC-CF20-4C8B-8ADB-8BED56FAD4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onal Instruments hardware for use with the I-V/C-V Startup 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ware chosen for the I-V/C-V Startup Kit had to meet the above requirements. Future hardware improvements are expected to increase the accuracy and range of the specif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commended hardware configuration for use with the I-V/C-V Startup K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1000 chassis combines a high-performance 8-slot PXI-compatible backplane with a high-output power supply, integrated cooling, and a compact structural design optimized for maximum usability in a wide range of applications. The modular design ensures the highest level of maintainability, resulting in a very low mean-time-to-repair (MTTR). The PXI-1000 complies fully with the PXI Specification, Revision 1.0, offering advanced timing and synchronization features. Because of the interoperability with CompactPCI defined by the PXI Specification, the PXI-1000 chassis can accept both 3U PXI and 3U CompactPCI modules.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8150B Series embedded computers are high-performance system controllers compatible with CompactPCI and with the PXI (PCI eXtensions for Instrumentation) specification. PXI defines a compact, rugged PC platform for modular instrumentation. The industrial packaging of CompactPCI is ideal for harsh environments. In addition, the high level of expandability makes it desirable for a wide range of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6052E uses E Series technology to deliver high-performance and reliable data acquisition (DAQ) capabilities to meet a wide range of application requirements. You get up to 333 kS/s, 16-bit performance on 16 singled-end analog inputs. Depending on your type of hard drive, this PXI DAQ module can stream to disk at rates up to 333 kS/s. The PXI-6052E E Series module features analog and digital triggering capability, as well as two 24-bit, 20 MHz counter/timers, and 8 digital I/O lines. The PXI-6052 also features two 16-bit analog outp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NC-2110 device is a shielded connector block with signal-labeled BNC connectors. You can use these connector blocks with E-series multifunction I/O DAQ devices and 671x analog output devices. See the PDF catalog page or compatibility table for more detailed compatibilit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tended performance version of the SH6868 cable assembly; features individually-shielded analog twisted pairs for reduced crosstalk with high-speed boards. This cable works with all 68-pin E Series or 67xx devices. It does not work with 435x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demonstration purposes, we use BNC-to-minigrabber cables to connect from the BNC 2110 Terminal Block to the test circuit built on a breadboard. A probe station typically uses triaxial cables to connect to the probes. These cables provide far more noise protection than a typical BNC cable. For this reason, a converter is needed to connect the BNC 2110 Terminal Block to the prob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C-V software is a Startup Kit designed to make basic I-V and C-V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abVIEW is a highly productive graphical programming environment that combines easy-to-use graphical development with the flexibility of a powerful programming language. It offers an intuitive environment, tightly integrated with measurement hardware, for engineers and scientists to quickly produce solutions for data acquisition, data analysis, and data presentation. Requires LabVIEW 5.1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NI-DAQ 6.6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can be run on any two terminal or three terminal component. Some sample compon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od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r>
              <a:rPr b="0" lang="en-US" sz="1000" spc="-1" strike="noStrike">
                <a:solidFill>
                  <a:srgbClr val="000000"/>
                </a:solidFill>
                <a:latin typeface="Times New Roman"/>
              </a:rPr>
              <a:t> </a:t>
            </a:r>
            <a:r>
              <a:rPr b="0" lang="en-US" sz="1200" spc="-1" strike="noStrike">
                <a:solidFill>
                  <a:srgbClr val="000000"/>
                </a:solidFill>
                <a:latin typeface="Times New Roman"/>
              </a:rPr>
              <a:t>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polar junction tran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wo terminal I-V measurement. There are only two components, the device under test (DUT) and the load resis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become familiar with the reason behind the measurements, then we go into specific details about each measurement and show how it is ma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I-V measurement. The DAQ card sends a voltage into the circuit. The voltage comes back out of the circuit and into the DAQ card. This voltage level is divided by the value of the load resistor. The value of the load resistor should be known as accurately as possible for accurate measurements. From Ohm’s law, we know that voltage/resistance yields current. This current value is sent to the graph, and the I-V plot display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e DUT is a Zener diode (two terminal I-V measurement). The vertical (y) axis is current, and the horizontal (x) axis is voltage. The diode turns on at approximately .7 V, and the breakdown region is approximately -6 V. It is possible to determine these values more accurately by zooming on the graph, which is shown in the demonstr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hree terminal I-V measurement. The DUT is a MOSF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an I-V measurement. The DUT is a MOSFET (three terminal I-V measurement). The vertical (y) axis is current, and the horizontal (x) axis is gate voltage. Each color represents a different voltage on the drain of the MOSF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C-V measurement. There are only two components – the DUT and the load resistor. This is a classic low-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C-V measurement. The DAQ card sends a voltage into the circuit. The voltage comes back out of the circuit and into the DAQ card. This voltage level is sent into a Hanning window function which cleans up the data so that the harmonics can be withdra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indow function, the signal goes into the auto power spectrum where a Fast Fourier Transform is applied. This changes the signal from the time domain to the frequency domain. The signal then goes to a total harmonic distortion analyzer. There, the harmonic frequencies and amplitudes are captured and sent into a formula node. The formula node contains equations for converting this data into a value for capacitance. This capacitance value is sent to the graph, and the C-V plot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signal: V = Vo + Vac Cos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1 sin wt - A2 sin wt - A3 Sin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 C(V) dV/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 C0 + C1(V-Vo) + ½ C2 (V-V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ng terms, we see th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0 = (A1/wVac) – 1/8 * Vac^2 * 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 = dC/dV = (2*A2)/w(Va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2 = d^2C/dV^2 = (8*A3)/w*(Vac)^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C-V measurement. The DUT is a MOSFET. The top graph is the Auto Power Spectrum of the measurement, which shows the harmonics of the signal while the test is running. The harmonic frequencies and amplitudes are shown in the upper right. The two lower graphs are the C-V curves. The vertical (y) axis is Capacitance, and the horizontal (x) axis is Voltage. The graph in the lower left is the actual data, while the graph in the lower right is the same data passed through a smoothing algorithm before it is sent to the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have been used extensively for the past 35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I-V measurement” refers to the current versus voltage characteristics of a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V measurement” refers to the capacitance versus voltage characteristics of a compon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has many different uses. At a glance, it provides enough information to determine if the component has serious flaws. Upon closer inspection, this measurement answers questions l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temperatures is the V/I relationship of this resistor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reakdown region of this zener di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ximum current that can move through the source of this MOSFET with a 1 V bias on the 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 measurement is possibly the most common test in the semiconductor industry. This measurement provides a wealth of information to the user about p-n or schottky junctions, and metal oxide semiconductor (MOS) and metal insulated semiconductor (MIS) devices. This information is highly correlated with the performance parameters and reliability of the devices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key questions provide a basis for understanding the overall picture. By knowing the answers to these questions, we can further our understanding and communicate intelligently with our custom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are made by many various types of customers. This market is much larger than just semiconductor fabrication facilities. Many engineering and physics research facilities use these these systems regularly to further measurement theory and component theory. Almost all educational facilities use these systems as a tool to further understanding and resea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s of these tests are almost limitless. It may seem strange that something seemingly insignificant like the slope of a curve can lead to such incredible conclusions, but the interpretation of the test results is the key to relating this information to something usefu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se measurements have been dominated by large rack-mounted measurement systems. Popular instruments were the HP 4140 series systems, and the early Tektronix I-V curve tracers. These instruments came with a $50,000-250,000 price tag. The output was usually to a four inch monochrome display and 3.5” floppy disk. The measurement parameters were not nearly as flexible as a PC-based solution. The measurement industry sold these high cost systems year after year while providing only small upgrades, but still raising the price with each new version. We believe that there should be an alternative. Today, it is common to see LabVIEW used to automate all these expensive systems. With the combination of National Instruments hardware and software, a PC-based measurement system could be built that could compete with many of the traditional measurement syst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590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uter-based Test and Measurement for Semiconductor Components</a:t>
            </a:r>
            <a:endParaRPr b="1" lang="en-US" sz="3200" spc="-1" strike="noStrike">
              <a:solidFill>
                <a:srgbClr val="ffff66"/>
              </a:solidFill>
              <a:latin typeface="Arial"/>
            </a:endParaRPr>
          </a:p>
        </p:txBody>
      </p:sp>
      <p:sp>
        <p:nvSpPr>
          <p:cNvPr id="94" name=""/>
          <p:cNvSpPr/>
          <p:nvPr/>
        </p:nvSpPr>
        <p:spPr>
          <a:xfrm>
            <a:off x="914400" y="3962520"/>
            <a:ext cx="7315200" cy="258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Mill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 C-V Startup Kit Hardware</a:t>
            </a:r>
            <a:endParaRPr b="1" lang="en-US" sz="3600" spc="-1" strike="noStrike">
              <a:solidFill>
                <a:srgbClr val="ffff66"/>
              </a:solidFill>
              <a:latin typeface="Arial"/>
            </a:endParaRPr>
          </a:p>
        </p:txBody>
      </p:sp>
      <p:pic>
        <p:nvPicPr>
          <p:cNvPr id="122" name="kit" descr=""/>
          <p:cNvPicPr/>
          <p:nvPr/>
        </p:nvPicPr>
        <p:blipFill>
          <a:blip r:embed="rId1"/>
          <a:stretch/>
        </p:blipFill>
        <p:spPr>
          <a:xfrm>
            <a:off x="762120" y="1676520"/>
            <a:ext cx="6324480" cy="421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quirements</a:t>
            </a:r>
            <a:endParaRPr b="1" lang="en-US" sz="3600" spc="-1" strike="noStrike">
              <a:solidFill>
                <a:srgbClr val="ffff66"/>
              </a:solidFill>
              <a:latin typeface="Arial"/>
            </a:endParaRPr>
          </a:p>
        </p:txBody>
      </p:sp>
      <p:sp>
        <p:nvSpPr>
          <p:cNvPr id="12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nalog outpu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kS/s update rate and sampling frequency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out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C-V Startup Kit Hardwar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chas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8156B controller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6052E MIO DAQ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1000B Chassi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lot back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utput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ootprint</a:t>
            </a:r>
            <a:endParaRPr b="0" lang="en-US" sz="2800" spc="-1" strike="noStrike">
              <a:solidFill>
                <a:srgbClr val="ffffff"/>
              </a:solidFill>
              <a:latin typeface="Arial"/>
            </a:endParaRPr>
          </a:p>
        </p:txBody>
      </p:sp>
      <p:pic>
        <p:nvPicPr>
          <p:cNvPr id="129" name="pxi" descr=""/>
          <p:cNvPicPr/>
          <p:nvPr/>
        </p:nvPicPr>
        <p:blipFill>
          <a:blip r:embed="rId1"/>
          <a:stretch/>
        </p:blipFill>
        <p:spPr>
          <a:xfrm>
            <a:off x="3809880" y="3124080"/>
            <a:ext cx="3581640" cy="252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8156B Controller Card</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up to seven PXI modu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Mhz CP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GB hard dr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MB RAM</a:t>
            </a:r>
            <a:endParaRPr b="0" lang="en-US" sz="2800" spc="-1" strike="noStrike">
              <a:solidFill>
                <a:srgbClr val="ffffff"/>
              </a:solidFill>
              <a:latin typeface="Arial"/>
            </a:endParaRPr>
          </a:p>
        </p:txBody>
      </p:sp>
      <p:pic>
        <p:nvPicPr>
          <p:cNvPr id="132" name="8156B" descr=""/>
          <p:cNvPicPr/>
          <p:nvPr/>
        </p:nvPicPr>
        <p:blipFill>
          <a:blip r:embed="rId1"/>
          <a:stretch/>
        </p:blipFill>
        <p:spPr>
          <a:xfrm>
            <a:off x="4343400" y="2590920"/>
            <a:ext cx="3962520" cy="27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6052E MIO DAQ Card</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ut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in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V out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sampling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output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input and output resolution</a:t>
            </a:r>
            <a:endParaRPr b="0" lang="en-US" sz="2800" spc="-1" strike="noStrike">
              <a:solidFill>
                <a:srgbClr val="ffffff"/>
              </a:solidFill>
              <a:latin typeface="Arial"/>
            </a:endParaRPr>
          </a:p>
        </p:txBody>
      </p:sp>
      <p:pic>
        <p:nvPicPr>
          <p:cNvPr id="135" name="6052" descr=""/>
          <p:cNvPicPr/>
          <p:nvPr/>
        </p:nvPicPr>
        <p:blipFill>
          <a:blip r:embed="rId1"/>
          <a:stretch/>
        </p:blipFill>
        <p:spPr>
          <a:xfrm>
            <a:off x="5181480" y="1905120"/>
            <a:ext cx="3733920" cy="26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xtures</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NC 2110 terminal b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H68-68-EP c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minigrabber c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 s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triaxial converter</a:t>
            </a:r>
            <a:endParaRPr b="0" lang="en-US" sz="2400" spc="-1" strike="noStrike">
              <a:solidFill>
                <a:srgbClr val="ffffff"/>
              </a:solidFill>
              <a:latin typeface="Arial"/>
            </a:endParaRPr>
          </a:p>
        </p:txBody>
      </p:sp>
      <p:pic>
        <p:nvPicPr>
          <p:cNvPr id="138" name="wafer" descr=""/>
          <p:cNvPicPr/>
          <p:nvPr/>
        </p:nvPicPr>
        <p:blipFill>
          <a:blip r:embed="rId1"/>
          <a:stretch/>
        </p:blipFill>
        <p:spPr>
          <a:xfrm>
            <a:off x="5181480" y="2819520"/>
            <a:ext cx="3733920" cy="244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ftwar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 (available upon requ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Full Develop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a:t>
            </a:r>
            <a:r>
              <a:rPr b="0" lang="en-US" sz="2800" spc="-1" strike="noStrike" baseline="30000">
                <a:solidFill>
                  <a:srgbClr val="ffffff"/>
                </a:solidFill>
                <a:latin typeface="Arial"/>
              </a:rPr>
              <a:t>™</a:t>
            </a:r>
            <a:r>
              <a:rPr b="0" lang="en-US" sz="2800" spc="-1" strike="noStrike">
                <a:solidFill>
                  <a:srgbClr val="ffffff"/>
                </a:solidFill>
                <a:latin typeface="Arial"/>
              </a:rPr>
              <a:t> 6.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a:t>
            </a:r>
            <a:r>
              <a:rPr b="0" lang="en-US" sz="2400" spc="-1" strike="noStrike">
                <a:solidFill>
                  <a:srgbClr val="ffffff"/>
                </a:solidFill>
                <a:latin typeface="Arial"/>
              </a:rPr>
              <a:t> </a:t>
            </a:r>
            <a:r>
              <a:rPr b="0" lang="en-US" sz="2800" spc="-1" strike="noStrike">
                <a:solidFill>
                  <a:srgbClr val="ffffff"/>
                </a:solidFill>
                <a:latin typeface="Arial"/>
              </a:rPr>
              <a:t>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polar junction tran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p:txBody>
      </p:sp>
      <p:pic>
        <p:nvPicPr>
          <p:cNvPr id="143" name="wafer2" descr=""/>
          <p:cNvPicPr/>
          <p:nvPr/>
        </p:nvPicPr>
        <p:blipFill>
          <a:blip r:embed="rId1"/>
          <a:stretch/>
        </p:blipFill>
        <p:spPr>
          <a:xfrm>
            <a:off x="5486400" y="1676520"/>
            <a:ext cx="2971800" cy="289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Circuit</a:t>
            </a:r>
            <a:endParaRPr b="1" lang="en-US" sz="3600" spc="-1" strike="noStrike">
              <a:solidFill>
                <a:srgbClr val="ffff66"/>
              </a:solidFill>
              <a:latin typeface="Arial"/>
            </a:endParaRPr>
          </a:p>
        </p:txBody>
      </p:sp>
      <p:pic>
        <p:nvPicPr>
          <p:cNvPr id="145" name="2T" descr=""/>
          <p:cNvPicPr/>
          <p:nvPr/>
        </p:nvPicPr>
        <p:blipFill>
          <a:blip r:embed="rId1"/>
          <a:stretch/>
        </p:blipFill>
        <p:spPr>
          <a:xfrm>
            <a:off x="990720" y="2062080"/>
            <a:ext cx="7086600" cy="28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and C-V Measurement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s</a:t>
            </a:r>
            <a:endParaRPr b="0" lang="en-US" sz="2800" spc="-1" strike="noStrike">
              <a:solidFill>
                <a:srgbClr val="ffffff"/>
              </a:solidFill>
              <a:latin typeface="Arial"/>
            </a:endParaRPr>
          </a:p>
        </p:txBody>
      </p:sp>
      <p:sp>
        <p:nvSpPr>
          <p:cNvPr id="97" name=""/>
          <p:cNvSpPr/>
          <p:nvPr/>
        </p:nvSpPr>
        <p:spPr>
          <a:xfrm>
            <a:off x="1219320" y="4267080"/>
            <a:ext cx="106668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 y="46483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00200" y="4572000"/>
            <a:ext cx="5181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81680" y="4038480"/>
            <a:ext cx="83844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4343400"/>
            <a:ext cx="1219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4419720"/>
            <a:ext cx="1143000" cy="1066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probe%20station" descr=""/>
          <p:cNvPicPr/>
          <p:nvPr/>
        </p:nvPicPr>
        <p:blipFill>
          <a:blip r:embed="rId1"/>
          <a:stretch/>
        </p:blipFill>
        <p:spPr>
          <a:xfrm>
            <a:off x="4343400" y="2590920"/>
            <a:ext cx="3733920" cy="30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Block Diagram</a:t>
            </a:r>
            <a:endParaRPr b="1" lang="en-US" sz="3600" spc="-1" strike="noStrike">
              <a:solidFill>
                <a:srgbClr val="ffff66"/>
              </a:solidFill>
              <a:latin typeface="Arial"/>
            </a:endParaRPr>
          </a:p>
        </p:txBody>
      </p:sp>
      <p:pic>
        <p:nvPicPr>
          <p:cNvPr id="147" name="IVblock" descr=""/>
          <p:cNvPicPr/>
          <p:nvPr/>
        </p:nvPicPr>
        <p:blipFill>
          <a:blip r:embed="rId1"/>
          <a:stretch/>
        </p:blipFill>
        <p:spPr>
          <a:xfrm>
            <a:off x="838080" y="1600200"/>
            <a:ext cx="6019920" cy="449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Screenshot</a:t>
            </a:r>
            <a:endParaRPr b="1" lang="en-US" sz="3600" spc="-1" strike="noStrike">
              <a:solidFill>
                <a:srgbClr val="ffff66"/>
              </a:solidFill>
              <a:latin typeface="Arial"/>
            </a:endParaRPr>
          </a:p>
        </p:txBody>
      </p:sp>
      <p:pic>
        <p:nvPicPr>
          <p:cNvPr id="149" name="2Tscreen" descr=""/>
          <p:cNvPicPr/>
          <p:nvPr/>
        </p:nvPicPr>
        <p:blipFill>
          <a:blip r:embed="rId1"/>
          <a:stretch/>
        </p:blipFill>
        <p:spPr>
          <a:xfrm>
            <a:off x="1523880" y="1676520"/>
            <a:ext cx="5989680" cy="42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Circuit</a:t>
            </a:r>
            <a:endParaRPr b="1" lang="en-US" sz="3600" spc="-1" strike="noStrike">
              <a:solidFill>
                <a:srgbClr val="ffff66"/>
              </a:solidFill>
              <a:latin typeface="Arial"/>
            </a:endParaRPr>
          </a:p>
        </p:txBody>
      </p:sp>
      <p:pic>
        <p:nvPicPr>
          <p:cNvPr id="151" name="3T" descr=""/>
          <p:cNvPicPr/>
          <p:nvPr/>
        </p:nvPicPr>
        <p:blipFill>
          <a:blip r:embed="rId1"/>
          <a:stretch/>
        </p:blipFill>
        <p:spPr>
          <a:xfrm>
            <a:off x="1828800" y="1600200"/>
            <a:ext cx="4729320" cy="472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Screenshot</a:t>
            </a:r>
            <a:endParaRPr b="1" lang="en-US" sz="3600" spc="-1" strike="noStrike">
              <a:solidFill>
                <a:srgbClr val="ffff66"/>
              </a:solidFill>
              <a:latin typeface="Arial"/>
            </a:endParaRPr>
          </a:p>
        </p:txBody>
      </p:sp>
      <p:pic>
        <p:nvPicPr>
          <p:cNvPr id="153" name="3Tscreen" descr=""/>
          <p:cNvPicPr/>
          <p:nvPr/>
        </p:nvPicPr>
        <p:blipFill>
          <a:blip r:embed="rId1"/>
          <a:stretch/>
        </p:blipFill>
        <p:spPr>
          <a:xfrm>
            <a:off x="1371600" y="1676520"/>
            <a:ext cx="6248520" cy="439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Circuit</a:t>
            </a:r>
            <a:endParaRPr b="1" lang="en-US" sz="3600" spc="-1" strike="noStrike">
              <a:solidFill>
                <a:srgbClr val="ffff66"/>
              </a:solidFill>
              <a:latin typeface="Arial"/>
            </a:endParaRPr>
          </a:p>
        </p:txBody>
      </p:sp>
      <p:pic>
        <p:nvPicPr>
          <p:cNvPr id="155" name="CVCircuit" descr=""/>
          <p:cNvPicPr/>
          <p:nvPr/>
        </p:nvPicPr>
        <p:blipFill>
          <a:blip r:embed="rId1"/>
          <a:stretch/>
        </p:blipFill>
        <p:spPr>
          <a:xfrm>
            <a:off x="1447920" y="1752480"/>
            <a:ext cx="6248160" cy="416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Bock Diagram</a:t>
            </a:r>
            <a:endParaRPr b="1" lang="en-US" sz="3600" spc="-1" strike="noStrike">
              <a:solidFill>
                <a:srgbClr val="ffff66"/>
              </a:solidFill>
              <a:latin typeface="Arial"/>
            </a:endParaRPr>
          </a:p>
        </p:txBody>
      </p:sp>
      <p:pic>
        <p:nvPicPr>
          <p:cNvPr id="157" name="CVblock" descr=""/>
          <p:cNvPicPr/>
          <p:nvPr/>
        </p:nvPicPr>
        <p:blipFill>
          <a:blip r:embed="rId1"/>
          <a:stretch/>
        </p:blipFill>
        <p:spPr>
          <a:xfrm>
            <a:off x="762120" y="1676520"/>
            <a:ext cx="769608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 Theory</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rrive at capacitance val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ias voltage + sin wa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 this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y by expansion of capacitance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enerates a function for the current I(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erms in the current fun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ulas for capacitance become evi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Screenshot</a:t>
            </a:r>
            <a:endParaRPr b="1" lang="en-US" sz="3600" spc="-1" strike="noStrike">
              <a:solidFill>
                <a:srgbClr val="ffff66"/>
              </a:solidFill>
              <a:latin typeface="Arial"/>
            </a:endParaRPr>
          </a:p>
        </p:txBody>
      </p:sp>
      <p:pic>
        <p:nvPicPr>
          <p:cNvPr id="161" name="CVScreen" descr=""/>
          <p:cNvPicPr/>
          <p:nvPr/>
        </p:nvPicPr>
        <p:blipFill>
          <a:blip r:embed="rId1"/>
          <a:stretch/>
        </p:blipFill>
        <p:spPr>
          <a:xfrm>
            <a:off x="1295280" y="1600200"/>
            <a:ext cx="617220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a:t>
            </a:r>
            <a:endParaRPr b="0" lang="en-US" sz="2800" spc="-1" strike="noStrike">
              <a:solidFill>
                <a:srgbClr val="ffffff"/>
              </a:solidFill>
              <a:latin typeface="Arial"/>
            </a:endParaRPr>
          </a:p>
        </p:txBody>
      </p:sp>
      <p:sp>
        <p:nvSpPr>
          <p:cNvPr id="164" name=""/>
          <p:cNvSpPr/>
          <p:nvPr/>
        </p:nvSpPr>
        <p:spPr>
          <a:xfrm>
            <a:off x="2666880" y="5410080"/>
            <a:ext cx="3124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981080" y="32767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Overview</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75438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 (current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A to 1A</a:t>
            </a:r>
            <a:endParaRPr b="0" lang="en-US" sz="2000" spc="-1" strike="noStrike">
              <a:solidFill>
                <a:srgbClr val="ffffff"/>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 (capacitance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F to 100 nF</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Hz to 1 Mhz</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pic>
        <p:nvPicPr>
          <p:cNvPr id="107" name="diodeiv3" descr=""/>
          <p:cNvPicPr/>
          <p:nvPr/>
        </p:nvPicPr>
        <p:blipFill>
          <a:blip r:embed="rId1"/>
          <a:stretch/>
        </p:blipFill>
        <p:spPr>
          <a:xfrm>
            <a:off x="1371600" y="1981080"/>
            <a:ext cx="6315120" cy="37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a:t>
            </a:r>
            <a:endParaRPr b="1" lang="en-US" sz="3600" spc="-1" strike="noStrike">
              <a:solidFill>
                <a:srgbClr val="ffff66"/>
              </a:solidFill>
              <a:latin typeface="Arial"/>
            </a:endParaRPr>
          </a:p>
        </p:txBody>
      </p:sp>
      <p:pic>
        <p:nvPicPr>
          <p:cNvPr id="109" name="cv2" descr=""/>
          <p:cNvPicPr/>
          <p:nvPr/>
        </p:nvPicPr>
        <p:blipFill>
          <a:blip r:embed="rId1"/>
          <a:stretch/>
        </p:blipFill>
        <p:spPr>
          <a:xfrm>
            <a:off x="1295280" y="1752480"/>
            <a:ext cx="6019920" cy="41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makes these measuremen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se measurements mad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these measurements ma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indust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ation pla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facil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ation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institu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s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s labs</a:t>
            </a:r>
            <a:endParaRPr b="0" lang="en-US" sz="2400" spc="-1" strike="noStrike">
              <a:solidFill>
                <a:srgbClr val="ffffff"/>
              </a:solidFill>
              <a:latin typeface="Arial"/>
            </a:endParaRPr>
          </a:p>
        </p:txBody>
      </p:sp>
      <p:pic>
        <p:nvPicPr>
          <p:cNvPr id="114" name="ksd_PA200%20Pshield2" descr=""/>
          <p:cNvPicPr/>
          <p:nvPr/>
        </p:nvPicPr>
        <p:blipFill>
          <a:blip r:embed="rId1"/>
          <a:stretch/>
        </p:blipFill>
        <p:spPr>
          <a:xfrm>
            <a:off x="4952880" y="2406600"/>
            <a:ext cx="4038840" cy="236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haracte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fer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ing resear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assur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studies</a:t>
            </a:r>
            <a:endParaRPr b="0" lang="en-US" sz="2800" spc="-1" strike="noStrike">
              <a:solidFill>
                <a:srgbClr val="ffffff"/>
              </a:solidFill>
              <a:latin typeface="Arial"/>
            </a:endParaRPr>
          </a:p>
        </p:txBody>
      </p:sp>
      <p:pic>
        <p:nvPicPr>
          <p:cNvPr id="117" name="vision_sytem" descr=""/>
          <p:cNvPicPr/>
          <p:nvPr/>
        </p:nvPicPr>
        <p:blipFill>
          <a:blip r:embed="rId1"/>
          <a:srcRect l="0" t="0" r="0" b="1393"/>
          <a:stretch/>
        </p:blipFill>
        <p:spPr>
          <a:xfrm>
            <a:off x="4267080" y="2590920"/>
            <a:ext cx="3581640" cy="31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 4140 ser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tronics curve trac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ly high co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flexibil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etter sol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software</a:t>
            </a:r>
            <a:endParaRPr b="0" lang="en-US" sz="2400" spc="-1" strike="noStrike">
              <a:solidFill>
                <a:srgbClr val="ffffff"/>
              </a:solidFill>
              <a:latin typeface="Arial"/>
            </a:endParaRPr>
          </a:p>
        </p:txBody>
      </p:sp>
      <p:pic>
        <p:nvPicPr>
          <p:cNvPr id="120" name="rack" descr=""/>
          <p:cNvPicPr/>
          <p:nvPr/>
        </p:nvPicPr>
        <p:blipFill>
          <a:blip r:embed="rId1"/>
          <a:stretch/>
        </p:blipFill>
        <p:spPr>
          <a:xfrm>
            <a:off x="5829480" y="160020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19:09:42Z</dcterms:created>
  <dc:creator>Eric Mills</dc:creator>
  <dc:description/>
  <dc:language>en-US</dc:language>
  <cp:lastModifiedBy>David Steele</cp:lastModifiedBy>
  <cp:lastPrinted>1999-08-14T01:08:40Z</cp:lastPrinted>
  <dcterms:modified xsi:type="dcterms:W3CDTF">2000-07-26T18:16:11Z</dcterms:modified>
  <cp:revision>74</cp:revision>
  <dc:subject/>
  <dc:title>I-V and C-V Measurements</dc:title>
</cp:coreProperties>
</file>