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inalbody2no%20logo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1508040"/>
            <a:ext cx="7696080" cy="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0200" y="6248520"/>
            <a:ext cx="1306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i.com/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iweek" descr=""/>
          <p:cNvPicPr/>
          <p:nvPr/>
        </p:nvPicPr>
        <p:blipFill>
          <a:blip r:embed="rId3"/>
          <a:stretch/>
        </p:blipFill>
        <p:spPr>
          <a:xfrm>
            <a:off x="7238880" y="6234120"/>
            <a:ext cx="1792440" cy="47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4" name="finaltitle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10200" y="6248520"/>
              <a:ext cx="13068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ni.com/m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" name="nilogoClr" descr=""/>
          <p:cNvPicPr/>
          <p:nvPr/>
        </p:nvPicPr>
        <p:blipFill>
          <a:blip r:embed="rId3"/>
          <a:stretch/>
        </p:blipFill>
        <p:spPr>
          <a:xfrm>
            <a:off x="7010280" y="6305400"/>
            <a:ext cx="198144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48" name="niwknoeagleweb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3276720" cy="1141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easurement and Automation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with Macintosh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remy Wild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ign Engine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i Aug 1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:00-1:15 p.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 River (4B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4572000"/>
            <a:ext cx="1276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DSA Instrument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mic Signal Analyz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CI-44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analog inpu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analog outputs (51.2 kS/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-bit, 204.8 kS/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CI-445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analog inpu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-bit, 204.8 kS/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301644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DSA Featur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dynamic range (93 d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±10 mV to ±42.4 V 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/DC coup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ial in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C to 95 kHz bandwid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e-grained sampling rate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301644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Remote and Wireless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easurement and Automation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ew PXI Modules with MXI-3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XI-6052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-bit AI/A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XI-66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ght high-speed counters/ti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XI-67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 static analog outputs V &amp;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XI-6711/67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/8 waveform analog outpu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867280" y="1828800"/>
            <a:ext cx="301644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XI-3/PXI Benefit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gged, remote, isolated (fib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XI backplane timing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 m with optical fi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m with cop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-transpa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477120" y="3124080"/>
            <a:ext cx="1800000" cy="1390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14600" y="4672080"/>
            <a:ext cx="2568600" cy="2185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952880" y="3733920"/>
            <a:ext cx="1828800" cy="1763640"/>
          </a:xfrm>
          <a:custGeom>
            <a:avLst/>
            <a:gdLst/>
            <a:ahLst/>
            <a:rect l="l" t="t" r="r" b="b"/>
            <a:pathLst>
              <a:path w="1152" h="1111">
                <a:moveTo>
                  <a:pt x="1152" y="0"/>
                </a:moveTo>
                <a:cubicBezTo>
                  <a:pt x="955" y="8"/>
                  <a:pt x="759" y="16"/>
                  <a:pt x="624" y="96"/>
                </a:cubicBezTo>
                <a:cubicBezTo>
                  <a:pt x="488" y="175"/>
                  <a:pt x="423" y="328"/>
                  <a:pt x="336" y="480"/>
                </a:cubicBezTo>
                <a:cubicBezTo>
                  <a:pt x="248" y="631"/>
                  <a:pt x="151" y="904"/>
                  <a:pt x="96" y="1008"/>
                </a:cubicBezTo>
                <a:cubicBezTo>
                  <a:pt x="40" y="1111"/>
                  <a:pt x="20" y="1107"/>
                  <a:pt x="0" y="1104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3410000">
            <a:off x="5714280" y="388620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4952880"/>
            <a:ext cx="2438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 to 200 meter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Wireless With Airpor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VI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flex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CP/UD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st data trans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DataSocke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LabVIEW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eb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univer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LabVIEW 6</a:t>
            </a:r>
            <a:r>
              <a:rPr b="1" i="1" lang="en-US" sz="3600" spc="-1" strike="noStrike">
                <a:solidFill>
                  <a:srgbClr val="ffff66"/>
                </a:solidFill>
                <a:latin typeface="Arial"/>
              </a:rPr>
              <a:t>i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ew Features of LabVIEW 6</a:t>
            </a:r>
            <a:r>
              <a:rPr b="1" i="1" lang="en-US" sz="3600" spc="-1" strike="noStrike">
                <a:solidFill>
                  <a:srgbClr val="ffff66"/>
                </a:solidFill>
                <a:latin typeface="Arial"/>
              </a:rPr>
              <a:t>i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VIEW 6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Other Surprise Topic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ew Products Supported in 2000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 new plug-in boards in NI-DAQ 6.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31 boards in NI-DAQ 6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of 48 boards in NI-DAQ 6.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view of new products with de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te and wireless measurement and auto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VIEW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6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mor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Overview of New Product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ew Multifunction I/O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cost 12-bit 6023E/6024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/16 AI, 2 AO (6024 on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 to 200 kS/s analog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resolution 16-bit 6052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/16 AI, 2 A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 to 333 kS/s analog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in PXI via MX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172200" y="2133720"/>
            <a:ext cx="27432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ew Multifunction I/O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cost 16-bit 6034E/6035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/16 AI, 2 AO (6035E only, 12-b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 to 200 kS/s analog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E Series still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172200" y="2133720"/>
            <a:ext cx="27432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ew Timing I/O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-Cost TIO, 66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counters, 20 MHz (60 w/prescal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 to 32 Digital I/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debouncing fil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Speed TIO, 66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ght counters, 80 MHz (125 w/prescal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DIO and filtering as 66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in PXI via MXI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301644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ew Low Cost Digital I/O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cost DIO, 65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4 digital I/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sha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directional/bidirec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defined power-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ew Analog Outpu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 AO, 67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-bit voltage, 16 outputs, ±10 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 digital I/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 AO, 67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-bit voltage, 16 output, ±10 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-bit current, 16 output, 0-20 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 digital I/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867280" y="152280"/>
            <a:ext cx="301644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ew Analog Outpu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veform gen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-b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 to 1 MS/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channel, 67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ght channel, 67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ght digital I/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counters (same as E Ser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in PXI via MXI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400800" y="155520"/>
            <a:ext cx="24494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David Steele</cp:lastModifiedBy>
  <cp:lastPrinted>2000-07-15T23:33:47Z</cp:lastPrinted>
  <dcterms:modified xsi:type="dcterms:W3CDTF">2000-07-15T23:34:36Z</dcterms:modified>
  <cp:revision>62</cp:revision>
  <dc:subject/>
  <dc:title>Expanding Your Business with Marketing</dc:title>
</cp:coreProperties>
</file>