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for Measurement and Automation</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3K-</a:t>
            </a:r>
            <a:fld id="{1AE20D21-A379-4723-88F6-68C8CD67B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ntroduces the Linux operating system and shows how LabVIEW for Linux/x86 and National Instruments hardware can be used for instrument control and measurement under Linux.</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GPIB driver is currently at version 0.6 (beta) and supports all AT-GPIB/TNT and PCI-GPIB cards, including plug-and-play cards, and provides the full NI488.2 interface, which can be called from LabVIEW for directly from C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river is built from a common source base with our Solaris, HP-UX, OSF1, and other UNIX drivers and should provide identica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PIB-ENET (user-level) driver is also built from a common source base as for other platforms and should provide identica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drivers include ibconf, ibic, and ibtsta ut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AQ driver is an early-beta stage open source driver supporting our E-series and DIO cards. It is not built on the same source base as NI-DAQ, but aims to have a useful subset of the features and provide a similar (although not identical) interf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alth of information about Linux is available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ux Documentation Project is a large collection Linux-related information. It includes technical information about Linux for developers, numerous FAQ and HOWTO documents explaining how to perform various tasks under Linux, and information on what hardware is well-supported by Lin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a dozen different distributions of Linux; some of the most common are listed here. There are also special distributions for non-Intel architectures, such as LinuxPPC for the Macintosh/Power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5.1 for Linux works on RedHat 6.0 or later (and derived works), Caldera OpenLinux 1.3 or later, Debian 2.0 or later, and S.u.S.E. Linux 6.0 or later. It will not work on Slackware without glibc 2.1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buy Linux pre-installed from vendors such as VA Research and Penguin Computing. Recently, several major computer vendors, including Compaq, Dell, HP, and SGI, have announced support for Linux.</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pronounced LIH-nucks) is a full-featured freely-distributable UNIX clone available for the x86, PowerPC, Sparc, Alpha, MIPS, and 680x0 architectures. It is an implementation of the POSIX specification with which all major UNIX vendors com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was originally written from scratch by Linus Torvalds in 1991, then a graduate student at the University of Helsinki. It has since been contributed to by thousands of developers world-wide, and is possibly the largest collaborative software project 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released under the GNU Public License (GPL). Its source code is freely available, and can be freely modified as long as those modifications are also made free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ux kernel is usually bundled with software binaries which comprise a complete UNIX-like system, including networking software, development tools, various utilities, and a graphical user interface. These bundles are called distributions, and come in a variety of configurations from different vendors. They can generally be downloaded for free, or more commonly purchased with value-added components and support for less than $1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all the features you expect from any modern multi-tasking opera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gives each application a protected address space, so a single misbehaving program cannot crash the entire system. It supports virtual memory, copy-on-write, and demand-lo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supports shared libraries (like Windows DLLs), allowing multiple programs to share code. It also implements a versioning scheme to keep programs which require different versions of the same library from conflicting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modular device drivers which can be loaded and unloaded without rebooting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as of kernel version 2.2, is capable of symmetric multi-processing and scales well to four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supports TCP/IP, UDP/IP, X.25, IPX, Appletalk, ISDN, PPP, and many other network protocols. It works well as a Web and FTP server, and even as a Windows (SMB) fileserver using Samb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a reputation for being robust, and is known to stay up for months at a time without crashing or becoming un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ost UNIX variants, Linux is multi-user, supports multiple simultaneous logins, and can be remotely administered. The X Windows system inherently allows all applications to be run on a remote display over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runs on everyday 80x86 PCs and consumes minimal resources, so it can bring old computers new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source code is available, it is readily adaptable for custom projects. For example, there are projects such as real-time Linux, Linux for VME-based systems, and ports of Linux to embedded systems and handheld computers such as the Palm Pi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is available from many independent vendors. It is also easy to find solutions to problems via the Web or Usenet news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n Open Source license does not necessarily have to require that all modifications to a program remain open source. The GNU Public License does (under which Linux and many programs bundled with Linux distributions fall), but other open source licenses such as the Berkeley (BSD) license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Free86 distribution (X Windows) commonly used on Linux uses the BSD license, and there are several vendors ship proprietary enhancements to it. This allows them to support video hardware they otherwise could not because the hardware specifications are available only under non-disclosure agreement (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IDC reports concerning Linux can be found at </a:t>
            </a:r>
            <a:r>
              <a:rPr b="1" lang="en-US" sz="1200" spc="-1" strike="noStrike">
                <a:solidFill>
                  <a:srgbClr val="000000"/>
                </a:solidFill>
                <a:latin typeface="Times New Roman"/>
              </a:rPr>
              <a:t>id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OS Counter collects statistics on operating system usage of Web and FTP server on the Internet. It can be found at </a:t>
            </a:r>
            <a:r>
              <a:rPr b="1" lang="en-US" sz="1200" spc="-1" strike="noStrike">
                <a:solidFill>
                  <a:srgbClr val="000000"/>
                </a:solidFill>
                <a:latin typeface="Times New Roman"/>
              </a:rPr>
              <a:t>leb.net/hzo/ios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April 1999, Linux is the number one OS for Web/FTP servers at 31%, followed by Windows NT/95 at 24% and Solaris at 16%. The Linux Weekly News (</a:t>
            </a:r>
            <a:r>
              <a:rPr b="1" lang="en-US" sz="1200" spc="-1" strike="noStrike">
                <a:solidFill>
                  <a:srgbClr val="000000"/>
                </a:solidFill>
                <a:latin typeface="Times New Roman"/>
              </a:rPr>
              <a:t>lwn.net</a:t>
            </a:r>
            <a:r>
              <a:rPr b="0" lang="en-US" sz="1200" spc="-1" strike="noStrike">
                <a:solidFill>
                  <a:srgbClr val="000000"/>
                </a:solidFill>
                <a:latin typeface="Times New Roman"/>
              </a:rPr>
              <a:t>) does a good job summarizing Linux-related press each 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very rarely crashes and doesn’t need to reboot when software (even drivers) is inst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can be obtained at low cost, free of licensing agreements and royalties. However, it may require more expertise to set up and administer, so there is a tradeoff here which may bring the total cost of ownership closer to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other UNIX variants, Linux’s ability to operate without a GUI and to display windows remotely makes remote access and administration more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can run on older hardware. A 486/33 with 8 MB memory can be turned into a serviceable router or firewall, for example. A Pentium 100 with 32MB memory would be a reasonable desktop Linux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available on a wide number of architectures, including x86, PowerPC, Sparc, 680x0, Alpha, MIPS, and Strong-Ar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hardware setup, Linux can be more difficult to install than Windows. While there are desktop GUI projects (KDE, GNOME) that are making reasonable progress, they are less mature than Windows and it is not uncommon to have to resort to command line interfaces to perform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Linux distributions may be confusing to end-users and cause software configuration/installation difficulties for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much less complete support for multimedia formats and devices such as DVD players. Only a few commercial companies in this area support Linux, and patented/proprietary algorithms and data formats hinder open source development of multimedia drivers an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umber of productivity applications for Linux is growing, it is still nowhere close to the volume of apps available for the Win32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ewer support options available for Linux. The commercial infrastructure to support setup and maintenance of Linux systems is relatively ne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x86 is comparable in features to LabVIEW for Solaris or HP-UX. It supports TCP/IP and UDP networking, serial I/O, CINs and external function nodes (DLLs), and the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server support means it is easy to communicate between LabVIEW for Linux and LabVIEW for other platforms transpa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 is a multi-threaded application, and requires multi-threaded system libraries (glibc 2.1 or later). Most current distributions of Linux (Red Hat, Caldera, S.u.S.E., Debian) provide this by de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PIB (beta), NI-ENET, and NI-VISA drivers are included with LabVIEW. Updates may be obtained from our FTP site at ftp://ftp.natinst.com/support/gpib/lin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 does not support Windows-only features such as     Active 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520" y="2666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ed6ae"/>
                </a:solidFill>
                <a:latin typeface="Arial"/>
              </a:rPr>
              <a:t>for Linux</a:t>
            </a:r>
            <a:r>
              <a:rPr b="1" lang="en-US" sz="1600" spc="-1" strike="noStrike">
                <a:solidFill>
                  <a:srgbClr val="ded6ae"/>
                </a:solidFill>
                <a:latin typeface="Arial"/>
              </a:rPr>
              <a:t> </a:t>
            </a:r>
            <a:r>
              <a:rPr b="1" lang="en-US" sz="1600" spc="-1" strike="noStrike" baseline="100000">
                <a:solidFill>
                  <a:srgbClr val="ded6ae"/>
                </a:solidFill>
                <a:latin typeface="Arial"/>
              </a:rPr>
              <a:t>TM</a:t>
            </a:r>
            <a:endParaRPr b="1" lang="en-US" sz="1600" spc="-1" strike="noStrike">
              <a:solidFill>
                <a:srgbClr val="ffff66"/>
              </a:solidFill>
              <a:latin typeface="Arial"/>
            </a:endParaRPr>
          </a:p>
        </p:txBody>
      </p:sp>
      <p:sp>
        <p:nvSpPr>
          <p:cNvPr id="93"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aig Smith</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 LabVIEW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pic>
        <p:nvPicPr>
          <p:cNvPr id="94" name="ni%20labview%20blue" descr=""/>
          <p:cNvPicPr/>
          <p:nvPr/>
        </p:nvPicPr>
        <p:blipFill>
          <a:blip r:embed="rId1"/>
          <a:stretch/>
        </p:blipFill>
        <p:spPr>
          <a:xfrm>
            <a:off x="1371600" y="2697120"/>
            <a:ext cx="3048120" cy="731880"/>
          </a:xfrm>
          <a:prstGeom prst="rect">
            <a:avLst/>
          </a:prstGeom>
          <a:ln w="0">
            <a:noFill/>
          </a:ln>
        </p:spPr>
      </p:pic>
      <p:pic>
        <p:nvPicPr>
          <p:cNvPr id="95" name="penguin" descr=""/>
          <p:cNvPicPr/>
          <p:nvPr/>
        </p:nvPicPr>
        <p:blipFill>
          <a:blip r:embed="rId2"/>
          <a:stretch/>
        </p:blipFill>
        <p:spPr>
          <a:xfrm>
            <a:off x="6553080" y="3200400"/>
            <a:ext cx="519120" cy="5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Hardware Solutions</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GPI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GPIB/TNT and PCI-GPIB c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E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upport planned for PCMCIA or PC-I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E-DAQ)</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CI/PXI E-Series cards (PCI-MIO-16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CI/PXI DIO-24/96 c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interface is a subset of NI-DAQ, but is not VI to VI compat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for Linu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GPIB</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E-D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Resources</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ing points, general info</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Online (linux.org)</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nternational (li.org)</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nux Documentation Project (metalab.unc.edu/mdw/linux.html)</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nux Journal (linuxjournal.co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Q (Linux Kernel Information DB) (linuxhq.co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 (ftp.us.kernel.org)</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 sit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Weekly News (lwn.net)</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ashdot (slashdot.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Resource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Vendor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Hat Softwar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der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E. Linux</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ian</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with Linux pre-installed</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 Research</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guin Comput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q, Dell, Hewlett-Pack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Linux?</a:t>
            </a:r>
            <a:endParaRPr b="1" lang="en-US" sz="3600" spc="-1" strike="noStrike">
              <a:solidFill>
                <a:srgbClr val="ffff66"/>
              </a:solidFill>
              <a:latin typeface="Arial"/>
            </a:endParaRPr>
          </a:p>
        </p:txBody>
      </p:sp>
      <p:sp>
        <p:nvSpPr>
          <p:cNvPr id="97" name="PlaceHolder 2"/>
          <p:cNvSpPr>
            <a:spLocks noGrp="1"/>
          </p:cNvSpPr>
          <p:nvPr>
            <p:ph/>
          </p:nvPr>
        </p:nvSpPr>
        <p:spPr>
          <a:xfrm>
            <a:off x="685800" y="1904760"/>
            <a:ext cx="777240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featured POSIX-compliant UNIX cl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ed in 1991 by Linus Torvalds at University of Helsink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sands of contributors world-wide, managed by a small hierarchy of kernel develop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rapid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ux OS Featur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ed address sp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yanmic link libraries (DLLs) with versio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file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dynamically-loadable device dr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and SMP-cap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u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networking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Linux?</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ust and reliable</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ity and remote administration/display of UNIX/X-Windows on low-cost hardware</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freely availabl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ly adaptable for custom project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to find and fix bugs yourself</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available via the Web or numerous commercial vend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Open Source?</a:t>
            </a:r>
            <a:endParaRPr b="1" lang="en-US" sz="3600" spc="-1" strike="noStrike">
              <a:solidFill>
                <a:srgbClr val="ffff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edistribution</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available; distribution allowed in source or compiler form</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ived works are allowed, and can be distributed under same license as original</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open source definition at </a:t>
            </a:r>
            <a:r>
              <a:rPr b="1" lang="en-US" sz="2800" spc="-1" strike="noStrike">
                <a:solidFill>
                  <a:srgbClr val="ffffff"/>
                </a:solidFill>
                <a:latin typeface="Arial"/>
              </a:rPr>
              <a:t>opensource.org/osd.html</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open source licenses exist</a:t>
            </a:r>
            <a:br>
              <a:rPr sz="2800"/>
            </a:br>
            <a:r>
              <a:rPr b="0" lang="en-US" sz="2800" spc="-1" strike="noStrike">
                <a:solidFill>
                  <a:srgbClr val="ffffff"/>
                </a:solidFill>
                <a:latin typeface="Arial"/>
              </a:rPr>
              <a:t> (GPL,BSD, NP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apid Growth</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12 million estimated users today</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 of Web, ftp, and news servers according to Internet OS Counter</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cles appearing in mainstream IT press every week</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Data Corp. statistic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of operating system server market</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commercial shipments expected to grow at 25% for next four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 with Microsoft Window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 modularit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as in freedom, “open source”, user-extensibl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administra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isplay capability built-i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mes less resources; works on lower-end hardwar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 with Microsoft Window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learning cur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mature GU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competing distrib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multimedia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applications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hardware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er support options (consultant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Linux Featur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compatible with LabVIEW for Solar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hread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Ns and external functions (shared libs/DL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IP networking and VI server support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erial, VISA, and GPIB Instru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 support for E-series cards onl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ctiveX</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Builder and Internet Toolkit avail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1:22:21Z</dcterms:created>
  <dc:creator>Craig Smith</dc:creator>
  <dc:description/>
  <dc:language>en-US</dc:language>
  <cp:lastModifiedBy>David Steele</cp:lastModifiedBy>
  <dcterms:modified xsi:type="dcterms:W3CDTF">2000-07-14T21:16:09Z</dcterms:modified>
  <cp:revision>14</cp:revision>
  <dc:subject/>
  <dc:title>Intro</dc:title>
</cp:coreProperties>
</file>