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3A2ACA53-E0BE-45AE-8C8A-9BE18BB661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A54992EC-8015-4641-8385-7D6F194EC6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inalbody2no%20log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1508040"/>
            <a:ext cx="769608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0560" y="6248520"/>
            <a:ext cx="835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i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iweek" descr=""/>
          <p:cNvPicPr/>
          <p:nvPr/>
        </p:nvPicPr>
        <p:blipFill>
          <a:blip r:embed="rId3"/>
          <a:stretch/>
        </p:blipFill>
        <p:spPr>
          <a:xfrm>
            <a:off x="7238880" y="6234120"/>
            <a:ext cx="1792440" cy="47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finaltitle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10560" y="6248520"/>
              <a:ext cx="835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7" name="niwknoeagleweb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3276720" cy="1141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tructural Test and Measuremen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g Shepar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Development Manag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i Aug 18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:45-3:00 p.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n Jacinto (5B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System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s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512 channels 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ed via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ized by common clock sig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42480" y="3773520"/>
            <a:ext cx="5967720" cy="1560600"/>
            <a:chOff x="942480" y="3773520"/>
            <a:chExt cx="5967720" cy="1560600"/>
          </a:xfrm>
        </p:grpSpPr>
        <p:sp>
          <p:nvSpPr>
            <p:cNvPr id="158" name=""/>
            <p:cNvSpPr/>
            <p:nvPr/>
          </p:nvSpPr>
          <p:spPr>
            <a:xfrm>
              <a:off x="1241280" y="4640400"/>
              <a:ext cx="90180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1542240" y="4119840"/>
              <a:ext cx="485640" cy="379440"/>
            </a:xfrm>
            <a:prstGeom prst="leftRightArrow">
              <a:avLst>
                <a:gd name="adj1" fmla="val 50000"/>
                <a:gd name="adj2" fmla="val 2547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8360" y="4640400"/>
              <a:ext cx="90360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2521440" y="4107600"/>
              <a:ext cx="486000" cy="379440"/>
            </a:xfrm>
            <a:prstGeom prst="leftRightArrow">
              <a:avLst>
                <a:gd name="adj1" fmla="val 50000"/>
                <a:gd name="adj2" fmla="val 2549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5440" y="4640400"/>
              <a:ext cx="90360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3548520" y="4107600"/>
              <a:ext cx="486000" cy="379080"/>
            </a:xfrm>
            <a:prstGeom prst="leftRightArrow">
              <a:avLst>
                <a:gd name="adj1" fmla="val 50000"/>
                <a:gd name="adj2" fmla="val 255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41840" y="4633920"/>
              <a:ext cx="90036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5792400" y="4108320"/>
              <a:ext cx="486000" cy="377640"/>
            </a:xfrm>
            <a:prstGeom prst="leftRightArrow">
              <a:avLst>
                <a:gd name="adj1" fmla="val 50000"/>
                <a:gd name="adj2" fmla="val 2561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45000" y="4863960"/>
              <a:ext cx="128520" cy="11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60720" y="4863960"/>
              <a:ext cx="128880" cy="11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78240" y="4863960"/>
              <a:ext cx="127080" cy="11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942120" y="3773520"/>
              <a:ext cx="528840" cy="347760"/>
            </a:xfrm>
            <a:prstGeom prst="rightArrow">
              <a:avLst>
                <a:gd name="adj1" fmla="val 50000"/>
                <a:gd name="adj2" fmla="val 38018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84200" y="3861000"/>
              <a:ext cx="5058000" cy="168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8480" y="3773520"/>
              <a:ext cx="531720" cy="347760"/>
            </a:xfrm>
            <a:prstGeom prst="rightArrow">
              <a:avLst>
                <a:gd name="adj1" fmla="val 50000"/>
                <a:gd name="adj2" fmla="val 38225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System Advantag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es cabling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 analog sign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68360" y="3332160"/>
            <a:ext cx="9018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95440" y="333216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2520" y="333216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8920" y="3325680"/>
            <a:ext cx="9000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72080" y="3556080"/>
            <a:ext cx="12852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7800" y="3556080"/>
            <a:ext cx="12888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05320" y="3556080"/>
            <a:ext cx="12708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60680" y="4032000"/>
            <a:ext cx="4678200" cy="688680"/>
            <a:chOff x="1660680" y="4032000"/>
            <a:chExt cx="4678200" cy="688680"/>
          </a:xfrm>
        </p:grpSpPr>
        <p:sp>
          <p:nvSpPr>
            <p:cNvPr id="182" name=""/>
            <p:cNvSpPr/>
            <p:nvPr/>
          </p:nvSpPr>
          <p:spPr>
            <a:xfrm rot="16200000">
              <a:off x="1506600" y="4185720"/>
              <a:ext cx="688680" cy="380880"/>
            </a:xfrm>
            <a:prstGeom prst="leftRightArrow">
              <a:avLst>
                <a:gd name="adj1" fmla="val 50000"/>
                <a:gd name="adj2" fmla="val 35995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200000">
              <a:off x="2534400" y="4186440"/>
              <a:ext cx="688680" cy="379440"/>
            </a:xfrm>
            <a:prstGeom prst="leftRightArrow">
              <a:avLst>
                <a:gd name="adj1" fmla="val 50000"/>
                <a:gd name="adj2" fmla="val 36132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200000">
              <a:off x="3561480" y="4186440"/>
              <a:ext cx="688680" cy="379440"/>
            </a:xfrm>
            <a:prstGeom prst="leftRightArrow">
              <a:avLst>
                <a:gd name="adj1" fmla="val 50000"/>
                <a:gd name="adj2" fmla="val 36132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00000">
              <a:off x="5804640" y="4186440"/>
              <a:ext cx="688680" cy="379440"/>
            </a:xfrm>
            <a:prstGeom prst="leftRightArrow">
              <a:avLst>
                <a:gd name="adj1" fmla="val 50000"/>
                <a:gd name="adj2" fmla="val 36132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System Advantag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system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tation can operate in local m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93920" y="3421080"/>
            <a:ext cx="9014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25640" y="342108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42108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94480" y="3414600"/>
            <a:ext cx="9000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System Advantag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figur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ons can be grouped into smaller sub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66840" y="4019400"/>
            <a:ext cx="9018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93920" y="401940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14760" y="401940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7400" y="4013280"/>
            <a:ext cx="9000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968400" y="3152880"/>
            <a:ext cx="2690640" cy="779040"/>
            <a:chOff x="968400" y="3152880"/>
            <a:chExt cx="2690640" cy="779040"/>
          </a:xfrm>
        </p:grpSpPr>
        <p:sp>
          <p:nvSpPr>
            <p:cNvPr id="199" name=""/>
            <p:cNvSpPr/>
            <p:nvPr/>
          </p:nvSpPr>
          <p:spPr>
            <a:xfrm rot="16200000">
              <a:off x="1567440" y="3499200"/>
              <a:ext cx="485640" cy="379440"/>
            </a:xfrm>
            <a:prstGeom prst="leftRightArrow">
              <a:avLst>
                <a:gd name="adj1" fmla="val 50000"/>
                <a:gd name="adj2" fmla="val 2547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2547000" y="3486960"/>
              <a:ext cx="486000" cy="379440"/>
            </a:xfrm>
            <a:prstGeom prst="leftRightArrow">
              <a:avLst>
                <a:gd name="adj1" fmla="val 50000"/>
                <a:gd name="adj2" fmla="val 2549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968400" y="3152880"/>
              <a:ext cx="528480" cy="347760"/>
            </a:xfrm>
            <a:prstGeom prst="rightArrow">
              <a:avLst>
                <a:gd name="adj1" fmla="val 50000"/>
                <a:gd name="adj2" fmla="val 37992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09760" y="3240000"/>
              <a:ext cx="1728720" cy="17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7320" y="3152880"/>
              <a:ext cx="531720" cy="347760"/>
            </a:xfrm>
            <a:prstGeom prst="rightArrow">
              <a:avLst>
                <a:gd name="adj1" fmla="val 50000"/>
                <a:gd name="adj2" fmla="val 38225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226040" y="3124080"/>
            <a:ext cx="2690640" cy="779040"/>
            <a:chOff x="4226040" y="3124080"/>
            <a:chExt cx="2690640" cy="779040"/>
          </a:xfrm>
        </p:grpSpPr>
        <p:sp>
          <p:nvSpPr>
            <p:cNvPr id="205" name=""/>
            <p:cNvSpPr/>
            <p:nvPr/>
          </p:nvSpPr>
          <p:spPr>
            <a:xfrm rot="16200000">
              <a:off x="4825080" y="3470400"/>
              <a:ext cx="485640" cy="379440"/>
            </a:xfrm>
            <a:prstGeom prst="leftRightArrow">
              <a:avLst>
                <a:gd name="adj1" fmla="val 50000"/>
                <a:gd name="adj2" fmla="val 2547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5804640" y="3458160"/>
              <a:ext cx="486000" cy="379440"/>
            </a:xfrm>
            <a:prstGeom prst="leftRightArrow">
              <a:avLst>
                <a:gd name="adj1" fmla="val 50000"/>
                <a:gd name="adj2" fmla="val 2549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226040" y="3124080"/>
              <a:ext cx="528480" cy="347760"/>
            </a:xfrm>
            <a:prstGeom prst="rightArrow">
              <a:avLst>
                <a:gd name="adj1" fmla="val 50000"/>
                <a:gd name="adj2" fmla="val 37992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67400" y="3211200"/>
              <a:ext cx="1728720" cy="17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84960" y="3124080"/>
              <a:ext cx="531720" cy="347760"/>
            </a:xfrm>
            <a:prstGeom prst="rightArrow">
              <a:avLst>
                <a:gd name="adj1" fmla="val 50000"/>
                <a:gd name="adj2" fmla="val 38225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/SCXI System Archite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77920" y="4530600"/>
            <a:ext cx="9018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44840" y="6248520"/>
            <a:ext cx="22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Excitation outputs signal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51720" y="3538440"/>
            <a:ext cx="106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51800" y="4010760"/>
            <a:ext cx="486000" cy="379440"/>
          </a:xfrm>
          <a:prstGeom prst="leftRightArrow">
            <a:avLst>
              <a:gd name="adj1" fmla="val 50000"/>
              <a:gd name="adj2" fmla="val 2549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5000" y="453060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458080" y="3998160"/>
            <a:ext cx="486000" cy="379440"/>
          </a:xfrm>
          <a:prstGeom prst="leftRightArrow">
            <a:avLst>
              <a:gd name="adj1" fmla="val 50000"/>
              <a:gd name="adj2" fmla="val 2549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32080" y="453060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485160" y="3998160"/>
            <a:ext cx="486000" cy="379440"/>
          </a:xfrm>
          <a:prstGeom prst="leftRightArrow">
            <a:avLst>
              <a:gd name="adj1" fmla="val 50000"/>
              <a:gd name="adj2" fmla="val 2549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78480" y="4524480"/>
            <a:ext cx="9000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5729040" y="3998880"/>
            <a:ext cx="486000" cy="377640"/>
          </a:xfrm>
          <a:prstGeom prst="leftRightArrow">
            <a:avLst>
              <a:gd name="adj1" fmla="val 50000"/>
              <a:gd name="adj2" fmla="val 2561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32080" y="5218200"/>
            <a:ext cx="4678200" cy="992880"/>
            <a:chOff x="1432080" y="5218200"/>
            <a:chExt cx="4678200" cy="992880"/>
          </a:xfrm>
        </p:grpSpPr>
        <p:sp>
          <p:nvSpPr>
            <p:cNvPr id="222" name=""/>
            <p:cNvSpPr/>
            <p:nvPr/>
          </p:nvSpPr>
          <p:spPr>
            <a:xfrm rot="16200000">
              <a:off x="1126080" y="5524200"/>
              <a:ext cx="992880" cy="380880"/>
            </a:xfrm>
            <a:prstGeom prst="leftRightArrow">
              <a:avLst>
                <a:gd name="adj1" fmla="val 50000"/>
                <a:gd name="adj2" fmla="val 51895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2153880" y="5524920"/>
              <a:ext cx="992880" cy="379440"/>
            </a:xfrm>
            <a:prstGeom prst="leftRightArrow">
              <a:avLst>
                <a:gd name="adj1" fmla="val 50000"/>
                <a:gd name="adj2" fmla="val 5209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3180960" y="5524920"/>
              <a:ext cx="992880" cy="379440"/>
            </a:xfrm>
            <a:prstGeom prst="leftRightArrow">
              <a:avLst>
                <a:gd name="adj1" fmla="val 50000"/>
                <a:gd name="adj2" fmla="val 5209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200000">
              <a:off x="5424120" y="5524920"/>
              <a:ext cx="992880" cy="379440"/>
            </a:xfrm>
            <a:prstGeom prst="leftRightArrow">
              <a:avLst>
                <a:gd name="adj1" fmla="val 50000"/>
                <a:gd name="adj2" fmla="val 5209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481640" y="4754520"/>
            <a:ext cx="12852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97360" y="4754520"/>
            <a:ext cx="12852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14880" y="4754520"/>
            <a:ext cx="12708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4888440" y="3302280"/>
            <a:ext cx="485640" cy="379440"/>
          </a:xfrm>
          <a:prstGeom prst="leftRightArrow">
            <a:avLst>
              <a:gd name="adj1" fmla="val 50000"/>
              <a:gd name="adj2" fmla="val 2547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145040" y="2004840"/>
            <a:ext cx="1538280" cy="12830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47920" y="1913040"/>
            <a:ext cx="1279440" cy="83484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35400" y="1557360"/>
            <a:ext cx="15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quisition control/monitor cons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0160" y="5334120"/>
            <a:ext cx="8082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Ti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16200000">
            <a:off x="1773360" y="2784960"/>
            <a:ext cx="446400" cy="381240"/>
          </a:xfrm>
          <a:prstGeom prst="rightArrow">
            <a:avLst>
              <a:gd name="adj1" fmla="val 50000"/>
              <a:gd name="adj2" fmla="val 29273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98640" y="3086280"/>
            <a:ext cx="190440" cy="10108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1773720" y="4010760"/>
            <a:ext cx="446040" cy="381240"/>
          </a:xfrm>
          <a:prstGeom prst="rightArrow">
            <a:avLst>
              <a:gd name="adj1" fmla="val 50000"/>
              <a:gd name="adj2" fmla="val 29249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79480" y="3664080"/>
            <a:ext cx="528480" cy="347400"/>
          </a:xfrm>
          <a:prstGeom prst="rightArrow">
            <a:avLst>
              <a:gd name="adj1" fmla="val 50000"/>
              <a:gd name="adj2" fmla="val 38031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20840" y="3751200"/>
            <a:ext cx="5057640" cy="168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15120" y="3664080"/>
            <a:ext cx="531720" cy="347400"/>
          </a:xfrm>
          <a:prstGeom prst="rightArrow">
            <a:avLst>
              <a:gd name="adj1" fmla="val 50000"/>
              <a:gd name="adj2" fmla="val 38264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969920" y="5236920"/>
            <a:ext cx="330480" cy="399960"/>
            <a:chOff x="1969920" y="5236920"/>
            <a:chExt cx="330480" cy="399960"/>
          </a:xfrm>
        </p:grpSpPr>
        <p:sp>
          <p:nvSpPr>
            <p:cNvPr id="241" name=""/>
            <p:cNvSpPr/>
            <p:nvPr/>
          </p:nvSpPr>
          <p:spPr>
            <a:xfrm flipV="1">
              <a:off x="2298600" y="5236920"/>
              <a:ext cx="0" cy="39996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969920" y="5608440"/>
              <a:ext cx="33048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00160" y="5237280"/>
              <a:ext cx="0" cy="36180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019040" y="5243400"/>
            <a:ext cx="1568520" cy="400320"/>
            <a:chOff x="4019040" y="5243400"/>
            <a:chExt cx="1568520" cy="400320"/>
          </a:xfrm>
        </p:grpSpPr>
        <p:sp>
          <p:nvSpPr>
            <p:cNvPr id="245" name=""/>
            <p:cNvSpPr/>
            <p:nvPr/>
          </p:nvSpPr>
          <p:spPr>
            <a:xfrm flipV="1">
              <a:off x="5567400" y="5243400"/>
              <a:ext cx="0" cy="40032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019040" y="5621400"/>
              <a:ext cx="156852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44960" y="5243400"/>
              <a:ext cx="0" cy="36216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989080" y="5236920"/>
            <a:ext cx="330120" cy="399960"/>
            <a:chOff x="2989080" y="5236920"/>
            <a:chExt cx="330120" cy="399960"/>
          </a:xfrm>
        </p:grpSpPr>
        <p:sp>
          <p:nvSpPr>
            <p:cNvPr id="249" name=""/>
            <p:cNvSpPr/>
            <p:nvPr/>
          </p:nvSpPr>
          <p:spPr>
            <a:xfrm flipV="1">
              <a:off x="3317760" y="5236920"/>
              <a:ext cx="0" cy="39996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989080" y="5608440"/>
              <a:ext cx="33012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19320" y="5237280"/>
              <a:ext cx="0" cy="36180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CXI Timing Distribution Modul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clock input, four clock outputs (co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o-isolated 50 Ohm line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station can generate the master c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station can be slaved to any other 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77920" y="4551480"/>
            <a:ext cx="9018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ster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5000" y="455148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av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32080" y="455148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av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78480" y="4545000"/>
            <a:ext cx="9000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av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81640" y="4775040"/>
            <a:ext cx="12852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97360" y="4775040"/>
            <a:ext cx="12852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14880" y="4775040"/>
            <a:ext cx="12708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0160" y="5146560"/>
            <a:ext cx="884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Timing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969920" y="5257440"/>
            <a:ext cx="330480" cy="399960"/>
            <a:chOff x="1969920" y="5257440"/>
            <a:chExt cx="330480" cy="399960"/>
          </a:xfrm>
        </p:grpSpPr>
        <p:sp>
          <p:nvSpPr>
            <p:cNvPr id="263" name=""/>
            <p:cNvSpPr/>
            <p:nvPr/>
          </p:nvSpPr>
          <p:spPr>
            <a:xfrm flipV="1">
              <a:off x="2298600" y="5257440"/>
              <a:ext cx="0" cy="39996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969920" y="5628960"/>
              <a:ext cx="33048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00160" y="5257800"/>
              <a:ext cx="0" cy="36180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854000" y="5257800"/>
            <a:ext cx="3746520" cy="527040"/>
            <a:chOff x="1854000" y="5257800"/>
            <a:chExt cx="3746520" cy="527040"/>
          </a:xfrm>
        </p:grpSpPr>
        <p:sp>
          <p:nvSpPr>
            <p:cNvPr id="267" name=""/>
            <p:cNvSpPr/>
            <p:nvPr/>
          </p:nvSpPr>
          <p:spPr>
            <a:xfrm flipV="1">
              <a:off x="5559480" y="5257800"/>
              <a:ext cx="0" cy="52704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854000" y="5756040"/>
              <a:ext cx="374652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68400" y="5257800"/>
              <a:ext cx="0" cy="47628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989080" y="5257440"/>
            <a:ext cx="330120" cy="399960"/>
            <a:chOff x="2989080" y="5257440"/>
            <a:chExt cx="330120" cy="399960"/>
          </a:xfrm>
        </p:grpSpPr>
        <p:sp>
          <p:nvSpPr>
            <p:cNvPr id="271" name=""/>
            <p:cNvSpPr/>
            <p:nvPr/>
          </p:nvSpPr>
          <p:spPr>
            <a:xfrm flipV="1">
              <a:off x="3317760" y="5257440"/>
              <a:ext cx="0" cy="39996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989080" y="5628960"/>
              <a:ext cx="33012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19320" y="5257800"/>
              <a:ext cx="0" cy="36180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73988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1928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1328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0204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9260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8316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9280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8156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7212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6268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1132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0188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9244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ervo Control System Interfac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 signals from servo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 cell output vol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 check event/alarm sign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log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signals to servo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log command ac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oftware Stru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 Engineering StrainDA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configuration and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VIEW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phical progr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acquisi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ed system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-DA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XI and A/D driv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 measu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ata Monitor and Log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speed (~2-5 samples/sec) contin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and remote view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a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 driven data 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l thres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od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/post trigger data reco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speed (~50 samples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p history (~10 minu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Applications 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urpose – verify structur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a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ad bear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ati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ng-term effects of slowly varying loads (&lt;4 H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ynam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bration &amp; modal test (~10KHz 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Applic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ircraft airfr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tic and fatigu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pacecraft &amp; miss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ynam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uildings (earthquake resistance stud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w-frequency dynam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System Componen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chanical stimul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rvo hydraulic jacks (low frequency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aker table (dynamic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nsor signal conditioning hardw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acquisition hardw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monitor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record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analysis &amp; presentatio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xample – Static and Fatigue Tes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dictive failure test and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aulics simulate in-flight mechanical lo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 strain and mechanical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odic tear down and insp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880" y="3048120"/>
            <a:ext cx="8140680" cy="3276000"/>
            <a:chOff x="380880" y="3048120"/>
            <a:chExt cx="8140680" cy="3276000"/>
          </a:xfrm>
        </p:grpSpPr>
        <p:sp>
          <p:nvSpPr>
            <p:cNvPr id="103" name=""/>
            <p:cNvSpPr/>
            <p:nvPr/>
          </p:nvSpPr>
          <p:spPr>
            <a:xfrm>
              <a:off x="380880" y="5689440"/>
              <a:ext cx="6477120" cy="634680"/>
            </a:xfrm>
            <a:custGeom>
              <a:avLst/>
              <a:gdLst>
                <a:gd name="textAreaLeft" fmla="*/ 585360 w 6477120"/>
                <a:gd name="textAreaRight" fmla="*/ 5891760 w 6477120"/>
                <a:gd name="textAreaTop" fmla="*/ 57240 h 634680"/>
                <a:gd name="textAreaBottom" fmla="*/ 57744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35" y="21600"/>
                  </a:lnTo>
                  <a:lnTo>
                    <a:pt x="365" y="2160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Static%20Test%20System" descr=""/>
            <p:cNvPicPr/>
            <p:nvPr/>
          </p:nvPicPr>
          <p:blipFill>
            <a:blip r:embed="rId1"/>
            <a:stretch/>
          </p:blipFill>
          <p:spPr>
            <a:xfrm>
              <a:off x="1297080" y="3794040"/>
              <a:ext cx="4721040" cy="17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60240" y="3048120"/>
              <a:ext cx="591840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680" y="4267080"/>
              <a:ext cx="1054080" cy="114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26080" y="4267080"/>
              <a:ext cx="1092240" cy="114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55880" y="3352680"/>
              <a:ext cx="457200" cy="144756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851360" y="3352680"/>
              <a:ext cx="457200" cy="147276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97280" y="3340080"/>
              <a:ext cx="457200" cy="97740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84400" y="3352680"/>
              <a:ext cx="457200" cy="97740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835440" y="5282280"/>
              <a:ext cx="457200" cy="81252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022560" y="5295960"/>
              <a:ext cx="457200" cy="81216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36840" y="5079960"/>
              <a:ext cx="190440" cy="520200"/>
            </a:xfrm>
            <a:custGeom>
              <a:avLst/>
              <a:gdLst>
                <a:gd name="textAreaLeft" fmla="*/ 9000 w 190440"/>
                <a:gd name="textAreaRight" fmla="*/ 181440 w 190440"/>
                <a:gd name="textAreaTop" fmla="*/ 9000 h 520200"/>
                <a:gd name="textAreaBottom" fmla="*/ 511200 h 520200"/>
              </a:gdLst>
              <a:ahLst/>
              <a:rect l="textAreaLeft" t="textAreaTop" r="textAreaRight" b="textAreaBottom"/>
              <a:pathLst>
                <a:path w="21600" h="58931">
                  <a:moveTo>
                    <a:pt x="3600" y="0"/>
                  </a:moveTo>
                  <a:arcTo wR="3600" hR="3600" stAng="16200000" swAng="-5400000"/>
                  <a:lnTo>
                    <a:pt x="0" y="55331"/>
                  </a:lnTo>
                  <a:arcTo wR="3600" hR="3600" stAng="10800000" swAng="-5400000"/>
                  <a:lnTo>
                    <a:pt x="18000" y="58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9280" y="4908600"/>
              <a:ext cx="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30680" y="5092560"/>
              <a:ext cx="190800" cy="520200"/>
            </a:xfrm>
            <a:custGeom>
              <a:avLst/>
              <a:gdLst>
                <a:gd name="textAreaLeft" fmla="*/ 9000 w 190800"/>
                <a:gd name="textAreaRight" fmla="*/ 181800 w 190800"/>
                <a:gd name="textAreaTop" fmla="*/ 9000 h 520200"/>
                <a:gd name="textAreaBottom" fmla="*/ 511200 h 520200"/>
              </a:gdLst>
              <a:ahLst/>
              <a:rect l="textAreaLeft" t="textAreaTop" r="textAreaRight" b="textAreaBottom"/>
              <a:pathLst>
                <a:path w="21600" h="58820">
                  <a:moveTo>
                    <a:pt x="3600" y="0"/>
                  </a:moveTo>
                  <a:arcTo wR="3600" hR="3600" stAng="16200000" swAng="-5400000"/>
                  <a:lnTo>
                    <a:pt x="0" y="55220"/>
                  </a:lnTo>
                  <a:arcTo wR="3600" hR="3600" stAng="10800000" swAng="-5400000"/>
                  <a:lnTo>
                    <a:pt x="18000" y="588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3480" y="4921200"/>
              <a:ext cx="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16080" y="605772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90840" y="5238720"/>
              <a:ext cx="95400" cy="94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35440" y="524484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97240" y="605772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90800" y="426060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26120" y="479412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52680" y="4292640"/>
              <a:ext cx="95400" cy="94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3280" y="4781520"/>
              <a:ext cx="95040" cy="94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24160" y="327636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65320" y="327636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65560" y="327636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44880" y="327636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9600" y="3416040"/>
              <a:ext cx="495360" cy="838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2440" y="3429000"/>
              <a:ext cx="533160" cy="837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3200" y="3276360"/>
              <a:ext cx="279360" cy="283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99280" y="3263760"/>
              <a:ext cx="279360" cy="283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97680" y="3504960"/>
              <a:ext cx="1523880" cy="1191240"/>
            </a:xfrm>
            <a:prstGeom prst="borderCallout1">
              <a:avLst>
                <a:gd name="adj1" fmla="val 18750"/>
                <a:gd name="adj2" fmla="val -8333"/>
                <a:gd name="adj3" fmla="val 21597"/>
                <a:gd name="adj4" fmla="val -23310"/>
              </a:avLst>
            </a:prstGeom>
            <a:noFill/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ff"/>
                  </a:solidFill>
                  <a:latin typeface="Arial"/>
                </a:rPr>
                <a:t>Hydraulics control a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ff"/>
                  </a:solidFill>
                  <a:latin typeface="Arial"/>
                </a:rPr>
                <a:t>SC/DAQ sys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38680" y="3771720"/>
              <a:ext cx="74880" cy="74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76840" y="3860640"/>
              <a:ext cx="1800" cy="3934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49440" y="3771720"/>
              <a:ext cx="74520" cy="74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87600" y="3860640"/>
              <a:ext cx="1440" cy="3934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Traditional Measurement Technologi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urnkey control, monitor, and analysis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onolithic signal conditio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e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ME or rack &amp; stack data acqui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g to 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alog or digital tape record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PC-based Technologies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IO E-Series 16-bit A/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XI or P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XI signal condit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CXI-1530 accelerom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CXI-1540 displacement/ang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CXI-1520 st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CXI-1520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ght-channel strain conditioning m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to 10-wire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y software programmable per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dge configu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fset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unt calib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ultaneous sample &amp; 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72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512 Channel Static/Fatigue Measurement System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1600200"/>
            <a:ext cx="50292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or – Stres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XI/SCXI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XI-8170 700 MHz PC (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XI-8210 100 baseT 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XI-6030E A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XI-1520 strain conditioning (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U (42” or 1.1m hig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19” rack 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057400" y="1600200"/>
            <a:ext cx="2552760" cy="5105160"/>
            <a:chOff x="2057400" y="1600200"/>
            <a:chExt cx="2552760" cy="5105160"/>
          </a:xfrm>
        </p:grpSpPr>
        <p:sp>
          <p:nvSpPr>
            <p:cNvPr id="148" name=""/>
            <p:cNvSpPr/>
            <p:nvPr/>
          </p:nvSpPr>
          <p:spPr>
            <a:xfrm>
              <a:off x="2057400" y="1600200"/>
              <a:ext cx="2552760" cy="49514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512%20Strain%20System" descr=""/>
            <p:cNvPicPr/>
            <p:nvPr/>
          </p:nvPicPr>
          <p:blipFill>
            <a:blip r:embed="rId2"/>
            <a:stretch/>
          </p:blipFill>
          <p:spPr>
            <a:xfrm>
              <a:off x="2266920" y="1827360"/>
              <a:ext cx="2163240" cy="45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257560" y="1812600"/>
              <a:ext cx="2189520" cy="462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13640" y="6563520"/>
              <a:ext cx="26280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94000" y="6554880"/>
              <a:ext cx="262800" cy="141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93840" y="2565360"/>
            <a:ext cx="1587240" cy="642600"/>
          </a:xfrm>
          <a:prstGeom prst="borderCallout2">
            <a:avLst>
              <a:gd name="adj1" fmla="val 18750"/>
              <a:gd name="adj2" fmla="val -8333"/>
              <a:gd name="adj3" fmla="val 11250"/>
              <a:gd name="adj4" fmla="val 110898"/>
              <a:gd name="adj5" fmla="val 36277"/>
              <a:gd name="adj6" fmla="val 126393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XI 12-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ssis 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687680"/>
            <a:ext cx="1600200" cy="642600"/>
          </a:xfrm>
          <a:prstGeom prst="borderCallout2">
            <a:avLst>
              <a:gd name="adj1" fmla="val 18750"/>
              <a:gd name="adj2" fmla="val -8333"/>
              <a:gd name="adj3" fmla="val 16069"/>
              <a:gd name="adj4" fmla="val 110120"/>
              <a:gd name="adj5" fmla="val 46134"/>
              <a:gd name="adj6" fmla="val 123796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XI/SCXI Chas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David Steele</cp:lastModifiedBy>
  <cp:lastPrinted>1999-08-14T01:08:40Z</cp:lastPrinted>
  <dcterms:modified xsi:type="dcterms:W3CDTF">2000-07-26T19:00:23Z</dcterms:modified>
  <cp:revision>76</cp:revision>
  <dc:subject/>
  <dc:title>Expanding Your Business with Marketing</dc:title>
</cp:coreProperties>
</file>