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AA65D1C4-DE64-4061-BB6D-2A762A686B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6511B7FD-3038-4B9C-A961-C1F135CE62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dds instrumentation hardware features to CompactPCI, similar to the way that VXI supplements the VMEbus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includes the most-used features of VXI without adding other costly features unneeded for most test and measurement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18094372-7E42-468E-ABC7-EA6AEBAC89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olid and growing base of core instruments are already available in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DC5FFE6A-CA20-49FE-945F-F3AD412028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of the specialized instruments associated with aerospace applications are also available in either PXI or CompactPCI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5832CA54-627A-4080-9740-DF8FA5EE97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variety of industry-standard data and instrument control buss interfaces are also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92440"/>
            <a:ext cx="50292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XI and CompactPCI modules and systems are interoperable. Many functions can be implemented without leaving the PXI form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XI system can be used to control VXI, VME, and GPIB systems. This allows  existing or specialized instruments to be easily integrated, and eliminates the need for an industrial comp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5E6D4BBF-068A-4113-A16B-1E4DB771C3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95320"/>
            <a:ext cx="50292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overview of PXI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vionics, Instruments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nd Engine Tes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77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18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:30-4:45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Adds Instrumentation Featur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gger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tr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eference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atible with 3U CompactPCI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2133720"/>
            <a:ext cx="556272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slot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-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232/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er/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rotocol analy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981080"/>
            <a:ext cx="4495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waveform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1149.1 boundary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PCI/PXI-Compatible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32448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-STD-15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C-4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/resolver t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code generation/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IG A, IRIG B, XR3, 2137 or NASA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057400"/>
            <a:ext cx="4267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vailable I/O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170 Embedded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-232 (Com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43434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onal Plug-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/100BaseT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 S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XI-2 (VXI/VME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IB (IEEE-488)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895480" y="326088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6088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971800"/>
            <a:ext cx="45720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743200"/>
            <a:ext cx="68580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4382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7800" y="257184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1828800"/>
          <a:ext cx="129528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828800"/>
                    <a:ext cx="12952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505320" y="1828800"/>
            <a:ext cx="3200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7920" y="4038480"/>
            <a:ext cx="3429000" cy="2293920"/>
            <a:chOff x="1447920" y="4038480"/>
            <a:chExt cx="3429000" cy="229392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4038480"/>
              <a:ext cx="1828800" cy="1945800"/>
              <a:chOff x="3048120" y="4038480"/>
              <a:chExt cx="1828800" cy="1945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352680" y="4038480"/>
                <a:ext cx="180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048120" y="502920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9880" y="5562720"/>
                <a:ext cx="10670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CX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SCXI" descr=""/>
            <p:cNvPicPr/>
            <p:nvPr/>
          </p:nvPicPr>
          <p:blipFill>
            <a:blip r:embed="rId5"/>
            <a:stretch/>
          </p:blipFill>
          <p:spPr>
            <a:xfrm>
              <a:off x="1447920" y="457200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Signal Condition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 g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ad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ocou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 and DC L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V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o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75248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V - 250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 - 2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895480" y="2743200"/>
          <a:ext cx="181944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18194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26452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-Based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47920" y="3521160"/>
            <a:ext cx="2722320" cy="2293920"/>
            <a:chOff x="1447920" y="3521160"/>
            <a:chExt cx="2722320" cy="2293920"/>
          </a:xfrm>
        </p:grpSpPr>
        <p:grpSp>
          <p:nvGrpSpPr>
            <p:cNvPr id="165" name=""/>
            <p:cNvGrpSpPr/>
            <p:nvPr/>
          </p:nvGrpSpPr>
          <p:grpSpPr>
            <a:xfrm>
              <a:off x="3048120" y="3521160"/>
              <a:ext cx="1122120" cy="1177560"/>
              <a:chOff x="3048120" y="3521160"/>
              <a:chExt cx="1122120" cy="1177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352680" y="3521160"/>
                <a:ext cx="0" cy="99072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048120" y="4511880"/>
                <a:ext cx="304560" cy="15228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52680" y="4359600"/>
                <a:ext cx="817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CX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" name="SCXI" descr=""/>
            <p:cNvPicPr/>
            <p:nvPr/>
          </p:nvPicPr>
          <p:blipFill>
            <a:blip r:embed="rId3"/>
            <a:stretch/>
          </p:blipFill>
          <p:spPr>
            <a:xfrm>
              <a:off x="1447920" y="4054680"/>
              <a:ext cx="2525760" cy="17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98520" y="2057400"/>
            <a:ext cx="8364600" cy="2676240"/>
            <a:chOff x="398520" y="2057400"/>
            <a:chExt cx="8364600" cy="2676240"/>
          </a:xfrm>
        </p:grpSpPr>
        <p:graphicFrame>
          <p:nvGraphicFramePr>
            <p:cNvPr id="171" name=""/>
            <p:cNvGraphicFramePr/>
            <p:nvPr/>
          </p:nvGraphicFramePr>
          <p:xfrm>
            <a:off x="5715000" y="2057400"/>
            <a:ext cx="3048120" cy="267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15000" y="2057400"/>
                      <a:ext cx="3048120" cy="26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4724280" y="3714480"/>
              <a:ext cx="817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XI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7600" y="3673440"/>
              <a:ext cx="2098800" cy="377640"/>
            </a:xfrm>
            <a:custGeom>
              <a:avLst/>
              <a:gdLst/>
              <a:ahLst/>
              <a:rect l="l" t="t" r="r" b="b"/>
              <a:pathLst>
                <a:path w="878" h="378">
                  <a:moveTo>
                    <a:pt x="0" y="0"/>
                  </a:moveTo>
                  <a:lnTo>
                    <a:pt x="0" y="378"/>
                  </a:lnTo>
                  <a:lnTo>
                    <a:pt x="878" y="378"/>
                  </a:ln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3429000"/>
              <a:ext cx="1752480" cy="385560"/>
            </a:xfrm>
            <a:custGeom>
              <a:avLst/>
              <a:gdLst/>
              <a:ahLst/>
              <a:rect l="l" t="t" r="r" b="b"/>
              <a:pathLst>
                <a:path w="961" h="339">
                  <a:moveTo>
                    <a:pt x="0" y="0"/>
                  </a:moveTo>
                  <a:lnTo>
                    <a:pt x="0" y="338"/>
                  </a:lnTo>
                  <a:lnTo>
                    <a:pt x="960" y="338"/>
                  </a:lnTo>
                  <a:lnTo>
                    <a:pt x="960" y="0"/>
                  </a:lnTo>
                </a:path>
              </a:pathLst>
            </a:custGeom>
            <a:noFill/>
            <a:ln cap="rnd" w="507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9320" y="3485880"/>
              <a:ext cx="12193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398520" y="2533320"/>
              <a:ext cx="1969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6858000" y="2590560"/>
              <a:ext cx="1204920" cy="55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Strate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specialized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engineering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suppor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 generi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ize purchas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stomize fixturing to provide specific feat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ly one option in some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F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C-based equivalent does not ex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raditional instruments (GPIB, VXI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97580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grammable Power Suppl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515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power for fixture and unit under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rom third pa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gar/Soren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Re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antr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p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IB or RS-232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srl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2743200" cy="1209960"/>
          </a:xfrm>
          <a:prstGeom prst="rect">
            <a:avLst/>
          </a:prstGeom>
          <a:ln w="0">
            <a:noFill/>
          </a:ln>
        </p:spPr>
      </p:pic>
      <p:pic>
        <p:nvPicPr>
          <p:cNvPr id="186" name="hpd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1145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81280" y="44784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94820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-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TC Transponder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84440" y="3541680"/>
            <a:ext cx="87012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31840" y="3271680"/>
            <a:ext cx="1484280" cy="1609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14760" y="4052880"/>
            <a:ext cx="787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84440" y="2602080"/>
            <a:ext cx="870120" cy="87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54920" y="3722760"/>
            <a:ext cx="86976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16200000">
            <a:off x="3818880" y="3760560"/>
            <a:ext cx="3921120" cy="444600"/>
          </a:xfrm>
          <a:prstGeom prst="parallelogram">
            <a:avLst>
              <a:gd name="adj" fmla="val 141642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55800" y="407340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33760" y="298296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33760" y="3881520"/>
            <a:ext cx="1117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745160"/>
            <a:ext cx="28083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0720" y="3029040"/>
            <a:ext cx="4190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60720" y="3029040"/>
            <a:ext cx="0" cy="106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38320" y="2433600"/>
            <a:ext cx="1297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67160" y="1676520"/>
            <a:ext cx="142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xture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62400" y="5425920"/>
            <a:ext cx="1612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SDB (Ser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5800" y="5678640"/>
            <a:ext cx="27702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408400"/>
            <a:ext cx="1803240" cy="3512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2600" y="266076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2600" y="3554280"/>
            <a:ext cx="113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70520" y="3598920"/>
            <a:ext cx="11304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05360" y="4179960"/>
            <a:ext cx="1244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214960"/>
            <a:ext cx="2757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Implementation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39116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 signal types offer a choice of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Example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 Programmable Swit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hree Implement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781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XI or SCXI switch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 components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30 - $9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logic and relay driver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21 - $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lays and drivers in fix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ly control logic on PC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remental cost per switch – $5 - $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Other Conside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xture-relat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gineering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 purc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sembly and test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going repair 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rd party supp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&amp;M System Anatomy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us and measure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or pan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signa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UT-specific test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Signal Typ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339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asure or simu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5 V AC, 400 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0 – 100 mA DC 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ltage – mV to 28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in/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057400"/>
            <a:ext cx="3733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cr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/28 V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ynch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V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Common Interfac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configurations (SPST, 6PDT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bu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INC-42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L-STD-15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rcial standard data bus (CS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2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S-422/4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Approach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LAS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PIB and VME/VXI instr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nch test fi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Approac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ared to traditional automated systems, 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er initial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aller foot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upgrad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PC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/PX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 Signal Cond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mplifier, filter, sensor excitation, bridge completio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S – Windows NT/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ing tools – C/C++, LabVIE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V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stStan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test execu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untitled" descr=""/>
          <p:cNvPicPr/>
          <p:nvPr/>
        </p:nvPicPr>
        <p:blipFill>
          <a:blip r:embed="rId1"/>
          <a:stretch/>
        </p:blipFill>
        <p:spPr>
          <a:xfrm>
            <a:off x="2819520" y="3554280"/>
            <a:ext cx="3279600" cy="216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30520" y="154476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4880" y="288432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6200" y="497052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506736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962520"/>
            <a:ext cx="3505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Arial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7760" y="3362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3500000">
            <a:off x="2736720" y="456840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8100000">
            <a:off x="6389640" y="475884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 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31:33Z</dcterms:modified>
  <cp:revision>86</cp:revision>
  <dc:subject/>
  <dc:title>Expanding Your Business with Marketing</dc:title>
</cp:coreProperties>
</file>