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228240" y="8635680"/>
            <a:ext cx="53341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anding Your Business with 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658680" y="86356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kt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 </a:t>
            </a:r>
            <a:fld id="{86C452E4-6B89-45C6-AA76-172B302A3F1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658680" y="86356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kt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 </a:t>
            </a:r>
            <a:fld id="{7541992C-084B-4582-BFB7-CDACE419C3A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240" y="8635680"/>
            <a:ext cx="53341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anding Your Business with 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495320"/>
            <a:ext cx="50292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XI adds instrumentation hardware features to CompactPCI, similar to the way that VXI supplements the VMEbus stand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XI includes the most-used features of VXI without adding other costly features unneeded for most test and measurement appl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492440"/>
            <a:ext cx="502920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XI and CompactPCI modules and systems are interoperable. Many functions can be implemented without leaving the PXI form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XI system can be used to control VXI, VME, and GPIB systems. This allows  existing or specialized instruments to be easily integrated, and eliminates the need for an industrial compu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658680" y="86356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kt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 </a:t>
            </a:r>
            <a:fld id="{B2B4B08A-5FD5-422D-8165-8E7817D1677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240" y="8635680"/>
            <a:ext cx="53341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anding Your Business with 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495320"/>
            <a:ext cx="50292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olid and growing base of core instruments are already available in the PXI form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658680" y="86356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kt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 </a:t>
            </a:r>
            <a:fld id="{B583A787-85B1-4EAB-A8B9-58C954AF6CD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240" y="8635680"/>
            <a:ext cx="53341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anding Your Business with 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495320"/>
            <a:ext cx="50292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of the specialized instruments associated with aerospace applications are also available in either PXI or CompactPCI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658680" y="86356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kt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 </a:t>
            </a:r>
            <a:fld id="{A447CB1E-A1D8-44AA-8247-BA85FB2ECB4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28240" y="8635680"/>
            <a:ext cx="53341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anding Your Business with 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495320"/>
            <a:ext cx="50292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oad variety of industry-standard data and instrument control buss interfaces are also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492440"/>
            <a:ext cx="502920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XI and CompactPCI modules and systems are interoperable. Many functions can be implemented without leaving the PXI form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XI system can be used to control VXI, VME, and GPIB systems. This allows  existing or specialized instruments to be easily integrated, and eliminates the need for an industrial compu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492440"/>
            <a:ext cx="502920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XI and CompactPCI modules and systems are interoperable. Many functions can be implemented without leaving the PXI form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XI system can be used to control VXI, VME, and GPIB systems. This allows  existing or specialized instruments to be easily integrated, and eliminates the need for an industrial compu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658680" y="86356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kt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 </a:t>
            </a:r>
            <a:fld id="{772868DA-1664-4D4C-A998-8F224CB6131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28240" y="8635680"/>
            <a:ext cx="53341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anding Your Business with 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495320"/>
            <a:ext cx="50292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ief overview of PXI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inalbody2no%20logo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1508040"/>
            <a:ext cx="7696080" cy="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0560" y="6248520"/>
            <a:ext cx="835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i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iweek" descr=""/>
          <p:cNvPicPr/>
          <p:nvPr/>
        </p:nvPicPr>
        <p:blipFill>
          <a:blip r:embed="rId3"/>
          <a:stretch/>
        </p:blipFill>
        <p:spPr>
          <a:xfrm>
            <a:off x="7238880" y="6234120"/>
            <a:ext cx="1792440" cy="47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4" name="finaltitle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10560" y="6248520"/>
              <a:ext cx="8359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ni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" name="nilogoClr" descr=""/>
          <p:cNvPicPr/>
          <p:nvPr/>
        </p:nvPicPr>
        <p:blipFill>
          <a:blip r:embed="rId3"/>
          <a:stretch/>
        </p:blipFill>
        <p:spPr>
          <a:xfrm>
            <a:off x="7010280" y="6305400"/>
            <a:ext cx="198144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48" name="niwknoeagleweb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3276720" cy="1141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vionics, Instruments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nd Engine Tes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77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ug Shep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iness Development Manag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i Aug18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:30-4:45 p.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n Jacinto (5B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Adds Instrumentation Featur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gger b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 trig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b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reference c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patible with 3U CompactPCI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24280" y="2133720"/>
            <a:ext cx="556272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d slot l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vironmental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895480" y="3260880"/>
          <a:ext cx="1819440" cy="12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260880"/>
                    <a:ext cx="181944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264520" cy="606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-Based System Architectur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2971800"/>
            <a:ext cx="457200" cy="914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580920" y="2743200"/>
            <a:ext cx="685800" cy="1143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2438280"/>
            <a:ext cx="1214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57800" y="2571840"/>
            <a:ext cx="12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905120" y="1828800"/>
          <a:ext cx="1295280" cy="55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1828800"/>
                    <a:ext cx="12952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3505320" y="1828800"/>
            <a:ext cx="320040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69100"/>
                </a:solidFill>
                <a:latin typeface="Impact"/>
              </a:rPr>
              <a:t>Compact</a:t>
            </a: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P</a:t>
            </a:r>
            <a:r>
              <a:rPr b="1" i="1" lang="en-US" sz="4000" spc="-1" strike="noStrike">
                <a:solidFill>
                  <a:srgbClr val="ffffff"/>
                </a:solidFill>
                <a:latin typeface="Impact"/>
              </a:rPr>
              <a:t>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PCI/PXI-Compatible Instrument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-purp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scillo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-232/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er/ti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acqui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rete digital I/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bitrary waveform gene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ial protocol analy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1981080"/>
            <a:ext cx="44956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i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waveform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e acqui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EEE 1149.1 boundary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PCI/PXI-Compatible Instrument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632448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-STD-155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INC-4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chro/resolver to digi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code generation/trans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IG A, IRIG B, XR3, 2137 or NASA 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2057400"/>
            <a:ext cx="42670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Available I/O Interfac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170 Embedded 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S-232 (Com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1981080"/>
            <a:ext cx="4343400" cy="32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tional Plug-in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/100BaseT 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tra SC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XI-2 (VXI/VME) contr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PIB (IEEE-488) contr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895480" y="3260880"/>
          <a:ext cx="1819440" cy="12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260880"/>
                    <a:ext cx="181944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264520" cy="606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-based System Architectur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2971800"/>
            <a:ext cx="457200" cy="914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580920" y="2743200"/>
            <a:ext cx="685800" cy="1143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2438280"/>
            <a:ext cx="1214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57800" y="2571840"/>
            <a:ext cx="12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905120" y="1828800"/>
          <a:ext cx="1295280" cy="55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1828800"/>
                    <a:ext cx="12952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3505320" y="1828800"/>
            <a:ext cx="320040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69100"/>
                </a:solidFill>
                <a:latin typeface="Impact"/>
              </a:rPr>
              <a:t>Compact</a:t>
            </a: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P</a:t>
            </a:r>
            <a:r>
              <a:rPr b="1" i="1" lang="en-US" sz="4000" spc="-1" strike="noStrike">
                <a:solidFill>
                  <a:srgbClr val="ffffff"/>
                </a:solidFill>
                <a:latin typeface="Impact"/>
              </a:rPr>
              <a:t>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447920" y="4038480"/>
            <a:ext cx="3429000" cy="2293920"/>
            <a:chOff x="1447920" y="4038480"/>
            <a:chExt cx="3429000" cy="2293920"/>
          </a:xfrm>
        </p:grpSpPr>
        <p:grpSp>
          <p:nvGrpSpPr>
            <p:cNvPr id="153" name=""/>
            <p:cNvGrpSpPr/>
            <p:nvPr/>
          </p:nvGrpSpPr>
          <p:grpSpPr>
            <a:xfrm>
              <a:off x="3048120" y="4038480"/>
              <a:ext cx="1828800" cy="1945800"/>
              <a:chOff x="3048120" y="4038480"/>
              <a:chExt cx="1828800" cy="1945800"/>
            </a:xfrm>
          </p:grpSpPr>
          <p:sp>
            <p:nvSpPr>
              <p:cNvPr id="154" name=""/>
              <p:cNvSpPr/>
              <p:nvPr/>
            </p:nvSpPr>
            <p:spPr>
              <a:xfrm>
                <a:off x="3352680" y="4038480"/>
                <a:ext cx="1800" cy="990720"/>
              </a:xfrm>
              <a:prstGeom prst="line">
                <a:avLst/>
              </a:prstGeom>
              <a:ln w="572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3048120" y="5029200"/>
                <a:ext cx="304560" cy="152280"/>
              </a:xfrm>
              <a:prstGeom prst="line">
                <a:avLst/>
              </a:prstGeom>
              <a:ln w="572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809880" y="5562720"/>
                <a:ext cx="106704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SCX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7" name="SCXI" descr=""/>
            <p:cNvPicPr/>
            <p:nvPr/>
          </p:nvPicPr>
          <p:blipFill>
            <a:blip r:embed="rId5"/>
            <a:stretch/>
          </p:blipFill>
          <p:spPr>
            <a:xfrm>
              <a:off x="1447920" y="4572000"/>
              <a:ext cx="2525760" cy="176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CXI Signal Conditioning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862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train g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ad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rmocou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C and DC LV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V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sol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ccelerom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1752480"/>
            <a:ext cx="38862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V - 250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 - 20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lay dr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2895480" y="2743200"/>
          <a:ext cx="1819440" cy="12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743200"/>
                    <a:ext cx="181944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264520" cy="606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-Based System Architectur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447920" y="3521160"/>
            <a:ext cx="2722320" cy="2293920"/>
            <a:chOff x="1447920" y="3521160"/>
            <a:chExt cx="2722320" cy="2293920"/>
          </a:xfrm>
        </p:grpSpPr>
        <p:grpSp>
          <p:nvGrpSpPr>
            <p:cNvPr id="165" name=""/>
            <p:cNvGrpSpPr/>
            <p:nvPr/>
          </p:nvGrpSpPr>
          <p:grpSpPr>
            <a:xfrm>
              <a:off x="3048120" y="3521160"/>
              <a:ext cx="1122120" cy="1177560"/>
              <a:chOff x="3048120" y="3521160"/>
              <a:chExt cx="1122120" cy="1177560"/>
            </a:xfrm>
          </p:grpSpPr>
          <p:sp>
            <p:nvSpPr>
              <p:cNvPr id="166" name=""/>
              <p:cNvSpPr/>
              <p:nvPr/>
            </p:nvSpPr>
            <p:spPr>
              <a:xfrm>
                <a:off x="3352680" y="3521160"/>
                <a:ext cx="0" cy="990720"/>
              </a:xfrm>
              <a:prstGeom prst="line">
                <a:avLst/>
              </a:prstGeom>
              <a:ln w="572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3048120" y="4511880"/>
                <a:ext cx="304560" cy="152280"/>
              </a:xfrm>
              <a:prstGeom prst="line">
                <a:avLst/>
              </a:prstGeom>
              <a:ln w="572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52680" y="4359600"/>
                <a:ext cx="8175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CX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9" name="SCXI" descr=""/>
            <p:cNvPicPr/>
            <p:nvPr/>
          </p:nvPicPr>
          <p:blipFill>
            <a:blip r:embed="rId3"/>
            <a:stretch/>
          </p:blipFill>
          <p:spPr>
            <a:xfrm>
              <a:off x="1447920" y="4054680"/>
              <a:ext cx="2525760" cy="176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" name=""/>
          <p:cNvGrpSpPr/>
          <p:nvPr/>
        </p:nvGrpSpPr>
        <p:grpSpPr>
          <a:xfrm>
            <a:off x="398520" y="2057400"/>
            <a:ext cx="8364600" cy="2676240"/>
            <a:chOff x="398520" y="2057400"/>
            <a:chExt cx="8364600" cy="2676240"/>
          </a:xfrm>
        </p:grpSpPr>
        <p:graphicFrame>
          <p:nvGraphicFramePr>
            <p:cNvPr id="171" name=""/>
            <p:cNvGraphicFramePr/>
            <p:nvPr/>
          </p:nvGraphicFramePr>
          <p:xfrm>
            <a:off x="5715000" y="2057400"/>
            <a:ext cx="3048120" cy="2676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15000" y="2057400"/>
                      <a:ext cx="3048120" cy="26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3" name=""/>
            <p:cNvSpPr/>
            <p:nvPr/>
          </p:nvSpPr>
          <p:spPr>
            <a:xfrm>
              <a:off x="4724280" y="3714480"/>
              <a:ext cx="817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XI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57600" y="3673440"/>
              <a:ext cx="2098800" cy="377640"/>
            </a:xfrm>
            <a:custGeom>
              <a:avLst/>
              <a:gdLst/>
              <a:ahLst/>
              <a:rect l="l" t="t" r="r" b="b"/>
              <a:pathLst>
                <a:path w="878" h="378">
                  <a:moveTo>
                    <a:pt x="0" y="0"/>
                  </a:moveTo>
                  <a:lnTo>
                    <a:pt x="0" y="378"/>
                  </a:lnTo>
                  <a:lnTo>
                    <a:pt x="878" y="378"/>
                  </a:lnTo>
                </a:path>
              </a:pathLst>
            </a:custGeom>
            <a:noFill/>
            <a:ln w="572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71600" y="3429000"/>
              <a:ext cx="1752480" cy="385560"/>
            </a:xfrm>
            <a:custGeom>
              <a:avLst/>
              <a:gdLst/>
              <a:ahLst/>
              <a:rect l="l" t="t" r="r" b="b"/>
              <a:pathLst>
                <a:path w="961" h="339">
                  <a:moveTo>
                    <a:pt x="0" y="0"/>
                  </a:moveTo>
                  <a:lnTo>
                    <a:pt x="0" y="338"/>
                  </a:lnTo>
                  <a:lnTo>
                    <a:pt x="960" y="338"/>
                  </a:lnTo>
                  <a:lnTo>
                    <a:pt x="960" y="0"/>
                  </a:lnTo>
                </a:path>
              </a:pathLst>
            </a:custGeom>
            <a:noFill/>
            <a:ln cap="rnd" w="507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49320" y="3485880"/>
              <a:ext cx="121932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PI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6"/>
            <a:stretch/>
          </p:blipFill>
          <p:spPr>
            <a:xfrm>
              <a:off x="398520" y="2533320"/>
              <a:ext cx="196992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7"/>
            <a:stretch/>
          </p:blipFill>
          <p:spPr>
            <a:xfrm>
              <a:off x="6858000" y="2590560"/>
              <a:ext cx="1204920" cy="557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Implementation Strategi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se specialized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inimize engineering inves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inimize support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se generic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inimize purchas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ustomize fixturing to provide specific featur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05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Implementation Op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nly one option in some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ogrammable power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F I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C-based equivalent does not ex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se traditional instruments (GPIB, VXI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Applica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ver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e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7975800" cy="60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rogrammable Power Suppli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5152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power for fixture and unit under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le from third par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gar/Sorens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ifornia Instr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erican Reli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antr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H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p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PIB or RS-232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srl" descr=""/>
          <p:cNvPicPr/>
          <p:nvPr/>
        </p:nvPicPr>
        <p:blipFill>
          <a:blip r:embed="rId1"/>
          <a:stretch/>
        </p:blipFill>
        <p:spPr>
          <a:xfrm>
            <a:off x="4876920" y="4267080"/>
            <a:ext cx="2743200" cy="1209960"/>
          </a:xfrm>
          <a:prstGeom prst="rect">
            <a:avLst/>
          </a:prstGeom>
          <a:ln w="0">
            <a:noFill/>
          </a:ln>
        </p:spPr>
      </p:pic>
      <p:pic>
        <p:nvPicPr>
          <p:cNvPr id="186" name="hpd" descr=""/>
          <p:cNvPicPr/>
          <p:nvPr/>
        </p:nvPicPr>
        <p:blipFill>
          <a:blip r:embed="rId2"/>
          <a:stretch/>
        </p:blipFill>
        <p:spPr>
          <a:xfrm>
            <a:off x="6400800" y="2666880"/>
            <a:ext cx="111456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581280" y="4478400"/>
            <a:ext cx="1130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scre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4948200"/>
            <a:ext cx="1130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al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Example-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ATC Transponder Tes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84440" y="3541680"/>
            <a:ext cx="870120" cy="8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C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00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31840" y="3271680"/>
            <a:ext cx="1484280" cy="1609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14760" y="4052880"/>
            <a:ext cx="787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84440" y="2602080"/>
            <a:ext cx="870120" cy="87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54920" y="3722760"/>
            <a:ext cx="869760" cy="87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 rot="16200000">
            <a:off x="3818880" y="3760560"/>
            <a:ext cx="3921120" cy="444600"/>
          </a:xfrm>
          <a:prstGeom prst="parallelogram">
            <a:avLst>
              <a:gd name="adj" fmla="val 141642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55800" y="4073400"/>
            <a:ext cx="6858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33760" y="2982960"/>
            <a:ext cx="11178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33760" y="3881520"/>
            <a:ext cx="11178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4745160"/>
            <a:ext cx="280836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60720" y="3029040"/>
            <a:ext cx="4190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60720" y="3029040"/>
            <a:ext cx="0" cy="1060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38320" y="2433600"/>
            <a:ext cx="1297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indows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67160" y="1676520"/>
            <a:ext cx="1422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xture pa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62400" y="5425920"/>
            <a:ext cx="1612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SDB (Seri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55800" y="5678640"/>
            <a:ext cx="27702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4400" y="2408400"/>
            <a:ext cx="1803240" cy="3512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22600" y="2660760"/>
            <a:ext cx="1130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C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22600" y="3554280"/>
            <a:ext cx="1130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70520" y="3598920"/>
            <a:ext cx="113040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05360" y="4179960"/>
            <a:ext cx="12448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5214960"/>
            <a:ext cx="27576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05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Implementation Op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39116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ome signal types offer a choice of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t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re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Example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–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 Programmable Switch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ee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ntrol log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lay d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la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Three Implementa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67816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XI or SCXI switch mod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l components on PC bo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cremental cost per switch – $30 - $90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lays in fix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trol logic and relay driver on PC bo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cremental cost per switch – $21 - $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lays and drivers in fix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nly control logic on PC bo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cremental cost per switch – $5 - $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Other Considera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ixture-related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ngineering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ponent purc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ssembly and test la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ngoing repair and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usiness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re compet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rd party suppl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T&amp;M System Anatomy 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ulus and measure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mable power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iver or pane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ic signal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p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al conn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UT-specific test 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Common Signal Typ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3392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easure or simul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4/28 V D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15 V AC, 400 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0 – 100 mA DC cur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oltage – mV to 28 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rain/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plac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ccel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2057400"/>
            <a:ext cx="37339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cr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4/28 V 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ynch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AV ra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ran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a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G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T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Common Interfac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wit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ny configurations (SPST, 6PDT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ata bu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INC-42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IL-STD-15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mercial standard data bus (CSD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S-2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S-422/48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Traditional Approach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utomated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TLAS test execu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PIB and VME/VXI instr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ench test fix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pecific purp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 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PC-Based Approach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mpared to traditional automated systems, prov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wer initial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maller footpr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creased flex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mproved upgrade p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mproved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PC-based Technologi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pactPC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/PX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str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a acqui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CXI Signal Cond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mplifier, filter, sensor excitation, bridge completion,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S – Windows NT/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gramming tools – C/C++, LabVIEW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™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V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estStand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™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test execu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untitled" descr=""/>
          <p:cNvPicPr/>
          <p:nvPr/>
        </p:nvPicPr>
        <p:blipFill>
          <a:blip r:embed="rId1"/>
          <a:stretch/>
        </p:blipFill>
        <p:spPr>
          <a:xfrm>
            <a:off x="2819520" y="3554280"/>
            <a:ext cx="3279600" cy="2160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30520" y="1544760"/>
            <a:ext cx="5770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Helvetica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CI electric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Helvetica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rocard mechanical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Helvetica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test connector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14880" y="2884320"/>
            <a:ext cx="9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6200" y="4970520"/>
            <a:ext cx="239868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urocard pack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48360" y="5067360"/>
            <a:ext cx="2554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EC conn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3962520"/>
            <a:ext cx="350532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69100"/>
                </a:solidFill>
                <a:latin typeface="Arial"/>
              </a:rPr>
              <a:t>Compact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87760" y="3362400"/>
            <a:ext cx="333360" cy="523800"/>
          </a:xfrm>
          <a:prstGeom prst="downArrow">
            <a:avLst>
              <a:gd name="adj1" fmla="val 50000"/>
              <a:gd name="adj2" fmla="val 78571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3500000">
            <a:off x="2736720" y="4568400"/>
            <a:ext cx="333360" cy="523800"/>
          </a:xfrm>
          <a:prstGeom prst="downArrow">
            <a:avLst>
              <a:gd name="adj1" fmla="val 50000"/>
              <a:gd name="adj2" fmla="val 78571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rot="8100000">
            <a:off x="6389640" y="4758840"/>
            <a:ext cx="333360" cy="523800"/>
          </a:xfrm>
          <a:prstGeom prst="downArrow">
            <a:avLst>
              <a:gd name="adj1" fmla="val 50000"/>
              <a:gd name="adj2" fmla="val 78571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Starts with Compact PCI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David Steele</cp:lastModifiedBy>
  <cp:lastPrinted>1999-08-14T01:08:40Z</cp:lastPrinted>
  <dcterms:modified xsi:type="dcterms:W3CDTF">2000-07-26T19:31:33Z</dcterms:modified>
  <cp:revision>86</cp:revision>
  <dc:subject/>
  <dc:title>Expanding Your Business with Marketing</dc:title>
</cp:coreProperties>
</file>