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6.png" ContentType="image/png"/>
  <Override PartName="/ppt/media/image15.wmf" ContentType="image/x-wmf"/>
  <Override PartName="/ppt/media/image1.png" ContentType="image/png"/>
  <Override PartName="/ppt/media/image3.png" ContentType="image/png"/>
  <Override PartName="/ppt/media/image4.png" ContentType="image/png"/>
  <Override PartName="/ppt/media/image5.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864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2"/>
          </p:nvPr>
        </p:nvSpPr>
        <p:spPr>
          <a:xfrm>
            <a:off x="-360" y="8685360"/>
            <a:ext cx="2971800" cy="45864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3"/>
          </p:nvPr>
        </p:nvSpPr>
        <p:spPr>
          <a:xfrm>
            <a:off x="3885840" y="8685360"/>
            <a:ext cx="2971800" cy="4586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CD8D-7D2F-4645-A2F6-6C140A6C6E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sldImg"/>
          </p:nvPr>
        </p:nvSpPr>
        <p:spPr>
          <a:xfrm>
            <a:off x="1162080" y="698400"/>
            <a:ext cx="4535280" cy="3402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6"/>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
          <p:cNvSpPr/>
          <p:nvPr/>
        </p:nvSpPr>
        <p:spPr>
          <a:xfrm>
            <a:off x="914400" y="4343400"/>
            <a:ext cx="5029200" cy="411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8600" y="8637480"/>
            <a:ext cx="5334120" cy="4590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60640" y="698400"/>
            <a:ext cx="4536720" cy="3402000"/>
          </a:xfrm>
          <a:prstGeom prst="rect">
            <a:avLst/>
          </a:prstGeom>
          <a:ln w="0">
            <a:noFill/>
          </a:ln>
        </p:spPr>
      </p:sp>
      <p:sp>
        <p:nvSpPr>
          <p:cNvPr id="120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This clock is neither accurate nor stable. If you take the average value of the frequency, it will be greater than 10 MHz. Furthermore, the value of the frequency fluctuates about a mean value over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60640" y="698400"/>
            <a:ext cx="4536720" cy="3402000"/>
          </a:xfrm>
          <a:prstGeom prst="rect">
            <a:avLst/>
          </a:prstGeom>
          <a:ln w="0">
            <a:noFill/>
          </a:ln>
        </p:spPr>
      </p:sp>
      <p:sp>
        <p:nvSpPr>
          <p:cNvPr id="120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If you take the average value of the frequency it will be very close to 10 MHz. Thus, this clock is accurate. However, the clock is not stable since the frequency fluctuates about its mean at approximately 10 MHz.</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60640" y="698400"/>
            <a:ext cx="4536720" cy="3402000"/>
          </a:xfrm>
          <a:prstGeom prst="rect">
            <a:avLst/>
          </a:prstGeom>
          <a:ln w="0">
            <a:noFill/>
          </a:ln>
        </p:spPr>
      </p:sp>
      <p:sp>
        <p:nvSpPr>
          <p:cNvPr id="120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This clock is stable since its frequency does not fluctuate. However, because its frequency is greater than 10 MHz, it is not accurat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60640" y="698400"/>
            <a:ext cx="4536720" cy="3402000"/>
          </a:xfrm>
          <a:prstGeom prst="rect">
            <a:avLst/>
          </a:prstGeom>
          <a:ln w="0">
            <a:noFill/>
          </a:ln>
        </p:spPr>
      </p:sp>
      <p:sp>
        <p:nvSpPr>
          <p:cNvPr id="120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Its value is very close to 10 MHz and it shows very little or no fluctuations. Thus, this clock is accurate and stab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62080" y="698400"/>
            <a:ext cx="4535280" cy="3402000"/>
          </a:xfrm>
          <a:prstGeom prst="rect">
            <a:avLst/>
          </a:prstGeom>
          <a:ln w="0">
            <a:noFill/>
          </a:ln>
        </p:spPr>
      </p:sp>
      <p:sp>
        <p:nvSpPr>
          <p:cNvPr id="121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XI-6602 to measure a 1 kHz frequency. A PXI-6602 has an 80 MHz clock with +/-50 ppm accuracy over a temperature range from 0 to 50 °C. This specification indicates that as the temperature varies from 0 to 50 °C, the frequency of the clock varies from 79,996,000 Hz (80 MHz minus 4000 Hz) to 80,004,000 Hz (80 MHz plus 4000 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076400" y="711360"/>
            <a:ext cx="4678200" cy="3508200"/>
          </a:xfrm>
          <a:prstGeom prst="rect">
            <a:avLst/>
          </a:prstGeom>
          <a:ln w="0">
            <a:noFill/>
          </a:ln>
        </p:spPr>
      </p:sp>
      <p:sp>
        <p:nvSpPr>
          <p:cNvPr id="1212" name="PlaceHolder 2"/>
          <p:cNvSpPr>
            <a:spLocks noGrp="1"/>
          </p:cNvSpPr>
          <p:nvPr>
            <p:ph type="body"/>
          </p:nvPr>
        </p:nvSpPr>
        <p:spPr>
          <a:xfrm>
            <a:off x="909360" y="4617720"/>
            <a:ext cx="5010120" cy="4071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nter has three basic inputs – Source, Gate, and UPDOWN. Pulses on Source cause the counter to increment or decrement. The counting direction (whether the counter increments or decrements) is determined by UPDOWN. Gate is a control signal that controls the counting process in different ways. A counter may be configured so that it starts counting when it sees a low to high transition on Gate and continues to count until it sees another low to high transition on Gate. Alternatively, the counter may be configured so it counts only when Gate is at a high leve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76400" y="711360"/>
            <a:ext cx="4678200" cy="3508200"/>
          </a:xfrm>
          <a:prstGeom prst="rect">
            <a:avLst/>
          </a:prstGeom>
          <a:ln w="0">
            <a:noFill/>
          </a:ln>
        </p:spPr>
      </p:sp>
      <p:sp>
        <p:nvSpPr>
          <p:cNvPr id="1214" name="PlaceHolder 2"/>
          <p:cNvSpPr>
            <a:spLocks noGrp="1"/>
          </p:cNvSpPr>
          <p:nvPr>
            <p:ph type="body"/>
          </p:nvPr>
        </p:nvSpPr>
        <p:spPr>
          <a:xfrm>
            <a:off x="914040" y="4533840"/>
            <a:ext cx="5010120" cy="4073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represents the number of cycles of a signal that occur in one second. Period represents the time between the start and finish of on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cy = 1/(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asure frequency of the 1 kHz signal, we will measure its period and take the inverse of what we measure to get frequency. To measure period, we configure the counter so it begins to count when it sees a low to high transition on Gate and stops counting when it sees a second low to high transition on Gate. We use a clock of known frequency as Source. Thus, the counter returns to us how many cycles of the known frequency occur in one period of the signal we are measuring, which is connected to Gate. We multiply the count returned by the period of the known frequency on Source. The result is the duration of one period of the signal we are measuring. The inverse of the period gives the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uppose the Source in the above diagram is a frequency of 1 kHz and, thus, has a period of 1 ms. We receive a count of 5. This count indicates that the period of the signal we are measuring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 1 ms = 5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the signal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5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 H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62080" y="698400"/>
            <a:ext cx="4535280" cy="3402000"/>
          </a:xfrm>
          <a:prstGeom prst="rect">
            <a:avLst/>
          </a:prstGeom>
          <a:ln w="0">
            <a:noFill/>
          </a:ln>
        </p:spPr>
      </p:sp>
      <p:sp>
        <p:nvSpPr>
          <p:cNvPr id="121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measure the frequency of a 1 kHz signal. You use a counter on a PXI-6602 to measure the period of this signal and take the inverse of period to calculate frequency. The counter uses an 80 MHz clock to measure the period. It does so by counting how many cycles of the 80 MHz clock occur in one period of the signal being measured. Assume that the frequency of external signal is a perfect 1 kHz and that 80 MHz clock has no clock error. The expected count of number of cycle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eriod of 1 kHz signal/period of 80 M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requency of 80 MHz signal/frequency of 1 k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1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quantization error is -1 count. The count returned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d that there is no clock error in order to focus on quantization erro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60640" y="698400"/>
            <a:ext cx="4536720" cy="3402000"/>
          </a:xfrm>
          <a:prstGeom prst="rect">
            <a:avLst/>
          </a:prstGeom>
          <a:ln w="0">
            <a:noFill/>
          </a:ln>
        </p:spPr>
      </p:sp>
      <p:sp>
        <p:nvSpPr>
          <p:cNvPr id="121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ssuming that there is no clock error and the 80 MHz clock has a perfect 80 MHz frequency. The frequency measure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period of signal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measured count * period of 8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79,999 * 1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00.0125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2.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a perfect 1,000 Hz frequency and our measurement returned 1,000.0125 Hz, which represent a 12.5 ppm error. A quantization error of 1 results in an error of 12.5 ppm in this examp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60640" y="698400"/>
            <a:ext cx="4536720" cy="3402000"/>
          </a:xfrm>
          <a:prstGeom prst="rect">
            <a:avLst/>
          </a:prstGeom>
          <a:ln w="0">
            <a:noFill/>
          </a:ln>
        </p:spPr>
      </p:sp>
      <p:sp>
        <p:nvSpPr>
          <p:cNvPr id="122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measure frequency of 1 kHz signal. You use a counter on a PXI-6602 to measure the period of this signal and take the inverse of period to calculate frequency. The counter uses an 80 MHz clock to measure the period. It does so by counting how many cycles of the 80 MHz clock occur in one period of the signal being measured. Assume that frequency of external signal is a perfect 1 kHz and that under ambient conditions the actual frequency of 80 MHz clock is 80 MHz - 25 ppm, which is 80 MHz - 2000 Hz . Expected count of number of cycle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eriod of 1 kHz signal/period of 80 M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requency of 80 MHz signal/frequency of 1 k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 - 2000 Hz)/1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easurement we assume that we have no quantization error so we can focus on the effect of the clock erro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60640" y="698400"/>
            <a:ext cx="4536720" cy="3402000"/>
          </a:xfrm>
          <a:prstGeom prst="rect">
            <a:avLst/>
          </a:prstGeom>
          <a:ln w="0">
            <a:noFill/>
          </a:ln>
        </p:spPr>
      </p:sp>
      <p:sp>
        <p:nvSpPr>
          <p:cNvPr id="122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know your exact frequency for the 80 MHz clock at the time of measurement. What you do know is that it will be 80 MHz +/- 50 ppm over the operating temperature range. Since you do not know what the actual frequency is at any given time, for calculations you treat the 80 MHz clock as a perfect clock. Thus, the frequency calculated by the above measureme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period of signal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measured count * period of 8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79,998 * 1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00.025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a perfect 1,000 Hz frequency and our measurement returned 1,000.025 Hz, which represent a 25 ppm error. A clock error of 25 ppm gives a measurement error of 25 pp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60640" y="698400"/>
            <a:ext cx="4536720" cy="3402000"/>
          </a:xfrm>
          <a:prstGeom prst="rect">
            <a:avLst/>
          </a:prstGeom>
          <a:ln w="0">
            <a:noFill/>
          </a:ln>
        </p:spPr>
      </p:sp>
      <p:sp>
        <p:nvSpPr>
          <p:cNvPr id="122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measure frequency of 1 kHz signal. You use a counter on a PXI-6602 to measure the period of this signal and take the inverse of period to calculate frequency. The counter uses an 80 MHz clock to measure the period. It counts how many cycles of the 80 MHz clock occur in one period of the signal being measured. Assume that the frequency of external signal is a perfect 1 kHz, and under ambient conditions the actual frequency of 80 MHz clock is 80 MHz - 25 ppm, which is 80 MHz - 2000 Hz . Expected count of number of cycle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eriod of 1 kHz signal/period of 80 M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requency of 80 MHz signal/frequency of 1 k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 - 2000 Hz)/1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quantization error is -1 count. The count returned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60640" y="698400"/>
            <a:ext cx="4536720" cy="3402000"/>
          </a:xfrm>
          <a:prstGeom prst="rect">
            <a:avLst/>
          </a:prstGeom>
          <a:ln w="0">
            <a:noFill/>
          </a:ln>
        </p:spPr>
      </p:sp>
      <p:sp>
        <p:nvSpPr>
          <p:cNvPr id="122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know your exact frequency for the 80 MHz clock at the time of measurement. What you do know is that it will be 80 MHz +/- 50 ppm over the operating temperature range. Since you do not know what the actual frequency is at any given time, for calculations you treat the 80 MHz clock as a perfect clock. Thus, the frequency calculated by the above measureme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period of signal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measured count * period of 8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79,997 * 1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00.0375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37.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a perfect 1,000 Hz frequency and our measurement returned 1,000.0375 Hz, representing a 37.5 ppm error. Notice that 37.5 ppm total error is the sum of 25 ppm clock error and 12.5 ppm quantization error. Also note that in this example, the errors were cumulative. If the clock error had been +25 ppm (instead of -25 ppm), the two would have worked to balance each other out and resulted in a total error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rror dominates depends on how much clock error you have, and your parameters that determine the quantization erro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60640" y="698400"/>
            <a:ext cx="4536720" cy="3402000"/>
          </a:xfrm>
          <a:prstGeom prst="rect">
            <a:avLst/>
          </a:prstGeom>
          <a:ln w="0">
            <a:noFill/>
          </a:ln>
        </p:spPr>
      </p:sp>
      <p:sp>
        <p:nvSpPr>
          <p:cNvPr id="122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ase in which we had quantization and clock error, we measured a perfect 1,000 Hz frequency and our measurement returned 1,000.0375 Hz, which represents a 37.5 ppm error. Notice that 37.5 ppm total error is sum of 25 ppm clock error and 12.5 ppm quantization error. Also note that in this example, the errors were cumulative. If the clock error had been +25 ppm (instead of -25 ppm), the two would have worked to balance each other out and resulted in a total error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rror dominates depends on how much clock error you have, and your parameters that determine the quantization erro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62080" y="698400"/>
            <a:ext cx="4535280" cy="3402000"/>
          </a:xfrm>
          <a:prstGeom prst="rect">
            <a:avLst/>
          </a:prstGeom>
          <a:ln w="0">
            <a:noFill/>
          </a:ln>
        </p:spPr>
      </p:sp>
      <p:sp>
        <p:nvSpPr>
          <p:cNvPr id="123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example, a sampling error of 1 count gave a 12.5 ppm error. Where does this number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ntization error results in an error of one count in the value returned by the counter. Since the count represents cycles of the 80 MHz clock in our example, the corresponding time error is 12.5 ns. Our measurement duration is one period of the signal being measured, which is 1 ms. Thus, the error is 12.5 ns out of 1 ms, which is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duce quantization error, increase the measurement duration (measure over two periods), or increase the frequency of Sourc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76400" y="709560"/>
            <a:ext cx="4680000" cy="3510000"/>
          </a:xfrm>
          <a:prstGeom prst="rect">
            <a:avLst/>
          </a:prstGeom>
          <a:ln w="0">
            <a:noFill/>
          </a:ln>
        </p:spPr>
      </p:sp>
      <p:sp>
        <p:nvSpPr>
          <p:cNvPr id="1232" name="PlaceHolder 2"/>
          <p:cNvSpPr>
            <a:spLocks noGrp="1"/>
          </p:cNvSpPr>
          <p:nvPr>
            <p:ph type="body"/>
          </p:nvPr>
        </p:nvSpPr>
        <p:spPr>
          <a:xfrm>
            <a:off x="762120" y="4383000"/>
            <a:ext cx="5410080" cy="4533840"/>
          </a:xfrm>
          <a:prstGeom prst="rect">
            <a:avLst/>
          </a:prstGeom>
          <a:noFill/>
          <a:ln w="0">
            <a:noFill/>
          </a:ln>
        </p:spPr>
        <p:txBody>
          <a:bodyPr lIns="90360" rIns="90360" tIns="44280" bIns="44280" anchor="t">
            <a:noAutofit/>
          </a:bodyPr>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Assume clock error is zero so we can focus on quantization error. Period measurement is the best way to measure for low frequencies. Only one counter is required.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requency = 1/Period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Quantization error can cause period measurement to be off by +/- 1 cycle of Source. You can measure maximum frequency (F) through period measurement and stay within an error of 0.x</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F</a:t>
            </a:r>
            <a:r>
              <a:rPr b="0" lang="en-US" sz="1100" spc="-1" strike="noStrike" baseline="-25000">
                <a:solidFill>
                  <a:srgbClr val="000000"/>
                </a:solidFill>
                <a:latin typeface="Times New Roman"/>
              </a:rPr>
              <a:t>SOURCE</a:t>
            </a:r>
            <a:r>
              <a:rPr b="0" lang="en-US" sz="1100" spc="-1" strike="noStrike">
                <a:solidFill>
                  <a:srgbClr val="000000"/>
                </a:solidFill>
                <a:latin typeface="Times New Roman"/>
              </a:rPr>
              <a:t>-(F</a:t>
            </a:r>
            <a:r>
              <a:rPr b="0" lang="en-US" sz="1100" spc="-1" strike="noStrike" baseline="-25000">
                <a:solidFill>
                  <a:srgbClr val="000000"/>
                </a:solidFill>
                <a:latin typeface="Times New Roman"/>
              </a:rPr>
              <a:t>SOURCE</a:t>
            </a:r>
            <a:r>
              <a:rPr b="0" lang="en-US" sz="1100" spc="-1" strike="noStrike">
                <a:solidFill>
                  <a:srgbClr val="000000"/>
                </a:solidFill>
                <a:latin typeface="Times New Roman"/>
              </a:rPr>
              <a:t>/(1+0.x))</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F</a:t>
            </a:r>
            <a:r>
              <a:rPr b="0" lang="en-US" sz="1100" spc="-1" strike="noStrike" baseline="-25000">
                <a:solidFill>
                  <a:srgbClr val="000000"/>
                </a:solidFill>
                <a:latin typeface="Times New Roman"/>
              </a:rPr>
              <a:t>SOURCE</a:t>
            </a:r>
            <a:r>
              <a:rPr b="0" lang="en-US" sz="1100" spc="-1" strike="noStrike">
                <a:solidFill>
                  <a:srgbClr val="000000"/>
                </a:solidFill>
                <a:latin typeface="Times New Roman"/>
              </a:rPr>
              <a:t> is the frequency of Source.</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As frequencies become higher, possible quantization error in single period measurement increases, so methods using two counters are recommended. </a:t>
            </a:r>
            <a:r>
              <a:rPr b="0" lang="en-US" sz="1100" spc="-1" strike="noStrike">
                <a:solidFill>
                  <a:srgbClr val="000000"/>
                </a:solidFill>
                <a:latin typeface="Times New Roman"/>
              </a:rPr>
              <a:t>For the two-counter method shown on this slide, gate one counter for known amount of time and count how many edges of the signal being measured occur in this time.</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Count returned/Time in seconds</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Quantization error can cause count to be off by +/- 1 cycle of Source. Measurement error is (+/- 1 Hz)/(Time in seconds). For example, suppose you are measuring the frequency of a 10 MHz signal and gating it for 1 ms. Expected count is 10,000.</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10000/1 ms = 10 MHz.</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A quantization error of -1 would make expected count 999.</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9999/ 1 ms = 9,999,000 Hz (error = 100 ppm)</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So a quantization error of 1 in 1 ms gating period results in an error of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1/( 1 ms) Hz, or 1000 Hz.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Increase gating period to 1 second and quantization error will reduce to 1 Hz.</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76400" y="709560"/>
            <a:ext cx="4680000" cy="3510000"/>
          </a:xfrm>
          <a:prstGeom prst="rect">
            <a:avLst/>
          </a:prstGeom>
          <a:ln w="0">
            <a:noFill/>
          </a:ln>
        </p:spPr>
      </p:sp>
      <p:sp>
        <p:nvSpPr>
          <p:cNvPr id="1234" name="PlaceHolder 2"/>
          <p:cNvSpPr>
            <a:spLocks noGrp="1"/>
          </p:cNvSpPr>
          <p:nvPr>
            <p:ph type="body"/>
          </p:nvPr>
        </p:nvSpPr>
        <p:spPr>
          <a:xfrm>
            <a:off x="762120" y="4382640"/>
            <a:ext cx="5410080" cy="4459320"/>
          </a:xfrm>
          <a:prstGeom prst="rect">
            <a:avLst/>
          </a:prstGeom>
          <a:noFill/>
          <a:ln w="0">
            <a:noFill/>
          </a:ln>
        </p:spPr>
        <p:txBody>
          <a:bodyPr lIns="90360" rIns="903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To measure frequency using the method shown above, measure time over many integer cycles of the external signal. Divide the time measured by number of cycles used and you obtain the period of one cycle. The inverse of the period gives frequency.</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F=N/Time measured over N cycles of external signal</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N is the number of cycles over which you make your measurement. </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This method can be more accurate than the method of gating a counter for same measurement duration. Quantization error can be +/- 1 cycle of Source, which can be of higher frequency than the signal being measured, resulting in smaller error. </a:t>
            </a:r>
            <a:r>
              <a:rPr b="0" lang="en-US" sz="1200" spc="-1" strike="noStrike">
                <a:solidFill>
                  <a:srgbClr val="000000"/>
                </a:solidFill>
                <a:latin typeface="Times New Roman"/>
              </a:rPr>
              <a:t>As total time increases, the error of +/-1 clock cycle of Source becomes less significant. For</a:t>
            </a:r>
            <a:r>
              <a:rPr b="0" lang="en-US" sz="1200" spc="-1" strike="noStrike">
                <a:solidFill>
                  <a:srgbClr val="000000"/>
                </a:solidFill>
                <a:latin typeface="Times New Roman"/>
              </a:rPr>
              <a:t> example, if you measure a signal with a 10 MHz frequency over 10,000 cycles using an 80 MHz timebase, the error of +/- 1 clock cycle will amount to an error of 12.5 ns out of 1 ms (12.5 ppm). If you use 10 million cycles, the error will be 12.5 ns out of 1 s (12.5 ppb).</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The advantage this method offers over gating a counter for known period and counting edges is that this is less sensitive to quantization error and makes the measurement over an </a:t>
            </a:r>
            <a:r>
              <a:rPr b="0" lang="en-US" sz="1200" spc="-1" strike="noStrike">
                <a:solidFill>
                  <a:srgbClr val="000000"/>
                </a:solidFill>
                <a:latin typeface="Times New Roman"/>
              </a:rPr>
              <a:t>integer</a:t>
            </a:r>
            <a:r>
              <a:rPr b="0" lang="en-US" sz="1200" spc="-1" strike="noStrike">
                <a:solidFill>
                  <a:srgbClr val="3333cc"/>
                </a:solidFill>
                <a:latin typeface="Times New Roman"/>
              </a:rPr>
              <a:t> </a:t>
            </a:r>
            <a:r>
              <a:rPr b="0" lang="en-US" sz="1200" spc="-1" strike="noStrike">
                <a:solidFill>
                  <a:srgbClr val="000000"/>
                </a:solidFill>
                <a:latin typeface="Times New Roman"/>
              </a:rPr>
              <a:t>number of cycles of the signal being measured. The disadvantage is that it is more likely to be effective if you know what the frequency should be of the signal you are measuring. Knowing the expected frequency will help determine how many cycles over which to make the measurement. For example, measuring time over 10 million cycles works out well for a 10 MHz signal, but would make the measurement too long for a 1 kHz signa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60640" y="698400"/>
            <a:ext cx="4536720" cy="3402000"/>
          </a:xfrm>
          <a:prstGeom prst="rect">
            <a:avLst/>
          </a:prstGeom>
          <a:ln w="0">
            <a:noFill/>
          </a:ln>
        </p:spPr>
      </p:sp>
      <p:sp>
        <p:nvSpPr>
          <p:cNvPr id="123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se lock loop is a circuit that compares two clocks: a reference clock and a voltage controlled crystal oscillator clock (VCXO). A VCXO is an oscillator that allows its frequency to be tuned by applying a DC voltage to it. The larger the voltage, the higher the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se lock loop has three main components: phase comparator, loop filter, and VCXO. The phase comparator accepts the reference frequency and the VCXO frequency and divides the two frequencies to attain a common frequency. For instance, if a phase lock loop is locking a 15 MHz VCXO clock to a 10 MHz reference clock, it may divide the frequency of the 15 MHz clock by 15, and that of the 10 MHz clock by 10. It then compares the phase and frequency of the two 1 MHz clocks thus derived and generates a 1 MHz pulse train. The better the two clocks have the same frequency and phase the narrower the pulsewidths. The pulses are fed to a loop filter that delivers a DC voltage at its output based on the width of the pulses at its input. This DC voltage is applied to the VCXO to control its frequency. The circuit works to adjust the DC voltage to minimize the width of the pulses, and to make the frequency and phase of 1 MHz clock derived from the VCXO (in this example) be the same as the 1 MHz clock derived from the reference clock. Thus, the frequency of the 15 MHz VCXO becomes exactly 1.5 times that of the 10 MHz cloc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60640" y="698400"/>
            <a:ext cx="4536720" cy="3402000"/>
          </a:xfrm>
          <a:prstGeom prst="rect">
            <a:avLst/>
          </a:prstGeom>
          <a:ln w="0">
            <a:noFill/>
          </a:ln>
        </p:spPr>
      </p:sp>
      <p:sp>
        <p:nvSpPr>
          <p:cNvPr id="123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602 counter has an 80 MHz VCXO that is phase-locked to a reference 10 MHz clock. Due to phase locking, the 80 MHz VCXO attains a frequency exactly 8 times that of the 10 MHz reference clock. In addition, the phase is adjusted so that every eighth edge of the 80 MHz VCXO clock aligns with an edge of the 10 MHz reference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bility of a VCXO driven by a phase-lock loop becomes the same as that of the reference clock. So if a VCXO is rated for 50 ppm stability but it is locked to a 10 MHz clock that has 25 ppm stability, the VCXO will now inherit the 25 ppm stability. It will follow fluctuations in the reference clock. Suppose that the 10 MHz reference clock has an error of -25 ppm. That amounts to -250 Hz error. An 80 MHz VCXO phase locked to this reference clock will have a frequency equal to exactly 8 times the reference clock. Its frequency will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 MHz - 250)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 MHz *8 - 250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 -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8,0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the error in the 80 MHz clock is 2000 Hz compared to 250 Hz in the 10 MHz clock, the ppm value remains the sam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62080" y="698400"/>
            <a:ext cx="4535280" cy="3402000"/>
          </a:xfrm>
          <a:prstGeom prst="rect">
            <a:avLst/>
          </a:prstGeom>
          <a:ln w="0">
            <a:noFill/>
          </a:ln>
        </p:spPr>
      </p:sp>
      <p:sp>
        <p:nvSpPr>
          <p:cNvPr id="124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that the PXI-6602 counter phase-locks its 80 MHz VCXO to a reference 10 MHz clock. This reference clock is the PXI backplane clock. This clock is provided to each module in the chassis. The clock distribution is designed to minimize clock skew across the modules. Modules that phase lock to the backplane clock include PXI-6608 counter, PXI-6602 counter, PXI-5411 Arbitrary Waveform Generator, and PXI-5911 100 MHz 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s that are phase-locked to the backplane clock have their edges synchronized (more so if they have the same frequency VCXOs) and have their frequencies derived from the common 10 MHz clock. A 20 MHz frequency will be exactly 2 times the 10 MHz frequency. An 80 MHz frequency will be exactly 8 times the 10 MHz frequency. Because the frequencies are derived from the 10 MHz frequency, the 80 MHz frequency is now exactly 4 times the 20 MHz frequency. This type of synchronization of clocks across modules is particularly useful for a multi-device system that performs multiple measurements which must be compared to each oth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62080" y="698400"/>
            <a:ext cx="4535280" cy="3402000"/>
          </a:xfrm>
          <a:prstGeom prst="rect">
            <a:avLst/>
          </a:prstGeom>
          <a:ln w="0">
            <a:noFill/>
          </a:ln>
        </p:spPr>
      </p:sp>
      <p:sp>
        <p:nvSpPr>
          <p:cNvPr id="124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that a VCXO in a phase-lock loop inherits the stability of the reference clock to which it is phase-locked. And we know that a PXI chassis distributes a 10 MHz clock to all its modules. If this 10 MHz clock is highly stable, all modules phase-locked to this clock inherit the same stability. PXI chassis design allows this benefit. A module installed in start trigger controller slot (slot 2) of a PXI chassis can replace the chassis’ 10 MHz clock with its own 10 MHz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608 counter has an oven controlled crystal oscillator (OCXO) on it that provides a 10 MHz clock with a stability of 75 ppb over one year--that’s 75 parts per </a:t>
            </a:r>
            <a:r>
              <a:rPr b="0" i="1" lang="en-US" sz="1200" spc="-1" strike="noStrike">
                <a:solidFill>
                  <a:srgbClr val="000000"/>
                </a:solidFill>
                <a:latin typeface="Times New Roman"/>
              </a:rPr>
              <a:t>billion</a:t>
            </a:r>
            <a:r>
              <a:rPr b="0" lang="en-US" sz="1200" spc="-1" strike="noStrike">
                <a:solidFill>
                  <a:srgbClr val="000000"/>
                </a:solidFill>
                <a:latin typeface="Times New Roman"/>
              </a:rPr>
              <a:t>! When the PXI-6608 is installed in the start trigger controller slot, NIDAQ software automatically uses the OCXO clock to drive the PXI backplane clock. Thus, all devices that have their clocks phase-locked to the PXI backplane clock now inherit the 75 ppb s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XO clock can also be passed over PXI triggers (the equivalent of RTSI on PXI) to be used as scan clock, update clock, or general purpose counter clock for devices. RTSI is the real time system integration bus that allows boards within a system to share signals and timing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60640" y="698400"/>
            <a:ext cx="4536720" cy="3402000"/>
          </a:xfrm>
          <a:prstGeom prst="rect">
            <a:avLst/>
          </a:prstGeom>
          <a:ln w="0">
            <a:noFill/>
          </a:ln>
        </p:spPr>
      </p:sp>
      <p:sp>
        <p:nvSpPr>
          <p:cNvPr id="124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the OCXO on the PXI-6608 counter is shown by the table above. We see that the error in frequency is about 0.1 Hz when measured by the PXI-6608 counter, compared to over 17 Hz when measured by the        PXI-6602 counter. For the measured frequency, these errors amount to about 10 ppb and 1.7 ppm under the ambient conditions,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f the PXI-6602 counter was used to make a measurement in a chassis that also had the PXI-6608 counter in the start trigger controller slot, the PXI-6602 measurement would have been as accurate as that of the       PXI-6608 because of phase of phase locki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60640" y="698400"/>
            <a:ext cx="4536720" cy="3402000"/>
          </a:xfrm>
          <a:prstGeom prst="rect">
            <a:avLst/>
          </a:prstGeom>
          <a:ln w="0">
            <a:noFill/>
          </a:ln>
        </p:spPr>
      </p:sp>
      <p:sp>
        <p:nvSpPr>
          <p:cNvPr id="124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how the OCXO of the PXI-6608 drives the backplane and provides benefit to the PXI-5411 Arbitrary Waveform Generator, which uses phase locking. Under the ambient conditions, the frequency error in generation when used with the PXI-6608 is about 6 ppb. With no PXI-6608 in the system, the error in frequency generation is 5.6 pp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62080" y="698400"/>
            <a:ext cx="4535280" cy="3402000"/>
          </a:xfrm>
          <a:prstGeom prst="rect">
            <a:avLst/>
          </a:prstGeom>
          <a:ln w="0">
            <a:noFill/>
          </a:ln>
        </p:spPr>
      </p:sp>
      <p:sp>
        <p:nvSpPr>
          <p:cNvPr id="124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igger is a hardware or software event that usually prompts an action. For instance, a start trigger begins an acquisition. A device waiting for a hardware start trigger remains in the armed state but does not begin the acquisition or measurement until the start trigger occurs. When the trigger occurs, it begins the operation with deterministic timing. The trigger could also be provided by software. Software trigger involves software latency and some uncertainty about time between when the command is given and when the operation begins. A hardware trigger has deterministic and faster response. For example, a start trigger for a counter on a PXI-6602 counter arms the counter within 12.5 ns of when the trigger occurs. A trigger can also be used to stop an acquisition, or to latch a measureme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rministic and, often, instantaneous response to a trigger is one benefit of triggering. If you must begin an operation – measurement or generation – in response to an external event, a trigger allows you an effective way to do so. Also, a trigger is useful for starting multiple operations simultaneously. Each operation can be configured to use a common start trigge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62080" y="698400"/>
            <a:ext cx="4535280" cy="3402000"/>
          </a:xfrm>
          <a:prstGeom prst="rect">
            <a:avLst/>
          </a:prstGeom>
          <a:ln w="0">
            <a:noFill/>
          </a:ln>
        </p:spPr>
      </p:sp>
      <p:sp>
        <p:nvSpPr>
          <p:cNvPr id="125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cuss timing concepts involved in triggering, we will consider an example application with the PXI-6602 counter. In this example, we will arm two counters simultaneously. The counters could be performing any function such as pulse generation or a tim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602 counter has two NI-TIO ASICs. The NI-TIO ASIC is a sophisticated, state of the art ASIC developed by National Instruments for timing and digital I/O applications. Each ASIC has 4 counters in it. With two of these ASICs, a PXI-6602 counter offers 8 counters. NI-TIO ASIC 0 has counters 0 through 3. NI-TIO ASIC 1 has counters 4 through 7.</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60640" y="698400"/>
            <a:ext cx="4536720" cy="3402000"/>
          </a:xfrm>
          <a:prstGeom prst="rect">
            <a:avLst/>
          </a:prstGeom>
          <a:ln w="0">
            <a:noFill/>
          </a:ln>
        </p:spPr>
      </p:sp>
      <p:sp>
        <p:nvSpPr>
          <p:cNvPr id="125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gital circuit is more reliable when it is synchronous. In a synchronous circuit, signals change state on clock edges. The behavior of the circuit is more predictable and is more rob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counter in a PXI-6602 counter is configured to use a start trigger, the start trigger is synchronized to Source of count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60640" y="698400"/>
            <a:ext cx="4536720" cy="3402000"/>
          </a:xfrm>
          <a:prstGeom prst="rect">
            <a:avLst/>
          </a:prstGeom>
          <a:ln w="0">
            <a:noFill/>
          </a:ln>
        </p:spPr>
      </p:sp>
      <p:sp>
        <p:nvSpPr>
          <p:cNvPr id="125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above demonstrates how a start trigger is synchronized to Source of a counter. The external start trigger is sampled on each rising edge of Source and the value sampled is passed through. Because the value is sampled and passed through on rising edges of Source, transitions on start trigger at the input of the counter (at the output of the synchronizing circuit) occur only on rising edges of Source. Thus, the start trigger is said to be synchronized to Source of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abov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the input to the synchronizing circuit and goes high between the first and second rising edge of Source. The output of the synchronizing circuit is the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The counter samples the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on each rising edge of Source. When it samples the start trigger at the output of the synchronizing circuit on the second clock edge, it sees a low voltage and does nothing. On the same clock edge, the synchronizing circuit samples its input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to be high and makes its output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high. Because the sampling on the second clock edge causes this output to change, the output becomes high a short delay after the second edge. Thus, the counter still sees the output to be low at the second clock edge. On the third edge the counter samples the start trigger at the output of the synchronizing circuit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to be high and, thus, begins its opera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60640" y="698400"/>
            <a:ext cx="4536720" cy="3402000"/>
          </a:xfrm>
          <a:prstGeom prst="rect">
            <a:avLst/>
          </a:prstGeom>
          <a:ln w="0">
            <a:noFill/>
          </a:ln>
        </p:spPr>
      </p:sp>
      <p:sp>
        <p:nvSpPr>
          <p:cNvPr id="125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case where you arm two counters simultaneously. As shown the diagram above, the start trigger is synchronized to Source at each counter. In order to start the two counters simultaneously, they must use the same Source. So Source of counters 0 and 1 must be the same clock, such as an intern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t trigger enters the ASIC through a pin. The circuit immediately inside the pin is called the I/O pad. The delay from the I/O pad to each counter is different. Assume a 3 ns delay from the I/O pad to counter 0, and a 7 ns delay from the I/O pad to counter 1.</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60640" y="698400"/>
            <a:ext cx="4536720" cy="3402000"/>
          </a:xfrm>
          <a:prstGeom prst="rect">
            <a:avLst/>
          </a:prstGeom>
          <a:ln w="0">
            <a:noFill/>
          </a:ln>
        </p:spPr>
      </p:sp>
      <p:sp>
        <p:nvSpPr>
          <p:cNvPr id="125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goes high between clock edges 1 and 2. It reaches each counter before clock edge 3. Therefore, the synchronizing circuit at each counter see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as high on clock edge 3 and passes it through. Each counter senses the </a:t>
            </a:r>
            <a:r>
              <a:rPr b="0" i="1" lang="en-US" sz="1200" spc="-1" strike="noStrike">
                <a:solidFill>
                  <a:srgbClr val="000000"/>
                </a:solidFill>
                <a:latin typeface="Times New Roman"/>
              </a:rPr>
              <a:t>Start Trigger Synchronized</a:t>
            </a:r>
            <a:r>
              <a:rPr b="0" lang="en-US" sz="1200" spc="-1" strike="noStrike">
                <a:solidFill>
                  <a:srgbClr val="000000"/>
                </a:solidFill>
                <a:latin typeface="Times New Roman"/>
              </a:rPr>
              <a:t> as high on clock edge 4 and begins its oper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62080" y="698400"/>
            <a:ext cx="4535280" cy="3402000"/>
          </a:xfrm>
          <a:prstGeom prst="rect">
            <a:avLst/>
          </a:prstGeom>
          <a:ln w="0">
            <a:noFill/>
          </a:ln>
        </p:spPr>
      </p:sp>
      <p:sp>
        <p:nvSpPr>
          <p:cNvPr id="119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encounter different types of errors while making measurements: errors in sensors and errors at the measurement device. The errors in the measurement include voltage errors and timing errors. This discussion focuses on timing err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quire an analog waveform, the data acquisition device provides a scan clock to the analog to digital converter (ADC) to indicate when the conversion should occur. This acquisition results in a series of datapoints that represent the analog voltage sampled by the ADC. Adjacent samples are assumed to be separated in time as determined by the scan clock. The timing information implied by the scan clock depends on the quality of the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alog output, an update clock indicates to the digital to analog converter (DAC) when to change the voltage at its output. To generate a waveform, the output of the DAC is changed at regular intervals using the update clock. The frequency generated is related to the frequency of the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pplications require measuring a frequency. The reliability of your measurement is determined by the reliability of your timing. To measure distance, you must have a good yardstick. To measure time or frequency, you must have a good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60640" y="698400"/>
            <a:ext cx="4536720" cy="3402000"/>
          </a:xfrm>
          <a:prstGeom prst="rect">
            <a:avLst/>
          </a:prstGeom>
          <a:ln w="0">
            <a:noFill/>
          </a:ln>
        </p:spPr>
      </p:sp>
      <p:sp>
        <p:nvSpPr>
          <p:cNvPr id="126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above is similar to that on the previous slide.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still goes high between clock edges 1 and 2. However, it occurs earlier than it did in the previous slide. Because it occurs earlier,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reaches counter 0 after a 3 ns delay just before clock edge 2. Thus, the synchronizing circuit at counter 0 sample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to be high at clock edge 2. Since the delay to counter 1 is longer 7 ns,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sampled low by the synchronizing circuit at counter 1 on clock edge 2. The synchronizing circuit at counter 1 does not se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as high until clock edge 3. The result is that counter 0 begins its operation on clock edge 3, while counter 1 begins its operation on clock ed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is skew because the asynchronou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synchronized to Source in two separate locations. Therefore, it is possible for it to be synchronized on two separate clock edges. A PXI-6602 counter has an 80 MHz internal clock. A skew of one cycle of this clock is 12.5 ns. For some applications, this skew is acceptable. If not, there is a way around this issu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60640" y="698400"/>
            <a:ext cx="4536720" cy="3402000"/>
          </a:xfrm>
          <a:prstGeom prst="rect">
            <a:avLst/>
          </a:prstGeom>
          <a:ln w="0">
            <a:noFill/>
          </a:ln>
        </p:spPr>
      </p:sp>
      <p:sp>
        <p:nvSpPr>
          <p:cNvPr id="126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vious slide, we saw a skew between when counters 0 and 1 began their operations because the asynchronou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synchronized to Source in two separate locations. To avoid this problem, the asynchronou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can be synchronized in one common location. This common location is the I/O pad. The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can then be passed to each counter. The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will be sampled by the synchronizing circuit at each counter and resynchronized to Source. Because it has already been made synchronous to Source at the pad, it now behaves more predictably and is more robust. By synchronizing at the pad, we ensure that both counters see the start trigger on the same clock edge.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60640" y="698400"/>
            <a:ext cx="4536720" cy="3402000"/>
          </a:xfrm>
          <a:prstGeom prst="rect">
            <a:avLst/>
          </a:prstGeom>
          <a:ln w="0">
            <a:noFill/>
          </a:ln>
        </p:spPr>
      </p:sp>
      <p:sp>
        <p:nvSpPr>
          <p:cNvPr id="126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goes high at the same time it did for the case when the skew occurred. This time, we synchronize the external start trigger at the pad. The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goes high at clock edge 2. With the 3 ns delay to counter 0, and 7 ns delay to counter 1,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reaches counters 0 and 1 before clock edge 3. At clock edge 3, the synchronizing circuit of each counter samples the start trigger to be high at clock edge 3. Each counter sees the start trigger on clock ed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pad of PXI-6602 counter,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can be synchronized to the 80 MHz clock only. At the synchronizing circuit at each counter, the synchronization is done with respect to Source of the counter. Thus, for this technique to be effective, Source of counter must be the 80 MHz clock, or a timebase derived from this 80 MHz clock (internal 20 MHz or 100 kHz clock).</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76400" y="711360"/>
            <a:ext cx="4678200" cy="3508200"/>
          </a:xfrm>
          <a:prstGeom prst="rect">
            <a:avLst/>
          </a:prstGeom>
          <a:ln w="0">
            <a:noFill/>
          </a:ln>
        </p:spPr>
      </p:sp>
      <p:sp>
        <p:nvSpPr>
          <p:cNvPr id="1266" name="PlaceHolder 2"/>
          <p:cNvSpPr>
            <a:spLocks noGrp="1"/>
          </p:cNvSpPr>
          <p:nvPr>
            <p:ph type="body"/>
          </p:nvPr>
        </p:nvSpPr>
        <p:spPr>
          <a:xfrm>
            <a:off x="909360" y="4617720"/>
            <a:ext cx="5010120" cy="4071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nerate a pulse, the counter loads the value for inactive phase and counts down to zero. On reaching zero, its OUT toggles state and loads value for active phase. It then counts to zero and toggles state again. The duration of each phase is programm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ggered pulse generation produces a single pulse with a programmable delay and pulse width on receiving a trigger on its Gate after the counter has been armed. The counter then dis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60640" y="698400"/>
            <a:ext cx="4536720" cy="3402000"/>
          </a:xfrm>
          <a:prstGeom prst="rect">
            <a:avLst/>
          </a:prstGeom>
          <a:ln w="0">
            <a:noFill/>
          </a:ln>
        </p:spPr>
      </p:sp>
      <p:sp>
        <p:nvSpPr>
          <p:cNvPr id="126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case when you must arm counters in different ASICs. In this example we must arm counters 1 and 5. Pad synchronization is done at the I/O pad in each ASIC. If you use pad synchronization, again you are synchronizing in two separate locations and you may see a skew of one clock cycle. If you use opposite polarity for your start trigger in each ASIC (use positive polarity in one ASIC and negative polarity in the other ASIC), you reduce the skew to one-half clock cycle. In this case, you will always see a skew of one-half clock cycle. For a PXI-6602 counter, a one-half clock cycle delay of the 80 MHz clock amounts to 6.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this skew, synchronize the external start trigger in one common location and pass that onto counters 1 and 5. You can use a triggered pulse generation with a counter to achieve this synchronization. For example, connect your external start trigger to Gate of counter 0, PFI_38. Configure counter 0 for triggered pulse generation and use the 80 MHz clock as its Source. When a pulse occurs on Gate of counter 0, it causes a pulse to be generated at the output of counter 0. The pulse at the output is synchronous to the 80 MHz clock. This output is driven to the I/O pin for the output of counter 0, PFI_36. PFI_36 is a bi-directional line. What is being driven as output can also be used as input. Now use this input as the start trigger and use pad synchronization. In software, select PFI_36 as the start trigger. Use the 80 MHz clock or a derived clock (internal 20 MHz or 100 kHZ) as Source for counters 1 and 5.</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60640" y="698400"/>
            <a:ext cx="4536720" cy="3402000"/>
          </a:xfrm>
          <a:prstGeom prst="rect">
            <a:avLst/>
          </a:prstGeom>
          <a:ln w="0">
            <a:noFill/>
          </a:ln>
        </p:spPr>
      </p:sp>
      <p:sp>
        <p:nvSpPr>
          <p:cNvPr id="127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connected to PFI_38, Gate of counter 0. Counter 0 is configured for triggered pulse generation. The Gate of counter 0 is synchronized to Source of counter 0. Source of counter 0 is 80 MHz clock.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goes high just before clock edge 1. It is synchronized to Source at Gate input of counter 0 on clock edge 1. We call this signal </a:t>
            </a:r>
            <a:r>
              <a:rPr b="0" i="1" lang="en-US" sz="1200" spc="-1" strike="noStrike">
                <a:solidFill>
                  <a:srgbClr val="000000"/>
                </a:solidFill>
                <a:latin typeface="Times New Roman"/>
              </a:rPr>
              <a:t>Start Trigger Synchronized at Gate(0)</a:t>
            </a:r>
            <a:r>
              <a:rPr b="0" lang="en-US" sz="1200" spc="-1" strike="noStrike">
                <a:solidFill>
                  <a:srgbClr val="000000"/>
                </a:solidFill>
                <a:latin typeface="Times New Roman"/>
              </a:rPr>
              <a:t> in the figure. The counter sees the transition on </a:t>
            </a:r>
            <a:r>
              <a:rPr b="0" i="1" lang="en-US" sz="1200" spc="-1" strike="noStrike">
                <a:solidFill>
                  <a:srgbClr val="000000"/>
                </a:solidFill>
                <a:latin typeface="Times New Roman"/>
              </a:rPr>
              <a:t>Start Trigger Synchronized at Gate(0)</a:t>
            </a:r>
            <a:r>
              <a:rPr b="0" lang="en-US" sz="1200" spc="-1" strike="noStrike">
                <a:solidFill>
                  <a:srgbClr val="000000"/>
                </a:solidFill>
                <a:latin typeface="Times New Roman"/>
              </a:rPr>
              <a:t> on clock edge 2 and begins its operation. A triggered pulse generation has an initial delay. The minimum value for this delay is two cycles. Thus, the </a:t>
            </a:r>
            <a:r>
              <a:rPr b="0" i="1" lang="en-US" sz="1200" spc="-1" strike="noStrike">
                <a:solidFill>
                  <a:srgbClr val="000000"/>
                </a:solidFill>
                <a:latin typeface="Times New Roman"/>
              </a:rPr>
              <a:t>Pulse Generated at Output of Ctr(0)</a:t>
            </a:r>
            <a:r>
              <a:rPr b="0" lang="en-US" sz="1200" spc="-1" strike="noStrike">
                <a:solidFill>
                  <a:srgbClr val="000000"/>
                </a:solidFill>
                <a:latin typeface="Times New Roman"/>
              </a:rPr>
              <a:t> does not go high until clock edge 4. This pulse is generated on PFI_36. PFI_36 is a bi-directional line on both ASICs. Each ASIC resynchronizes the pulse on PFI_36 to the 80 MHz clock at its I/O pad for PFI_36 on clock edge 5. </a:t>
            </a:r>
            <a:r>
              <a:rPr b="0" i="1" lang="en-US" sz="1200" spc="-1" strike="noStrike">
                <a:solidFill>
                  <a:srgbClr val="000000"/>
                </a:solidFill>
                <a:latin typeface="Times New Roman"/>
              </a:rPr>
              <a:t>Pulse Synchronized at Pad for Input</a:t>
            </a:r>
            <a:r>
              <a:rPr b="0" lang="en-US" sz="1200" spc="-1" strike="noStrike">
                <a:solidFill>
                  <a:srgbClr val="000000"/>
                </a:solidFill>
                <a:latin typeface="Times New Roman"/>
              </a:rPr>
              <a:t> in each ASIC is resynchronized to Source of counters 1 and 5 on clock edge 6. Source for each counter is the 80 MHz clock. The counters see the start trigger on clock edge 7 and begin their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kew has now been eliminated. Although the trigger occurs before clock edge 1, the counters do not see it until clock edge 7. The process of synchronization adds a delay equal to an integer number of cycles of Source. In this example, a delay of 5 cycles is added and the trigger is shifted in tim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62080" y="700200"/>
            <a:ext cx="4535280" cy="3402000"/>
          </a:xfrm>
          <a:prstGeom prst="rect">
            <a:avLst/>
          </a:prstGeom>
          <a:ln w="0">
            <a:noFill/>
          </a:ln>
        </p:spPr>
      </p:sp>
      <p:sp>
        <p:nvSpPr>
          <p:cNvPr id="1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Synchronizing measurements means making multiple measurements at the same time. Most applications require making more than one type of measurement. Sometimes these measurements must be taken at the same time or sometimes they must be taken within strict timing constraints.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When synchronizing measurements (like making 100 temperature and speed measurements), you need to start all the measurements at the same time as well as share a common clock for latching data among all measuremen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For example, in control-loop applications, you need to make multiple measurements at the beginning of the loop, perform a calculation based on the new measurements, and finally do outputs based on this calculation. Control- loop applications require that you start all the measurements at the same time and synchronize them via a common clock signal. Similarly, if you want to correlate measurements, for example if you want to make a plot of speed and brake-pad temperature versus time, you will need to first synchronize both the speed and temperature measuremen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60640" y="700200"/>
            <a:ext cx="4536720" cy="3402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In order to further understand the requirements for synchronization of measurements, let’s look at two real-life measurement systems.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first example is an ABS testing system. This example demonstrates how to synchronize analog input and counter measurements using National Instruments produc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second example is a car engine ignition testing system. This example demonstrates how to synchronize digital input and counter measurements using National Instruments produc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60640" y="700200"/>
            <a:ext cx="4536720" cy="3402000"/>
          </a:xfrm>
          <a:prstGeom prst="rect">
            <a:avLst/>
          </a:prstGeom>
          <a:ln w="0">
            <a:noFill/>
          </a:ln>
        </p:spPr>
      </p:sp>
      <p:sp>
        <p:nvSpPr>
          <p:cNvPr id="1276" name="PlaceHolder 2"/>
          <p:cNvSpPr>
            <a:spLocks noGrp="1"/>
          </p:cNvSpPr>
          <p:nvPr>
            <p:ph type="body"/>
          </p:nvPr>
        </p:nvSpPr>
        <p:spPr>
          <a:xfrm>
            <a:off x="914040" y="4343400"/>
            <a:ext cx="5086440" cy="4114800"/>
          </a:xfrm>
          <a:prstGeom prst="rect">
            <a:avLst/>
          </a:prstGeom>
          <a:noFill/>
          <a:ln w="0">
            <a:noFill/>
          </a:ln>
        </p:spPr>
        <p:txBody>
          <a:bodyPr lIns="92160" rIns="92160" tIns="46080" bIns="46080" anchor="t">
            <a:noAutofit/>
          </a:bodyPr>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sensors are used to track both rotational and linear movement. The following discussion applies to position sensors that track rotational movement.</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on the left shows a magnetic encoder. It consists of a rotating gear made of ferrous metal and a magnetic pick-up that contains a permanent magnet and the sensing element. The gear, which is mounted on the rotating shaft, has precisely machined teeth that provide the code pattern. As the disk rotates, these teeth disturb the magnetic flux emitted by the permanent magnet, causing the flux field to expand and collapse. These changes in the field are sensed by the sensing element, which generates a corresponding digital or pulse signal output.</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on the right shows the signals generated by a quadrature encoder. The most common type of quadrature encoder has two output channels (A and B). Using two code tracks with sectors positioned 90 degrees out of phase, the two output channels of the quadrature encoder indicate both position and direction of rotation. If A leads B, for example, the disk is rotating in a clockwise direction. If B leads A, then the disk is rotating in a counter-clockwise direction. By monitoring both the number of pulses and the relative phase of signals A and B, you can track both the position and direction of rotation.</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quadrature encoders also include a third output channel, called a zero or index or reference signal, which supplies a single pulse per revolution. This single pulse is used for precise determination of a reference position.</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60640" y="700200"/>
            <a:ext cx="4536720" cy="3402000"/>
          </a:xfrm>
          <a:prstGeom prst="rect">
            <a:avLst/>
          </a:prstGeom>
          <a:ln w="0">
            <a:noFill/>
          </a:ln>
        </p:spPr>
      </p:sp>
      <p:sp>
        <p:nvSpPr>
          <p:cNvPr id="1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shows a simple disc brake ABS system. The ABS controller monitors the pressure applied to the rotating disc, the brake pad temperature and the speed of the rotor as it provides the brake pulses to the brake pad actuators. The pressure is monitored using a strain gauge, the temperature using a thermocouple and the speed using a quadrature encoder. A magenetic pickup sensor can also be used to track rotor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 testing system needs to plot a chart of the temperature and pressure of the brake pads and the speed of the rotor in revolutions per minute (rpm) versus time. To get this, first we need to synchronize the pressure, temperature and speed measurements. The pressure and temperature measurements are analog measurements while the speed measurement can be done by using a counter (counter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62080" y="698400"/>
            <a:ext cx="4535280" cy="3402000"/>
          </a:xfrm>
          <a:prstGeom prst="rect">
            <a:avLst/>
          </a:prstGeom>
          <a:ln w="0">
            <a:noFill/>
          </a:ln>
        </p:spPr>
      </p:sp>
      <p:sp>
        <p:nvSpPr>
          <p:cNvPr id="119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ing error describes how well you can measure or provide time. For example, if you measure a perfect 1 ms pulse and your measurement result is 1.003 ms, the 0.003 ms is your timing error in this measurement. When you provide timing, timing error describes how well you provide the desired frequency. For instance, if you want to sample an analog voltage, you will need a scan clock. Suppose you specify a 1 MHz scan clock while the actual scan clock frequency is 1.001 MHz. In this case, the 0.001 MHz frequency error represents the timing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error in timing is similar to quantization errors you encounter when converting an analog voltage to a digital voltage. For measuring analog voltage, you take a continuous parameter (voltage) and compare it against specified bins. The closer together these bins, the less the error. Similarly, for measuring time you take a continuous parameter (time) and sample it at specified instances. The closer together these instances, the less the error. The amount of time for quantization error is fixed (the separation between the instances at which you sample). Longer measurement times result in smaller quantization error because the error becomes a smaller fraction of the measurement time. Clock error represents the error in the frequency you use as a reference for measurements. When you generate a frequency, your error comes from the clock error. When you measure time, your error comes from the clock error as well as quantization error.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60640" y="700200"/>
            <a:ext cx="4536720" cy="3402000"/>
          </a:xfrm>
          <a:prstGeom prst="rect">
            <a:avLst/>
          </a:prstGeom>
          <a:ln w="0">
            <a:noFill/>
          </a:ln>
        </p:spPr>
      </p:sp>
      <p:sp>
        <p:nvSpPr>
          <p:cNvPr id="1280" name="PlaceHolder 2"/>
          <p:cNvSpPr>
            <a:spLocks noGrp="1"/>
          </p:cNvSpPr>
          <p:nvPr>
            <p:ph type="body"/>
          </p:nvPr>
        </p:nvSpPr>
        <p:spPr>
          <a:xfrm>
            <a:off x="914400" y="4343400"/>
            <a:ext cx="5105520" cy="4346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ke pressure and the pad temperature signals are first conditioned via a signal conditioning accessory and then separately connected to two analog input channels. The channels are configured to be scanned at, say, 1 KHz. Also, the scan clock (1KHz) is shared via the real time system integration (RTSI) bus so that the counter can also receive it. To measure speed, the signals from the quadrature encoder are connected to the inputs of a counter. The counter is configured to count the number of input pulses between each edge of the shared scan clock (1KHz). The quadrature encoder produces 25 pulses per revolution. The speed of rotation can then be derived v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taneous speed in Hz = (number of quad. encoder pulses between the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n clock period / quad. encoder pulses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volution ) * freq. of the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n / 25) * 10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sure and temperature measurements are read directly off the device and scaled based on the type of signal accessor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ynchronize the measurements, both the analog and the counter measurement are configured to start simultaneously via a hardware start trigger signal. This ensures a common start time for all measurements. Also, by sharing the scan clock, all the readings are synchronized to each other with respect to time.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60640" y="700200"/>
            <a:ext cx="4536720" cy="3402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above chart shows one possible data set coming out of the ABS testing system. All three measurement are started at t</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Brakes are first applied at 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which causes the the brake pad pressure to pulsate, speed of the rotor to fall and the temperature of the disc to rise. The dotted vertical line represents one instance in time(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when all the three measurements are synchronized to each other.</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60640" y="700200"/>
            <a:ext cx="4536720" cy="3402000"/>
          </a:xfrm>
          <a:prstGeom prst="rect">
            <a:avLst/>
          </a:prstGeom>
          <a:ln w="0">
            <a:noFill/>
          </a:ln>
        </p:spPr>
      </p:sp>
      <p:sp>
        <p:nvSpPr>
          <p:cNvPr id="1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above slide shows a typical timing system of a car engine. The goal is to test the various parts of this timing system. It consists of a distributer, a shaft that rotates the distributer and four individual spark plugs (as shown above). As the shaft rotates, the distributer fires each of the spark plug at predefined angles. In the above picture, the distributer fires spark plugs 2, 4, 3, 1 in that order, each at 90 degrees angle to each other. The test system needs to make sure tha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1. The spark happens for a given minimum </a:t>
            </a:r>
            <a:r>
              <a:rPr b="1" lang="en-US" sz="1200" spc="-1" strike="noStrike">
                <a:solidFill>
                  <a:srgbClr val="000000"/>
                </a:solidFill>
                <a:latin typeface="Times New Roman"/>
              </a:rPr>
              <a:t>amount of time</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2. The spark happens in the </a:t>
            </a:r>
            <a:r>
              <a:rPr b="1" lang="en-US" sz="1200" spc="-1" strike="noStrike">
                <a:solidFill>
                  <a:srgbClr val="000000"/>
                </a:solidFill>
                <a:latin typeface="Times New Roman"/>
              </a:rPr>
              <a:t>correct order</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3. The </a:t>
            </a:r>
            <a:r>
              <a:rPr b="1" lang="en-US" sz="1200" spc="-1" strike="noStrike">
                <a:solidFill>
                  <a:srgbClr val="000000"/>
                </a:solidFill>
                <a:latin typeface="Times New Roman"/>
              </a:rPr>
              <a:t>angular position</a:t>
            </a:r>
            <a:r>
              <a:rPr b="0" lang="en-US" sz="1200" spc="-1" strike="noStrike">
                <a:solidFill>
                  <a:srgbClr val="000000"/>
                </a:solidFill>
                <a:latin typeface="Times New Roman"/>
              </a:rPr>
              <a:t> of the shaft when the spark occurs is correc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4. And the </a:t>
            </a:r>
            <a:r>
              <a:rPr b="1" lang="en-US" sz="1200" spc="-1" strike="noStrike">
                <a:solidFill>
                  <a:srgbClr val="000000"/>
                </a:solidFill>
                <a:latin typeface="Times New Roman"/>
              </a:rPr>
              <a:t>time difference</a:t>
            </a:r>
            <a:r>
              <a:rPr b="0" lang="en-US" sz="1200" spc="-1" strike="noStrike">
                <a:solidFill>
                  <a:srgbClr val="000000"/>
                </a:solidFill>
                <a:latin typeface="Times New Roman"/>
              </a:rPr>
              <a:t> between each spark remains constan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test system needs to be able to measure the items in bold above. The amount of time, angular position and time difference (items 1, 3 and 4) can each be measured using a counter. To ensure correct firing order (item 2), a digital change detection measurement needs to be made which records the entire port state whenever any of the lines in it changes state.</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6240" y="685800"/>
            <a:ext cx="4567320" cy="3425760"/>
          </a:xfrm>
          <a:prstGeom prst="rect">
            <a:avLst/>
          </a:prstGeom>
          <a:ln w="0">
            <a:noFill/>
          </a:ln>
        </p:spPr>
      </p:sp>
      <p:sp>
        <p:nvSpPr>
          <p:cNvPr id="1286" name="PlaceHolder 2"/>
          <p:cNvSpPr>
            <a:spLocks noGrp="1"/>
          </p:cNvSpPr>
          <p:nvPr>
            <p:ph type="body"/>
          </p:nvPr>
        </p:nvSpPr>
        <p:spPr>
          <a:xfrm>
            <a:off x="914400" y="4493880"/>
            <a:ext cx="5029200" cy="3965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tamping is a way of acquiring digital data on a “as needed” basis. Data and time is read only when any of the monitored digital lines changes state. The time is kept using a counter as a timer. The measurement returns data in time/data pairs. Each data pair indicates the state of the lines and the time that change occurred. You can select which digital lines to timestamp and the active edges (rising, falling or both) at which to timest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imestamping, less data is acquired overall since data points are read only when a change occurs. This can lead to less bus activity, better data throughput and a faster overall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above, both Line A and Line B can cause a timestamp. Line A causes a timestamp on both rising and falling edges. Line B causes a timestamp only on rising edges. The recorded data shows that AB were 10 at count equal to 3, 11 at count equal to 5 and 01 at count equal to 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logic analyzers use the timestamping technique to record the states of the monitored digital lines. This technique can also be applied to any digital measurement acquiring lots of data.</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60640" y="700200"/>
            <a:ext cx="4536720" cy="3402000"/>
          </a:xfrm>
          <a:prstGeom prst="rect">
            <a:avLst/>
          </a:prstGeom>
          <a:ln w="0">
            <a:noFill/>
          </a:ln>
        </p:spPr>
      </p:sp>
      <p:sp>
        <p:nvSpPr>
          <p:cNvPr id="1288" name="PlaceHolder 2"/>
          <p:cNvSpPr>
            <a:spLocks noGrp="1"/>
          </p:cNvSpPr>
          <p:nvPr>
            <p:ph type="body"/>
          </p:nvPr>
        </p:nvSpPr>
        <p:spPr>
          <a:xfrm>
            <a:off x="914400" y="4343040"/>
            <a:ext cx="5029200" cy="44226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asure the firing order, each of the spark plug firing signal is connected to a separate digital line of a PXI-6533 (32-bit high speed digital input/output) device. To track the position of the rotating shaft, a quadrature encoder connected to the shaft is wired to a counter (counter 0) of a PXI-6602 (8-channel counter device). To track the firing time and the time elapsed between each spark, another counter (counter 1) is used as a timer with its source connected to an internal 80 MHz time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533 and the PXI-6602 are used together to perform timestamping of digital data. The PXI-6533 is configured to latch spark plug data whenever any of its input lines changes state. Also, a “change detected” signal is passed from the PXI-6533 to the counters on the PXI-6602 device. Whenever the PXI-6533 detects a change in any of its input lines state, it produces a pulse on its “change detected” line which causes both the counters to latch (store) their value onto their corresponding software buf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ings need are required to synchronize the digital and counter measurements. First, both the devices share a common start trigger signal to start the digital and counter measurements at the same time (see above). Second, both the devices share a common signal (change detected) which causes them to store their current values into their corresponding software bu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60640" y="698400"/>
            <a:ext cx="4536720" cy="3402000"/>
          </a:xfrm>
          <a:prstGeom prst="rect">
            <a:avLst/>
          </a:prstGeom>
          <a:ln w="0">
            <a:noFill/>
          </a:ln>
        </p:spPr>
      </p:sp>
      <p:sp>
        <p:nvSpPr>
          <p:cNvPr id="129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table shows a possible data set for the car engine timing test. The first column shows which spark plugs are fired (‘1’ indicate spark plug is on, ‘0’ indicates spark plug is off). Column two shows actual encoder data read by the counter. It assumes that there are 1,000 encoder counts per revolution, so an increment of 250 indicates a 90 degree (360 degrees * 250/1000) revolution. Column three shows the same encoder data transformed to degrees (0 through 360). Column four shows the relative time in milliseconds between each of the spark plug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ld data shows a possible problem with the timing system. It indicates that spark plug 3 was fired 2.05 ms after the previous firing instead of after 1.05 ms. In addition, the shaft position was at 90 degrees instead of being at 0 degrees when this happen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6240" y="687240"/>
            <a:ext cx="4567320" cy="3426120"/>
          </a:xfrm>
          <a:prstGeom prst="rect">
            <a:avLst/>
          </a:prstGeom>
          <a:ln w="0">
            <a:noFill/>
          </a:ln>
        </p:spPr>
      </p:sp>
      <p:sp>
        <p:nvSpPr>
          <p:cNvPr id="12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lobal Positioning System (GPS) is a constellation of 24 satellites and a ground control system operated by the US Air Force. GPS provides precise position and time information throughout the world with very high accu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6240" y="687240"/>
            <a:ext cx="4567320" cy="342612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G stands for Inter Range Instrumentatio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C – a time system adopted by many countries in 1972. UTC is based on the weighted combination of atomic clocks located around the world. UTC occasionally changes by the addition of leap second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60640" y="700200"/>
            <a:ext cx="4536720" cy="3402000"/>
          </a:xfrm>
          <a:prstGeom prst="rect">
            <a:avLst/>
          </a:prstGeom>
          <a:ln w="0">
            <a:noFill/>
          </a:ln>
        </p:spPr>
      </p:sp>
      <p:sp>
        <p:nvSpPr>
          <p:cNvPr id="1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G-B time format consists of frames that repeat at exactly one second intervals. Each frame has detailed time information in terms of days, hours, minutes and seconds since the beginning of the current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ultiple IRIG-B standards, but two of them stand out – Amplitude modulated analog IRIG-B and pulse-width modulated DC Level Shift (DCLS) IRIG-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S time format consists of pulses that repeat at exactly one second intervals. This format does not have the detailed time information which the IRIG-B format has. However, most GPS receivers have a serial port through which you can read this detailed time inform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60640" y="698400"/>
            <a:ext cx="4536720" cy="3402000"/>
          </a:xfrm>
          <a:prstGeom prst="rect">
            <a:avLst/>
          </a:prstGeom>
          <a:ln w="0">
            <a:noFill/>
          </a:ln>
        </p:spPr>
      </p:sp>
      <p:sp>
        <p:nvSpPr>
          <p:cNvPr id="119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half of the figure above shows that the falling edge of Gate is aligned with an edge of Source. You see that Gate duration is not equal to an integer number of cycles of Source. Gate goes high shortly before a rising edge on Source. Based on when Gate goes high and low with respect to Source as shown in the top half of the diagram, the counter returns a count of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half shows Gate of the same width, and Source of the same frequency. The only difference in the bottom half is that Gate goes high shortly after a rising edge on Source. In this case the count returned is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 occurs asynchronously to Source. That is, Gate can change independently of Source. How many counts are returned by the counter depends on when Gate changes with respect to Source. Because you have no control over when Gate changes with respect to Source, you must allow for the count to vary by one. This variation is referred to as quantization error. If the Gate duration lies between </a:t>
            </a:r>
            <a:r>
              <a:rPr b="0" i="1" lang="en-US" sz="1200" spc="-1" strike="noStrike">
                <a:solidFill>
                  <a:srgbClr val="000000"/>
                </a:solidFill>
                <a:latin typeface="Times New Roman"/>
              </a:rPr>
              <a:t>x</a:t>
            </a:r>
            <a:r>
              <a:rPr b="0" lang="en-US" sz="1200" spc="-1" strike="noStrike">
                <a:solidFill>
                  <a:srgbClr val="000000"/>
                </a:solidFill>
                <a:latin typeface="Times New Roman"/>
              </a:rPr>
              <a:t> and </a:t>
            </a:r>
            <a:r>
              <a:rPr b="0" i="1" lang="en-US" sz="1200" spc="-1" strike="noStrike">
                <a:solidFill>
                  <a:srgbClr val="000000"/>
                </a:solidFill>
                <a:latin typeface="Times New Roman"/>
              </a:rPr>
              <a:t>x</a:t>
            </a:r>
            <a:r>
              <a:rPr b="0" lang="en-US" sz="1200" spc="-1" strike="noStrike">
                <a:solidFill>
                  <a:srgbClr val="000000"/>
                </a:solidFill>
                <a:latin typeface="Times New Roman"/>
              </a:rPr>
              <a:t>+1 cycles of Source, the count returned will be </a:t>
            </a:r>
            <a:r>
              <a:rPr b="0" i="1" lang="en-US" sz="1200" spc="-1" strike="noStrike">
                <a:solidFill>
                  <a:srgbClr val="000000"/>
                </a:solidFill>
                <a:latin typeface="Times New Roman"/>
              </a:rPr>
              <a:t>x</a:t>
            </a:r>
            <a:r>
              <a:rPr b="0" lang="en-US" sz="1200" spc="-1" strike="noStrike">
                <a:solidFill>
                  <a:srgbClr val="000000"/>
                </a:solidFill>
                <a:latin typeface="Times New Roman"/>
              </a:rPr>
              <a:t> or </a:t>
            </a:r>
            <a:r>
              <a:rPr b="0" i="1" lang="en-US" sz="1200" spc="-1" strike="noStrike">
                <a:solidFill>
                  <a:srgbClr val="000000"/>
                </a:solidFill>
                <a:latin typeface="Times New Roman"/>
              </a:rPr>
              <a:t>x</a:t>
            </a:r>
            <a:r>
              <a:rPr b="0" lang="en-US" sz="1200" spc="-1" strike="noStrike">
                <a:solidFill>
                  <a:srgbClr val="000000"/>
                </a:solidFill>
                <a:latin typeface="Times New Roman"/>
              </a:rPr>
              <a:t>-1. In the example above, the Gate duration is between 5 and 6 cycles of Source. The count returned is 5 or 4.</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6240" y="687240"/>
            <a:ext cx="4567320" cy="3426120"/>
          </a:xfrm>
          <a:prstGeom prst="rect">
            <a:avLst/>
          </a:prstGeom>
          <a:ln w="0">
            <a:noFill/>
          </a:ln>
        </p:spPr>
      </p:sp>
      <p:sp>
        <p:nvSpPr>
          <p:cNvPr id="12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GPS receivers range from about $2000 for low-end devices having microsecond time accuracy to thousands of dollars for sophisticated, high-end, flexible, nanosecond time accuracy devices. You can buy a rack-mountable, GPS receiver with 100 ns accuracy for about $3000. See the reference section for links to GPS receiver vendors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60640" y="700200"/>
            <a:ext cx="4536720" cy="3402000"/>
          </a:xfrm>
          <a:prstGeom prst="rect">
            <a:avLst/>
          </a:prstGeom>
          <a:ln w="0">
            <a:noFill/>
          </a:ln>
        </p:spPr>
      </p:sp>
      <p:sp>
        <p:nvSpPr>
          <p:cNvPr id="13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you want to synchronize measurements in more than one location. These measurement systems can be located at opposite ends of a building, separate buildings in a city, different cities miles away or continents thousands of miles apart. You can use your computer clock when you need timing accuracy to within a second. For higher accuracy, up to 40 ns, you need to synchronize your measurements directly to a GPS satellite at each remote data-acquisition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let’s say we are trying to track how an earthquake travels from San Francisco to Los Angeles. You can set up a distributed measurement system as shown above. At each location, set up a PXI-6608 (8-channel counter device with very accurate oscillator) device connected to a GPS receiver. The PXI-6608 has a real-time clock which synchronizes itself to an IRIG-B or PPS signal generated by the GPS receiver. The GPS receiver also locks itself to one or more satellites. Two different GPS receivers can be within 40 ns relative time to each other once locked to satellites. So, once the PXI-6608 is synchronized to the satellite time, you can use it as a master clock to timestamp any data recorded at that site. To do that, you can use the hardware signal indicating the start of the measurement at each location to latch the value of the real-time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distributed synchronization in a wide variety of applications including monitoring power distribution, distributed control, traffic monitoring, geological, environmental research, and mor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60640" y="698400"/>
            <a:ext cx="4536720" cy="3402000"/>
          </a:xfrm>
          <a:prstGeom prst="rect">
            <a:avLst/>
          </a:prstGeom>
          <a:ln w="0">
            <a:noFill/>
          </a:ln>
        </p:spPr>
      </p:sp>
      <p:sp>
        <p:nvSpPr>
          <p:cNvPr id="119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Gate is equal to an integer number of cycles of Source. In the figure above, Gate is equal to 4 cycles of Source. Thus, our measurement should return a count of 4. When an edge on Gate occurs at the same time as an edge on Source, it is uncertain whether the counter will detect the Gate edge at that instance, or until the following edge on Source. Properties of the circuit and laws of probability determine on which edge the counter would detect the change in Gate. Because a Gate edge occurs the same time as the Source edge twice, let’s consider all possible cases. In the first case, the counter ignores both Source edges that occur at the same time as edge on Gate and returns a count of 3. In the second case, it ignores the Source edge at the beginning of the measurement and catches the one at the end of the measurement. The count returned is 4. The same count would be returned if it counts the edge at the beginning and ignores the edge at the end. In the last case, it sees each Source edge while the Gate is high and returns a count of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you expect a count of 4 but may receive a count of 3 or 5. Thus, you have a quantization error of +/- 1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ten, the quantization error will result because the Gate is NOT equal to an integer number of cycles of Source and occurs asynchronously to Source (as shown in previous slide). The situation described in the diagram above has low probability of occurre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62080" y="698400"/>
            <a:ext cx="4535280" cy="3402000"/>
          </a:xfrm>
          <a:prstGeom prst="rect">
            <a:avLst/>
          </a:prstGeom>
          <a:ln w="0">
            <a:noFill/>
          </a:ln>
        </p:spPr>
      </p:sp>
      <p:sp>
        <p:nvSpPr>
          <p:cNvPr id="119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 describes how well the actual frequency of the clock matches the specified frequency. Clock accuracy is described in parts per million (ppm). An accuracy of 5 ppm indicates that the mean frequency of the clock may be off by 5 Hz for every 1 MHz of its specified value. To find the error in Hz from a specification given as </a:t>
            </a:r>
            <a:r>
              <a:rPr b="0" i="1" lang="en-US" sz="1200" spc="-1" strike="noStrike">
                <a:solidFill>
                  <a:srgbClr val="000000"/>
                </a:solidFill>
                <a:latin typeface="Times New Roman"/>
              </a:rPr>
              <a:t>x</a:t>
            </a:r>
            <a:r>
              <a:rPr b="0" lang="en-US" sz="1200" spc="-1" strike="noStrike">
                <a:solidFill>
                  <a:srgbClr val="000000"/>
                </a:solidFill>
                <a:latin typeface="Times New Roman"/>
              </a:rPr>
              <a:t> ppm, multiply the frequency of the clock by </a:t>
            </a:r>
            <a:r>
              <a:rPr b="0" i="1" lang="en-US" sz="1200" spc="-1" strike="noStrike">
                <a:solidFill>
                  <a:srgbClr val="000000"/>
                </a:solidFill>
                <a:latin typeface="Times New Roman"/>
              </a:rPr>
              <a:t>x</a:t>
            </a:r>
            <a:r>
              <a:rPr b="0" lang="en-US" sz="1200" spc="-1" strike="noStrike">
                <a:solidFill>
                  <a:srgbClr val="000000"/>
                </a:solidFill>
                <a:latin typeface="Times New Roman"/>
              </a:rPr>
              <a:t> * 10</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A 1 MHz clock with an accuracy of 5 ppm may have a frequency error of up to 5 Hz. A 2 MHz clock with the same accuracy may have a frequency error of up to 1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ock is provided by an oscillator. This clock may be used to provide secondary clocks. These secondary clocks still are related to the oscillator. The ppm error of the secondary clock remains the same as that of the primary clock (or oscillator). For example, if you take a 5 ppm 1 MHz clock provided by an oscillator and derive a 100 kHz clock from this 1 MHz clock, the 100 kHz clock will also have a 5 ppm erro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62080" y="698400"/>
            <a:ext cx="4535280" cy="3402000"/>
          </a:xfrm>
          <a:prstGeom prst="rect">
            <a:avLst/>
          </a:prstGeom>
          <a:ln w="0">
            <a:noFill/>
          </a:ln>
        </p:spPr>
      </p:sp>
      <p:sp>
        <p:nvSpPr>
          <p:cNvPr id="120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ty describes how well the clock frequency resists fluctuations. Factors that can cause the frequency to fluctuate include variations in temperature, time (aging), supply voltage, shock, vibration, and capacitive load that the clock must drive. Temperature is often the dominant factor that affects crystal oscillator stability. Some oscillators are designed to be less susceptible to temperature – temperature compensated crystal oscillators (TCXOs) and oven controlled crystal oscillators (OCXOs). OCXOs offer the best temperature stability in crystal oscillators. Regular crystal oscillators give stabilities with temperature on the order of tens of ppm. TCXOs offer stability with temperature better than 10 ppm. OCXOs can offer stability with temperature better than 10 ppb! Aging is the dominant factor that affects crystal oscillator stability in OCX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rystal oscillators, the stability is usually provided as a ppm figure that includes all variables. For OCXOs, the stability can be broken down with respect to the different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XOs are the most stable form of crystal oscillators. To achieve better stability, you must use atomic frequency standards such as a Rubidium frequency stand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21720" y="6261120"/>
            <a:ext cx="83664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 descr=""/>
            <p:cNvPicPr/>
            <p:nvPr/>
          </p:nvPicPr>
          <p:blipFill>
            <a:blip r:embed="rId2"/>
            <a:stretch/>
          </p:blipFill>
          <p:spPr>
            <a:xfrm>
              <a:off x="0" y="0"/>
              <a:ext cx="9144000" cy="6858000"/>
            </a:xfrm>
            <a:prstGeom prst="rect">
              <a:avLst/>
            </a:prstGeom>
            <a:ln w="0">
              <a:noFill/>
            </a:ln>
          </p:spPr>
        </p:pic>
        <p:sp>
          <p:nvSpPr>
            <p:cNvPr id="45" name=""/>
            <p:cNvSpPr/>
            <p:nvPr/>
          </p:nvSpPr>
          <p:spPr>
            <a:xfrm>
              <a:off x="621720" y="6261120"/>
              <a:ext cx="83664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361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derstanding Timing, </a:t>
            </a:r>
            <a:br>
              <a:rPr sz="3600"/>
            </a:br>
            <a:r>
              <a:rPr b="1" lang="en-US" sz="3600" spc="-1" strike="noStrike">
                <a:solidFill>
                  <a:srgbClr val="ffff00"/>
                </a:solidFill>
                <a:latin typeface="Arial"/>
              </a:rPr>
              <a:t>Triggering and Synchronization</a:t>
            </a:r>
            <a:endParaRPr b="1" lang="en-US" sz="3600" spc="-1" strike="noStrike">
              <a:solidFill>
                <a:srgbClr val="ffff66"/>
              </a:solidFill>
              <a:latin typeface="Arial"/>
            </a:endParaRPr>
          </a:p>
        </p:txBody>
      </p:sp>
      <p:sp>
        <p:nvSpPr>
          <p:cNvPr id="96" name="PlaceHolder 2"/>
          <p:cNvSpPr>
            <a:spLocks noGrp="1"/>
          </p:cNvSpPr>
          <p:nvPr>
            <p:ph type="subTitle"/>
          </p:nvPr>
        </p:nvSpPr>
        <p:spPr>
          <a:xfrm>
            <a:off x="1371600" y="3885840"/>
            <a:ext cx="6477120" cy="297180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qar Mahmoo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a.m.-1:15 p.m., 1:45-4:45 p.m.</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68160" y="45684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accurate, Unstable 10 MHz Clock</a:t>
            </a:r>
            <a:endParaRPr b="1" lang="en-US" sz="3600" spc="-1" strike="noStrike">
              <a:solidFill>
                <a:srgbClr val="ffff66"/>
              </a:solidFill>
              <a:latin typeface="Arial"/>
            </a:endParaRPr>
          </a:p>
        </p:txBody>
      </p:sp>
      <p:sp>
        <p:nvSpPr>
          <p:cNvPr id="215" name=""/>
          <p:cNvSpPr/>
          <p:nvPr/>
        </p:nvSpPr>
        <p:spPr>
          <a:xfrm>
            <a:off x="692280" y="209088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447920" y="254160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47920" y="376092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523880" y="2760840"/>
            <a:ext cx="5524560" cy="477720"/>
          </a:xfrm>
          <a:custGeom>
            <a:avLst/>
            <a:gdLst/>
            <a:ahLst/>
            <a:rect l="l" t="t" r="r" b="b"/>
            <a:pathLst>
              <a:path w="3480" h="301">
                <a:moveTo>
                  <a:pt x="0" y="102"/>
                </a:moveTo>
                <a:lnTo>
                  <a:pt x="50" y="108"/>
                </a:lnTo>
                <a:lnTo>
                  <a:pt x="61" y="86"/>
                </a:lnTo>
                <a:lnTo>
                  <a:pt x="83" y="65"/>
                </a:lnTo>
                <a:lnTo>
                  <a:pt x="93" y="43"/>
                </a:lnTo>
                <a:lnTo>
                  <a:pt x="125" y="33"/>
                </a:lnTo>
                <a:lnTo>
                  <a:pt x="147" y="22"/>
                </a:lnTo>
                <a:lnTo>
                  <a:pt x="179" y="22"/>
                </a:lnTo>
                <a:lnTo>
                  <a:pt x="200" y="0"/>
                </a:lnTo>
                <a:lnTo>
                  <a:pt x="222" y="0"/>
                </a:lnTo>
                <a:lnTo>
                  <a:pt x="254" y="0"/>
                </a:lnTo>
                <a:lnTo>
                  <a:pt x="286" y="0"/>
                </a:lnTo>
                <a:lnTo>
                  <a:pt x="318" y="22"/>
                </a:lnTo>
                <a:lnTo>
                  <a:pt x="340" y="43"/>
                </a:lnTo>
                <a:lnTo>
                  <a:pt x="350" y="75"/>
                </a:lnTo>
                <a:lnTo>
                  <a:pt x="372" y="97"/>
                </a:lnTo>
                <a:lnTo>
                  <a:pt x="404" y="129"/>
                </a:lnTo>
                <a:lnTo>
                  <a:pt x="436" y="161"/>
                </a:lnTo>
                <a:lnTo>
                  <a:pt x="457" y="183"/>
                </a:lnTo>
                <a:lnTo>
                  <a:pt x="479" y="215"/>
                </a:lnTo>
                <a:lnTo>
                  <a:pt x="511" y="247"/>
                </a:lnTo>
                <a:lnTo>
                  <a:pt x="543" y="279"/>
                </a:lnTo>
                <a:lnTo>
                  <a:pt x="575" y="279"/>
                </a:lnTo>
                <a:lnTo>
                  <a:pt x="640" y="290"/>
                </a:lnTo>
                <a:lnTo>
                  <a:pt x="725" y="300"/>
                </a:lnTo>
                <a:lnTo>
                  <a:pt x="747" y="300"/>
                </a:lnTo>
                <a:lnTo>
                  <a:pt x="779" y="268"/>
                </a:lnTo>
                <a:lnTo>
                  <a:pt x="800" y="236"/>
                </a:lnTo>
                <a:lnTo>
                  <a:pt x="822" y="215"/>
                </a:lnTo>
                <a:lnTo>
                  <a:pt x="832" y="193"/>
                </a:lnTo>
                <a:lnTo>
                  <a:pt x="854" y="161"/>
                </a:lnTo>
                <a:lnTo>
                  <a:pt x="886" y="140"/>
                </a:lnTo>
                <a:lnTo>
                  <a:pt x="907" y="118"/>
                </a:lnTo>
                <a:lnTo>
                  <a:pt x="929" y="118"/>
                </a:lnTo>
                <a:lnTo>
                  <a:pt x="961" y="97"/>
                </a:lnTo>
                <a:lnTo>
                  <a:pt x="993" y="75"/>
                </a:lnTo>
                <a:lnTo>
                  <a:pt x="1015" y="75"/>
                </a:lnTo>
                <a:lnTo>
                  <a:pt x="1047" y="54"/>
                </a:lnTo>
                <a:lnTo>
                  <a:pt x="1122" y="33"/>
                </a:lnTo>
                <a:lnTo>
                  <a:pt x="1154" y="33"/>
                </a:lnTo>
                <a:lnTo>
                  <a:pt x="1186" y="22"/>
                </a:lnTo>
                <a:lnTo>
                  <a:pt x="1218" y="22"/>
                </a:lnTo>
                <a:lnTo>
                  <a:pt x="1250" y="33"/>
                </a:lnTo>
                <a:lnTo>
                  <a:pt x="1272" y="43"/>
                </a:lnTo>
                <a:lnTo>
                  <a:pt x="1293" y="65"/>
                </a:lnTo>
                <a:lnTo>
                  <a:pt x="1315" y="86"/>
                </a:lnTo>
                <a:lnTo>
                  <a:pt x="1325" y="108"/>
                </a:lnTo>
                <a:lnTo>
                  <a:pt x="1325" y="140"/>
                </a:lnTo>
                <a:lnTo>
                  <a:pt x="1347" y="172"/>
                </a:lnTo>
                <a:lnTo>
                  <a:pt x="1379" y="215"/>
                </a:lnTo>
                <a:lnTo>
                  <a:pt x="1411" y="247"/>
                </a:lnTo>
                <a:lnTo>
                  <a:pt x="1518" y="258"/>
                </a:lnTo>
                <a:lnTo>
                  <a:pt x="1582" y="268"/>
                </a:lnTo>
                <a:lnTo>
                  <a:pt x="1647" y="268"/>
                </a:lnTo>
                <a:lnTo>
                  <a:pt x="1732" y="268"/>
                </a:lnTo>
                <a:lnTo>
                  <a:pt x="1754" y="268"/>
                </a:lnTo>
                <a:lnTo>
                  <a:pt x="1786" y="247"/>
                </a:lnTo>
                <a:lnTo>
                  <a:pt x="1818" y="225"/>
                </a:lnTo>
                <a:lnTo>
                  <a:pt x="1839" y="193"/>
                </a:lnTo>
                <a:lnTo>
                  <a:pt x="1861" y="161"/>
                </a:lnTo>
                <a:lnTo>
                  <a:pt x="1893" y="150"/>
                </a:lnTo>
                <a:lnTo>
                  <a:pt x="1914" y="118"/>
                </a:lnTo>
                <a:lnTo>
                  <a:pt x="1947" y="86"/>
                </a:lnTo>
                <a:lnTo>
                  <a:pt x="1989" y="65"/>
                </a:lnTo>
                <a:lnTo>
                  <a:pt x="2000" y="43"/>
                </a:lnTo>
                <a:lnTo>
                  <a:pt x="2075" y="33"/>
                </a:lnTo>
                <a:lnTo>
                  <a:pt x="2097" y="33"/>
                </a:lnTo>
                <a:lnTo>
                  <a:pt x="2129" y="22"/>
                </a:lnTo>
                <a:lnTo>
                  <a:pt x="2161" y="22"/>
                </a:lnTo>
                <a:lnTo>
                  <a:pt x="2193" y="22"/>
                </a:lnTo>
                <a:lnTo>
                  <a:pt x="2279" y="22"/>
                </a:lnTo>
                <a:lnTo>
                  <a:pt x="2343" y="22"/>
                </a:lnTo>
                <a:lnTo>
                  <a:pt x="2375" y="11"/>
                </a:lnTo>
                <a:lnTo>
                  <a:pt x="2397" y="11"/>
                </a:lnTo>
                <a:lnTo>
                  <a:pt x="2429" y="0"/>
                </a:lnTo>
                <a:lnTo>
                  <a:pt x="2429" y="22"/>
                </a:lnTo>
                <a:lnTo>
                  <a:pt x="2461" y="54"/>
                </a:lnTo>
                <a:lnTo>
                  <a:pt x="2493" y="65"/>
                </a:lnTo>
                <a:lnTo>
                  <a:pt x="2536" y="86"/>
                </a:lnTo>
                <a:lnTo>
                  <a:pt x="2568" y="108"/>
                </a:lnTo>
                <a:lnTo>
                  <a:pt x="2600" y="129"/>
                </a:lnTo>
                <a:lnTo>
                  <a:pt x="2632" y="150"/>
                </a:lnTo>
                <a:lnTo>
                  <a:pt x="2643" y="172"/>
                </a:lnTo>
                <a:lnTo>
                  <a:pt x="2718" y="193"/>
                </a:lnTo>
                <a:lnTo>
                  <a:pt x="2761" y="204"/>
                </a:lnTo>
                <a:lnTo>
                  <a:pt x="2793" y="215"/>
                </a:lnTo>
                <a:lnTo>
                  <a:pt x="2836" y="215"/>
                </a:lnTo>
                <a:lnTo>
                  <a:pt x="2921" y="236"/>
                </a:lnTo>
                <a:lnTo>
                  <a:pt x="2986" y="236"/>
                </a:lnTo>
                <a:lnTo>
                  <a:pt x="3018" y="236"/>
                </a:lnTo>
                <a:lnTo>
                  <a:pt x="3050" y="225"/>
                </a:lnTo>
                <a:lnTo>
                  <a:pt x="3093" y="215"/>
                </a:lnTo>
                <a:lnTo>
                  <a:pt x="3179" y="183"/>
                </a:lnTo>
                <a:lnTo>
                  <a:pt x="3211" y="172"/>
                </a:lnTo>
                <a:lnTo>
                  <a:pt x="3243" y="161"/>
                </a:lnTo>
                <a:lnTo>
                  <a:pt x="3275" y="140"/>
                </a:lnTo>
                <a:lnTo>
                  <a:pt x="3318" y="129"/>
                </a:lnTo>
                <a:lnTo>
                  <a:pt x="3361" y="86"/>
                </a:lnTo>
                <a:lnTo>
                  <a:pt x="3404" y="75"/>
                </a:lnTo>
                <a:lnTo>
                  <a:pt x="3436" y="54"/>
                </a:lnTo>
                <a:lnTo>
                  <a:pt x="3479" y="43"/>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051920" y="222084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20" name=""/>
          <p:cNvSpPr/>
          <p:nvPr/>
        </p:nvSpPr>
        <p:spPr>
          <a:xfrm>
            <a:off x="6689880" y="389736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21" name=""/>
          <p:cNvSpPr/>
          <p:nvPr/>
        </p:nvSpPr>
        <p:spPr>
          <a:xfrm>
            <a:off x="669960" y="336384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01640" y="5234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urate , Unstable 10 MHz Clock</a:t>
            </a:r>
            <a:endParaRPr b="1" lang="en-US" sz="3600" spc="-1" strike="noStrike">
              <a:solidFill>
                <a:srgbClr val="ffff66"/>
              </a:solidFill>
              <a:latin typeface="Arial"/>
            </a:endParaRPr>
          </a:p>
        </p:txBody>
      </p:sp>
      <p:sp>
        <p:nvSpPr>
          <p:cNvPr id="223" name=""/>
          <p:cNvSpPr/>
          <p:nvPr/>
        </p:nvSpPr>
        <p:spPr>
          <a:xfrm>
            <a:off x="692280" y="205596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47920" y="250668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447920" y="372600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47920" y="3487680"/>
            <a:ext cx="5524560" cy="477720"/>
          </a:xfrm>
          <a:custGeom>
            <a:avLst/>
            <a:gdLst/>
            <a:ahLst/>
            <a:rect l="l" t="t" r="r" b="b"/>
            <a:pathLst>
              <a:path w="3480" h="301">
                <a:moveTo>
                  <a:pt x="0" y="102"/>
                </a:moveTo>
                <a:lnTo>
                  <a:pt x="50" y="108"/>
                </a:lnTo>
                <a:lnTo>
                  <a:pt x="61" y="86"/>
                </a:lnTo>
                <a:lnTo>
                  <a:pt x="83" y="65"/>
                </a:lnTo>
                <a:lnTo>
                  <a:pt x="93" y="43"/>
                </a:lnTo>
                <a:lnTo>
                  <a:pt x="125" y="33"/>
                </a:lnTo>
                <a:lnTo>
                  <a:pt x="147" y="22"/>
                </a:lnTo>
                <a:lnTo>
                  <a:pt x="179" y="22"/>
                </a:lnTo>
                <a:lnTo>
                  <a:pt x="200" y="0"/>
                </a:lnTo>
                <a:lnTo>
                  <a:pt x="222" y="0"/>
                </a:lnTo>
                <a:lnTo>
                  <a:pt x="254" y="0"/>
                </a:lnTo>
                <a:lnTo>
                  <a:pt x="286" y="0"/>
                </a:lnTo>
                <a:lnTo>
                  <a:pt x="318" y="22"/>
                </a:lnTo>
                <a:lnTo>
                  <a:pt x="340" y="43"/>
                </a:lnTo>
                <a:lnTo>
                  <a:pt x="350" y="75"/>
                </a:lnTo>
                <a:lnTo>
                  <a:pt x="372" y="97"/>
                </a:lnTo>
                <a:lnTo>
                  <a:pt x="404" y="129"/>
                </a:lnTo>
                <a:lnTo>
                  <a:pt x="436" y="161"/>
                </a:lnTo>
                <a:lnTo>
                  <a:pt x="457" y="183"/>
                </a:lnTo>
                <a:lnTo>
                  <a:pt x="479" y="215"/>
                </a:lnTo>
                <a:lnTo>
                  <a:pt x="511" y="247"/>
                </a:lnTo>
                <a:lnTo>
                  <a:pt x="543" y="279"/>
                </a:lnTo>
                <a:lnTo>
                  <a:pt x="575" y="279"/>
                </a:lnTo>
                <a:lnTo>
                  <a:pt x="640" y="290"/>
                </a:lnTo>
                <a:lnTo>
                  <a:pt x="725" y="300"/>
                </a:lnTo>
                <a:lnTo>
                  <a:pt x="747" y="300"/>
                </a:lnTo>
                <a:lnTo>
                  <a:pt x="779" y="268"/>
                </a:lnTo>
                <a:lnTo>
                  <a:pt x="800" y="236"/>
                </a:lnTo>
                <a:lnTo>
                  <a:pt x="822" y="215"/>
                </a:lnTo>
                <a:lnTo>
                  <a:pt x="832" y="193"/>
                </a:lnTo>
                <a:lnTo>
                  <a:pt x="854" y="161"/>
                </a:lnTo>
                <a:lnTo>
                  <a:pt x="886" y="140"/>
                </a:lnTo>
                <a:lnTo>
                  <a:pt x="907" y="118"/>
                </a:lnTo>
                <a:lnTo>
                  <a:pt x="929" y="118"/>
                </a:lnTo>
                <a:lnTo>
                  <a:pt x="961" y="97"/>
                </a:lnTo>
                <a:lnTo>
                  <a:pt x="993" y="75"/>
                </a:lnTo>
                <a:lnTo>
                  <a:pt x="1015" y="75"/>
                </a:lnTo>
                <a:lnTo>
                  <a:pt x="1047" y="54"/>
                </a:lnTo>
                <a:lnTo>
                  <a:pt x="1122" y="33"/>
                </a:lnTo>
                <a:lnTo>
                  <a:pt x="1154" y="33"/>
                </a:lnTo>
                <a:lnTo>
                  <a:pt x="1186" y="22"/>
                </a:lnTo>
                <a:lnTo>
                  <a:pt x="1218" y="22"/>
                </a:lnTo>
                <a:lnTo>
                  <a:pt x="1250" y="33"/>
                </a:lnTo>
                <a:lnTo>
                  <a:pt x="1272" y="43"/>
                </a:lnTo>
                <a:lnTo>
                  <a:pt x="1293" y="65"/>
                </a:lnTo>
                <a:lnTo>
                  <a:pt x="1315" y="86"/>
                </a:lnTo>
                <a:lnTo>
                  <a:pt x="1325" y="108"/>
                </a:lnTo>
                <a:lnTo>
                  <a:pt x="1325" y="140"/>
                </a:lnTo>
                <a:lnTo>
                  <a:pt x="1347" y="172"/>
                </a:lnTo>
                <a:lnTo>
                  <a:pt x="1379" y="215"/>
                </a:lnTo>
                <a:lnTo>
                  <a:pt x="1411" y="247"/>
                </a:lnTo>
                <a:lnTo>
                  <a:pt x="1518" y="258"/>
                </a:lnTo>
                <a:lnTo>
                  <a:pt x="1582" y="268"/>
                </a:lnTo>
                <a:lnTo>
                  <a:pt x="1647" y="268"/>
                </a:lnTo>
                <a:lnTo>
                  <a:pt x="1732" y="268"/>
                </a:lnTo>
                <a:lnTo>
                  <a:pt x="1754" y="268"/>
                </a:lnTo>
                <a:lnTo>
                  <a:pt x="1786" y="247"/>
                </a:lnTo>
                <a:lnTo>
                  <a:pt x="1818" y="225"/>
                </a:lnTo>
                <a:lnTo>
                  <a:pt x="1839" y="193"/>
                </a:lnTo>
                <a:lnTo>
                  <a:pt x="1861" y="161"/>
                </a:lnTo>
                <a:lnTo>
                  <a:pt x="1893" y="150"/>
                </a:lnTo>
                <a:lnTo>
                  <a:pt x="1914" y="118"/>
                </a:lnTo>
                <a:lnTo>
                  <a:pt x="1947" y="86"/>
                </a:lnTo>
                <a:lnTo>
                  <a:pt x="1989" y="65"/>
                </a:lnTo>
                <a:lnTo>
                  <a:pt x="2000" y="43"/>
                </a:lnTo>
                <a:lnTo>
                  <a:pt x="2075" y="33"/>
                </a:lnTo>
                <a:lnTo>
                  <a:pt x="2097" y="33"/>
                </a:lnTo>
                <a:lnTo>
                  <a:pt x="2129" y="22"/>
                </a:lnTo>
                <a:lnTo>
                  <a:pt x="2161" y="22"/>
                </a:lnTo>
                <a:lnTo>
                  <a:pt x="2193" y="22"/>
                </a:lnTo>
                <a:lnTo>
                  <a:pt x="2279" y="22"/>
                </a:lnTo>
                <a:lnTo>
                  <a:pt x="2343" y="22"/>
                </a:lnTo>
                <a:lnTo>
                  <a:pt x="2375" y="11"/>
                </a:lnTo>
                <a:lnTo>
                  <a:pt x="2397" y="11"/>
                </a:lnTo>
                <a:lnTo>
                  <a:pt x="2429" y="0"/>
                </a:lnTo>
                <a:lnTo>
                  <a:pt x="2429" y="22"/>
                </a:lnTo>
                <a:lnTo>
                  <a:pt x="2461" y="54"/>
                </a:lnTo>
                <a:lnTo>
                  <a:pt x="2493" y="65"/>
                </a:lnTo>
                <a:lnTo>
                  <a:pt x="2536" y="86"/>
                </a:lnTo>
                <a:lnTo>
                  <a:pt x="2568" y="108"/>
                </a:lnTo>
                <a:lnTo>
                  <a:pt x="2600" y="129"/>
                </a:lnTo>
                <a:lnTo>
                  <a:pt x="2632" y="150"/>
                </a:lnTo>
                <a:lnTo>
                  <a:pt x="2643" y="172"/>
                </a:lnTo>
                <a:lnTo>
                  <a:pt x="2718" y="193"/>
                </a:lnTo>
                <a:lnTo>
                  <a:pt x="2761" y="204"/>
                </a:lnTo>
                <a:lnTo>
                  <a:pt x="2793" y="215"/>
                </a:lnTo>
                <a:lnTo>
                  <a:pt x="2836" y="215"/>
                </a:lnTo>
                <a:lnTo>
                  <a:pt x="2921" y="236"/>
                </a:lnTo>
                <a:lnTo>
                  <a:pt x="2986" y="236"/>
                </a:lnTo>
                <a:lnTo>
                  <a:pt x="3018" y="236"/>
                </a:lnTo>
                <a:lnTo>
                  <a:pt x="3050" y="225"/>
                </a:lnTo>
                <a:lnTo>
                  <a:pt x="3093" y="215"/>
                </a:lnTo>
                <a:lnTo>
                  <a:pt x="3179" y="183"/>
                </a:lnTo>
                <a:lnTo>
                  <a:pt x="3211" y="172"/>
                </a:lnTo>
                <a:lnTo>
                  <a:pt x="3243" y="161"/>
                </a:lnTo>
                <a:lnTo>
                  <a:pt x="3275" y="140"/>
                </a:lnTo>
                <a:lnTo>
                  <a:pt x="3318" y="129"/>
                </a:lnTo>
                <a:lnTo>
                  <a:pt x="3361" y="86"/>
                </a:lnTo>
                <a:lnTo>
                  <a:pt x="3404" y="75"/>
                </a:lnTo>
                <a:lnTo>
                  <a:pt x="3436" y="54"/>
                </a:lnTo>
                <a:lnTo>
                  <a:pt x="3479" y="43"/>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051920" y="218592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28" name=""/>
          <p:cNvSpPr/>
          <p:nvPr/>
        </p:nvSpPr>
        <p:spPr>
          <a:xfrm>
            <a:off x="6689880" y="386244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29" name=""/>
          <p:cNvSpPr/>
          <p:nvPr/>
        </p:nvSpPr>
        <p:spPr>
          <a:xfrm>
            <a:off x="669960" y="332892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38360" y="525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ble, Inaccurate 10 MHz Clock</a:t>
            </a:r>
            <a:endParaRPr b="1" lang="en-US" sz="3600" spc="-1" strike="noStrike">
              <a:solidFill>
                <a:srgbClr val="ffff66"/>
              </a:solidFill>
              <a:latin typeface="Arial"/>
            </a:endParaRPr>
          </a:p>
        </p:txBody>
      </p:sp>
      <p:sp>
        <p:nvSpPr>
          <p:cNvPr id="231" name=""/>
          <p:cNvSpPr/>
          <p:nvPr/>
        </p:nvSpPr>
        <p:spPr>
          <a:xfrm>
            <a:off x="692280" y="196848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47920" y="241920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47920" y="363852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051920" y="209880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35" name=""/>
          <p:cNvSpPr/>
          <p:nvPr/>
        </p:nvSpPr>
        <p:spPr>
          <a:xfrm>
            <a:off x="6689880" y="377496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36" name=""/>
          <p:cNvSpPr/>
          <p:nvPr/>
        </p:nvSpPr>
        <p:spPr>
          <a:xfrm>
            <a:off x="669960" y="324180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
        <p:nvSpPr>
          <p:cNvPr id="237" name=""/>
          <p:cNvSpPr/>
          <p:nvPr/>
        </p:nvSpPr>
        <p:spPr>
          <a:xfrm>
            <a:off x="1447920" y="3181320"/>
            <a:ext cx="57909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urate and Stable 10 MHz Clock</a:t>
            </a:r>
            <a:endParaRPr b="1" lang="en-US" sz="3600" spc="-1" strike="noStrike">
              <a:solidFill>
                <a:srgbClr val="ffff66"/>
              </a:solidFill>
              <a:latin typeface="Arial"/>
            </a:endParaRPr>
          </a:p>
        </p:txBody>
      </p:sp>
      <p:sp>
        <p:nvSpPr>
          <p:cNvPr id="239" name=""/>
          <p:cNvSpPr/>
          <p:nvPr/>
        </p:nvSpPr>
        <p:spPr>
          <a:xfrm>
            <a:off x="692280" y="202104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447920" y="247176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447920" y="369108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051920" y="215100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43" name=""/>
          <p:cNvSpPr/>
          <p:nvPr/>
        </p:nvSpPr>
        <p:spPr>
          <a:xfrm>
            <a:off x="6689880" y="382752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44" name=""/>
          <p:cNvSpPr/>
          <p:nvPr/>
        </p:nvSpPr>
        <p:spPr>
          <a:xfrm>
            <a:off x="669960" y="329400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
        <p:nvSpPr>
          <p:cNvPr id="245" name=""/>
          <p:cNvSpPr/>
          <p:nvPr/>
        </p:nvSpPr>
        <p:spPr>
          <a:xfrm>
            <a:off x="1447920" y="3614760"/>
            <a:ext cx="56386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ing Error Example</a:t>
            </a:r>
            <a:endParaRPr b="1" lang="en-US" sz="3600" spc="-1" strike="noStrike">
              <a:solidFill>
                <a:srgbClr val="ffff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frequency of 1 kHz signal by measuring its period using PXI-6602 counter</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easure frequency</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zation error exampl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ck error exampl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zation and clock error exam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unter Overview</a:t>
            </a:r>
            <a:endParaRPr b="1" lang="en-US" sz="3600" spc="-1" strike="noStrike">
              <a:solidFill>
                <a:srgbClr val="ffff66"/>
              </a:solidFill>
              <a:latin typeface="Arial"/>
            </a:endParaRPr>
          </a:p>
        </p:txBody>
      </p:sp>
      <p:grpSp>
        <p:nvGrpSpPr>
          <p:cNvPr id="251" name=""/>
          <p:cNvGrpSpPr/>
          <p:nvPr/>
        </p:nvGrpSpPr>
        <p:grpSpPr>
          <a:xfrm>
            <a:off x="3365640" y="3670200"/>
            <a:ext cx="1879560" cy="1270080"/>
            <a:chOff x="3365640" y="3670200"/>
            <a:chExt cx="1879560" cy="1270080"/>
          </a:xfrm>
        </p:grpSpPr>
        <p:sp>
          <p:nvSpPr>
            <p:cNvPr id="252" name=""/>
            <p:cNvSpPr/>
            <p:nvPr/>
          </p:nvSpPr>
          <p:spPr>
            <a:xfrm>
              <a:off x="3365640" y="3670200"/>
              <a:ext cx="1879560" cy="1270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730680" y="4111560"/>
              <a:ext cx="1285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s</a:t>
              </a:r>
              <a:endParaRPr b="0" lang="en-US" sz="2400" spc="-1" strike="noStrike">
                <a:solidFill>
                  <a:srgbClr val="000000"/>
                </a:solidFill>
                <a:latin typeface="Times New Roman"/>
              </a:endParaRPr>
            </a:p>
          </p:txBody>
        </p:sp>
      </p:grpSp>
      <p:grpSp>
        <p:nvGrpSpPr>
          <p:cNvPr id="254" name=""/>
          <p:cNvGrpSpPr/>
          <p:nvPr/>
        </p:nvGrpSpPr>
        <p:grpSpPr>
          <a:xfrm>
            <a:off x="1064880" y="3502080"/>
            <a:ext cx="2287800" cy="458280"/>
            <a:chOff x="1064880" y="3502080"/>
            <a:chExt cx="2287800" cy="458280"/>
          </a:xfrm>
        </p:grpSpPr>
        <p:sp>
          <p:nvSpPr>
            <p:cNvPr id="255" name=""/>
            <p:cNvSpPr/>
            <p:nvPr/>
          </p:nvSpPr>
          <p:spPr>
            <a:xfrm>
              <a:off x="2666880" y="3733920"/>
              <a:ext cx="68580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064880" y="350208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OURCE</a:t>
              </a:r>
              <a:endParaRPr b="0" lang="en-US" sz="2400" spc="-1" strike="noStrike">
                <a:solidFill>
                  <a:srgbClr val="000000"/>
                </a:solidFill>
                <a:latin typeface="Times New Roman"/>
              </a:endParaRPr>
            </a:p>
          </p:txBody>
        </p:sp>
      </p:grpSp>
      <p:grpSp>
        <p:nvGrpSpPr>
          <p:cNvPr id="257" name=""/>
          <p:cNvGrpSpPr/>
          <p:nvPr/>
        </p:nvGrpSpPr>
        <p:grpSpPr>
          <a:xfrm>
            <a:off x="1064520" y="4568760"/>
            <a:ext cx="2288160" cy="458280"/>
            <a:chOff x="1064520" y="4568760"/>
            <a:chExt cx="2288160" cy="458280"/>
          </a:xfrm>
        </p:grpSpPr>
        <p:sp>
          <p:nvSpPr>
            <p:cNvPr id="258" name=""/>
            <p:cNvSpPr/>
            <p:nvPr/>
          </p:nvSpPr>
          <p:spPr>
            <a:xfrm>
              <a:off x="2666880" y="4876920"/>
              <a:ext cx="68580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064520" y="456876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UPDOWN</a:t>
              </a:r>
              <a:endParaRPr b="0" lang="en-US" sz="2400" spc="-1" strike="noStrike">
                <a:solidFill>
                  <a:srgbClr val="000000"/>
                </a:solidFill>
                <a:latin typeface="Times New Roman"/>
              </a:endParaRPr>
            </a:p>
          </p:txBody>
        </p:sp>
      </p:grpSp>
      <p:grpSp>
        <p:nvGrpSpPr>
          <p:cNvPr id="260" name=""/>
          <p:cNvGrpSpPr/>
          <p:nvPr/>
        </p:nvGrpSpPr>
        <p:grpSpPr>
          <a:xfrm>
            <a:off x="1063080" y="4035600"/>
            <a:ext cx="2289600" cy="458280"/>
            <a:chOff x="1063080" y="4035600"/>
            <a:chExt cx="2289600" cy="458280"/>
          </a:xfrm>
        </p:grpSpPr>
        <p:sp>
          <p:nvSpPr>
            <p:cNvPr id="261" name=""/>
            <p:cNvSpPr/>
            <p:nvPr/>
          </p:nvSpPr>
          <p:spPr>
            <a:xfrm>
              <a:off x="2666880" y="4267080"/>
              <a:ext cx="68580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63080" y="4035600"/>
              <a:ext cx="10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GATE</a:t>
              </a:r>
              <a:endParaRPr b="0" lang="en-US" sz="2400" spc="-1" strike="noStrike">
                <a:solidFill>
                  <a:srgbClr val="000000"/>
                </a:solidFill>
                <a:latin typeface="Times New Roman"/>
              </a:endParaRPr>
            </a:p>
          </p:txBody>
        </p:sp>
      </p:grpSp>
      <p:sp>
        <p:nvSpPr>
          <p:cNvPr id="263"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unter can be used to measure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64"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736560" y="3027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Measurement via Measuring Period</a:t>
            </a:r>
            <a:endParaRPr b="1" lang="en-US" sz="3600" spc="-1" strike="noStrike">
              <a:solidFill>
                <a:srgbClr val="ffff66"/>
              </a:solidFill>
              <a:latin typeface="Arial"/>
            </a:endParaRPr>
          </a:p>
        </p:txBody>
      </p:sp>
      <p:graphicFrame>
        <p:nvGraphicFramePr>
          <p:cNvPr id="267" name=""/>
          <p:cNvGraphicFramePr/>
          <p:nvPr/>
        </p:nvGraphicFramePr>
        <p:xfrm>
          <a:off x="1046160" y="3387600"/>
          <a:ext cx="6391440" cy="2543400"/>
        </p:xfrm>
        <a:graphic>
          <a:graphicData uri="http://schemas.openxmlformats.org/presentationml/2006/ole">
            <p:oleObj r:id="rId1" spid="">
              <p:embed/>
              <p:pic>
                <p:nvPicPr>
                  <p:cNvPr id="268" name="" descr=""/>
                  <p:cNvPicPr/>
                  <p:nvPr/>
                </p:nvPicPr>
                <p:blipFill>
                  <a:blip r:embed="rId2"/>
                  <a:stretch/>
                </p:blipFill>
                <p:spPr>
                  <a:xfrm>
                    <a:off x="1046160" y="3387600"/>
                    <a:ext cx="6391440" cy="2543400"/>
                  </a:xfrm>
                  <a:prstGeom prst="rect">
                    <a:avLst/>
                  </a:prstGeom>
                  <a:ln w="0">
                    <a:noFill/>
                  </a:ln>
                </p:spPr>
              </p:pic>
            </p:oleObj>
          </a:graphicData>
        </a:graphic>
      </p:graphicFrame>
      <p:sp>
        <p:nvSpPr>
          <p:cNvPr id="269" name=""/>
          <p:cNvSpPr/>
          <p:nvPr/>
        </p:nvSpPr>
        <p:spPr>
          <a:xfrm>
            <a:off x="1630080" y="3835440"/>
            <a:ext cx="103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E</a:t>
            </a:r>
            <a:endParaRPr b="0" lang="en-US" sz="2400" spc="-1" strike="noStrike">
              <a:solidFill>
                <a:srgbClr val="000000"/>
              </a:solidFill>
              <a:latin typeface="Times New Roman"/>
            </a:endParaRPr>
          </a:p>
        </p:txBody>
      </p:sp>
      <p:sp>
        <p:nvSpPr>
          <p:cNvPr id="270" name=""/>
          <p:cNvSpPr/>
          <p:nvPr/>
        </p:nvSpPr>
        <p:spPr>
          <a:xfrm>
            <a:off x="1174320" y="444492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a:t>
            </a:r>
            <a:endParaRPr b="0" lang="en-US" sz="2400" spc="-1" strike="noStrike">
              <a:solidFill>
                <a:srgbClr val="000000"/>
              </a:solidFill>
              <a:latin typeface="Times New Roman"/>
            </a:endParaRPr>
          </a:p>
        </p:txBody>
      </p:sp>
      <p:sp>
        <p:nvSpPr>
          <p:cNvPr id="271" name=""/>
          <p:cNvSpPr/>
          <p:nvPr/>
        </p:nvSpPr>
        <p:spPr>
          <a:xfrm>
            <a:off x="3002040" y="49021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272" name=""/>
          <p:cNvSpPr/>
          <p:nvPr/>
        </p:nvSpPr>
        <p:spPr>
          <a:xfrm>
            <a:off x="3916440" y="4902120"/>
            <a:ext cx="3267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   3  4  5   5   </a:t>
            </a:r>
            <a:endParaRPr b="0" lang="en-US" sz="2400" spc="-1" strike="noStrike">
              <a:solidFill>
                <a:srgbClr val="000000"/>
              </a:solidFill>
              <a:latin typeface="Times New Roman"/>
            </a:endParaRPr>
          </a:p>
        </p:txBody>
      </p:sp>
      <p:sp>
        <p:nvSpPr>
          <p:cNvPr id="273" name=""/>
          <p:cNvSpPr/>
          <p:nvPr/>
        </p:nvSpPr>
        <p:spPr>
          <a:xfrm>
            <a:off x="5973840" y="53593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274" name=""/>
          <p:cNvSpPr/>
          <p:nvPr/>
        </p:nvSpPr>
        <p:spPr>
          <a:xfrm>
            <a:off x="1630080" y="490212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a:t>
            </a:r>
            <a:endParaRPr b="0" lang="en-US" sz="2400" spc="-1" strike="noStrike">
              <a:solidFill>
                <a:srgbClr val="000000"/>
              </a:solidFill>
              <a:latin typeface="Times New Roman"/>
            </a:endParaRPr>
          </a:p>
        </p:txBody>
      </p:sp>
      <p:sp>
        <p:nvSpPr>
          <p:cNvPr id="275" name=""/>
          <p:cNvSpPr/>
          <p:nvPr/>
        </p:nvSpPr>
        <p:spPr>
          <a:xfrm>
            <a:off x="1096920" y="5359320"/>
            <a:ext cx="265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 save register</a:t>
            </a:r>
            <a:endParaRPr b="0" lang="en-US" sz="2400" spc="-1" strike="noStrike">
              <a:solidFill>
                <a:srgbClr val="000000"/>
              </a:solidFill>
              <a:latin typeface="Times New Roman"/>
            </a:endParaRPr>
          </a:p>
        </p:txBody>
      </p:sp>
      <p:sp>
        <p:nvSpPr>
          <p:cNvPr id="276" name="PlaceHolder 2"/>
          <p:cNvSpPr>
            <a:spLocks noGrp="1"/>
          </p:cNvSpPr>
          <p:nvPr>
            <p:ph/>
          </p:nvPr>
        </p:nvSpPr>
        <p:spPr>
          <a:xfrm>
            <a:off x="685800" y="18622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ime between rising to rising or falling to falling edge to measure period</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 is of known frequency</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ample</a:t>
            </a:r>
            <a:endParaRPr b="1" lang="en-US" sz="3600" spc="-1" strike="noStrike">
              <a:solidFill>
                <a:srgbClr val="ffff66"/>
              </a:solidFill>
              <a:latin typeface="Arial"/>
            </a:endParaRPr>
          </a:p>
        </p:txBody>
      </p:sp>
      <p:sp>
        <p:nvSpPr>
          <p:cNvPr id="278" name="PlaceHolder 2"/>
          <p:cNvSpPr>
            <a:spLocks noGrp="1"/>
          </p:cNvSpPr>
          <p:nvPr>
            <p:ph/>
          </p:nvPr>
        </p:nvSpPr>
        <p:spPr>
          <a:xfrm>
            <a:off x="685800" y="156060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1 kHz frequency using perfect 80 MHz clock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count is 80,00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quantization error of -1, count returned is 79,99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36560" y="761760"/>
            <a:ext cx="7772400" cy="701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ample (cont.)</a:t>
            </a:r>
            <a:endParaRPr b="1" lang="en-US" sz="3600" spc="-1" strike="noStrike">
              <a:solidFill>
                <a:srgbClr val="ffff66"/>
              </a:solidFill>
              <a:latin typeface="Arial"/>
            </a:endParaRPr>
          </a:p>
        </p:txBody>
      </p:sp>
      <p:sp>
        <p:nvSpPr>
          <p:cNvPr id="280" name="PlaceHolder 2"/>
          <p:cNvSpPr>
            <a:spLocks noGrp="1"/>
          </p:cNvSpPr>
          <p:nvPr>
            <p:ph/>
          </p:nvPr>
        </p:nvSpPr>
        <p:spPr>
          <a:xfrm>
            <a:off x="685800" y="18064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d frequency is</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1/period of signal measured</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measured count * period of perfect 80 M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79,999 * 12.5 ns)</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000.0125 Hz (actual frequency is 1000 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2.5 ppm err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Error Example</a:t>
            </a:r>
            <a:endParaRPr b="1" lang="en-US" sz="3600" spc="-1" strike="noStrike">
              <a:solidFill>
                <a:srgbClr val="ffff66"/>
              </a:solidFill>
              <a:latin typeface="Arial"/>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1 kHz frequency using 80 MHz clock that has -25 ppm error (2,000 Hz)</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count is</a:t>
            </a:r>
            <a:r>
              <a:rPr b="0" lang="en-US" sz="2400" spc="-1" strike="noStrike">
                <a:solidFill>
                  <a:srgbClr val="ffffff"/>
                </a:solidFill>
                <a:latin typeface="Arial"/>
              </a:rPr>
              <a:t> </a:t>
            </a:r>
            <a:r>
              <a:rPr b="0" lang="en-US" sz="2800" spc="-1" strike="noStrike">
                <a:solidFill>
                  <a:srgbClr val="ffffff"/>
                </a:solidFill>
                <a:latin typeface="Arial"/>
              </a:rPr>
              <a:t>79,998</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no quantization err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800" y="164952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timing in measurement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error in measurements</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ory about sources of timing error</a:t>
            </a:r>
            <a:endParaRPr b="0" lang="en-US" sz="20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inimize timing error</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techniques</a:t>
            </a:r>
            <a:endParaRPr b="0" lang="en-US" sz="20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lock lo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Error Example (cont.)</a:t>
            </a:r>
            <a:endParaRPr b="1" lang="en-US" sz="3600" spc="-1" strike="noStrike">
              <a:solidFill>
                <a:srgbClr val="ffff66"/>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d frequency is</a:t>
            </a:r>
            <a:endParaRPr b="0" lang="en-US" sz="2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period of signal measured</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measured count * period of perfect 80 M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79,998 * 12.5 ns)</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000.025 Hz (actual frequency is 1000 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25 ppm err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19280" y="371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and </a:t>
            </a:r>
            <a:br>
              <a:rPr sz="3600"/>
            </a:br>
            <a:r>
              <a:rPr b="1" lang="en-US" sz="3600" spc="-1" strike="noStrike">
                <a:solidFill>
                  <a:srgbClr val="ffff66"/>
                </a:solidFill>
                <a:latin typeface="Arial"/>
              </a:rPr>
              <a:t>Clock Error Example</a:t>
            </a:r>
            <a:endParaRPr b="1" lang="en-US" sz="3600" spc="-1" strike="noStrike">
              <a:solidFill>
                <a:srgbClr val="ffff66"/>
              </a:solidFill>
              <a:latin typeface="Arial"/>
            </a:endParaRPr>
          </a:p>
        </p:txBody>
      </p:sp>
      <p:sp>
        <p:nvSpPr>
          <p:cNvPr id="286" name="PlaceHolder 2"/>
          <p:cNvSpPr>
            <a:spLocks noGrp="1"/>
          </p:cNvSpPr>
          <p:nvPr>
            <p:ph/>
          </p:nvPr>
        </p:nvSpPr>
        <p:spPr>
          <a:xfrm>
            <a:off x="685800" y="156060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1 kHz frequency using 80 MHz clock that has -25 ppm err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count is 79,998</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quantization error of -1, count returned is 79,99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and </a:t>
            </a:r>
            <a:br>
              <a:rPr sz="3600"/>
            </a:br>
            <a:r>
              <a:rPr b="1" lang="en-US" sz="3600" spc="-1" strike="noStrike">
                <a:solidFill>
                  <a:srgbClr val="ffff66"/>
                </a:solidFill>
                <a:latin typeface="Arial"/>
              </a:rPr>
              <a:t>Clock Error Example (cont.)</a:t>
            </a:r>
            <a:endParaRPr b="1" lang="en-US" sz="3600" spc="-1" strike="noStrike">
              <a:solidFill>
                <a:srgbClr val="ffff66"/>
              </a:solidFill>
              <a:latin typeface="Arial"/>
            </a:endParaRPr>
          </a:p>
        </p:txBody>
      </p:sp>
      <p:sp>
        <p:nvSpPr>
          <p:cNvPr id="288"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d frequency is</a:t>
            </a:r>
            <a:endParaRPr b="0" lang="en-US" sz="2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period of signal measured</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measured count * period of perfect 80 M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79,997 * 12.5 ns)</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000.0375 Hz (actual frequency is 1,000 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37.5 ppm error</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25 ppm (clock error) + 12.5 ppm (quantization err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example, neither error domin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9" name=""/>
          <p:cNvSpPr/>
          <p:nvPr/>
        </p:nvSpPr>
        <p:spPr>
          <a:xfrm>
            <a:off x="1262160" y="1768320"/>
            <a:ext cx="6176880" cy="3949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0" name=""/>
          <p:cNvGraphicFramePr/>
          <p:nvPr/>
        </p:nvGraphicFramePr>
        <p:xfrm>
          <a:off x="1230480" y="1765440"/>
          <a:ext cx="6538680" cy="4151160"/>
        </p:xfrm>
        <a:graphic>
          <a:graphicData uri="http://schemas.openxmlformats.org/presentationml/2006/ole">
            <p:oleObj progId="Word.Document.12" r:id="rId1" spid="">
              <p:embed/>
              <p:pic>
                <p:nvPicPr>
                  <p:cNvPr id="291" name="" descr=""/>
                  <p:cNvPicPr/>
                  <p:nvPr/>
                </p:nvPicPr>
                <p:blipFill>
                  <a:blip r:embed="rId2"/>
                  <a:stretch/>
                </p:blipFill>
                <p:spPr>
                  <a:xfrm>
                    <a:off x="1230480" y="1765440"/>
                    <a:ext cx="6538680" cy="4151160"/>
                  </a:xfrm>
                  <a:prstGeom prst="rect">
                    <a:avLst/>
                  </a:prstGeom>
                  <a:ln w="0">
                    <a:noFill/>
                  </a:ln>
                </p:spPr>
              </p:pic>
            </p:oleObj>
          </a:graphicData>
        </a:graphic>
      </p:graphicFrame>
      <p:sp>
        <p:nvSpPr>
          <p:cNvPr id="292" name="PlaceHolder 1"/>
          <p:cNvSpPr>
            <a:spLocks noGrp="1"/>
          </p:cNvSpPr>
          <p:nvPr>
            <p:ph type="title"/>
          </p:nvPr>
        </p:nvSpPr>
        <p:spPr>
          <a:xfrm>
            <a:off x="685800" y="3996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 of Quantization and Clock Error Exampl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to Reduce Quantization Error</a:t>
            </a:r>
            <a:endParaRPr b="1" lang="en-US" sz="3600" spc="-1" strike="noStrike">
              <a:solidFill>
                <a:srgbClr val="ffff66"/>
              </a:solidFill>
              <a:latin typeface="Arial"/>
            </a:endParaRPr>
          </a:p>
        </p:txBody>
      </p:sp>
      <p:sp>
        <p:nvSpPr>
          <p:cNvPr id="294" name="PlaceHolder 2"/>
          <p:cNvSpPr>
            <a:spLocks noGrp="1"/>
          </p:cNvSpPr>
          <p:nvPr>
            <p:ph/>
          </p:nvPr>
        </p:nvSpPr>
        <p:spPr>
          <a:xfrm>
            <a:off x="652320" y="159084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fontScale="90000"/>
          </a:bodyPr>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ization Error is</a:t>
            </a:r>
            <a:endParaRPr b="0" lang="en-US" sz="2800" spc="-1" strike="noStrike">
              <a:solidFill>
                <a:srgbClr val="ffffff"/>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for time measurement)/(measurement duration)</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ur example,</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for measuring time</a:t>
            </a:r>
            <a:r>
              <a:rPr b="0" lang="en-US" sz="2400" spc="-1" strike="noStrike">
                <a:solidFill>
                  <a:srgbClr val="ffffff"/>
                </a:solidFill>
                <a:latin typeface="Arial"/>
              </a:rPr>
              <a:t>	</a:t>
            </a:r>
            <a:r>
              <a:rPr b="0" lang="en-US" sz="2400" spc="-1" strike="noStrike">
                <a:solidFill>
                  <a:srgbClr val="ffffff"/>
                </a:solidFill>
                <a:latin typeface="Arial"/>
              </a:rPr>
              <a:t>= 12.5 ns</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durati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1 ms</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 ns/ 1 m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12.5 ppm</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duce quantization error increase</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duration </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solution for measuring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668160" y="33768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ing Quantization Error for Frequency Measurement</a:t>
            </a:r>
            <a:endParaRPr b="1" lang="en-US" sz="3600" spc="-1" strike="noStrike">
              <a:solidFill>
                <a:srgbClr val="ffff66"/>
              </a:solidFill>
              <a:latin typeface="Arial"/>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requenci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period, take inver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frequenci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e counter for known time, count edges</a:t>
            </a:r>
            <a:endParaRPr b="0" lang="en-US" sz="2400" spc="-1" strike="noStrike">
              <a:solidFill>
                <a:srgbClr val="ffffff"/>
              </a:solidFill>
              <a:latin typeface="Arial"/>
            </a:endParaRPr>
          </a:p>
        </p:txBody>
      </p:sp>
      <p:sp>
        <p:nvSpPr>
          <p:cNvPr id="299" name=""/>
          <p:cNvSpPr/>
          <p:nvPr/>
        </p:nvSpPr>
        <p:spPr>
          <a:xfrm>
            <a:off x="1917720" y="4584600"/>
            <a:ext cx="1879560" cy="111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432320" y="4584600"/>
            <a:ext cx="1879560" cy="111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119760" y="5330880"/>
            <a:ext cx="62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a:t>
            </a:r>
            <a:endParaRPr b="0" lang="en-US" sz="2000" spc="-1" strike="noStrike">
              <a:solidFill>
                <a:srgbClr val="000000"/>
              </a:solidFill>
              <a:latin typeface="Times New Roman"/>
            </a:endParaRPr>
          </a:p>
        </p:txBody>
      </p:sp>
      <p:sp>
        <p:nvSpPr>
          <p:cNvPr id="302" name=""/>
          <p:cNvSpPr/>
          <p:nvPr/>
        </p:nvSpPr>
        <p:spPr>
          <a:xfrm>
            <a:off x="4414320" y="533088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a:t>
            </a:r>
            <a:endParaRPr b="0" lang="en-US" sz="2000" spc="-1" strike="noStrike">
              <a:solidFill>
                <a:srgbClr val="000000"/>
              </a:solidFill>
              <a:latin typeface="Times New Roman"/>
            </a:endParaRPr>
          </a:p>
        </p:txBody>
      </p:sp>
      <p:sp>
        <p:nvSpPr>
          <p:cNvPr id="303" name=""/>
          <p:cNvSpPr/>
          <p:nvPr/>
        </p:nvSpPr>
        <p:spPr>
          <a:xfrm>
            <a:off x="4415760" y="456876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304" name=""/>
          <p:cNvSpPr/>
          <p:nvPr/>
        </p:nvSpPr>
        <p:spPr>
          <a:xfrm>
            <a:off x="3809880" y="5562720"/>
            <a:ext cx="60984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38480" y="4495680"/>
            <a:ext cx="0" cy="3049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038480" y="4800600"/>
            <a:ext cx="38124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881160" y="4035600"/>
            <a:ext cx="296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Signal being measured</a:t>
            </a:r>
            <a:endParaRPr b="0" lang="en-US" sz="2000" spc="-1" strike="noStrike">
              <a:solidFill>
                <a:srgbClr val="000000"/>
              </a:solidFill>
              <a:latin typeface="Times New Roman"/>
            </a:endParaRPr>
          </a:p>
        </p:txBody>
      </p:sp>
      <p:sp>
        <p:nvSpPr>
          <p:cNvPr id="308" name=""/>
          <p:cNvSpPr/>
          <p:nvPr/>
        </p:nvSpPr>
        <p:spPr>
          <a:xfrm>
            <a:off x="223560" y="4568760"/>
            <a:ext cx="14864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ulse tr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generation</a:t>
            </a:r>
            <a:endParaRPr b="0" lang="en-US" sz="2000" spc="-1" strike="noStrike">
              <a:solidFill>
                <a:srgbClr val="000000"/>
              </a:solidFill>
              <a:latin typeface="Times New Roman"/>
            </a:endParaRPr>
          </a:p>
        </p:txBody>
      </p:sp>
      <p:sp>
        <p:nvSpPr>
          <p:cNvPr id="309" name=""/>
          <p:cNvSpPr/>
          <p:nvPr/>
        </p:nvSpPr>
        <p:spPr>
          <a:xfrm>
            <a:off x="6395400" y="4568760"/>
            <a:ext cx="18399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measurement</a:t>
            </a:r>
            <a:endParaRPr b="0" lang="en-US" sz="2000" spc="-1" strike="noStrike">
              <a:solidFill>
                <a:srgbClr val="000000"/>
              </a:solidFill>
              <a:latin typeface="Times New Roman"/>
            </a:endParaRPr>
          </a:p>
        </p:txBody>
      </p:sp>
      <p:sp>
        <p:nvSpPr>
          <p:cNvPr id="310" name=""/>
          <p:cNvSpPr/>
          <p:nvPr/>
        </p:nvSpPr>
        <p:spPr>
          <a:xfrm>
            <a:off x="2356200" y="495000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0)</a:t>
            </a:r>
            <a:endParaRPr b="0" lang="en-US" sz="2000" spc="-1" strike="noStrike">
              <a:solidFill>
                <a:srgbClr val="000000"/>
              </a:solidFill>
              <a:latin typeface="Times New Roman"/>
            </a:endParaRPr>
          </a:p>
        </p:txBody>
      </p:sp>
      <p:sp>
        <p:nvSpPr>
          <p:cNvPr id="311" name=""/>
          <p:cNvSpPr/>
          <p:nvPr/>
        </p:nvSpPr>
        <p:spPr>
          <a:xfrm>
            <a:off x="4870800" y="495000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1)</a:t>
            </a:r>
            <a:endParaRPr b="0" lang="en-US" sz="2000" spc="-1" strike="noStrike">
              <a:solidFill>
                <a:srgbClr val="000000"/>
              </a:solidFill>
              <a:latin typeface="Times New Roman"/>
            </a:endParaRPr>
          </a:p>
        </p:txBody>
      </p:sp>
      <p:sp>
        <p:nvSpPr>
          <p:cNvPr id="312" name=""/>
          <p:cNvSpPr/>
          <p:nvPr/>
        </p:nvSpPr>
        <p:spPr>
          <a:xfrm>
            <a:off x="1901160" y="456876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313" name=""/>
          <p:cNvSpPr/>
          <p:nvPr/>
        </p:nvSpPr>
        <p:spPr>
          <a:xfrm>
            <a:off x="1523880" y="4419720"/>
            <a:ext cx="0" cy="3045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523880" y="4724280"/>
            <a:ext cx="38124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288800" y="4035600"/>
            <a:ext cx="2277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Internal timeb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1"/>
          <p:cNvSpPr>
            <a:spLocks noGrp="1"/>
          </p:cNvSpPr>
          <p:nvPr>
            <p:ph type="title"/>
          </p:nvPr>
        </p:nvSpPr>
        <p:spPr>
          <a:xfrm>
            <a:off x="685800" y="417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ing Quantization Error for Frequency Measurement</a:t>
            </a:r>
            <a:endParaRPr b="1" lang="en-US" sz="3600" spc="-1" strike="noStrike">
              <a:solidFill>
                <a:srgbClr val="ffff66"/>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frequenci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time over many cycles, derive single period, take inverse</a:t>
            </a:r>
            <a:endParaRPr b="0" lang="en-US" sz="2400" spc="-1" strike="noStrike">
              <a:solidFill>
                <a:srgbClr val="ffffff"/>
              </a:solidFill>
              <a:latin typeface="Arial"/>
            </a:endParaRPr>
          </a:p>
        </p:txBody>
      </p:sp>
      <p:sp>
        <p:nvSpPr>
          <p:cNvPr id="320" name=""/>
          <p:cNvSpPr/>
          <p:nvPr/>
        </p:nvSpPr>
        <p:spPr>
          <a:xfrm>
            <a:off x="1917720" y="4280040"/>
            <a:ext cx="1879560" cy="11174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21" name=""/>
          <p:cNvSpPr/>
          <p:nvPr/>
        </p:nvSpPr>
        <p:spPr>
          <a:xfrm>
            <a:off x="4432320" y="4280040"/>
            <a:ext cx="1879560" cy="11174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3119760" y="5025960"/>
            <a:ext cx="62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a:t>
            </a:r>
            <a:endParaRPr b="0" lang="en-US" sz="2000" spc="-1" strike="noStrike">
              <a:solidFill>
                <a:srgbClr val="000000"/>
              </a:solidFill>
              <a:latin typeface="Times New Roman"/>
            </a:endParaRPr>
          </a:p>
        </p:txBody>
      </p:sp>
      <p:sp>
        <p:nvSpPr>
          <p:cNvPr id="323" name=""/>
          <p:cNvSpPr/>
          <p:nvPr/>
        </p:nvSpPr>
        <p:spPr>
          <a:xfrm>
            <a:off x="4414320" y="502596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a:t>
            </a:r>
            <a:endParaRPr b="0" lang="en-US" sz="2000" spc="-1" strike="noStrike">
              <a:solidFill>
                <a:srgbClr val="000000"/>
              </a:solidFill>
              <a:latin typeface="Times New Roman"/>
            </a:endParaRPr>
          </a:p>
        </p:txBody>
      </p:sp>
      <p:sp>
        <p:nvSpPr>
          <p:cNvPr id="324" name=""/>
          <p:cNvSpPr/>
          <p:nvPr/>
        </p:nvSpPr>
        <p:spPr>
          <a:xfrm>
            <a:off x="4415760" y="42642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325" name=""/>
          <p:cNvSpPr/>
          <p:nvPr/>
        </p:nvSpPr>
        <p:spPr>
          <a:xfrm>
            <a:off x="3809880" y="5257800"/>
            <a:ext cx="609840" cy="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523880" y="4191120"/>
            <a:ext cx="0" cy="30456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523880" y="4495680"/>
            <a:ext cx="381240" cy="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04440" y="3807000"/>
            <a:ext cx="296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Signal being measured</a:t>
            </a:r>
            <a:endParaRPr b="0" lang="en-US" sz="2000" spc="-1" strike="noStrike">
              <a:solidFill>
                <a:srgbClr val="000000"/>
              </a:solidFill>
              <a:latin typeface="Times New Roman"/>
            </a:endParaRPr>
          </a:p>
        </p:txBody>
      </p:sp>
      <p:sp>
        <p:nvSpPr>
          <p:cNvPr id="329" name=""/>
          <p:cNvSpPr/>
          <p:nvPr/>
        </p:nvSpPr>
        <p:spPr>
          <a:xfrm>
            <a:off x="2356200" y="464508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0)</a:t>
            </a:r>
            <a:endParaRPr b="0" lang="en-US" sz="2000" spc="-1" strike="noStrike">
              <a:solidFill>
                <a:srgbClr val="000000"/>
              </a:solidFill>
              <a:latin typeface="Times New Roman"/>
            </a:endParaRPr>
          </a:p>
        </p:txBody>
      </p:sp>
      <p:sp>
        <p:nvSpPr>
          <p:cNvPr id="330" name=""/>
          <p:cNvSpPr/>
          <p:nvPr/>
        </p:nvSpPr>
        <p:spPr>
          <a:xfrm>
            <a:off x="4870800" y="464508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1)</a:t>
            </a:r>
            <a:endParaRPr b="0" lang="en-US" sz="2000" spc="-1" strike="noStrike">
              <a:solidFill>
                <a:srgbClr val="000000"/>
              </a:solidFill>
              <a:latin typeface="Times New Roman"/>
            </a:endParaRPr>
          </a:p>
        </p:txBody>
      </p:sp>
      <p:sp>
        <p:nvSpPr>
          <p:cNvPr id="331" name=""/>
          <p:cNvSpPr/>
          <p:nvPr/>
        </p:nvSpPr>
        <p:spPr>
          <a:xfrm>
            <a:off x="3803400" y="3807000"/>
            <a:ext cx="2277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Internal timebase</a:t>
            </a:r>
            <a:endParaRPr b="0" lang="en-US" sz="2000" spc="-1" strike="noStrike">
              <a:solidFill>
                <a:srgbClr val="000000"/>
              </a:solidFill>
              <a:latin typeface="Times New Roman"/>
            </a:endParaRPr>
          </a:p>
        </p:txBody>
      </p:sp>
      <p:sp>
        <p:nvSpPr>
          <p:cNvPr id="332" name=""/>
          <p:cNvSpPr/>
          <p:nvPr/>
        </p:nvSpPr>
        <p:spPr>
          <a:xfrm>
            <a:off x="4038480" y="4191120"/>
            <a:ext cx="0" cy="30456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038480" y="4495680"/>
            <a:ext cx="381240" cy="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7600" y="4340160"/>
            <a:ext cx="14864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ulse tr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generation</a:t>
            </a:r>
            <a:endParaRPr b="0" lang="en-US" sz="2000" spc="-1" strike="noStrike">
              <a:solidFill>
                <a:srgbClr val="000000"/>
              </a:solidFill>
              <a:latin typeface="Times New Roman"/>
            </a:endParaRPr>
          </a:p>
        </p:txBody>
      </p:sp>
      <p:sp>
        <p:nvSpPr>
          <p:cNvPr id="335" name=""/>
          <p:cNvSpPr/>
          <p:nvPr/>
        </p:nvSpPr>
        <p:spPr>
          <a:xfrm>
            <a:off x="6471360" y="4264200"/>
            <a:ext cx="18399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measurement</a:t>
            </a:r>
            <a:endParaRPr b="0" lang="en-US" sz="2000" spc="-1" strike="noStrike">
              <a:solidFill>
                <a:srgbClr val="000000"/>
              </a:solidFill>
              <a:latin typeface="Times New Roman"/>
            </a:endParaRPr>
          </a:p>
        </p:txBody>
      </p:sp>
      <p:sp>
        <p:nvSpPr>
          <p:cNvPr id="336" name=""/>
          <p:cNvSpPr/>
          <p:nvPr/>
        </p:nvSpPr>
        <p:spPr>
          <a:xfrm>
            <a:off x="1917000" y="42800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ing Clock Error</a:t>
            </a:r>
            <a:endParaRPr b="1" lang="en-US" sz="3600" spc="-1" strike="noStrike">
              <a:solidFill>
                <a:srgbClr val="ffff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vice with high stability c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vice with a phase-lock loop that uses a high stability clock as a reference c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ase Lock Loop</a:t>
            </a:r>
            <a:endParaRPr b="1" lang="en-US" sz="3600" spc="-1" strike="noStrike">
              <a:solidFill>
                <a:srgbClr val="ffff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it that adjusts an oscillator so its frequency is locked to a reference c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CXO is voltage controlled crystal oscillator</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varies with input DC voltage</a:t>
            </a:r>
            <a:endParaRPr b="0" lang="en-US" sz="2400" spc="-1" strike="noStrike">
              <a:solidFill>
                <a:srgbClr val="ffffff"/>
              </a:solidFill>
              <a:latin typeface="Arial"/>
            </a:endParaRPr>
          </a:p>
        </p:txBody>
      </p:sp>
      <p:sp>
        <p:nvSpPr>
          <p:cNvPr id="341" name=""/>
          <p:cNvSpPr/>
          <p:nvPr/>
        </p:nvSpPr>
        <p:spPr>
          <a:xfrm>
            <a:off x="996840" y="3857760"/>
            <a:ext cx="7074000" cy="189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35280" y="4578480"/>
            <a:ext cx="128268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87760" y="4578480"/>
            <a:ext cx="128268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340240" y="4578480"/>
            <a:ext cx="128268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810440" y="4556160"/>
            <a:ext cx="1233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a:t>
            </a:r>
            <a:endParaRPr b="0" lang="en-US" sz="2000" spc="-1" strike="noStrike">
              <a:solidFill>
                <a:srgbClr val="000000"/>
              </a:solidFill>
              <a:latin typeface="Times New Roman"/>
            </a:endParaRPr>
          </a:p>
        </p:txBody>
      </p:sp>
      <p:sp>
        <p:nvSpPr>
          <p:cNvPr id="346" name=""/>
          <p:cNvSpPr/>
          <p:nvPr/>
        </p:nvSpPr>
        <p:spPr>
          <a:xfrm>
            <a:off x="3793680" y="470844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a:t>
            </a:r>
            <a:endParaRPr b="0" lang="en-US" sz="2000" spc="-1" strike="noStrike">
              <a:solidFill>
                <a:srgbClr val="000000"/>
              </a:solidFill>
              <a:latin typeface="Times New Roman"/>
            </a:endParaRPr>
          </a:p>
        </p:txBody>
      </p:sp>
      <p:sp>
        <p:nvSpPr>
          <p:cNvPr id="347" name=""/>
          <p:cNvSpPr/>
          <p:nvPr/>
        </p:nvSpPr>
        <p:spPr>
          <a:xfrm>
            <a:off x="5393880" y="470844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XO</a:t>
            </a:r>
            <a:endParaRPr b="0" lang="en-US" sz="2000" spc="-1" strike="noStrike">
              <a:solidFill>
                <a:srgbClr val="000000"/>
              </a:solidFill>
              <a:latin typeface="Times New Roman"/>
            </a:endParaRPr>
          </a:p>
        </p:txBody>
      </p:sp>
      <p:sp>
        <p:nvSpPr>
          <p:cNvPr id="348" name=""/>
          <p:cNvSpPr/>
          <p:nvPr/>
        </p:nvSpPr>
        <p:spPr>
          <a:xfrm>
            <a:off x="1219320" y="518148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24080" y="49528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876920" y="49528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29400" y="495288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6934320" y="49528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1218960" y="5562720"/>
            <a:ext cx="57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1932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219320" y="472428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046520" y="3946680"/>
            <a:ext cx="201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clock</a:t>
            </a:r>
            <a:endParaRPr b="0" lang="en-US" sz="2000" spc="-1" strike="noStrike">
              <a:solidFill>
                <a:srgbClr val="000000"/>
              </a:solidFill>
              <a:latin typeface="Times New Roman"/>
            </a:endParaRPr>
          </a:p>
        </p:txBody>
      </p:sp>
      <p:sp>
        <p:nvSpPr>
          <p:cNvPr id="357" name=""/>
          <p:cNvSpPr/>
          <p:nvPr/>
        </p:nvSpPr>
        <p:spPr>
          <a:xfrm flipV="1">
            <a:off x="1219320" y="4419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89880" y="4098960"/>
            <a:ext cx="14634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ked frequency</a:t>
            </a:r>
            <a:endParaRPr b="0" lang="en-US" sz="2000" spc="-1" strike="noStrike">
              <a:solidFill>
                <a:srgbClr val="000000"/>
              </a:solidFill>
              <a:latin typeface="Times New Roman"/>
            </a:endParaRPr>
          </a:p>
        </p:txBody>
      </p:sp>
      <p:sp>
        <p:nvSpPr>
          <p:cNvPr id="359" name=""/>
          <p:cNvSpPr/>
          <p:nvPr/>
        </p:nvSpPr>
        <p:spPr>
          <a:xfrm>
            <a:off x="3225960" y="45957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311640" y="45957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395520" y="45957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90920" y="46083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225960" y="459576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308400" y="48006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90840" y="46036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48132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495600" y="48132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946760" y="472140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ase Lock Loop Continued</a:t>
            </a:r>
            <a:endParaRPr b="1" lang="en-US" sz="3600" spc="-1" strike="noStrike">
              <a:solidFill>
                <a:srgbClr val="ffff66"/>
              </a:solidFill>
              <a:latin typeface="Arial"/>
            </a:endParaRPr>
          </a:p>
        </p:txBody>
      </p:sp>
      <p:sp>
        <p:nvSpPr>
          <p:cNvPr id="370" name=""/>
          <p:cNvSpPr/>
          <p:nvPr/>
        </p:nvSpPr>
        <p:spPr>
          <a:xfrm>
            <a:off x="920880" y="2565360"/>
            <a:ext cx="6994440" cy="329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974880" y="2795760"/>
            <a:ext cx="16729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Hz Lo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Times New Roman"/>
            </a:endParaRPr>
          </a:p>
        </p:txBody>
      </p:sp>
      <p:sp>
        <p:nvSpPr>
          <p:cNvPr id="372" name=""/>
          <p:cNvSpPr/>
          <p:nvPr/>
        </p:nvSpPr>
        <p:spPr>
          <a:xfrm>
            <a:off x="898560" y="4395960"/>
            <a:ext cx="15984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Hz Reference Frequency</a:t>
            </a:r>
            <a:endParaRPr b="0" lang="en-US" sz="2000" spc="-1" strike="noStrike">
              <a:solidFill>
                <a:srgbClr val="000000"/>
              </a:solidFill>
              <a:latin typeface="Times New Roman"/>
            </a:endParaRPr>
          </a:p>
        </p:txBody>
      </p:sp>
      <p:graphicFrame>
        <p:nvGraphicFramePr>
          <p:cNvPr id="373" name=""/>
          <p:cNvGraphicFramePr/>
          <p:nvPr/>
        </p:nvGraphicFramePr>
        <p:xfrm>
          <a:off x="2435400" y="3051000"/>
          <a:ext cx="5202000" cy="2265480"/>
        </p:xfrm>
        <a:graphic>
          <a:graphicData uri="http://schemas.openxmlformats.org/presentationml/2006/ole">
            <p:oleObj r:id="rId1" spid="">
              <p:embed/>
              <p:pic>
                <p:nvPicPr>
                  <p:cNvPr id="374" name="" descr=""/>
                  <p:cNvPicPr/>
                  <p:nvPr/>
                </p:nvPicPr>
                <p:blipFill>
                  <a:blip r:embed="rId2"/>
                  <a:stretch/>
                </p:blipFill>
                <p:spPr>
                  <a:xfrm>
                    <a:off x="2435400" y="3051000"/>
                    <a:ext cx="5202000" cy="2265480"/>
                  </a:xfrm>
                  <a:prstGeom prst="rect">
                    <a:avLst/>
                  </a:prstGeom>
                  <a:ln w="0">
                    <a:noFill/>
                  </a:ln>
                </p:spPr>
              </p:pic>
            </p:oleObj>
          </a:graphicData>
        </a:graphic>
      </p:graphicFrame>
      <p:sp>
        <p:nvSpPr>
          <p:cNvPr id="375" name=""/>
          <p:cNvSpPr/>
          <p:nvPr/>
        </p:nvSpPr>
        <p:spPr>
          <a:xfrm>
            <a:off x="2701800" y="3930480"/>
            <a:ext cx="0" cy="508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140600" y="3963960"/>
            <a:ext cx="0" cy="5079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PlaceHolder 2"/>
          <p:cNvSpPr>
            <a:spLocks noGrp="1"/>
          </p:cNvSpPr>
          <p:nvPr>
            <p:ph/>
          </p:nvPr>
        </p:nvSpPr>
        <p:spPr>
          <a:xfrm>
            <a:off x="685800" y="162396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high-stability clock as reference reduces clock error of VCXO c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 (cont.)</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triggering in measurement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ing examp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 timing and triggering technique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distributed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5760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e Clock Error in PXI</a:t>
            </a:r>
            <a:endParaRPr b="1" lang="en-US" sz="3600" spc="-1" strike="noStrike">
              <a:solidFill>
                <a:srgbClr val="ffff66"/>
              </a:solidFill>
              <a:latin typeface="Arial"/>
            </a:endParaRPr>
          </a:p>
        </p:txBody>
      </p:sp>
      <p:sp>
        <p:nvSpPr>
          <p:cNvPr id="379" name="PlaceHolder 2"/>
          <p:cNvSpPr>
            <a:spLocks noGrp="1"/>
          </p:cNvSpPr>
          <p:nvPr>
            <p:ph/>
          </p:nvPr>
        </p:nvSpPr>
        <p:spPr>
          <a:xfrm>
            <a:off x="703440" y="1557360"/>
            <a:ext cx="7772400" cy="4114800"/>
          </a:xfrm>
          <a:prstGeom prst="rect">
            <a:avLst/>
          </a:prstGeom>
          <a:noFill/>
          <a:ln w="0">
            <a:noFill/>
          </a:ln>
        </p:spPr>
        <p:txBody>
          <a:bodyPr lIns="90360" rIns="90360" tIns="44280" bIns="44280" anchor="t">
            <a:normAutofit fontScale="90000"/>
          </a:bodyPr>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chassis has 10 MHz backplane clock</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reference clock provided to each slot</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e lengths matched to minimize skew</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replaced by another 10 MHz clock</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s phase-locked to the backplane clock</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ck edges occur simultaneously</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ies are derived from common 10 MHz backplane clock</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 backplane clock with high-stability 10 MHz clock to reduce clock error in PX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 of PXI-6608 Counter with High Accuracy Clock</a:t>
            </a:r>
            <a:endParaRPr b="1" lang="en-US" sz="3600" spc="-1" strike="noStrike">
              <a:solidFill>
                <a:srgbClr val="ffff66"/>
              </a:solidFill>
              <a:latin typeface="Arial"/>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10 MHz OCXO on PXI-6608 to drive the PXI 10 MHz backplane clock</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 ppb (10 MHz +/- 0.75 Hz) stability over 1 yea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timing of overall system</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phase-locked to backplane clock inherit stability of OCXO cloc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 over PXI triggers (RTSI) for direct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82" name=""/>
          <p:cNvSpPr/>
          <p:nvPr/>
        </p:nvSpPr>
        <p:spPr>
          <a:xfrm>
            <a:off x="633240" y="2824200"/>
            <a:ext cx="7826400" cy="1500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3" name=""/>
          <p:cNvGraphicFramePr/>
          <p:nvPr/>
        </p:nvGraphicFramePr>
        <p:xfrm>
          <a:off x="627120" y="2830680"/>
          <a:ext cx="7958160" cy="4012920"/>
        </p:xfrm>
        <a:graphic>
          <a:graphicData uri="http://schemas.openxmlformats.org/presentationml/2006/ole">
            <p:oleObj r:id="rId1" spid="">
              <p:embed/>
              <p:pic>
                <p:nvPicPr>
                  <p:cNvPr id="384" name="" descr=""/>
                  <p:cNvPicPr/>
                  <p:nvPr/>
                </p:nvPicPr>
                <p:blipFill>
                  <a:blip r:embed="rId2"/>
                  <a:stretch/>
                </p:blipFill>
                <p:spPr>
                  <a:xfrm>
                    <a:off x="627120" y="2830680"/>
                    <a:ext cx="7958160" cy="4012920"/>
                  </a:xfrm>
                  <a:prstGeom prst="rect">
                    <a:avLst/>
                  </a:prstGeom>
                  <a:ln w="0">
                    <a:noFill/>
                  </a:ln>
                </p:spPr>
              </p:pic>
            </p:oleObj>
          </a:graphicData>
        </a:graphic>
      </p:graphicFrame>
      <p:sp>
        <p:nvSpPr>
          <p:cNvPr id="385" name="PlaceHolder 1"/>
          <p:cNvSpPr>
            <a:spLocks noGrp="1"/>
          </p:cNvSpPr>
          <p:nvPr>
            <p:ph type="title"/>
          </p:nvPr>
        </p:nvSpPr>
        <p:spPr>
          <a:xfrm>
            <a:off x="754200" y="3236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6608 Improves Measurement by Reducing Clock Error</a:t>
            </a:r>
            <a:endParaRPr b="1" lang="en-US" sz="3600" spc="-1" strike="noStrike">
              <a:solidFill>
                <a:srgbClr val="ffff66"/>
              </a:solidFill>
              <a:latin typeface="Arial"/>
            </a:endParaRPr>
          </a:p>
        </p:txBody>
      </p:sp>
      <p:sp>
        <p:nvSpPr>
          <p:cNvPr id="386" name="PlaceHolder 2"/>
          <p:cNvSpPr>
            <a:spLocks noGrp="1"/>
          </p:cNvSpPr>
          <p:nvPr>
            <p:ph/>
          </p:nvPr>
        </p:nvSpPr>
        <p:spPr>
          <a:xfrm>
            <a:off x="703440" y="18622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measurement with PXI-6608 counter and PXI-6602 cou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87" name=""/>
          <p:cNvSpPr/>
          <p:nvPr/>
        </p:nvSpPr>
        <p:spPr>
          <a:xfrm>
            <a:off x="666720" y="3027240"/>
            <a:ext cx="7777080" cy="2249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8" name=""/>
          <p:cNvGraphicFramePr/>
          <p:nvPr/>
        </p:nvGraphicFramePr>
        <p:xfrm>
          <a:off x="625320" y="3000240"/>
          <a:ext cx="7947360" cy="2586240"/>
        </p:xfrm>
        <a:graphic>
          <a:graphicData uri="http://schemas.openxmlformats.org/presentationml/2006/ole">
            <p:oleObj progId="Word.Document.12" r:id="rId1" spid="">
              <p:embed/>
              <p:pic>
                <p:nvPicPr>
                  <p:cNvPr id="389" name="" descr=""/>
                  <p:cNvPicPr/>
                  <p:nvPr/>
                </p:nvPicPr>
                <p:blipFill>
                  <a:blip r:embed="rId2"/>
                  <a:stretch/>
                </p:blipFill>
                <p:spPr>
                  <a:xfrm>
                    <a:off x="625320" y="3000240"/>
                    <a:ext cx="7947360" cy="2586240"/>
                  </a:xfrm>
                  <a:prstGeom prst="rect">
                    <a:avLst/>
                  </a:prstGeom>
                  <a:ln w="0">
                    <a:noFill/>
                  </a:ln>
                </p:spPr>
              </p:pic>
            </p:oleObj>
          </a:graphicData>
        </a:graphic>
      </p:graphicFrame>
      <p:sp>
        <p:nvSpPr>
          <p:cNvPr id="390" name="PlaceHolder 1"/>
          <p:cNvSpPr>
            <a:spLocks noGrp="1"/>
          </p:cNvSpPr>
          <p:nvPr>
            <p:ph type="title"/>
          </p:nvPr>
        </p:nvSpPr>
        <p:spPr>
          <a:xfrm>
            <a:off x="703440" y="371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6608 Improves Generation by Reducing Clock Error</a:t>
            </a:r>
            <a:endParaRPr b="1" lang="en-US" sz="3600" spc="-1" strike="noStrike">
              <a:solidFill>
                <a:srgbClr val="ffff66"/>
              </a:solidFill>
              <a:latin typeface="Arial"/>
            </a:endParaRPr>
          </a:p>
        </p:txBody>
      </p:sp>
      <p:sp>
        <p:nvSpPr>
          <p:cNvPr id="391"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e wave generation with PXI-5411 arbitrary waveform generator and PXI-6608 cou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Trigger?</a:t>
            </a:r>
            <a:endParaRPr b="1" lang="en-US" sz="3600" spc="-1" strike="noStrike">
              <a:solidFill>
                <a:srgbClr val="ffff66"/>
              </a:solidFill>
              <a:latin typeface="Arial"/>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rdware or software event, prompts action</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cquisition</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 acquisition</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latch</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 of trigger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 operation instantaneously when an event occur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ly start multiple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ing Example</a:t>
            </a:r>
            <a:endParaRPr b="1" lang="en-US" sz="3600" spc="-1" strike="noStrike">
              <a:solidFill>
                <a:srgbClr val="ffff66"/>
              </a:solidFill>
              <a:latin typeface="Arial"/>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taneous arm two counters in a PXI-6602 8-channel counter</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6602 has two NI-TIO ASIC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80 MHz cloc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of example using counters apply to other de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a:t>
            </a:r>
            <a:endParaRPr b="1" lang="en-US" sz="3600" spc="-1" strike="noStrike">
              <a:solidFill>
                <a:srgbClr val="ffff66"/>
              </a:solidFill>
              <a:latin typeface="Arial"/>
            </a:endParaRPr>
          </a:p>
        </p:txBody>
      </p:sp>
      <p:sp>
        <p:nvSpPr>
          <p:cNvPr id="397" name=""/>
          <p:cNvSpPr/>
          <p:nvPr/>
        </p:nvSpPr>
        <p:spPr>
          <a:xfrm>
            <a:off x="920880" y="1612800"/>
            <a:ext cx="7454880" cy="410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08840" y="2374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200400" y="1905120"/>
            <a:ext cx="4267080" cy="3352680"/>
            <a:chOff x="3200400" y="1905120"/>
            <a:chExt cx="4267080" cy="3352680"/>
          </a:xfrm>
        </p:grpSpPr>
        <p:sp>
          <p:nvSpPr>
            <p:cNvPr id="400" name=""/>
            <p:cNvSpPr/>
            <p:nvPr/>
          </p:nvSpPr>
          <p:spPr>
            <a:xfrm>
              <a:off x="3200400" y="1905120"/>
              <a:ext cx="0" cy="335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7467480" y="210132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200400" y="2101680"/>
              <a:ext cx="426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200400" y="5257800"/>
              <a:ext cx="22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3429000" y="4863960"/>
              <a:ext cx="0" cy="3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429000" y="4863960"/>
              <a:ext cx="4038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162920" y="210168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 name=""/>
          <p:cNvSpPr/>
          <p:nvPr/>
        </p:nvSpPr>
        <p:spPr>
          <a:xfrm>
            <a:off x="3200400" y="2514600"/>
            <a:ext cx="236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024200" y="2643120"/>
            <a:ext cx="20124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a:t>
            </a:r>
            <a:endParaRPr b="0" lang="en-US" sz="1600" spc="-1" strike="noStrike">
              <a:solidFill>
                <a:srgbClr val="000000"/>
              </a:solidFill>
              <a:latin typeface="Times New Roman"/>
            </a:endParaRPr>
          </a:p>
        </p:txBody>
      </p:sp>
      <p:sp>
        <p:nvSpPr>
          <p:cNvPr id="409" name=""/>
          <p:cNvSpPr/>
          <p:nvPr/>
        </p:nvSpPr>
        <p:spPr>
          <a:xfrm>
            <a:off x="6157080" y="249084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a:t>
            </a:r>
            <a:endParaRPr b="0" lang="en-US" sz="1600" spc="-1" strike="noStrike">
              <a:solidFill>
                <a:srgbClr val="000000"/>
              </a:solidFill>
              <a:latin typeface="Times New Roman"/>
            </a:endParaRPr>
          </a:p>
        </p:txBody>
      </p:sp>
      <p:sp>
        <p:nvSpPr>
          <p:cNvPr id="410" name=""/>
          <p:cNvSpPr/>
          <p:nvPr/>
        </p:nvSpPr>
        <p:spPr>
          <a:xfrm flipH="1">
            <a:off x="5257800" y="2971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089680" y="3024360"/>
            <a:ext cx="1844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 Source</a:t>
            </a:r>
            <a:endParaRPr b="0" lang="en-US" sz="1600" spc="-1" strike="noStrike">
              <a:solidFill>
                <a:srgbClr val="000000"/>
              </a:solidFill>
              <a:latin typeface="Times New Roman"/>
            </a:endParaRPr>
          </a:p>
        </p:txBody>
      </p:sp>
      <p:sp>
        <p:nvSpPr>
          <p:cNvPr id="412" name=""/>
          <p:cNvSpPr/>
          <p:nvPr/>
        </p:nvSpPr>
        <p:spPr>
          <a:xfrm>
            <a:off x="5257800" y="2971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3" name=""/>
          <p:cNvSpPr/>
          <p:nvPr/>
        </p:nvSpPr>
        <p:spPr>
          <a:xfrm>
            <a:off x="1432080" y="2503440"/>
            <a:ext cx="1752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481560" y="5165640"/>
            <a:ext cx="4319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XI-6602 (8 channel counter device)</a:t>
            </a:r>
            <a:endParaRPr b="0" lang="en-US" sz="2000" spc="-1" strike="noStrike">
              <a:solidFill>
                <a:srgbClr val="000000"/>
              </a:solidFill>
              <a:latin typeface="Times New Roman"/>
            </a:endParaRPr>
          </a:p>
        </p:txBody>
      </p:sp>
      <p:sp>
        <p:nvSpPr>
          <p:cNvPr id="415" name=""/>
          <p:cNvSpPr/>
          <p:nvPr/>
        </p:nvSpPr>
        <p:spPr>
          <a:xfrm>
            <a:off x="7162920" y="35812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447920" y="37339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828800" y="3428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828800" y="34290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2133720" y="3428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133720" y="37339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472560" y="1695600"/>
            <a:ext cx="419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 synchronized to Source</a:t>
            </a:r>
            <a:endParaRPr b="0" lang="en-US" sz="1600" spc="-1" strike="noStrike">
              <a:solidFill>
                <a:srgbClr val="000000"/>
              </a:solidFill>
              <a:latin typeface="Times New Roman"/>
            </a:endParaRPr>
          </a:p>
        </p:txBody>
      </p:sp>
      <p:sp>
        <p:nvSpPr>
          <p:cNvPr id="422" name=""/>
          <p:cNvSpPr/>
          <p:nvPr/>
        </p:nvSpPr>
        <p:spPr>
          <a:xfrm flipH="1">
            <a:off x="5943240" y="2017800"/>
            <a:ext cx="328680" cy="42048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111640" y="2292480"/>
            <a:ext cx="181620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5688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866920" y="2514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7150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094360" y="3532320"/>
            <a:ext cx="181620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959640" y="2732040"/>
            <a:ext cx="102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C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s (0:3)</a:t>
            </a:r>
            <a:endParaRPr b="0" lang="en-US" sz="1600" spc="-1" strike="noStrike">
              <a:solidFill>
                <a:srgbClr val="000000"/>
              </a:solidFill>
              <a:latin typeface="Times New Roman"/>
            </a:endParaRPr>
          </a:p>
        </p:txBody>
      </p:sp>
      <p:sp>
        <p:nvSpPr>
          <p:cNvPr id="429" name=""/>
          <p:cNvSpPr/>
          <p:nvPr/>
        </p:nvSpPr>
        <p:spPr>
          <a:xfrm>
            <a:off x="6091200" y="3616200"/>
            <a:ext cx="736560" cy="6606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5280" y="373068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4</a:t>
            </a:r>
            <a:endParaRPr b="0" lang="en-US" sz="1600" spc="-1" strike="noStrike">
              <a:solidFill>
                <a:srgbClr val="000000"/>
              </a:solidFill>
              <a:latin typeface="Times New Roman"/>
            </a:endParaRPr>
          </a:p>
        </p:txBody>
      </p:sp>
      <p:sp>
        <p:nvSpPr>
          <p:cNvPr id="431" name=""/>
          <p:cNvSpPr/>
          <p:nvPr/>
        </p:nvSpPr>
        <p:spPr>
          <a:xfrm>
            <a:off x="3937320" y="3984480"/>
            <a:ext cx="102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C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s (4: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a:t>
            </a:r>
            <a:endParaRPr b="1" lang="en-US" sz="3600" spc="-1" strike="noStrike">
              <a:solidFill>
                <a:srgbClr val="ffff66"/>
              </a:solidFill>
              <a:latin typeface="Arial"/>
            </a:endParaRPr>
          </a:p>
        </p:txBody>
      </p:sp>
      <p:sp>
        <p:nvSpPr>
          <p:cNvPr id="433" name=""/>
          <p:cNvSpPr/>
          <p:nvPr/>
        </p:nvSpPr>
        <p:spPr>
          <a:xfrm>
            <a:off x="363240" y="188928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434" name=""/>
          <p:cNvSpPr/>
          <p:nvPr/>
        </p:nvSpPr>
        <p:spPr>
          <a:xfrm>
            <a:off x="284040" y="257508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435" name=""/>
          <p:cNvSpPr/>
          <p:nvPr/>
        </p:nvSpPr>
        <p:spPr>
          <a:xfrm>
            <a:off x="284040" y="3184560"/>
            <a:ext cx="24771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ynchroniz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436" name=""/>
          <p:cNvSpPr/>
          <p:nvPr/>
        </p:nvSpPr>
        <p:spPr>
          <a:xfrm>
            <a:off x="320040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58128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81280" y="19051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96252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343400" y="19051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24280" y="220968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105520" y="19051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48640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867280" y="19051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24852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396252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434340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472428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510552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548640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586728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624852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189240" y="2895480"/>
            <a:ext cx="838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4027320" y="25909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27320" y="2590920"/>
            <a:ext cx="260208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56" name=""/>
          <p:cNvSpPr/>
          <p:nvPr/>
        </p:nvSpPr>
        <p:spPr>
          <a:xfrm>
            <a:off x="3211560" y="3497400"/>
            <a:ext cx="118440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7" name=""/>
          <p:cNvSpPr/>
          <p:nvPr/>
        </p:nvSpPr>
        <p:spPr>
          <a:xfrm flipV="1">
            <a:off x="4395960" y="3200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95960" y="3200400"/>
            <a:ext cx="225108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9" name=""/>
          <p:cNvSpPr/>
          <p:nvPr/>
        </p:nvSpPr>
        <p:spPr>
          <a:xfrm>
            <a:off x="3348000" y="4349880"/>
            <a:ext cx="1739880" cy="5792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rmed counter awaiting trigger</a:t>
            </a:r>
            <a:endParaRPr b="0" lang="en-US" sz="1600" spc="-1" strike="noStrike">
              <a:solidFill>
                <a:srgbClr val="000000"/>
              </a:solidFill>
              <a:latin typeface="Times New Roman"/>
            </a:endParaRPr>
          </a:p>
        </p:txBody>
      </p:sp>
      <p:sp>
        <p:nvSpPr>
          <p:cNvPr id="460" name=""/>
          <p:cNvSpPr/>
          <p:nvPr/>
        </p:nvSpPr>
        <p:spPr>
          <a:xfrm>
            <a:off x="5100480" y="4351320"/>
            <a:ext cx="1816200" cy="5792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unter begins operation</a:t>
            </a:r>
            <a:endParaRPr b="0" lang="en-US" sz="1600" spc="-1" strike="noStrike">
              <a:solidFill>
                <a:srgbClr val="000000"/>
              </a:solidFill>
              <a:latin typeface="Times New Roman"/>
            </a:endParaRPr>
          </a:p>
        </p:txBody>
      </p:sp>
      <p:sp>
        <p:nvSpPr>
          <p:cNvPr id="461" name=""/>
          <p:cNvSpPr/>
          <p:nvPr/>
        </p:nvSpPr>
        <p:spPr>
          <a:xfrm>
            <a:off x="5100480" y="3665520"/>
            <a:ext cx="1816200" cy="5792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igger seen by counter</a:t>
            </a:r>
            <a:endParaRPr b="0" lang="en-US" sz="1600" spc="-1" strike="noStrike">
              <a:solidFill>
                <a:srgbClr val="000000"/>
              </a:solidFill>
              <a:latin typeface="Times New Roman"/>
            </a:endParaRPr>
          </a:p>
        </p:txBody>
      </p:sp>
      <p:sp>
        <p:nvSpPr>
          <p:cNvPr id="462" name=""/>
          <p:cNvSpPr/>
          <p:nvPr/>
        </p:nvSpPr>
        <p:spPr>
          <a:xfrm>
            <a:off x="3630240" y="1884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1</a:t>
            </a:r>
            <a:endParaRPr b="0" lang="en-US" sz="1600" spc="-1" strike="noStrike">
              <a:solidFill>
                <a:srgbClr val="000000"/>
              </a:solidFill>
              <a:latin typeface="Times New Roman"/>
            </a:endParaRPr>
          </a:p>
        </p:txBody>
      </p:sp>
      <p:sp>
        <p:nvSpPr>
          <p:cNvPr id="463" name=""/>
          <p:cNvSpPr/>
          <p:nvPr/>
        </p:nvSpPr>
        <p:spPr>
          <a:xfrm>
            <a:off x="4397040" y="1882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0000"/>
              </a:solidFill>
              <a:latin typeface="Times New Roman"/>
            </a:endParaRPr>
          </a:p>
        </p:txBody>
      </p:sp>
      <p:sp>
        <p:nvSpPr>
          <p:cNvPr id="464" name=""/>
          <p:cNvSpPr/>
          <p:nvPr/>
        </p:nvSpPr>
        <p:spPr>
          <a:xfrm>
            <a:off x="5146200" y="1898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3</a:t>
            </a:r>
            <a:endParaRPr b="0" lang="en-US" sz="1600" spc="-1" strike="noStrike">
              <a:solidFill>
                <a:srgbClr val="000000"/>
              </a:solidFill>
              <a:latin typeface="Times New Roman"/>
            </a:endParaRPr>
          </a:p>
        </p:txBody>
      </p:sp>
      <p:sp>
        <p:nvSpPr>
          <p:cNvPr id="465" name=""/>
          <p:cNvSpPr/>
          <p:nvPr/>
        </p:nvSpPr>
        <p:spPr>
          <a:xfrm>
            <a:off x="5874840" y="1898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4</a:t>
            </a:r>
            <a:endParaRPr b="0" lang="en-US" sz="1600" spc="-1" strike="noStrike">
              <a:solidFill>
                <a:srgbClr val="000000"/>
              </a:solidFill>
              <a:latin typeface="Times New Roman"/>
            </a:endParaRPr>
          </a:p>
        </p:txBody>
      </p:sp>
      <p:sp>
        <p:nvSpPr>
          <p:cNvPr id="466" name=""/>
          <p:cNvSpPr/>
          <p:nvPr/>
        </p:nvSpPr>
        <p:spPr>
          <a:xfrm>
            <a:off x="5099040" y="2374920"/>
            <a:ext cx="0" cy="11397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749760" y="5191200"/>
            <a:ext cx="291960" cy="29196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536840" y="5361120"/>
            <a:ext cx="17524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xternal start trigger</a:t>
            </a:r>
            <a:endParaRPr b="0" lang="en-US" sz="1600" spc="-1" strike="noStrike">
              <a:solidFill>
                <a:srgbClr val="000000"/>
              </a:solidFill>
              <a:latin typeface="Times New Roman"/>
            </a:endParaRPr>
          </a:p>
        </p:txBody>
      </p:sp>
      <p:sp>
        <p:nvSpPr>
          <p:cNvPr id="469" name=""/>
          <p:cNvSpPr/>
          <p:nvPr/>
        </p:nvSpPr>
        <p:spPr>
          <a:xfrm>
            <a:off x="4294080" y="5329080"/>
            <a:ext cx="175284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xternal start trigger synchronized to Source</a:t>
            </a:r>
            <a:endParaRPr b="0" lang="en-US" sz="1600" spc="-1" strike="noStrike">
              <a:solidFill>
                <a:srgbClr val="000000"/>
              </a:solidFill>
              <a:latin typeface="Times New Roman"/>
            </a:endParaRPr>
          </a:p>
        </p:txBody>
      </p:sp>
      <p:sp>
        <p:nvSpPr>
          <p:cNvPr id="470" name=""/>
          <p:cNvSpPr/>
          <p:nvPr/>
        </p:nvSpPr>
        <p:spPr>
          <a:xfrm>
            <a:off x="6527880" y="5199120"/>
            <a:ext cx="1739880" cy="33588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unter</a:t>
            </a:r>
            <a:endParaRPr b="0" lang="en-US" sz="1600" spc="-1" strike="noStrike">
              <a:solidFill>
                <a:srgbClr val="000000"/>
              </a:solidFill>
              <a:latin typeface="Times New Roman"/>
            </a:endParaRPr>
          </a:p>
        </p:txBody>
      </p:sp>
      <p:sp>
        <p:nvSpPr>
          <p:cNvPr id="471" name=""/>
          <p:cNvSpPr/>
          <p:nvPr/>
        </p:nvSpPr>
        <p:spPr>
          <a:xfrm>
            <a:off x="1630440" y="5334120"/>
            <a:ext cx="2106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4065480" y="5333760"/>
            <a:ext cx="2444760" cy="4680"/>
          </a:xfrm>
          <a:prstGeom prst="line">
            <a:avLst/>
          </a:prstGeom>
          <a:ln w="12600">
            <a:solidFill>
              <a:srgbClr val="ffff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3" name=""/>
          <p:cNvSpPr/>
          <p:nvPr/>
        </p:nvSpPr>
        <p:spPr>
          <a:xfrm>
            <a:off x="4349880" y="2289240"/>
            <a:ext cx="0" cy="11397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 of Two Counters in One ASIC</a:t>
            </a:r>
            <a:endParaRPr b="1" lang="en-US" sz="3600" spc="-1" strike="noStrike">
              <a:solidFill>
                <a:srgbClr val="ffff66"/>
              </a:solidFill>
              <a:latin typeface="Arial"/>
            </a:endParaRPr>
          </a:p>
        </p:txBody>
      </p:sp>
      <p:sp>
        <p:nvSpPr>
          <p:cNvPr id="475" name=""/>
          <p:cNvSpPr/>
          <p:nvPr/>
        </p:nvSpPr>
        <p:spPr>
          <a:xfrm>
            <a:off x="920880" y="1682640"/>
            <a:ext cx="7454880" cy="410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108840" y="2374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3200400" y="1905120"/>
            <a:ext cx="4267080" cy="3352680"/>
            <a:chOff x="3200400" y="1905120"/>
            <a:chExt cx="4267080" cy="3352680"/>
          </a:xfrm>
        </p:grpSpPr>
        <p:sp>
          <p:nvSpPr>
            <p:cNvPr id="478" name=""/>
            <p:cNvSpPr/>
            <p:nvPr/>
          </p:nvSpPr>
          <p:spPr>
            <a:xfrm>
              <a:off x="3200400" y="1905120"/>
              <a:ext cx="0" cy="335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7467480" y="210132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200400" y="2101680"/>
              <a:ext cx="426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200400" y="5257800"/>
              <a:ext cx="22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3429000" y="4863960"/>
              <a:ext cx="0" cy="3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429000" y="4863960"/>
              <a:ext cx="4038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162920" y="210168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3200400" y="2514600"/>
            <a:ext cx="236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156000" y="249084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0</a:t>
            </a:r>
            <a:endParaRPr b="0" lang="en-US" sz="1800" spc="-1" strike="noStrike">
              <a:solidFill>
                <a:srgbClr val="000000"/>
              </a:solidFill>
              <a:latin typeface="Times New Roman"/>
            </a:endParaRPr>
          </a:p>
        </p:txBody>
      </p:sp>
      <p:sp>
        <p:nvSpPr>
          <p:cNvPr id="487" name=""/>
          <p:cNvSpPr/>
          <p:nvPr/>
        </p:nvSpPr>
        <p:spPr>
          <a:xfrm flipH="1">
            <a:off x="5257800" y="2971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89680" y="3024360"/>
            <a:ext cx="184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0 source</a:t>
            </a:r>
            <a:endParaRPr b="0" lang="en-US" sz="1800" spc="-1" strike="noStrike">
              <a:solidFill>
                <a:srgbClr val="000000"/>
              </a:solidFill>
              <a:latin typeface="Times New Roman"/>
            </a:endParaRPr>
          </a:p>
        </p:txBody>
      </p:sp>
      <p:sp>
        <p:nvSpPr>
          <p:cNvPr id="489" name=""/>
          <p:cNvSpPr/>
          <p:nvPr/>
        </p:nvSpPr>
        <p:spPr>
          <a:xfrm>
            <a:off x="5257800" y="2971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1447920" y="2514600"/>
            <a:ext cx="1752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1560" y="5165640"/>
            <a:ext cx="4319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XI-6602 (8 channel counter device)</a:t>
            </a:r>
            <a:endParaRPr b="0" lang="en-US" sz="2000" spc="-1" strike="noStrike">
              <a:solidFill>
                <a:srgbClr val="000000"/>
              </a:solidFill>
              <a:latin typeface="Times New Roman"/>
            </a:endParaRPr>
          </a:p>
        </p:txBody>
      </p:sp>
      <p:sp>
        <p:nvSpPr>
          <p:cNvPr id="492" name=""/>
          <p:cNvSpPr/>
          <p:nvPr/>
        </p:nvSpPr>
        <p:spPr>
          <a:xfrm>
            <a:off x="7162920" y="35812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362240" y="40528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1744560" y="373032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43120" y="371304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048040" y="371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066760" y="4035600"/>
            <a:ext cx="381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943240" y="2035080"/>
            <a:ext cx="312840" cy="40320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54560" y="2235240"/>
            <a:ext cx="3530520" cy="2387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5688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5866920" y="2514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57150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108840" y="3517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56000" y="363384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1</a:t>
            </a:r>
            <a:endParaRPr b="0" lang="en-US" sz="1800" spc="-1" strike="noStrike">
              <a:solidFill>
                <a:srgbClr val="000000"/>
              </a:solidFill>
              <a:latin typeface="Times New Roman"/>
            </a:endParaRPr>
          </a:p>
        </p:txBody>
      </p:sp>
      <p:sp>
        <p:nvSpPr>
          <p:cNvPr id="505" name=""/>
          <p:cNvSpPr/>
          <p:nvPr/>
        </p:nvSpPr>
        <p:spPr>
          <a:xfrm flipH="1">
            <a:off x="5257800" y="4114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089680" y="4167360"/>
            <a:ext cx="184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1 source</a:t>
            </a:r>
            <a:endParaRPr b="0" lang="en-US" sz="1800" spc="-1" strike="noStrike">
              <a:solidFill>
                <a:srgbClr val="000000"/>
              </a:solidFill>
              <a:latin typeface="Times New Roman"/>
            </a:endParaRPr>
          </a:p>
        </p:txBody>
      </p:sp>
      <p:sp>
        <p:nvSpPr>
          <p:cNvPr id="507" name=""/>
          <p:cNvSpPr/>
          <p:nvPr/>
        </p:nvSpPr>
        <p:spPr>
          <a:xfrm>
            <a:off x="5257800" y="4114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8" name=""/>
          <p:cNvSpPr/>
          <p:nvPr/>
        </p:nvSpPr>
        <p:spPr>
          <a:xfrm>
            <a:off x="5568840" y="3511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5866920" y="3657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5715000" y="3809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029200" y="25146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029200" y="3657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565440" y="3924360"/>
            <a:ext cx="92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C 0</a:t>
            </a:r>
            <a:endParaRPr b="0" lang="en-US" sz="1800" spc="-1" strike="noStrike">
              <a:solidFill>
                <a:srgbClr val="000000"/>
              </a:solidFill>
              <a:latin typeface="Times New Roman"/>
            </a:endParaRPr>
          </a:p>
        </p:txBody>
      </p:sp>
      <p:sp>
        <p:nvSpPr>
          <p:cNvPr id="514" name=""/>
          <p:cNvSpPr/>
          <p:nvPr/>
        </p:nvSpPr>
        <p:spPr>
          <a:xfrm>
            <a:off x="1024200" y="2625840"/>
            <a:ext cx="20124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a:t>
            </a:r>
            <a:endParaRPr b="0" lang="en-US" sz="1600" spc="-1" strike="noStrike">
              <a:solidFill>
                <a:srgbClr val="000000"/>
              </a:solidFill>
              <a:latin typeface="Times New Roman"/>
            </a:endParaRPr>
          </a:p>
        </p:txBody>
      </p:sp>
      <p:sp>
        <p:nvSpPr>
          <p:cNvPr id="515" name=""/>
          <p:cNvSpPr/>
          <p:nvPr/>
        </p:nvSpPr>
        <p:spPr>
          <a:xfrm>
            <a:off x="3472560" y="1712880"/>
            <a:ext cx="419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 synchronized to Source</a:t>
            </a:r>
            <a:endParaRPr b="0" lang="en-US" sz="1600" spc="-1" strike="noStrike">
              <a:solidFill>
                <a:srgbClr val="000000"/>
              </a:solidFill>
              <a:latin typeface="Times New Roman"/>
            </a:endParaRPr>
          </a:p>
        </p:txBody>
      </p:sp>
      <p:sp>
        <p:nvSpPr>
          <p:cNvPr id="516" name=""/>
          <p:cNvSpPr/>
          <p:nvPr/>
        </p:nvSpPr>
        <p:spPr>
          <a:xfrm flipV="1">
            <a:off x="5950080" y="2698920"/>
            <a:ext cx="1701720" cy="88416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7632720" y="2068200"/>
            <a:ext cx="0" cy="577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643200" y="2414520"/>
            <a:ext cx="46368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438360" y="2976480"/>
            <a:ext cx="9115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pad</a:t>
            </a:r>
            <a:endParaRPr b="0" lang="en-US" sz="1800" spc="-1" strike="noStrike">
              <a:solidFill>
                <a:srgbClr val="000000"/>
              </a:solidFill>
              <a:latin typeface="Times New Roman"/>
            </a:endParaRPr>
          </a:p>
        </p:txBody>
      </p:sp>
      <p:sp>
        <p:nvSpPr>
          <p:cNvPr id="520" name=""/>
          <p:cNvSpPr/>
          <p:nvPr/>
        </p:nvSpPr>
        <p:spPr>
          <a:xfrm>
            <a:off x="4097160" y="2629080"/>
            <a:ext cx="900360" cy="144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1" name=""/>
          <p:cNvSpPr/>
          <p:nvPr/>
        </p:nvSpPr>
        <p:spPr>
          <a:xfrm>
            <a:off x="4375080" y="2585880"/>
            <a:ext cx="5731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ns</a:t>
            </a:r>
            <a:endParaRPr b="0" lang="en-US" sz="1800" spc="-1" strike="noStrike">
              <a:solidFill>
                <a:srgbClr val="000000"/>
              </a:solidFill>
              <a:latin typeface="Times New Roman"/>
            </a:endParaRPr>
          </a:p>
        </p:txBody>
      </p:sp>
      <p:sp>
        <p:nvSpPr>
          <p:cNvPr id="522" name=""/>
          <p:cNvSpPr/>
          <p:nvPr/>
        </p:nvSpPr>
        <p:spPr>
          <a:xfrm>
            <a:off x="4129200" y="2833560"/>
            <a:ext cx="23796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384800" y="2833560"/>
            <a:ext cx="0" cy="901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384800" y="3751200"/>
            <a:ext cx="11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27720" y="3759120"/>
            <a:ext cx="5727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 of Two Counters in One ASIC</a:t>
            </a:r>
            <a:endParaRPr b="1" lang="en-US" sz="3600" spc="-1" strike="noStrike">
              <a:solidFill>
                <a:srgbClr val="ffff66"/>
              </a:solidFill>
              <a:latin typeface="Arial"/>
            </a:endParaRPr>
          </a:p>
        </p:txBody>
      </p:sp>
      <p:sp>
        <p:nvSpPr>
          <p:cNvPr id="527" name=""/>
          <p:cNvSpPr/>
          <p:nvPr/>
        </p:nvSpPr>
        <p:spPr>
          <a:xfrm>
            <a:off x="210960" y="204156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528" name=""/>
          <p:cNvSpPr/>
          <p:nvPr/>
        </p:nvSpPr>
        <p:spPr>
          <a:xfrm>
            <a:off x="207720" y="257508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529" name=""/>
          <p:cNvSpPr/>
          <p:nvPr/>
        </p:nvSpPr>
        <p:spPr>
          <a:xfrm>
            <a:off x="136440" y="371808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0</a:t>
            </a:r>
            <a:endParaRPr b="0" lang="en-US" sz="2000" spc="-1" strike="noStrike">
              <a:solidFill>
                <a:srgbClr val="000000"/>
              </a:solidFill>
              <a:latin typeface="Times New Roman"/>
            </a:endParaRPr>
          </a:p>
        </p:txBody>
      </p:sp>
      <p:sp>
        <p:nvSpPr>
          <p:cNvPr id="530" name=""/>
          <p:cNvSpPr/>
          <p:nvPr/>
        </p:nvSpPr>
        <p:spPr>
          <a:xfrm>
            <a:off x="5029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5410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410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791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172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553080" y="23623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934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315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696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077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5791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6172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6553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6934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7315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7696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8077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029200" y="2895480"/>
            <a:ext cx="10666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6095880" y="25909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095880" y="2590920"/>
            <a:ext cx="2362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029200" y="3352680"/>
            <a:ext cx="12952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6324480" y="3048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324480" y="3048120"/>
            <a:ext cx="21337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102360" y="5189400"/>
            <a:ext cx="1816200" cy="64116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igger seen by Ctrs 0 and 1</a:t>
            </a:r>
            <a:endParaRPr b="0" lang="en-US" sz="1800" spc="-1" strike="noStrike">
              <a:solidFill>
                <a:srgbClr val="000000"/>
              </a:solidFill>
              <a:latin typeface="Times New Roman"/>
            </a:endParaRPr>
          </a:p>
        </p:txBody>
      </p:sp>
      <p:sp>
        <p:nvSpPr>
          <p:cNvPr id="554" name=""/>
          <p:cNvSpPr/>
          <p:nvPr/>
        </p:nvSpPr>
        <p:spPr>
          <a:xfrm>
            <a:off x="169920" y="3124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0 after 3 ns delay</a:t>
            </a:r>
            <a:endParaRPr b="0" lang="en-US" sz="2000" spc="-1" strike="noStrike">
              <a:solidFill>
                <a:srgbClr val="000000"/>
              </a:solidFill>
              <a:latin typeface="Times New Roman"/>
            </a:endParaRPr>
          </a:p>
        </p:txBody>
      </p:sp>
      <p:sp>
        <p:nvSpPr>
          <p:cNvPr id="555" name=""/>
          <p:cNvSpPr/>
          <p:nvPr/>
        </p:nvSpPr>
        <p:spPr>
          <a:xfrm>
            <a:off x="5029200" y="396252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6934320" y="36572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934320" y="365760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200" y="4495680"/>
            <a:ext cx="1600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6629400" y="4191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629400" y="4191120"/>
            <a:ext cx="182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69920" y="4267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1 after 7 ns delay</a:t>
            </a:r>
            <a:endParaRPr b="0" lang="en-US" sz="2000" spc="-1" strike="noStrike">
              <a:solidFill>
                <a:srgbClr val="000000"/>
              </a:solidFill>
              <a:latin typeface="Times New Roman"/>
            </a:endParaRPr>
          </a:p>
        </p:txBody>
      </p:sp>
      <p:sp>
        <p:nvSpPr>
          <p:cNvPr id="562" name=""/>
          <p:cNvSpPr/>
          <p:nvPr/>
        </p:nvSpPr>
        <p:spPr>
          <a:xfrm>
            <a:off x="5029200" y="502920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6934320" y="472392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34320" y="472428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36440" y="478476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1</a:t>
            </a:r>
            <a:endParaRPr b="0" lang="en-US" sz="2000" spc="-1" strike="noStrike">
              <a:solidFill>
                <a:srgbClr val="000000"/>
              </a:solidFill>
              <a:latin typeface="Times New Roman"/>
            </a:endParaRPr>
          </a:p>
        </p:txBody>
      </p:sp>
      <p:sp>
        <p:nvSpPr>
          <p:cNvPr id="566" name=""/>
          <p:cNvSpPr/>
          <p:nvPr/>
        </p:nvSpPr>
        <p:spPr>
          <a:xfrm>
            <a:off x="7696080" y="2362320"/>
            <a:ext cx="0" cy="281916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433840" y="2035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a:t>
            </a:r>
            <a:endParaRPr b="0" lang="en-US" sz="2400" spc="-1" strike="noStrike">
              <a:solidFill>
                <a:srgbClr val="000000"/>
              </a:solidFill>
              <a:latin typeface="Times New Roman"/>
            </a:endParaRPr>
          </a:p>
        </p:txBody>
      </p:sp>
      <p:sp>
        <p:nvSpPr>
          <p:cNvPr id="568" name=""/>
          <p:cNvSpPr/>
          <p:nvPr/>
        </p:nvSpPr>
        <p:spPr>
          <a:xfrm>
            <a:off x="6183360" y="20527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endParaRPr b="0" lang="en-US" sz="2400" spc="-1" strike="noStrike">
              <a:solidFill>
                <a:srgbClr val="000000"/>
              </a:solidFill>
              <a:latin typeface="Times New Roman"/>
            </a:endParaRPr>
          </a:p>
        </p:txBody>
      </p:sp>
      <p:sp>
        <p:nvSpPr>
          <p:cNvPr id="569" name=""/>
          <p:cNvSpPr/>
          <p:nvPr/>
        </p:nvSpPr>
        <p:spPr>
          <a:xfrm>
            <a:off x="6966000" y="2035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3</a:t>
            </a:r>
            <a:endParaRPr b="0" lang="en-US" sz="2400" spc="-1" strike="noStrike">
              <a:solidFill>
                <a:srgbClr val="000000"/>
              </a:solidFill>
              <a:latin typeface="Times New Roman"/>
            </a:endParaRPr>
          </a:p>
        </p:txBody>
      </p:sp>
      <p:sp>
        <p:nvSpPr>
          <p:cNvPr id="570" name=""/>
          <p:cNvSpPr/>
          <p:nvPr/>
        </p:nvSpPr>
        <p:spPr>
          <a:xfrm>
            <a:off x="7729560" y="2035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ole of Timing in Measurement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is a fundamental component of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timing in measurement</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clock for input</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clock for output</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er clock for frequency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error results in measurement err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 of Two Counters in One ASIC</a:t>
            </a:r>
            <a:endParaRPr b="1" lang="en-US" sz="3600" spc="-1" strike="noStrike">
              <a:solidFill>
                <a:srgbClr val="ffff66"/>
              </a:solidFill>
              <a:latin typeface="Arial"/>
            </a:endParaRPr>
          </a:p>
        </p:txBody>
      </p:sp>
      <p:sp>
        <p:nvSpPr>
          <p:cNvPr id="572" name=""/>
          <p:cNvSpPr/>
          <p:nvPr/>
        </p:nvSpPr>
        <p:spPr>
          <a:xfrm>
            <a:off x="210960" y="204156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573" name=""/>
          <p:cNvSpPr/>
          <p:nvPr/>
        </p:nvSpPr>
        <p:spPr>
          <a:xfrm>
            <a:off x="207720" y="257508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574" name=""/>
          <p:cNvSpPr/>
          <p:nvPr/>
        </p:nvSpPr>
        <p:spPr>
          <a:xfrm>
            <a:off x="136440" y="371808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0</a:t>
            </a:r>
            <a:endParaRPr b="0" lang="en-US" sz="2000" spc="-1" strike="noStrike">
              <a:solidFill>
                <a:srgbClr val="000000"/>
              </a:solidFill>
              <a:latin typeface="Times New Roman"/>
            </a:endParaRPr>
          </a:p>
        </p:txBody>
      </p:sp>
      <p:sp>
        <p:nvSpPr>
          <p:cNvPr id="575" name=""/>
          <p:cNvSpPr/>
          <p:nvPr/>
        </p:nvSpPr>
        <p:spPr>
          <a:xfrm>
            <a:off x="5029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5410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410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91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172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553080" y="23623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934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315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96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8077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5791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6172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6553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6934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7315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7696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8077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029200" y="2895480"/>
            <a:ext cx="7621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5791320" y="25909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791320" y="2590920"/>
            <a:ext cx="2666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029200" y="3352680"/>
            <a:ext cx="9907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019920" y="3048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19920" y="3048120"/>
            <a:ext cx="24382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959360" y="5722920"/>
            <a:ext cx="2120760" cy="33588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igger seen by Ctr 0</a:t>
            </a:r>
            <a:endParaRPr b="0" lang="en-US" sz="1600" spc="-1" strike="noStrike">
              <a:solidFill>
                <a:srgbClr val="000000"/>
              </a:solidFill>
              <a:latin typeface="Times New Roman"/>
            </a:endParaRPr>
          </a:p>
        </p:txBody>
      </p:sp>
      <p:sp>
        <p:nvSpPr>
          <p:cNvPr id="599" name=""/>
          <p:cNvSpPr/>
          <p:nvPr/>
        </p:nvSpPr>
        <p:spPr>
          <a:xfrm>
            <a:off x="169920" y="3124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0 after 3 ns delay</a:t>
            </a:r>
            <a:endParaRPr b="0" lang="en-US" sz="2000" spc="-1" strike="noStrike">
              <a:solidFill>
                <a:srgbClr val="000000"/>
              </a:solidFill>
              <a:latin typeface="Times New Roman"/>
            </a:endParaRPr>
          </a:p>
        </p:txBody>
      </p:sp>
      <p:sp>
        <p:nvSpPr>
          <p:cNvPr id="600" name=""/>
          <p:cNvSpPr/>
          <p:nvPr/>
        </p:nvSpPr>
        <p:spPr>
          <a:xfrm>
            <a:off x="5029200" y="3962520"/>
            <a:ext cx="1143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6172200" y="36572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172200" y="3657600"/>
            <a:ext cx="2286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029200" y="4495680"/>
            <a:ext cx="12952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6324480" y="4191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324480" y="4191120"/>
            <a:ext cx="21337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69920" y="4267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1 after 7 ns delay</a:t>
            </a:r>
            <a:endParaRPr b="0" lang="en-US" sz="2000" spc="-1" strike="noStrike">
              <a:solidFill>
                <a:srgbClr val="000000"/>
              </a:solidFill>
              <a:latin typeface="Times New Roman"/>
            </a:endParaRPr>
          </a:p>
        </p:txBody>
      </p:sp>
      <p:sp>
        <p:nvSpPr>
          <p:cNvPr id="607" name=""/>
          <p:cNvSpPr/>
          <p:nvPr/>
        </p:nvSpPr>
        <p:spPr>
          <a:xfrm>
            <a:off x="5029200" y="502920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V="1">
            <a:off x="6934320" y="472392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934320" y="472428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36440" y="478476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1</a:t>
            </a:r>
            <a:endParaRPr b="0" lang="en-US" sz="2000" spc="-1" strike="noStrike">
              <a:solidFill>
                <a:srgbClr val="000000"/>
              </a:solidFill>
              <a:latin typeface="Times New Roman"/>
            </a:endParaRPr>
          </a:p>
        </p:txBody>
      </p:sp>
      <p:sp>
        <p:nvSpPr>
          <p:cNvPr id="611" name=""/>
          <p:cNvSpPr/>
          <p:nvPr/>
        </p:nvSpPr>
        <p:spPr>
          <a:xfrm>
            <a:off x="7696080" y="2362320"/>
            <a:ext cx="0" cy="281916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934320" y="2362320"/>
            <a:ext cx="0" cy="327636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15320" y="5265720"/>
            <a:ext cx="2128680" cy="33588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igger seen by Ctr 1</a:t>
            </a:r>
            <a:endParaRPr b="0" lang="en-US" sz="1600" spc="-1" strike="noStrike">
              <a:solidFill>
                <a:srgbClr val="000000"/>
              </a:solidFill>
              <a:latin typeface="Times New Roman"/>
            </a:endParaRPr>
          </a:p>
        </p:txBody>
      </p:sp>
      <p:sp>
        <p:nvSpPr>
          <p:cNvPr id="614" name=""/>
          <p:cNvSpPr/>
          <p:nvPr/>
        </p:nvSpPr>
        <p:spPr>
          <a:xfrm>
            <a:off x="5433120" y="20350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000000"/>
              </a:solidFill>
              <a:latin typeface="Times New Roman"/>
            </a:endParaRPr>
          </a:p>
        </p:txBody>
      </p:sp>
      <p:sp>
        <p:nvSpPr>
          <p:cNvPr id="615" name=""/>
          <p:cNvSpPr/>
          <p:nvPr/>
        </p:nvSpPr>
        <p:spPr>
          <a:xfrm>
            <a:off x="6197040" y="20509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endParaRPr b="0" lang="en-US" sz="2000" spc="-1" strike="noStrike">
              <a:solidFill>
                <a:srgbClr val="000000"/>
              </a:solidFill>
              <a:latin typeface="Times New Roman"/>
            </a:endParaRPr>
          </a:p>
        </p:txBody>
      </p:sp>
      <p:sp>
        <p:nvSpPr>
          <p:cNvPr id="616" name=""/>
          <p:cNvSpPr/>
          <p:nvPr/>
        </p:nvSpPr>
        <p:spPr>
          <a:xfrm>
            <a:off x="6962040" y="20527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a:t>
            </a:r>
            <a:endParaRPr b="0" lang="en-US" sz="2000" spc="-1" strike="noStrike">
              <a:solidFill>
                <a:srgbClr val="000000"/>
              </a:solidFill>
              <a:latin typeface="Times New Roman"/>
            </a:endParaRPr>
          </a:p>
        </p:txBody>
      </p:sp>
      <p:sp>
        <p:nvSpPr>
          <p:cNvPr id="617" name=""/>
          <p:cNvSpPr/>
          <p:nvPr/>
        </p:nvSpPr>
        <p:spPr>
          <a:xfrm>
            <a:off x="7711200" y="20685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Each Counter</a:t>
            </a:r>
            <a:endParaRPr b="1" lang="en-US" sz="3600" spc="-1" strike="noStrike">
              <a:solidFill>
                <a:srgbClr val="ffff66"/>
              </a:solidFill>
              <a:latin typeface="Arial"/>
            </a:endParaRPr>
          </a:p>
        </p:txBody>
      </p:sp>
      <p:sp>
        <p:nvSpPr>
          <p:cNvPr id="619" name=""/>
          <p:cNvSpPr/>
          <p:nvPr/>
        </p:nvSpPr>
        <p:spPr>
          <a:xfrm>
            <a:off x="920880" y="1682640"/>
            <a:ext cx="7454880" cy="410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08840" y="2374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3200400" y="1905120"/>
            <a:ext cx="4267080" cy="3352680"/>
            <a:chOff x="3200400" y="1905120"/>
            <a:chExt cx="4267080" cy="3352680"/>
          </a:xfrm>
        </p:grpSpPr>
        <p:sp>
          <p:nvSpPr>
            <p:cNvPr id="622" name=""/>
            <p:cNvSpPr/>
            <p:nvPr/>
          </p:nvSpPr>
          <p:spPr>
            <a:xfrm>
              <a:off x="3200400" y="1905120"/>
              <a:ext cx="0" cy="335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7467480" y="210132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00400" y="2101680"/>
              <a:ext cx="426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00400" y="5257800"/>
              <a:ext cx="22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3429000" y="4863960"/>
              <a:ext cx="0" cy="3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429000" y="4863960"/>
              <a:ext cx="4038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162920" y="210168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9" name=""/>
          <p:cNvSpPr/>
          <p:nvPr/>
        </p:nvSpPr>
        <p:spPr>
          <a:xfrm>
            <a:off x="3200400" y="2514600"/>
            <a:ext cx="533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974880" y="2109960"/>
            <a:ext cx="208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trigger</a:t>
            </a:r>
            <a:endParaRPr b="0" lang="en-US" sz="1600" spc="-1" strike="noStrike">
              <a:solidFill>
                <a:srgbClr val="000000"/>
              </a:solidFill>
              <a:latin typeface="Times New Roman"/>
            </a:endParaRPr>
          </a:p>
        </p:txBody>
      </p:sp>
      <p:sp>
        <p:nvSpPr>
          <p:cNvPr id="631" name=""/>
          <p:cNvSpPr/>
          <p:nvPr/>
        </p:nvSpPr>
        <p:spPr>
          <a:xfrm>
            <a:off x="6157080" y="249084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a:t>
            </a:r>
            <a:endParaRPr b="0" lang="en-US" sz="1600" spc="-1" strike="noStrike">
              <a:solidFill>
                <a:srgbClr val="000000"/>
              </a:solidFill>
              <a:latin typeface="Times New Roman"/>
            </a:endParaRPr>
          </a:p>
        </p:txBody>
      </p:sp>
      <p:sp>
        <p:nvSpPr>
          <p:cNvPr id="632" name=""/>
          <p:cNvSpPr/>
          <p:nvPr/>
        </p:nvSpPr>
        <p:spPr>
          <a:xfrm flipH="1">
            <a:off x="5257800" y="2971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089680" y="3024360"/>
            <a:ext cx="1844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 Source</a:t>
            </a:r>
            <a:endParaRPr b="0" lang="en-US" sz="1600" spc="-1" strike="noStrike">
              <a:solidFill>
                <a:srgbClr val="000000"/>
              </a:solidFill>
              <a:latin typeface="Times New Roman"/>
            </a:endParaRPr>
          </a:p>
        </p:txBody>
      </p:sp>
      <p:sp>
        <p:nvSpPr>
          <p:cNvPr id="634" name=""/>
          <p:cNvSpPr/>
          <p:nvPr/>
        </p:nvSpPr>
        <p:spPr>
          <a:xfrm>
            <a:off x="5257800" y="2971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5" name=""/>
          <p:cNvSpPr/>
          <p:nvPr/>
        </p:nvSpPr>
        <p:spPr>
          <a:xfrm>
            <a:off x="1447920" y="2514600"/>
            <a:ext cx="1752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481560" y="5165640"/>
            <a:ext cx="4319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XI-6602 (8 channel counter device)</a:t>
            </a:r>
            <a:endParaRPr b="0" lang="en-US" sz="2000" spc="-1" strike="noStrike">
              <a:solidFill>
                <a:srgbClr val="000000"/>
              </a:solidFill>
              <a:latin typeface="Times New Roman"/>
            </a:endParaRPr>
          </a:p>
        </p:txBody>
      </p:sp>
      <p:sp>
        <p:nvSpPr>
          <p:cNvPr id="637" name=""/>
          <p:cNvSpPr/>
          <p:nvPr/>
        </p:nvSpPr>
        <p:spPr>
          <a:xfrm>
            <a:off x="7162920" y="35812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4479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182880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828800" y="2590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213372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1337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54560" y="2235240"/>
            <a:ext cx="3530520" cy="2387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5688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5866920" y="2514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57150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08840" y="3517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157080" y="363384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1</a:t>
            </a:r>
            <a:endParaRPr b="0" lang="en-US" sz="1600" spc="-1" strike="noStrike">
              <a:solidFill>
                <a:srgbClr val="000000"/>
              </a:solidFill>
              <a:latin typeface="Times New Roman"/>
            </a:endParaRPr>
          </a:p>
        </p:txBody>
      </p:sp>
      <p:sp>
        <p:nvSpPr>
          <p:cNvPr id="649" name=""/>
          <p:cNvSpPr/>
          <p:nvPr/>
        </p:nvSpPr>
        <p:spPr>
          <a:xfrm flipH="1">
            <a:off x="5257800" y="4114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89680" y="4167360"/>
            <a:ext cx="1844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1 Source</a:t>
            </a:r>
            <a:endParaRPr b="0" lang="en-US" sz="1600" spc="-1" strike="noStrike">
              <a:solidFill>
                <a:srgbClr val="000000"/>
              </a:solidFill>
              <a:latin typeface="Times New Roman"/>
            </a:endParaRPr>
          </a:p>
        </p:txBody>
      </p:sp>
      <p:sp>
        <p:nvSpPr>
          <p:cNvPr id="651" name=""/>
          <p:cNvSpPr/>
          <p:nvPr/>
        </p:nvSpPr>
        <p:spPr>
          <a:xfrm>
            <a:off x="5257800" y="4114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568840" y="3511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5866920" y="3657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5715000" y="3809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029200" y="25146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029200" y="3657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565080" y="4014720"/>
            <a:ext cx="828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C 0</a:t>
            </a:r>
            <a:endParaRPr b="0" lang="en-US" sz="1600" spc="-1" strike="noStrike">
              <a:solidFill>
                <a:srgbClr val="000000"/>
              </a:solidFill>
              <a:latin typeface="Times New Roman"/>
            </a:endParaRPr>
          </a:p>
        </p:txBody>
      </p:sp>
      <p:sp>
        <p:nvSpPr>
          <p:cNvPr id="658" name=""/>
          <p:cNvSpPr/>
          <p:nvPr/>
        </p:nvSpPr>
        <p:spPr>
          <a:xfrm>
            <a:off x="37400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038480" y="2514600"/>
            <a:ext cx="15242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38862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565440" y="2948040"/>
            <a:ext cx="1844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base</a:t>
            </a:r>
            <a:endParaRPr b="0" lang="en-US" sz="1600" spc="-1" strike="noStrike">
              <a:solidFill>
                <a:srgbClr val="000000"/>
              </a:solidFill>
              <a:latin typeface="Times New Roman"/>
            </a:endParaRPr>
          </a:p>
        </p:txBody>
      </p:sp>
      <p:sp>
        <p:nvSpPr>
          <p:cNvPr id="662" name=""/>
          <p:cNvSpPr/>
          <p:nvPr/>
        </p:nvSpPr>
        <p:spPr>
          <a:xfrm>
            <a:off x="3796200" y="1717560"/>
            <a:ext cx="3085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trigger synchronized at pad</a:t>
            </a:r>
            <a:endParaRPr b="0" lang="en-US" sz="1600" spc="-1" strike="noStrike">
              <a:solidFill>
                <a:srgbClr val="000000"/>
              </a:solidFill>
              <a:latin typeface="Times New Roman"/>
            </a:endParaRPr>
          </a:p>
        </p:txBody>
      </p:sp>
      <p:sp>
        <p:nvSpPr>
          <p:cNvPr id="663" name=""/>
          <p:cNvSpPr/>
          <p:nvPr/>
        </p:nvSpPr>
        <p:spPr>
          <a:xfrm flipH="1">
            <a:off x="4164120" y="2017800"/>
            <a:ext cx="255600" cy="4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60840" y="2279520"/>
            <a:ext cx="4633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102200" y="2602080"/>
            <a:ext cx="911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 p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Each Counter</a:t>
            </a:r>
            <a:endParaRPr b="1" lang="en-US" sz="3600" spc="-1" strike="noStrike">
              <a:solidFill>
                <a:srgbClr val="ffff66"/>
              </a:solidFill>
              <a:latin typeface="Arial"/>
            </a:endParaRPr>
          </a:p>
        </p:txBody>
      </p:sp>
      <p:sp>
        <p:nvSpPr>
          <p:cNvPr id="667" name=""/>
          <p:cNvSpPr/>
          <p:nvPr/>
        </p:nvSpPr>
        <p:spPr>
          <a:xfrm>
            <a:off x="210960" y="173664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668" name=""/>
          <p:cNvSpPr/>
          <p:nvPr/>
        </p:nvSpPr>
        <p:spPr>
          <a:xfrm>
            <a:off x="207720" y="227016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669" name=""/>
          <p:cNvSpPr/>
          <p:nvPr/>
        </p:nvSpPr>
        <p:spPr>
          <a:xfrm>
            <a:off x="212760" y="341316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0 after 3 ns delay</a:t>
            </a:r>
            <a:endParaRPr b="0" lang="en-US" sz="2000" spc="-1" strike="noStrike">
              <a:solidFill>
                <a:srgbClr val="000000"/>
              </a:solidFill>
              <a:latin typeface="Times New Roman"/>
            </a:endParaRPr>
          </a:p>
        </p:txBody>
      </p:sp>
      <p:sp>
        <p:nvSpPr>
          <p:cNvPr id="670" name=""/>
          <p:cNvSpPr/>
          <p:nvPr/>
        </p:nvSpPr>
        <p:spPr>
          <a:xfrm>
            <a:off x="5029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54100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410080" y="175248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791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172200" y="17524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53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934320" y="17524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15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696080" y="175248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077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a:off x="57913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61722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65530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69343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73152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76960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80773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029200" y="2590920"/>
            <a:ext cx="7621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5791320" y="22856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791320" y="2286000"/>
            <a:ext cx="2666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29200" y="3048120"/>
            <a:ext cx="1143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172200" y="27428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172200" y="2743200"/>
            <a:ext cx="2286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69920" y="281952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pad</a:t>
            </a:r>
            <a:endParaRPr b="0" lang="en-US" sz="2000" spc="-1" strike="noStrike">
              <a:solidFill>
                <a:srgbClr val="000000"/>
              </a:solidFill>
              <a:latin typeface="Times New Roman"/>
            </a:endParaRPr>
          </a:p>
        </p:txBody>
      </p:sp>
      <p:sp>
        <p:nvSpPr>
          <p:cNvPr id="694" name=""/>
          <p:cNvSpPr/>
          <p:nvPr/>
        </p:nvSpPr>
        <p:spPr>
          <a:xfrm>
            <a:off x="5029200" y="419112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6934320" y="38858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934320" y="388620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029200" y="4724280"/>
            <a:ext cx="167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6705720" y="44197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705720" y="4414680"/>
            <a:ext cx="1744560" cy="5040"/>
          </a:xfrm>
          <a:prstGeom prst="line">
            <a:avLst/>
          </a:prstGeom>
          <a:ln w="12600">
            <a:solidFill>
              <a:srgbClr val="ffff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00" name=""/>
          <p:cNvSpPr/>
          <p:nvPr/>
        </p:nvSpPr>
        <p:spPr>
          <a:xfrm>
            <a:off x="169920" y="396252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0</a:t>
            </a:r>
            <a:endParaRPr b="0" lang="en-US" sz="2000" spc="-1" strike="noStrike">
              <a:solidFill>
                <a:srgbClr val="000000"/>
              </a:solidFill>
              <a:latin typeface="Times New Roman"/>
            </a:endParaRPr>
          </a:p>
        </p:txBody>
      </p:sp>
      <p:sp>
        <p:nvSpPr>
          <p:cNvPr id="701" name=""/>
          <p:cNvSpPr/>
          <p:nvPr/>
        </p:nvSpPr>
        <p:spPr>
          <a:xfrm>
            <a:off x="5029200" y="525780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6934320" y="495252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934320" y="495288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12760" y="447984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1 after 7 ns delay</a:t>
            </a:r>
            <a:endParaRPr b="0" lang="en-US" sz="2000" spc="-1" strike="noStrike">
              <a:solidFill>
                <a:srgbClr val="000000"/>
              </a:solidFill>
              <a:latin typeface="Times New Roman"/>
            </a:endParaRPr>
          </a:p>
        </p:txBody>
      </p:sp>
      <p:sp>
        <p:nvSpPr>
          <p:cNvPr id="705" name=""/>
          <p:cNvSpPr/>
          <p:nvPr/>
        </p:nvSpPr>
        <p:spPr>
          <a:xfrm>
            <a:off x="7696080" y="2057400"/>
            <a:ext cx="0" cy="297180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69920" y="502920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1</a:t>
            </a:r>
            <a:endParaRPr b="0" lang="en-US" sz="2000" spc="-1" strike="noStrike">
              <a:solidFill>
                <a:srgbClr val="000000"/>
              </a:solidFill>
              <a:latin typeface="Times New Roman"/>
            </a:endParaRPr>
          </a:p>
        </p:txBody>
      </p:sp>
      <p:sp>
        <p:nvSpPr>
          <p:cNvPr id="707" name=""/>
          <p:cNvSpPr/>
          <p:nvPr/>
        </p:nvSpPr>
        <p:spPr>
          <a:xfrm>
            <a:off x="5029200" y="3657600"/>
            <a:ext cx="1371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6400800" y="33523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400800" y="3352680"/>
            <a:ext cx="20574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93080" y="5037120"/>
            <a:ext cx="1815840" cy="64116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igger seen by Ctrs 0 and 1</a:t>
            </a:r>
            <a:endParaRPr b="0" lang="en-US" sz="1800" spc="-1" strike="noStrike">
              <a:solidFill>
                <a:srgbClr val="000000"/>
              </a:solidFill>
              <a:latin typeface="Times New Roman"/>
            </a:endParaRPr>
          </a:p>
        </p:txBody>
      </p:sp>
      <p:sp>
        <p:nvSpPr>
          <p:cNvPr id="711" name=""/>
          <p:cNvSpPr/>
          <p:nvPr/>
        </p:nvSpPr>
        <p:spPr>
          <a:xfrm>
            <a:off x="543312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000000"/>
              </a:solidFill>
              <a:latin typeface="Times New Roman"/>
            </a:endParaRPr>
          </a:p>
        </p:txBody>
      </p:sp>
      <p:sp>
        <p:nvSpPr>
          <p:cNvPr id="712" name=""/>
          <p:cNvSpPr/>
          <p:nvPr/>
        </p:nvSpPr>
        <p:spPr>
          <a:xfrm>
            <a:off x="6198480" y="17622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endParaRPr b="0" lang="en-US" sz="2000" spc="-1" strike="noStrike">
              <a:solidFill>
                <a:srgbClr val="000000"/>
              </a:solidFill>
              <a:latin typeface="Times New Roman"/>
            </a:endParaRPr>
          </a:p>
        </p:txBody>
      </p:sp>
      <p:sp>
        <p:nvSpPr>
          <p:cNvPr id="713" name=""/>
          <p:cNvSpPr/>
          <p:nvPr/>
        </p:nvSpPr>
        <p:spPr>
          <a:xfrm>
            <a:off x="6946200" y="17445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a:t>
            </a:r>
            <a:endParaRPr b="0" lang="en-US" sz="2000" spc="-1" strike="noStrike">
              <a:solidFill>
                <a:srgbClr val="000000"/>
              </a:solidFill>
              <a:latin typeface="Times New Roman"/>
            </a:endParaRPr>
          </a:p>
        </p:txBody>
      </p:sp>
      <p:sp>
        <p:nvSpPr>
          <p:cNvPr id="714" name=""/>
          <p:cNvSpPr/>
          <p:nvPr/>
        </p:nvSpPr>
        <p:spPr>
          <a:xfrm>
            <a:off x="7709760" y="17445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715"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16"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PlaceHolder 1"/>
          <p:cNvSpPr>
            <a:spLocks noGrp="1"/>
          </p:cNvSpPr>
          <p:nvPr>
            <p:ph type="title"/>
          </p:nvPr>
        </p:nvSpPr>
        <p:spPr>
          <a:xfrm>
            <a:off x="615960" y="26964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Single Triggered Pulse to Synchronized to Source</a:t>
            </a:r>
            <a:endParaRPr b="1" lang="en-US" sz="3600" spc="-1" strike="noStrike">
              <a:solidFill>
                <a:srgbClr val="ffff66"/>
              </a:solidFill>
              <a:latin typeface="Arial"/>
            </a:endParaRPr>
          </a:p>
        </p:txBody>
      </p:sp>
      <p:sp>
        <p:nvSpPr>
          <p:cNvPr id="71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e is generated out output of counter upon receiving a pulse or trigger at Gate</a:t>
            </a:r>
            <a:endParaRPr b="0" lang="en-US" sz="2800" spc="-1" strike="noStrike">
              <a:solidFill>
                <a:srgbClr val="ffffff"/>
              </a:solidFill>
              <a:latin typeface="Arial"/>
            </a:endParaRPr>
          </a:p>
        </p:txBody>
      </p:sp>
      <p:graphicFrame>
        <p:nvGraphicFramePr>
          <p:cNvPr id="719" name=""/>
          <p:cNvGraphicFramePr/>
          <p:nvPr/>
        </p:nvGraphicFramePr>
        <p:xfrm>
          <a:off x="871560" y="3219480"/>
          <a:ext cx="6924600" cy="2228760"/>
        </p:xfrm>
        <a:graphic>
          <a:graphicData uri="http://schemas.openxmlformats.org/presentationml/2006/ole">
            <p:oleObj r:id="rId1" spid="">
              <p:embed/>
              <p:pic>
                <p:nvPicPr>
                  <p:cNvPr id="720" name="" descr=""/>
                  <p:cNvPicPr/>
                  <p:nvPr/>
                </p:nvPicPr>
                <p:blipFill>
                  <a:blip r:embed="rId2"/>
                  <a:stretch/>
                </p:blipFill>
                <p:spPr>
                  <a:xfrm>
                    <a:off x="871560" y="3219480"/>
                    <a:ext cx="6924600" cy="2228760"/>
                  </a:xfrm>
                  <a:prstGeom prst="rect">
                    <a:avLst/>
                  </a:prstGeom>
                  <a:ln w="0">
                    <a:noFill/>
                  </a:ln>
                </p:spPr>
              </p:pic>
            </p:oleObj>
          </a:graphicData>
        </a:graphic>
      </p:graphicFrame>
      <p:sp>
        <p:nvSpPr>
          <p:cNvPr id="721" name=""/>
          <p:cNvSpPr/>
          <p:nvPr/>
        </p:nvSpPr>
        <p:spPr>
          <a:xfrm>
            <a:off x="1445760" y="358128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a:t>
            </a:r>
            <a:endParaRPr b="0" lang="en-US" sz="2000" spc="-1" strike="noStrike">
              <a:solidFill>
                <a:srgbClr val="000000"/>
              </a:solidFill>
              <a:latin typeface="Times New Roman"/>
            </a:endParaRPr>
          </a:p>
        </p:txBody>
      </p:sp>
      <p:sp>
        <p:nvSpPr>
          <p:cNvPr id="722" name=""/>
          <p:cNvSpPr/>
          <p:nvPr/>
        </p:nvSpPr>
        <p:spPr>
          <a:xfrm>
            <a:off x="1218600" y="41148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723" name=""/>
          <p:cNvSpPr/>
          <p:nvPr/>
        </p:nvSpPr>
        <p:spPr>
          <a:xfrm>
            <a:off x="1598760" y="4648320"/>
            <a:ext cx="62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a:t>
            </a:r>
            <a:endParaRPr b="0" lang="en-US" sz="2000" spc="-1" strike="noStrike">
              <a:solidFill>
                <a:srgbClr val="000000"/>
              </a:solidFill>
              <a:latin typeface="Times New Roman"/>
            </a:endParaRPr>
          </a:p>
        </p:txBody>
      </p:sp>
      <p:sp>
        <p:nvSpPr>
          <p:cNvPr id="724" name=""/>
          <p:cNvSpPr/>
          <p:nvPr/>
        </p:nvSpPr>
        <p:spPr>
          <a:xfrm>
            <a:off x="4343400" y="3352680"/>
            <a:ext cx="32767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00600" y="4419720"/>
            <a:ext cx="22096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279600" y="3870360"/>
            <a:ext cx="33163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656240" y="4975200"/>
            <a:ext cx="19047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728" name=""/>
          <p:cNvSpPr/>
          <p:nvPr/>
        </p:nvSpPr>
        <p:spPr>
          <a:xfrm>
            <a:off x="887400" y="1611360"/>
            <a:ext cx="6110280" cy="4548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Counters in Two ASICs </a:t>
            </a:r>
            <a:endParaRPr b="1" lang="en-US" sz="3600" spc="-1" strike="noStrike">
              <a:solidFill>
                <a:srgbClr val="ffff66"/>
              </a:solidFill>
              <a:latin typeface="Arial"/>
            </a:endParaRPr>
          </a:p>
        </p:txBody>
      </p:sp>
      <p:sp>
        <p:nvSpPr>
          <p:cNvPr id="730" name=""/>
          <p:cNvSpPr/>
          <p:nvPr/>
        </p:nvSpPr>
        <p:spPr>
          <a:xfrm>
            <a:off x="976680" y="2109960"/>
            <a:ext cx="2314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trigger</a:t>
            </a:r>
            <a:endParaRPr b="0" lang="en-US" sz="1800" spc="-1" strike="noStrike">
              <a:solidFill>
                <a:srgbClr val="000000"/>
              </a:solidFill>
              <a:latin typeface="Times New Roman"/>
            </a:endParaRPr>
          </a:p>
        </p:txBody>
      </p:sp>
      <p:sp>
        <p:nvSpPr>
          <p:cNvPr id="731" name=""/>
          <p:cNvSpPr/>
          <p:nvPr/>
        </p:nvSpPr>
        <p:spPr>
          <a:xfrm>
            <a:off x="1447920" y="2514600"/>
            <a:ext cx="30477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4479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182880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828800" y="2590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213372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1337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033280" y="3317760"/>
            <a:ext cx="90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C 0</a:t>
            </a:r>
            <a:endParaRPr b="0" lang="en-US" sz="1800" spc="-1" strike="noStrike">
              <a:solidFill>
                <a:srgbClr val="000000"/>
              </a:solidFill>
              <a:latin typeface="Times New Roman"/>
            </a:endParaRPr>
          </a:p>
        </p:txBody>
      </p:sp>
      <p:sp>
        <p:nvSpPr>
          <p:cNvPr id="738" name=""/>
          <p:cNvSpPr/>
          <p:nvPr/>
        </p:nvSpPr>
        <p:spPr>
          <a:xfrm>
            <a:off x="5111640" y="1917720"/>
            <a:ext cx="113040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502160" y="22986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800600" y="244476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088600" y="2276640"/>
            <a:ext cx="42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Times New Roman"/>
            </a:endParaRPr>
          </a:p>
        </p:txBody>
      </p:sp>
      <p:sp>
        <p:nvSpPr>
          <p:cNvPr id="742" name=""/>
          <p:cNvSpPr/>
          <p:nvPr/>
        </p:nvSpPr>
        <p:spPr>
          <a:xfrm>
            <a:off x="5850720" y="2276640"/>
            <a:ext cx="42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743" name=""/>
          <p:cNvSpPr/>
          <p:nvPr/>
        </p:nvSpPr>
        <p:spPr>
          <a:xfrm>
            <a:off x="6248520" y="25210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705720" y="252108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3276360" y="2825640"/>
            <a:ext cx="3429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301920" y="1708200"/>
            <a:ext cx="3606840" cy="21589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301920" y="3917880"/>
            <a:ext cx="3606840" cy="21589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505320" y="2825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816360" y="2984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505320" y="313056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502160" y="2984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111640" y="2984400"/>
            <a:ext cx="1130400" cy="749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114800" y="31305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800600" y="313056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816360" y="4127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276720" y="4273560"/>
            <a:ext cx="533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502160" y="4127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111640" y="4127400"/>
            <a:ext cx="1130400" cy="749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114800" y="42735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800600" y="427356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124080" y="2825640"/>
            <a:ext cx="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3124080" y="282564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3124080" y="427356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241240" y="1895400"/>
            <a:ext cx="84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r 0</a:t>
            </a:r>
            <a:endParaRPr b="0" lang="en-US" sz="2400" spc="-1" strike="noStrike">
              <a:solidFill>
                <a:srgbClr val="000000"/>
              </a:solidFill>
              <a:latin typeface="Times New Roman"/>
            </a:endParaRPr>
          </a:p>
        </p:txBody>
      </p:sp>
      <p:sp>
        <p:nvSpPr>
          <p:cNvPr id="765" name=""/>
          <p:cNvSpPr/>
          <p:nvPr/>
        </p:nvSpPr>
        <p:spPr>
          <a:xfrm>
            <a:off x="5241240" y="3114720"/>
            <a:ext cx="84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r 1</a:t>
            </a:r>
            <a:endParaRPr b="0" lang="en-US" sz="2400" spc="-1" strike="noStrike">
              <a:solidFill>
                <a:srgbClr val="000000"/>
              </a:solidFill>
              <a:latin typeface="Times New Roman"/>
            </a:endParaRPr>
          </a:p>
        </p:txBody>
      </p:sp>
      <p:sp>
        <p:nvSpPr>
          <p:cNvPr id="766" name=""/>
          <p:cNvSpPr/>
          <p:nvPr/>
        </p:nvSpPr>
        <p:spPr>
          <a:xfrm>
            <a:off x="5241240" y="4257720"/>
            <a:ext cx="84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r 5</a:t>
            </a:r>
            <a:endParaRPr b="0" lang="en-US" sz="2400" spc="-1" strike="noStrike">
              <a:solidFill>
                <a:srgbClr val="000000"/>
              </a:solidFill>
              <a:latin typeface="Times New Roman"/>
            </a:endParaRPr>
          </a:p>
        </p:txBody>
      </p:sp>
      <p:sp>
        <p:nvSpPr>
          <p:cNvPr id="767" name=""/>
          <p:cNvSpPr/>
          <p:nvPr/>
        </p:nvSpPr>
        <p:spPr>
          <a:xfrm>
            <a:off x="2050560" y="4694400"/>
            <a:ext cx="90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C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Each Counter</a:t>
            </a:r>
            <a:endParaRPr b="1" lang="en-US" sz="3600" spc="-1" strike="noStrike">
              <a:solidFill>
                <a:srgbClr val="ffff66"/>
              </a:solidFill>
              <a:latin typeface="Arial"/>
            </a:endParaRPr>
          </a:p>
        </p:txBody>
      </p:sp>
      <p:sp>
        <p:nvSpPr>
          <p:cNvPr id="769" name=""/>
          <p:cNvSpPr/>
          <p:nvPr/>
        </p:nvSpPr>
        <p:spPr>
          <a:xfrm>
            <a:off x="210960" y="173664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770" name=""/>
          <p:cNvSpPr/>
          <p:nvPr/>
        </p:nvSpPr>
        <p:spPr>
          <a:xfrm>
            <a:off x="207720" y="227016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771" name=""/>
          <p:cNvSpPr/>
          <p:nvPr/>
        </p:nvSpPr>
        <p:spPr>
          <a:xfrm>
            <a:off x="212760" y="341316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generated at output of Ctr 0</a:t>
            </a:r>
            <a:endParaRPr b="0" lang="en-US" sz="2000" spc="-1" strike="noStrike">
              <a:solidFill>
                <a:srgbClr val="000000"/>
              </a:solidFill>
              <a:latin typeface="Times New Roman"/>
            </a:endParaRPr>
          </a:p>
        </p:txBody>
      </p:sp>
      <p:grpSp>
        <p:nvGrpSpPr>
          <p:cNvPr id="772" name=""/>
          <p:cNvGrpSpPr/>
          <p:nvPr/>
        </p:nvGrpSpPr>
        <p:grpSpPr>
          <a:xfrm>
            <a:off x="5308560" y="1752120"/>
            <a:ext cx="2209680" cy="305280"/>
            <a:chOff x="5308560" y="1752120"/>
            <a:chExt cx="2209680" cy="305280"/>
          </a:xfrm>
        </p:grpSpPr>
        <p:sp>
          <p:nvSpPr>
            <p:cNvPr id="773" name=""/>
            <p:cNvSpPr/>
            <p:nvPr/>
          </p:nvSpPr>
          <p:spPr>
            <a:xfrm>
              <a:off x="5308560" y="205740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55548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554800" y="175248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79924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045120" y="175248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291360" y="205740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535800" y="175248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781680" y="205740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27920" y="175248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27236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579924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60451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629136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65358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67816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70279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727236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0" name=""/>
          <p:cNvSpPr/>
          <p:nvPr/>
        </p:nvSpPr>
        <p:spPr>
          <a:xfrm flipV="1">
            <a:off x="5327640" y="2590560"/>
            <a:ext cx="96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91" name=""/>
          <p:cNvSpPr/>
          <p:nvPr/>
        </p:nvSpPr>
        <p:spPr>
          <a:xfrm flipV="1">
            <a:off x="5424480" y="22856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424480" y="2286000"/>
            <a:ext cx="359424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
          <p:cNvSpPr/>
          <p:nvPr/>
        </p:nvSpPr>
        <p:spPr>
          <a:xfrm flipV="1">
            <a:off x="5327640" y="3047760"/>
            <a:ext cx="181080" cy="6120"/>
          </a:xfrm>
          <a:prstGeom prst="line">
            <a:avLst/>
          </a:prstGeom>
          <a:ln w="1260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94" name=""/>
          <p:cNvSpPr/>
          <p:nvPr/>
        </p:nvSpPr>
        <p:spPr>
          <a:xfrm flipV="1">
            <a:off x="5508720" y="27428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508720" y="2743200"/>
            <a:ext cx="3525840" cy="6480"/>
          </a:xfrm>
          <a:prstGeom prst="line">
            <a:avLst/>
          </a:prstGeom>
          <a:ln w="12600">
            <a:solidFill>
              <a:srgbClr val="ffff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96" name=""/>
          <p:cNvSpPr/>
          <p:nvPr/>
        </p:nvSpPr>
        <p:spPr>
          <a:xfrm>
            <a:off x="169920" y="2819520"/>
            <a:ext cx="511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Gate(0)</a:t>
            </a:r>
            <a:endParaRPr b="0" lang="en-US" sz="2000" spc="-1" strike="noStrike">
              <a:solidFill>
                <a:srgbClr val="000000"/>
              </a:solidFill>
              <a:latin typeface="Times New Roman"/>
            </a:endParaRPr>
          </a:p>
        </p:txBody>
      </p:sp>
      <p:sp>
        <p:nvSpPr>
          <p:cNvPr id="797" name=""/>
          <p:cNvSpPr/>
          <p:nvPr/>
        </p:nvSpPr>
        <p:spPr>
          <a:xfrm flipV="1">
            <a:off x="5310360" y="4190760"/>
            <a:ext cx="223488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98" name=""/>
          <p:cNvSpPr/>
          <p:nvPr/>
        </p:nvSpPr>
        <p:spPr>
          <a:xfrm flipV="1">
            <a:off x="7545240" y="38858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545240" y="3886200"/>
            <a:ext cx="14734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0" name=""/>
          <p:cNvSpPr/>
          <p:nvPr/>
        </p:nvSpPr>
        <p:spPr>
          <a:xfrm>
            <a:off x="5294160" y="4721400"/>
            <a:ext cx="272124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01" name=""/>
          <p:cNvSpPr/>
          <p:nvPr/>
        </p:nvSpPr>
        <p:spPr>
          <a:xfrm flipV="1">
            <a:off x="8015400" y="44197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8015400" y="4414680"/>
            <a:ext cx="968400" cy="5040"/>
          </a:xfrm>
          <a:prstGeom prst="line">
            <a:avLst/>
          </a:prstGeom>
          <a:ln w="12600">
            <a:solidFill>
              <a:srgbClr val="ffff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03" name=""/>
          <p:cNvSpPr/>
          <p:nvPr/>
        </p:nvSpPr>
        <p:spPr>
          <a:xfrm>
            <a:off x="169920" y="396252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synchronized at pad for input</a:t>
            </a:r>
            <a:endParaRPr b="0" lang="en-US" sz="2000" spc="-1" strike="noStrike">
              <a:solidFill>
                <a:srgbClr val="000000"/>
              </a:solidFill>
              <a:latin typeface="Times New Roman"/>
            </a:endParaRPr>
          </a:p>
        </p:txBody>
      </p:sp>
      <p:sp>
        <p:nvSpPr>
          <p:cNvPr id="804" name=""/>
          <p:cNvSpPr/>
          <p:nvPr/>
        </p:nvSpPr>
        <p:spPr>
          <a:xfrm>
            <a:off x="152280" y="449568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synchronized at Ctrs 1 and 5</a:t>
            </a:r>
            <a:endParaRPr b="0" lang="en-US" sz="2000" spc="-1" strike="noStrike">
              <a:solidFill>
                <a:srgbClr val="000000"/>
              </a:solidFill>
              <a:latin typeface="Times New Roman"/>
            </a:endParaRPr>
          </a:p>
        </p:txBody>
      </p:sp>
      <p:sp>
        <p:nvSpPr>
          <p:cNvPr id="805" name=""/>
          <p:cNvSpPr/>
          <p:nvPr/>
        </p:nvSpPr>
        <p:spPr>
          <a:xfrm>
            <a:off x="8504280" y="2022480"/>
            <a:ext cx="0" cy="297180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327640" y="3649680"/>
            <a:ext cx="173664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7" name=""/>
          <p:cNvSpPr/>
          <p:nvPr/>
        </p:nvSpPr>
        <p:spPr>
          <a:xfrm flipV="1">
            <a:off x="7064280" y="33523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064280" y="3352680"/>
            <a:ext cx="195444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9" name=""/>
          <p:cNvSpPr/>
          <p:nvPr/>
        </p:nvSpPr>
        <p:spPr>
          <a:xfrm>
            <a:off x="7093080" y="5037120"/>
            <a:ext cx="1815840" cy="64116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igger seen by Ctrs 1 and 5</a:t>
            </a:r>
            <a:endParaRPr b="0" lang="en-US" sz="1800" spc="-1" strike="noStrike">
              <a:solidFill>
                <a:srgbClr val="000000"/>
              </a:solidFill>
              <a:latin typeface="Times New Roman"/>
            </a:endParaRPr>
          </a:p>
        </p:txBody>
      </p:sp>
      <p:sp>
        <p:nvSpPr>
          <p:cNvPr id="810" name=""/>
          <p:cNvSpPr/>
          <p:nvPr/>
        </p:nvSpPr>
        <p:spPr>
          <a:xfrm>
            <a:off x="7520040" y="175248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765920" y="205740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8010360" y="175248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825660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502480" y="1752480"/>
            <a:ext cx="244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874728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752004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77659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801036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82566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85024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87472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466040" y="205740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280280" y="205740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3644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000000"/>
              </a:solidFill>
              <a:latin typeface="Times New Roman"/>
            </a:endParaRPr>
          </a:p>
        </p:txBody>
      </p:sp>
      <p:sp>
        <p:nvSpPr>
          <p:cNvPr id="825" name=""/>
          <p:cNvSpPr/>
          <p:nvPr/>
        </p:nvSpPr>
        <p:spPr>
          <a:xfrm>
            <a:off x="601128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endParaRPr b="0" lang="en-US" sz="2000" spc="-1" strike="noStrike">
              <a:solidFill>
                <a:srgbClr val="000000"/>
              </a:solidFill>
              <a:latin typeface="Times New Roman"/>
            </a:endParaRPr>
          </a:p>
        </p:txBody>
      </p:sp>
      <p:sp>
        <p:nvSpPr>
          <p:cNvPr id="826" name=""/>
          <p:cNvSpPr/>
          <p:nvPr/>
        </p:nvSpPr>
        <p:spPr>
          <a:xfrm>
            <a:off x="650484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a:t>
            </a:r>
            <a:endParaRPr b="0" lang="en-US" sz="2000" spc="-1" strike="noStrike">
              <a:solidFill>
                <a:srgbClr val="000000"/>
              </a:solidFill>
              <a:latin typeface="Times New Roman"/>
            </a:endParaRPr>
          </a:p>
        </p:txBody>
      </p:sp>
      <p:sp>
        <p:nvSpPr>
          <p:cNvPr id="827" name=""/>
          <p:cNvSpPr/>
          <p:nvPr/>
        </p:nvSpPr>
        <p:spPr>
          <a:xfrm>
            <a:off x="698256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000000"/>
              </a:solidFill>
              <a:latin typeface="Times New Roman"/>
            </a:endParaRPr>
          </a:p>
        </p:txBody>
      </p:sp>
      <p:sp>
        <p:nvSpPr>
          <p:cNvPr id="828" name=""/>
          <p:cNvSpPr/>
          <p:nvPr/>
        </p:nvSpPr>
        <p:spPr>
          <a:xfrm>
            <a:off x="749232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5</a:t>
            </a:r>
            <a:endParaRPr b="0" lang="en-US" sz="2000" spc="-1" strike="noStrike">
              <a:solidFill>
                <a:srgbClr val="000000"/>
              </a:solidFill>
              <a:latin typeface="Times New Roman"/>
            </a:endParaRPr>
          </a:p>
        </p:txBody>
      </p:sp>
      <p:sp>
        <p:nvSpPr>
          <p:cNvPr id="829" name=""/>
          <p:cNvSpPr/>
          <p:nvPr/>
        </p:nvSpPr>
        <p:spPr>
          <a:xfrm>
            <a:off x="7985880" y="17478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6</a:t>
            </a:r>
            <a:endParaRPr b="0" lang="en-US" sz="2000" spc="-1" strike="noStrike">
              <a:solidFill>
                <a:srgbClr val="000000"/>
              </a:solidFill>
              <a:latin typeface="Times New Roman"/>
            </a:endParaRPr>
          </a:p>
        </p:txBody>
      </p:sp>
      <p:sp>
        <p:nvSpPr>
          <p:cNvPr id="830" name=""/>
          <p:cNvSpPr/>
          <p:nvPr/>
        </p:nvSpPr>
        <p:spPr>
          <a:xfrm>
            <a:off x="8460720" y="17478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ing Measurements</a:t>
            </a:r>
            <a:endParaRPr b="1" lang="en-US" sz="3600" spc="-1" strike="noStrike">
              <a:solidFill>
                <a:srgbClr val="ffff66"/>
              </a:solidFill>
              <a:latin typeface="Arial"/>
            </a:endParaRPr>
          </a:p>
        </p:txBody>
      </p:sp>
      <p:sp>
        <p:nvSpPr>
          <p:cNvPr id="83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multiple measurements at the same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ynchronize measurement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ll measurements simultaneously</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common clock among all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required for correlating measu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s of Synchronizing Measurements</a:t>
            </a:r>
            <a:endParaRPr b="1" lang="en-US" sz="3600" spc="-1" strike="noStrike">
              <a:solidFill>
                <a:srgbClr val="ffff66"/>
              </a:solidFill>
              <a:latin typeface="Arial"/>
            </a:endParaRPr>
          </a:p>
        </p:txBody>
      </p:sp>
      <p:sp>
        <p:nvSpPr>
          <p:cNvPr id="834"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lock braking system (ABS) test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analog input and counter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 engine ignition test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digital input and counter measu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35" name=""/>
          <p:cNvSpPr/>
          <p:nvPr/>
        </p:nvSpPr>
        <p:spPr>
          <a:xfrm>
            <a:off x="615960" y="1682640"/>
            <a:ext cx="7835760" cy="4025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sition Sensor Background</a:t>
            </a:r>
            <a:endParaRPr b="1" lang="en-US" sz="3600" spc="-1" strike="noStrike">
              <a:solidFill>
                <a:srgbClr val="ffff66"/>
              </a:solidFill>
              <a:latin typeface="Arial"/>
            </a:endParaRPr>
          </a:p>
        </p:txBody>
      </p:sp>
      <p:pic>
        <p:nvPicPr>
          <p:cNvPr id="837" name="" descr=""/>
          <p:cNvPicPr/>
          <p:nvPr/>
        </p:nvPicPr>
        <p:blipFill>
          <a:blip r:embed="rId1"/>
          <a:stretch/>
        </p:blipFill>
        <p:spPr>
          <a:xfrm>
            <a:off x="4076640" y="1676520"/>
            <a:ext cx="4381560" cy="3047760"/>
          </a:xfrm>
          <a:prstGeom prst="rect">
            <a:avLst/>
          </a:prstGeom>
          <a:ln w="0">
            <a:noFill/>
          </a:ln>
        </p:spPr>
      </p:pic>
      <p:pic>
        <p:nvPicPr>
          <p:cNvPr id="838" name="" descr=""/>
          <p:cNvPicPr/>
          <p:nvPr/>
        </p:nvPicPr>
        <p:blipFill>
          <a:blip r:embed="rId2"/>
          <a:stretch/>
        </p:blipFill>
        <p:spPr>
          <a:xfrm>
            <a:off x="647640" y="1676520"/>
            <a:ext cx="3009960" cy="3047760"/>
          </a:xfrm>
          <a:prstGeom prst="rect">
            <a:avLst/>
          </a:prstGeom>
          <a:ln w="0">
            <a:noFill/>
          </a:ln>
        </p:spPr>
      </p:pic>
      <p:sp>
        <p:nvSpPr>
          <p:cNvPr id="839" name=""/>
          <p:cNvSpPr/>
          <p:nvPr/>
        </p:nvSpPr>
        <p:spPr>
          <a:xfrm>
            <a:off x="671760" y="4708440"/>
            <a:ext cx="2385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pick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a:t>
            </a:r>
            <a:endParaRPr b="0" lang="en-US" sz="2400" spc="-1" strike="noStrike">
              <a:solidFill>
                <a:srgbClr val="000000"/>
              </a:solidFill>
              <a:latin typeface="Times New Roman"/>
            </a:endParaRPr>
          </a:p>
        </p:txBody>
      </p:sp>
      <p:sp>
        <p:nvSpPr>
          <p:cNvPr id="840" name=""/>
          <p:cNvSpPr/>
          <p:nvPr/>
        </p:nvSpPr>
        <p:spPr>
          <a:xfrm>
            <a:off x="4251600" y="4708440"/>
            <a:ext cx="3998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ure encoder outp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41" name=""/>
          <p:cNvSpPr/>
          <p:nvPr/>
        </p:nvSpPr>
        <p:spPr>
          <a:xfrm>
            <a:off x="685800" y="1600200"/>
            <a:ext cx="7543800" cy="4648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440" y="761760"/>
            <a:ext cx="8001000" cy="6858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ABS</a:t>
            </a:r>
            <a:endParaRPr b="1" lang="en-US" sz="3600" spc="-1" strike="noStrike">
              <a:solidFill>
                <a:srgbClr val="ffff66"/>
              </a:solidFill>
              <a:latin typeface="Arial"/>
            </a:endParaRPr>
          </a:p>
        </p:txBody>
      </p:sp>
      <p:sp>
        <p:nvSpPr>
          <p:cNvPr id="843" name=""/>
          <p:cNvSpPr/>
          <p:nvPr/>
        </p:nvSpPr>
        <p:spPr>
          <a:xfrm>
            <a:off x="2819520" y="2438280"/>
            <a:ext cx="685800" cy="1219320"/>
          </a:xfrm>
          <a:prstGeom prst="rect">
            <a:avLst/>
          </a:prstGeom>
          <a:gradFill rotWithShape="0">
            <a:gsLst>
              <a:gs pos="0">
                <a:srgbClr val="808080"/>
              </a:gs>
              <a:gs pos="100000">
                <a:srgbClr val="989898"/>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600200" y="4114800"/>
            <a:ext cx="2819520" cy="222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556240" y="2660760"/>
            <a:ext cx="1994040" cy="1536480"/>
          </a:xfrm>
          <a:prstGeom prst="rect">
            <a:avLst/>
          </a:prstGeom>
          <a:solidFill>
            <a:srgbClr val="808080"/>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 controller</a:t>
            </a:r>
            <a:endParaRPr b="0" lang="en-US" sz="2400" spc="-1" strike="noStrike">
              <a:solidFill>
                <a:srgbClr val="000000"/>
              </a:solidFill>
              <a:latin typeface="Times New Roman"/>
            </a:endParaRPr>
          </a:p>
        </p:txBody>
      </p:sp>
      <p:grpSp>
        <p:nvGrpSpPr>
          <p:cNvPr id="846" name=""/>
          <p:cNvGrpSpPr/>
          <p:nvPr/>
        </p:nvGrpSpPr>
        <p:grpSpPr>
          <a:xfrm>
            <a:off x="1828800" y="2209680"/>
            <a:ext cx="914400" cy="3886200"/>
            <a:chOff x="1828800" y="2209680"/>
            <a:chExt cx="914400" cy="3886200"/>
          </a:xfrm>
        </p:grpSpPr>
        <p:sp>
          <p:nvSpPr>
            <p:cNvPr id="847" name=""/>
            <p:cNvSpPr/>
            <p:nvPr/>
          </p:nvSpPr>
          <p:spPr>
            <a:xfrm>
              <a:off x="1905120" y="365760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28800" y="4495680"/>
              <a:ext cx="762120" cy="15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905120" y="48769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905120" y="53341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905120" y="57913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905120" y="2438280"/>
              <a:ext cx="761760" cy="15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905120" y="28195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05120" y="32767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362320" y="2209680"/>
              <a:ext cx="380880" cy="38862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28800" y="2209680"/>
              <a:ext cx="380880" cy="38862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7" name=""/>
          <p:cNvSpPr/>
          <p:nvPr/>
        </p:nvSpPr>
        <p:spPr>
          <a:xfrm>
            <a:off x="1066680" y="2438280"/>
            <a:ext cx="685800" cy="1219320"/>
          </a:xfrm>
          <a:prstGeom prst="rect">
            <a:avLst/>
          </a:prstGeom>
          <a:gradFill rotWithShape="0">
            <a:gsLst>
              <a:gs pos="0">
                <a:srgbClr val="808080"/>
              </a:gs>
              <a:gs pos="100000">
                <a:srgbClr val="989898"/>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733920" y="3733920"/>
            <a:ext cx="304560" cy="1066680"/>
          </a:xfrm>
          <a:prstGeom prst="ellipse">
            <a:avLst/>
          </a:prstGeom>
          <a:gradFill rotWithShape="0">
            <a:gsLst>
              <a:gs pos="0">
                <a:srgbClr val="6a6a6a"/>
              </a:gs>
              <a:gs pos="50000">
                <a:srgbClr val="b2b2b2"/>
              </a:gs>
              <a:gs pos="100000">
                <a:srgbClr val="6a6a6a"/>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54480" y="289548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666880" y="2819520"/>
            <a:ext cx="1068480" cy="458640"/>
          </a:xfrm>
          <a:custGeom>
            <a:avLst/>
            <a:gdLst/>
            <a:ahLst/>
            <a:rect l="l" t="t" r="r" b="b"/>
            <a:pathLst>
              <a:path w="673" h="289">
                <a:moveTo>
                  <a:pt x="325" y="0"/>
                </a:moveTo>
                <a:lnTo>
                  <a:pt x="325" y="94"/>
                </a:lnTo>
                <a:lnTo>
                  <a:pt x="672" y="94"/>
                </a:lnTo>
                <a:lnTo>
                  <a:pt x="672" y="194"/>
                </a:lnTo>
                <a:lnTo>
                  <a:pt x="325" y="194"/>
                </a:lnTo>
                <a:lnTo>
                  <a:pt x="325" y="288"/>
                </a:lnTo>
                <a:lnTo>
                  <a:pt x="0" y="144"/>
                </a:lnTo>
                <a:lnTo>
                  <a:pt x="32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914400" y="2819520"/>
            <a:ext cx="992160" cy="458640"/>
          </a:xfrm>
          <a:custGeom>
            <a:avLst/>
            <a:gdLst/>
            <a:ahLst/>
            <a:rect l="l" t="t" r="r" b="b"/>
            <a:pathLst>
              <a:path w="625" h="289">
                <a:moveTo>
                  <a:pt x="303" y="0"/>
                </a:moveTo>
                <a:lnTo>
                  <a:pt x="303" y="80"/>
                </a:lnTo>
                <a:lnTo>
                  <a:pt x="0" y="80"/>
                </a:lnTo>
                <a:lnTo>
                  <a:pt x="0" y="208"/>
                </a:lnTo>
                <a:lnTo>
                  <a:pt x="303" y="208"/>
                </a:lnTo>
                <a:lnTo>
                  <a:pt x="303" y="288"/>
                </a:lnTo>
                <a:lnTo>
                  <a:pt x="624" y="144"/>
                </a:lnTo>
                <a:lnTo>
                  <a:pt x="30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354480" y="335268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886200" y="3886200"/>
            <a:ext cx="16765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18080" y="243828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Times New Roman"/>
            </a:endParaRPr>
          </a:p>
        </p:txBody>
      </p:sp>
      <p:sp>
        <p:nvSpPr>
          <p:cNvPr id="865" name=""/>
          <p:cNvSpPr/>
          <p:nvPr/>
        </p:nvSpPr>
        <p:spPr>
          <a:xfrm>
            <a:off x="3718080" y="2895480"/>
            <a:ext cx="192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Times New Roman"/>
            </a:endParaRPr>
          </a:p>
        </p:txBody>
      </p:sp>
      <p:sp>
        <p:nvSpPr>
          <p:cNvPr id="866" name=""/>
          <p:cNvSpPr/>
          <p:nvPr/>
        </p:nvSpPr>
        <p:spPr>
          <a:xfrm>
            <a:off x="4039560" y="342900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Times New Roman"/>
            </a:endParaRPr>
          </a:p>
        </p:txBody>
      </p:sp>
      <p:sp>
        <p:nvSpPr>
          <p:cNvPr id="867" name=""/>
          <p:cNvSpPr/>
          <p:nvPr/>
        </p:nvSpPr>
        <p:spPr>
          <a:xfrm>
            <a:off x="990720" y="1752480"/>
            <a:ext cx="980640" cy="6771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k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a:t>
            </a:r>
            <a:endParaRPr b="0" lang="en-US" sz="2400" spc="-1" strike="noStrike">
              <a:solidFill>
                <a:srgbClr val="000000"/>
              </a:solidFill>
              <a:latin typeface="Times New Roman"/>
            </a:endParaRPr>
          </a:p>
        </p:txBody>
      </p:sp>
      <p:sp>
        <p:nvSpPr>
          <p:cNvPr id="868" name=""/>
          <p:cNvSpPr/>
          <p:nvPr/>
        </p:nvSpPr>
        <p:spPr>
          <a:xfrm>
            <a:off x="3031200" y="5680080"/>
            <a:ext cx="2676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ke disc or rotor</a:t>
            </a:r>
            <a:endParaRPr b="0" lang="en-US" sz="2400" spc="-1" strike="noStrike">
              <a:solidFill>
                <a:srgbClr val="000000"/>
              </a:solidFill>
              <a:latin typeface="Times New Roman"/>
            </a:endParaRPr>
          </a:p>
        </p:txBody>
      </p:sp>
      <p:sp>
        <p:nvSpPr>
          <p:cNvPr id="869" name=""/>
          <p:cNvSpPr/>
          <p:nvPr/>
        </p:nvSpPr>
        <p:spPr>
          <a:xfrm>
            <a:off x="3641760" y="446076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3769560" y="4943520"/>
            <a:ext cx="2913120" cy="763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ure enco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ed sensor)</a:t>
            </a:r>
            <a:endParaRPr b="0" lang="en-US" sz="2000" spc="-1" strike="noStrike">
              <a:solidFill>
                <a:srgbClr val="000000"/>
              </a:solidFill>
              <a:latin typeface="Times New Roman"/>
            </a:endParaRPr>
          </a:p>
        </p:txBody>
      </p:sp>
      <p:sp>
        <p:nvSpPr>
          <p:cNvPr id="871" name=""/>
          <p:cNvSpPr/>
          <p:nvPr/>
        </p:nvSpPr>
        <p:spPr>
          <a:xfrm>
            <a:off x="3735360" y="2057400"/>
            <a:ext cx="2817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553080" y="2058840"/>
            <a:ext cx="0" cy="608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192200" y="1600200"/>
            <a:ext cx="1945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brakes</a:t>
            </a:r>
            <a:endParaRPr b="0" lang="en-US" sz="2400" spc="-1" strike="noStrike">
              <a:solidFill>
                <a:srgbClr val="000000"/>
              </a:solidFill>
              <a:latin typeface="Times New Roman"/>
            </a:endParaRPr>
          </a:p>
        </p:txBody>
      </p:sp>
      <p:sp>
        <p:nvSpPr>
          <p:cNvPr id="874" name=""/>
          <p:cNvSpPr/>
          <p:nvPr/>
        </p:nvSpPr>
        <p:spPr>
          <a:xfrm>
            <a:off x="1068480" y="3735360"/>
            <a:ext cx="456840" cy="990360"/>
          </a:xfrm>
          <a:custGeom>
            <a:avLst/>
            <a:gdLst/>
            <a:ahLst/>
            <a:rect l="l" t="t" r="r" b="b"/>
            <a:pathLst>
              <a:path stroke="0" w="21600" h="21600">
                <a:moveTo>
                  <a:pt x="1985" y="4560"/>
                </a:moveTo>
                <a:arcTo wR="10800" hR="10800" stAng="-8682198" swAng="19559313"/>
                <a:lnTo>
                  <a:pt x="10800" y="10800"/>
                </a:lnTo>
                <a:close/>
              </a:path>
              <a:path fill="none" w="21600" h="21600">
                <a:moveTo>
                  <a:pt x="1985" y="4560"/>
                </a:moveTo>
                <a:arcTo wR="10800" hR="10800" stAng="-8682198" swAng="19559313"/>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743200" y="1752480"/>
            <a:ext cx="980640" cy="6771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k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a:t>
            </a:r>
            <a:endParaRPr b="0" lang="en-US" sz="2400" spc="-1" strike="noStrike">
              <a:solidFill>
                <a:srgbClr val="000000"/>
              </a:solidFill>
              <a:latin typeface="Times New Roman"/>
            </a:endParaRPr>
          </a:p>
        </p:txBody>
      </p:sp>
      <p:sp>
        <p:nvSpPr>
          <p:cNvPr id="876" name=""/>
          <p:cNvSpPr/>
          <p:nvPr/>
        </p:nvSpPr>
        <p:spPr>
          <a:xfrm flipH="1">
            <a:off x="2590560" y="5867280"/>
            <a:ext cx="533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3963960" y="4532040"/>
            <a:ext cx="4680" cy="492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urces of Timing Error</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accuracy in measurements determined by</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zation error</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measurement duration and resolution for measuring time</a:t>
            </a:r>
            <a:endParaRPr b="0" lang="en-US" sz="20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ck error</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accuracy and stability of clo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78" name=""/>
          <p:cNvSpPr/>
          <p:nvPr/>
        </p:nvSpPr>
        <p:spPr>
          <a:xfrm>
            <a:off x="844560" y="1606680"/>
            <a:ext cx="7531200" cy="4406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PlaceHolder 1"/>
          <p:cNvSpPr>
            <a:spLocks noGrp="1"/>
          </p:cNvSpPr>
          <p:nvPr>
            <p:ph type="title"/>
          </p:nvPr>
        </p:nvSpPr>
        <p:spPr>
          <a:xfrm>
            <a:off x="685800" y="22824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 – Synchronize Analog Input and Counter Measurements</a:t>
            </a:r>
            <a:endParaRPr b="1" lang="en-US" sz="3600" spc="-1" strike="noStrike">
              <a:solidFill>
                <a:srgbClr val="ffff66"/>
              </a:solidFill>
              <a:latin typeface="Arial"/>
            </a:endParaRPr>
          </a:p>
        </p:txBody>
      </p:sp>
      <p:sp>
        <p:nvSpPr>
          <p:cNvPr id="880" name=""/>
          <p:cNvSpPr/>
          <p:nvPr/>
        </p:nvSpPr>
        <p:spPr>
          <a:xfrm>
            <a:off x="3594240" y="2146320"/>
            <a:ext cx="2946240" cy="1130400"/>
          </a:xfrm>
          <a:prstGeom prst="rect">
            <a:avLst/>
          </a:prstGeom>
          <a:gradFill rotWithShape="0">
            <a:gsLst>
              <a:gs pos="0">
                <a:srgbClr val="808080"/>
              </a:gs>
              <a:gs pos="100000">
                <a:srgbClr val="989898"/>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670200" y="4508640"/>
            <a:ext cx="2870280" cy="1193760"/>
          </a:xfrm>
          <a:prstGeom prst="rect">
            <a:avLst/>
          </a:prstGeom>
          <a:gradFill rotWithShape="0">
            <a:gsLst>
              <a:gs pos="0">
                <a:srgbClr val="808080"/>
              </a:gs>
              <a:gs pos="100000">
                <a:srgbClr val="989898"/>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576960" y="2514600"/>
            <a:ext cx="2733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 measurements</a:t>
            </a:r>
            <a:endParaRPr b="0" lang="en-US" sz="2000" spc="-1" strike="noStrike">
              <a:solidFill>
                <a:srgbClr val="000000"/>
              </a:solidFill>
              <a:latin typeface="Times New Roman"/>
            </a:endParaRPr>
          </a:p>
        </p:txBody>
      </p:sp>
      <p:sp>
        <p:nvSpPr>
          <p:cNvPr id="883" name=""/>
          <p:cNvSpPr/>
          <p:nvPr/>
        </p:nvSpPr>
        <p:spPr>
          <a:xfrm>
            <a:off x="3712680" y="4861080"/>
            <a:ext cx="271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 measurement</a:t>
            </a:r>
            <a:endParaRPr b="0" lang="en-US" sz="2000" spc="-1" strike="noStrike">
              <a:solidFill>
                <a:srgbClr val="000000"/>
              </a:solidFill>
              <a:latin typeface="Times New Roman"/>
            </a:endParaRPr>
          </a:p>
        </p:txBody>
      </p:sp>
      <p:sp>
        <p:nvSpPr>
          <p:cNvPr id="884" name=""/>
          <p:cNvSpPr/>
          <p:nvPr/>
        </p:nvSpPr>
        <p:spPr>
          <a:xfrm>
            <a:off x="4876920" y="3276720"/>
            <a:ext cx="0" cy="1218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861080" y="3336840"/>
            <a:ext cx="230184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oth measur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hare a common clock</a:t>
            </a:r>
            <a:endParaRPr b="0" lang="en-US" sz="1800" spc="-1" strike="noStrike">
              <a:solidFill>
                <a:srgbClr val="000000"/>
              </a:solidFill>
              <a:latin typeface="Times New Roman"/>
            </a:endParaRPr>
          </a:p>
        </p:txBody>
      </p:sp>
      <p:sp>
        <p:nvSpPr>
          <p:cNvPr id="886" name=""/>
          <p:cNvSpPr/>
          <p:nvPr/>
        </p:nvSpPr>
        <p:spPr>
          <a:xfrm>
            <a:off x="1660680" y="204156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Times New Roman"/>
            </a:endParaRPr>
          </a:p>
        </p:txBody>
      </p:sp>
      <p:sp>
        <p:nvSpPr>
          <p:cNvPr id="887" name=""/>
          <p:cNvSpPr/>
          <p:nvPr/>
        </p:nvSpPr>
        <p:spPr>
          <a:xfrm>
            <a:off x="1508040" y="2575080"/>
            <a:ext cx="192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Times New Roman"/>
            </a:endParaRPr>
          </a:p>
        </p:txBody>
      </p:sp>
      <p:sp>
        <p:nvSpPr>
          <p:cNvPr id="888" name=""/>
          <p:cNvSpPr/>
          <p:nvPr/>
        </p:nvSpPr>
        <p:spPr>
          <a:xfrm>
            <a:off x="1737720" y="463248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Times New Roman"/>
            </a:endParaRPr>
          </a:p>
        </p:txBody>
      </p:sp>
      <p:sp>
        <p:nvSpPr>
          <p:cNvPr id="889" name=""/>
          <p:cNvSpPr/>
          <p:nvPr/>
        </p:nvSpPr>
        <p:spPr>
          <a:xfrm>
            <a:off x="3962520" y="3276720"/>
            <a:ext cx="0" cy="12189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2209680" y="3505320"/>
            <a:ext cx="19209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start trigger input</a:t>
            </a:r>
            <a:endParaRPr b="0" lang="en-US" sz="1800" spc="-1" strike="noStrike">
              <a:solidFill>
                <a:srgbClr val="000000"/>
              </a:solidFill>
              <a:latin typeface="Times New Roman"/>
            </a:endParaRPr>
          </a:p>
        </p:txBody>
      </p:sp>
      <p:sp>
        <p:nvSpPr>
          <p:cNvPr id="891" name=""/>
          <p:cNvSpPr/>
          <p:nvPr/>
        </p:nvSpPr>
        <p:spPr>
          <a:xfrm>
            <a:off x="1373040" y="243828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373040" y="304812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449360" y="510552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94" name=""/>
          <p:cNvSpPr/>
          <p:nvPr/>
        </p:nvSpPr>
        <p:spPr>
          <a:xfrm>
            <a:off x="768240" y="1682640"/>
            <a:ext cx="7531200" cy="4407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ot of Pressure, Temperature, Speed Versus Time</a:t>
            </a:r>
            <a:endParaRPr b="1" lang="en-US" sz="3600" spc="-1" strike="noStrike">
              <a:solidFill>
                <a:srgbClr val="ffff66"/>
              </a:solidFill>
              <a:latin typeface="Arial"/>
            </a:endParaRPr>
          </a:p>
        </p:txBody>
      </p:sp>
      <p:sp>
        <p:nvSpPr>
          <p:cNvPr id="896" name=""/>
          <p:cNvSpPr/>
          <p:nvPr/>
        </p:nvSpPr>
        <p:spPr>
          <a:xfrm>
            <a:off x="1447920" y="1905120"/>
            <a:ext cx="0" cy="3581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447920" y="5486400"/>
            <a:ext cx="65530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523880" y="3416400"/>
            <a:ext cx="5038920" cy="1979640"/>
          </a:xfrm>
          <a:custGeom>
            <a:avLst/>
            <a:gdLst/>
            <a:ahLst/>
            <a:rect l="l" t="t" r="r" b="b"/>
            <a:pathLst>
              <a:path w="3174" h="1247">
                <a:moveTo>
                  <a:pt x="0" y="8"/>
                </a:moveTo>
                <a:lnTo>
                  <a:pt x="37" y="8"/>
                </a:lnTo>
                <a:lnTo>
                  <a:pt x="67" y="8"/>
                </a:lnTo>
                <a:lnTo>
                  <a:pt x="127" y="8"/>
                </a:lnTo>
                <a:lnTo>
                  <a:pt x="172" y="8"/>
                </a:lnTo>
                <a:lnTo>
                  <a:pt x="217" y="8"/>
                </a:lnTo>
                <a:lnTo>
                  <a:pt x="247" y="8"/>
                </a:lnTo>
                <a:lnTo>
                  <a:pt x="277" y="8"/>
                </a:lnTo>
                <a:lnTo>
                  <a:pt x="300" y="8"/>
                </a:lnTo>
                <a:lnTo>
                  <a:pt x="322" y="8"/>
                </a:lnTo>
                <a:lnTo>
                  <a:pt x="345" y="8"/>
                </a:lnTo>
                <a:lnTo>
                  <a:pt x="367" y="0"/>
                </a:lnTo>
                <a:lnTo>
                  <a:pt x="397" y="0"/>
                </a:lnTo>
                <a:lnTo>
                  <a:pt x="427" y="0"/>
                </a:lnTo>
                <a:lnTo>
                  <a:pt x="457" y="0"/>
                </a:lnTo>
                <a:lnTo>
                  <a:pt x="480" y="0"/>
                </a:lnTo>
                <a:lnTo>
                  <a:pt x="502" y="0"/>
                </a:lnTo>
                <a:lnTo>
                  <a:pt x="525" y="8"/>
                </a:lnTo>
                <a:lnTo>
                  <a:pt x="555" y="8"/>
                </a:lnTo>
                <a:lnTo>
                  <a:pt x="577" y="16"/>
                </a:lnTo>
                <a:lnTo>
                  <a:pt x="600" y="23"/>
                </a:lnTo>
                <a:lnTo>
                  <a:pt x="622" y="31"/>
                </a:lnTo>
                <a:lnTo>
                  <a:pt x="645" y="53"/>
                </a:lnTo>
                <a:lnTo>
                  <a:pt x="667" y="68"/>
                </a:lnTo>
                <a:lnTo>
                  <a:pt x="690" y="91"/>
                </a:lnTo>
                <a:lnTo>
                  <a:pt x="705" y="113"/>
                </a:lnTo>
                <a:lnTo>
                  <a:pt x="727" y="128"/>
                </a:lnTo>
                <a:lnTo>
                  <a:pt x="735" y="158"/>
                </a:lnTo>
                <a:lnTo>
                  <a:pt x="757" y="181"/>
                </a:lnTo>
                <a:lnTo>
                  <a:pt x="772" y="203"/>
                </a:lnTo>
                <a:lnTo>
                  <a:pt x="787" y="226"/>
                </a:lnTo>
                <a:lnTo>
                  <a:pt x="810" y="256"/>
                </a:lnTo>
                <a:lnTo>
                  <a:pt x="825" y="278"/>
                </a:lnTo>
                <a:lnTo>
                  <a:pt x="840" y="301"/>
                </a:lnTo>
                <a:lnTo>
                  <a:pt x="847" y="323"/>
                </a:lnTo>
                <a:lnTo>
                  <a:pt x="862" y="346"/>
                </a:lnTo>
                <a:lnTo>
                  <a:pt x="885" y="361"/>
                </a:lnTo>
                <a:lnTo>
                  <a:pt x="892" y="383"/>
                </a:lnTo>
                <a:lnTo>
                  <a:pt x="900" y="406"/>
                </a:lnTo>
                <a:lnTo>
                  <a:pt x="930" y="428"/>
                </a:lnTo>
                <a:lnTo>
                  <a:pt x="945" y="451"/>
                </a:lnTo>
                <a:lnTo>
                  <a:pt x="967" y="473"/>
                </a:lnTo>
                <a:lnTo>
                  <a:pt x="982" y="496"/>
                </a:lnTo>
                <a:lnTo>
                  <a:pt x="997" y="526"/>
                </a:lnTo>
                <a:lnTo>
                  <a:pt x="1012" y="548"/>
                </a:lnTo>
                <a:lnTo>
                  <a:pt x="1042" y="578"/>
                </a:lnTo>
                <a:lnTo>
                  <a:pt x="1057" y="623"/>
                </a:lnTo>
                <a:lnTo>
                  <a:pt x="1072" y="646"/>
                </a:lnTo>
                <a:lnTo>
                  <a:pt x="1095" y="676"/>
                </a:lnTo>
                <a:lnTo>
                  <a:pt x="1117" y="698"/>
                </a:lnTo>
                <a:lnTo>
                  <a:pt x="1132" y="721"/>
                </a:lnTo>
                <a:lnTo>
                  <a:pt x="1177" y="736"/>
                </a:lnTo>
                <a:lnTo>
                  <a:pt x="1192" y="758"/>
                </a:lnTo>
                <a:lnTo>
                  <a:pt x="1215" y="781"/>
                </a:lnTo>
                <a:lnTo>
                  <a:pt x="1267" y="796"/>
                </a:lnTo>
                <a:lnTo>
                  <a:pt x="1282" y="818"/>
                </a:lnTo>
                <a:lnTo>
                  <a:pt x="1297" y="841"/>
                </a:lnTo>
                <a:lnTo>
                  <a:pt x="1320" y="863"/>
                </a:lnTo>
                <a:lnTo>
                  <a:pt x="1350" y="886"/>
                </a:lnTo>
                <a:lnTo>
                  <a:pt x="1380" y="916"/>
                </a:lnTo>
                <a:lnTo>
                  <a:pt x="1410" y="938"/>
                </a:lnTo>
                <a:lnTo>
                  <a:pt x="1432" y="961"/>
                </a:lnTo>
                <a:lnTo>
                  <a:pt x="1455" y="968"/>
                </a:lnTo>
                <a:lnTo>
                  <a:pt x="1477" y="991"/>
                </a:lnTo>
                <a:lnTo>
                  <a:pt x="1500" y="1013"/>
                </a:lnTo>
                <a:lnTo>
                  <a:pt x="1530" y="1028"/>
                </a:lnTo>
                <a:lnTo>
                  <a:pt x="1552" y="1051"/>
                </a:lnTo>
                <a:lnTo>
                  <a:pt x="1575" y="1066"/>
                </a:lnTo>
                <a:lnTo>
                  <a:pt x="1597" y="1066"/>
                </a:lnTo>
                <a:lnTo>
                  <a:pt x="1620" y="1081"/>
                </a:lnTo>
                <a:lnTo>
                  <a:pt x="1650" y="1088"/>
                </a:lnTo>
                <a:lnTo>
                  <a:pt x="1672" y="1096"/>
                </a:lnTo>
                <a:lnTo>
                  <a:pt x="1695" y="1111"/>
                </a:lnTo>
                <a:lnTo>
                  <a:pt x="1725" y="1111"/>
                </a:lnTo>
                <a:lnTo>
                  <a:pt x="1747" y="1118"/>
                </a:lnTo>
                <a:lnTo>
                  <a:pt x="1770" y="1126"/>
                </a:lnTo>
                <a:lnTo>
                  <a:pt x="1800" y="1126"/>
                </a:lnTo>
                <a:lnTo>
                  <a:pt x="1875" y="1133"/>
                </a:lnTo>
                <a:lnTo>
                  <a:pt x="1920" y="1133"/>
                </a:lnTo>
                <a:lnTo>
                  <a:pt x="1950" y="1141"/>
                </a:lnTo>
                <a:lnTo>
                  <a:pt x="1980" y="1141"/>
                </a:lnTo>
                <a:lnTo>
                  <a:pt x="2010" y="1141"/>
                </a:lnTo>
                <a:lnTo>
                  <a:pt x="2040" y="1148"/>
                </a:lnTo>
                <a:lnTo>
                  <a:pt x="2070" y="1148"/>
                </a:lnTo>
                <a:lnTo>
                  <a:pt x="2100" y="1148"/>
                </a:lnTo>
                <a:lnTo>
                  <a:pt x="2160" y="1156"/>
                </a:lnTo>
                <a:lnTo>
                  <a:pt x="2205" y="1156"/>
                </a:lnTo>
                <a:lnTo>
                  <a:pt x="2265" y="1156"/>
                </a:lnTo>
                <a:lnTo>
                  <a:pt x="2310" y="1156"/>
                </a:lnTo>
                <a:lnTo>
                  <a:pt x="2340" y="1163"/>
                </a:lnTo>
                <a:lnTo>
                  <a:pt x="2363" y="1163"/>
                </a:lnTo>
                <a:lnTo>
                  <a:pt x="2385" y="1163"/>
                </a:lnTo>
                <a:lnTo>
                  <a:pt x="2408" y="1163"/>
                </a:lnTo>
                <a:lnTo>
                  <a:pt x="2453" y="1163"/>
                </a:lnTo>
                <a:lnTo>
                  <a:pt x="2475" y="1163"/>
                </a:lnTo>
                <a:lnTo>
                  <a:pt x="2498" y="1163"/>
                </a:lnTo>
                <a:lnTo>
                  <a:pt x="2558" y="1163"/>
                </a:lnTo>
                <a:lnTo>
                  <a:pt x="2588" y="1156"/>
                </a:lnTo>
                <a:lnTo>
                  <a:pt x="2610" y="1156"/>
                </a:lnTo>
                <a:lnTo>
                  <a:pt x="2640" y="1156"/>
                </a:lnTo>
                <a:lnTo>
                  <a:pt x="2670" y="1156"/>
                </a:lnTo>
                <a:lnTo>
                  <a:pt x="2693" y="1156"/>
                </a:lnTo>
                <a:lnTo>
                  <a:pt x="2715" y="1148"/>
                </a:lnTo>
                <a:lnTo>
                  <a:pt x="2745" y="1156"/>
                </a:lnTo>
                <a:lnTo>
                  <a:pt x="2768" y="1156"/>
                </a:lnTo>
                <a:lnTo>
                  <a:pt x="2790" y="1156"/>
                </a:lnTo>
                <a:lnTo>
                  <a:pt x="2813" y="1171"/>
                </a:lnTo>
                <a:lnTo>
                  <a:pt x="2843" y="1186"/>
                </a:lnTo>
                <a:lnTo>
                  <a:pt x="2888" y="1193"/>
                </a:lnTo>
                <a:lnTo>
                  <a:pt x="2910" y="1201"/>
                </a:lnTo>
                <a:lnTo>
                  <a:pt x="2933" y="1208"/>
                </a:lnTo>
                <a:lnTo>
                  <a:pt x="2955" y="1216"/>
                </a:lnTo>
                <a:lnTo>
                  <a:pt x="2985" y="1223"/>
                </a:lnTo>
                <a:lnTo>
                  <a:pt x="3030" y="1231"/>
                </a:lnTo>
                <a:lnTo>
                  <a:pt x="3053" y="1231"/>
                </a:lnTo>
                <a:lnTo>
                  <a:pt x="3075" y="1231"/>
                </a:lnTo>
                <a:lnTo>
                  <a:pt x="3105" y="1238"/>
                </a:lnTo>
                <a:lnTo>
                  <a:pt x="3128" y="1238"/>
                </a:lnTo>
                <a:lnTo>
                  <a:pt x="3150" y="1238"/>
                </a:lnTo>
                <a:lnTo>
                  <a:pt x="3173" y="1246"/>
                </a:lnTo>
                <a:lnTo>
                  <a:pt x="3168" y="120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1523880" y="3571920"/>
            <a:ext cx="5488200" cy="1230120"/>
          </a:xfrm>
          <a:custGeom>
            <a:avLst/>
            <a:gdLst/>
            <a:ahLst/>
            <a:rect l="l" t="t" r="r" b="b"/>
            <a:pathLst>
              <a:path w="3457" h="775">
                <a:moveTo>
                  <a:pt x="0" y="774"/>
                </a:moveTo>
                <a:lnTo>
                  <a:pt x="37" y="773"/>
                </a:lnTo>
                <a:lnTo>
                  <a:pt x="82" y="773"/>
                </a:lnTo>
                <a:lnTo>
                  <a:pt x="142" y="773"/>
                </a:lnTo>
                <a:lnTo>
                  <a:pt x="202" y="773"/>
                </a:lnTo>
                <a:lnTo>
                  <a:pt x="262" y="773"/>
                </a:lnTo>
                <a:lnTo>
                  <a:pt x="307" y="773"/>
                </a:lnTo>
                <a:lnTo>
                  <a:pt x="337" y="765"/>
                </a:lnTo>
                <a:lnTo>
                  <a:pt x="397" y="758"/>
                </a:lnTo>
                <a:lnTo>
                  <a:pt x="442" y="758"/>
                </a:lnTo>
                <a:lnTo>
                  <a:pt x="472" y="758"/>
                </a:lnTo>
                <a:lnTo>
                  <a:pt x="502" y="750"/>
                </a:lnTo>
                <a:lnTo>
                  <a:pt x="532" y="750"/>
                </a:lnTo>
                <a:lnTo>
                  <a:pt x="555" y="743"/>
                </a:lnTo>
                <a:lnTo>
                  <a:pt x="585" y="735"/>
                </a:lnTo>
                <a:lnTo>
                  <a:pt x="615" y="720"/>
                </a:lnTo>
                <a:lnTo>
                  <a:pt x="660" y="720"/>
                </a:lnTo>
                <a:lnTo>
                  <a:pt x="690" y="698"/>
                </a:lnTo>
                <a:lnTo>
                  <a:pt x="712" y="690"/>
                </a:lnTo>
                <a:lnTo>
                  <a:pt x="742" y="683"/>
                </a:lnTo>
                <a:lnTo>
                  <a:pt x="765" y="668"/>
                </a:lnTo>
                <a:lnTo>
                  <a:pt x="787" y="660"/>
                </a:lnTo>
                <a:lnTo>
                  <a:pt x="817" y="645"/>
                </a:lnTo>
                <a:lnTo>
                  <a:pt x="840" y="630"/>
                </a:lnTo>
                <a:lnTo>
                  <a:pt x="862" y="615"/>
                </a:lnTo>
                <a:lnTo>
                  <a:pt x="915" y="600"/>
                </a:lnTo>
                <a:lnTo>
                  <a:pt x="975" y="578"/>
                </a:lnTo>
                <a:lnTo>
                  <a:pt x="997" y="555"/>
                </a:lnTo>
                <a:lnTo>
                  <a:pt x="1020" y="548"/>
                </a:lnTo>
                <a:lnTo>
                  <a:pt x="1042" y="525"/>
                </a:lnTo>
                <a:lnTo>
                  <a:pt x="1072" y="503"/>
                </a:lnTo>
                <a:lnTo>
                  <a:pt x="1095" y="480"/>
                </a:lnTo>
                <a:lnTo>
                  <a:pt x="1117" y="465"/>
                </a:lnTo>
                <a:lnTo>
                  <a:pt x="1140" y="443"/>
                </a:lnTo>
                <a:lnTo>
                  <a:pt x="1162" y="428"/>
                </a:lnTo>
                <a:lnTo>
                  <a:pt x="1192" y="405"/>
                </a:lnTo>
                <a:lnTo>
                  <a:pt x="1222" y="383"/>
                </a:lnTo>
                <a:lnTo>
                  <a:pt x="1245" y="368"/>
                </a:lnTo>
                <a:lnTo>
                  <a:pt x="1275" y="353"/>
                </a:lnTo>
                <a:lnTo>
                  <a:pt x="1297" y="338"/>
                </a:lnTo>
                <a:lnTo>
                  <a:pt x="1320" y="338"/>
                </a:lnTo>
                <a:lnTo>
                  <a:pt x="1350" y="323"/>
                </a:lnTo>
                <a:lnTo>
                  <a:pt x="1372" y="315"/>
                </a:lnTo>
                <a:lnTo>
                  <a:pt x="1395" y="300"/>
                </a:lnTo>
                <a:lnTo>
                  <a:pt x="1417" y="293"/>
                </a:lnTo>
                <a:lnTo>
                  <a:pt x="1447" y="278"/>
                </a:lnTo>
                <a:lnTo>
                  <a:pt x="1470" y="270"/>
                </a:lnTo>
                <a:lnTo>
                  <a:pt x="1492" y="255"/>
                </a:lnTo>
                <a:lnTo>
                  <a:pt x="1515" y="240"/>
                </a:lnTo>
                <a:lnTo>
                  <a:pt x="1545" y="233"/>
                </a:lnTo>
                <a:lnTo>
                  <a:pt x="1567" y="218"/>
                </a:lnTo>
                <a:lnTo>
                  <a:pt x="1590" y="218"/>
                </a:lnTo>
                <a:lnTo>
                  <a:pt x="1612" y="218"/>
                </a:lnTo>
                <a:lnTo>
                  <a:pt x="1635" y="203"/>
                </a:lnTo>
                <a:lnTo>
                  <a:pt x="1657" y="203"/>
                </a:lnTo>
                <a:lnTo>
                  <a:pt x="1687" y="180"/>
                </a:lnTo>
                <a:lnTo>
                  <a:pt x="1710" y="173"/>
                </a:lnTo>
                <a:lnTo>
                  <a:pt x="1740" y="173"/>
                </a:lnTo>
                <a:lnTo>
                  <a:pt x="1762" y="158"/>
                </a:lnTo>
                <a:lnTo>
                  <a:pt x="1785" y="150"/>
                </a:lnTo>
                <a:lnTo>
                  <a:pt x="1815" y="143"/>
                </a:lnTo>
                <a:lnTo>
                  <a:pt x="1845" y="143"/>
                </a:lnTo>
                <a:lnTo>
                  <a:pt x="1867" y="135"/>
                </a:lnTo>
                <a:lnTo>
                  <a:pt x="1890" y="135"/>
                </a:lnTo>
                <a:lnTo>
                  <a:pt x="1912" y="135"/>
                </a:lnTo>
                <a:lnTo>
                  <a:pt x="1928" y="128"/>
                </a:lnTo>
                <a:lnTo>
                  <a:pt x="1950" y="128"/>
                </a:lnTo>
                <a:lnTo>
                  <a:pt x="1973" y="128"/>
                </a:lnTo>
                <a:lnTo>
                  <a:pt x="1995" y="120"/>
                </a:lnTo>
                <a:lnTo>
                  <a:pt x="2025" y="120"/>
                </a:lnTo>
                <a:lnTo>
                  <a:pt x="2055" y="113"/>
                </a:lnTo>
                <a:lnTo>
                  <a:pt x="2085" y="113"/>
                </a:lnTo>
                <a:lnTo>
                  <a:pt x="2108" y="113"/>
                </a:lnTo>
                <a:lnTo>
                  <a:pt x="2130" y="105"/>
                </a:lnTo>
                <a:lnTo>
                  <a:pt x="2160" y="105"/>
                </a:lnTo>
                <a:lnTo>
                  <a:pt x="2183" y="98"/>
                </a:lnTo>
                <a:lnTo>
                  <a:pt x="2213" y="98"/>
                </a:lnTo>
                <a:lnTo>
                  <a:pt x="2235" y="90"/>
                </a:lnTo>
                <a:lnTo>
                  <a:pt x="2258" y="90"/>
                </a:lnTo>
                <a:lnTo>
                  <a:pt x="2280" y="90"/>
                </a:lnTo>
                <a:lnTo>
                  <a:pt x="2310" y="83"/>
                </a:lnTo>
                <a:lnTo>
                  <a:pt x="2340" y="83"/>
                </a:lnTo>
                <a:lnTo>
                  <a:pt x="2370" y="75"/>
                </a:lnTo>
                <a:lnTo>
                  <a:pt x="2400" y="75"/>
                </a:lnTo>
                <a:lnTo>
                  <a:pt x="2423" y="68"/>
                </a:lnTo>
                <a:lnTo>
                  <a:pt x="2445" y="68"/>
                </a:lnTo>
                <a:lnTo>
                  <a:pt x="2468" y="68"/>
                </a:lnTo>
                <a:lnTo>
                  <a:pt x="2498" y="60"/>
                </a:lnTo>
                <a:lnTo>
                  <a:pt x="2520" y="60"/>
                </a:lnTo>
                <a:lnTo>
                  <a:pt x="2543" y="60"/>
                </a:lnTo>
                <a:lnTo>
                  <a:pt x="2565" y="53"/>
                </a:lnTo>
                <a:lnTo>
                  <a:pt x="2588" y="53"/>
                </a:lnTo>
                <a:lnTo>
                  <a:pt x="2618" y="45"/>
                </a:lnTo>
                <a:lnTo>
                  <a:pt x="2640" y="45"/>
                </a:lnTo>
                <a:lnTo>
                  <a:pt x="2685" y="38"/>
                </a:lnTo>
                <a:lnTo>
                  <a:pt x="2708" y="38"/>
                </a:lnTo>
                <a:lnTo>
                  <a:pt x="2738" y="38"/>
                </a:lnTo>
                <a:lnTo>
                  <a:pt x="2783" y="38"/>
                </a:lnTo>
                <a:lnTo>
                  <a:pt x="2813" y="38"/>
                </a:lnTo>
                <a:lnTo>
                  <a:pt x="2835" y="38"/>
                </a:lnTo>
                <a:lnTo>
                  <a:pt x="2865" y="38"/>
                </a:lnTo>
                <a:lnTo>
                  <a:pt x="2895" y="38"/>
                </a:lnTo>
                <a:lnTo>
                  <a:pt x="2925" y="38"/>
                </a:lnTo>
                <a:lnTo>
                  <a:pt x="2955" y="38"/>
                </a:lnTo>
                <a:lnTo>
                  <a:pt x="2985" y="38"/>
                </a:lnTo>
                <a:lnTo>
                  <a:pt x="3015" y="38"/>
                </a:lnTo>
                <a:lnTo>
                  <a:pt x="3045" y="38"/>
                </a:lnTo>
                <a:lnTo>
                  <a:pt x="3068" y="38"/>
                </a:lnTo>
                <a:lnTo>
                  <a:pt x="3090" y="30"/>
                </a:lnTo>
                <a:lnTo>
                  <a:pt x="3120" y="30"/>
                </a:lnTo>
                <a:lnTo>
                  <a:pt x="3150" y="23"/>
                </a:lnTo>
                <a:lnTo>
                  <a:pt x="3173" y="23"/>
                </a:lnTo>
                <a:lnTo>
                  <a:pt x="3203" y="15"/>
                </a:lnTo>
                <a:lnTo>
                  <a:pt x="3225" y="15"/>
                </a:lnTo>
                <a:lnTo>
                  <a:pt x="3248" y="15"/>
                </a:lnTo>
                <a:lnTo>
                  <a:pt x="3270" y="8"/>
                </a:lnTo>
                <a:lnTo>
                  <a:pt x="3293" y="8"/>
                </a:lnTo>
                <a:lnTo>
                  <a:pt x="3315" y="8"/>
                </a:lnTo>
                <a:lnTo>
                  <a:pt x="3338" y="0"/>
                </a:lnTo>
                <a:lnTo>
                  <a:pt x="3360" y="0"/>
                </a:lnTo>
                <a:lnTo>
                  <a:pt x="3420" y="0"/>
                </a:lnTo>
                <a:lnTo>
                  <a:pt x="3443" y="0"/>
                </a:lnTo>
                <a:lnTo>
                  <a:pt x="3456" y="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523880" y="2011320"/>
            <a:ext cx="5183280" cy="906480"/>
          </a:xfrm>
          <a:custGeom>
            <a:avLst/>
            <a:gdLst/>
            <a:ahLst/>
            <a:rect l="l" t="t" r="r" b="b"/>
            <a:pathLst>
              <a:path w="3265" h="571">
                <a:moveTo>
                  <a:pt x="0" y="509"/>
                </a:moveTo>
                <a:lnTo>
                  <a:pt x="30" y="503"/>
                </a:lnTo>
                <a:lnTo>
                  <a:pt x="60" y="510"/>
                </a:lnTo>
                <a:lnTo>
                  <a:pt x="112" y="510"/>
                </a:lnTo>
                <a:lnTo>
                  <a:pt x="135" y="518"/>
                </a:lnTo>
                <a:lnTo>
                  <a:pt x="157" y="518"/>
                </a:lnTo>
                <a:lnTo>
                  <a:pt x="187" y="518"/>
                </a:lnTo>
                <a:lnTo>
                  <a:pt x="210" y="525"/>
                </a:lnTo>
                <a:lnTo>
                  <a:pt x="232" y="525"/>
                </a:lnTo>
                <a:lnTo>
                  <a:pt x="255" y="525"/>
                </a:lnTo>
                <a:lnTo>
                  <a:pt x="277" y="518"/>
                </a:lnTo>
                <a:lnTo>
                  <a:pt x="300" y="503"/>
                </a:lnTo>
                <a:lnTo>
                  <a:pt x="315" y="480"/>
                </a:lnTo>
                <a:lnTo>
                  <a:pt x="330" y="458"/>
                </a:lnTo>
                <a:lnTo>
                  <a:pt x="330" y="435"/>
                </a:lnTo>
                <a:lnTo>
                  <a:pt x="337" y="375"/>
                </a:lnTo>
                <a:lnTo>
                  <a:pt x="352" y="345"/>
                </a:lnTo>
                <a:lnTo>
                  <a:pt x="352" y="300"/>
                </a:lnTo>
                <a:lnTo>
                  <a:pt x="360" y="255"/>
                </a:lnTo>
                <a:lnTo>
                  <a:pt x="360" y="195"/>
                </a:lnTo>
                <a:lnTo>
                  <a:pt x="367" y="150"/>
                </a:lnTo>
                <a:lnTo>
                  <a:pt x="382" y="90"/>
                </a:lnTo>
                <a:lnTo>
                  <a:pt x="382" y="30"/>
                </a:lnTo>
                <a:lnTo>
                  <a:pt x="390" y="105"/>
                </a:lnTo>
                <a:lnTo>
                  <a:pt x="397" y="150"/>
                </a:lnTo>
                <a:lnTo>
                  <a:pt x="405" y="195"/>
                </a:lnTo>
                <a:lnTo>
                  <a:pt x="405" y="240"/>
                </a:lnTo>
                <a:lnTo>
                  <a:pt x="412" y="300"/>
                </a:lnTo>
                <a:lnTo>
                  <a:pt x="412" y="345"/>
                </a:lnTo>
                <a:lnTo>
                  <a:pt x="412" y="390"/>
                </a:lnTo>
                <a:lnTo>
                  <a:pt x="420" y="443"/>
                </a:lnTo>
                <a:lnTo>
                  <a:pt x="420" y="473"/>
                </a:lnTo>
                <a:lnTo>
                  <a:pt x="435" y="533"/>
                </a:lnTo>
                <a:lnTo>
                  <a:pt x="442" y="555"/>
                </a:lnTo>
                <a:lnTo>
                  <a:pt x="472" y="533"/>
                </a:lnTo>
                <a:lnTo>
                  <a:pt x="487" y="510"/>
                </a:lnTo>
                <a:lnTo>
                  <a:pt x="487" y="488"/>
                </a:lnTo>
                <a:lnTo>
                  <a:pt x="495" y="465"/>
                </a:lnTo>
                <a:lnTo>
                  <a:pt x="502" y="443"/>
                </a:lnTo>
                <a:lnTo>
                  <a:pt x="502" y="420"/>
                </a:lnTo>
                <a:lnTo>
                  <a:pt x="510" y="398"/>
                </a:lnTo>
                <a:lnTo>
                  <a:pt x="510" y="375"/>
                </a:lnTo>
                <a:lnTo>
                  <a:pt x="517" y="345"/>
                </a:lnTo>
                <a:lnTo>
                  <a:pt x="525" y="300"/>
                </a:lnTo>
                <a:lnTo>
                  <a:pt x="525" y="255"/>
                </a:lnTo>
                <a:lnTo>
                  <a:pt x="532" y="225"/>
                </a:lnTo>
                <a:lnTo>
                  <a:pt x="532" y="203"/>
                </a:lnTo>
                <a:lnTo>
                  <a:pt x="540" y="180"/>
                </a:lnTo>
                <a:lnTo>
                  <a:pt x="547" y="158"/>
                </a:lnTo>
                <a:lnTo>
                  <a:pt x="547" y="128"/>
                </a:lnTo>
                <a:lnTo>
                  <a:pt x="562" y="105"/>
                </a:lnTo>
                <a:lnTo>
                  <a:pt x="562" y="135"/>
                </a:lnTo>
                <a:lnTo>
                  <a:pt x="577" y="195"/>
                </a:lnTo>
                <a:lnTo>
                  <a:pt x="577" y="255"/>
                </a:lnTo>
                <a:lnTo>
                  <a:pt x="577" y="300"/>
                </a:lnTo>
                <a:lnTo>
                  <a:pt x="592" y="360"/>
                </a:lnTo>
                <a:lnTo>
                  <a:pt x="592" y="405"/>
                </a:lnTo>
                <a:lnTo>
                  <a:pt x="600" y="428"/>
                </a:lnTo>
                <a:lnTo>
                  <a:pt x="600" y="450"/>
                </a:lnTo>
                <a:lnTo>
                  <a:pt x="607" y="480"/>
                </a:lnTo>
                <a:lnTo>
                  <a:pt x="615" y="540"/>
                </a:lnTo>
                <a:lnTo>
                  <a:pt x="645" y="480"/>
                </a:lnTo>
                <a:lnTo>
                  <a:pt x="645" y="435"/>
                </a:lnTo>
                <a:lnTo>
                  <a:pt x="660" y="375"/>
                </a:lnTo>
                <a:lnTo>
                  <a:pt x="667" y="330"/>
                </a:lnTo>
                <a:lnTo>
                  <a:pt x="682" y="270"/>
                </a:lnTo>
                <a:lnTo>
                  <a:pt x="682" y="225"/>
                </a:lnTo>
                <a:lnTo>
                  <a:pt x="690" y="150"/>
                </a:lnTo>
                <a:lnTo>
                  <a:pt x="697" y="105"/>
                </a:lnTo>
                <a:lnTo>
                  <a:pt x="697" y="75"/>
                </a:lnTo>
                <a:lnTo>
                  <a:pt x="705" y="53"/>
                </a:lnTo>
                <a:lnTo>
                  <a:pt x="712" y="105"/>
                </a:lnTo>
                <a:lnTo>
                  <a:pt x="720" y="180"/>
                </a:lnTo>
                <a:lnTo>
                  <a:pt x="720" y="255"/>
                </a:lnTo>
                <a:lnTo>
                  <a:pt x="727" y="345"/>
                </a:lnTo>
                <a:lnTo>
                  <a:pt x="735" y="405"/>
                </a:lnTo>
                <a:lnTo>
                  <a:pt x="735" y="465"/>
                </a:lnTo>
                <a:lnTo>
                  <a:pt x="742" y="495"/>
                </a:lnTo>
                <a:lnTo>
                  <a:pt x="757" y="518"/>
                </a:lnTo>
                <a:lnTo>
                  <a:pt x="757" y="465"/>
                </a:lnTo>
                <a:lnTo>
                  <a:pt x="772" y="405"/>
                </a:lnTo>
                <a:lnTo>
                  <a:pt x="780" y="345"/>
                </a:lnTo>
                <a:lnTo>
                  <a:pt x="787" y="300"/>
                </a:lnTo>
                <a:lnTo>
                  <a:pt x="802" y="255"/>
                </a:lnTo>
                <a:lnTo>
                  <a:pt x="802" y="210"/>
                </a:lnTo>
                <a:lnTo>
                  <a:pt x="810" y="188"/>
                </a:lnTo>
                <a:lnTo>
                  <a:pt x="817" y="135"/>
                </a:lnTo>
                <a:lnTo>
                  <a:pt x="817" y="113"/>
                </a:lnTo>
                <a:lnTo>
                  <a:pt x="840" y="83"/>
                </a:lnTo>
                <a:lnTo>
                  <a:pt x="847" y="128"/>
                </a:lnTo>
                <a:lnTo>
                  <a:pt x="855" y="218"/>
                </a:lnTo>
                <a:lnTo>
                  <a:pt x="855" y="293"/>
                </a:lnTo>
                <a:lnTo>
                  <a:pt x="862" y="368"/>
                </a:lnTo>
                <a:lnTo>
                  <a:pt x="862" y="428"/>
                </a:lnTo>
                <a:lnTo>
                  <a:pt x="870" y="473"/>
                </a:lnTo>
                <a:lnTo>
                  <a:pt x="870" y="503"/>
                </a:lnTo>
                <a:lnTo>
                  <a:pt x="877" y="525"/>
                </a:lnTo>
                <a:lnTo>
                  <a:pt x="885" y="503"/>
                </a:lnTo>
                <a:lnTo>
                  <a:pt x="915" y="443"/>
                </a:lnTo>
                <a:lnTo>
                  <a:pt x="930" y="383"/>
                </a:lnTo>
                <a:lnTo>
                  <a:pt x="945" y="308"/>
                </a:lnTo>
                <a:lnTo>
                  <a:pt x="952" y="278"/>
                </a:lnTo>
                <a:lnTo>
                  <a:pt x="960" y="233"/>
                </a:lnTo>
                <a:lnTo>
                  <a:pt x="960" y="210"/>
                </a:lnTo>
                <a:lnTo>
                  <a:pt x="967" y="180"/>
                </a:lnTo>
                <a:lnTo>
                  <a:pt x="967" y="158"/>
                </a:lnTo>
                <a:lnTo>
                  <a:pt x="975" y="128"/>
                </a:lnTo>
                <a:lnTo>
                  <a:pt x="982" y="173"/>
                </a:lnTo>
                <a:lnTo>
                  <a:pt x="982" y="248"/>
                </a:lnTo>
                <a:lnTo>
                  <a:pt x="990" y="323"/>
                </a:lnTo>
                <a:lnTo>
                  <a:pt x="990" y="413"/>
                </a:lnTo>
                <a:lnTo>
                  <a:pt x="997" y="488"/>
                </a:lnTo>
                <a:lnTo>
                  <a:pt x="1005" y="518"/>
                </a:lnTo>
                <a:lnTo>
                  <a:pt x="1020" y="473"/>
                </a:lnTo>
                <a:lnTo>
                  <a:pt x="1035" y="428"/>
                </a:lnTo>
                <a:lnTo>
                  <a:pt x="1035" y="383"/>
                </a:lnTo>
                <a:lnTo>
                  <a:pt x="1042" y="323"/>
                </a:lnTo>
                <a:lnTo>
                  <a:pt x="1042" y="263"/>
                </a:lnTo>
                <a:lnTo>
                  <a:pt x="1042" y="240"/>
                </a:lnTo>
                <a:lnTo>
                  <a:pt x="1050" y="210"/>
                </a:lnTo>
                <a:lnTo>
                  <a:pt x="1050" y="158"/>
                </a:lnTo>
                <a:lnTo>
                  <a:pt x="1057" y="128"/>
                </a:lnTo>
                <a:lnTo>
                  <a:pt x="1057" y="195"/>
                </a:lnTo>
                <a:lnTo>
                  <a:pt x="1065" y="255"/>
                </a:lnTo>
                <a:lnTo>
                  <a:pt x="1072" y="315"/>
                </a:lnTo>
                <a:lnTo>
                  <a:pt x="1080" y="375"/>
                </a:lnTo>
                <a:lnTo>
                  <a:pt x="1080" y="435"/>
                </a:lnTo>
                <a:lnTo>
                  <a:pt x="1087" y="480"/>
                </a:lnTo>
                <a:lnTo>
                  <a:pt x="1087" y="525"/>
                </a:lnTo>
                <a:lnTo>
                  <a:pt x="1087" y="548"/>
                </a:lnTo>
                <a:lnTo>
                  <a:pt x="1095" y="570"/>
                </a:lnTo>
                <a:lnTo>
                  <a:pt x="1117" y="555"/>
                </a:lnTo>
                <a:lnTo>
                  <a:pt x="1132" y="495"/>
                </a:lnTo>
                <a:lnTo>
                  <a:pt x="1147" y="450"/>
                </a:lnTo>
                <a:lnTo>
                  <a:pt x="1155" y="405"/>
                </a:lnTo>
                <a:lnTo>
                  <a:pt x="1170" y="345"/>
                </a:lnTo>
                <a:lnTo>
                  <a:pt x="1177" y="255"/>
                </a:lnTo>
                <a:lnTo>
                  <a:pt x="1185" y="210"/>
                </a:lnTo>
                <a:lnTo>
                  <a:pt x="1185" y="165"/>
                </a:lnTo>
                <a:lnTo>
                  <a:pt x="1200" y="120"/>
                </a:lnTo>
                <a:lnTo>
                  <a:pt x="1207" y="75"/>
                </a:lnTo>
                <a:lnTo>
                  <a:pt x="1207" y="30"/>
                </a:lnTo>
                <a:lnTo>
                  <a:pt x="1222" y="0"/>
                </a:lnTo>
                <a:lnTo>
                  <a:pt x="1230" y="60"/>
                </a:lnTo>
                <a:lnTo>
                  <a:pt x="1230" y="105"/>
                </a:lnTo>
                <a:lnTo>
                  <a:pt x="1230" y="165"/>
                </a:lnTo>
                <a:lnTo>
                  <a:pt x="1237" y="225"/>
                </a:lnTo>
                <a:lnTo>
                  <a:pt x="1237" y="270"/>
                </a:lnTo>
                <a:lnTo>
                  <a:pt x="1245" y="345"/>
                </a:lnTo>
                <a:lnTo>
                  <a:pt x="1245" y="405"/>
                </a:lnTo>
                <a:lnTo>
                  <a:pt x="1252" y="435"/>
                </a:lnTo>
                <a:lnTo>
                  <a:pt x="1252" y="458"/>
                </a:lnTo>
                <a:lnTo>
                  <a:pt x="1260" y="488"/>
                </a:lnTo>
                <a:lnTo>
                  <a:pt x="1267" y="413"/>
                </a:lnTo>
                <a:lnTo>
                  <a:pt x="1275" y="338"/>
                </a:lnTo>
                <a:lnTo>
                  <a:pt x="1290" y="278"/>
                </a:lnTo>
                <a:lnTo>
                  <a:pt x="1297" y="203"/>
                </a:lnTo>
                <a:lnTo>
                  <a:pt x="1312" y="128"/>
                </a:lnTo>
                <a:lnTo>
                  <a:pt x="1320" y="68"/>
                </a:lnTo>
                <a:lnTo>
                  <a:pt x="1327" y="38"/>
                </a:lnTo>
                <a:lnTo>
                  <a:pt x="1342" y="15"/>
                </a:lnTo>
                <a:lnTo>
                  <a:pt x="1350" y="90"/>
                </a:lnTo>
                <a:lnTo>
                  <a:pt x="1350" y="150"/>
                </a:lnTo>
                <a:lnTo>
                  <a:pt x="1357" y="225"/>
                </a:lnTo>
                <a:lnTo>
                  <a:pt x="1357" y="285"/>
                </a:lnTo>
                <a:lnTo>
                  <a:pt x="1365" y="345"/>
                </a:lnTo>
                <a:lnTo>
                  <a:pt x="1365" y="390"/>
                </a:lnTo>
                <a:lnTo>
                  <a:pt x="1372" y="413"/>
                </a:lnTo>
                <a:lnTo>
                  <a:pt x="1372" y="435"/>
                </a:lnTo>
                <a:lnTo>
                  <a:pt x="1380" y="458"/>
                </a:lnTo>
                <a:lnTo>
                  <a:pt x="1387" y="480"/>
                </a:lnTo>
                <a:lnTo>
                  <a:pt x="1387" y="435"/>
                </a:lnTo>
                <a:lnTo>
                  <a:pt x="1402" y="375"/>
                </a:lnTo>
                <a:lnTo>
                  <a:pt x="1417" y="315"/>
                </a:lnTo>
                <a:lnTo>
                  <a:pt x="1425" y="255"/>
                </a:lnTo>
                <a:lnTo>
                  <a:pt x="1440" y="195"/>
                </a:lnTo>
                <a:lnTo>
                  <a:pt x="1440" y="150"/>
                </a:lnTo>
                <a:lnTo>
                  <a:pt x="1447" y="128"/>
                </a:lnTo>
                <a:lnTo>
                  <a:pt x="1455" y="98"/>
                </a:lnTo>
                <a:lnTo>
                  <a:pt x="1470" y="68"/>
                </a:lnTo>
                <a:lnTo>
                  <a:pt x="1477" y="38"/>
                </a:lnTo>
                <a:lnTo>
                  <a:pt x="1485" y="113"/>
                </a:lnTo>
                <a:lnTo>
                  <a:pt x="1492" y="188"/>
                </a:lnTo>
                <a:lnTo>
                  <a:pt x="1492" y="263"/>
                </a:lnTo>
                <a:lnTo>
                  <a:pt x="1500" y="338"/>
                </a:lnTo>
                <a:lnTo>
                  <a:pt x="1500" y="383"/>
                </a:lnTo>
                <a:lnTo>
                  <a:pt x="1507" y="443"/>
                </a:lnTo>
                <a:lnTo>
                  <a:pt x="1507" y="473"/>
                </a:lnTo>
                <a:lnTo>
                  <a:pt x="1515" y="503"/>
                </a:lnTo>
                <a:lnTo>
                  <a:pt x="1515" y="533"/>
                </a:lnTo>
                <a:lnTo>
                  <a:pt x="1522" y="555"/>
                </a:lnTo>
                <a:lnTo>
                  <a:pt x="1530" y="533"/>
                </a:lnTo>
                <a:lnTo>
                  <a:pt x="1537" y="488"/>
                </a:lnTo>
                <a:lnTo>
                  <a:pt x="1537" y="428"/>
                </a:lnTo>
                <a:lnTo>
                  <a:pt x="1545" y="368"/>
                </a:lnTo>
                <a:lnTo>
                  <a:pt x="1545" y="308"/>
                </a:lnTo>
                <a:lnTo>
                  <a:pt x="1552" y="248"/>
                </a:lnTo>
                <a:lnTo>
                  <a:pt x="1560" y="203"/>
                </a:lnTo>
                <a:lnTo>
                  <a:pt x="1560" y="158"/>
                </a:lnTo>
                <a:lnTo>
                  <a:pt x="1567" y="113"/>
                </a:lnTo>
                <a:lnTo>
                  <a:pt x="1567" y="83"/>
                </a:lnTo>
                <a:lnTo>
                  <a:pt x="1582" y="150"/>
                </a:lnTo>
                <a:lnTo>
                  <a:pt x="1590" y="240"/>
                </a:lnTo>
                <a:lnTo>
                  <a:pt x="1590" y="330"/>
                </a:lnTo>
                <a:lnTo>
                  <a:pt x="1597" y="420"/>
                </a:lnTo>
                <a:lnTo>
                  <a:pt x="1605" y="480"/>
                </a:lnTo>
                <a:lnTo>
                  <a:pt x="1605" y="525"/>
                </a:lnTo>
                <a:lnTo>
                  <a:pt x="1620" y="495"/>
                </a:lnTo>
                <a:lnTo>
                  <a:pt x="1635" y="450"/>
                </a:lnTo>
                <a:lnTo>
                  <a:pt x="1642" y="390"/>
                </a:lnTo>
                <a:lnTo>
                  <a:pt x="1650" y="315"/>
                </a:lnTo>
                <a:lnTo>
                  <a:pt x="1665" y="255"/>
                </a:lnTo>
                <a:lnTo>
                  <a:pt x="1665" y="195"/>
                </a:lnTo>
                <a:lnTo>
                  <a:pt x="1672" y="120"/>
                </a:lnTo>
                <a:lnTo>
                  <a:pt x="1672" y="75"/>
                </a:lnTo>
                <a:lnTo>
                  <a:pt x="1672" y="53"/>
                </a:lnTo>
                <a:lnTo>
                  <a:pt x="1687" y="128"/>
                </a:lnTo>
                <a:lnTo>
                  <a:pt x="1687" y="203"/>
                </a:lnTo>
                <a:lnTo>
                  <a:pt x="1695" y="263"/>
                </a:lnTo>
                <a:lnTo>
                  <a:pt x="1695" y="323"/>
                </a:lnTo>
                <a:lnTo>
                  <a:pt x="1710" y="383"/>
                </a:lnTo>
                <a:lnTo>
                  <a:pt x="1717" y="443"/>
                </a:lnTo>
                <a:lnTo>
                  <a:pt x="1717" y="465"/>
                </a:lnTo>
                <a:lnTo>
                  <a:pt x="1725" y="488"/>
                </a:lnTo>
                <a:lnTo>
                  <a:pt x="1740" y="510"/>
                </a:lnTo>
                <a:lnTo>
                  <a:pt x="1747" y="450"/>
                </a:lnTo>
                <a:lnTo>
                  <a:pt x="1762" y="390"/>
                </a:lnTo>
                <a:lnTo>
                  <a:pt x="1770" y="330"/>
                </a:lnTo>
                <a:lnTo>
                  <a:pt x="1785" y="270"/>
                </a:lnTo>
                <a:lnTo>
                  <a:pt x="1792" y="225"/>
                </a:lnTo>
                <a:lnTo>
                  <a:pt x="1800" y="180"/>
                </a:lnTo>
                <a:lnTo>
                  <a:pt x="1807" y="158"/>
                </a:lnTo>
                <a:lnTo>
                  <a:pt x="1815" y="135"/>
                </a:lnTo>
                <a:lnTo>
                  <a:pt x="1822" y="195"/>
                </a:lnTo>
                <a:lnTo>
                  <a:pt x="1830" y="300"/>
                </a:lnTo>
                <a:lnTo>
                  <a:pt x="1830" y="405"/>
                </a:lnTo>
                <a:lnTo>
                  <a:pt x="1837" y="480"/>
                </a:lnTo>
                <a:lnTo>
                  <a:pt x="1837" y="525"/>
                </a:lnTo>
                <a:lnTo>
                  <a:pt x="1845" y="548"/>
                </a:lnTo>
                <a:lnTo>
                  <a:pt x="1852" y="488"/>
                </a:lnTo>
                <a:lnTo>
                  <a:pt x="1867" y="428"/>
                </a:lnTo>
                <a:lnTo>
                  <a:pt x="1867" y="383"/>
                </a:lnTo>
                <a:lnTo>
                  <a:pt x="1875" y="323"/>
                </a:lnTo>
                <a:lnTo>
                  <a:pt x="1882" y="263"/>
                </a:lnTo>
                <a:lnTo>
                  <a:pt x="1890" y="218"/>
                </a:lnTo>
                <a:lnTo>
                  <a:pt x="1897" y="173"/>
                </a:lnTo>
                <a:lnTo>
                  <a:pt x="1905" y="143"/>
                </a:lnTo>
                <a:lnTo>
                  <a:pt x="1912" y="120"/>
                </a:lnTo>
                <a:lnTo>
                  <a:pt x="1912" y="173"/>
                </a:lnTo>
                <a:lnTo>
                  <a:pt x="1928" y="233"/>
                </a:lnTo>
                <a:lnTo>
                  <a:pt x="1928" y="308"/>
                </a:lnTo>
                <a:lnTo>
                  <a:pt x="1935" y="383"/>
                </a:lnTo>
                <a:lnTo>
                  <a:pt x="1935" y="428"/>
                </a:lnTo>
                <a:lnTo>
                  <a:pt x="1943" y="473"/>
                </a:lnTo>
                <a:lnTo>
                  <a:pt x="1943" y="495"/>
                </a:lnTo>
                <a:lnTo>
                  <a:pt x="1950" y="518"/>
                </a:lnTo>
                <a:lnTo>
                  <a:pt x="1950" y="540"/>
                </a:lnTo>
                <a:lnTo>
                  <a:pt x="1958" y="480"/>
                </a:lnTo>
                <a:lnTo>
                  <a:pt x="1973" y="435"/>
                </a:lnTo>
                <a:lnTo>
                  <a:pt x="1980" y="375"/>
                </a:lnTo>
                <a:lnTo>
                  <a:pt x="1988" y="300"/>
                </a:lnTo>
                <a:lnTo>
                  <a:pt x="1995" y="240"/>
                </a:lnTo>
                <a:lnTo>
                  <a:pt x="2010" y="210"/>
                </a:lnTo>
                <a:lnTo>
                  <a:pt x="2018" y="180"/>
                </a:lnTo>
                <a:lnTo>
                  <a:pt x="2033" y="150"/>
                </a:lnTo>
                <a:lnTo>
                  <a:pt x="2040" y="128"/>
                </a:lnTo>
                <a:lnTo>
                  <a:pt x="2048" y="105"/>
                </a:lnTo>
                <a:lnTo>
                  <a:pt x="2063" y="135"/>
                </a:lnTo>
                <a:lnTo>
                  <a:pt x="2070" y="180"/>
                </a:lnTo>
                <a:lnTo>
                  <a:pt x="2070" y="240"/>
                </a:lnTo>
                <a:lnTo>
                  <a:pt x="2078" y="285"/>
                </a:lnTo>
                <a:lnTo>
                  <a:pt x="2078" y="330"/>
                </a:lnTo>
                <a:lnTo>
                  <a:pt x="2078" y="390"/>
                </a:lnTo>
                <a:lnTo>
                  <a:pt x="2085" y="450"/>
                </a:lnTo>
                <a:lnTo>
                  <a:pt x="2093" y="510"/>
                </a:lnTo>
                <a:lnTo>
                  <a:pt x="2093" y="533"/>
                </a:lnTo>
                <a:lnTo>
                  <a:pt x="2093" y="480"/>
                </a:lnTo>
                <a:lnTo>
                  <a:pt x="2093" y="420"/>
                </a:lnTo>
                <a:lnTo>
                  <a:pt x="2108" y="330"/>
                </a:lnTo>
                <a:lnTo>
                  <a:pt x="2115" y="270"/>
                </a:lnTo>
                <a:lnTo>
                  <a:pt x="2115" y="210"/>
                </a:lnTo>
                <a:lnTo>
                  <a:pt x="2130" y="180"/>
                </a:lnTo>
                <a:lnTo>
                  <a:pt x="2130" y="135"/>
                </a:lnTo>
                <a:lnTo>
                  <a:pt x="2145" y="113"/>
                </a:lnTo>
                <a:lnTo>
                  <a:pt x="2153" y="143"/>
                </a:lnTo>
                <a:lnTo>
                  <a:pt x="2160" y="203"/>
                </a:lnTo>
                <a:lnTo>
                  <a:pt x="2160" y="248"/>
                </a:lnTo>
                <a:lnTo>
                  <a:pt x="2168" y="323"/>
                </a:lnTo>
                <a:lnTo>
                  <a:pt x="2168" y="383"/>
                </a:lnTo>
                <a:lnTo>
                  <a:pt x="2168" y="428"/>
                </a:lnTo>
                <a:lnTo>
                  <a:pt x="2175" y="458"/>
                </a:lnTo>
                <a:lnTo>
                  <a:pt x="2175" y="480"/>
                </a:lnTo>
                <a:lnTo>
                  <a:pt x="2183" y="503"/>
                </a:lnTo>
                <a:lnTo>
                  <a:pt x="2183" y="480"/>
                </a:lnTo>
                <a:lnTo>
                  <a:pt x="2183" y="420"/>
                </a:lnTo>
                <a:lnTo>
                  <a:pt x="2183" y="330"/>
                </a:lnTo>
                <a:lnTo>
                  <a:pt x="2183" y="270"/>
                </a:lnTo>
                <a:lnTo>
                  <a:pt x="2190" y="240"/>
                </a:lnTo>
                <a:lnTo>
                  <a:pt x="2190" y="218"/>
                </a:lnTo>
                <a:lnTo>
                  <a:pt x="2198" y="188"/>
                </a:lnTo>
                <a:lnTo>
                  <a:pt x="2213" y="165"/>
                </a:lnTo>
                <a:lnTo>
                  <a:pt x="2213" y="143"/>
                </a:lnTo>
                <a:lnTo>
                  <a:pt x="2220" y="165"/>
                </a:lnTo>
                <a:lnTo>
                  <a:pt x="2220" y="210"/>
                </a:lnTo>
                <a:lnTo>
                  <a:pt x="2228" y="240"/>
                </a:lnTo>
                <a:lnTo>
                  <a:pt x="2228" y="263"/>
                </a:lnTo>
                <a:lnTo>
                  <a:pt x="2235" y="293"/>
                </a:lnTo>
                <a:lnTo>
                  <a:pt x="2235" y="338"/>
                </a:lnTo>
                <a:lnTo>
                  <a:pt x="2235" y="368"/>
                </a:lnTo>
                <a:lnTo>
                  <a:pt x="2250" y="390"/>
                </a:lnTo>
                <a:lnTo>
                  <a:pt x="2250" y="413"/>
                </a:lnTo>
                <a:lnTo>
                  <a:pt x="2265" y="435"/>
                </a:lnTo>
                <a:lnTo>
                  <a:pt x="2288" y="443"/>
                </a:lnTo>
                <a:lnTo>
                  <a:pt x="2310" y="443"/>
                </a:lnTo>
                <a:lnTo>
                  <a:pt x="2333" y="443"/>
                </a:lnTo>
                <a:lnTo>
                  <a:pt x="2355" y="435"/>
                </a:lnTo>
                <a:lnTo>
                  <a:pt x="2378" y="435"/>
                </a:lnTo>
                <a:lnTo>
                  <a:pt x="2400" y="435"/>
                </a:lnTo>
                <a:lnTo>
                  <a:pt x="2423" y="428"/>
                </a:lnTo>
                <a:lnTo>
                  <a:pt x="2445" y="428"/>
                </a:lnTo>
                <a:lnTo>
                  <a:pt x="2468" y="428"/>
                </a:lnTo>
                <a:lnTo>
                  <a:pt x="2490" y="428"/>
                </a:lnTo>
                <a:lnTo>
                  <a:pt x="2513" y="428"/>
                </a:lnTo>
                <a:lnTo>
                  <a:pt x="2543" y="428"/>
                </a:lnTo>
                <a:lnTo>
                  <a:pt x="2603" y="428"/>
                </a:lnTo>
                <a:lnTo>
                  <a:pt x="2648" y="428"/>
                </a:lnTo>
                <a:lnTo>
                  <a:pt x="2678" y="435"/>
                </a:lnTo>
                <a:lnTo>
                  <a:pt x="2700" y="435"/>
                </a:lnTo>
                <a:lnTo>
                  <a:pt x="2723" y="435"/>
                </a:lnTo>
                <a:lnTo>
                  <a:pt x="2745" y="435"/>
                </a:lnTo>
                <a:lnTo>
                  <a:pt x="2768" y="443"/>
                </a:lnTo>
                <a:lnTo>
                  <a:pt x="2790" y="443"/>
                </a:lnTo>
                <a:lnTo>
                  <a:pt x="2813" y="443"/>
                </a:lnTo>
                <a:lnTo>
                  <a:pt x="2843" y="443"/>
                </a:lnTo>
                <a:lnTo>
                  <a:pt x="2865" y="443"/>
                </a:lnTo>
                <a:lnTo>
                  <a:pt x="2888" y="450"/>
                </a:lnTo>
                <a:lnTo>
                  <a:pt x="2910" y="450"/>
                </a:lnTo>
                <a:lnTo>
                  <a:pt x="2933" y="450"/>
                </a:lnTo>
                <a:lnTo>
                  <a:pt x="2955" y="450"/>
                </a:lnTo>
                <a:lnTo>
                  <a:pt x="2978" y="450"/>
                </a:lnTo>
                <a:lnTo>
                  <a:pt x="3008" y="458"/>
                </a:lnTo>
                <a:lnTo>
                  <a:pt x="3030" y="458"/>
                </a:lnTo>
                <a:lnTo>
                  <a:pt x="3083" y="458"/>
                </a:lnTo>
                <a:lnTo>
                  <a:pt x="3105" y="458"/>
                </a:lnTo>
                <a:lnTo>
                  <a:pt x="3128" y="458"/>
                </a:lnTo>
                <a:lnTo>
                  <a:pt x="3150" y="458"/>
                </a:lnTo>
                <a:lnTo>
                  <a:pt x="3180" y="458"/>
                </a:lnTo>
                <a:lnTo>
                  <a:pt x="3210" y="458"/>
                </a:lnTo>
                <a:lnTo>
                  <a:pt x="3233" y="458"/>
                </a:lnTo>
                <a:lnTo>
                  <a:pt x="3255" y="458"/>
                </a:lnTo>
                <a:lnTo>
                  <a:pt x="3264" y="4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470920" y="211788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Times New Roman"/>
            </a:endParaRPr>
          </a:p>
        </p:txBody>
      </p:sp>
      <p:sp>
        <p:nvSpPr>
          <p:cNvPr id="902" name=""/>
          <p:cNvSpPr/>
          <p:nvPr/>
        </p:nvSpPr>
        <p:spPr>
          <a:xfrm>
            <a:off x="5470560" y="3184560"/>
            <a:ext cx="192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Times New Roman"/>
            </a:endParaRPr>
          </a:p>
        </p:txBody>
      </p:sp>
      <p:sp>
        <p:nvSpPr>
          <p:cNvPr id="903" name=""/>
          <p:cNvSpPr/>
          <p:nvPr/>
        </p:nvSpPr>
        <p:spPr>
          <a:xfrm>
            <a:off x="5547960" y="478476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Times New Roman"/>
            </a:endParaRPr>
          </a:p>
        </p:txBody>
      </p:sp>
      <p:sp>
        <p:nvSpPr>
          <p:cNvPr id="904" name=""/>
          <p:cNvSpPr/>
          <p:nvPr/>
        </p:nvSpPr>
        <p:spPr>
          <a:xfrm>
            <a:off x="3946680" y="569916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905" name=""/>
          <p:cNvSpPr/>
          <p:nvPr/>
        </p:nvSpPr>
        <p:spPr>
          <a:xfrm>
            <a:off x="1361520" y="5470560"/>
            <a:ext cx="3693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906" name=""/>
          <p:cNvSpPr/>
          <p:nvPr/>
        </p:nvSpPr>
        <p:spPr>
          <a:xfrm>
            <a:off x="2133720" y="1752480"/>
            <a:ext cx="0" cy="373392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971000" y="5470560"/>
            <a:ext cx="3693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908" name=""/>
          <p:cNvSpPr/>
          <p:nvPr/>
        </p:nvSpPr>
        <p:spPr>
          <a:xfrm rot="16200000">
            <a:off x="-149760" y="3653640"/>
            <a:ext cx="235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09" name=""/>
          <p:cNvSpPr/>
          <p:nvPr/>
        </p:nvSpPr>
        <p:spPr>
          <a:xfrm>
            <a:off x="1987560" y="2673360"/>
            <a:ext cx="1739880" cy="2730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PlaceHolder 1"/>
          <p:cNvSpPr>
            <a:spLocks noGrp="1"/>
          </p:cNvSpPr>
          <p:nvPr>
            <p:ph type="title"/>
          </p:nvPr>
        </p:nvSpPr>
        <p:spPr>
          <a:xfrm>
            <a:off x="76212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the Timing of a Car Engine</a:t>
            </a:r>
            <a:endParaRPr b="1" lang="en-US" sz="3600" spc="-1" strike="noStrike">
              <a:solidFill>
                <a:srgbClr val="ffff66"/>
              </a:solidFill>
              <a:latin typeface="Arial"/>
            </a:endParaRPr>
          </a:p>
        </p:txBody>
      </p:sp>
      <p:sp>
        <p:nvSpPr>
          <p:cNvPr id="911" name=""/>
          <p:cNvSpPr/>
          <p:nvPr/>
        </p:nvSpPr>
        <p:spPr>
          <a:xfrm>
            <a:off x="3816360" y="2749680"/>
            <a:ext cx="44460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12" name=""/>
          <p:cNvSpPr/>
          <p:nvPr/>
        </p:nvSpPr>
        <p:spPr>
          <a:xfrm>
            <a:off x="3664080" y="5264280"/>
            <a:ext cx="44424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913" name=""/>
          <p:cNvSpPr/>
          <p:nvPr/>
        </p:nvSpPr>
        <p:spPr>
          <a:xfrm>
            <a:off x="1454040" y="5187960"/>
            <a:ext cx="44460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14" name=""/>
          <p:cNvSpPr/>
          <p:nvPr/>
        </p:nvSpPr>
        <p:spPr>
          <a:xfrm>
            <a:off x="2895480" y="4114800"/>
            <a:ext cx="20574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752480" y="4114800"/>
            <a:ext cx="2286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730760" y="3511440"/>
            <a:ext cx="444600" cy="1130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378080" y="2673360"/>
            <a:ext cx="44424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918" name=""/>
          <p:cNvGrpSpPr/>
          <p:nvPr/>
        </p:nvGrpSpPr>
        <p:grpSpPr>
          <a:xfrm>
            <a:off x="6095880" y="2286000"/>
            <a:ext cx="381240" cy="1212840"/>
            <a:chOff x="6095880" y="2286000"/>
            <a:chExt cx="381240" cy="1212840"/>
          </a:xfrm>
        </p:grpSpPr>
        <p:sp>
          <p:nvSpPr>
            <p:cNvPr id="919" name=""/>
            <p:cNvSpPr/>
            <p:nvPr/>
          </p:nvSpPr>
          <p:spPr>
            <a:xfrm>
              <a:off x="610236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095880" y="25909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a:off x="6095880" y="26668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6095880" y="274320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6095880" y="28954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4" name=""/>
            <p:cNvSpPr/>
            <p:nvPr/>
          </p:nvSpPr>
          <p:spPr>
            <a:xfrm>
              <a:off x="6095880" y="28195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5" name=""/>
            <p:cNvSpPr/>
            <p:nvPr/>
          </p:nvSpPr>
          <p:spPr>
            <a:xfrm>
              <a:off x="6248520" y="2286000"/>
              <a:ext cx="16812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solidFill>
              <a:srgbClr val="00cc9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24852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178680" y="2978280"/>
              <a:ext cx="21564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6629400" y="2286000"/>
            <a:ext cx="380880" cy="1212840"/>
            <a:chOff x="6629400" y="2286000"/>
            <a:chExt cx="380880" cy="1212840"/>
          </a:xfrm>
        </p:grpSpPr>
        <p:sp>
          <p:nvSpPr>
            <p:cNvPr id="929" name=""/>
            <p:cNvSpPr/>
            <p:nvPr/>
          </p:nvSpPr>
          <p:spPr>
            <a:xfrm>
              <a:off x="663588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629400" y="25909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1" name=""/>
            <p:cNvSpPr/>
            <p:nvPr/>
          </p:nvSpPr>
          <p:spPr>
            <a:xfrm>
              <a:off x="6629400" y="26668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6629400" y="27432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
            <p:cNvSpPr/>
            <p:nvPr/>
          </p:nvSpPr>
          <p:spPr>
            <a:xfrm>
              <a:off x="6629400" y="28954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6629400" y="28195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5" name=""/>
            <p:cNvSpPr/>
            <p:nvPr/>
          </p:nvSpPr>
          <p:spPr>
            <a:xfrm>
              <a:off x="6781680" y="2286000"/>
              <a:ext cx="16848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78168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711840" y="2978280"/>
              <a:ext cx="21600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162920" y="2286000"/>
            <a:ext cx="380880" cy="1212840"/>
            <a:chOff x="7162920" y="2286000"/>
            <a:chExt cx="380880" cy="1212840"/>
          </a:xfrm>
        </p:grpSpPr>
        <p:sp>
          <p:nvSpPr>
            <p:cNvPr id="939" name=""/>
            <p:cNvSpPr/>
            <p:nvPr/>
          </p:nvSpPr>
          <p:spPr>
            <a:xfrm>
              <a:off x="716904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162920" y="25909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1" name=""/>
            <p:cNvSpPr/>
            <p:nvPr/>
          </p:nvSpPr>
          <p:spPr>
            <a:xfrm>
              <a:off x="7162920" y="26668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a:off x="7162920" y="27432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7162920" y="28954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a:off x="7162920" y="28195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5" name=""/>
            <p:cNvSpPr/>
            <p:nvPr/>
          </p:nvSpPr>
          <p:spPr>
            <a:xfrm>
              <a:off x="7315200" y="2286000"/>
              <a:ext cx="16812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731520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245360" y="2978280"/>
              <a:ext cx="21600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6559560" y="1987560"/>
            <a:ext cx="444600" cy="520560"/>
          </a:xfrm>
          <a:prstGeom prst="star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9" name=""/>
          <p:cNvGrpSpPr/>
          <p:nvPr/>
        </p:nvGrpSpPr>
        <p:grpSpPr>
          <a:xfrm>
            <a:off x="7696080" y="2286000"/>
            <a:ext cx="381240" cy="1212840"/>
            <a:chOff x="7696080" y="2286000"/>
            <a:chExt cx="381240" cy="1212840"/>
          </a:xfrm>
        </p:grpSpPr>
        <p:sp>
          <p:nvSpPr>
            <p:cNvPr id="950" name=""/>
            <p:cNvSpPr/>
            <p:nvPr/>
          </p:nvSpPr>
          <p:spPr>
            <a:xfrm>
              <a:off x="770256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696080" y="25909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52" name=""/>
            <p:cNvSpPr/>
            <p:nvPr/>
          </p:nvSpPr>
          <p:spPr>
            <a:xfrm>
              <a:off x="7696080" y="26668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3" name=""/>
            <p:cNvSpPr/>
            <p:nvPr/>
          </p:nvSpPr>
          <p:spPr>
            <a:xfrm>
              <a:off x="7696080" y="274320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a:off x="7696080" y="28954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5" name=""/>
            <p:cNvSpPr/>
            <p:nvPr/>
          </p:nvSpPr>
          <p:spPr>
            <a:xfrm>
              <a:off x="7696080" y="28195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56" name=""/>
            <p:cNvSpPr/>
            <p:nvPr/>
          </p:nvSpPr>
          <p:spPr>
            <a:xfrm>
              <a:off x="7848720" y="2286000"/>
              <a:ext cx="16812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84872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778880" y="2978280"/>
              <a:ext cx="21564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611964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0" name=""/>
          <p:cNvSpPr/>
          <p:nvPr/>
        </p:nvSpPr>
        <p:spPr>
          <a:xfrm>
            <a:off x="665316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61" name=""/>
          <p:cNvSpPr/>
          <p:nvPr/>
        </p:nvSpPr>
        <p:spPr>
          <a:xfrm>
            <a:off x="718668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962" name=""/>
          <p:cNvSpPr/>
          <p:nvPr/>
        </p:nvSpPr>
        <p:spPr>
          <a:xfrm>
            <a:off x="771984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63" name=""/>
          <p:cNvSpPr/>
          <p:nvPr/>
        </p:nvSpPr>
        <p:spPr>
          <a:xfrm>
            <a:off x="1601640" y="2212920"/>
            <a:ext cx="2361960" cy="3655800"/>
          </a:xfrm>
          <a:custGeom>
            <a:avLst/>
            <a:gdLst/>
            <a:ahLst/>
            <a:rect l="l" t="t" r="r" b="b"/>
            <a:pathLst>
              <a:path stroke="0" w="21600" h="21600">
                <a:moveTo>
                  <a:pt x="523" y="14120"/>
                </a:moveTo>
                <a:arcTo wR="10800" hR="10800" stAng="9725795" swAng="19080041"/>
                <a:lnTo>
                  <a:pt x="10800" y="10800"/>
                </a:lnTo>
                <a:close/>
              </a:path>
              <a:path fill="none" w="21600" h="21600">
                <a:moveTo>
                  <a:pt x="523" y="14120"/>
                </a:moveTo>
                <a:arcTo wR="10800" hR="10800" stAng="9725795" swAng="19080041"/>
              </a:path>
            </a:pathLst>
          </a:custGeom>
          <a:noFill/>
          <a:ln cap="rnd" w="25560">
            <a:solidFill>
              <a:srgbClr val="000000"/>
            </a:solidFill>
            <a:custDash>
              <a:ds d="499000" sp="201000"/>
            </a:custDash>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952880" y="4114800"/>
            <a:ext cx="83844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flipV="1">
            <a:off x="1676160" y="2895120"/>
            <a:ext cx="1143000" cy="1219320"/>
          </a:xfrm>
          <a:prstGeom prst="line">
            <a:avLst/>
          </a:prstGeom>
          <a:ln w="507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606680" y="2368440"/>
            <a:ext cx="444240" cy="520920"/>
          </a:xfrm>
          <a:prstGeom prst="star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785480" y="4784760"/>
            <a:ext cx="2913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ure encoder</a:t>
            </a:r>
            <a:endParaRPr b="0" lang="en-US" sz="2400" spc="-1" strike="noStrike">
              <a:solidFill>
                <a:srgbClr val="000000"/>
              </a:solidFill>
              <a:latin typeface="Times New Roman"/>
            </a:endParaRPr>
          </a:p>
        </p:txBody>
      </p:sp>
      <p:sp>
        <p:nvSpPr>
          <p:cNvPr id="968" name=""/>
          <p:cNvSpPr/>
          <p:nvPr/>
        </p:nvSpPr>
        <p:spPr>
          <a:xfrm>
            <a:off x="2880360" y="6004080"/>
            <a:ext cx="157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r</a:t>
            </a:r>
            <a:endParaRPr b="0" lang="en-US" sz="2400" spc="-1" strike="noStrike">
              <a:solidFill>
                <a:srgbClr val="000000"/>
              </a:solidFill>
              <a:latin typeface="Times New Roman"/>
            </a:endParaRPr>
          </a:p>
        </p:txBody>
      </p:sp>
      <p:sp>
        <p:nvSpPr>
          <p:cNvPr id="969" name=""/>
          <p:cNvSpPr/>
          <p:nvPr/>
        </p:nvSpPr>
        <p:spPr>
          <a:xfrm flipV="1">
            <a:off x="3048120" y="510552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4952880" y="434340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386040" y="1584360"/>
            <a:ext cx="179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k plugs</a:t>
            </a:r>
            <a:endParaRPr b="0" lang="en-US" sz="2400" spc="-1" strike="noStrike">
              <a:solidFill>
                <a:srgbClr val="000000"/>
              </a:solidFill>
              <a:latin typeface="Times New Roman"/>
            </a:endParaRPr>
          </a:p>
        </p:txBody>
      </p:sp>
      <p:sp>
        <p:nvSpPr>
          <p:cNvPr id="972" name=""/>
          <p:cNvSpPr/>
          <p:nvPr/>
        </p:nvSpPr>
        <p:spPr>
          <a:xfrm flipH="1">
            <a:off x="4038480" y="5486400"/>
            <a:ext cx="60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633200" y="5318280"/>
            <a:ext cx="260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s spark plug 3</a:t>
            </a:r>
            <a:endParaRPr b="0" lang="en-US" sz="2400" spc="-1" strike="noStrike">
              <a:solidFill>
                <a:srgbClr val="000000"/>
              </a:solidFill>
              <a:latin typeface="Times New Roman"/>
            </a:endParaRPr>
          </a:p>
        </p:txBody>
      </p:sp>
      <p:sp>
        <p:nvSpPr>
          <p:cNvPr id="974" name=""/>
          <p:cNvSpPr/>
          <p:nvPr/>
        </p:nvSpPr>
        <p:spPr>
          <a:xfrm>
            <a:off x="5164920" y="3641760"/>
            <a:ext cx="89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estamping Explained</a:t>
            </a:r>
            <a:endParaRPr b="1" lang="en-US" sz="3600" spc="-1" strike="noStrike">
              <a:solidFill>
                <a:srgbClr val="ffff66"/>
              </a:solidFill>
              <a:latin typeface="Arial"/>
            </a:endParaRPr>
          </a:p>
        </p:txBody>
      </p:sp>
      <p:sp>
        <p:nvSpPr>
          <p:cNvPr id="976" name="PlaceHolder 2"/>
          <p:cNvSpPr>
            <a:spLocks noGrp="1"/>
          </p:cNvSpPr>
          <p:nvPr>
            <p:ph/>
          </p:nvPr>
        </p:nvSpPr>
        <p:spPr>
          <a:xfrm>
            <a:off x="703440" y="184644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value of counter and lines being monitored each time a line changes st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ounter as a time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individual lines their polarity</a:t>
            </a:r>
            <a:endParaRPr b="0" lang="en-US" sz="2800" spc="-1" strike="noStrike">
              <a:solidFill>
                <a:srgbClr val="ffffff"/>
              </a:solidFill>
              <a:latin typeface="Arial"/>
            </a:endParaRPr>
          </a:p>
        </p:txBody>
      </p:sp>
      <p:sp>
        <p:nvSpPr>
          <p:cNvPr id="977" name=""/>
          <p:cNvSpPr/>
          <p:nvPr/>
        </p:nvSpPr>
        <p:spPr>
          <a:xfrm>
            <a:off x="922320" y="3962520"/>
            <a:ext cx="5923080" cy="224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616120" y="4125960"/>
            <a:ext cx="3962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633760" y="4432320"/>
            <a:ext cx="3927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294012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294012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3330720" y="4123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3720960" y="4141440"/>
            <a:ext cx="669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V="1">
            <a:off x="4095720" y="414288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4452840" y="4123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4809960" y="4123800"/>
            <a:ext cx="669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516744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552456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584676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33072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72276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095720" y="416088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445284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809960" y="4125960"/>
            <a:ext cx="6696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167440" y="4141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506920" y="4125960"/>
            <a:ext cx="6696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865840" y="4141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666880" y="4908600"/>
            <a:ext cx="86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3517920" y="4670280"/>
            <a:ext cx="0" cy="238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517920" y="4670280"/>
            <a:ext cx="19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491080" y="4687920"/>
            <a:ext cx="0" cy="203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489640" y="4908600"/>
            <a:ext cx="100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666880" y="5334120"/>
            <a:ext cx="164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4316400" y="5078520"/>
            <a:ext cx="0" cy="25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316400" y="5078520"/>
            <a:ext cx="139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905760" y="4060800"/>
            <a:ext cx="1091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a:t>
            </a:r>
            <a:endParaRPr b="0" lang="en-US" sz="2000" spc="-1" strike="noStrike">
              <a:solidFill>
                <a:srgbClr val="000000"/>
              </a:solidFill>
              <a:latin typeface="Times New Roman"/>
            </a:endParaRPr>
          </a:p>
        </p:txBody>
      </p:sp>
      <p:sp>
        <p:nvSpPr>
          <p:cNvPr id="1007" name=""/>
          <p:cNvSpPr/>
          <p:nvPr/>
        </p:nvSpPr>
        <p:spPr>
          <a:xfrm>
            <a:off x="942480" y="455292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A</a:t>
            </a:r>
            <a:endParaRPr b="0" lang="en-US" sz="2000" spc="-1" strike="noStrike">
              <a:solidFill>
                <a:srgbClr val="000000"/>
              </a:solidFill>
              <a:latin typeface="Times New Roman"/>
            </a:endParaRPr>
          </a:p>
        </p:txBody>
      </p:sp>
      <p:sp>
        <p:nvSpPr>
          <p:cNvPr id="1008" name=""/>
          <p:cNvSpPr/>
          <p:nvPr/>
        </p:nvSpPr>
        <p:spPr>
          <a:xfrm>
            <a:off x="975960" y="504684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B</a:t>
            </a:r>
            <a:endParaRPr b="0" lang="en-US" sz="2000" spc="-1" strike="noStrike">
              <a:solidFill>
                <a:srgbClr val="000000"/>
              </a:solidFill>
              <a:latin typeface="Times New Roman"/>
            </a:endParaRPr>
          </a:p>
        </p:txBody>
      </p:sp>
      <p:sp>
        <p:nvSpPr>
          <p:cNvPr id="1009" name=""/>
          <p:cNvSpPr/>
          <p:nvPr/>
        </p:nvSpPr>
        <p:spPr>
          <a:xfrm>
            <a:off x="2616120" y="40687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10" name=""/>
          <p:cNvSpPr/>
          <p:nvPr/>
        </p:nvSpPr>
        <p:spPr>
          <a:xfrm>
            <a:off x="3013200" y="4068720"/>
            <a:ext cx="2384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3   4   5  6  7  8  9  10</a:t>
            </a:r>
            <a:endParaRPr b="0" lang="en-US" sz="1600" spc="-1" strike="noStrike">
              <a:solidFill>
                <a:srgbClr val="000000"/>
              </a:solidFill>
              <a:latin typeface="Times New Roman"/>
            </a:endParaRPr>
          </a:p>
        </p:txBody>
      </p:sp>
      <p:sp>
        <p:nvSpPr>
          <p:cNvPr id="1011" name=""/>
          <p:cNvSpPr/>
          <p:nvPr/>
        </p:nvSpPr>
        <p:spPr>
          <a:xfrm>
            <a:off x="3513240" y="5499000"/>
            <a:ext cx="484200" cy="654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500280" y="5843520"/>
            <a:ext cx="50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608280" y="54705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014" name=""/>
          <p:cNvSpPr/>
          <p:nvPr/>
        </p:nvSpPr>
        <p:spPr>
          <a:xfrm>
            <a:off x="3606840" y="58118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015" name=""/>
          <p:cNvSpPr/>
          <p:nvPr/>
        </p:nvSpPr>
        <p:spPr>
          <a:xfrm>
            <a:off x="4395960" y="5499000"/>
            <a:ext cx="483840" cy="654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402080" y="5843520"/>
            <a:ext cx="49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405320" y="5827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1018" name=""/>
          <p:cNvSpPr/>
          <p:nvPr/>
        </p:nvSpPr>
        <p:spPr>
          <a:xfrm>
            <a:off x="4457880" y="54878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019" name=""/>
          <p:cNvSpPr/>
          <p:nvPr/>
        </p:nvSpPr>
        <p:spPr>
          <a:xfrm>
            <a:off x="5467320" y="5497560"/>
            <a:ext cx="484200" cy="654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56160" y="5843520"/>
            <a:ext cx="51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545080" y="54864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022" name=""/>
          <p:cNvSpPr/>
          <p:nvPr/>
        </p:nvSpPr>
        <p:spPr>
          <a:xfrm>
            <a:off x="5475240" y="58104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1023" name=""/>
          <p:cNvSpPr/>
          <p:nvPr/>
        </p:nvSpPr>
        <p:spPr>
          <a:xfrm>
            <a:off x="5711760" y="5334120"/>
            <a:ext cx="81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694480" y="5078520"/>
            <a:ext cx="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535200" y="4476600"/>
            <a:ext cx="322560" cy="97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321080" y="4465800"/>
            <a:ext cx="284400" cy="98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489640" y="4452840"/>
            <a:ext cx="152280" cy="96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027480" y="5419800"/>
            <a:ext cx="8067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a:t>
            </a:r>
            <a:endParaRPr b="0" lang="en-US" sz="2000" spc="-1" strike="noStrike">
              <a:solidFill>
                <a:srgbClr val="000000"/>
              </a:solidFill>
              <a:latin typeface="Times New Roman"/>
            </a:endParaRPr>
          </a:p>
        </p:txBody>
      </p:sp>
      <p:sp>
        <p:nvSpPr>
          <p:cNvPr id="1029" name=""/>
          <p:cNvSpPr/>
          <p:nvPr/>
        </p:nvSpPr>
        <p:spPr>
          <a:xfrm flipH="1" flipV="1">
            <a:off x="5727240" y="5197320"/>
            <a:ext cx="561960" cy="30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955800" y="5473800"/>
            <a:ext cx="2307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data (cou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ata (A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31" name=""/>
          <p:cNvSpPr/>
          <p:nvPr/>
        </p:nvSpPr>
        <p:spPr>
          <a:xfrm>
            <a:off x="685800" y="1523880"/>
            <a:ext cx="7848720" cy="4648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 – Synchronize Digital Input and Counter Measurements</a:t>
            </a:r>
            <a:endParaRPr b="1" lang="en-US" sz="3600" spc="-1" strike="noStrike">
              <a:solidFill>
                <a:srgbClr val="ffff66"/>
              </a:solidFill>
              <a:latin typeface="Arial"/>
            </a:endParaRPr>
          </a:p>
        </p:txBody>
      </p:sp>
      <p:grpSp>
        <p:nvGrpSpPr>
          <p:cNvPr id="1033" name=""/>
          <p:cNvGrpSpPr/>
          <p:nvPr/>
        </p:nvGrpSpPr>
        <p:grpSpPr>
          <a:xfrm>
            <a:off x="2209680" y="1639800"/>
            <a:ext cx="3200400" cy="1789200"/>
            <a:chOff x="2209680" y="1639800"/>
            <a:chExt cx="3200400" cy="1789200"/>
          </a:xfrm>
        </p:grpSpPr>
        <p:sp>
          <p:nvSpPr>
            <p:cNvPr id="1034" name=""/>
            <p:cNvSpPr/>
            <p:nvPr/>
          </p:nvSpPr>
          <p:spPr>
            <a:xfrm>
              <a:off x="2209680" y="1639800"/>
              <a:ext cx="0" cy="1789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410080" y="1743120"/>
              <a:ext cx="0" cy="1473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211480" y="1743120"/>
              <a:ext cx="319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211480" y="3429000"/>
              <a:ext cx="168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2379600" y="3218040"/>
              <a:ext cx="0" cy="209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381400" y="3218040"/>
              <a:ext cx="3028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180040" y="1744560"/>
              <a:ext cx="0" cy="147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1" name=""/>
          <p:cNvGrpSpPr/>
          <p:nvPr/>
        </p:nvGrpSpPr>
        <p:grpSpPr>
          <a:xfrm>
            <a:off x="2209680" y="3544920"/>
            <a:ext cx="3276720" cy="2093760"/>
            <a:chOff x="2209680" y="3544920"/>
            <a:chExt cx="3276720" cy="2093760"/>
          </a:xfrm>
        </p:grpSpPr>
        <p:sp>
          <p:nvSpPr>
            <p:cNvPr id="1042" name=""/>
            <p:cNvSpPr/>
            <p:nvPr/>
          </p:nvSpPr>
          <p:spPr>
            <a:xfrm>
              <a:off x="2209680" y="3544920"/>
              <a:ext cx="0" cy="2093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486400" y="3666600"/>
              <a:ext cx="0" cy="1722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211480" y="3665520"/>
              <a:ext cx="327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211480" y="563868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2386080" y="53895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387520" y="5389560"/>
              <a:ext cx="3098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253120" y="3666960"/>
              <a:ext cx="0" cy="1722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992160" y="2438280"/>
            <a:ext cx="12175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373040" y="3962520"/>
            <a:ext cx="205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063800" y="3730680"/>
            <a:ext cx="304560" cy="755640"/>
          </a:xfrm>
          <a:prstGeom prst="ellipse">
            <a:avLst/>
          </a:prstGeom>
          <a:solidFill>
            <a:srgbClr val="003366"/>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920880" y="1765440"/>
            <a:ext cx="368280" cy="368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429000" y="3809880"/>
            <a:ext cx="1371600" cy="5335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 0</a:t>
            </a:r>
            <a:endParaRPr b="0" lang="en-US" sz="2400" spc="-1" strike="noStrike">
              <a:solidFill>
                <a:srgbClr val="000000"/>
              </a:solidFill>
              <a:latin typeface="Times New Roman"/>
            </a:endParaRPr>
          </a:p>
        </p:txBody>
      </p:sp>
      <p:sp>
        <p:nvSpPr>
          <p:cNvPr id="1054" name=""/>
          <p:cNvSpPr/>
          <p:nvPr/>
        </p:nvSpPr>
        <p:spPr>
          <a:xfrm>
            <a:off x="2744640" y="4800600"/>
            <a:ext cx="684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429000" y="4495680"/>
            <a:ext cx="1371600" cy="5335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 1</a:t>
            </a:r>
            <a:endParaRPr b="0" lang="en-US" sz="2400" spc="-1" strike="noStrike">
              <a:solidFill>
                <a:srgbClr val="000000"/>
              </a:solidFill>
              <a:latin typeface="Times New Roman"/>
            </a:endParaRPr>
          </a:p>
        </p:txBody>
      </p:sp>
      <p:sp>
        <p:nvSpPr>
          <p:cNvPr id="1056" name=""/>
          <p:cNvSpPr/>
          <p:nvPr/>
        </p:nvSpPr>
        <p:spPr>
          <a:xfrm>
            <a:off x="1373040" y="4114800"/>
            <a:ext cx="205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373040" y="4267080"/>
            <a:ext cx="205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346480" y="4937040"/>
            <a:ext cx="1235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MHz</a:t>
            </a:r>
            <a:endParaRPr b="0" lang="en-US" sz="2400" spc="-1" strike="noStrike">
              <a:solidFill>
                <a:srgbClr val="000000"/>
              </a:solidFill>
              <a:latin typeface="Times New Roman"/>
            </a:endParaRPr>
          </a:p>
        </p:txBody>
      </p:sp>
      <p:sp>
        <p:nvSpPr>
          <p:cNvPr id="1059" name=""/>
          <p:cNvSpPr/>
          <p:nvPr/>
        </p:nvSpPr>
        <p:spPr>
          <a:xfrm>
            <a:off x="2743200" y="4802040"/>
            <a:ext cx="0" cy="227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02040" y="4038480"/>
            <a:ext cx="297036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802040" y="4800600"/>
            <a:ext cx="3034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5105520" y="4040280"/>
            <a:ext cx="0" cy="76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514600" y="1828800"/>
            <a:ext cx="25909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65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bit high-speed digital I/O device)</a:t>
            </a:r>
            <a:endParaRPr b="0" lang="en-US" sz="2000" spc="-1" strike="noStrike">
              <a:solidFill>
                <a:srgbClr val="000000"/>
              </a:solidFill>
              <a:latin typeface="Times New Roman"/>
            </a:endParaRPr>
          </a:p>
        </p:txBody>
      </p:sp>
      <p:sp>
        <p:nvSpPr>
          <p:cNvPr id="1064" name=""/>
          <p:cNvSpPr/>
          <p:nvPr/>
        </p:nvSpPr>
        <p:spPr>
          <a:xfrm>
            <a:off x="1981080" y="5715000"/>
            <a:ext cx="5639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XI-6602</a:t>
            </a:r>
            <a:r>
              <a:rPr b="0" lang="en-US" sz="2400" spc="-1" strike="noStrike">
                <a:solidFill>
                  <a:srgbClr val="000000"/>
                </a:solidFill>
                <a:latin typeface="Arial"/>
              </a:rPr>
              <a:t> (8-channel counter device)</a:t>
            </a:r>
            <a:endParaRPr b="0" lang="en-US" sz="2400" spc="-1" strike="noStrike">
              <a:solidFill>
                <a:srgbClr val="000000"/>
              </a:solidFill>
              <a:latin typeface="Times New Roman"/>
            </a:endParaRPr>
          </a:p>
        </p:txBody>
      </p:sp>
      <p:grpSp>
        <p:nvGrpSpPr>
          <p:cNvPr id="1065" name=""/>
          <p:cNvGrpSpPr/>
          <p:nvPr/>
        </p:nvGrpSpPr>
        <p:grpSpPr>
          <a:xfrm>
            <a:off x="1449360" y="1981080"/>
            <a:ext cx="531720" cy="228600"/>
            <a:chOff x="1449360" y="1981080"/>
            <a:chExt cx="531720" cy="228600"/>
          </a:xfrm>
        </p:grpSpPr>
        <p:sp>
          <p:nvSpPr>
            <p:cNvPr id="1066" name=""/>
            <p:cNvSpPr/>
            <p:nvPr/>
          </p:nvSpPr>
          <p:spPr>
            <a:xfrm>
              <a:off x="1449360" y="22096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V="1">
              <a:off x="1639800" y="1982880"/>
              <a:ext cx="0" cy="22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639800" y="198108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V="1">
              <a:off x="1790640" y="1982880"/>
              <a:ext cx="0" cy="22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790640" y="22096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a:off x="682200" y="4495680"/>
            <a:ext cx="14742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dr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r</a:t>
            </a:r>
            <a:endParaRPr b="0" lang="en-US" sz="2000" spc="-1" strike="noStrike">
              <a:solidFill>
                <a:srgbClr val="000000"/>
              </a:solidFill>
              <a:latin typeface="Times New Roman"/>
            </a:endParaRPr>
          </a:p>
        </p:txBody>
      </p:sp>
      <p:grpSp>
        <p:nvGrpSpPr>
          <p:cNvPr id="1072" name=""/>
          <p:cNvGrpSpPr/>
          <p:nvPr/>
        </p:nvGrpSpPr>
        <p:grpSpPr>
          <a:xfrm>
            <a:off x="914400" y="1981080"/>
            <a:ext cx="380880" cy="1212840"/>
            <a:chOff x="914400" y="1981080"/>
            <a:chExt cx="380880" cy="1212840"/>
          </a:xfrm>
        </p:grpSpPr>
        <p:sp>
          <p:nvSpPr>
            <p:cNvPr id="1073" name=""/>
            <p:cNvSpPr/>
            <p:nvPr/>
          </p:nvSpPr>
          <p:spPr>
            <a:xfrm>
              <a:off x="920880" y="2216160"/>
              <a:ext cx="368280" cy="44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914400" y="22860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 name=""/>
            <p:cNvSpPr/>
            <p:nvPr/>
          </p:nvSpPr>
          <p:spPr>
            <a:xfrm>
              <a:off x="914400" y="23623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76" name=""/>
            <p:cNvSpPr/>
            <p:nvPr/>
          </p:nvSpPr>
          <p:spPr>
            <a:xfrm>
              <a:off x="914400" y="24382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7" name=""/>
            <p:cNvSpPr/>
            <p:nvPr/>
          </p:nvSpPr>
          <p:spPr>
            <a:xfrm>
              <a:off x="914400" y="25909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78" name=""/>
            <p:cNvSpPr/>
            <p:nvPr/>
          </p:nvSpPr>
          <p:spPr>
            <a:xfrm>
              <a:off x="914400" y="25146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a:off x="1066680" y="1981080"/>
              <a:ext cx="168480" cy="23040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1066680" y="205740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96840" y="2673360"/>
              <a:ext cx="21600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2" name=""/>
          <p:cNvSpPr/>
          <p:nvPr/>
        </p:nvSpPr>
        <p:spPr>
          <a:xfrm>
            <a:off x="7772400" y="2590920"/>
            <a:ext cx="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695560" y="4449600"/>
            <a:ext cx="23216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signal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via PX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gger (RTSI) lines</a:t>
            </a:r>
            <a:endParaRPr b="0" lang="en-US" sz="2000" spc="-1" strike="noStrike">
              <a:solidFill>
                <a:srgbClr val="000000"/>
              </a:solidFill>
              <a:latin typeface="Times New Roman"/>
            </a:endParaRPr>
          </a:p>
        </p:txBody>
      </p:sp>
      <p:sp>
        <p:nvSpPr>
          <p:cNvPr id="1084" name=""/>
          <p:cNvSpPr/>
          <p:nvPr/>
        </p:nvSpPr>
        <p:spPr>
          <a:xfrm flipH="1">
            <a:off x="1599840" y="2286000"/>
            <a:ext cx="152280" cy="304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08040" y="24987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086" name=""/>
          <p:cNvSpPr/>
          <p:nvPr/>
        </p:nvSpPr>
        <p:spPr>
          <a:xfrm>
            <a:off x="5411880" y="2590920"/>
            <a:ext cx="2360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8153280" y="1905120"/>
            <a:ext cx="0" cy="25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410080" y="1905120"/>
            <a:ext cx="274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486400" y="4419720"/>
            <a:ext cx="26668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470920" y="2239920"/>
            <a:ext cx="24055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tart-trigg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a:t>
            </a:r>
            <a:endParaRPr b="0" lang="en-US" sz="1800" spc="-1" strike="noStrike">
              <a:solidFill>
                <a:srgbClr val="000000"/>
              </a:solidFill>
              <a:latin typeface="Times New Roman"/>
            </a:endParaRPr>
          </a:p>
        </p:txBody>
      </p:sp>
      <p:sp>
        <p:nvSpPr>
          <p:cNvPr id="1091" name=""/>
          <p:cNvSpPr/>
          <p:nvPr/>
        </p:nvSpPr>
        <p:spPr>
          <a:xfrm>
            <a:off x="5700240" y="1554120"/>
            <a:ext cx="21373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hange detec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latch sig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3427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ze Data for the Car Engine Timing Test</a:t>
            </a:r>
            <a:endParaRPr b="1" lang="en-US" sz="3600" spc="-1" strike="noStrike">
              <a:solidFill>
                <a:srgbClr val="ffff66"/>
              </a:solidFill>
              <a:latin typeface="Arial"/>
            </a:endParaRPr>
          </a:p>
        </p:txBody>
      </p:sp>
      <p:graphicFrame>
        <p:nvGraphicFramePr>
          <p:cNvPr id="1093" name=""/>
          <p:cNvGraphicFramePr/>
          <p:nvPr/>
        </p:nvGraphicFramePr>
        <p:xfrm>
          <a:off x="682560" y="1905120"/>
          <a:ext cx="7080480" cy="4435200"/>
        </p:xfrm>
        <a:graphic>
          <a:graphicData uri="http://schemas.openxmlformats.org/presentationml/2006/ole">
            <p:oleObj progId="Word.Document.12" r:id="rId1" spid="">
              <p:embed/>
              <p:pic>
                <p:nvPicPr>
                  <p:cNvPr id="1094" name="" descr=""/>
                  <p:cNvPicPr/>
                  <p:nvPr/>
                </p:nvPicPr>
                <p:blipFill>
                  <a:blip r:embed="rId2"/>
                  <a:stretch/>
                </p:blipFill>
                <p:spPr>
                  <a:xfrm>
                    <a:off x="682560" y="1905120"/>
                    <a:ext cx="7080480" cy="4435200"/>
                  </a:xfrm>
                  <a:prstGeom prst="rect">
                    <a:avLst/>
                  </a:prstGeom>
                  <a:ln w="0">
                    <a:noFill/>
                  </a:ln>
                </p:spPr>
              </p:pic>
            </p:oleObj>
          </a:graphicData>
        </a:graphic>
      </p:graphicFrame>
      <p:sp>
        <p:nvSpPr>
          <p:cNvPr id="1095" name=""/>
          <p:cNvSpPr/>
          <p:nvPr/>
        </p:nvSpPr>
        <p:spPr>
          <a:xfrm>
            <a:off x="7140960" y="3394080"/>
            <a:ext cx="181404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rk delay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1 m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off b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degrees</a:t>
            </a:r>
            <a:endParaRPr b="0" lang="en-US" sz="2000" spc="-1" strike="noStrike">
              <a:solidFill>
                <a:srgbClr val="000000"/>
              </a:solidFill>
              <a:latin typeface="Times New Roman"/>
            </a:endParaRPr>
          </a:p>
        </p:txBody>
      </p:sp>
      <p:sp>
        <p:nvSpPr>
          <p:cNvPr id="1096" name=""/>
          <p:cNvSpPr/>
          <p:nvPr/>
        </p:nvSpPr>
        <p:spPr>
          <a:xfrm>
            <a:off x="7066080" y="4699080"/>
            <a:ext cx="774720" cy="333360"/>
          </a:xfrm>
          <a:prstGeom prst="leftArrow">
            <a:avLst>
              <a:gd name="adj1" fmla="val 50000"/>
              <a:gd name="adj2" fmla="val 11618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Background</a:t>
            </a:r>
            <a:endParaRPr b="1" lang="en-US" sz="3600" spc="-1" strike="noStrike">
              <a:solidFill>
                <a:srgbClr val="ffff66"/>
              </a:solidFill>
              <a:latin typeface="Arial"/>
            </a:endParaRPr>
          </a:p>
        </p:txBody>
      </p:sp>
      <p:sp>
        <p:nvSpPr>
          <p:cNvPr id="1098" name="PlaceHolder 2"/>
          <p:cNvSpPr>
            <a:spLocks noGrp="1"/>
          </p:cNvSpPr>
          <p:nvPr>
            <p:ph/>
          </p:nvPr>
        </p:nvSpPr>
        <p:spPr>
          <a:xfrm>
            <a:off x="762120" y="167652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stands for Global Positioning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satellit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ally transmit their position and tim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atomic-clocks which keep very accurate time (better than 10E-13 seconds accuracy!)</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bits the Earth once every 12 hou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ore than 24 GPS satellites orbiting the Ear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Acronyms</a:t>
            </a:r>
            <a:endParaRPr b="1" lang="en-US" sz="3600" spc="-1" strike="noStrike">
              <a:solidFill>
                <a:srgbClr val="ffff66"/>
              </a:solidFill>
              <a:latin typeface="Arial"/>
            </a:endParaRPr>
          </a:p>
        </p:txBody>
      </p:sp>
      <p:sp>
        <p:nvSpPr>
          <p:cNvPr id="1100"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 Global Positioning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IG-B = timing encoded signal generated by GPS receiv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PS = pulse per second. Signal generated by GPS receiv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C = Universal Coordinated Time (almost equal to GM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Receiver Background</a:t>
            </a:r>
            <a:endParaRPr b="1" lang="en-US" sz="3600" spc="-1" strike="noStrike">
              <a:solidFill>
                <a:srgbClr val="ffff66"/>
              </a:solidFill>
              <a:latin typeface="Arial"/>
            </a:endParaRPr>
          </a:p>
        </p:txBody>
      </p:sp>
      <p:sp>
        <p:nvSpPr>
          <p:cNvPr id="1102" name="PlaceHolder 2"/>
          <p:cNvSpPr>
            <a:spLocks noGrp="1"/>
          </p:cNvSpPr>
          <p:nvPr>
            <p:ph/>
          </p:nvPr>
        </p:nvSpPr>
        <p:spPr>
          <a:xfrm>
            <a:off x="762120" y="1600200"/>
            <a:ext cx="7772400" cy="45720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very accurate global time and position</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imes are relative to UT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accuracy improves with time!</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10E-6 seconds at power up to 40E-9 seconds at steady stat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transmit time information via </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 (serial port)</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PS timing signal</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IG-B timing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Timing Signals</a:t>
            </a:r>
            <a:endParaRPr b="1" lang="en-US" sz="3600" spc="-1" strike="noStrike">
              <a:solidFill>
                <a:srgbClr val="ffff66"/>
              </a:solidFill>
              <a:latin typeface="Arial"/>
            </a:endParaRPr>
          </a:p>
        </p:txBody>
      </p:sp>
      <p:grpSp>
        <p:nvGrpSpPr>
          <p:cNvPr id="1104" name=""/>
          <p:cNvGrpSpPr/>
          <p:nvPr/>
        </p:nvGrpSpPr>
        <p:grpSpPr>
          <a:xfrm>
            <a:off x="914400" y="4191120"/>
            <a:ext cx="7209000" cy="1904760"/>
            <a:chOff x="914400" y="4191120"/>
            <a:chExt cx="7209000" cy="1904760"/>
          </a:xfrm>
        </p:grpSpPr>
        <p:graphicFrame>
          <p:nvGraphicFramePr>
            <p:cNvPr id="1105" name=""/>
            <p:cNvGraphicFramePr/>
            <p:nvPr/>
          </p:nvGraphicFramePr>
          <p:xfrm>
            <a:off x="914400" y="4191120"/>
            <a:ext cx="7209000" cy="1904760"/>
          </p:xfrm>
          <a:graphic>
            <a:graphicData uri="http://schemas.openxmlformats.org/presentationml/2006/ole">
              <p:oleObj r:id="rId1" spid="">
                <p:embed/>
                <p:pic>
                  <p:nvPicPr>
                    <p:cNvPr id="1106" name="" descr=""/>
                    <p:cNvPicPr/>
                    <p:nvPr/>
                  </p:nvPicPr>
                  <p:blipFill>
                    <a:blip r:embed="rId2"/>
                    <a:stretch/>
                  </p:blipFill>
                  <p:spPr>
                    <a:xfrm>
                      <a:off x="914400" y="4191120"/>
                      <a:ext cx="7209000" cy="1904760"/>
                    </a:xfrm>
                    <a:prstGeom prst="rect">
                      <a:avLst/>
                    </a:prstGeom>
                    <a:ln w="0">
                      <a:noFill/>
                    </a:ln>
                  </p:spPr>
                </p:pic>
              </p:oleObj>
            </a:graphicData>
          </a:graphic>
        </p:graphicFrame>
        <p:grpSp>
          <p:nvGrpSpPr>
            <p:cNvPr id="1107" name=""/>
            <p:cNvGrpSpPr/>
            <p:nvPr/>
          </p:nvGrpSpPr>
          <p:grpSpPr>
            <a:xfrm>
              <a:off x="5128200" y="5567400"/>
              <a:ext cx="1158480" cy="401760"/>
              <a:chOff x="5128200" y="5567400"/>
              <a:chExt cx="1158480" cy="401760"/>
            </a:xfrm>
          </p:grpSpPr>
          <p:sp>
            <p:nvSpPr>
              <p:cNvPr id="1108" name=""/>
              <p:cNvSpPr/>
              <p:nvPr/>
            </p:nvSpPr>
            <p:spPr>
              <a:xfrm>
                <a:off x="5143680" y="5969160"/>
                <a:ext cx="11430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128200" y="5567400"/>
                <a:ext cx="114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econd</a:t>
                </a:r>
                <a:endParaRPr b="0" lang="en-US" sz="1800" spc="-1" strike="noStrike">
                  <a:solidFill>
                    <a:srgbClr val="000000"/>
                  </a:solidFill>
                  <a:latin typeface="Times New Roman"/>
                </a:endParaRPr>
              </a:p>
            </p:txBody>
          </p:sp>
          <p:sp>
            <p:nvSpPr>
              <p:cNvPr id="1110" name=""/>
              <p:cNvSpPr/>
              <p:nvPr/>
            </p:nvSpPr>
            <p:spPr>
              <a:xfrm>
                <a:off x="5168880" y="5638680"/>
                <a:ext cx="0" cy="304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273720" y="5638680"/>
                <a:ext cx="0" cy="304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1144080" y="5570640"/>
              <a:ext cx="3228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PPS signal</a:t>
              </a:r>
              <a:endParaRPr b="0" lang="en-US" sz="2800" spc="-1" strike="noStrike">
                <a:solidFill>
                  <a:srgbClr val="000000"/>
                </a:solidFill>
                <a:latin typeface="Times New Roman"/>
              </a:endParaRPr>
            </a:p>
          </p:txBody>
        </p:sp>
      </p:grpSp>
      <p:grpSp>
        <p:nvGrpSpPr>
          <p:cNvPr id="1113" name=""/>
          <p:cNvGrpSpPr/>
          <p:nvPr/>
        </p:nvGrpSpPr>
        <p:grpSpPr>
          <a:xfrm>
            <a:off x="896760" y="1600200"/>
            <a:ext cx="7223400" cy="2394000"/>
            <a:chOff x="896760" y="1600200"/>
            <a:chExt cx="7223400" cy="2394000"/>
          </a:xfrm>
        </p:grpSpPr>
        <p:graphicFrame>
          <p:nvGraphicFramePr>
            <p:cNvPr id="1114" name=""/>
            <p:cNvGraphicFramePr/>
            <p:nvPr/>
          </p:nvGraphicFramePr>
          <p:xfrm>
            <a:off x="896760" y="2022480"/>
            <a:ext cx="7223400" cy="1940040"/>
          </p:xfrm>
          <a:graphic>
            <a:graphicData uri="http://schemas.openxmlformats.org/presentationml/2006/ole">
              <p:oleObj r:id="rId3" spid="">
                <p:embed/>
                <p:pic>
                  <p:nvPicPr>
                    <p:cNvPr id="1115" name="" descr=""/>
                    <p:cNvPicPr/>
                    <p:nvPr/>
                  </p:nvPicPr>
                  <p:blipFill>
                    <a:blip r:embed="rId4"/>
                    <a:stretch/>
                  </p:blipFill>
                  <p:spPr>
                    <a:xfrm>
                      <a:off x="896760" y="2022480"/>
                      <a:ext cx="7223400" cy="1940040"/>
                    </a:xfrm>
                    <a:prstGeom prst="rect">
                      <a:avLst/>
                    </a:prstGeom>
                    <a:ln w="0">
                      <a:noFill/>
                    </a:ln>
                  </p:spPr>
                </p:pic>
              </p:oleObj>
            </a:graphicData>
          </a:graphic>
        </p:graphicFrame>
        <p:sp>
          <p:nvSpPr>
            <p:cNvPr id="1116" name=""/>
            <p:cNvSpPr/>
            <p:nvPr/>
          </p:nvSpPr>
          <p:spPr>
            <a:xfrm>
              <a:off x="914400" y="2971800"/>
              <a:ext cx="7162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416960" y="2879640"/>
              <a:ext cx="461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econds</a:t>
              </a:r>
              <a:r>
                <a:rPr b="0" lang="en-US" sz="2400" spc="-1" strike="noStrike">
                  <a:solidFill>
                    <a:srgbClr val="000000"/>
                  </a:solidFill>
                  <a:latin typeface="Arial"/>
                </a:rPr>
                <a:t>    </a:t>
              </a:r>
              <a:r>
                <a:rPr b="0" lang="en-US" sz="2000" spc="-1" strike="noStrike">
                  <a:solidFill>
                    <a:srgbClr val="000000"/>
                  </a:solidFill>
                  <a:latin typeface="Arial"/>
                </a:rPr>
                <a:t>Minutes</a:t>
              </a:r>
              <a:r>
                <a:rPr b="0" lang="en-US" sz="2400" spc="-1" strike="noStrike">
                  <a:solidFill>
                    <a:srgbClr val="000000"/>
                  </a:solidFill>
                  <a:latin typeface="Arial"/>
                </a:rPr>
                <a:t>   </a:t>
              </a:r>
              <a:r>
                <a:rPr b="0" lang="en-US" sz="2000" spc="-1" strike="noStrike">
                  <a:solidFill>
                    <a:srgbClr val="000000"/>
                  </a:solidFill>
                  <a:latin typeface="Arial"/>
                </a:rPr>
                <a:t>Hours</a:t>
              </a:r>
              <a:r>
                <a:rPr b="0" lang="en-US" sz="2400" spc="-1" strike="noStrike">
                  <a:solidFill>
                    <a:srgbClr val="000000"/>
                  </a:solidFill>
                  <a:latin typeface="Arial"/>
                </a:rPr>
                <a:t>       </a:t>
              </a:r>
              <a:r>
                <a:rPr b="0" lang="en-US" sz="2000" spc="-1" strike="noStrike">
                  <a:solidFill>
                    <a:srgbClr val="000000"/>
                  </a:solidFill>
                  <a:latin typeface="Arial"/>
                </a:rPr>
                <a:t>Days</a:t>
              </a:r>
              <a:endParaRPr b="0" lang="en-US" sz="2000" spc="-1" strike="noStrike">
                <a:solidFill>
                  <a:srgbClr val="000000"/>
                </a:solidFill>
                <a:latin typeface="Times New Roman"/>
              </a:endParaRPr>
            </a:p>
          </p:txBody>
        </p:sp>
        <p:sp>
          <p:nvSpPr>
            <p:cNvPr id="1118" name=""/>
            <p:cNvSpPr/>
            <p:nvPr/>
          </p:nvSpPr>
          <p:spPr>
            <a:xfrm>
              <a:off x="900000" y="1600200"/>
              <a:ext cx="7218360" cy="6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1447920" y="1981080"/>
              <a:ext cx="64767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804760" y="1666800"/>
              <a:ext cx="2518200" cy="49752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me of year</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s every second)</a:t>
              </a:r>
              <a:endParaRPr b="0" lang="en-US" sz="1800" spc="-1" strike="noStrike">
                <a:solidFill>
                  <a:srgbClr val="000000"/>
                </a:solidFill>
                <a:latin typeface="Times New Roman"/>
              </a:endParaRPr>
            </a:p>
          </p:txBody>
        </p:sp>
        <p:sp>
          <p:nvSpPr>
            <p:cNvPr id="1121" name=""/>
            <p:cNvSpPr/>
            <p:nvPr/>
          </p:nvSpPr>
          <p:spPr>
            <a:xfrm>
              <a:off x="281952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447920" y="1752480"/>
              <a:ext cx="0" cy="6098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924680" y="1752480"/>
              <a:ext cx="0" cy="6098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44792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441972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46084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92468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144440" y="3475080"/>
              <a:ext cx="542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IRIG-B signal (simplified)</a:t>
              </a:r>
              <a:endParaRPr b="0" lang="en-US" sz="2800" spc="-1" strike="noStrike">
                <a:solidFill>
                  <a:srgbClr val="000000"/>
                </a:solidFill>
                <a:latin typeface="Times New Roman"/>
              </a:endParaRPr>
            </a:p>
          </p:txBody>
        </p:sp>
        <p:sp>
          <p:nvSpPr>
            <p:cNvPr id="1129" name=""/>
            <p:cNvSpPr/>
            <p:nvPr/>
          </p:nvSpPr>
          <p:spPr>
            <a:xfrm>
              <a:off x="1447920" y="3352680"/>
              <a:ext cx="1371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819520" y="3352680"/>
              <a:ext cx="16002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419720" y="3352680"/>
              <a:ext cx="10666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486400" y="3352680"/>
              <a:ext cx="24382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5" name=""/>
          <p:cNvSpPr/>
          <p:nvPr/>
        </p:nvSpPr>
        <p:spPr>
          <a:xfrm>
            <a:off x="900000" y="1990800"/>
            <a:ext cx="6755040" cy="37274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plained</a:t>
            </a:r>
            <a:endParaRPr b="1" lang="en-US" sz="3600" spc="-1" strike="noStrike">
              <a:solidFill>
                <a:srgbClr val="ffff66"/>
              </a:solidFill>
              <a:latin typeface="Arial"/>
            </a:endParaRPr>
          </a:p>
        </p:txBody>
      </p:sp>
      <p:grpSp>
        <p:nvGrpSpPr>
          <p:cNvPr id="107" name=""/>
          <p:cNvGrpSpPr/>
          <p:nvPr/>
        </p:nvGrpSpPr>
        <p:grpSpPr>
          <a:xfrm>
            <a:off x="2635200" y="2750760"/>
            <a:ext cx="4643640" cy="380880"/>
            <a:chOff x="2635200" y="2750760"/>
            <a:chExt cx="4643640" cy="380880"/>
          </a:xfrm>
        </p:grpSpPr>
        <p:sp>
          <p:nvSpPr>
            <p:cNvPr id="108" name=""/>
            <p:cNvSpPr/>
            <p:nvPr/>
          </p:nvSpPr>
          <p:spPr>
            <a:xfrm>
              <a:off x="2635200" y="3127320"/>
              <a:ext cx="4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3114720" y="276084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3110040" y="27558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1" name=""/>
            <p:cNvSpPr/>
            <p:nvPr/>
          </p:nvSpPr>
          <p:spPr>
            <a:xfrm flipV="1">
              <a:off x="3529080" y="27554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3543480" y="3122640"/>
              <a:ext cx="40608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3" name=""/>
            <p:cNvSpPr/>
            <p:nvPr/>
          </p:nvSpPr>
          <p:spPr>
            <a:xfrm flipH="1" flipV="1">
              <a:off x="3949200" y="2755440"/>
              <a:ext cx="180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946680" y="2751120"/>
              <a:ext cx="4046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5" name=""/>
            <p:cNvSpPr/>
            <p:nvPr/>
          </p:nvSpPr>
          <p:spPr>
            <a:xfrm flipV="1">
              <a:off x="4363920" y="275076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379760" y="3117600"/>
              <a:ext cx="4050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7" name=""/>
            <p:cNvSpPr/>
            <p:nvPr/>
          </p:nvSpPr>
          <p:spPr>
            <a:xfrm flipH="1" flipV="1">
              <a:off x="4777920" y="2755440"/>
              <a:ext cx="32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775040" y="27511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9" name=""/>
            <p:cNvSpPr/>
            <p:nvPr/>
          </p:nvSpPr>
          <p:spPr>
            <a:xfrm flipV="1">
              <a:off x="5194440" y="275076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5208480" y="3117600"/>
              <a:ext cx="40644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1" name=""/>
            <p:cNvSpPr/>
            <p:nvPr/>
          </p:nvSpPr>
          <p:spPr>
            <a:xfrm flipH="1" flipV="1">
              <a:off x="5608800" y="276084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5603760" y="27558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3" name=""/>
            <p:cNvSpPr/>
            <p:nvPr/>
          </p:nvSpPr>
          <p:spPr>
            <a:xfrm flipV="1">
              <a:off x="6022800" y="27554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6037200" y="312264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5" name=""/>
            <p:cNvSpPr/>
            <p:nvPr/>
          </p:nvSpPr>
          <p:spPr>
            <a:xfrm flipH="1" flipV="1">
              <a:off x="6443640" y="276084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438960" y="27558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7" name=""/>
            <p:cNvSpPr/>
            <p:nvPr/>
          </p:nvSpPr>
          <p:spPr>
            <a:xfrm flipV="1">
              <a:off x="6858000" y="27554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6872400" y="312264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9" name=""/>
          <p:cNvGrpSpPr/>
          <p:nvPr/>
        </p:nvGrpSpPr>
        <p:grpSpPr>
          <a:xfrm>
            <a:off x="2530440" y="2258640"/>
            <a:ext cx="4800600" cy="381240"/>
            <a:chOff x="2530440" y="2258640"/>
            <a:chExt cx="4800600" cy="381240"/>
          </a:xfrm>
        </p:grpSpPr>
        <p:sp>
          <p:nvSpPr>
            <p:cNvPr id="130" name=""/>
            <p:cNvSpPr/>
            <p:nvPr/>
          </p:nvSpPr>
          <p:spPr>
            <a:xfrm flipH="1" flipV="1">
              <a:off x="2986200" y="227340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2979720" y="2268360"/>
              <a:ext cx="38959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2" name=""/>
            <p:cNvSpPr/>
            <p:nvPr/>
          </p:nvSpPr>
          <p:spPr>
            <a:xfrm flipV="1">
              <a:off x="6875640" y="2258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67360" y="2630520"/>
              <a:ext cx="46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530440" y="2635200"/>
              <a:ext cx="46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1014840" y="230832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a:t>
            </a:r>
            <a:endParaRPr b="0" lang="en-US" sz="2400" spc="-1" strike="noStrike">
              <a:solidFill>
                <a:srgbClr val="000000"/>
              </a:solidFill>
              <a:latin typeface="Times New Roman"/>
            </a:endParaRPr>
          </a:p>
        </p:txBody>
      </p:sp>
      <p:sp>
        <p:nvSpPr>
          <p:cNvPr id="136" name=""/>
          <p:cNvSpPr/>
          <p:nvPr/>
        </p:nvSpPr>
        <p:spPr>
          <a:xfrm>
            <a:off x="999360" y="285264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t>
            </a:r>
            <a:endParaRPr b="0" lang="en-US" sz="2400" spc="-1" strike="noStrike">
              <a:solidFill>
                <a:srgbClr val="000000"/>
              </a:solidFill>
              <a:latin typeface="Times New Roman"/>
            </a:endParaRPr>
          </a:p>
        </p:txBody>
      </p:sp>
      <p:sp>
        <p:nvSpPr>
          <p:cNvPr id="137" name=""/>
          <p:cNvSpPr/>
          <p:nvPr/>
        </p:nvSpPr>
        <p:spPr>
          <a:xfrm>
            <a:off x="2929320" y="3151080"/>
            <a:ext cx="2971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2     3     4    5</a:t>
            </a:r>
            <a:endParaRPr b="0" lang="en-US" sz="2400" spc="-1" strike="noStrike">
              <a:solidFill>
                <a:srgbClr val="000000"/>
              </a:solidFill>
              <a:latin typeface="Times New Roman"/>
            </a:endParaRPr>
          </a:p>
        </p:txBody>
      </p:sp>
      <p:grpSp>
        <p:nvGrpSpPr>
          <p:cNvPr id="138" name=""/>
          <p:cNvGrpSpPr/>
          <p:nvPr/>
        </p:nvGrpSpPr>
        <p:grpSpPr>
          <a:xfrm>
            <a:off x="2560680" y="4544640"/>
            <a:ext cx="4643280" cy="380880"/>
            <a:chOff x="2560680" y="4544640"/>
            <a:chExt cx="4643280" cy="380880"/>
          </a:xfrm>
        </p:grpSpPr>
        <p:sp>
          <p:nvSpPr>
            <p:cNvPr id="139" name=""/>
            <p:cNvSpPr/>
            <p:nvPr/>
          </p:nvSpPr>
          <p:spPr>
            <a:xfrm>
              <a:off x="2560680" y="4921200"/>
              <a:ext cx="4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3040200" y="45540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35160" y="454968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2" name=""/>
            <p:cNvSpPr/>
            <p:nvPr/>
          </p:nvSpPr>
          <p:spPr>
            <a:xfrm flipV="1">
              <a:off x="3454560" y="45493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3468600" y="49165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4" name=""/>
            <p:cNvSpPr/>
            <p:nvPr/>
          </p:nvSpPr>
          <p:spPr>
            <a:xfrm flipH="1" flipV="1">
              <a:off x="3874680" y="4549320"/>
              <a:ext cx="180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3871800" y="4545000"/>
              <a:ext cx="4050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6" name=""/>
            <p:cNvSpPr/>
            <p:nvPr/>
          </p:nvSpPr>
          <p:spPr>
            <a:xfrm flipV="1">
              <a:off x="4289400" y="4544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305240" y="4911480"/>
              <a:ext cx="4050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8" name=""/>
            <p:cNvSpPr/>
            <p:nvPr/>
          </p:nvSpPr>
          <p:spPr>
            <a:xfrm flipH="1" flipV="1">
              <a:off x="4703400" y="4549320"/>
              <a:ext cx="32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700520" y="45450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0" name=""/>
            <p:cNvSpPr/>
            <p:nvPr/>
          </p:nvSpPr>
          <p:spPr>
            <a:xfrm flipV="1">
              <a:off x="5119560" y="4544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5133960" y="4911480"/>
              <a:ext cx="40644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2" name=""/>
            <p:cNvSpPr/>
            <p:nvPr/>
          </p:nvSpPr>
          <p:spPr>
            <a:xfrm flipH="1" flipV="1">
              <a:off x="5533560" y="4554000"/>
              <a:ext cx="180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529240" y="454968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4" name=""/>
            <p:cNvSpPr/>
            <p:nvPr/>
          </p:nvSpPr>
          <p:spPr>
            <a:xfrm flipV="1">
              <a:off x="5948280" y="45493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962680" y="49165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6" name=""/>
            <p:cNvSpPr/>
            <p:nvPr/>
          </p:nvSpPr>
          <p:spPr>
            <a:xfrm flipH="1" flipV="1">
              <a:off x="6369120" y="45540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364440" y="4549680"/>
              <a:ext cx="40608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8" name=""/>
            <p:cNvSpPr/>
            <p:nvPr/>
          </p:nvSpPr>
          <p:spPr>
            <a:xfrm flipV="1">
              <a:off x="6783480" y="45493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6797520" y="49165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60" name=""/>
          <p:cNvGrpSpPr/>
          <p:nvPr/>
        </p:nvGrpSpPr>
        <p:grpSpPr>
          <a:xfrm>
            <a:off x="2682720" y="4052520"/>
            <a:ext cx="4800600" cy="381240"/>
            <a:chOff x="2682720" y="4052520"/>
            <a:chExt cx="4800600" cy="381240"/>
          </a:xfrm>
        </p:grpSpPr>
        <p:sp>
          <p:nvSpPr>
            <p:cNvPr id="161" name=""/>
            <p:cNvSpPr/>
            <p:nvPr/>
          </p:nvSpPr>
          <p:spPr>
            <a:xfrm flipH="1" flipV="1">
              <a:off x="3138480" y="406728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3132000" y="4062240"/>
              <a:ext cx="38959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3" name=""/>
            <p:cNvSpPr/>
            <p:nvPr/>
          </p:nvSpPr>
          <p:spPr>
            <a:xfrm flipV="1">
              <a:off x="7027920" y="40525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20000" y="4424400"/>
              <a:ext cx="46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682720" y="4429080"/>
              <a:ext cx="46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1027800" y="410220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a:t>
            </a:r>
            <a:endParaRPr b="0" lang="en-US" sz="2400" spc="-1" strike="noStrike">
              <a:solidFill>
                <a:srgbClr val="000000"/>
              </a:solidFill>
              <a:latin typeface="Times New Roman"/>
            </a:endParaRPr>
          </a:p>
        </p:txBody>
      </p:sp>
      <p:sp>
        <p:nvSpPr>
          <p:cNvPr id="167" name=""/>
          <p:cNvSpPr/>
          <p:nvPr/>
        </p:nvSpPr>
        <p:spPr>
          <a:xfrm>
            <a:off x="1046880" y="464652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t>
            </a:r>
            <a:endParaRPr b="0" lang="en-US" sz="2400" spc="-1" strike="noStrike">
              <a:solidFill>
                <a:srgbClr val="000000"/>
              </a:solidFill>
              <a:latin typeface="Times New Roman"/>
            </a:endParaRPr>
          </a:p>
        </p:txBody>
      </p:sp>
      <p:sp>
        <p:nvSpPr>
          <p:cNvPr id="168" name=""/>
          <p:cNvSpPr/>
          <p:nvPr/>
        </p:nvSpPr>
        <p:spPr>
          <a:xfrm>
            <a:off x="2889000" y="4944960"/>
            <a:ext cx="3056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1     2     3     4</a:t>
            </a:r>
            <a:endParaRPr b="0" lang="en-US" sz="2400" spc="-1" strike="noStrike">
              <a:solidFill>
                <a:srgbClr val="000000"/>
              </a:solidFill>
              <a:latin typeface="Times New Roman"/>
            </a:endParaRPr>
          </a:p>
        </p:txBody>
      </p:sp>
      <p:sp>
        <p:nvSpPr>
          <p:cNvPr id="169" name=""/>
          <p:cNvSpPr/>
          <p:nvPr/>
        </p:nvSpPr>
        <p:spPr>
          <a:xfrm flipV="1">
            <a:off x="7180200" y="4573440"/>
            <a:ext cx="0" cy="37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lecting a GPS receiver</a:t>
            </a:r>
            <a:endParaRPr b="1" lang="en-US" sz="3600" spc="-1" strike="noStrike">
              <a:solidFill>
                <a:srgbClr val="ffff66"/>
              </a:solidFill>
              <a:latin typeface="Arial"/>
            </a:endParaRPr>
          </a:p>
        </p:txBody>
      </p:sp>
      <p:sp>
        <p:nvSpPr>
          <p:cNvPr id="1134"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fontScale="94000"/>
          </a:bodyPr>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measure time or both time and position?</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occasional position data or something to allow accurate position steering?</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accurate velocity measurements?</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cost versus accuracy tradeoff</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ed about power consumption</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ations for high acceleration, high velocity or extreme temperature</a:t>
            </a: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35" name=""/>
          <p:cNvSpPr/>
          <p:nvPr/>
        </p:nvSpPr>
        <p:spPr>
          <a:xfrm>
            <a:off x="685800" y="1523880"/>
            <a:ext cx="7620120" cy="4565880"/>
          </a:xfrm>
          <a:prstGeom prst="rect">
            <a:avLst/>
          </a:prstGeom>
          <a:gradFill rotWithShape="0">
            <a:gsLst>
              <a:gs pos="0">
                <a:srgbClr val="a603ab"/>
              </a:gs>
              <a:gs pos="100000">
                <a:srgbClr val="a603a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PlaceHolder 1"/>
          <p:cNvSpPr>
            <a:spLocks noGrp="1"/>
          </p:cNvSpPr>
          <p:nvPr>
            <p:ph type="title"/>
          </p:nvPr>
        </p:nvSpPr>
        <p:spPr>
          <a:xfrm>
            <a:off x="76212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ing Distributed Measurements</a:t>
            </a:r>
            <a:endParaRPr b="1" lang="en-US" sz="3600" spc="-1" strike="noStrike">
              <a:solidFill>
                <a:srgbClr val="ffff66"/>
              </a:solidFill>
              <a:latin typeface="Arial"/>
            </a:endParaRPr>
          </a:p>
        </p:txBody>
      </p:sp>
      <p:grpSp>
        <p:nvGrpSpPr>
          <p:cNvPr id="1137" name=""/>
          <p:cNvGrpSpPr/>
          <p:nvPr/>
        </p:nvGrpSpPr>
        <p:grpSpPr>
          <a:xfrm>
            <a:off x="5943600" y="4535640"/>
            <a:ext cx="2133720" cy="1293840"/>
            <a:chOff x="5943600" y="4535640"/>
            <a:chExt cx="2133720" cy="1293840"/>
          </a:xfrm>
        </p:grpSpPr>
        <p:sp>
          <p:nvSpPr>
            <p:cNvPr id="1138" name=""/>
            <p:cNvSpPr/>
            <p:nvPr/>
          </p:nvSpPr>
          <p:spPr>
            <a:xfrm>
              <a:off x="5943600" y="4535640"/>
              <a:ext cx="0" cy="12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V="1">
              <a:off x="8077320" y="461124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945040" y="4610160"/>
              <a:ext cx="2132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945040" y="5829480"/>
              <a:ext cx="113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V="1">
              <a:off x="6058080" y="5678280"/>
              <a:ext cx="0" cy="150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059520" y="5676840"/>
              <a:ext cx="2017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7924680" y="461160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5" name=""/>
          <p:cNvGrpSpPr/>
          <p:nvPr/>
        </p:nvGrpSpPr>
        <p:grpSpPr>
          <a:xfrm>
            <a:off x="1600200" y="4611600"/>
            <a:ext cx="2133720" cy="1293840"/>
            <a:chOff x="1600200" y="4611600"/>
            <a:chExt cx="2133720" cy="1293840"/>
          </a:xfrm>
        </p:grpSpPr>
        <p:sp>
          <p:nvSpPr>
            <p:cNvPr id="1146" name=""/>
            <p:cNvSpPr/>
            <p:nvPr/>
          </p:nvSpPr>
          <p:spPr>
            <a:xfrm>
              <a:off x="1600200" y="4611600"/>
              <a:ext cx="0" cy="12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3733920" y="468756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601640" y="4686480"/>
              <a:ext cx="2132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601640" y="5905440"/>
              <a:ext cx="113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V="1">
              <a:off x="1714680" y="5754240"/>
              <a:ext cx="0" cy="150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716120" y="5753160"/>
              <a:ext cx="2017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581280" y="468792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6054120" y="1438560"/>
            <a:ext cx="1973880" cy="1031400"/>
            <a:chOff x="6054120" y="1438560"/>
            <a:chExt cx="1973880" cy="1031400"/>
          </a:xfrm>
        </p:grpSpPr>
        <p:sp>
          <p:nvSpPr>
            <p:cNvPr id="1154" name=""/>
            <p:cNvSpPr/>
            <p:nvPr/>
          </p:nvSpPr>
          <p:spPr>
            <a:xfrm rot="1800000">
              <a:off x="7022880" y="2090880"/>
              <a:ext cx="1042920" cy="126720"/>
            </a:xfrm>
            <a:prstGeom prst="parallelogram">
              <a:avLst>
                <a:gd name="adj" fmla="val 205638"/>
              </a:avLst>
            </a:prstGeom>
            <a:solidFill>
              <a:srgbClr val="000000"/>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55" name=""/>
            <p:cNvSpPr/>
            <p:nvPr/>
          </p:nvSpPr>
          <p:spPr>
            <a:xfrm rot="1800000">
              <a:off x="6016320" y="1690560"/>
              <a:ext cx="1042920" cy="128880"/>
            </a:xfrm>
            <a:prstGeom prst="parallelogram">
              <a:avLst>
                <a:gd name="adj" fmla="val 202192"/>
              </a:avLst>
            </a:prstGeom>
            <a:solidFill>
              <a:srgbClr val="000000"/>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56" name=""/>
            <p:cNvSpPr/>
            <p:nvPr/>
          </p:nvSpPr>
          <p:spPr>
            <a:xfrm rot="1680000">
              <a:off x="6914880" y="1836720"/>
              <a:ext cx="145800" cy="219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rot="1020000">
              <a:off x="6611760" y="2008080"/>
              <a:ext cx="668520" cy="347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a:off x="6802560" y="2147760"/>
              <a:ext cx="12384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5184720" y="3889440"/>
            <a:ext cx="1218240" cy="1523520"/>
          </a:xfrm>
          <a:custGeom>
            <a:avLst/>
            <a:gdLst/>
            <a:ahLst/>
            <a:rect l="l" t="t" r="r" b="b"/>
            <a:pathLst>
              <a:path stroke="0" w="21600" h="21600">
                <a:moveTo>
                  <a:pt x="13196" y="21331"/>
                </a:moveTo>
                <a:arcTo wR="10800" hR="10800" stAng="4630949" swAng="11560099"/>
                <a:lnTo>
                  <a:pt x="10800" y="10800"/>
                </a:lnTo>
                <a:close/>
              </a:path>
              <a:path fill="none" w="21600" h="21600">
                <a:moveTo>
                  <a:pt x="13196" y="21331"/>
                </a:moveTo>
                <a:arcTo wR="10800" hR="10800" stAng="4630949" swAng="11560099"/>
              </a:path>
            </a:pathLst>
          </a:custGeom>
          <a:noFill/>
          <a:ln cap="rnd" w="255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0" name=""/>
          <p:cNvGrpSpPr/>
          <p:nvPr/>
        </p:nvGrpSpPr>
        <p:grpSpPr>
          <a:xfrm>
            <a:off x="1576080" y="1519560"/>
            <a:ext cx="2658240" cy="910080"/>
            <a:chOff x="1576080" y="1519560"/>
            <a:chExt cx="2658240" cy="910080"/>
          </a:xfrm>
        </p:grpSpPr>
        <p:grpSp>
          <p:nvGrpSpPr>
            <p:cNvPr id="1161" name=""/>
            <p:cNvGrpSpPr/>
            <p:nvPr/>
          </p:nvGrpSpPr>
          <p:grpSpPr>
            <a:xfrm>
              <a:off x="2559960" y="1762200"/>
              <a:ext cx="702720" cy="394920"/>
              <a:chOff x="2559960" y="1762200"/>
              <a:chExt cx="702720" cy="394920"/>
            </a:xfrm>
          </p:grpSpPr>
          <p:sp>
            <p:nvSpPr>
              <p:cNvPr id="1162" name=""/>
              <p:cNvSpPr/>
              <p:nvPr/>
            </p:nvSpPr>
            <p:spPr>
              <a:xfrm rot="180000">
                <a:off x="2585520" y="1854360"/>
                <a:ext cx="669960" cy="28548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rot="180000">
                <a:off x="2568600" y="1779120"/>
                <a:ext cx="668160" cy="347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2896920" y="1940040"/>
                <a:ext cx="34920" cy="117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164760" y="1909080"/>
              <a:ext cx="1069560" cy="520560"/>
              <a:chOff x="3164760" y="1909080"/>
              <a:chExt cx="1069560" cy="520560"/>
            </a:xfrm>
          </p:grpSpPr>
          <p:sp>
            <p:nvSpPr>
              <p:cNvPr id="1166" name=""/>
              <p:cNvSpPr/>
              <p:nvPr/>
            </p:nvSpPr>
            <p:spPr>
              <a:xfrm rot="960000">
                <a:off x="3177720" y="2048040"/>
                <a:ext cx="1042920" cy="242640"/>
              </a:xfrm>
              <a:prstGeom prst="parallelogram">
                <a:avLst>
                  <a:gd name="adj" fmla="val 107396"/>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a:off x="3341160" y="2022480"/>
                <a:ext cx="35100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3600000" y="2114640"/>
                <a:ext cx="35100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305160" y="2039760"/>
                <a:ext cx="7556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0" name=""/>
            <p:cNvGrpSpPr/>
            <p:nvPr/>
          </p:nvGrpSpPr>
          <p:grpSpPr>
            <a:xfrm>
              <a:off x="1576080" y="1519560"/>
              <a:ext cx="1071000" cy="519840"/>
              <a:chOff x="1576080" y="1519560"/>
              <a:chExt cx="1071000" cy="519840"/>
            </a:xfrm>
          </p:grpSpPr>
          <p:sp>
            <p:nvSpPr>
              <p:cNvPr id="1171" name=""/>
              <p:cNvSpPr/>
              <p:nvPr/>
            </p:nvSpPr>
            <p:spPr>
              <a:xfrm rot="960000">
                <a:off x="1589040" y="1658520"/>
                <a:ext cx="1044720" cy="241200"/>
              </a:xfrm>
              <a:prstGeom prst="parallelogram">
                <a:avLst>
                  <a:gd name="adj" fmla="val 108223"/>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1752120" y="1633680"/>
                <a:ext cx="351000" cy="16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H="1">
                <a:off x="2010960" y="1725480"/>
                <a:ext cx="35100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1716120" y="1650960"/>
                <a:ext cx="7556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75" name=""/>
          <p:cNvSpPr/>
          <p:nvPr/>
        </p:nvSpPr>
        <p:spPr>
          <a:xfrm flipH="1">
            <a:off x="2440080" y="2211480"/>
            <a:ext cx="379440" cy="1446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6402240" y="2516040"/>
            <a:ext cx="379440" cy="1065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502280" y="3645000"/>
            <a:ext cx="2335320" cy="824040"/>
          </a:xfrm>
          <a:prstGeom prst="rect">
            <a:avLst/>
          </a:prstGeom>
          <a:gradFill rotWithShape="0">
            <a:gsLst>
              <a:gs pos="0">
                <a:srgbClr val="bebebe"/>
              </a:gs>
              <a:gs pos="100000">
                <a:srgbClr val="808080"/>
              </a:gs>
            </a:gsLst>
            <a:lin ang="5400000"/>
          </a:gra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S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 Francisco)</a:t>
            </a:r>
            <a:endParaRPr b="0" lang="en-US" sz="2400" spc="-1" strike="noStrike">
              <a:solidFill>
                <a:srgbClr val="000000"/>
              </a:solidFill>
              <a:latin typeface="Times New Roman"/>
            </a:endParaRPr>
          </a:p>
        </p:txBody>
      </p:sp>
      <p:sp>
        <p:nvSpPr>
          <p:cNvPr id="1178" name=""/>
          <p:cNvSpPr/>
          <p:nvPr/>
        </p:nvSpPr>
        <p:spPr>
          <a:xfrm>
            <a:off x="5794200" y="3571920"/>
            <a:ext cx="2082600" cy="824040"/>
          </a:xfrm>
          <a:prstGeom prst="rect">
            <a:avLst/>
          </a:prstGeom>
          <a:gradFill rotWithShape="0">
            <a:gsLst>
              <a:gs pos="0">
                <a:srgbClr val="bebebe"/>
              </a:gs>
              <a:gs pos="100000">
                <a:srgbClr val="808080"/>
              </a:gs>
            </a:gsLst>
            <a:lin ang="5400000"/>
          </a:gra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S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ngeles)</a:t>
            </a:r>
            <a:endParaRPr b="0" lang="en-US" sz="2400" spc="-1" strike="noStrike">
              <a:solidFill>
                <a:srgbClr val="000000"/>
              </a:solidFill>
              <a:latin typeface="Times New Roman"/>
            </a:endParaRPr>
          </a:p>
        </p:txBody>
      </p:sp>
      <p:sp>
        <p:nvSpPr>
          <p:cNvPr id="1179" name=""/>
          <p:cNvSpPr/>
          <p:nvPr/>
        </p:nvSpPr>
        <p:spPr>
          <a:xfrm>
            <a:off x="841320" y="4041720"/>
            <a:ext cx="1218240" cy="1523520"/>
          </a:xfrm>
          <a:custGeom>
            <a:avLst/>
            <a:gdLst/>
            <a:ahLst/>
            <a:rect l="l" t="t" r="r" b="b"/>
            <a:pathLst>
              <a:path stroke="0" w="21600" h="21600">
                <a:moveTo>
                  <a:pt x="13196" y="21331"/>
                </a:moveTo>
                <a:arcTo wR="10800" hR="10800" stAng="4630949" swAng="11560099"/>
                <a:lnTo>
                  <a:pt x="10800" y="10800"/>
                </a:lnTo>
                <a:close/>
              </a:path>
              <a:path fill="none" w="21600" h="21600">
                <a:moveTo>
                  <a:pt x="13196" y="21331"/>
                </a:moveTo>
                <a:arcTo wR="10800" hR="10800" stAng="4630949" swAng="11560099"/>
              </a:path>
            </a:pathLst>
          </a:custGeom>
          <a:noFill/>
          <a:ln cap="rnd" w="255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651040" y="2727360"/>
            <a:ext cx="1539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ata</a:t>
            </a:r>
            <a:endParaRPr b="0" lang="en-US" sz="2400" spc="-1" strike="noStrike">
              <a:solidFill>
                <a:srgbClr val="000000"/>
              </a:solidFill>
              <a:latin typeface="Times New Roman"/>
            </a:endParaRPr>
          </a:p>
        </p:txBody>
      </p:sp>
      <p:sp>
        <p:nvSpPr>
          <p:cNvPr id="1181" name=""/>
          <p:cNvSpPr/>
          <p:nvPr/>
        </p:nvSpPr>
        <p:spPr>
          <a:xfrm>
            <a:off x="4343040" y="3962520"/>
            <a:ext cx="989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S o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G-B</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a:t>
            </a:r>
            <a:endParaRPr b="0" lang="en-US" sz="2000" spc="-1" strike="noStrike">
              <a:solidFill>
                <a:srgbClr val="000000"/>
              </a:solidFill>
              <a:latin typeface="Times New Roman"/>
            </a:endParaRPr>
          </a:p>
        </p:txBody>
      </p:sp>
      <p:sp>
        <p:nvSpPr>
          <p:cNvPr id="1182" name=""/>
          <p:cNvSpPr/>
          <p:nvPr/>
        </p:nvSpPr>
        <p:spPr>
          <a:xfrm>
            <a:off x="5945400" y="4648320"/>
            <a:ext cx="2009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XI-66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channel cou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1183" name=""/>
          <p:cNvSpPr/>
          <p:nvPr/>
        </p:nvSpPr>
        <p:spPr>
          <a:xfrm>
            <a:off x="1602000" y="4724280"/>
            <a:ext cx="2009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XI-66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channel cou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1184" name=""/>
          <p:cNvSpPr/>
          <p:nvPr/>
        </p:nvSpPr>
        <p:spPr>
          <a:xfrm>
            <a:off x="3947040" y="1584360"/>
            <a:ext cx="209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S satell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References</a:t>
            </a:r>
            <a:endParaRPr b="1" lang="en-US" sz="3600" spc="-1" strike="noStrike">
              <a:solidFill>
                <a:srgbClr val="ffff66"/>
              </a:solidFill>
              <a:latin typeface="Arial"/>
            </a:endParaRPr>
          </a:p>
        </p:txBody>
      </p:sp>
      <p:sp>
        <p:nvSpPr>
          <p:cNvPr id="1186"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um.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time.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st.gov</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PS – A Guide to the Next Utility”, Jeff Hurn, Trimble Navig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18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is an important part of measurement systems and affects measurement accura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 and clock sharing allow synchronized multiple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iming, triggering, and synchronization to construct complex measurement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70" name=""/>
          <p:cNvSpPr/>
          <p:nvPr/>
        </p:nvSpPr>
        <p:spPr>
          <a:xfrm>
            <a:off x="1109520" y="1990800"/>
            <a:ext cx="6755040" cy="3727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671040" y="837720"/>
            <a:ext cx="8015400" cy="577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plained (cont.)</a:t>
            </a:r>
            <a:endParaRPr b="1" lang="en-US" sz="3600" spc="-1" strike="noStrike">
              <a:solidFill>
                <a:srgbClr val="ffff66"/>
              </a:solidFill>
              <a:latin typeface="Arial"/>
            </a:endParaRPr>
          </a:p>
        </p:txBody>
      </p:sp>
      <p:grpSp>
        <p:nvGrpSpPr>
          <p:cNvPr id="172" name=""/>
          <p:cNvGrpSpPr/>
          <p:nvPr/>
        </p:nvGrpSpPr>
        <p:grpSpPr>
          <a:xfrm>
            <a:off x="4027320" y="2258640"/>
            <a:ext cx="3521160" cy="923760"/>
            <a:chOff x="4027320" y="2258640"/>
            <a:chExt cx="3521160" cy="923760"/>
          </a:xfrm>
        </p:grpSpPr>
        <p:sp>
          <p:nvSpPr>
            <p:cNvPr id="173" name=""/>
            <p:cNvSpPr/>
            <p:nvPr/>
          </p:nvSpPr>
          <p:spPr>
            <a:xfrm>
              <a:off x="4027320" y="3178080"/>
              <a:ext cx="35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4390560" y="2811600"/>
              <a:ext cx="180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4387680" y="280656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6" name=""/>
            <p:cNvSpPr/>
            <p:nvPr/>
          </p:nvSpPr>
          <p:spPr>
            <a:xfrm flipV="1">
              <a:off x="4705200" y="280620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4716360" y="317340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8" name=""/>
            <p:cNvSpPr/>
            <p:nvPr/>
          </p:nvSpPr>
          <p:spPr>
            <a:xfrm flipH="1" flipV="1">
              <a:off x="5024520" y="28062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021280" y="2801880"/>
              <a:ext cx="3078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0" name=""/>
            <p:cNvSpPr/>
            <p:nvPr/>
          </p:nvSpPr>
          <p:spPr>
            <a:xfrm flipV="1">
              <a:off x="5338800" y="28015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349960" y="3168360"/>
              <a:ext cx="3078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2" name=""/>
            <p:cNvSpPr/>
            <p:nvPr/>
          </p:nvSpPr>
          <p:spPr>
            <a:xfrm flipH="1" flipV="1">
              <a:off x="5653080" y="28062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5649840" y="280188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4" name=""/>
            <p:cNvSpPr/>
            <p:nvPr/>
          </p:nvSpPr>
          <p:spPr>
            <a:xfrm flipV="1">
              <a:off x="5967360" y="28015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5978520" y="3168360"/>
              <a:ext cx="3081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6" name=""/>
            <p:cNvSpPr/>
            <p:nvPr/>
          </p:nvSpPr>
          <p:spPr>
            <a:xfrm flipH="1" flipV="1">
              <a:off x="6281280" y="2811600"/>
              <a:ext cx="180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6278400" y="280656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8" name=""/>
            <p:cNvSpPr/>
            <p:nvPr/>
          </p:nvSpPr>
          <p:spPr>
            <a:xfrm flipV="1">
              <a:off x="6595920" y="280620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6607080" y="317340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0" name=""/>
            <p:cNvSpPr/>
            <p:nvPr/>
          </p:nvSpPr>
          <p:spPr>
            <a:xfrm flipH="1" flipV="1">
              <a:off x="6915240" y="281160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6912000" y="2806560"/>
              <a:ext cx="3078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2" name=""/>
            <p:cNvSpPr/>
            <p:nvPr/>
          </p:nvSpPr>
          <p:spPr>
            <a:xfrm flipV="1">
              <a:off x="7229520" y="280620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240680" y="3173400"/>
              <a:ext cx="3078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4" name=""/>
            <p:cNvSpPr/>
            <p:nvPr/>
          </p:nvSpPr>
          <p:spPr>
            <a:xfrm flipH="1" flipV="1">
              <a:off x="4395960" y="227340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4392720" y="2268360"/>
              <a:ext cx="25272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6" name=""/>
            <p:cNvSpPr/>
            <p:nvPr/>
          </p:nvSpPr>
          <p:spPr>
            <a:xfrm flipV="1">
              <a:off x="6919920" y="2258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915240" y="263052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00400" y="2635200"/>
              <a:ext cx="30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1486440" y="230832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a:t>
            </a:r>
            <a:endParaRPr b="0" lang="en-US" sz="2400" spc="-1" strike="noStrike">
              <a:solidFill>
                <a:srgbClr val="000000"/>
              </a:solidFill>
              <a:latin typeface="Times New Roman"/>
            </a:endParaRPr>
          </a:p>
        </p:txBody>
      </p:sp>
      <p:sp>
        <p:nvSpPr>
          <p:cNvPr id="200" name=""/>
          <p:cNvSpPr/>
          <p:nvPr/>
        </p:nvSpPr>
        <p:spPr>
          <a:xfrm>
            <a:off x="1470600" y="285264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t>
            </a:r>
            <a:endParaRPr b="0" lang="en-US" sz="2400" spc="-1" strike="noStrike">
              <a:solidFill>
                <a:srgbClr val="000000"/>
              </a:solidFill>
              <a:latin typeface="Times New Roman"/>
            </a:endParaRPr>
          </a:p>
        </p:txBody>
      </p:sp>
      <p:grpSp>
        <p:nvGrpSpPr>
          <p:cNvPr id="201" name=""/>
          <p:cNvGrpSpPr/>
          <p:nvPr/>
        </p:nvGrpSpPr>
        <p:grpSpPr>
          <a:xfrm>
            <a:off x="1469880" y="3500280"/>
            <a:ext cx="5329440" cy="458280"/>
            <a:chOff x="1469880" y="3500280"/>
            <a:chExt cx="5329440" cy="458280"/>
          </a:xfrm>
        </p:grpSpPr>
        <p:sp>
          <p:nvSpPr>
            <p:cNvPr id="202" name=""/>
            <p:cNvSpPr/>
            <p:nvPr/>
          </p:nvSpPr>
          <p:spPr>
            <a:xfrm>
              <a:off x="1469880" y="3516480"/>
              <a:ext cx="2625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 both edges</a:t>
              </a:r>
              <a:endParaRPr b="0" lang="en-US" sz="2000" spc="-1" strike="noStrike">
                <a:solidFill>
                  <a:srgbClr val="000000"/>
                </a:solidFill>
                <a:latin typeface="Times New Roman"/>
              </a:endParaRPr>
            </a:p>
          </p:txBody>
        </p:sp>
        <p:sp>
          <p:nvSpPr>
            <p:cNvPr id="203" name=""/>
            <p:cNvSpPr/>
            <p:nvPr/>
          </p:nvSpPr>
          <p:spPr>
            <a:xfrm>
              <a:off x="4232160" y="3500280"/>
              <a:ext cx="256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   2   3    3    </a:t>
              </a:r>
              <a:endParaRPr b="0" lang="en-US" sz="2400" spc="-1" strike="noStrike">
                <a:solidFill>
                  <a:srgbClr val="000000"/>
                </a:solidFill>
                <a:latin typeface="Times New Roman"/>
              </a:endParaRPr>
            </a:p>
          </p:txBody>
        </p:sp>
      </p:grpSp>
      <p:grpSp>
        <p:nvGrpSpPr>
          <p:cNvPr id="204" name=""/>
          <p:cNvGrpSpPr/>
          <p:nvPr/>
        </p:nvGrpSpPr>
        <p:grpSpPr>
          <a:xfrm>
            <a:off x="1450800" y="4248000"/>
            <a:ext cx="5364360" cy="491760"/>
            <a:chOff x="1450800" y="4248000"/>
            <a:chExt cx="5364360" cy="491760"/>
          </a:xfrm>
        </p:grpSpPr>
        <p:sp>
          <p:nvSpPr>
            <p:cNvPr id="205" name=""/>
            <p:cNvSpPr/>
            <p:nvPr/>
          </p:nvSpPr>
          <p:spPr>
            <a:xfrm>
              <a:off x="4248000" y="4281480"/>
              <a:ext cx="256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   2   3    4    </a:t>
              </a:r>
              <a:endParaRPr b="0" lang="en-US" sz="2400" spc="-1" strike="noStrike">
                <a:solidFill>
                  <a:srgbClr val="000000"/>
                </a:solidFill>
                <a:latin typeface="Times New Roman"/>
              </a:endParaRPr>
            </a:p>
          </p:txBody>
        </p:sp>
        <p:sp>
          <p:nvSpPr>
            <p:cNvPr id="206" name=""/>
            <p:cNvSpPr/>
            <p:nvPr/>
          </p:nvSpPr>
          <p:spPr>
            <a:xfrm>
              <a:off x="1450800" y="4248000"/>
              <a:ext cx="2625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 one, catch one</a:t>
              </a:r>
              <a:endParaRPr b="0" lang="en-US" sz="2000" spc="-1" strike="noStrike">
                <a:solidFill>
                  <a:srgbClr val="000000"/>
                </a:solidFill>
                <a:latin typeface="Times New Roman"/>
              </a:endParaRPr>
            </a:p>
          </p:txBody>
        </p:sp>
      </p:grpSp>
      <p:grpSp>
        <p:nvGrpSpPr>
          <p:cNvPr id="207" name=""/>
          <p:cNvGrpSpPr/>
          <p:nvPr/>
        </p:nvGrpSpPr>
        <p:grpSpPr>
          <a:xfrm>
            <a:off x="1450800" y="5029200"/>
            <a:ext cx="5364360" cy="509040"/>
            <a:chOff x="1450800" y="5029200"/>
            <a:chExt cx="5364360" cy="509040"/>
          </a:xfrm>
        </p:grpSpPr>
        <p:sp>
          <p:nvSpPr>
            <p:cNvPr id="208" name=""/>
            <p:cNvSpPr/>
            <p:nvPr/>
          </p:nvSpPr>
          <p:spPr>
            <a:xfrm>
              <a:off x="4248000" y="5079960"/>
              <a:ext cx="256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   3   4    5    </a:t>
              </a:r>
              <a:endParaRPr b="0" lang="en-US" sz="2400" spc="-1" strike="noStrike">
                <a:solidFill>
                  <a:srgbClr val="000000"/>
                </a:solidFill>
                <a:latin typeface="Times New Roman"/>
              </a:endParaRPr>
            </a:p>
          </p:txBody>
        </p:sp>
        <p:sp>
          <p:nvSpPr>
            <p:cNvPr id="209" name=""/>
            <p:cNvSpPr/>
            <p:nvPr/>
          </p:nvSpPr>
          <p:spPr>
            <a:xfrm>
              <a:off x="1450800" y="5029200"/>
              <a:ext cx="2625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ch both edg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74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Accuracy</a:t>
            </a:r>
            <a:endParaRPr b="1" lang="en-US" sz="3600" spc="-1" strike="noStrike">
              <a:solidFill>
                <a:srgbClr val="ffff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ck provided by oscilla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describes how well actual frequency matches specified frequen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 that affect oscillator accuracy</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of crystal</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mbly of oscillator</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if applic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d in parts per million (pp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Stability</a:t>
            </a:r>
            <a:endParaRPr b="1" lang="en-US" sz="3600" spc="-1" strike="noStrike">
              <a:solidFill>
                <a:srgbClr val="ffff66"/>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y describes how well the frequency resists fluctu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factors that affect clock stability</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ing</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ly volt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7-18T17:07:16Z</cp:lastPrinted>
  <dcterms:modified xsi:type="dcterms:W3CDTF">2000-07-18T18:02:27Z</dcterms:modified>
  <cp:revision>168</cp:revision>
  <dc:subject/>
  <dc:title>Expanding Your Business with Marketing</dc:title>
</cp:coreProperties>
</file>