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CADA and Distributed I/O for Manufacturing</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2C-</a:t>
            </a:r>
            <a:fld id="{7201CB33-4F74-4405-AFD5-256C62F4C26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09480" y="4266720"/>
            <a:ext cx="5562720" cy="44197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okout is an HMI/SCADA package. HMI stands for human machine interface and SCADA stands for supervisory control and data acquisition. HMI/SCADA packages typically run on manufacturing floors and processing plants. HMI/SCADA package features include historical logging, alarming, and security. In addition to these features, Lookout offers easy connectivity to PLCs, DAQ, and other industrial communications option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okout, the easiest HMI/SCADA package to use, is object oriented. This means that you program your application just by configuring it. In LabVIEW, you create a PID loop by stringing together VIs and inputting appropriate parameters. If you need a PID loop in Lookout, you create an object called a PID. This object is completely self-contained. With this function, built into the object, you can make objects talk to each other by editing the connections between the object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exercises you will use FieldPoint hardware. For Lookout to talk to the FieldPoint hardware, Lookout needs to know how the communication is performed. This is embedded in the FieldPoint object, so you need to create a FieldPoint object. If you want to write to a digital output channel, you need to have some “object” that allows you to write. You use a Switch object to write to the digital output. You have to “connect” the FieldPoint object to the switch. Once this is done, you can communicate.</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us, you create many different objects in Lookout to create your process (program). Fortunately, Lookout is event-driven. Thus, you can add object upon object and not affect your run-time. Each object remains totally quiescent, doing nothing until an event occurs. This action is in sharp contrast to loop-driven applications, where a section of code may execute millions of times before the result is different from the previous time. This wastes processor time and slows down responses to more frequent events.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are loop-driven programs to Lookout. When an event occurs (a change in data value), the object awakens and processes the values. The event propagates through the configuration and creates a chain-reaction that only affects objects in the chain. If the object is not involved in the event chain, it remains asleep and uses no processor time.</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vent-driven nature simulates the responsiveness of physical switches, pushbuttons, and relays and this is one of the reasons that Lookout is one of the fastest industrial automation software system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191120"/>
            <a:ext cx="5029200" cy="44956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features of Lookout include on-line configuration, networking, datalogging, and historical trending. When developing in Lookout, you will notice that you have an Edit Mode and a Run Mode. In Edit Mode, you can make changes to your process (don’t worry if the process is still “running”). In Run Mode, you are unable to make changes to the proc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on-line configuration, you make changes to your program without shutting down your process or your plant floor. While making edits, the program continues to control and monitor the operation. Thus, you have no down time due to minor modifications or additions to your progra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convenience of on-line configuration, Lookout also makes networking easy. You can have machines on the network monitor and control your running process. If you design the original process with networking in mind, networking is as simple as copying the program to a new machi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also has datalogging. The datalogging is done through the Spreadsheet object. You can log your data directly to a spreadsheet. Conversely, you can write your data into Lookout’s Citadel database. The Citadel database is read by any ODBC compliant database. The Hypertrend object in Lookout allows you to display your historical trend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allows configuration of alarms for I/O. These alarms display in an alarm window. The alarms log to the historical database, so you can print out daily alarms. You acknowledge your alarms, and use security to determine which operators acknowledge alarm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urity features in Lookout allow you to provide different levels of access to different users. You configure user accounts under Options-&gt;User Manager. Options -&gt;System determines the levels of access that the different users posses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includes an animator object. The animator object allows you to create moving displays. This makes your panel more closely resemble your plant floo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makes it very easy to create a Web client. Users can monitor the Lookout process without having Lookout installed on their machine. Building a Web client requires only a few simple steps, and Lookout takes care of the Web interface for you.</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en do you use Lookout and when is LabVIEW a better choi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is excellent for large channel count applications because of its event driven nature. It has built-in alarming, logging, and security. You can easily connect to PLCs and industrial hardware through Lookout. Lookout can act as an OPC client, and thus easily interface with most hardware. You also can build strong operator interfaces with Lookout’s built-in graphic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provides an excellent interface for using radios or modems. Applications that require large amounts of modem communications are easier to build using Lookou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Lookout is easy to program. It is easy to learn and easy to modify. Even if a user is not accustomed to traditional programming, they easily can learn Lookout and make modifications to the program. Lookout can execute successfully on a low end computer. Remember that event-driven programming makes this possib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ant to use LabVIEW if your program requires advanced control and analysis. If you need to interface with motion, vision, or more advanced applications involving vibration, frequency, strain/stress, light or sound, then you want to use LabVIEW.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is much more flexible than Lookout because of LabVIEW’s programming capabilit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Arial"/>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Arial"/>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CADA and Distributed I/O for Manufacturing</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3886200"/>
            <a:ext cx="6477120" cy="2666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rah Patterson</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plications Engine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5 p.m., 1:45-4:45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hibit (3I)</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verview</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 to Lookout</a:t>
            </a:r>
            <a:r>
              <a:rPr b="0" lang="en-US" sz="2800" spc="-1" strike="noStrike" baseline="30000">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 features of Lookou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out vs. LabVIEW</a:t>
            </a:r>
            <a:r>
              <a:rPr b="0" lang="en-US" sz="2800" spc="-1" strike="noStrike" baseline="30000">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nds on sess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a discrete application with Lookout and FieldPoint</a:t>
            </a:r>
            <a:r>
              <a:rPr b="0" lang="en-US" sz="3200" spc="-1" strike="noStrike" baseline="30000">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roduction to Lookout</a:t>
            </a:r>
            <a:endParaRPr b="1" lang="en-US" sz="3600" spc="-1" strike="noStrike">
              <a:solidFill>
                <a:srgbClr val="ffff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MI/SCADA packag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 orient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t drive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CP/IP network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in Features of Lookout</a:t>
            </a:r>
            <a:endParaRPr b="1" lang="en-US" sz="3600" spc="-1" strike="noStrike">
              <a:solidFill>
                <a:srgbClr val="ffff66"/>
              </a:solidFill>
              <a:latin typeface="Arial"/>
            </a:endParaRPr>
          </a:p>
        </p:txBody>
      </p:sp>
      <p:sp>
        <p:nvSpPr>
          <p:cNvPr id="100"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ine configur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d datalogg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ical trending</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in Features of Lookout</a:t>
            </a:r>
            <a:endParaRPr b="1" lang="en-US" sz="3600" spc="-1" strike="noStrike">
              <a:solidFill>
                <a:srgbClr val="ffff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d alarm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d securit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im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client (monitor and control)</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okout or LabVIEW?</a:t>
            </a:r>
            <a:endParaRPr b="1" lang="en-US" sz="3600" spc="-1" strike="noStrike">
              <a:solidFill>
                <a:srgbClr val="ffff66"/>
              </a:solidFill>
              <a:latin typeface="Arial"/>
            </a:endParaRPr>
          </a:p>
        </p:txBody>
      </p:sp>
      <p:sp>
        <p:nvSpPr>
          <p:cNvPr id="104"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Arial"/>
              </a:rPr>
              <a:t>Lookout</a:t>
            </a:r>
            <a:endParaRPr b="0" lang="en-US" sz="28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rge channel count application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C server/client</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dio or modem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iguration based (object oriented)</a:t>
            </a:r>
            <a:endParaRPr b="0" lang="en-US" sz="2400" spc="-1" strike="noStrike">
              <a:solidFill>
                <a:srgbClr val="ffffff"/>
              </a:solidFill>
              <a:latin typeface="Arial"/>
            </a:endParaRPr>
          </a:p>
        </p:txBody>
      </p:sp>
      <p:sp>
        <p:nvSpPr>
          <p:cNvPr id="105" name="PlaceHolder 3"/>
          <p:cNvSpPr>
            <a:spLocks noGrp="1"/>
          </p:cNvSpPr>
          <p:nvPr>
            <p:ph/>
          </p:nvPr>
        </p:nvSpPr>
        <p:spPr>
          <a:xfrm>
            <a:off x="464796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Arial"/>
              </a:rPr>
              <a:t>LabVIEW</a:t>
            </a:r>
            <a:endParaRPr b="0" lang="en-US" sz="28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control and analysis </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motion, vision or working with vibration, frequency</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exibility</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a:t>
            </a:r>
            <a:endParaRPr b="1" lang="en-US" sz="3600" spc="-1" strike="noStrike">
              <a:solidFill>
                <a:srgbClr val="ffff66"/>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y to use configuration based HMI/SCADA software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back it with a 90-day productivity guarantee</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you do not find Lookout easier to use than other software in the market we refund your money)</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ffff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Begin hands on sess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6T13:32:19Z</dcterms:created>
  <dc:creator>Valued Gateway Client</dc:creator>
  <dc:description/>
  <dc:language>en-US</dc:language>
  <cp:lastModifiedBy>David Steele</cp:lastModifiedBy>
  <dcterms:modified xsi:type="dcterms:W3CDTF">2000-07-15T22:24:25Z</dcterms:modified>
  <cp:revision>14</cp:revision>
  <dc:subject/>
  <dc:title>Short Course: Using Lookout with Distributed I/O</dc:title>
</cp:coreProperties>
</file>