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3.wmf" ContentType="image/x-wmf"/>
  <Override PartName="/ppt/media/image10.wmf" ContentType="image/x-wmf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8.jpeg" ContentType="image/jpeg"/>
  <Override PartName="/ppt/media/image8.png" ContentType="image/png"/>
  <Override PartName="/ppt/media/image33.png" ContentType="image/png"/>
  <Override PartName="/ppt/media/image7.wmf" ContentType="image/x-wmf"/>
  <Override PartName="/ppt/media/image12.png" ContentType="image/png"/>
  <Override PartName="/ppt/media/image31.png" ContentType="image/png"/>
  <Override PartName="/ppt/media/image29.png" ContentType="image/png"/>
  <Override PartName="/ppt/media/image39.wmf" ContentType="image/x-wmf"/>
  <Override PartName="/ppt/media/image19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F06B-6BD9-4373-90EB-E6C45C42FBCA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352E-9F68-43A1-93EE-67322BA17355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49B-6FD0-479F-8A49-66B6D5881F9C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C35-F367-4F9D-8F67-65ED52155F80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675-EC87-4A01-B0CE-F6E4D5EE47F6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70B6-1C9E-4325-9930-BF2A12C63BAF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2AAA-7F06-48AC-A848-615E2964EEC3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BF60-2CA9-4399-9068-68CAC0DA821C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19240" y="6667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7280" y="4374720"/>
            <a:ext cx="5049720" cy="40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mple d’application utilisant la plate-forme TestStand2.0-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6D3C-DBBB-4874-9219-FAFA77FACF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CF14-C364-43FA-97E6-07D914E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D671-A329-4347-9B04-29DDD66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F981-B46D-4DEB-9CDA-579FCD064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9EB1-266D-4A97-962F-C38F9F34F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0AAD5-6559-4C85-8DEE-0201167A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5854A-73C0-4404-89D8-64525C8F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0B73E-00C9-49F0-A53F-F91DA973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78242-A419-4ED3-9C5D-1804E869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2351-6367-4981-B00A-BD94B5AA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4E9A1-9B4C-4BE4-89B3-618AAB12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455B-90CA-43A6-AB7A-009C408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37F8-F141-478F-A021-D474BAF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53B3F-8A3A-40D1-B4E8-7A735CD9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5936E-0C3A-435C-BB8E-D369D79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C6167-84A8-478D-AD1D-ADDBC10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1EBD7-EB97-414D-BEFB-5CA6256A13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F923-0A5E-48DC-8BBD-9AADF36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5578-10A4-4091-AEB9-AB4D248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284D-3E25-456A-9639-53098C15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F5DE-9CE6-417D-81D2-5C0C120A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1893-9CEE-4A4C-8F29-C7FB102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D6C7-CF38-48ED-A2F5-936F471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BFCA-7E8B-43C6-AAB4-4E74DDF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792-A162-46F5-9E21-E1564BDD7C16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288A-BE94-499F-9D4D-582AFE43E0F0}" type="slidenum"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76720" y="4572000"/>
          <a:ext cx="281916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72000"/>
                    <a:ext cx="28191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(new)3D%20ni%20teststand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7696080" cy="198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909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Nouveau standard pour le test automat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Raphaël Til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Évaluation des réductions de coûts en lign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35388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4343400" cy="3517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215800" y="541008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.com/webappdemos/buildvsbuyca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ogiciel de gestion de test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1295280"/>
            <a:ext cx="3810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ppeler du code écrit dans tous les lan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énération automatique de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dulaire et personna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114800" y="3807000"/>
            <a:ext cx="3230640" cy="1787400"/>
          </a:xfrm>
          <a:prstGeom prst="rect">
            <a:avLst/>
          </a:prstGeom>
          <a:ln cap="rnd" w="12600">
            <a:solidFill>
              <a:srgbClr val="000000"/>
            </a:solidFill>
            <a:miter/>
          </a:ln>
        </p:spPr>
      </p:pic>
      <p:graphicFrame>
        <p:nvGraphicFramePr>
          <p:cNvPr id="566" name=""/>
          <p:cNvGraphicFramePr/>
          <p:nvPr/>
        </p:nvGraphicFramePr>
        <p:xfrm>
          <a:off x="5175360" y="2558880"/>
          <a:ext cx="3171600" cy="18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5360" y="2558880"/>
                    <a:ext cx="31716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3962520" y="1066680"/>
          <a:ext cx="3238560" cy="14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066680"/>
                    <a:ext cx="32385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rchitectur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1143000"/>
            <a:ext cx="241128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Interfa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op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1143000"/>
            <a:ext cx="2237040" cy="934920"/>
          </a:xfrm>
          <a:prstGeom prst="roundRect">
            <a:avLst>
              <a:gd name="adj" fmla="val 16667"/>
            </a:avLst>
          </a:prstGeom>
          <a:solidFill>
            <a:srgbClr val="8e5872"/>
          </a:solidFill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Édi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é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38080" y="3111480"/>
            <a:ext cx="7338960" cy="762120"/>
            <a:chOff x="838080" y="3111480"/>
            <a:chExt cx="7338960" cy="762120"/>
          </a:xfrm>
        </p:grpSpPr>
        <p:sp>
          <p:nvSpPr>
            <p:cNvPr id="574" name=""/>
            <p:cNvSpPr/>
            <p:nvPr/>
          </p:nvSpPr>
          <p:spPr>
            <a:xfrm>
              <a:off x="838080" y="3111480"/>
              <a:ext cx="7338960" cy="762120"/>
            </a:xfrm>
            <a:prstGeom prst="roundRect">
              <a:avLst>
                <a:gd name="adj" fmla="val 16667"/>
              </a:avLst>
            </a:prstGeom>
            <a:solidFill>
              <a:srgbClr val="697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99000" y="3276720"/>
              <a:ext cx="53805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teur TestStand (Serveur Active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69560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981080" y="203508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07760" y="129528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5872"/>
                </a:solidFill>
                <a:latin typeface="Arial Narrow"/>
              </a:rPr>
              <a:t>Clients Activ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38080" y="2438280"/>
            <a:ext cx="7320240" cy="644760"/>
            <a:chOff x="838080" y="2438280"/>
            <a:chExt cx="7320240" cy="644760"/>
          </a:xfrm>
        </p:grpSpPr>
        <p:sp>
          <p:nvSpPr>
            <p:cNvPr id="580" name=""/>
            <p:cNvSpPr/>
            <p:nvPr/>
          </p:nvSpPr>
          <p:spPr>
            <a:xfrm>
              <a:off x="838080" y="2438280"/>
              <a:ext cx="7320240" cy="644760"/>
            </a:xfrm>
            <a:prstGeom prst="roundRect">
              <a:avLst>
                <a:gd name="adj" fmla="val 16667"/>
              </a:avLst>
            </a:prstGeom>
            <a:solidFill>
              <a:srgbClr val="edb90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49200" y="2560680"/>
              <a:ext cx="6567480" cy="415800"/>
            </a:xfrm>
            <a:prstGeom prst="rect">
              <a:avLst/>
            </a:prstGeom>
            <a:solidFill>
              <a:srgbClr val="edb9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8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I TestSt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16292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467480" y="205740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85800" y="4267080"/>
          <a:ext cx="762012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762012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1371600" y="3886200"/>
            <a:ext cx="6248520" cy="479520"/>
            <a:chOff x="1371600" y="3886200"/>
            <a:chExt cx="6248520" cy="479520"/>
          </a:xfrm>
        </p:grpSpPr>
        <p:sp>
          <p:nvSpPr>
            <p:cNvPr id="587" name=""/>
            <p:cNvSpPr/>
            <p:nvPr/>
          </p:nvSpPr>
          <p:spPr>
            <a:xfrm>
              <a:off x="4572000" y="3886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71600" y="4038480"/>
              <a:ext cx="624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84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320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552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24480" y="4060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94560" y="40482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Éditeur de séquences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5333760" cy="3824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57200" y="11430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ré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d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Mana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éc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"Debugge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mettre un ra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istrib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Gestion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ersonna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omment développer un programm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16480" y="2362320"/>
          <a:ext cx="546408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6480" y="2362320"/>
                    <a:ext cx="5464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533520" y="1387440"/>
            <a:ext cx="2895480" cy="762120"/>
          </a:xfrm>
          <a:prstGeom prst="rect">
            <a:avLst/>
          </a:prstGeom>
          <a:solidFill>
            <a:srgbClr val="a8ad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quen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1295280"/>
            <a:ext cx="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3946680"/>
            <a:ext cx="4038480" cy="1311120"/>
            <a:chOff x="533520" y="3946680"/>
            <a:chExt cx="4038480" cy="1311120"/>
          </a:xfrm>
        </p:grpSpPr>
        <p:sp>
          <p:nvSpPr>
            <p:cNvPr id="604" name=""/>
            <p:cNvSpPr/>
            <p:nvPr/>
          </p:nvSpPr>
          <p:spPr>
            <a:xfrm>
              <a:off x="533520" y="4648320"/>
              <a:ext cx="2895480" cy="609480"/>
            </a:xfrm>
            <a:prstGeom prst="rect">
              <a:avLst/>
            </a:prstGeom>
            <a:solidFill>
              <a:srgbClr val="8e587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de Modul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09480" y="3946680"/>
              <a:ext cx="3962520" cy="1236960"/>
              <a:chOff x="609480" y="3946680"/>
              <a:chExt cx="3962520" cy="12369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609480" y="4784760"/>
                <a:ext cx="353880" cy="398880"/>
                <a:chOff x="609480" y="4784760"/>
                <a:chExt cx="353880" cy="3988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611280" y="478476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09480" y="478476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218120" y="3946680"/>
                <a:ext cx="353880" cy="398880"/>
                <a:chOff x="4218120" y="3946680"/>
                <a:chExt cx="353880" cy="3988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219920" y="3946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218120" y="39466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2" name=""/>
          <p:cNvGrpSpPr/>
          <p:nvPr/>
        </p:nvGrpSpPr>
        <p:grpSpPr>
          <a:xfrm>
            <a:off x="596880" y="1569960"/>
            <a:ext cx="5813280" cy="792360"/>
            <a:chOff x="596880" y="1569960"/>
            <a:chExt cx="5813280" cy="792360"/>
          </a:xfrm>
        </p:grpSpPr>
        <p:grpSp>
          <p:nvGrpSpPr>
            <p:cNvPr id="613" name=""/>
            <p:cNvGrpSpPr/>
            <p:nvPr/>
          </p:nvGrpSpPr>
          <p:grpSpPr>
            <a:xfrm>
              <a:off x="596880" y="1569960"/>
              <a:ext cx="353880" cy="398880"/>
              <a:chOff x="596880" y="1569960"/>
              <a:chExt cx="353880" cy="398880"/>
            </a:xfrm>
          </p:grpSpPr>
          <p:sp>
            <p:nvSpPr>
              <p:cNvPr id="614" name=""/>
              <p:cNvSpPr/>
              <p:nvPr/>
            </p:nvSpPr>
            <p:spPr>
              <a:xfrm>
                <a:off x="598680" y="15699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6880" y="156996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056280" y="1895400"/>
              <a:ext cx="353880" cy="398880"/>
              <a:chOff x="6056280" y="1895400"/>
              <a:chExt cx="353880" cy="398880"/>
            </a:xfrm>
          </p:grpSpPr>
          <p:sp>
            <p:nvSpPr>
              <p:cNvPr id="617" name=""/>
              <p:cNvSpPr/>
              <p:nvPr/>
            </p:nvSpPr>
            <p:spPr>
              <a:xfrm>
                <a:off x="6058080" y="18954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b0b"/>
                    </a:solidFill>
                    <a:latin typeface="Arial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56280" y="1895400"/>
                <a:ext cx="353880" cy="384120"/>
              </a:xfrm>
              <a:prstGeom prst="ellipse">
                <a:avLst/>
              </a:prstGeom>
              <a:noFill/>
              <a:ln w="9360">
                <a:solidFill>
                  <a:srgbClr val="ff0b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 flipH="1">
              <a:off x="5446440" y="2149560"/>
              <a:ext cx="609840" cy="212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33520" y="2265480"/>
            <a:ext cx="7619760" cy="1486080"/>
            <a:chOff x="533520" y="2265480"/>
            <a:chExt cx="7619760" cy="1486080"/>
          </a:xfrm>
        </p:grpSpPr>
        <p:sp>
          <p:nvSpPr>
            <p:cNvPr id="621" name=""/>
            <p:cNvSpPr/>
            <p:nvPr/>
          </p:nvSpPr>
          <p:spPr>
            <a:xfrm>
              <a:off x="533520" y="2265480"/>
              <a:ext cx="2895480" cy="685800"/>
            </a:xfrm>
            <a:prstGeom prst="rect">
              <a:avLst/>
            </a:prstGeom>
            <a:solidFill>
              <a:srgbClr val="5c81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quence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84280" y="2435400"/>
              <a:ext cx="7569000" cy="1316160"/>
              <a:chOff x="584280" y="2435400"/>
              <a:chExt cx="7569000" cy="131616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84280" y="2435400"/>
                <a:ext cx="353880" cy="398880"/>
                <a:chOff x="584280" y="2435400"/>
                <a:chExt cx="353880" cy="3988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6080" y="24354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4280" y="243540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7799400" y="3352680"/>
                <a:ext cx="353880" cy="398880"/>
                <a:chOff x="7799400" y="3352680"/>
                <a:chExt cx="353880" cy="3988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801200" y="33526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799400" y="3352680"/>
                  <a:ext cx="35388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9" name=""/>
          <p:cNvGrpSpPr/>
          <p:nvPr/>
        </p:nvGrpSpPr>
        <p:grpSpPr>
          <a:xfrm>
            <a:off x="533520" y="2832120"/>
            <a:ext cx="3574800" cy="974880"/>
            <a:chOff x="533520" y="2832120"/>
            <a:chExt cx="3574800" cy="974880"/>
          </a:xfrm>
        </p:grpSpPr>
        <p:sp>
          <p:nvSpPr>
            <p:cNvPr id="630" name=""/>
            <p:cNvSpPr/>
            <p:nvPr/>
          </p:nvSpPr>
          <p:spPr>
            <a:xfrm>
              <a:off x="533520" y="3067200"/>
              <a:ext cx="2895480" cy="739800"/>
            </a:xfrm>
            <a:prstGeom prst="rect">
              <a:avLst/>
            </a:prstGeom>
            <a:solidFill>
              <a:srgbClr val="697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(Setup, Main, Cleanu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85720" y="2832120"/>
              <a:ext cx="3522600" cy="795960"/>
              <a:chOff x="585720" y="2832120"/>
              <a:chExt cx="3522600" cy="7959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585720" y="3229200"/>
                <a:ext cx="365040" cy="398880"/>
                <a:chOff x="585720" y="3229200"/>
                <a:chExt cx="365040" cy="3988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585720" y="32292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2200" y="3229200"/>
                  <a:ext cx="35424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743280" y="2832120"/>
                <a:ext cx="365040" cy="398880"/>
                <a:chOff x="3743280" y="2832120"/>
                <a:chExt cx="365040" cy="3988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743280" y="28321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749760" y="2832120"/>
                  <a:ext cx="354240" cy="38412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8" name=""/>
          <p:cNvGrpSpPr/>
          <p:nvPr/>
        </p:nvGrpSpPr>
        <p:grpSpPr>
          <a:xfrm>
            <a:off x="533520" y="3579840"/>
            <a:ext cx="5865120" cy="952560"/>
            <a:chOff x="533520" y="3579840"/>
            <a:chExt cx="5865120" cy="952560"/>
          </a:xfrm>
        </p:grpSpPr>
        <p:sp>
          <p:nvSpPr>
            <p:cNvPr id="639" name=""/>
            <p:cNvSpPr/>
            <p:nvPr/>
          </p:nvSpPr>
          <p:spPr>
            <a:xfrm>
              <a:off x="533520" y="3922560"/>
              <a:ext cx="2895480" cy="609840"/>
            </a:xfrm>
            <a:prstGeom prst="rect">
              <a:avLst/>
            </a:prstGeom>
            <a:solidFill>
              <a:srgbClr val="edb9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585720" y="3579840"/>
              <a:ext cx="5812920" cy="871920"/>
              <a:chOff x="585720" y="3579840"/>
              <a:chExt cx="5812920" cy="87192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585720" y="4052880"/>
                <a:ext cx="365040" cy="398880"/>
                <a:chOff x="585720" y="4052880"/>
                <a:chExt cx="365040" cy="3988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585720" y="4052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b0b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90760" y="4052880"/>
                  <a:ext cx="353880" cy="383760"/>
                </a:xfrm>
                <a:prstGeom prst="ellipse">
                  <a:avLst/>
                </a:prstGeom>
                <a:noFill/>
                <a:ln w="9360">
                  <a:solidFill>
                    <a:srgbClr val="ff0b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437080" y="3579840"/>
                <a:ext cx="961560" cy="763560"/>
                <a:chOff x="5437080" y="3579840"/>
                <a:chExt cx="961560" cy="76356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6033600" y="3736800"/>
                  <a:ext cx="365040" cy="398880"/>
                  <a:chOff x="6033600" y="3736800"/>
                  <a:chExt cx="365040" cy="39888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6033600" y="3736800"/>
                    <a:ext cx="365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0b0b"/>
                        </a:solidFill>
                        <a:latin typeface="Arial"/>
                        <a:ea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038640" y="3736800"/>
                    <a:ext cx="353880" cy="384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b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5437080" y="3579840"/>
                  <a:ext cx="595080" cy="763560"/>
                  <a:chOff x="5437080" y="3579840"/>
                  <a:chExt cx="595080" cy="763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5437080" y="4343400"/>
                    <a:ext cx="4204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5437080" y="3581280"/>
                    <a:ext cx="42516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857560" y="3579840"/>
                    <a:ext cx="0" cy="763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857560" y="3935160"/>
                    <a:ext cx="1746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ppeler des modules de tes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572000" y="1720800"/>
            <a:ext cx="434340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5" name=""/>
          <p:cNvSpPr/>
          <p:nvPr/>
        </p:nvSpPr>
        <p:spPr>
          <a:xfrm>
            <a:off x="457200" y="1752480"/>
            <a:ext cx="4038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écanisme d’adaptateurs pour appeler des modules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ules de test disponibles pour les langages de programmation les plus cou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4197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réer et éditer des modules de test direc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à partir de l’Éditeur de s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Des types de tests pré-défin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486400" cy="39355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533520" y="1141920"/>
            <a:ext cx="2762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Pass/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Multinumeric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tring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quenc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ssage pop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perty 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s types de tests personnalisa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164240"/>
            <a:ext cx="6248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estStand permet la création de tests personnali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505320" y="1676520"/>
            <a:ext cx="4647600" cy="2590200"/>
            <a:chOff x="3505320" y="1676520"/>
            <a:chExt cx="4647600" cy="2590200"/>
          </a:xfrm>
        </p:grpSpPr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3505320" y="1676520"/>
              <a:ext cx="2365920" cy="14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5787000" y="2756160"/>
              <a:ext cx="2365920" cy="151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609480" y="3199320"/>
            <a:ext cx="480060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•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tests personnalisés permettent de contrôl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propriétés/valeurs du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s boîtes de di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e comportement à l’exé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'appa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buClr>
                <a:srgbClr val="000000"/>
              </a:buClr>
              <a:buFont typeface="Arial Narrow"/>
              <a:buChar char="–"/>
              <a:tabLst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la génération d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Capacités de "debugging" de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immédiat du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"Debugging" de code LabVIEW, LabWindows/CVI, Measurement Studio et Visual Basic directement à partir de Test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urveiller variables, propriétés, et expressions de TestStand à l’exécution à l’aide d’une fenêtre de visu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BS00015_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60668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Interfaces opérateurs flexibl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1295280"/>
            <a:ext cx="424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pplication installée sur le poste d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prêts-à-l’emploi écrits en LabVIEW, LabWindows/CVI, Visual Basic et Delp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de source fourni pour personn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952880" y="1447920"/>
            <a:ext cx="3886200" cy="2971800"/>
            <a:chOff x="4952880" y="1447920"/>
            <a:chExt cx="3886200" cy="2971800"/>
          </a:xfrm>
        </p:grpSpPr>
        <p:sp>
          <p:nvSpPr>
            <p:cNvPr id="672" name=""/>
            <p:cNvSpPr/>
            <p:nvPr/>
          </p:nvSpPr>
          <p:spPr>
            <a:xfrm>
              <a:off x="4952880" y="1447920"/>
              <a:ext cx="388620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3" name=""/>
            <p:cNvGraphicFramePr/>
            <p:nvPr/>
          </p:nvGraphicFramePr>
          <p:xfrm>
            <a:off x="5003280" y="1500840"/>
            <a:ext cx="3785400" cy="28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280" y="1500840"/>
                      <a:ext cx="3785400" cy="28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Plan de la présen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Un exemple concret de système de test modulai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: séquenceur de tests automatiq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es outils associés : IVI et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Exemples d’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onctionnalités avancées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allè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 par famille de produits (Batch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Génération automatique de séqu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Connexion base de donné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tégration avancée commut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16002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c81b5"/>
                </a:solidFill>
                <a:latin typeface="Arial Narrow"/>
              </a:rPr>
              <a:t>http://www.ivifoundatio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6705720" y="3886200"/>
            <a:ext cx="0" cy="760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2209680"/>
            <a:ext cx="0" cy="760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1160280" y="4930920"/>
            <a:ext cx="343044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Instru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438280" cy="113004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666880" y="1295280"/>
            <a:ext cx="5818320" cy="901800"/>
            <a:chOff x="2666880" y="1295280"/>
            <a:chExt cx="5818320" cy="901800"/>
          </a:xfrm>
        </p:grpSpPr>
        <p:sp>
          <p:nvSpPr>
            <p:cNvPr id="685" name=""/>
            <p:cNvSpPr/>
            <p:nvPr/>
          </p:nvSpPr>
          <p:spPr>
            <a:xfrm>
              <a:off x="4840200" y="1295280"/>
              <a:ext cx="3645000" cy="901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Programme de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Arial"/>
                </a:rPr>
                <a:t>(CVI, LabVIEW, VB, etc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6880" y="1432080"/>
              <a:ext cx="18176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Applic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523160" y="2971800"/>
            <a:ext cx="6973200" cy="901800"/>
            <a:chOff x="1523160" y="2971800"/>
            <a:chExt cx="6973200" cy="901800"/>
          </a:xfrm>
        </p:grpSpPr>
        <p:sp>
          <p:nvSpPr>
            <p:cNvPr id="688" name=""/>
            <p:cNvSpPr/>
            <p:nvPr/>
          </p:nvSpPr>
          <p:spPr>
            <a:xfrm>
              <a:off x="4851360" y="2971800"/>
              <a:ext cx="3645000" cy="901800"/>
            </a:xfrm>
            <a:prstGeom prst="rect">
              <a:avLst/>
            </a:prstGeom>
            <a:solidFill>
              <a:srgbClr val="66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Driver d’instr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160" y="3105000"/>
              <a:ext cx="2986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river</a:t>
              </a:r>
              <a:r>
                <a:rPr b="0" lang="fr-FR" sz="3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fr-FR" sz="3200" spc="-1" strike="noStrike">
                  <a:solidFill>
                    <a:srgbClr val="000000"/>
                  </a:solidFill>
                  <a:latin typeface="Arial Narrow"/>
                </a:rPr>
                <a:t>d’instr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limites de l’instrumentation classiqu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’interchangeabilité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321120" y="1684440"/>
            <a:ext cx="134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09000" y="1684440"/>
            <a:ext cx="159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84800" y="1684440"/>
            <a:ext cx="155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63000" y="1684440"/>
            <a:ext cx="3741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lass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teu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nction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rbitrair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witch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ultiplex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714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47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5300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920" y="2898720"/>
            <a:ext cx="244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7936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3592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1916280" y="2666880"/>
            <a:ext cx="133488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5878440" y="2666880"/>
            <a:ext cx="1335240" cy="808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8adb0"/>
            </a:outerShdw>
          </a:effectLst>
        </p:spPr>
      </p:pic>
      <p:sp>
        <p:nvSpPr>
          <p:cNvPr id="704" name=""/>
          <p:cNvSpPr/>
          <p:nvPr/>
        </p:nvSpPr>
        <p:spPr>
          <a:xfrm>
            <a:off x="7594560" y="2819520"/>
            <a:ext cx="1447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  .  .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609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10280" y="3886200"/>
            <a:ext cx="2514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t depuis pe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Générateur 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nalyseur d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Watt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8 classes sont défini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800600" y="1066680"/>
            <a:ext cx="3645000" cy="9018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gramme d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Arial"/>
              </a:rPr>
              <a:t>(CVI, LabVIEW, VB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luke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Keithle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3809880"/>
            <a:ext cx="3720960" cy="749520"/>
          </a:xfrm>
          <a:prstGeom prst="rect">
            <a:avLst/>
          </a:prstGeom>
          <a:solidFill>
            <a:srgbClr val="66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I 4070 D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6920" y="2438280"/>
            <a:ext cx="3644640" cy="901800"/>
          </a:xfrm>
          <a:prstGeom prst="rect">
            <a:avLst/>
          </a:prstGeom>
          <a:solidFill>
            <a:srgbClr val="66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river de classe D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l’échange des instruments appartenant à une même classe, sans aucune recompi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ermet de travailler sans la présence de l’appareil de mesure (mode simulé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Système de test indépendant du matéri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5486400" y="4800600"/>
            <a:ext cx="2438280" cy="11304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705720" y="4572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membres de la Fondation IVI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nrits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dvant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he Boeing Compan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C-Marconi Test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enR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Cro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ockheed Mart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ucent Technolog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rconi North Amer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ytheon TI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rthrop Grumman ESS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c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ohde &amp; Schwar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ktron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ektre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avete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erady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YX (EADS T&amp;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Futures class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"/>
          <p:cNvSpPr/>
          <p:nvPr/>
        </p:nvSpPr>
        <p:spPr>
          <a:xfrm>
            <a:off x="455760" y="1295280"/>
            <a:ext cx="3524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DWG/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etwork Analyz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Word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1553 Bus Em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Precision DAQ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t Point Contro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oise Figure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Logic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29200" y="1295280"/>
            <a:ext cx="3814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ynchro/Resol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Voltage Com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Audio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imple Analog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erial Bu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ime St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Static Digital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outils associé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745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748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vantages d’un gestionnaire de commut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80520" y="1366920"/>
            <a:ext cx="853452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mélioration de la productivit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iguration et programmation simplifiées du système de commu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minution significative des coûts de mainten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nfiguration SANS modification du cod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ion intelligente des commut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gmentation de la durée de vie des relais mécaniq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Les tendances de l’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445680" y="1539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evé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12840" y="1618920"/>
            <a:ext cx="0" cy="39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2840" y="5597640"/>
            <a:ext cx="667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2840" y="3048120"/>
            <a:ext cx="6134040" cy="81576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5c81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2840" y="3557520"/>
            <a:ext cx="6134040" cy="714600"/>
          </a:xfrm>
          <a:custGeom>
            <a:avLst/>
            <a:gdLst/>
            <a:ahLst/>
            <a:rect l="l" t="t" r="r" b="b"/>
            <a:pathLst>
              <a:path w="3264" h="384">
                <a:moveTo>
                  <a:pt x="0" y="0"/>
                </a:moveTo>
                <a:cubicBezTo>
                  <a:pt x="544" y="16"/>
                  <a:pt x="1088" y="32"/>
                  <a:pt x="1632" y="96"/>
                </a:cubicBezTo>
                <a:cubicBezTo>
                  <a:pt x="2176" y="160"/>
                  <a:pt x="2992" y="336"/>
                  <a:pt x="3264" y="384"/>
                </a:cubicBezTo>
              </a:path>
            </a:pathLst>
          </a:custGeom>
          <a:noFill/>
          <a:ln w="38160">
            <a:solidFill>
              <a:srgbClr val="8e58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2840" y="1312920"/>
            <a:ext cx="6134040" cy="275436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697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2027160"/>
            <a:ext cx="6134040" cy="255132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2840" y="2639880"/>
            <a:ext cx="6134040" cy="2448000"/>
          </a:xfrm>
          <a:custGeom>
            <a:avLst/>
            <a:gdLst/>
            <a:ahLst/>
            <a:rect l="l" t="t" r="r" b="b"/>
            <a:pathLst>
              <a:path w="3264" h="1296">
                <a:moveTo>
                  <a:pt x="0" y="1296"/>
                </a:moveTo>
                <a:cubicBezTo>
                  <a:pt x="568" y="1284"/>
                  <a:pt x="1136" y="1272"/>
                  <a:pt x="1680" y="1056"/>
                </a:cubicBezTo>
                <a:cubicBezTo>
                  <a:pt x="2224" y="840"/>
                  <a:pt x="3000" y="176"/>
                  <a:pt x="3264" y="0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187400">
            <a:off x="5360040" y="1622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é des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249800">
            <a:off x="5862960" y="22280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307400">
            <a:off x="5675040" y="25333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lumes d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627000">
            <a:off x="6661440" y="34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640200">
            <a:off x="6159240" y="38174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rée de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59880" y="53420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960" y="533412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aibl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156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267080" y="1676520"/>
          <a:ext cx="487692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87692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8e587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e5872"/>
                </a:solidFill>
                <a:latin typeface="Arial Narrow"/>
              </a:rPr>
              <a:t>Matrice, Multiplexer (MUX), &amp; General Purpose Switch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éfinition d’ali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 de configu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alisation du rout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Group Associ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estSt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VIEW, CVI 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surement Stud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égration avec Switch non National Instr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tégration avec TestStand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4581360" y="1219320"/>
          <a:ext cx="4562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1360" y="1219320"/>
                    <a:ext cx="4562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304920" y="1523880"/>
          <a:ext cx="419076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4190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3657600" y="2438280"/>
            <a:ext cx="704880" cy="29556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4280" y="1371600"/>
            <a:ext cx="1143000" cy="295200"/>
          </a:xfrm>
          <a:prstGeom prst="ellipse">
            <a:avLst/>
          </a:prstGeom>
          <a:noFill/>
          <a:ln w="28440">
            <a:solidFill>
              <a:srgbClr val="ff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267080" y="1752480"/>
            <a:ext cx="447840" cy="609840"/>
          </a:xfrm>
          <a:prstGeom prst="line">
            <a:avLst/>
          </a:prstGeom>
          <a:ln w="28440">
            <a:solidFill>
              <a:srgbClr val="ff0b0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78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79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0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19160" y="4343400"/>
            <a:ext cx="1649160" cy="767160"/>
            <a:chOff x="119160" y="4343400"/>
            <a:chExt cx="1649160" cy="767160"/>
          </a:xfrm>
        </p:grpSpPr>
        <p:sp>
          <p:nvSpPr>
            <p:cNvPr id="815" name=""/>
            <p:cNvSpPr/>
            <p:nvPr/>
          </p:nvSpPr>
          <p:spPr>
            <a:xfrm>
              <a:off x="152280" y="4343400"/>
              <a:ext cx="16160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IVI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rix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9160" y="4748040"/>
              <a:ext cx="113328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163023"/>
                <a:gd name="adj5" fmla="val -116203"/>
                <a:gd name="adj6" fmla="val 221990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20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29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34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36440" y="896760"/>
            <a:ext cx="4853160" cy="4972680"/>
            <a:chOff x="136440" y="896760"/>
            <a:chExt cx="4853160" cy="4972680"/>
          </a:xfrm>
        </p:grpSpPr>
        <p:grpSp>
          <p:nvGrpSpPr>
            <p:cNvPr id="848" name=""/>
            <p:cNvGrpSpPr/>
            <p:nvPr/>
          </p:nvGrpSpPr>
          <p:grpSpPr>
            <a:xfrm>
              <a:off x="543240" y="896760"/>
              <a:ext cx="4446360" cy="1415520"/>
              <a:chOff x="543240" y="896760"/>
              <a:chExt cx="4446360" cy="1415520"/>
            </a:xfrm>
          </p:grpSpPr>
          <p:sp>
            <p:nvSpPr>
              <p:cNvPr id="849" name=""/>
              <p:cNvSpPr/>
              <p:nvPr/>
            </p:nvSpPr>
            <p:spPr>
              <a:xfrm rot="18171000">
                <a:off x="2860200" y="155052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171000">
                <a:off x="3720960" y="14050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8171000">
                <a:off x="3236040" y="141876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8198600">
                <a:off x="2350080" y="145620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198600">
                <a:off x="1852200" y="14533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171000">
                <a:off x="1425600" y="160344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8171000">
                <a:off x="930240" y="15616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8198600">
                <a:off x="532080" y="167004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306520" y="1959120"/>
            <a:ext cx="3324240" cy="3717720"/>
          </a:xfrm>
          <a:custGeom>
            <a:avLst/>
            <a:gdLst/>
            <a:ahLst/>
            <a:rect l="l" t="t" r="r" b="b"/>
            <a:pathLst>
              <a:path w="2094" h="2342">
                <a:moveTo>
                  <a:pt x="0" y="2342"/>
                </a:moveTo>
                <a:lnTo>
                  <a:pt x="1491" y="2341"/>
                </a:lnTo>
                <a:lnTo>
                  <a:pt x="2094" y="1097"/>
                </a:lnTo>
                <a:lnTo>
                  <a:pt x="1418" y="0"/>
                </a:ln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862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871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876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889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188160" y="436716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91040" y="4772160"/>
            <a:ext cx="14252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1847"/>
              <a:gd name="adj5" fmla="val -507407"/>
              <a:gd name="adj6" fmla="val -59689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89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89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0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1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23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936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940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944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948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201120" y="419112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2920" y="524196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5257800"/>
            <a:ext cx="18464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37"/>
              <a:gd name="adj5" fmla="val -448611"/>
              <a:gd name="adj6" fmla="val -68101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199680" y="56386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00400" y="5638680"/>
            <a:ext cx="197964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35365"/>
              <a:gd name="adj5" fmla="val -448148"/>
              <a:gd name="adj6" fmla="val -68643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02200" y="487692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00400" y="4876920"/>
            <a:ext cx="25034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22574"/>
              <a:gd name="adj5" fmla="val -451851"/>
              <a:gd name="adj6" fmla="val -43055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960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961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973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982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987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187720" y="2519280"/>
            <a:ext cx="588960" cy="452520"/>
            <a:chOff x="2187720" y="2519280"/>
            <a:chExt cx="588960" cy="452520"/>
          </a:xfrm>
        </p:grpSpPr>
        <p:sp>
          <p:nvSpPr>
            <p:cNvPr id="1000" name=""/>
            <p:cNvSpPr/>
            <p:nvPr/>
          </p:nvSpPr>
          <p:spPr>
            <a:xfrm>
              <a:off x="22305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187720" y="2971800"/>
              <a:ext cx="588960" cy="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0864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75800" y="2514600"/>
            <a:ext cx="2950920" cy="822240"/>
            <a:chOff x="775800" y="2514600"/>
            <a:chExt cx="2950920" cy="822240"/>
          </a:xfrm>
        </p:grpSpPr>
        <p:sp>
          <p:nvSpPr>
            <p:cNvPr id="1004" name=""/>
            <p:cNvSpPr/>
            <p:nvPr/>
          </p:nvSpPr>
          <p:spPr>
            <a:xfrm flipH="1">
              <a:off x="775800" y="3336840"/>
              <a:ext cx="29509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67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471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273320" y="2514600"/>
            <a:ext cx="1914480" cy="1276200"/>
            <a:chOff x="1273320" y="2514600"/>
            <a:chExt cx="1914480" cy="1276200"/>
          </a:xfrm>
        </p:grpSpPr>
        <p:sp>
          <p:nvSpPr>
            <p:cNvPr id="1008" name=""/>
            <p:cNvSpPr/>
            <p:nvPr/>
          </p:nvSpPr>
          <p:spPr>
            <a:xfrm>
              <a:off x="130176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273320" y="3736800"/>
              <a:ext cx="191448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68720" y="2514600"/>
              <a:ext cx="324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730160" y="2514600"/>
            <a:ext cx="2434680" cy="1600200"/>
            <a:chOff x="1730160" y="2514600"/>
            <a:chExt cx="2434680" cy="1600200"/>
          </a:xfrm>
        </p:grpSpPr>
        <p:sp>
          <p:nvSpPr>
            <p:cNvPr id="1012" name=""/>
            <p:cNvSpPr/>
            <p:nvPr/>
          </p:nvSpPr>
          <p:spPr>
            <a:xfrm>
              <a:off x="175752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96440" y="2514600"/>
              <a:ext cx="396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1730160" y="4114800"/>
              <a:ext cx="243468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98960" y="50292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Output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021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022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477120" y="441972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19160" y="2117880"/>
            <a:ext cx="8331120" cy="2987640"/>
            <a:chOff x="119160" y="2117880"/>
            <a:chExt cx="8331120" cy="2987640"/>
          </a:xfrm>
        </p:grpSpPr>
        <p:sp>
          <p:nvSpPr>
            <p:cNvPr id="1033" name=""/>
            <p:cNvSpPr/>
            <p:nvPr/>
          </p:nvSpPr>
          <p:spPr>
            <a:xfrm>
              <a:off x="6477120" y="4762440"/>
              <a:ext cx="197316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34675"/>
                <a:gd name="adj5" fmla="val -192129"/>
                <a:gd name="adj6" fmla="val -12308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" y="2117880"/>
              <a:ext cx="4297320" cy="237780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038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047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28480" y="2514600"/>
            <a:ext cx="3838320" cy="1752480"/>
            <a:chOff x="528480" y="2514600"/>
            <a:chExt cx="3838320" cy="1752480"/>
          </a:xfrm>
        </p:grpSpPr>
        <p:sp>
          <p:nvSpPr>
            <p:cNvPr id="1052" name=""/>
            <p:cNvSpPr/>
            <p:nvPr/>
          </p:nvSpPr>
          <p:spPr>
            <a:xfrm>
              <a:off x="83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2999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36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683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6414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046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097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730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848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848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848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848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070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075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084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04760" y="5081760"/>
            <a:ext cx="1133640" cy="34272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135013"/>
              <a:gd name="adj5" fmla="val -531018"/>
              <a:gd name="adj6" fmla="val 433050"/>
            </a:avLst>
          </a:prstGeom>
          <a:noFill/>
          <a:ln w="38160">
            <a:solidFill>
              <a:srgbClr val="edb90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600440" y="4184640"/>
            <a:ext cx="1814760" cy="1490760"/>
          </a:xfrm>
          <a:custGeom>
            <a:avLst/>
            <a:gdLst/>
            <a:ahLst/>
            <a:rect l="l" t="t" r="r" b="b"/>
            <a:pathLst>
              <a:path w="1143" h="951">
                <a:moveTo>
                  <a:pt x="1143" y="951"/>
                </a:moveTo>
                <a:cubicBezTo>
                  <a:pt x="1046" y="867"/>
                  <a:pt x="748" y="606"/>
                  <a:pt x="558" y="448"/>
                </a:cubicBezTo>
                <a:cubicBezTo>
                  <a:pt x="368" y="290"/>
                  <a:pt x="116" y="93"/>
                  <a:pt x="0" y="0"/>
                </a:cubicBezTo>
              </a:path>
            </a:pathLst>
          </a:custGeom>
          <a:noFill/>
          <a:ln w="38160">
            <a:solidFill>
              <a:srgbClr val="edb90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01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03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06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09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112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4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116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117" name=""/>
              <p:cNvSpPr/>
              <p:nvPr/>
            </p:nvSpPr>
            <p:spPr>
              <a:xfrm rot="18171000">
                <a:off x="2860200" y="1550880"/>
                <a:ext cx="107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16040" y="380880"/>
            <a:ext cx="8199360" cy="6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xemple NI Switch Executiv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590400" y="2117880"/>
            <a:ext cx="3884400" cy="398880"/>
            <a:chOff x="590400" y="2117880"/>
            <a:chExt cx="3884400" cy="398880"/>
          </a:xfrm>
        </p:grpSpPr>
        <p:sp>
          <p:nvSpPr>
            <p:cNvPr id="1129" name=""/>
            <p:cNvSpPr/>
            <p:nvPr/>
          </p:nvSpPr>
          <p:spPr>
            <a:xfrm>
              <a:off x="5904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49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6164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188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0484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1460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8400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232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52280" y="2771640"/>
            <a:ext cx="452160" cy="1496880"/>
            <a:chOff x="152280" y="2771640"/>
            <a:chExt cx="452160" cy="1496880"/>
          </a:xfrm>
        </p:grpSpPr>
        <p:sp>
          <p:nvSpPr>
            <p:cNvPr id="1138" name=""/>
            <p:cNvSpPr/>
            <p:nvPr/>
          </p:nvSpPr>
          <p:spPr>
            <a:xfrm>
              <a:off x="152280" y="27716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280" y="39002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280" y="35240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280" y="314784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533520" y="2514600"/>
            <a:ext cx="3838320" cy="1752480"/>
            <a:chOff x="533520" y="2514600"/>
            <a:chExt cx="3838320" cy="1752480"/>
          </a:xfrm>
        </p:grpSpPr>
        <p:sp>
          <p:nvSpPr>
            <p:cNvPr id="1143" name=""/>
            <p:cNvSpPr/>
            <p:nvPr/>
          </p:nvSpPr>
          <p:spPr>
            <a:xfrm>
              <a:off x="83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050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41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733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46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097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14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78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352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352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52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352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201120" y="4343400"/>
            <a:ext cx="142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U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99680" y="539424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9680" y="57754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To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9320" y="50292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sSource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280" y="50292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trix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4820040" y="774360"/>
            <a:ext cx="2585520" cy="1534680"/>
            <a:chOff x="4820040" y="774360"/>
            <a:chExt cx="2585520" cy="1534680"/>
          </a:xfrm>
        </p:grpSpPr>
        <p:sp>
          <p:nvSpPr>
            <p:cNvPr id="1161" name=""/>
            <p:cNvSpPr/>
            <p:nvPr/>
          </p:nvSpPr>
          <p:spPr>
            <a:xfrm rot="18171000">
              <a:off x="5170320" y="14900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18171000">
              <a:off x="6027840" y="134208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8171000">
              <a:off x="5544720" y="13582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8198600">
              <a:off x="4661640" y="13971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UT2_V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862520" y="2117880"/>
            <a:ext cx="3884400" cy="398880"/>
            <a:chOff x="4862520" y="2117880"/>
            <a:chExt cx="3884400" cy="398880"/>
          </a:xfrm>
        </p:grpSpPr>
        <p:sp>
          <p:nvSpPr>
            <p:cNvPr id="1166" name=""/>
            <p:cNvSpPr/>
            <p:nvPr/>
          </p:nvSpPr>
          <p:spPr>
            <a:xfrm>
              <a:off x="48625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22124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33760" y="2117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9096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7696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86720" y="211788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756120" y="21178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164440" y="211788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4800600" y="2514600"/>
            <a:ext cx="3838320" cy="1752480"/>
            <a:chOff x="4800600" y="2514600"/>
            <a:chExt cx="3838320" cy="1752480"/>
          </a:xfrm>
        </p:grpSpPr>
        <p:sp>
          <p:nvSpPr>
            <p:cNvPr id="1175" name=""/>
            <p:cNvSpPr/>
            <p:nvPr/>
          </p:nvSpPr>
          <p:spPr>
            <a:xfrm>
              <a:off x="510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720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08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4044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1352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7680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8188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5160" y="2514600"/>
              <a:ext cx="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00600" y="335268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00600" y="2971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00600" y="373356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00600" y="4114440"/>
              <a:ext cx="38383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52280" y="4343400"/>
            <a:ext cx="161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IVI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ri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3120" y="4343400"/>
            <a:ext cx="22161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db906"/>
                </a:solidFill>
                <a:uFillTx/>
                <a:latin typeface="Arial"/>
                <a:ea typeface="Times New Roman"/>
              </a:rPr>
              <a:t>Rout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343400" y="2820240"/>
            <a:ext cx="3505680" cy="3020760"/>
            <a:chOff x="4343400" y="2820240"/>
            <a:chExt cx="3505680" cy="3020760"/>
          </a:xfrm>
        </p:grpSpPr>
        <p:grpSp>
          <p:nvGrpSpPr>
            <p:cNvPr id="1190" name=""/>
            <p:cNvGrpSpPr/>
            <p:nvPr/>
          </p:nvGrpSpPr>
          <p:grpSpPr>
            <a:xfrm>
              <a:off x="4343400" y="2820240"/>
              <a:ext cx="466200" cy="1459080"/>
              <a:chOff x="4343400" y="2820240"/>
              <a:chExt cx="466200" cy="14590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4343400" y="2820240"/>
                <a:ext cx="466200" cy="313560"/>
                <a:chOff x="4343400" y="2820240"/>
                <a:chExt cx="466200" cy="313560"/>
              </a:xfrm>
            </p:grpSpPr>
            <p:sp>
              <p:nvSpPr>
                <p:cNvPr id="1192" name=""/>
                <p:cNvSpPr/>
                <p:nvPr/>
              </p:nvSpPr>
              <p:spPr>
                <a:xfrm rot="16200000">
                  <a:off x="4454280" y="27784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rot="16200000">
                  <a:off x="4453920" y="2709720"/>
                  <a:ext cx="24516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4343400" y="3205800"/>
                <a:ext cx="466200" cy="313200"/>
                <a:chOff x="4343400" y="3205800"/>
                <a:chExt cx="466200" cy="313200"/>
              </a:xfrm>
            </p:grpSpPr>
            <p:sp>
              <p:nvSpPr>
                <p:cNvPr id="1195" name=""/>
                <p:cNvSpPr/>
                <p:nvPr/>
              </p:nvSpPr>
              <p:spPr>
                <a:xfrm rot="16200000">
                  <a:off x="4454280" y="31636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16200000">
                  <a:off x="4454280" y="309456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4343400" y="3585240"/>
                <a:ext cx="466200" cy="313200"/>
                <a:chOff x="4343400" y="3585240"/>
                <a:chExt cx="466200" cy="313200"/>
              </a:xfrm>
            </p:grpSpPr>
            <p:sp>
              <p:nvSpPr>
                <p:cNvPr id="1198" name=""/>
                <p:cNvSpPr/>
                <p:nvPr/>
              </p:nvSpPr>
              <p:spPr>
                <a:xfrm rot="16200000">
                  <a:off x="4454280" y="354312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16200000">
                  <a:off x="4454280" y="347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343400" y="3966120"/>
                <a:ext cx="466200" cy="313200"/>
                <a:chOff x="4343400" y="3966120"/>
                <a:chExt cx="466200" cy="313200"/>
              </a:xfrm>
            </p:grpSpPr>
            <p:sp>
              <p:nvSpPr>
                <p:cNvPr id="1201" name=""/>
                <p:cNvSpPr/>
                <p:nvPr/>
              </p:nvSpPr>
              <p:spPr>
                <a:xfrm rot="16200000">
                  <a:off x="4454280" y="392400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16200000">
                  <a:off x="4454280" y="3854880"/>
                  <a:ext cx="244080" cy="46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204" y="8"/>
                      </a:moveTo>
                      <a:arcTo wR="10800" hR="10800" stAng="-5271449" swAng="105446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204" y="8"/>
                      </a:moveTo>
                      <a:arcTo wR="10800" hR="10800" stAng="-5271449" swAng="10544697"/>
                    </a:path>
                  </a:pathLst>
                </a:custGeom>
                <a:noFill/>
                <a:ln w="38160">
                  <a:solidFill>
                    <a:srgbClr val="8e58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3" name=""/>
            <p:cNvSpPr/>
            <p:nvPr/>
          </p:nvSpPr>
          <p:spPr>
            <a:xfrm>
              <a:off x="6436800" y="5442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Hardwi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198160" y="2519280"/>
            <a:ext cx="2979720" cy="452520"/>
            <a:chOff x="2198160" y="2519280"/>
            <a:chExt cx="2979720" cy="452520"/>
          </a:xfrm>
        </p:grpSpPr>
        <p:sp>
          <p:nvSpPr>
            <p:cNvPr id="1205" name=""/>
            <p:cNvSpPr/>
            <p:nvPr/>
          </p:nvSpPr>
          <p:spPr>
            <a:xfrm>
              <a:off x="22413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198160" y="2968560"/>
              <a:ext cx="2979720" cy="324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15960" y="2519280"/>
              <a:ext cx="11160" cy="452520"/>
            </a:xfrm>
            <a:prstGeom prst="line">
              <a:avLst/>
            </a:prstGeom>
            <a:ln w="1015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76160" y="2514600"/>
            <a:ext cx="5332320" cy="822240"/>
            <a:chOff x="776160" y="2514600"/>
            <a:chExt cx="5332320" cy="822240"/>
          </a:xfrm>
        </p:grpSpPr>
        <p:sp>
          <p:nvSpPr>
            <p:cNvPr id="1209" name=""/>
            <p:cNvSpPr/>
            <p:nvPr/>
          </p:nvSpPr>
          <p:spPr>
            <a:xfrm flipH="1">
              <a:off x="776160" y="3336840"/>
              <a:ext cx="533232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3592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46560" y="2514600"/>
              <a:ext cx="0" cy="82224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278000" y="2514600"/>
            <a:ext cx="4327200" cy="1276200"/>
            <a:chOff x="1278000" y="2514600"/>
            <a:chExt cx="4327200" cy="1276200"/>
          </a:xfrm>
        </p:grpSpPr>
        <p:sp>
          <p:nvSpPr>
            <p:cNvPr id="1213" name=""/>
            <p:cNvSpPr/>
            <p:nvPr/>
          </p:nvSpPr>
          <p:spPr>
            <a:xfrm>
              <a:off x="130680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278000" y="3736800"/>
              <a:ext cx="4327200" cy="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99080" y="2514600"/>
              <a:ext cx="2880" cy="1276200"/>
            </a:xfrm>
            <a:prstGeom prst="line">
              <a:avLst/>
            </a:prstGeom>
            <a:ln w="101520">
              <a:solidFill>
                <a:srgbClr val="b8ba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1709280" y="2514600"/>
            <a:ext cx="4903560" cy="1600200"/>
            <a:chOff x="1709280" y="2514600"/>
            <a:chExt cx="4903560" cy="1600200"/>
          </a:xfrm>
        </p:grpSpPr>
        <p:sp>
          <p:nvSpPr>
            <p:cNvPr id="1217" name=""/>
            <p:cNvSpPr/>
            <p:nvPr/>
          </p:nvSpPr>
          <p:spPr>
            <a:xfrm>
              <a:off x="17665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58120" y="2514600"/>
              <a:ext cx="3600" cy="160020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1709280" y="4114800"/>
              <a:ext cx="4903560" cy="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437160" y="50292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qRespTe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4760" y="2209680"/>
            <a:ext cx="8345520" cy="3182760"/>
            <a:chOff x="104760" y="2209680"/>
            <a:chExt cx="8345520" cy="3182760"/>
          </a:xfrm>
        </p:grpSpPr>
        <p:sp>
          <p:nvSpPr>
            <p:cNvPr id="1222" name=""/>
            <p:cNvSpPr/>
            <p:nvPr/>
          </p:nvSpPr>
          <p:spPr>
            <a:xfrm>
              <a:off x="6477120" y="5049720"/>
              <a:ext cx="1973160" cy="34272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12953"/>
                <a:gd name="adj5" fmla="val -225462"/>
                <a:gd name="adj6" fmla="val -58407"/>
              </a:avLst>
            </a:prstGeom>
            <a:noFill/>
            <a:ln w="38160">
              <a:solidFill>
                <a:srgbClr val="edb90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4760" y="2209680"/>
              <a:ext cx="7116840" cy="2077920"/>
            </a:xfrm>
            <a:prstGeom prst="ellipse">
              <a:avLst/>
            </a:prstGeom>
            <a:noFill/>
            <a:ln w="28440">
              <a:solidFill>
                <a:srgbClr val="edb9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136440" y="894960"/>
            <a:ext cx="4850280" cy="4974480"/>
            <a:chOff x="136440" y="894960"/>
            <a:chExt cx="4850280" cy="4974480"/>
          </a:xfrm>
        </p:grpSpPr>
        <p:grpSp>
          <p:nvGrpSpPr>
            <p:cNvPr id="1225" name=""/>
            <p:cNvGrpSpPr/>
            <p:nvPr/>
          </p:nvGrpSpPr>
          <p:grpSpPr>
            <a:xfrm>
              <a:off x="543240" y="894960"/>
              <a:ext cx="4443480" cy="1415520"/>
              <a:chOff x="543240" y="894960"/>
              <a:chExt cx="4443480" cy="1415520"/>
            </a:xfrm>
          </p:grpSpPr>
          <p:sp>
            <p:nvSpPr>
              <p:cNvPr id="1226" name=""/>
              <p:cNvSpPr/>
              <p:nvPr/>
            </p:nvSpPr>
            <p:spPr>
              <a:xfrm rot="18171000">
                <a:off x="2859840" y="1550880"/>
                <a:ext cx="10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8171000">
                <a:off x="3718080" y="1403280"/>
                <a:ext cx="14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8171000">
                <a:off x="3234240" y="1419120"/>
                <a:ext cx="138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18198600">
                <a:off x="2350080" y="1456560"/>
                <a:ext cx="129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UT_V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8198600">
                <a:off x="1849320" y="1451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CPow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8171000">
                <a:off x="1425960" y="1603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8171000">
                <a:off x="930240" y="15624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8198600">
                <a:off x="532080" y="167076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M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136440" y="5470560"/>
              <a:ext cx="257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edb906"/>
                  </a:solidFill>
                  <a:uFillTx/>
                  <a:latin typeface="Arial"/>
                  <a:ea typeface="Times New Roman"/>
                </a:rPr>
                <a:t>Named 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TestStand : "les faits"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69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s grands noms du test lui font confianc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lcatel, Philips, Thales, Mitsubishi, Nokia, Magneti Marell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uit des dix premières entreprises du monde de l’électronique utilisent TestSt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6324480" y="3276720"/>
          <a:ext cx="2428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276720"/>
                    <a:ext cx="2428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rchitecture de test modulair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987800"/>
            <a:ext cx="15224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0280" y="4089240"/>
            <a:ext cx="1520640" cy="622440"/>
          </a:xfrm>
          <a:prstGeom prst="ellipse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923800">
            <a:off x="1664640" y="3848040"/>
            <a:ext cx="13824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197080"/>
            <a:ext cx="168120" cy="210024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604200">
            <a:off x="3116880" y="3842280"/>
            <a:ext cx="139680" cy="1865160"/>
          </a:xfrm>
          <a:prstGeom prst="rect">
            <a:avLst/>
          </a:prstGeom>
          <a:solidFill>
            <a:srgbClr val="5c8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8160" y="3716280"/>
            <a:ext cx="1132200" cy="113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44800" y="46432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38160" y="4516560"/>
            <a:ext cx="1106640" cy="110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73120" y="3222720"/>
            <a:ext cx="1925640" cy="56520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1680" y="2414520"/>
            <a:ext cx="1927080" cy="7095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2589840"/>
            <a:ext cx="1828800" cy="32256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91200" y="18673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3120" y="1200240"/>
            <a:ext cx="1927440" cy="1085760"/>
          </a:xfrm>
          <a:prstGeom prst="roundRect">
            <a:avLst>
              <a:gd name="adj" fmla="val 16667"/>
            </a:avLst>
          </a:prstGeom>
          <a:solidFill>
            <a:srgbClr val="a8adb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94000" y="1307880"/>
            <a:ext cx="1857240" cy="916920"/>
          </a:xfrm>
          <a:prstGeom prst="rect">
            <a:avLst/>
          </a:prstGeom>
          <a:solidFill>
            <a:srgbClr val="a8a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38200" y="3222720"/>
            <a:ext cx="1998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ement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4038480"/>
            <a:ext cx="5033880" cy="1822320"/>
            <a:chOff x="3581280" y="4038480"/>
            <a:chExt cx="5033880" cy="1822320"/>
          </a:xfrm>
        </p:grpSpPr>
        <p:sp>
          <p:nvSpPr>
            <p:cNvPr id="129" name=""/>
            <p:cNvSpPr/>
            <p:nvPr/>
          </p:nvSpPr>
          <p:spPr>
            <a:xfrm>
              <a:off x="7101720" y="4114440"/>
              <a:ext cx="1513440" cy="83196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Unit Und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e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32200" y="4038480"/>
              <a:ext cx="1303560" cy="1176120"/>
            </a:xfrm>
            <a:prstGeom prst="rect">
              <a:avLst/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796280" y="4093920"/>
              <a:ext cx="1173600" cy="1066680"/>
              <a:chOff x="4796280" y="4093920"/>
              <a:chExt cx="1173600" cy="1066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796280" y="4271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96280" y="444924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6280" y="462708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96280" y="480492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96280" y="4982760"/>
                <a:ext cx="117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6368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144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992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6660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3436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02120" y="409392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616640" y="5200200"/>
              <a:ext cx="1525320" cy="660600"/>
            </a:xfrm>
            <a:prstGeom prst="roundRect">
              <a:avLst>
                <a:gd name="adj" fmla="val 16667"/>
              </a:avLst>
            </a:prstGeom>
            <a:solidFill>
              <a:srgbClr val="f2ed7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wit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7880" y="4343040"/>
              <a:ext cx="790200" cy="381240"/>
            </a:xfrm>
            <a:prstGeom prst="leftRightArrow">
              <a:avLst>
                <a:gd name="adj1" fmla="val 50000"/>
                <a:gd name="adj2" fmla="val 41262"/>
              </a:avLst>
            </a:prstGeom>
            <a:solidFill>
              <a:srgbClr val="afb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22400" y="974880"/>
            <a:ext cx="2819520" cy="1523880"/>
          </a:xfrm>
          <a:prstGeom prst="ellipse">
            <a:avLst/>
          </a:prstGeom>
          <a:noFill/>
          <a:ln w="57240">
            <a:solidFill>
              <a:srgbClr val="8e58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6480" y="3276720"/>
            <a:ext cx="268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Bibliothèques d’E/S modul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GPIB, DAQ, PXI, VXI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4240" y="2286000"/>
            <a:ext cx="2451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Programmes d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(LabVIEW, LabWindows/CV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Narrow"/>
              </a:rPr>
              <a:t>Measurement Studio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251460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276720"/>
            <a:ext cx="782640" cy="380880"/>
          </a:xfrm>
          <a:prstGeom prst="leftRightArrow">
            <a:avLst>
              <a:gd name="adj1" fmla="val 50000"/>
              <a:gd name="adj2" fmla="val 40906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523880"/>
            <a:ext cx="782640" cy="381240"/>
          </a:xfrm>
          <a:prstGeom prst="leftRightArrow">
            <a:avLst>
              <a:gd name="adj1" fmla="val 50000"/>
              <a:gd name="adj2" fmla="val 40868"/>
            </a:avLst>
          </a:prstGeom>
          <a:solidFill>
            <a:srgbClr val="afb5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1143000"/>
            <a:ext cx="3251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124080" cy="792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stStand : les clients par industri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élécommun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 de téléphones mobiles et stations de bas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nasonic, GB : test de téléphone GSM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orola : test de station de base avec LabVIEW et TestStan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litaire/avioniq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ckheed Martin Electronics and Missil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rthrup-Grumm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E Systems, HoneyWell, GoodRich(TRW)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ob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d/Visteon a standardisé au niveau mondial pour tout le test en prod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égrateur d’A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Tx, GenRad, ITE, ManTech, Alfautomazione, MindReady, B&amp;B.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Xenium%20GSM%20phone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560600" cy="426708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272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: test de téléphones cellulair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5105160" y="49528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5105160" y="3429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57440" y="2057400"/>
            <a:ext cx="114300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3048120" y="2133720"/>
            <a:ext cx="129528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2819520" y="3962160"/>
            <a:ext cx="1218960" cy="22860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895480" y="5181480"/>
            <a:ext cx="1447920" cy="0"/>
          </a:xfrm>
          <a:prstGeom prst="line">
            <a:avLst/>
          </a:prstGeom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66400" y="1595520"/>
            <a:ext cx="2771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64800" y="3311640"/>
            <a:ext cx="2251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58720" y="4683240"/>
            <a:ext cx="214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095880" y="2362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207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200200" y="1498680"/>
            <a:ext cx="353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alyse de signaux R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152760" y="2870280"/>
            <a:ext cx="1934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 d’éc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2640" y="4470480"/>
            <a:ext cx="2257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18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t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carDVD" descr=""/>
          <p:cNvPicPr/>
          <p:nvPr/>
        </p:nvPicPr>
        <p:blipFill>
          <a:blip r:embed="rId1"/>
          <a:stretch/>
        </p:blipFill>
        <p:spPr>
          <a:xfrm>
            <a:off x="2157480" y="2397240"/>
            <a:ext cx="4370400" cy="2368440"/>
          </a:xfrm>
          <a:prstGeom prst="rect">
            <a:avLst/>
          </a:prstGeom>
          <a:ln w="0">
            <a:noFill/>
          </a:ln>
        </p:spPr>
      </p:pic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80520" y="223920"/>
            <a:ext cx="8533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emple d’application : test de lecteur DVD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2057400" y="2133720"/>
            <a:ext cx="129528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21640" y="1701720"/>
            <a:ext cx="207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</a:t>
            </a: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ou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5333760" y="2057400"/>
            <a:ext cx="106668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1676520"/>
            <a:ext cx="2362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al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752480" y="4419720"/>
            <a:ext cx="685800" cy="45720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9600" y="4724280"/>
            <a:ext cx="1929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ité du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429000" y="4266720"/>
            <a:ext cx="152280" cy="76212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62800" y="4876920"/>
            <a:ext cx="2375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u lecteur de d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cture/Écr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35120" y="5051520"/>
            <a:ext cx="1678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lectro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5029200" y="4572000"/>
            <a:ext cx="457200" cy="380880"/>
          </a:xfrm>
          <a:prstGeom prst="line">
            <a:avLst/>
          </a:prstGeom>
          <a:ln cap="rnd" w="12600">
            <a:solidFill>
              <a:srgbClr val="5c8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TestStand est un séquenceur de test prêt-à-l’emploi, entièrement personnalisable qui intègre une architecture de test modulaire pour développer, faire évoluer, et maintenir les systèmes de test automatiques en R&amp;D, Validation et Produc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3808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914400" y="3781440"/>
          <a:ext cx="17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81440"/>
                    <a:ext cx="17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2514600" y="40100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TestSta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n savoir plu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4" name=""/>
          <p:cNvSpPr/>
          <p:nvPr/>
        </p:nvSpPr>
        <p:spPr>
          <a:xfrm>
            <a:off x="304920" y="1143000"/>
            <a:ext cx="883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ni.com/teststand et ni.com/switchexecu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D d’é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Télécharger des solutions utilisateurs et document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 Developer Zone (ni.com/z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Instrument Driver Network (ni.com/id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Articles techniques et notes d’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21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Exemples de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ni.com/france/test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j0217294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8464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Arial Narrow"/>
              </a:rPr>
              <a:t>Des questions 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562800" y="963720"/>
            <a:ext cx="2461320" cy="5146200"/>
            <a:chOff x="6562800" y="963720"/>
            <a:chExt cx="2461320" cy="5146200"/>
          </a:xfrm>
        </p:grpSpPr>
        <p:grpSp>
          <p:nvGrpSpPr>
            <p:cNvPr id="155" name=""/>
            <p:cNvGrpSpPr/>
            <p:nvPr/>
          </p:nvGrpSpPr>
          <p:grpSpPr>
            <a:xfrm>
              <a:off x="6754680" y="963720"/>
              <a:ext cx="2269440" cy="5146200"/>
              <a:chOff x="6754680" y="963720"/>
              <a:chExt cx="2269440" cy="51462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754680" y="963720"/>
                <a:ext cx="2269440" cy="5146200"/>
                <a:chOff x="6754680" y="963720"/>
                <a:chExt cx="2269440" cy="5146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754680" y="963720"/>
                  <a:ext cx="2183040" cy="5146200"/>
                </a:xfrm>
                <a:prstGeom prst="rect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8" name="" descr=""/>
                <p:cNvPicPr/>
                <p:nvPr/>
              </p:nvPicPr>
              <p:blipFill>
                <a:blip r:embed="rId1"/>
                <a:stretch/>
              </p:blipFill>
              <p:spPr>
                <a:xfrm rot="21171000">
                  <a:off x="7569360" y="1260000"/>
                  <a:ext cx="1166760" cy="470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26320" y="1425960"/>
                  <a:ext cx="857160" cy="45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6858000" y="5928840"/>
                  <a:ext cx="870120" cy="0"/>
                </a:xfrm>
                <a:prstGeom prst="line">
                  <a:avLst/>
                </a:prstGeom>
                <a:ln cap="rnd"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H="1">
                <a:off x="6827400" y="5934240"/>
                <a:ext cx="885960" cy="0"/>
              </a:xfrm>
              <a:prstGeom prst="line">
                <a:avLst/>
              </a:prstGeom>
              <a:ln cap="rnd" w="22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157880" y="4340520"/>
              <a:ext cx="309600" cy="384120"/>
            </a:xfrm>
            <a:prstGeom prst="rect">
              <a:avLst/>
            </a:prstGeom>
            <a:solidFill>
              <a:srgbClr val="697033"/>
            </a:solidFill>
            <a:ln cap="rnd" w="12600">
              <a:solidFill>
                <a:srgbClr val="697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84960" y="3751560"/>
              <a:ext cx="281160" cy="161640"/>
            </a:xfrm>
            <a:prstGeom prst="rect">
              <a:avLst/>
            </a:prstGeom>
            <a:solidFill>
              <a:srgbClr val="55a3a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562800" y="4008240"/>
              <a:ext cx="931680" cy="19080"/>
            </a:xfrm>
            <a:prstGeom prst="line">
              <a:avLst/>
            </a:prstGeom>
            <a:ln cap="rnd" w="38160">
              <a:solidFill>
                <a:srgbClr val="8e58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7200" y="2792520"/>
              <a:ext cx="88920" cy="295200"/>
            </a:xfrm>
            <a:prstGeom prst="rect">
              <a:avLst/>
            </a:prstGeom>
            <a:solidFill>
              <a:srgbClr val="dd8a2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3880" y="5137200"/>
              <a:ext cx="103320" cy="192240"/>
            </a:xfrm>
            <a:prstGeom prst="ellipse">
              <a:avLst/>
            </a:prstGeom>
            <a:solidFill>
              <a:srgbClr val="fcf305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4120" y="3191040"/>
              <a:ext cx="117360" cy="162000"/>
            </a:xfrm>
            <a:prstGeom prst="ellipse">
              <a:avLst/>
            </a:prstGeom>
            <a:solidFill>
              <a:srgbClr val="c6c6c6"/>
            </a:solidFill>
            <a:ln cap="rnd" w="1260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04120" y="2513160"/>
              <a:ext cx="133200" cy="220680"/>
            </a:xfrm>
            <a:prstGeom prst="ellipse">
              <a:avLst/>
            </a:prstGeom>
            <a:solidFill>
              <a:srgbClr val="69a75b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0640" y="1737000"/>
              <a:ext cx="133560" cy="220680"/>
            </a:xfrm>
            <a:prstGeom prst="ellipse">
              <a:avLst/>
            </a:prstGeom>
            <a:solidFill>
              <a:srgbClr val="fa1f08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105160" y="525780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82880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èm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05960" y="130032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élémét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8840" y="42670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o-com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8840" y="3886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4440" y="472428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ôle mo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4382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é de pu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1440" y="3429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ge 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360" y="297180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80120" y="5486400"/>
            <a:ext cx="1193760" cy="133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32400" y="4995720"/>
            <a:ext cx="1136880" cy="144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145200" y="3349440"/>
            <a:ext cx="1138320" cy="2682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494400" y="3020760"/>
            <a:ext cx="857160" cy="1206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84800" y="4519440"/>
            <a:ext cx="1049400" cy="1296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56240" y="2625480"/>
            <a:ext cx="976320" cy="9180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0600" y="2119320"/>
            <a:ext cx="1035000" cy="8424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59680" y="1519200"/>
            <a:ext cx="1123920" cy="142920"/>
          </a:xfrm>
          <a:prstGeom prst="line">
            <a:avLst/>
          </a:prstGeom>
          <a:ln cap="rnd" w="38160">
            <a:solidFill>
              <a:srgbClr val="8e58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Un exemple : test de missil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pe02002_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346392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025640"/>
            <a:ext cx="4421160" cy="5408280"/>
            <a:chOff x="0" y="1025640"/>
            <a:chExt cx="4421160" cy="5408280"/>
          </a:xfrm>
        </p:grpSpPr>
        <p:grpSp>
          <p:nvGrpSpPr>
            <p:cNvPr id="190" name=""/>
            <p:cNvGrpSpPr/>
            <p:nvPr/>
          </p:nvGrpSpPr>
          <p:grpSpPr>
            <a:xfrm>
              <a:off x="219240" y="1025640"/>
              <a:ext cx="4201920" cy="2895120"/>
              <a:chOff x="219240" y="1025640"/>
              <a:chExt cx="4201920" cy="28951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135080" y="1025640"/>
                <a:ext cx="2369880" cy="668520"/>
                <a:chOff x="1135080" y="1025640"/>
                <a:chExt cx="2369880" cy="66852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1135080" y="1025640"/>
                <a:ext cx="583200" cy="668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35080" y="1025640"/>
                          <a:ext cx="583200" cy="66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94" name=""/>
                <p:cNvSpPr/>
                <p:nvPr/>
              </p:nvSpPr>
              <p:spPr>
                <a:xfrm>
                  <a:off x="1658880" y="1119240"/>
                  <a:ext cx="1846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Arial Black"/>
                    </a:rPr>
                    <a:t>TestStan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95" name=""/>
              <p:cNvGraphicFramePr/>
              <p:nvPr/>
            </p:nvGraphicFramePr>
            <p:xfrm>
              <a:off x="219240" y="1610640"/>
              <a:ext cx="4201920" cy="2310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9240" y="1610640"/>
                        <a:ext cx="4201920" cy="231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" name=""/>
            <p:cNvGrpSpPr/>
            <p:nvPr/>
          </p:nvGrpSpPr>
          <p:grpSpPr>
            <a:xfrm>
              <a:off x="0" y="4978440"/>
              <a:ext cx="3268440" cy="1455480"/>
              <a:chOff x="0" y="4978440"/>
              <a:chExt cx="3268440" cy="1455480"/>
            </a:xfrm>
          </p:grpSpPr>
          <p:sp>
            <p:nvSpPr>
              <p:cNvPr id="198" name=""/>
              <p:cNvSpPr/>
              <p:nvPr/>
            </p:nvSpPr>
            <p:spPr>
              <a:xfrm>
                <a:off x="39240" y="5207400"/>
                <a:ext cx="192600" cy="1167120"/>
              </a:xfrm>
              <a:custGeom>
                <a:avLst/>
                <a:gdLst/>
                <a:ahLst/>
                <a:rect l="l" t="t" r="r" b="b"/>
                <a:pathLst>
                  <a:path w="62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1" y="528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31" y="404"/>
                    </a:lnTo>
                    <a:lnTo>
                      <a:pt x="26" y="404"/>
                    </a:lnTo>
                    <a:lnTo>
                      <a:pt x="25" y="403"/>
                    </a:lnTo>
                    <a:lnTo>
                      <a:pt x="23" y="403"/>
                    </a:lnTo>
                    <a:lnTo>
                      <a:pt x="23" y="403"/>
                    </a:lnTo>
                    <a:lnTo>
                      <a:pt x="22" y="403"/>
                    </a:lnTo>
                    <a:lnTo>
                      <a:pt x="22" y="403"/>
                    </a:lnTo>
                    <a:lnTo>
                      <a:pt x="21" y="402"/>
                    </a:lnTo>
                    <a:lnTo>
                      <a:pt x="21" y="402"/>
                    </a:lnTo>
                    <a:lnTo>
                      <a:pt x="20" y="402"/>
                    </a:lnTo>
                    <a:lnTo>
                      <a:pt x="20" y="401"/>
                    </a:lnTo>
                    <a:lnTo>
                      <a:pt x="19" y="401"/>
                    </a:lnTo>
                    <a:lnTo>
                      <a:pt x="19" y="400"/>
                    </a:lnTo>
                    <a:lnTo>
                      <a:pt x="19" y="400"/>
                    </a:lnTo>
                    <a:lnTo>
                      <a:pt x="19" y="399"/>
                    </a:lnTo>
                    <a:lnTo>
                      <a:pt x="19" y="398"/>
                    </a:lnTo>
                    <a:lnTo>
                      <a:pt x="19" y="398"/>
                    </a:lnTo>
                    <a:lnTo>
                      <a:pt x="19" y="397"/>
                    </a:lnTo>
                    <a:lnTo>
                      <a:pt x="19" y="396"/>
                    </a:lnTo>
                    <a:lnTo>
                      <a:pt x="19" y="395"/>
                    </a:lnTo>
                    <a:lnTo>
                      <a:pt x="19" y="395"/>
                    </a:lnTo>
                    <a:lnTo>
                      <a:pt x="19" y="394"/>
                    </a:lnTo>
                    <a:lnTo>
                      <a:pt x="19" y="393"/>
                    </a:lnTo>
                    <a:lnTo>
                      <a:pt x="19" y="393"/>
                    </a:lnTo>
                    <a:lnTo>
                      <a:pt x="20" y="392"/>
                    </a:lnTo>
                    <a:lnTo>
                      <a:pt x="20" y="392"/>
                    </a:lnTo>
                    <a:lnTo>
                      <a:pt x="21" y="392"/>
                    </a:lnTo>
                    <a:lnTo>
                      <a:pt x="21" y="391"/>
                    </a:lnTo>
                    <a:lnTo>
                      <a:pt x="22" y="391"/>
                    </a:lnTo>
                    <a:lnTo>
                      <a:pt x="22" y="390"/>
                    </a:lnTo>
                    <a:lnTo>
                      <a:pt x="23" y="390"/>
                    </a:lnTo>
                    <a:lnTo>
                      <a:pt x="23" y="390"/>
                    </a:lnTo>
                    <a:lnTo>
                      <a:pt x="25" y="390"/>
                    </a:lnTo>
                    <a:lnTo>
                      <a:pt x="26" y="390"/>
                    </a:lnTo>
                    <a:lnTo>
                      <a:pt x="31" y="390"/>
                    </a:lnTo>
                    <a:lnTo>
                      <a:pt x="31" y="390"/>
                    </a:lnTo>
                    <a:lnTo>
                      <a:pt x="32" y="390"/>
                    </a:lnTo>
                    <a:lnTo>
                      <a:pt x="32" y="390"/>
                    </a:lnTo>
                    <a:lnTo>
                      <a:pt x="33" y="390"/>
                    </a:lnTo>
                    <a:lnTo>
                      <a:pt x="34" y="391"/>
                    </a:lnTo>
                    <a:lnTo>
                      <a:pt x="34" y="391"/>
                    </a:lnTo>
                    <a:lnTo>
                      <a:pt x="34" y="392"/>
                    </a:lnTo>
                    <a:lnTo>
                      <a:pt x="35" y="392"/>
                    </a:lnTo>
                    <a:lnTo>
                      <a:pt x="35" y="392"/>
                    </a:lnTo>
                    <a:lnTo>
                      <a:pt x="37" y="393"/>
                    </a:lnTo>
                    <a:lnTo>
                      <a:pt x="37" y="393"/>
                    </a:lnTo>
                    <a:lnTo>
                      <a:pt x="37" y="394"/>
                    </a:lnTo>
                    <a:lnTo>
                      <a:pt x="37" y="395"/>
                    </a:lnTo>
                    <a:lnTo>
                      <a:pt x="37" y="395"/>
                    </a:lnTo>
                    <a:lnTo>
                      <a:pt x="37" y="396"/>
                    </a:lnTo>
                    <a:lnTo>
                      <a:pt x="38" y="397"/>
                    </a:lnTo>
                    <a:lnTo>
                      <a:pt x="37" y="398"/>
                    </a:lnTo>
                    <a:lnTo>
                      <a:pt x="37" y="398"/>
                    </a:lnTo>
                    <a:lnTo>
                      <a:pt x="37" y="399"/>
                    </a:lnTo>
                    <a:lnTo>
                      <a:pt x="37" y="400"/>
                    </a:lnTo>
                    <a:lnTo>
                      <a:pt x="37" y="400"/>
                    </a:lnTo>
                    <a:lnTo>
                      <a:pt x="37" y="401"/>
                    </a:lnTo>
                    <a:lnTo>
                      <a:pt x="35" y="401"/>
                    </a:lnTo>
                    <a:lnTo>
                      <a:pt x="35" y="402"/>
                    </a:lnTo>
                    <a:lnTo>
                      <a:pt x="34" y="402"/>
                    </a:lnTo>
                    <a:lnTo>
                      <a:pt x="34" y="402"/>
                    </a:lnTo>
                    <a:lnTo>
                      <a:pt x="34" y="403"/>
                    </a:lnTo>
                    <a:lnTo>
                      <a:pt x="33" y="403"/>
                    </a:lnTo>
                    <a:lnTo>
                      <a:pt x="32" y="403"/>
                    </a:lnTo>
                    <a:lnTo>
                      <a:pt x="32" y="403"/>
                    </a:lnTo>
                    <a:lnTo>
                      <a:pt x="31" y="403"/>
                    </a:lnTo>
                    <a:lnTo>
                      <a:pt x="31" y="404"/>
                    </a:lnTo>
                    <a:lnTo>
                      <a:pt x="31" y="114"/>
                    </a:lnTo>
                    <a:lnTo>
                      <a:pt x="26" y="114"/>
                    </a:lnTo>
                    <a:lnTo>
                      <a:pt x="25" y="113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2" y="113"/>
                    </a:lnTo>
                    <a:lnTo>
                      <a:pt x="22" y="113"/>
                    </a:lnTo>
                    <a:lnTo>
                      <a:pt x="21" y="112"/>
                    </a:lnTo>
                    <a:lnTo>
                      <a:pt x="21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09"/>
                    </a:lnTo>
                    <a:lnTo>
                      <a:pt x="19" y="108"/>
                    </a:lnTo>
                    <a:lnTo>
                      <a:pt x="19" y="108"/>
                    </a:lnTo>
                    <a:lnTo>
                      <a:pt x="19" y="107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5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5" y="100"/>
                    </a:lnTo>
                    <a:lnTo>
                      <a:pt x="26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33" y="100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1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5"/>
                    </a:lnTo>
                    <a:lnTo>
                      <a:pt x="37" y="106"/>
                    </a:lnTo>
                    <a:lnTo>
                      <a:pt x="38" y="106"/>
                    </a:lnTo>
                    <a:lnTo>
                      <a:pt x="37" y="107"/>
                    </a:lnTo>
                    <a:lnTo>
                      <a:pt x="37" y="108"/>
                    </a:lnTo>
                    <a:lnTo>
                      <a:pt x="37" y="108"/>
                    </a:lnTo>
                    <a:lnTo>
                      <a:pt x="37" y="109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5" y="111"/>
                    </a:lnTo>
                    <a:lnTo>
                      <a:pt x="35" y="111"/>
                    </a:lnTo>
                    <a:lnTo>
                      <a:pt x="34" y="112"/>
                    </a:lnTo>
                    <a:lnTo>
                      <a:pt x="34" y="112"/>
                    </a:lnTo>
                    <a:lnTo>
                      <a:pt x="34" y="113"/>
                    </a:lnTo>
                    <a:lnTo>
                      <a:pt x="33" y="113"/>
                    </a:lnTo>
                    <a:lnTo>
                      <a:pt x="32" y="113"/>
                    </a:lnTo>
                    <a:lnTo>
                      <a:pt x="32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70440" y="5207400"/>
                <a:ext cx="198000" cy="1167120"/>
              </a:xfrm>
              <a:custGeom>
                <a:avLst/>
                <a:gdLst/>
                <a:ahLst/>
                <a:rect l="l" t="t" r="r" b="b"/>
                <a:pathLst>
                  <a:path w="64" h="529">
                    <a:moveTo>
                      <a:pt x="0" y="0"/>
                    </a:moveTo>
                    <a:lnTo>
                      <a:pt x="0" y="528"/>
                    </a:lnTo>
                    <a:lnTo>
                      <a:pt x="63" y="5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36" y="404"/>
                    </a:lnTo>
                    <a:lnTo>
                      <a:pt x="31" y="404"/>
                    </a:lnTo>
                    <a:lnTo>
                      <a:pt x="30" y="403"/>
                    </a:lnTo>
                    <a:lnTo>
                      <a:pt x="29" y="403"/>
                    </a:lnTo>
                    <a:lnTo>
                      <a:pt x="29" y="403"/>
                    </a:lnTo>
                    <a:lnTo>
                      <a:pt x="27" y="403"/>
                    </a:lnTo>
                    <a:lnTo>
                      <a:pt x="27" y="403"/>
                    </a:lnTo>
                    <a:lnTo>
                      <a:pt x="26" y="402"/>
                    </a:lnTo>
                    <a:lnTo>
                      <a:pt x="26" y="402"/>
                    </a:lnTo>
                    <a:lnTo>
                      <a:pt x="25" y="402"/>
                    </a:lnTo>
                    <a:lnTo>
                      <a:pt x="25" y="401"/>
                    </a:lnTo>
                    <a:lnTo>
                      <a:pt x="25" y="401"/>
                    </a:lnTo>
                    <a:lnTo>
                      <a:pt x="24" y="400"/>
                    </a:lnTo>
                    <a:lnTo>
                      <a:pt x="24" y="400"/>
                    </a:lnTo>
                    <a:lnTo>
                      <a:pt x="24" y="399"/>
                    </a:lnTo>
                    <a:lnTo>
                      <a:pt x="24" y="398"/>
                    </a:lnTo>
                    <a:lnTo>
                      <a:pt x="24" y="398"/>
                    </a:lnTo>
                    <a:lnTo>
                      <a:pt x="24" y="397"/>
                    </a:lnTo>
                    <a:lnTo>
                      <a:pt x="24" y="396"/>
                    </a:lnTo>
                    <a:lnTo>
                      <a:pt x="24" y="395"/>
                    </a:lnTo>
                    <a:lnTo>
                      <a:pt x="24" y="395"/>
                    </a:lnTo>
                    <a:lnTo>
                      <a:pt x="24" y="394"/>
                    </a:lnTo>
                    <a:lnTo>
                      <a:pt x="24" y="393"/>
                    </a:lnTo>
                    <a:lnTo>
                      <a:pt x="25" y="393"/>
                    </a:lnTo>
                    <a:lnTo>
                      <a:pt x="25" y="392"/>
                    </a:lnTo>
                    <a:lnTo>
                      <a:pt x="25" y="392"/>
                    </a:lnTo>
                    <a:lnTo>
                      <a:pt x="26" y="392"/>
                    </a:lnTo>
                    <a:lnTo>
                      <a:pt x="26" y="391"/>
                    </a:lnTo>
                    <a:lnTo>
                      <a:pt x="27" y="391"/>
                    </a:lnTo>
                    <a:lnTo>
                      <a:pt x="27" y="390"/>
                    </a:lnTo>
                    <a:lnTo>
                      <a:pt x="29" y="390"/>
                    </a:lnTo>
                    <a:lnTo>
                      <a:pt x="29" y="390"/>
                    </a:lnTo>
                    <a:lnTo>
                      <a:pt x="30" y="390"/>
                    </a:lnTo>
                    <a:lnTo>
                      <a:pt x="31" y="390"/>
                    </a:lnTo>
                    <a:lnTo>
                      <a:pt x="36" y="390"/>
                    </a:lnTo>
                    <a:lnTo>
                      <a:pt x="37" y="390"/>
                    </a:lnTo>
                    <a:lnTo>
                      <a:pt x="37" y="390"/>
                    </a:lnTo>
                    <a:lnTo>
                      <a:pt x="38" y="390"/>
                    </a:lnTo>
                    <a:lnTo>
                      <a:pt x="38" y="390"/>
                    </a:lnTo>
                    <a:lnTo>
                      <a:pt x="39" y="391"/>
                    </a:lnTo>
                    <a:lnTo>
                      <a:pt x="39" y="391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1" y="392"/>
                    </a:lnTo>
                    <a:lnTo>
                      <a:pt x="42" y="393"/>
                    </a:lnTo>
                    <a:lnTo>
                      <a:pt x="42" y="393"/>
                    </a:lnTo>
                    <a:lnTo>
                      <a:pt x="42" y="394"/>
                    </a:lnTo>
                    <a:lnTo>
                      <a:pt x="42" y="395"/>
                    </a:lnTo>
                    <a:lnTo>
                      <a:pt x="43" y="395"/>
                    </a:lnTo>
                    <a:lnTo>
                      <a:pt x="43" y="396"/>
                    </a:lnTo>
                    <a:lnTo>
                      <a:pt x="43" y="397"/>
                    </a:lnTo>
                    <a:lnTo>
                      <a:pt x="43" y="398"/>
                    </a:lnTo>
                    <a:lnTo>
                      <a:pt x="43" y="398"/>
                    </a:lnTo>
                    <a:lnTo>
                      <a:pt x="42" y="399"/>
                    </a:lnTo>
                    <a:lnTo>
                      <a:pt x="42" y="400"/>
                    </a:lnTo>
                    <a:lnTo>
                      <a:pt x="42" y="400"/>
                    </a:lnTo>
                    <a:lnTo>
                      <a:pt x="42" y="401"/>
                    </a:lnTo>
                    <a:lnTo>
                      <a:pt x="41" y="401"/>
                    </a:lnTo>
                    <a:lnTo>
                      <a:pt x="41" y="402"/>
                    </a:lnTo>
                    <a:lnTo>
                      <a:pt x="41" y="402"/>
                    </a:lnTo>
                    <a:lnTo>
                      <a:pt x="39" y="402"/>
                    </a:lnTo>
                    <a:lnTo>
                      <a:pt x="39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7" y="403"/>
                    </a:lnTo>
                    <a:lnTo>
                      <a:pt x="37" y="403"/>
                    </a:lnTo>
                    <a:lnTo>
                      <a:pt x="36" y="404"/>
                    </a:lnTo>
                    <a:lnTo>
                      <a:pt x="36" y="114"/>
                    </a:lnTo>
                    <a:lnTo>
                      <a:pt x="31" y="114"/>
                    </a:lnTo>
                    <a:lnTo>
                      <a:pt x="30" y="113"/>
                    </a:lnTo>
                    <a:lnTo>
                      <a:pt x="29" y="113"/>
                    </a:lnTo>
                    <a:lnTo>
                      <a:pt x="29" y="113"/>
                    </a:lnTo>
                    <a:lnTo>
                      <a:pt x="27" y="113"/>
                    </a:lnTo>
                    <a:lnTo>
                      <a:pt x="27" y="113"/>
                    </a:lnTo>
                    <a:lnTo>
                      <a:pt x="26" y="112"/>
                    </a:lnTo>
                    <a:lnTo>
                      <a:pt x="26" y="112"/>
                    </a:lnTo>
                    <a:lnTo>
                      <a:pt x="25" y="111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10"/>
                    </a:lnTo>
                    <a:lnTo>
                      <a:pt x="24" y="109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7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24" y="105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3"/>
                    </a:lnTo>
                    <a:lnTo>
                      <a:pt x="25" y="103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6" y="101"/>
                    </a:lnTo>
                    <a:lnTo>
                      <a:pt x="26" y="101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100"/>
                    </a:lnTo>
                    <a:lnTo>
                      <a:pt x="31" y="100"/>
                    </a:lnTo>
                    <a:lnTo>
                      <a:pt x="36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9" y="100"/>
                    </a:lnTo>
                    <a:lnTo>
                      <a:pt x="39" y="101"/>
                    </a:lnTo>
                    <a:lnTo>
                      <a:pt x="41" y="101"/>
                    </a:lnTo>
                    <a:lnTo>
                      <a:pt x="41" y="102"/>
                    </a:lnTo>
                    <a:lnTo>
                      <a:pt x="41" y="102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3" y="105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7"/>
                    </a:lnTo>
                    <a:lnTo>
                      <a:pt x="43" y="108"/>
                    </a:lnTo>
                    <a:lnTo>
                      <a:pt x="42" y="108"/>
                    </a:lnTo>
                    <a:lnTo>
                      <a:pt x="42" y="109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1" y="111"/>
                    </a:lnTo>
                    <a:lnTo>
                      <a:pt x="41" y="111"/>
                    </a:lnTo>
                    <a:lnTo>
                      <a:pt x="41" y="112"/>
                    </a:lnTo>
                    <a:lnTo>
                      <a:pt x="39" y="112"/>
                    </a:lnTo>
                    <a:lnTo>
                      <a:pt x="39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7" y="113"/>
                    </a:lnTo>
                    <a:lnTo>
                      <a:pt x="37" y="113"/>
                    </a:lnTo>
                    <a:lnTo>
                      <a:pt x="36" y="1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5184000"/>
                <a:ext cx="3261600" cy="58680"/>
              </a:xfrm>
              <a:custGeom>
                <a:avLst/>
                <a:gdLst/>
                <a:ahLst/>
                <a:rect l="l" t="t" r="r" b="b"/>
                <a:pathLst>
                  <a:path w="1053" h="27">
                    <a:moveTo>
                      <a:pt x="1020" y="0"/>
                    </a:moveTo>
                    <a:lnTo>
                      <a:pt x="1052" y="26"/>
                    </a:lnTo>
                    <a:lnTo>
                      <a:pt x="0" y="26"/>
                    </a:lnTo>
                    <a:lnTo>
                      <a:pt x="37" y="0"/>
                    </a:lnTo>
                    <a:lnTo>
                      <a:pt x="1020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78240" y="5184000"/>
                <a:ext cx="560880" cy="1249560"/>
              </a:xfrm>
              <a:custGeom>
                <a:avLst/>
                <a:gdLst/>
                <a:ahLst/>
                <a:rect l="l" t="t" r="r" b="b"/>
                <a:pathLst>
                  <a:path w="181" h="567">
                    <a:moveTo>
                      <a:pt x="180" y="566"/>
                    </a:moveTo>
                    <a:lnTo>
                      <a:pt x="180" y="0"/>
                    </a:lnTo>
                    <a:lnTo>
                      <a:pt x="0" y="0"/>
                    </a:lnTo>
                    <a:lnTo>
                      <a:pt x="0" y="492"/>
                    </a:lnTo>
                    <a:lnTo>
                      <a:pt x="180" y="566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2160" y="6255000"/>
                <a:ext cx="2748240" cy="169920"/>
              </a:xfrm>
              <a:custGeom>
                <a:avLst/>
                <a:gdLst/>
                <a:ahLst/>
                <a:rect l="l" t="t" r="r" b="b"/>
                <a:pathLst>
                  <a:path w="887" h="77">
                    <a:moveTo>
                      <a:pt x="729" y="0"/>
                    </a:moveTo>
                    <a:lnTo>
                      <a:pt x="886" y="76"/>
                    </a:lnTo>
                    <a:lnTo>
                      <a:pt x="0" y="76"/>
                    </a:lnTo>
                    <a:lnTo>
                      <a:pt x="149" y="0"/>
                    </a:lnTo>
                    <a:lnTo>
                      <a:pt x="729" y="0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30320" y="625284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16440" y="6252840"/>
                <a:ext cx="10980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10840" y="6252840"/>
                <a:ext cx="239040" cy="1735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3032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40960" y="52056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125080" y="5205600"/>
                <a:ext cx="194400" cy="1049040"/>
              </a:xfrm>
              <a:custGeom>
                <a:avLst/>
                <a:gdLst/>
                <a:ahLst/>
                <a:rect l="l" t="t" r="r" b="b"/>
                <a:pathLst>
                  <a:path w="63" h="476">
                    <a:moveTo>
                      <a:pt x="62" y="475"/>
                    </a:moveTo>
                    <a:lnTo>
                      <a:pt x="62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2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7680" y="52056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3720" y="5205600"/>
                <a:ext cx="499320" cy="1217160"/>
              </a:xfrm>
              <a:custGeom>
                <a:avLst/>
                <a:gdLst/>
                <a:ahLst/>
                <a:rect l="l" t="t" r="r" b="b"/>
                <a:pathLst>
                  <a:path w="161" h="552">
                    <a:moveTo>
                      <a:pt x="86" y="0"/>
                    </a:moveTo>
                    <a:lnTo>
                      <a:pt x="153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3"/>
                    </a:lnTo>
                    <a:lnTo>
                      <a:pt x="160" y="3"/>
                    </a:lnTo>
                    <a:lnTo>
                      <a:pt x="160" y="4"/>
                    </a:lnTo>
                    <a:lnTo>
                      <a:pt x="160" y="5"/>
                    </a:lnTo>
                    <a:lnTo>
                      <a:pt x="160" y="5"/>
                    </a:lnTo>
                    <a:lnTo>
                      <a:pt x="160" y="6"/>
                    </a:lnTo>
                    <a:lnTo>
                      <a:pt x="160" y="544"/>
                    </a:lnTo>
                    <a:lnTo>
                      <a:pt x="160" y="545"/>
                    </a:lnTo>
                    <a:lnTo>
                      <a:pt x="160" y="545"/>
                    </a:lnTo>
                    <a:lnTo>
                      <a:pt x="160" y="546"/>
                    </a:lnTo>
                    <a:lnTo>
                      <a:pt x="160" y="547"/>
                    </a:lnTo>
                    <a:lnTo>
                      <a:pt x="158" y="547"/>
                    </a:lnTo>
                    <a:lnTo>
                      <a:pt x="158" y="548"/>
                    </a:lnTo>
                    <a:lnTo>
                      <a:pt x="158" y="548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7" y="549"/>
                    </a:lnTo>
                    <a:lnTo>
                      <a:pt x="156" y="550"/>
                    </a:lnTo>
                    <a:lnTo>
                      <a:pt x="156" y="550"/>
                    </a:lnTo>
                    <a:lnTo>
                      <a:pt x="155" y="550"/>
                    </a:lnTo>
                    <a:lnTo>
                      <a:pt x="155" y="550"/>
                    </a:lnTo>
                    <a:lnTo>
                      <a:pt x="153" y="550"/>
                    </a:lnTo>
                    <a:lnTo>
                      <a:pt x="153" y="551"/>
                    </a:lnTo>
                    <a:lnTo>
                      <a:pt x="86" y="551"/>
                    </a:lnTo>
                    <a:lnTo>
                      <a:pt x="73" y="551"/>
                    </a:lnTo>
                    <a:lnTo>
                      <a:pt x="6" y="551"/>
                    </a:lnTo>
                    <a:lnTo>
                      <a:pt x="4" y="551"/>
                    </a:lnTo>
                    <a:lnTo>
                      <a:pt x="4" y="551"/>
                    </a:lnTo>
                    <a:lnTo>
                      <a:pt x="3" y="551"/>
                    </a:lnTo>
                    <a:lnTo>
                      <a:pt x="3" y="550"/>
                    </a:lnTo>
                    <a:lnTo>
                      <a:pt x="2" y="550"/>
                    </a:lnTo>
                    <a:lnTo>
                      <a:pt x="2" y="550"/>
                    </a:lnTo>
                    <a:lnTo>
                      <a:pt x="1" y="549"/>
                    </a:lnTo>
                    <a:lnTo>
                      <a:pt x="1" y="549"/>
                    </a:lnTo>
                    <a:lnTo>
                      <a:pt x="1" y="548"/>
                    </a:lnTo>
                    <a:lnTo>
                      <a:pt x="0" y="548"/>
                    </a:lnTo>
                    <a:lnTo>
                      <a:pt x="0" y="547"/>
                    </a:lnTo>
                    <a:lnTo>
                      <a:pt x="0" y="547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45"/>
                    </a:lnTo>
                    <a:lnTo>
                      <a:pt x="0" y="54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3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51320" y="52074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51320" y="5205600"/>
                <a:ext cx="11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6860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68408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6120" y="52124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0120" y="636948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780120" y="6365880"/>
                <a:ext cx="3420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3040" y="56458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3080" y="5769720"/>
                <a:ext cx="113400" cy="144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3080" y="5769720"/>
                <a:ext cx="504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0800" y="5662080"/>
                <a:ext cx="3240" cy="107280"/>
              </a:xfrm>
              <a:custGeom>
                <a:avLst/>
                <a:gdLst/>
                <a:ahLst/>
                <a:rect l="l" t="t" r="r" b="b"/>
                <a:pathLst>
                  <a:path w="1" h="49">
                    <a:moveTo>
                      <a:pt x="0" y="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308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1308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8120" y="57675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18120" y="566388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308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17760" y="56642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3080" y="565308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55840" y="565668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0800" y="56566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5840" y="56566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720" y="566424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0800" y="5664240"/>
                <a:ext cx="0" cy="1033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0800" y="57675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0720" y="576756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5840" y="576972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5840" y="5769720"/>
                <a:ext cx="568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8120" y="575712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8120" y="57697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960" y="575712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33600" y="5653080"/>
                <a:ext cx="0" cy="1036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4960" y="56516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24600" y="56530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24960" y="564552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63040" y="5651640"/>
                <a:ext cx="619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0800" y="56516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14" y="8"/>
                    </a:lnTo>
                    <a:lnTo>
                      <a:pt x="14" y="13"/>
                    </a:lnTo>
                    <a:lnTo>
                      <a:pt x="7" y="13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3040" y="564588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720" y="566208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7240" y="575892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972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88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0588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7240" y="5664240"/>
                <a:ext cx="1134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60552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97240" y="5662080"/>
                <a:ext cx="0" cy="72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62680" y="566424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040" y="566424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40" y="566424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55480" y="56692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3040" y="5669280"/>
                <a:ext cx="0" cy="892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58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304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3040" y="5764320"/>
                <a:ext cx="342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50800" y="5674320"/>
                <a:ext cx="1908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988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2680" y="56746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988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880" y="5669280"/>
                <a:ext cx="270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7240" y="56692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97240" y="5669280"/>
                <a:ext cx="0" cy="50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96880" y="5674680"/>
                <a:ext cx="82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9520" y="5674680"/>
                <a:ext cx="27000" cy="17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7240" y="5674680"/>
                <a:ext cx="0" cy="8388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076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0760" y="57589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90760" y="576396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69520" y="5764320"/>
                <a:ext cx="205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040" y="5758920"/>
                <a:ext cx="1152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13"/>
                    </a:lnTo>
                    <a:lnTo>
                      <a:pt x="36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9880" y="57589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3040" y="57589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040" y="5757120"/>
                <a:ext cx="3240" cy="5868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0" y="26"/>
                    </a:move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720" y="569772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4"/>
                    </a:lnTo>
                    <a:lnTo>
                      <a:pt x="36" y="22"/>
                    </a:lnTo>
                    <a:lnTo>
                      <a:pt x="36" y="19"/>
                    </a:lnTo>
                    <a:lnTo>
                      <a:pt x="36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62680" y="575712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40720" y="5697720"/>
                <a:ext cx="1008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0720" y="5697720"/>
                <a:ext cx="651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0720" y="5692680"/>
                <a:ext cx="11520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720" y="5697720"/>
                <a:ext cx="100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0800" y="569088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0800" y="5692680"/>
                <a:ext cx="11340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0" y="0"/>
                    </a:moveTo>
                    <a:lnTo>
                      <a:pt x="30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69880" y="5692680"/>
                <a:ext cx="11340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6" y="29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69880" y="5690520"/>
                <a:ext cx="0" cy="68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590760" y="575712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69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0" y="18"/>
                    </a:move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4280" y="5300280"/>
                <a:ext cx="11556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8" y="20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36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800" y="5300280"/>
                <a:ext cx="10980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26"/>
                    </a:moveTo>
                    <a:lnTo>
                      <a:pt x="25" y="26"/>
                    </a:lnTo>
                    <a:lnTo>
                      <a:pt x="20" y="18"/>
                    </a:lnTo>
                    <a:lnTo>
                      <a:pt x="10" y="26"/>
                    </a:lnTo>
                    <a:lnTo>
                      <a:pt x="0" y="26"/>
                    </a:lnTo>
                    <a:lnTo>
                      <a:pt x="15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7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25" y="13"/>
                    </a:lnTo>
                    <a:lnTo>
                      <a:pt x="35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656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400" y="53110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5720" y="530028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6600" y="5300280"/>
                <a:ext cx="111960" cy="590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17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5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3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072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23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3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3040" y="530028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6"/>
                    </a:lnTo>
                    <a:lnTo>
                      <a:pt x="12" y="26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832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380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8" y="26"/>
                    </a:moveTo>
                    <a:lnTo>
                      <a:pt x="0" y="26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17" y="20"/>
                    </a:lnTo>
                    <a:lnTo>
                      <a:pt x="8" y="26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17" y="5"/>
                    </a:lnTo>
                    <a:lnTo>
                      <a:pt x="17" y="15"/>
                    </a:lnTo>
                    <a:lnTo>
                      <a:pt x="8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2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6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520" y="635904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6" y="15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8" y="26"/>
                    </a:lnTo>
                    <a:lnTo>
                      <a:pt x="8" y="5"/>
                    </a:lnTo>
                    <a:lnTo>
                      <a:pt x="26" y="26"/>
                    </a:lnTo>
                    <a:lnTo>
                      <a:pt x="35" y="26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340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15"/>
                    </a:moveTo>
                    <a:lnTo>
                      <a:pt x="24" y="15"/>
                    </a:lnTo>
                    <a:lnTo>
                      <a:pt x="24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8880" y="6359040"/>
                <a:ext cx="11196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0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8" y="15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7" y="5"/>
                    </a:lnTo>
                    <a:lnTo>
                      <a:pt x="8" y="5"/>
                    </a:lnTo>
                    <a:lnTo>
                      <a:pt x="8" y="10"/>
                    </a:lnTo>
                    <a:lnTo>
                      <a:pt x="17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0760" y="6359040"/>
                <a:ext cx="11556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15"/>
                    </a:moveTo>
                    <a:lnTo>
                      <a:pt x="27" y="15"/>
                    </a:lnTo>
                    <a:lnTo>
                      <a:pt x="18" y="5"/>
                    </a:lnTo>
                    <a:lnTo>
                      <a:pt x="18" y="15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26"/>
                    </a:lnTo>
                    <a:lnTo>
                      <a:pt x="27" y="26"/>
                    </a:lnTo>
                    <a:lnTo>
                      <a:pt x="27" y="20"/>
                    </a:lnTo>
                    <a:lnTo>
                      <a:pt x="9" y="20"/>
                    </a:lnTo>
                    <a:lnTo>
                      <a:pt x="9" y="26"/>
                    </a:lnTo>
                    <a:lnTo>
                      <a:pt x="18" y="15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3440" y="635904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18" y="0"/>
                    </a:lnTo>
                    <a:lnTo>
                      <a:pt x="18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5"/>
                    </a:lnTo>
                    <a:lnTo>
                      <a:pt x="9" y="26"/>
                    </a:lnTo>
                    <a:lnTo>
                      <a:pt x="18" y="26"/>
                    </a:lnTo>
                    <a:lnTo>
                      <a:pt x="27" y="5"/>
                    </a:lnTo>
                    <a:lnTo>
                      <a:pt x="27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0720" y="6359040"/>
                <a:ext cx="1152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36" y="15"/>
                    </a:lnTo>
                    <a:lnTo>
                      <a:pt x="36" y="1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36" y="5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1520" y="537588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61520" y="537552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6620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1520" y="5384880"/>
                <a:ext cx="109800" cy="5868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5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23" y="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0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6560" y="538488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5680" y="5384880"/>
                <a:ext cx="11340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520" y="538632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5680" y="53758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45680" y="5384880"/>
                <a:ext cx="50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1520" y="53758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1520" y="5384880"/>
                <a:ext cx="109800" cy="144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35" y="0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6560" y="5384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0720" y="5379120"/>
                <a:ext cx="11556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36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1520" y="5384880"/>
                <a:ext cx="0" cy="14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0720" y="537912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724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36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97240" y="560268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0552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724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18" y="1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5880" y="561384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5360" y="56138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7240" y="56188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36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5360" y="560664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6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85000" y="561384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97240" y="5603040"/>
                <a:ext cx="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5880" y="561384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0760" y="5606640"/>
                <a:ext cx="1152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12" y="2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5880" y="5608440"/>
                <a:ext cx="0" cy="86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0760" y="560664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724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7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97240" y="579780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60552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724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880" y="5807160"/>
                <a:ext cx="68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5360" y="5807160"/>
                <a:ext cx="113400" cy="590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26"/>
                    </a:moveTo>
                    <a:lnTo>
                      <a:pt x="36" y="26"/>
                    </a:lnTo>
                    <a:lnTo>
                      <a:pt x="3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7240" y="581436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536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5360" y="5798160"/>
                <a:ext cx="113400" cy="626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5000" y="5807160"/>
                <a:ext cx="54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7240" y="5798160"/>
                <a:ext cx="0" cy="54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5880" y="5808960"/>
                <a:ext cx="115560" cy="3600"/>
              </a:xfrm>
              <a:custGeom>
                <a:avLst/>
                <a:gdLst/>
                <a:ahLst/>
                <a:rect l="l" t="t" r="r" b="b"/>
                <a:pathLst>
                  <a:path w="37" h="1">
                    <a:moveTo>
                      <a:pt x="36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605880" y="580680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0760" y="5803920"/>
                <a:ext cx="115200" cy="604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5880" y="5807160"/>
                <a:ext cx="0" cy="18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0760" y="580392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7280" y="52808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36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5196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280" y="529128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27" y="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8" y="13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320" y="5291280"/>
                <a:ext cx="1044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3600" y="529128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36" y="20"/>
                    </a:lnTo>
                    <a:lnTo>
                      <a:pt x="3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7280" y="5300280"/>
                <a:ext cx="1098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3600" y="5280840"/>
                <a:ext cx="11520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0" y="27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3600" y="5291280"/>
                <a:ext cx="11160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7280" y="5280840"/>
                <a:ext cx="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2320" y="5291280"/>
                <a:ext cx="115560" cy="6084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0"/>
                    </a:move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0440" y="5284440"/>
                <a:ext cx="115560" cy="62280"/>
              </a:xfrm>
              <a:custGeom>
                <a:avLst/>
                <a:gdLst/>
                <a:ahLst/>
                <a:rect l="l" t="t" r="r" b="b"/>
                <a:pathLst>
                  <a:path w="37" h="28">
                    <a:moveTo>
                      <a:pt x="36" y="27"/>
                    </a:move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2320" y="5291280"/>
                <a:ext cx="111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3600" y="5284440"/>
                <a:ext cx="648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1520" y="6303240"/>
                <a:ext cx="10980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18"/>
                    </a:move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5" y="15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888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0" y="7"/>
                    </a:moveTo>
                    <a:lnTo>
                      <a:pt x="30" y="7"/>
                    </a:lnTo>
                    <a:lnTo>
                      <a:pt x="30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0" y="7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00" y="6303240"/>
                <a:ext cx="111960" cy="60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25" y="13"/>
                    </a:moveTo>
                    <a:lnTo>
                      <a:pt x="35" y="0"/>
                    </a:lnTo>
                    <a:lnTo>
                      <a:pt x="25" y="0"/>
                    </a:lnTo>
                    <a:lnTo>
                      <a:pt x="20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0" y="26"/>
                    </a:lnTo>
                    <a:lnTo>
                      <a:pt x="10" y="26"/>
                    </a:lnTo>
                    <a:lnTo>
                      <a:pt x="20" y="18"/>
                    </a:lnTo>
                    <a:lnTo>
                      <a:pt x="25" y="26"/>
                    </a:lnTo>
                    <a:lnTo>
                      <a:pt x="35" y="26"/>
                    </a:lnTo>
                    <a:lnTo>
                      <a:pt x="25" y="13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0800" y="6303240"/>
                <a:ext cx="113400" cy="6084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6" y="0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6" y="2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563040" y="6328080"/>
                <a:ext cx="54720" cy="324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9880" y="6326280"/>
                <a:ext cx="5472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90760" y="6317640"/>
                <a:ext cx="56520" cy="360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5360" y="6313680"/>
                <a:ext cx="66960" cy="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080" y="4978440"/>
                <a:ext cx="2917080" cy="191520"/>
              </a:xfrm>
              <a:custGeom>
                <a:avLst/>
                <a:gdLst/>
                <a:ahLst/>
                <a:rect l="l" t="t" r="r" b="b"/>
                <a:pathLst>
                  <a:path w="941" h="87">
                    <a:moveTo>
                      <a:pt x="756" y="0"/>
                    </a:moveTo>
                    <a:lnTo>
                      <a:pt x="940" y="86"/>
                    </a:lnTo>
                    <a:lnTo>
                      <a:pt x="0" y="86"/>
                    </a:lnTo>
                    <a:lnTo>
                      <a:pt x="176" y="0"/>
                    </a:lnTo>
                    <a:lnTo>
                      <a:pt x="756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30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3272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6748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01880" y="5202000"/>
                <a:ext cx="19836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36640" y="5202000"/>
                <a:ext cx="198000" cy="1049040"/>
              </a:xfrm>
              <a:custGeom>
                <a:avLst/>
                <a:gdLst/>
                <a:ahLst/>
                <a:rect l="l" t="t" r="r" b="b"/>
                <a:pathLst>
                  <a:path w="64" h="476">
                    <a:moveTo>
                      <a:pt x="63" y="475"/>
                    </a:moveTo>
                    <a:lnTo>
                      <a:pt x="63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63" y="475"/>
                    </a:lnTo>
                  </a:path>
                </a:pathLst>
              </a:custGeom>
              <a:solidFill>
                <a:srgbClr val="9e9e8e"/>
              </a:solidFill>
              <a:ln cap="rnd" w="12600">
                <a:solidFill>
                  <a:srgbClr val="0202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54640" y="6264000"/>
                <a:ext cx="554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1528920" y="6264000"/>
                <a:ext cx="8280" cy="1537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327320" y="6264000"/>
                <a:ext cx="3924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41920" y="6264000"/>
                <a:ext cx="5472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920880" y="6264000"/>
                <a:ext cx="104760" cy="169920"/>
              </a:xfrm>
              <a:prstGeom prst="line">
                <a:avLst/>
              </a:prstGeom>
              <a:ln w="12600">
                <a:solidFill>
                  <a:srgbClr val="02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47400" y="4468680"/>
              <a:ext cx="278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XI et conditionn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12840" y="2232000"/>
            <a:ext cx="7465680" cy="4173120"/>
            <a:chOff x="312840" y="2232000"/>
            <a:chExt cx="7465680" cy="4173120"/>
          </a:xfrm>
        </p:grpSpPr>
        <p:grpSp>
          <p:nvGrpSpPr>
            <p:cNvPr id="422" name=""/>
            <p:cNvGrpSpPr/>
            <p:nvPr/>
          </p:nvGrpSpPr>
          <p:grpSpPr>
            <a:xfrm>
              <a:off x="312840" y="2232000"/>
              <a:ext cx="7465680" cy="4173120"/>
              <a:chOff x="312840" y="2232000"/>
              <a:chExt cx="7465680" cy="41731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092240" y="5202360"/>
                <a:ext cx="216000" cy="1202760"/>
                <a:chOff x="1092240" y="5202360"/>
                <a:chExt cx="216000" cy="1202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092240" y="5202360"/>
                  <a:ext cx="216000" cy="120276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75760" y="5412240"/>
                  <a:ext cx="98640" cy="76536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28600" y="6342840"/>
                  <a:ext cx="98640" cy="5868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12840" y="2232000"/>
                <a:ext cx="4070160" cy="244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erciser Module - CV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940280" y="2279520"/>
                <a:ext cx="1735200" cy="613080"/>
              </a:xfrm>
              <a:prstGeom prst="rect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a8adb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xercice st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4311360" y="2314440"/>
                <a:ext cx="663480" cy="263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627600" y="2390760"/>
                <a:ext cx="1150920" cy="77760"/>
              </a:xfrm>
              <a:prstGeom prst="line">
                <a:avLst/>
              </a:prstGeom>
              <a:ln cap="rnd" w="28440">
                <a:solidFill>
                  <a:srgbClr val="a8adb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68400" y="5524560"/>
                <a:ext cx="3409920" cy="459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-Motion Cont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3403440" y="2652840"/>
              <a:ext cx="1621080" cy="3039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n exemple : test de missile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137440" y="828720"/>
            <a:ext cx="1006560" cy="5149800"/>
            <a:chOff x="8137440" y="828720"/>
            <a:chExt cx="1006560" cy="5149800"/>
          </a:xfrm>
        </p:grpSpPr>
        <p:pic>
          <p:nvPicPr>
            <p:cNvPr id="435" name="" descr=""/>
            <p:cNvPicPr/>
            <p:nvPr/>
          </p:nvPicPr>
          <p:blipFill>
            <a:blip r:embed="rId5"/>
            <a:stretch/>
          </p:blipFill>
          <p:spPr>
            <a:xfrm flipH="1">
              <a:off x="8137440" y="828720"/>
              <a:ext cx="100656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 flipH="1">
              <a:off x="8368200" y="1185840"/>
              <a:ext cx="150840" cy="237600"/>
            </a:xfrm>
            <a:prstGeom prst="ellipse">
              <a:avLst/>
            </a:prstGeom>
            <a:solidFill>
              <a:srgbClr val="fa1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309520" y="2100240"/>
              <a:ext cx="180000" cy="183600"/>
            </a:xfrm>
            <a:prstGeom prst="ellipse">
              <a:avLst/>
            </a:prstGeom>
            <a:solidFill>
              <a:srgbClr val="69a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95120" y="2795400"/>
              <a:ext cx="194040" cy="29340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309880" y="4130640"/>
              <a:ext cx="375120" cy="420120"/>
            </a:xfrm>
            <a:prstGeom prst="rect">
              <a:avLst/>
            </a:prstGeom>
            <a:solidFill>
              <a:srgbClr val="69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702280" y="4109760"/>
              <a:ext cx="178560" cy="330120"/>
            </a:xfrm>
            <a:prstGeom prst="ellipse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352720" y="5013360"/>
              <a:ext cx="178560" cy="329760"/>
            </a:xfrm>
            <a:prstGeom prst="ellipse">
              <a:avLst/>
            </a:prstGeom>
            <a:solidFill>
              <a:srgbClr val="dd8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12840" y="1358640"/>
            <a:ext cx="8035560" cy="5041800"/>
            <a:chOff x="312840" y="1358640"/>
            <a:chExt cx="8035560" cy="5041800"/>
          </a:xfrm>
        </p:grpSpPr>
        <p:sp>
          <p:nvSpPr>
            <p:cNvPr id="443" name=""/>
            <p:cNvSpPr/>
            <p:nvPr/>
          </p:nvSpPr>
          <p:spPr>
            <a:xfrm flipV="1">
              <a:off x="3352680" y="2205000"/>
              <a:ext cx="1640160" cy="3379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12840" y="1358640"/>
              <a:ext cx="8035560" cy="5041800"/>
              <a:chOff x="312840" y="1358640"/>
              <a:chExt cx="8035560" cy="50418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906800" y="1358640"/>
                <a:ext cx="3441600" cy="699840"/>
                <a:chOff x="4906800" y="1358640"/>
                <a:chExt cx="3441600" cy="69984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6683400" y="1358640"/>
                  <a:ext cx="1665000" cy="240840"/>
                </a:xfrm>
                <a:prstGeom prst="line">
                  <a:avLst/>
                </a:prstGeom>
                <a:ln cap="rnd" w="284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06800" y="1446120"/>
                  <a:ext cx="1735200" cy="61236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onné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élémétriq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49240" y="5216400"/>
                <a:ext cx="252000" cy="1184040"/>
                <a:chOff x="849240" y="5216400"/>
                <a:chExt cx="252000" cy="11840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849240" y="5216400"/>
                  <a:ext cx="252000" cy="1184040"/>
                </a:xfrm>
                <a:custGeom>
                  <a:avLst/>
                  <a:gdLst/>
                  <a:ahLst/>
                  <a:rect l="l" t="t" r="r" b="b"/>
                  <a:pathLst>
                    <a:path w="82" h="550">
                      <a:moveTo>
                        <a:pt x="73" y="549"/>
                      </a:moveTo>
                      <a:lnTo>
                        <a:pt x="74" y="549"/>
                      </a:lnTo>
                      <a:lnTo>
                        <a:pt x="74" y="549"/>
                      </a:lnTo>
                      <a:lnTo>
                        <a:pt x="76" y="549"/>
                      </a:lnTo>
                      <a:lnTo>
                        <a:pt x="76" y="548"/>
                      </a:lnTo>
                      <a:lnTo>
                        <a:pt x="77" y="548"/>
                      </a:lnTo>
                      <a:lnTo>
                        <a:pt x="77" y="548"/>
                      </a:lnTo>
                      <a:lnTo>
                        <a:pt x="77" y="547"/>
                      </a:lnTo>
                      <a:lnTo>
                        <a:pt x="78" y="547"/>
                      </a:lnTo>
                      <a:lnTo>
                        <a:pt x="78" y="546"/>
                      </a:lnTo>
                      <a:lnTo>
                        <a:pt x="79" y="546"/>
                      </a:lnTo>
                      <a:lnTo>
                        <a:pt x="79" y="545"/>
                      </a:lnTo>
                      <a:lnTo>
                        <a:pt x="79" y="545"/>
                      </a:lnTo>
                      <a:lnTo>
                        <a:pt x="79" y="544"/>
                      </a:lnTo>
                      <a:lnTo>
                        <a:pt x="79" y="544"/>
                      </a:lnTo>
                      <a:lnTo>
                        <a:pt x="79" y="543"/>
                      </a:lnTo>
                      <a:lnTo>
                        <a:pt x="81" y="543"/>
                      </a:lnTo>
                      <a:lnTo>
                        <a:pt x="81" y="5"/>
                      </a:lnTo>
                      <a:lnTo>
                        <a:pt x="79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8" y="1"/>
                      </a:lnTo>
                      <a:lnTo>
                        <a:pt x="78" y="1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43"/>
                      </a:lnTo>
                      <a:lnTo>
                        <a:pt x="0" y="543"/>
                      </a:lnTo>
                      <a:lnTo>
                        <a:pt x="0" y="544"/>
                      </a:lnTo>
                      <a:lnTo>
                        <a:pt x="0" y="544"/>
                      </a:lnTo>
                      <a:lnTo>
                        <a:pt x="1" y="545"/>
                      </a:lnTo>
                      <a:lnTo>
                        <a:pt x="1" y="546"/>
                      </a:lnTo>
                      <a:lnTo>
                        <a:pt x="1" y="546"/>
                      </a:lnTo>
                      <a:lnTo>
                        <a:pt x="1" y="547"/>
                      </a:lnTo>
                      <a:lnTo>
                        <a:pt x="2" y="547"/>
                      </a:lnTo>
                      <a:lnTo>
                        <a:pt x="2" y="548"/>
                      </a:lnTo>
                      <a:lnTo>
                        <a:pt x="2" y="548"/>
                      </a:lnTo>
                      <a:lnTo>
                        <a:pt x="3" y="548"/>
                      </a:lnTo>
                      <a:lnTo>
                        <a:pt x="3" y="549"/>
                      </a:lnTo>
                      <a:lnTo>
                        <a:pt x="4" y="549"/>
                      </a:lnTo>
                      <a:lnTo>
                        <a:pt x="4" y="549"/>
                      </a:lnTo>
                      <a:lnTo>
                        <a:pt x="6" y="549"/>
                      </a:lnTo>
                      <a:lnTo>
                        <a:pt x="6" y="549"/>
                      </a:lnTo>
                      <a:lnTo>
                        <a:pt x="73" y="549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46800" y="5423040"/>
                  <a:ext cx="115200" cy="753480"/>
                </a:xfrm>
                <a:custGeom>
                  <a:avLst/>
                  <a:gdLst/>
                  <a:ahLst/>
                  <a:rect l="l" t="t" r="r" b="b"/>
                  <a:pathLst>
                    <a:path w="37" h="350">
                      <a:moveTo>
                        <a:pt x="29" y="349"/>
                      </a:moveTo>
                      <a:lnTo>
                        <a:pt x="29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1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8"/>
                      </a:lnTo>
                      <a:lnTo>
                        <a:pt x="32" y="347"/>
                      </a:lnTo>
                      <a:lnTo>
                        <a:pt x="34" y="347"/>
                      </a:lnTo>
                      <a:lnTo>
                        <a:pt x="34" y="347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4" y="346"/>
                      </a:lnTo>
                      <a:lnTo>
                        <a:pt x="36" y="346"/>
                      </a:lnTo>
                      <a:lnTo>
                        <a:pt x="36" y="4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45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6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7"/>
                      </a:lnTo>
                      <a:lnTo>
                        <a:pt x="0" y="348"/>
                      </a:lnTo>
                      <a:lnTo>
                        <a:pt x="0" y="348"/>
                      </a:lnTo>
                      <a:lnTo>
                        <a:pt x="1" y="348"/>
                      </a:lnTo>
                      <a:lnTo>
                        <a:pt x="1" y="349"/>
                      </a:lnTo>
                      <a:lnTo>
                        <a:pt x="1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3" y="349"/>
                      </a:lnTo>
                      <a:lnTo>
                        <a:pt x="4" y="349"/>
                      </a:lnTo>
                      <a:lnTo>
                        <a:pt x="29" y="349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91720" y="6339240"/>
                  <a:ext cx="115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4"/>
                      </a:lnTo>
                      <a:lnTo>
                        <a:pt x="32" y="7"/>
                      </a:lnTo>
                      <a:lnTo>
                        <a:pt x="36" y="7"/>
                      </a:lnTo>
                      <a:lnTo>
                        <a:pt x="36" y="9"/>
                      </a:lnTo>
                      <a:lnTo>
                        <a:pt x="36" y="11"/>
                      </a:lnTo>
                      <a:lnTo>
                        <a:pt x="36" y="11"/>
                      </a:lnTo>
                      <a:lnTo>
                        <a:pt x="36" y="14"/>
                      </a:lnTo>
                      <a:lnTo>
                        <a:pt x="36" y="14"/>
                      </a:lnTo>
                      <a:lnTo>
                        <a:pt x="36" y="16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21"/>
                      </a:lnTo>
                      <a:lnTo>
                        <a:pt x="32" y="21"/>
                      </a:lnTo>
                      <a:lnTo>
                        <a:pt x="28" y="21"/>
                      </a:lnTo>
                      <a:lnTo>
                        <a:pt x="28" y="23"/>
                      </a:lnTo>
                      <a:lnTo>
                        <a:pt x="28" y="23"/>
                      </a:lnTo>
                      <a:lnTo>
                        <a:pt x="25" y="23"/>
                      </a:lnTo>
                      <a:lnTo>
                        <a:pt x="25" y="26"/>
                      </a:lnTo>
                      <a:lnTo>
                        <a:pt x="21" y="26"/>
                      </a:lnTo>
                      <a:lnTo>
                        <a:pt x="21" y="26"/>
                      </a:lnTo>
                      <a:lnTo>
                        <a:pt x="18" y="26"/>
                      </a:lnTo>
                      <a:lnTo>
                        <a:pt x="18" y="26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2f2da"/>
                </a:solidFill>
                <a:ln cap="rnd"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312840" y="2028960"/>
                <a:ext cx="4074840" cy="218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lemetry Test Module - 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408200" y="2031840"/>
                <a:ext cx="726840" cy="1018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8240" y="5521320"/>
                <a:ext cx="3435840" cy="459720"/>
              </a:xfrm>
              <a:prstGeom prst="rect">
                <a:avLst/>
              </a:prstGeom>
              <a:solidFill>
                <a:srgbClr val="00f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XI Measurement Modu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827840" y="1938240"/>
            <a:ext cx="459000" cy="1920960"/>
            <a:chOff x="7827840" y="1938240"/>
            <a:chExt cx="459000" cy="1920960"/>
          </a:xfrm>
        </p:grpSpPr>
        <p:sp>
          <p:nvSpPr>
            <p:cNvPr id="456" name=""/>
            <p:cNvSpPr/>
            <p:nvPr/>
          </p:nvSpPr>
          <p:spPr>
            <a:xfrm flipH="1">
              <a:off x="7827840" y="1938240"/>
              <a:ext cx="346320" cy="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7840" y="1957320"/>
              <a:ext cx="17640" cy="19018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864560" y="3841920"/>
              <a:ext cx="422280" cy="17280"/>
            </a:xfrm>
            <a:prstGeom prst="line">
              <a:avLst/>
            </a:prstGeom>
            <a:ln cap="rnd" w="38160">
              <a:solidFill>
                <a:srgbClr val="dd8a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12840" y="2479680"/>
            <a:ext cx="8008560" cy="3917520"/>
            <a:chOff x="312840" y="2479680"/>
            <a:chExt cx="8008560" cy="3917520"/>
          </a:xfrm>
        </p:grpSpPr>
        <p:sp>
          <p:nvSpPr>
            <p:cNvPr id="460" name=""/>
            <p:cNvSpPr/>
            <p:nvPr/>
          </p:nvSpPr>
          <p:spPr>
            <a:xfrm flipH="1">
              <a:off x="6767280" y="2629080"/>
              <a:ext cx="1554120" cy="798480"/>
            </a:xfrm>
            <a:prstGeom prst="line">
              <a:avLst/>
            </a:prstGeom>
            <a:ln cap="rnd" w="28440">
              <a:solidFill>
                <a:srgbClr val="a8adb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1322280" y="5200560"/>
              <a:ext cx="216000" cy="1184040"/>
              <a:chOff x="1322280" y="5200560"/>
              <a:chExt cx="216000" cy="1184040"/>
            </a:xfrm>
          </p:grpSpPr>
          <p:sp>
            <p:nvSpPr>
              <p:cNvPr id="462" name=""/>
              <p:cNvSpPr/>
              <p:nvPr/>
            </p:nvSpPr>
            <p:spPr>
              <a:xfrm>
                <a:off x="1322280" y="5200560"/>
                <a:ext cx="216000" cy="118404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5800" y="5407200"/>
                <a:ext cx="98640" cy="75348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58640" y="6323400"/>
                <a:ext cx="98640" cy="5760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12840" y="2479680"/>
              <a:ext cx="4073400" cy="277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ttery Test - MeasurementStu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64040" y="3121200"/>
              <a:ext cx="1735200" cy="61272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a8adb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st batte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355920" y="3627000"/>
              <a:ext cx="1949400" cy="2073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19640" y="2637000"/>
              <a:ext cx="770040" cy="631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128680" y="5194440"/>
              <a:ext cx="234720" cy="1202760"/>
              <a:chOff x="2128680" y="5194440"/>
              <a:chExt cx="234720" cy="1202760"/>
            </a:xfrm>
          </p:grpSpPr>
          <p:sp>
            <p:nvSpPr>
              <p:cNvPr id="470" name=""/>
              <p:cNvSpPr/>
              <p:nvPr/>
            </p:nvSpPr>
            <p:spPr>
              <a:xfrm>
                <a:off x="2128680" y="5194440"/>
                <a:ext cx="234720" cy="1202760"/>
              </a:xfrm>
              <a:custGeom>
                <a:avLst/>
                <a:gdLst/>
                <a:ahLst/>
                <a:rect l="l" t="t" r="r" b="b"/>
                <a:pathLst>
                  <a:path w="82" h="550">
                    <a:moveTo>
                      <a:pt x="73" y="549"/>
                    </a:moveTo>
                    <a:lnTo>
                      <a:pt x="74" y="549"/>
                    </a:lnTo>
                    <a:lnTo>
                      <a:pt x="74" y="549"/>
                    </a:lnTo>
                    <a:lnTo>
                      <a:pt x="76" y="549"/>
                    </a:lnTo>
                    <a:lnTo>
                      <a:pt x="76" y="548"/>
                    </a:lnTo>
                    <a:lnTo>
                      <a:pt x="77" y="548"/>
                    </a:lnTo>
                    <a:lnTo>
                      <a:pt x="77" y="548"/>
                    </a:lnTo>
                    <a:lnTo>
                      <a:pt x="77" y="547"/>
                    </a:lnTo>
                    <a:lnTo>
                      <a:pt x="78" y="547"/>
                    </a:lnTo>
                    <a:lnTo>
                      <a:pt x="78" y="546"/>
                    </a:lnTo>
                    <a:lnTo>
                      <a:pt x="79" y="546"/>
                    </a:lnTo>
                    <a:lnTo>
                      <a:pt x="79" y="545"/>
                    </a:lnTo>
                    <a:lnTo>
                      <a:pt x="79" y="545"/>
                    </a:lnTo>
                    <a:lnTo>
                      <a:pt x="79" y="544"/>
                    </a:lnTo>
                    <a:lnTo>
                      <a:pt x="79" y="544"/>
                    </a:lnTo>
                    <a:lnTo>
                      <a:pt x="79" y="543"/>
                    </a:lnTo>
                    <a:lnTo>
                      <a:pt x="81" y="543"/>
                    </a:lnTo>
                    <a:lnTo>
                      <a:pt x="81" y="5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3"/>
                    </a:lnTo>
                    <a:lnTo>
                      <a:pt x="79" y="3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543"/>
                    </a:lnTo>
                    <a:lnTo>
                      <a:pt x="0" y="543"/>
                    </a:lnTo>
                    <a:lnTo>
                      <a:pt x="0" y="544"/>
                    </a:lnTo>
                    <a:lnTo>
                      <a:pt x="0" y="544"/>
                    </a:lnTo>
                    <a:lnTo>
                      <a:pt x="1" y="545"/>
                    </a:lnTo>
                    <a:lnTo>
                      <a:pt x="1" y="546"/>
                    </a:lnTo>
                    <a:lnTo>
                      <a:pt x="1" y="546"/>
                    </a:lnTo>
                    <a:lnTo>
                      <a:pt x="1" y="547"/>
                    </a:lnTo>
                    <a:lnTo>
                      <a:pt x="2" y="547"/>
                    </a:lnTo>
                    <a:lnTo>
                      <a:pt x="2" y="548"/>
                    </a:lnTo>
                    <a:lnTo>
                      <a:pt x="2" y="548"/>
                    </a:lnTo>
                    <a:lnTo>
                      <a:pt x="3" y="548"/>
                    </a:lnTo>
                    <a:lnTo>
                      <a:pt x="3" y="549"/>
                    </a:lnTo>
                    <a:lnTo>
                      <a:pt x="4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549"/>
                    </a:lnTo>
                    <a:lnTo>
                      <a:pt x="73" y="549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19400" y="5404320"/>
                <a:ext cx="107280" cy="765360"/>
              </a:xfrm>
              <a:custGeom>
                <a:avLst/>
                <a:gdLst/>
                <a:ahLst/>
                <a:rect l="l" t="t" r="r" b="b"/>
                <a:pathLst>
                  <a:path w="37" h="350">
                    <a:moveTo>
                      <a:pt x="29" y="349"/>
                    </a:moveTo>
                    <a:lnTo>
                      <a:pt x="29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1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8"/>
                    </a:lnTo>
                    <a:lnTo>
                      <a:pt x="32" y="347"/>
                    </a:lnTo>
                    <a:lnTo>
                      <a:pt x="34" y="347"/>
                    </a:lnTo>
                    <a:lnTo>
                      <a:pt x="34" y="347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4" y="346"/>
                    </a:lnTo>
                    <a:lnTo>
                      <a:pt x="36" y="34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45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8"/>
                    </a:lnTo>
                    <a:lnTo>
                      <a:pt x="0" y="348"/>
                    </a:lnTo>
                    <a:lnTo>
                      <a:pt x="1" y="348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3" y="349"/>
                    </a:lnTo>
                    <a:lnTo>
                      <a:pt x="4" y="349"/>
                    </a:lnTo>
                    <a:lnTo>
                      <a:pt x="29" y="349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68280" y="6334920"/>
                <a:ext cx="107280" cy="5868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8" y="0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2f2da"/>
              </a:solidFill>
              <a:ln cap="rnd"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987480" y="5526000"/>
              <a:ext cx="3405240" cy="4597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XI-DAQ +SCX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2840" y="2760840"/>
            <a:ext cx="7956360" cy="4025880"/>
            <a:chOff x="312840" y="2760840"/>
            <a:chExt cx="7956360" cy="4025880"/>
          </a:xfrm>
        </p:grpSpPr>
        <p:sp>
          <p:nvSpPr>
            <p:cNvPr id="475" name=""/>
            <p:cNvSpPr/>
            <p:nvPr/>
          </p:nvSpPr>
          <p:spPr>
            <a:xfrm>
              <a:off x="6178680" y="4816440"/>
              <a:ext cx="20905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c81b5"/>
                  </a:solidFill>
                  <a:latin typeface="Arial"/>
                </a:rPr>
                <a:t>RF Test Instrument – GPIB et VX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6"/>
            <a:stretch/>
          </p:blipFill>
          <p:spPr>
            <a:xfrm>
              <a:off x="4616280" y="4897440"/>
              <a:ext cx="17240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7" name=""/>
            <p:cNvGrpSpPr/>
            <p:nvPr/>
          </p:nvGrpSpPr>
          <p:grpSpPr>
            <a:xfrm>
              <a:off x="312840" y="2760840"/>
              <a:ext cx="7812000" cy="4025880"/>
              <a:chOff x="312840" y="2760840"/>
              <a:chExt cx="7812000" cy="4025880"/>
            </a:xfrm>
          </p:grpSpPr>
          <p:sp>
            <p:nvSpPr>
              <p:cNvPr id="478" name=""/>
              <p:cNvSpPr/>
              <p:nvPr/>
            </p:nvSpPr>
            <p:spPr>
              <a:xfrm>
                <a:off x="1338120" y="5730840"/>
                <a:ext cx="4283280" cy="947880"/>
              </a:xfrm>
              <a:custGeom>
                <a:avLst/>
                <a:gdLst/>
                <a:ahLst/>
                <a:rect l="l" t="t" r="r" b="b"/>
                <a:pathLst>
                  <a:path w="2698" h="597">
                    <a:moveTo>
                      <a:pt x="298" y="359"/>
                    </a:moveTo>
                    <a:cubicBezTo>
                      <a:pt x="149" y="478"/>
                      <a:pt x="0" y="597"/>
                      <a:pt x="343" y="551"/>
                    </a:cubicBezTo>
                    <a:cubicBezTo>
                      <a:pt x="686" y="505"/>
                      <a:pt x="2012" y="168"/>
                      <a:pt x="2355" y="84"/>
                    </a:cubicBezTo>
                    <a:cubicBezTo>
                      <a:pt x="2698" y="0"/>
                      <a:pt x="2549" y="24"/>
                      <a:pt x="2401" y="48"/>
                    </a:cubicBezTo>
                  </a:path>
                </a:pathLst>
              </a:custGeom>
              <a:noFill/>
              <a:ln cap="rnd" w="57240">
                <a:solidFill>
                  <a:srgbClr val="bebeb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43000" y="6126120"/>
                <a:ext cx="3686400" cy="490680"/>
              </a:xfrm>
              <a:custGeom>
                <a:avLst/>
                <a:gdLst/>
                <a:ahLst/>
                <a:rect l="l" t="t" r="r" b="b"/>
                <a:pathLst>
                  <a:path w="2322" h="309">
                    <a:moveTo>
                      <a:pt x="0" y="0"/>
                    </a:moveTo>
                    <a:cubicBezTo>
                      <a:pt x="186" y="128"/>
                      <a:pt x="372" y="257"/>
                      <a:pt x="658" y="283"/>
                    </a:cubicBezTo>
                    <a:cubicBezTo>
                      <a:pt x="944" y="309"/>
                      <a:pt x="1455" y="157"/>
                      <a:pt x="1719" y="155"/>
                    </a:cubicBezTo>
                    <a:cubicBezTo>
                      <a:pt x="1983" y="153"/>
                      <a:pt x="2158" y="265"/>
                      <a:pt x="2240" y="274"/>
                    </a:cubicBezTo>
                    <a:cubicBezTo>
                      <a:pt x="2322" y="283"/>
                      <a:pt x="2267" y="246"/>
                      <a:pt x="2213" y="210"/>
                    </a:cubicBezTo>
                  </a:path>
                </a:pathLst>
              </a:custGeom>
              <a:noFill/>
              <a:ln cap="rnd" w="76320">
                <a:solidFill>
                  <a:srgbClr val="a8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2840" y="2760840"/>
                <a:ext cx="4035240" cy="203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F Testing Module- Lab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992160" y="3338640"/>
                <a:ext cx="7132680" cy="3061800"/>
                <a:chOff x="992160" y="3338640"/>
                <a:chExt cx="7132680" cy="30618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5072040" y="4029120"/>
                  <a:ext cx="1735200" cy="612720"/>
                </a:xfrm>
                <a:prstGeom prst="rect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a8adb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est R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3713040" y="4382640"/>
                  <a:ext cx="1436760" cy="1204920"/>
                </a:xfrm>
                <a:prstGeom prst="line">
                  <a:avLst/>
                </a:prstGeom>
                <a:ln w="25560">
                  <a:solidFill>
                    <a:srgbClr val="ff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846840" y="3338640"/>
                  <a:ext cx="1278000" cy="1001520"/>
                </a:xfrm>
                <a:prstGeom prst="line">
                  <a:avLst/>
                </a:prstGeom>
                <a:ln cap="rnd" w="57240">
                  <a:solidFill>
                    <a:srgbClr val="a8ad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1562040" y="5173560"/>
                  <a:ext cx="206280" cy="1217520"/>
                  <a:chOff x="1562040" y="5173560"/>
                  <a:chExt cx="206280" cy="12175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1562040" y="5173560"/>
                    <a:ext cx="206280" cy="12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641600" y="5385960"/>
                    <a:ext cx="9396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596960" y="6328080"/>
                    <a:ext cx="939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1790640" y="5186520"/>
                  <a:ext cx="217440" cy="1213920"/>
                  <a:chOff x="1790640" y="5186520"/>
                  <a:chExt cx="217440" cy="12139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1790640" y="5186520"/>
                    <a:ext cx="217440" cy="12139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550">
                        <a:moveTo>
                          <a:pt x="73" y="549"/>
                        </a:moveTo>
                        <a:lnTo>
                          <a:pt x="74" y="549"/>
                        </a:lnTo>
                        <a:lnTo>
                          <a:pt x="74" y="549"/>
                        </a:lnTo>
                        <a:lnTo>
                          <a:pt x="76" y="549"/>
                        </a:lnTo>
                        <a:lnTo>
                          <a:pt x="76" y="548"/>
                        </a:lnTo>
                        <a:lnTo>
                          <a:pt x="77" y="548"/>
                        </a:lnTo>
                        <a:lnTo>
                          <a:pt x="77" y="548"/>
                        </a:lnTo>
                        <a:lnTo>
                          <a:pt x="77" y="547"/>
                        </a:lnTo>
                        <a:lnTo>
                          <a:pt x="78" y="547"/>
                        </a:lnTo>
                        <a:lnTo>
                          <a:pt x="78" y="546"/>
                        </a:lnTo>
                        <a:lnTo>
                          <a:pt x="79" y="546"/>
                        </a:lnTo>
                        <a:lnTo>
                          <a:pt x="79" y="545"/>
                        </a:lnTo>
                        <a:lnTo>
                          <a:pt x="79" y="545"/>
                        </a:lnTo>
                        <a:lnTo>
                          <a:pt x="79" y="544"/>
                        </a:lnTo>
                        <a:lnTo>
                          <a:pt x="79" y="544"/>
                        </a:lnTo>
                        <a:lnTo>
                          <a:pt x="79" y="543"/>
                        </a:lnTo>
                        <a:lnTo>
                          <a:pt x="81" y="543"/>
                        </a:lnTo>
                        <a:lnTo>
                          <a:pt x="81" y="5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79" y="3"/>
                        </a:lnTo>
                        <a:lnTo>
                          <a:pt x="79" y="2"/>
                        </a:lnTo>
                        <a:lnTo>
                          <a:pt x="79" y="2"/>
                        </a:lnTo>
                        <a:lnTo>
                          <a:pt x="78" y="1"/>
                        </a:lnTo>
                        <a:lnTo>
                          <a:pt x="78" y="1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lnTo>
                          <a:pt x="74" y="0"/>
                        </a:lnTo>
                        <a:lnTo>
                          <a:pt x="74" y="0"/>
                        </a:lnTo>
                        <a:lnTo>
                          <a:pt x="7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543"/>
                        </a:lnTo>
                        <a:lnTo>
                          <a:pt x="0" y="543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lnTo>
                          <a:pt x="1" y="545"/>
                        </a:lnTo>
                        <a:lnTo>
                          <a:pt x="1" y="546"/>
                        </a:lnTo>
                        <a:lnTo>
                          <a:pt x="1" y="546"/>
                        </a:lnTo>
                        <a:lnTo>
                          <a:pt x="1" y="547"/>
                        </a:lnTo>
                        <a:lnTo>
                          <a:pt x="2" y="547"/>
                        </a:lnTo>
                        <a:lnTo>
                          <a:pt x="2" y="548"/>
                        </a:lnTo>
                        <a:lnTo>
                          <a:pt x="2" y="548"/>
                        </a:lnTo>
                        <a:lnTo>
                          <a:pt x="3" y="548"/>
                        </a:lnTo>
                        <a:lnTo>
                          <a:pt x="3" y="549"/>
                        </a:lnTo>
                        <a:lnTo>
                          <a:pt x="4" y="549"/>
                        </a:lnTo>
                        <a:lnTo>
                          <a:pt x="4" y="549"/>
                        </a:lnTo>
                        <a:lnTo>
                          <a:pt x="6" y="549"/>
                        </a:lnTo>
                        <a:lnTo>
                          <a:pt x="6" y="549"/>
                        </a:lnTo>
                        <a:lnTo>
                          <a:pt x="73" y="549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874520" y="5398200"/>
                    <a:ext cx="99000" cy="77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50">
                        <a:moveTo>
                          <a:pt x="29" y="349"/>
                        </a:moveTo>
                        <a:lnTo>
                          <a:pt x="29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1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8"/>
                        </a:lnTo>
                        <a:lnTo>
                          <a:pt x="32" y="347"/>
                        </a:lnTo>
                        <a:lnTo>
                          <a:pt x="34" y="347"/>
                        </a:lnTo>
                        <a:lnTo>
                          <a:pt x="34" y="347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4" y="346"/>
                        </a:lnTo>
                        <a:lnTo>
                          <a:pt x="36" y="346"/>
                        </a:lnTo>
                        <a:lnTo>
                          <a:pt x="36" y="4"/>
                        </a:lnTo>
                        <a:lnTo>
                          <a:pt x="34" y="4"/>
                        </a:lnTo>
                        <a:lnTo>
                          <a:pt x="34" y="3"/>
                        </a:lnTo>
                        <a:lnTo>
                          <a:pt x="34" y="3"/>
                        </a:lnTo>
                        <a:lnTo>
                          <a:pt x="34" y="2"/>
                        </a:lnTo>
                        <a:lnTo>
                          <a:pt x="34" y="2"/>
                        </a:lnTo>
                        <a:lnTo>
                          <a:pt x="34" y="1"/>
                        </a:lnTo>
                        <a:lnTo>
                          <a:pt x="32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345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6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7"/>
                        </a:lnTo>
                        <a:lnTo>
                          <a:pt x="0" y="348"/>
                        </a:lnTo>
                        <a:lnTo>
                          <a:pt x="0" y="348"/>
                        </a:lnTo>
                        <a:lnTo>
                          <a:pt x="1" y="348"/>
                        </a:lnTo>
                        <a:lnTo>
                          <a:pt x="1" y="349"/>
                        </a:lnTo>
                        <a:lnTo>
                          <a:pt x="1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3" y="349"/>
                        </a:lnTo>
                        <a:lnTo>
                          <a:pt x="4" y="349"/>
                        </a:lnTo>
                        <a:lnTo>
                          <a:pt x="29" y="349"/>
                        </a:lnTo>
                      </a:path>
                    </a:pathLst>
                  </a:custGeom>
                  <a:solidFill>
                    <a:srgbClr val="7f7f7f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1827360" y="6337440"/>
                    <a:ext cx="990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7">
                        <a:moveTo>
                          <a:pt x="18" y="0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28" y="2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4"/>
                        </a:lnTo>
                        <a:lnTo>
                          <a:pt x="32" y="7"/>
                        </a:lnTo>
                        <a:lnTo>
                          <a:pt x="36" y="7"/>
                        </a:lnTo>
                        <a:lnTo>
                          <a:pt x="36" y="9"/>
                        </a:lnTo>
                        <a:lnTo>
                          <a:pt x="36" y="11"/>
                        </a:lnTo>
                        <a:lnTo>
                          <a:pt x="36" y="11"/>
                        </a:lnTo>
                        <a:lnTo>
                          <a:pt x="36" y="14"/>
                        </a:lnTo>
                        <a:lnTo>
                          <a:pt x="36" y="14"/>
                        </a:lnTo>
                        <a:lnTo>
                          <a:pt x="36" y="16"/>
                        </a:lnTo>
                        <a:lnTo>
                          <a:pt x="32" y="18"/>
                        </a:lnTo>
                        <a:lnTo>
                          <a:pt x="32" y="18"/>
                        </a:lnTo>
                        <a:lnTo>
                          <a:pt x="32" y="21"/>
                        </a:lnTo>
                        <a:lnTo>
                          <a:pt x="32" y="21"/>
                        </a:lnTo>
                        <a:lnTo>
                          <a:pt x="28" y="21"/>
                        </a:lnTo>
                        <a:lnTo>
                          <a:pt x="28" y="23"/>
                        </a:lnTo>
                        <a:lnTo>
                          <a:pt x="28" y="23"/>
                        </a:lnTo>
                        <a:lnTo>
                          <a:pt x="25" y="23"/>
                        </a:lnTo>
                        <a:lnTo>
                          <a:pt x="25" y="26"/>
                        </a:lnTo>
                        <a:lnTo>
                          <a:pt x="21" y="26"/>
                        </a:lnTo>
                        <a:lnTo>
                          <a:pt x="21" y="26"/>
                        </a:lnTo>
                        <a:lnTo>
                          <a:pt x="18" y="26"/>
                        </a:lnTo>
                        <a:lnTo>
                          <a:pt x="18" y="26"/>
                        </a:lnTo>
                        <a:lnTo>
                          <a:pt x="14" y="26"/>
                        </a:lnTo>
                        <a:lnTo>
                          <a:pt x="14" y="26"/>
                        </a:lnTo>
                        <a:lnTo>
                          <a:pt x="10" y="26"/>
                        </a:lnTo>
                        <a:lnTo>
                          <a:pt x="10" y="26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7" y="23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21"/>
                        </a:lnTo>
                        <a:lnTo>
                          <a:pt x="3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f2f2da"/>
                  </a:solidFill>
                  <a:ln cap="rnd" w="12600">
                    <a:solidFill>
                      <a:srgbClr val="ffff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" name=""/>
                <p:cNvSpPr/>
                <p:nvPr/>
              </p:nvSpPr>
              <p:spPr>
                <a:xfrm>
                  <a:off x="992160" y="5537160"/>
                  <a:ext cx="3384720" cy="459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XI-GPIB +PXI MX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4" name=""/>
              <p:cNvGraphicFramePr/>
              <p:nvPr/>
            </p:nvGraphicFramePr>
            <p:xfrm>
              <a:off x="5535720" y="5624640"/>
              <a:ext cx="1407960" cy="1162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35720" y="5624640"/>
                        <a:ext cx="1407960" cy="116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6" name=""/>
              <p:cNvSpPr/>
              <p:nvPr/>
            </p:nvSpPr>
            <p:spPr>
              <a:xfrm>
                <a:off x="4264200" y="2846520"/>
                <a:ext cx="855360" cy="1406520"/>
              </a:xfrm>
              <a:prstGeom prst="line">
                <a:avLst/>
              </a:prstGeom>
              <a:ln cap="rnd" w="1908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vantages d’un logiciel d’organisation de tests en produc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éveloppement amélior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Duplication facilité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utilisation du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ationaliser la prod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yen de test intelligent, efficace et évoluti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Moteur d’exécution optimisé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Réduire la mainte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Éliminer l’obsolesc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Faciliter le support et la 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 Narrow"/>
              </a:rPr>
              <a:t>Acheter ou tout développer en interne 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86200" y="1467000"/>
            <a:ext cx="4267080" cy="4019400"/>
            <a:chOff x="3886200" y="1467000"/>
            <a:chExt cx="4267080" cy="4019400"/>
          </a:xfrm>
        </p:grpSpPr>
        <p:sp>
          <p:nvSpPr>
            <p:cNvPr id="501" name=""/>
            <p:cNvSpPr/>
            <p:nvPr/>
          </p:nvSpPr>
          <p:spPr>
            <a:xfrm>
              <a:off x="389880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8620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920" y="1295280"/>
            <a:ext cx="37335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15560" y="5538960"/>
            <a:ext cx="2631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ffor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038480" y="1447920"/>
            <a:ext cx="5029200" cy="3809880"/>
            <a:chOff x="4038480" y="1447920"/>
            <a:chExt cx="5029200" cy="3809880"/>
          </a:xfrm>
        </p:grpSpPr>
        <p:sp>
          <p:nvSpPr>
            <p:cNvPr id="506" name=""/>
            <p:cNvSpPr/>
            <p:nvPr/>
          </p:nvSpPr>
          <p:spPr>
            <a:xfrm>
              <a:off x="40384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84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84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384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384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384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384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84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84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4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384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172200" y="105876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57760" y="100476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Temps de dévelop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 Narrow"/>
              </a:rPr>
              <a:t>Réduction significative des coûts de développe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33640" y="1467000"/>
            <a:ext cx="4267080" cy="4019400"/>
            <a:chOff x="3833640" y="1467000"/>
            <a:chExt cx="4267080" cy="4019400"/>
          </a:xfrm>
        </p:grpSpPr>
        <p:sp>
          <p:nvSpPr>
            <p:cNvPr id="523" name=""/>
            <p:cNvSpPr/>
            <p:nvPr/>
          </p:nvSpPr>
          <p:spPr>
            <a:xfrm>
              <a:off x="3846240" y="1467000"/>
              <a:ext cx="0" cy="401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33640" y="548640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04920" y="1295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ce opérateur personnal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teur d’exé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erfaçage langages d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Évaluation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des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Rapports (XML, HTML, AS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bas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Intégration comm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Gestion numéros d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de 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Chargement test des li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ise à 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nvironnement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54720" y="5538960"/>
            <a:ext cx="263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ffor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 de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86280" y="1447920"/>
            <a:ext cx="5029200" cy="3809880"/>
            <a:chOff x="3986280" y="1447920"/>
            <a:chExt cx="5029200" cy="3809880"/>
          </a:xfrm>
        </p:grpSpPr>
        <p:sp>
          <p:nvSpPr>
            <p:cNvPr id="528" name=""/>
            <p:cNvSpPr/>
            <p:nvPr/>
          </p:nvSpPr>
          <p:spPr>
            <a:xfrm>
              <a:off x="3986280" y="1447920"/>
              <a:ext cx="3505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86280" y="2013120"/>
              <a:ext cx="2743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86280" y="230508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6280" y="2908440"/>
              <a:ext cx="16765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86280" y="3200400"/>
              <a:ext cx="2362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86280" y="3505320"/>
              <a:ext cx="22096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3810240"/>
              <a:ext cx="9907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86280" y="441972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86280" y="4724640"/>
              <a:ext cx="198108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86280" y="5029200"/>
              <a:ext cx="5029200" cy="228600"/>
            </a:xfrm>
            <a:prstGeom prst="rect">
              <a:avLst/>
            </a:prstGeom>
            <a:gradFill rotWithShape="0">
              <a:gsLst>
                <a:gs pos="0">
                  <a:srgbClr val="fca594"/>
                </a:gs>
                <a:gs pos="100000">
                  <a:srgbClr val="744c4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832440" y="3276720"/>
            <a:ext cx="457200" cy="228600"/>
          </a:xfrm>
          <a:prstGeom prst="rect">
            <a:avLst/>
          </a:prstGeom>
          <a:gradFill rotWithShape="0">
            <a:gsLst>
              <a:gs pos="0">
                <a:srgbClr val="fca594"/>
              </a:gs>
              <a:gs pos="100000">
                <a:srgbClr val="744c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44640" y="32004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onnali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8080" y="38862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st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86280" y="1447920"/>
            <a:ext cx="4724280" cy="3809880"/>
            <a:chOff x="3986280" y="1447920"/>
            <a:chExt cx="4724280" cy="3809880"/>
          </a:xfrm>
        </p:grpSpPr>
        <p:sp>
          <p:nvSpPr>
            <p:cNvPr id="545" name=""/>
            <p:cNvSpPr/>
            <p:nvPr/>
          </p:nvSpPr>
          <p:spPr>
            <a:xfrm>
              <a:off x="3986280" y="1447920"/>
              <a:ext cx="2895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86280" y="1733760"/>
              <a:ext cx="44197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86280" y="2013120"/>
              <a:ext cx="2438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86280" y="230508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6280" y="2603520"/>
              <a:ext cx="13716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86280" y="2908440"/>
              <a:ext cx="15238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86280" y="320040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86280" y="35053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86280" y="3810240"/>
              <a:ext cx="91440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86280" y="4114800"/>
              <a:ext cx="12193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86280" y="4419720"/>
              <a:ext cx="190512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86280" y="4724640"/>
              <a:ext cx="17524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6280" y="5029200"/>
              <a:ext cx="4724280" cy="228600"/>
            </a:xfrm>
            <a:prstGeom prst="rect">
              <a:avLst/>
            </a:prstGeom>
            <a:gradFill rotWithShape="0">
              <a:gsLst>
                <a:gs pos="0">
                  <a:srgbClr val="9dfa96"/>
                </a:gs>
                <a:gs pos="100000">
                  <a:srgbClr val="5a8f5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32440" y="4114800"/>
            <a:ext cx="457200" cy="228600"/>
          </a:xfrm>
          <a:prstGeom prst="rect">
            <a:avLst/>
          </a:prstGeom>
          <a:gradFill rotWithShape="0">
            <a:gsLst>
              <a:gs pos="0">
                <a:srgbClr val="9dfa96"/>
              </a:gs>
              <a:gs pos="100000">
                <a:srgbClr val="5a8f5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0:46:34Z</dcterms:created>
  <dc:creator>Ryan Ramcharan</dc:creator>
  <dc:description/>
  <dc:language>en-US</dc:language>
  <cp:lastModifiedBy>Service Informatique</cp:lastModifiedBy>
  <dcterms:modified xsi:type="dcterms:W3CDTF">2003-04-04T08:34:20Z</dcterms:modified>
  <cp:revision>290</cp:revision>
  <dc:subject/>
  <dc:title>PowerPoint Presentation</dc:title>
</cp:coreProperties>
</file>