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30.png" ContentType="image/png"/>
  <Override PartName="/ppt/media/image37.jpeg" ContentType="image/jpeg"/>
  <Override PartName="/ppt/media/image26.png" ContentType="image/png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3.wmf" ContentType="image/x-wmf"/>
  <Override PartName="/ppt/media/image10.wmf" ContentType="image/x-wmf"/>
  <Override PartName="/ppt/media/image11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38.jpeg" ContentType="image/jpeg"/>
  <Override PartName="/ppt/media/image8.png" ContentType="image/png"/>
  <Override PartName="/ppt/media/image33.png" ContentType="image/png"/>
  <Override PartName="/ppt/media/image7.wmf" ContentType="image/x-wmf"/>
  <Override PartName="/ppt/media/image12.png" ContentType="image/png"/>
  <Override PartName="/ppt/media/image31.png" ContentType="image/png"/>
  <Override PartName="/ppt/media/image29.png" ContentType="image/png"/>
  <Override PartName="/ppt/media/image39.wmf" ContentType="image/x-wmf"/>
  <Override PartName="/ppt/media/image19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4562-B459-4743-91FB-37A79B295623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51AD-15DD-4502-B2A1-2FFB853DBD3B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134B-06D5-4A93-9BDA-1B9D25083931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D13C-0AA9-4C25-BF3D-A5C767EE1EC1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1A38-ED31-4806-8A24-65B8FD473F11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6C3E-F8A6-4F2F-B61D-98273CBAB138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1B86-D750-4E83-8549-1E7694F1FB54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FF8B-E0E2-45AC-B144-5F39B23AAC9E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19240" y="66672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7280" y="4374720"/>
            <a:ext cx="5049720" cy="40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xemple d’application utilisant la plate-forme TestStand2.0-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95EDE-C2E4-4542-99DF-5D47FC771F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5418D-BD32-400F-B01B-ADA269D8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793E0-2FF9-4F9A-823C-2A7B0925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F24EE-0449-4BC4-9F1D-B72A27FB86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DBA87-947D-4F1B-AF77-7266F2923F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9E656-A522-495C-9B1F-2B0973C8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424ED-AD1D-46AD-AAB5-E984BE64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4FBB2-DE4A-439D-B6EB-6C5B4CA3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37DB9-8541-41F2-91AA-EB62AFE8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EBB46-AF20-4E27-BCC5-1D38608C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A9548-28D6-4410-A76A-AA79B873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DA99-BA36-4D9E-8CC8-30844304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1F7E2-8360-4D0E-BF7E-C3E0D255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769F4-6FB3-4B5A-835F-77389A49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5ADAA-F776-4210-8A05-E08C2A49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12F84-5E29-499B-8F52-170749CB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8E151-8C75-41CE-B66B-3BD002F066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6ABED-2C35-498C-9788-1CFAD86F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A392E-AFD3-4954-8751-43789D31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91BE5-4A43-47DC-89A5-E9D19439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ADC21-63A6-4478-9A59-D6EB9A08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87219-C763-49A2-8B21-F544F26B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E91CD-BB0B-495A-9063-0B9A2C70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A89D4-7BB2-4ECA-BD6E-90D9CA53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206360" indent="-23472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36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5C00-B9FD-479B-A4B4-67E53116196B}" type="slidenum"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838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6399-A6D5-4D94-BF7E-858682D435E5}" type="slidenum"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2905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68112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7164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320840" algn="ctr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32084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32084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76720" y="4572000"/>
          <a:ext cx="2819160" cy="12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572000"/>
                    <a:ext cx="281916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(new)3D%20ni%20teststand" descr=""/>
          <p:cNvPicPr/>
          <p:nvPr/>
        </p:nvPicPr>
        <p:blipFill>
          <a:blip r:embed="rId3"/>
          <a:stretch/>
        </p:blipFill>
        <p:spPr>
          <a:xfrm>
            <a:off x="762120" y="457200"/>
            <a:ext cx="7696080" cy="1989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259092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Nouveau standard pour le test automati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Raphaël Til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 Narrow"/>
              </a:rPr>
              <a:t>Évaluation des réductions de coûts en lign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4343400" cy="353880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3962520" y="1752480"/>
            <a:ext cx="4343400" cy="351792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2215800" y="5410080"/>
            <a:ext cx="46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i.com/webappdemos/buildvsbuyca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stStand : logiciel de gestion de test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4" name=""/>
          <p:cNvSpPr/>
          <p:nvPr/>
        </p:nvSpPr>
        <p:spPr>
          <a:xfrm>
            <a:off x="380880" y="1295280"/>
            <a:ext cx="3810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Appeler du code écrit dans tous les lang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Test parallè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Génération automatique de ra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Modulaire et personnalis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Interfaces opérateurs flex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4114800" y="3807000"/>
            <a:ext cx="3230640" cy="1787400"/>
          </a:xfrm>
          <a:prstGeom prst="rect">
            <a:avLst/>
          </a:prstGeom>
          <a:ln cap="rnd" w="12600">
            <a:solidFill>
              <a:srgbClr val="000000"/>
            </a:solidFill>
            <a:miter/>
          </a:ln>
        </p:spPr>
      </p:pic>
      <p:graphicFrame>
        <p:nvGraphicFramePr>
          <p:cNvPr id="566" name=""/>
          <p:cNvGraphicFramePr/>
          <p:nvPr/>
        </p:nvGraphicFramePr>
        <p:xfrm>
          <a:off x="5175360" y="2558880"/>
          <a:ext cx="3171600" cy="18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75360" y="2558880"/>
                    <a:ext cx="317160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3962520" y="1066680"/>
          <a:ext cx="3238560" cy="1471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62520" y="1066680"/>
                    <a:ext cx="323856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rchitecture TestStand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1" name=""/>
          <p:cNvSpPr/>
          <p:nvPr/>
        </p:nvSpPr>
        <p:spPr>
          <a:xfrm>
            <a:off x="685800" y="1143000"/>
            <a:ext cx="2411280" cy="934920"/>
          </a:xfrm>
          <a:prstGeom prst="roundRect">
            <a:avLst>
              <a:gd name="adj" fmla="val 16667"/>
            </a:avLst>
          </a:prstGeom>
          <a:solidFill>
            <a:srgbClr val="8e5872"/>
          </a:solidFill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Interfa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opér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24480" y="1143000"/>
            <a:ext cx="2237040" cy="934920"/>
          </a:xfrm>
          <a:prstGeom prst="roundRect">
            <a:avLst>
              <a:gd name="adj" fmla="val 16667"/>
            </a:avLst>
          </a:prstGeom>
          <a:solidFill>
            <a:srgbClr val="8e5872"/>
          </a:solidFill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Éditeur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é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838080" y="3111480"/>
            <a:ext cx="7338960" cy="762120"/>
            <a:chOff x="838080" y="3111480"/>
            <a:chExt cx="7338960" cy="762120"/>
          </a:xfrm>
        </p:grpSpPr>
        <p:sp>
          <p:nvSpPr>
            <p:cNvPr id="574" name=""/>
            <p:cNvSpPr/>
            <p:nvPr/>
          </p:nvSpPr>
          <p:spPr>
            <a:xfrm>
              <a:off x="838080" y="3111480"/>
              <a:ext cx="7338960" cy="762120"/>
            </a:xfrm>
            <a:prstGeom prst="roundRect">
              <a:avLst>
                <a:gd name="adj" fmla="val 16667"/>
              </a:avLst>
            </a:prstGeom>
            <a:solidFill>
              <a:srgbClr val="697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899000" y="3276720"/>
              <a:ext cx="538056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teur TestStand (Serveur Active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695600" y="2035080"/>
            <a:ext cx="0" cy="40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981080" y="2035080"/>
            <a:ext cx="0" cy="40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407760" y="1295280"/>
            <a:ext cx="261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5872"/>
                </a:solidFill>
                <a:latin typeface="Arial Narrow"/>
              </a:rPr>
              <a:t>Clients Activ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838080" y="2438280"/>
            <a:ext cx="7320240" cy="644760"/>
            <a:chOff x="838080" y="2438280"/>
            <a:chExt cx="7320240" cy="644760"/>
          </a:xfrm>
        </p:grpSpPr>
        <p:sp>
          <p:nvSpPr>
            <p:cNvPr id="580" name=""/>
            <p:cNvSpPr/>
            <p:nvPr/>
          </p:nvSpPr>
          <p:spPr>
            <a:xfrm>
              <a:off x="838080" y="2438280"/>
              <a:ext cx="7320240" cy="644760"/>
            </a:xfrm>
            <a:prstGeom prst="roundRect">
              <a:avLst>
                <a:gd name="adj" fmla="val 16667"/>
              </a:avLst>
            </a:prstGeom>
            <a:solidFill>
              <a:srgbClr val="edb90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249200" y="2560680"/>
              <a:ext cx="6567480" cy="415800"/>
            </a:xfrm>
            <a:prstGeom prst="rect">
              <a:avLst/>
            </a:prstGeom>
            <a:solidFill>
              <a:srgbClr val="edb9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PI TestSt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7162920" y="2057400"/>
            <a:ext cx="0" cy="40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7467480" y="2057400"/>
            <a:ext cx="0" cy="40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685800" y="4267080"/>
          <a:ext cx="762012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267080"/>
                    <a:ext cx="762012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6" name=""/>
          <p:cNvGrpSpPr/>
          <p:nvPr/>
        </p:nvGrpSpPr>
        <p:grpSpPr>
          <a:xfrm>
            <a:off x="1371600" y="3886200"/>
            <a:ext cx="6248520" cy="479520"/>
            <a:chOff x="1371600" y="3886200"/>
            <a:chExt cx="6248520" cy="479520"/>
          </a:xfrm>
        </p:grpSpPr>
        <p:sp>
          <p:nvSpPr>
            <p:cNvPr id="587" name=""/>
            <p:cNvSpPr/>
            <p:nvPr/>
          </p:nvSpPr>
          <p:spPr>
            <a:xfrm>
              <a:off x="4572000" y="3886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371600" y="4038480"/>
              <a:ext cx="624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84200" y="4060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43200" y="4060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962520" y="4060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05520" y="4060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24480" y="4060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594560" y="40482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Éditeur de séquences de TestStand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5333760" cy="382428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457200" y="1143000"/>
            <a:ext cx="3048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Cré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Éd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"Manager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Exéc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"Debugger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Émettre un ra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Distrib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Gestion utilisa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Personnali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Comment développer un programme TestStand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516480" y="2362320"/>
          <a:ext cx="546408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6480" y="2362320"/>
                    <a:ext cx="54640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533520" y="1387440"/>
            <a:ext cx="2895480" cy="762120"/>
          </a:xfrm>
          <a:prstGeom prst="rect">
            <a:avLst/>
          </a:prstGeom>
          <a:solidFill>
            <a:srgbClr val="a8adb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quenc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57200" y="1295280"/>
            <a:ext cx="0" cy="4496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533520" y="3946680"/>
            <a:ext cx="4038480" cy="1311120"/>
            <a:chOff x="533520" y="3946680"/>
            <a:chExt cx="4038480" cy="1311120"/>
          </a:xfrm>
        </p:grpSpPr>
        <p:sp>
          <p:nvSpPr>
            <p:cNvPr id="604" name=""/>
            <p:cNvSpPr/>
            <p:nvPr/>
          </p:nvSpPr>
          <p:spPr>
            <a:xfrm>
              <a:off x="533520" y="4648320"/>
              <a:ext cx="2895480" cy="609480"/>
            </a:xfrm>
            <a:prstGeom prst="rect">
              <a:avLst/>
            </a:prstGeom>
            <a:solidFill>
              <a:srgbClr val="8e587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ode Module(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609480" y="3946680"/>
              <a:ext cx="3962520" cy="1236960"/>
              <a:chOff x="609480" y="3946680"/>
              <a:chExt cx="3962520" cy="123696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609480" y="4784760"/>
                <a:ext cx="353880" cy="398880"/>
                <a:chOff x="609480" y="4784760"/>
                <a:chExt cx="353880" cy="39888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611280" y="478476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b0b"/>
                      </a:solidFill>
                      <a:latin typeface="Arial"/>
                      <a:ea typeface="Times New Roman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609480" y="4784760"/>
                  <a:ext cx="353880" cy="383760"/>
                </a:xfrm>
                <a:prstGeom prst="ellipse">
                  <a:avLst/>
                </a:prstGeom>
                <a:noFill/>
                <a:ln w="9360">
                  <a:solidFill>
                    <a:srgbClr val="ff0b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4218120" y="3946680"/>
                <a:ext cx="353880" cy="398880"/>
                <a:chOff x="4218120" y="3946680"/>
                <a:chExt cx="353880" cy="39888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4219920" y="394668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b0b"/>
                      </a:solidFill>
                      <a:latin typeface="Arial"/>
                      <a:ea typeface="Times New Roman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218120" y="3946680"/>
                  <a:ext cx="353880" cy="383760"/>
                </a:xfrm>
                <a:prstGeom prst="ellipse">
                  <a:avLst/>
                </a:prstGeom>
                <a:noFill/>
                <a:ln w="9360">
                  <a:solidFill>
                    <a:srgbClr val="ff0b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2" name=""/>
          <p:cNvGrpSpPr/>
          <p:nvPr/>
        </p:nvGrpSpPr>
        <p:grpSpPr>
          <a:xfrm>
            <a:off x="596880" y="1569960"/>
            <a:ext cx="5813280" cy="792360"/>
            <a:chOff x="596880" y="1569960"/>
            <a:chExt cx="5813280" cy="792360"/>
          </a:xfrm>
        </p:grpSpPr>
        <p:grpSp>
          <p:nvGrpSpPr>
            <p:cNvPr id="613" name=""/>
            <p:cNvGrpSpPr/>
            <p:nvPr/>
          </p:nvGrpSpPr>
          <p:grpSpPr>
            <a:xfrm>
              <a:off x="596880" y="1569960"/>
              <a:ext cx="353880" cy="398880"/>
              <a:chOff x="596880" y="1569960"/>
              <a:chExt cx="353880" cy="398880"/>
            </a:xfrm>
          </p:grpSpPr>
          <p:sp>
            <p:nvSpPr>
              <p:cNvPr id="614" name=""/>
              <p:cNvSpPr/>
              <p:nvPr/>
            </p:nvSpPr>
            <p:spPr>
              <a:xfrm>
                <a:off x="598680" y="15699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b0b"/>
                    </a:solidFill>
                    <a:latin typeface="Arial"/>
                    <a:ea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96880" y="1569960"/>
                <a:ext cx="353880" cy="384120"/>
              </a:xfrm>
              <a:prstGeom prst="ellipse">
                <a:avLst/>
              </a:prstGeom>
              <a:noFill/>
              <a:ln w="9360">
                <a:solidFill>
                  <a:srgbClr val="ff0b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6056280" y="1895400"/>
              <a:ext cx="353880" cy="398880"/>
              <a:chOff x="6056280" y="1895400"/>
              <a:chExt cx="353880" cy="398880"/>
            </a:xfrm>
          </p:grpSpPr>
          <p:sp>
            <p:nvSpPr>
              <p:cNvPr id="617" name=""/>
              <p:cNvSpPr/>
              <p:nvPr/>
            </p:nvSpPr>
            <p:spPr>
              <a:xfrm>
                <a:off x="6058080" y="18954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b0b"/>
                    </a:solidFill>
                    <a:latin typeface="Arial"/>
                    <a:ea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056280" y="1895400"/>
                <a:ext cx="353880" cy="384120"/>
              </a:xfrm>
              <a:prstGeom prst="ellipse">
                <a:avLst/>
              </a:prstGeom>
              <a:noFill/>
              <a:ln w="9360">
                <a:solidFill>
                  <a:srgbClr val="ff0b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 flipH="1">
              <a:off x="5446440" y="2149560"/>
              <a:ext cx="609840" cy="212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533520" y="2265480"/>
            <a:ext cx="7619760" cy="1486080"/>
            <a:chOff x="533520" y="2265480"/>
            <a:chExt cx="7619760" cy="1486080"/>
          </a:xfrm>
        </p:grpSpPr>
        <p:sp>
          <p:nvSpPr>
            <p:cNvPr id="621" name=""/>
            <p:cNvSpPr/>
            <p:nvPr/>
          </p:nvSpPr>
          <p:spPr>
            <a:xfrm>
              <a:off x="533520" y="2265480"/>
              <a:ext cx="2895480" cy="685800"/>
            </a:xfrm>
            <a:prstGeom prst="rect">
              <a:avLst/>
            </a:prstGeom>
            <a:solidFill>
              <a:srgbClr val="5c81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equence(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584280" y="2435400"/>
              <a:ext cx="7569000" cy="1316160"/>
              <a:chOff x="584280" y="2435400"/>
              <a:chExt cx="7569000" cy="1316160"/>
            </a:xfrm>
          </p:grpSpPr>
          <p:grpSp>
            <p:nvGrpSpPr>
              <p:cNvPr id="623" name=""/>
              <p:cNvGrpSpPr/>
              <p:nvPr/>
            </p:nvGrpSpPr>
            <p:grpSpPr>
              <a:xfrm>
                <a:off x="584280" y="2435400"/>
                <a:ext cx="353880" cy="398880"/>
                <a:chOff x="584280" y="2435400"/>
                <a:chExt cx="353880" cy="39888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586080" y="243540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b0b"/>
                      </a:solidFill>
                      <a:latin typeface="Arial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84280" y="2435400"/>
                  <a:ext cx="353880" cy="383760"/>
                </a:xfrm>
                <a:prstGeom prst="ellipse">
                  <a:avLst/>
                </a:prstGeom>
                <a:noFill/>
                <a:ln w="9360">
                  <a:solidFill>
                    <a:srgbClr val="ff0b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7799400" y="3352680"/>
                <a:ext cx="353880" cy="398880"/>
                <a:chOff x="7799400" y="3352680"/>
                <a:chExt cx="353880" cy="39888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7801200" y="335268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b0b"/>
                      </a:solidFill>
                      <a:latin typeface="Arial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7799400" y="3352680"/>
                  <a:ext cx="353880" cy="384120"/>
                </a:xfrm>
                <a:prstGeom prst="ellipse">
                  <a:avLst/>
                </a:prstGeom>
                <a:noFill/>
                <a:ln w="9360">
                  <a:solidFill>
                    <a:srgbClr val="ff0b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29" name=""/>
          <p:cNvGrpSpPr/>
          <p:nvPr/>
        </p:nvGrpSpPr>
        <p:grpSpPr>
          <a:xfrm>
            <a:off x="533520" y="2832120"/>
            <a:ext cx="3574800" cy="974880"/>
            <a:chOff x="533520" y="2832120"/>
            <a:chExt cx="3574800" cy="974880"/>
          </a:xfrm>
        </p:grpSpPr>
        <p:sp>
          <p:nvSpPr>
            <p:cNvPr id="630" name=""/>
            <p:cNvSpPr/>
            <p:nvPr/>
          </p:nvSpPr>
          <p:spPr>
            <a:xfrm>
              <a:off x="533520" y="3067200"/>
              <a:ext cx="2895480" cy="739800"/>
            </a:xfrm>
            <a:prstGeom prst="rect">
              <a:avLst/>
            </a:prstGeom>
            <a:solidFill>
              <a:srgbClr val="697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 Grou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(Setup, Main, Cleanu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585720" y="2832120"/>
              <a:ext cx="3522600" cy="795960"/>
              <a:chOff x="585720" y="2832120"/>
              <a:chExt cx="3522600" cy="795960"/>
            </a:xfrm>
          </p:grpSpPr>
          <p:grpSp>
            <p:nvGrpSpPr>
              <p:cNvPr id="632" name=""/>
              <p:cNvGrpSpPr/>
              <p:nvPr/>
            </p:nvGrpSpPr>
            <p:grpSpPr>
              <a:xfrm>
                <a:off x="585720" y="3229200"/>
                <a:ext cx="365040" cy="398880"/>
                <a:chOff x="585720" y="3229200"/>
                <a:chExt cx="365040" cy="39888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585720" y="322920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b0b"/>
                      </a:solidFill>
                      <a:latin typeface="Arial"/>
                      <a:ea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92200" y="3229200"/>
                  <a:ext cx="354240" cy="383760"/>
                </a:xfrm>
                <a:prstGeom prst="ellipse">
                  <a:avLst/>
                </a:prstGeom>
                <a:noFill/>
                <a:ln w="9360">
                  <a:solidFill>
                    <a:srgbClr val="ff0b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3743280" y="2832120"/>
                <a:ext cx="365040" cy="398880"/>
                <a:chOff x="3743280" y="2832120"/>
                <a:chExt cx="365040" cy="3988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3743280" y="283212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b0b"/>
                      </a:solidFill>
                      <a:latin typeface="Arial"/>
                      <a:ea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749760" y="2832120"/>
                  <a:ext cx="354240" cy="384120"/>
                </a:xfrm>
                <a:prstGeom prst="ellipse">
                  <a:avLst/>
                </a:prstGeom>
                <a:noFill/>
                <a:ln w="9360">
                  <a:solidFill>
                    <a:srgbClr val="ff0b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38" name=""/>
          <p:cNvGrpSpPr/>
          <p:nvPr/>
        </p:nvGrpSpPr>
        <p:grpSpPr>
          <a:xfrm>
            <a:off x="533520" y="3579840"/>
            <a:ext cx="5865120" cy="952560"/>
            <a:chOff x="533520" y="3579840"/>
            <a:chExt cx="5865120" cy="952560"/>
          </a:xfrm>
        </p:grpSpPr>
        <p:sp>
          <p:nvSpPr>
            <p:cNvPr id="639" name=""/>
            <p:cNvSpPr/>
            <p:nvPr/>
          </p:nvSpPr>
          <p:spPr>
            <a:xfrm>
              <a:off x="533520" y="3922560"/>
              <a:ext cx="2895480" cy="609840"/>
            </a:xfrm>
            <a:prstGeom prst="rect">
              <a:avLst/>
            </a:prstGeom>
            <a:solidFill>
              <a:srgbClr val="edb90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(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585720" y="3579840"/>
              <a:ext cx="5812920" cy="871920"/>
              <a:chOff x="585720" y="3579840"/>
              <a:chExt cx="5812920" cy="871920"/>
            </a:xfrm>
          </p:grpSpPr>
          <p:grpSp>
            <p:nvGrpSpPr>
              <p:cNvPr id="641" name=""/>
              <p:cNvGrpSpPr/>
              <p:nvPr/>
            </p:nvGrpSpPr>
            <p:grpSpPr>
              <a:xfrm>
                <a:off x="585720" y="4052880"/>
                <a:ext cx="365040" cy="398880"/>
                <a:chOff x="585720" y="4052880"/>
                <a:chExt cx="365040" cy="3988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585720" y="4052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b0b"/>
                      </a:solidFill>
                      <a:latin typeface="Arial"/>
                      <a:ea typeface="Times New Roman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90760" y="4052880"/>
                  <a:ext cx="353880" cy="383760"/>
                </a:xfrm>
                <a:prstGeom prst="ellipse">
                  <a:avLst/>
                </a:prstGeom>
                <a:noFill/>
                <a:ln w="9360">
                  <a:solidFill>
                    <a:srgbClr val="ff0b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437080" y="3579840"/>
                <a:ext cx="961560" cy="763560"/>
                <a:chOff x="5437080" y="3579840"/>
                <a:chExt cx="961560" cy="763560"/>
              </a:xfrm>
            </p:grpSpPr>
            <p:grpSp>
              <p:nvGrpSpPr>
                <p:cNvPr id="645" name=""/>
                <p:cNvGrpSpPr/>
                <p:nvPr/>
              </p:nvGrpSpPr>
              <p:grpSpPr>
                <a:xfrm>
                  <a:off x="6033600" y="3736800"/>
                  <a:ext cx="365040" cy="398880"/>
                  <a:chOff x="6033600" y="3736800"/>
                  <a:chExt cx="365040" cy="39888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>
                    <a:off x="6033600" y="3736800"/>
                    <a:ext cx="365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b0b"/>
                        </a:solidFill>
                        <a:latin typeface="Arial"/>
                        <a:ea typeface="Times New Roman"/>
                      </a:rPr>
                      <a:t>D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6038640" y="3736800"/>
                    <a:ext cx="353880" cy="384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0b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8" name=""/>
                <p:cNvGrpSpPr/>
                <p:nvPr/>
              </p:nvGrpSpPr>
              <p:grpSpPr>
                <a:xfrm>
                  <a:off x="5437080" y="3579840"/>
                  <a:ext cx="595080" cy="763560"/>
                  <a:chOff x="5437080" y="3579840"/>
                  <a:chExt cx="595080" cy="76356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5437080" y="4343400"/>
                    <a:ext cx="42048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5437080" y="3581280"/>
                    <a:ext cx="42516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5857560" y="3579840"/>
                    <a:ext cx="0" cy="7635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5857560" y="3935160"/>
                    <a:ext cx="17460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Appeler des modules de tes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4572000" y="1720800"/>
            <a:ext cx="4343400" cy="224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55" name=""/>
          <p:cNvSpPr/>
          <p:nvPr/>
        </p:nvSpPr>
        <p:spPr>
          <a:xfrm>
            <a:off x="457200" y="1752480"/>
            <a:ext cx="40384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écanisme d’adaptateurs pour appeler des modules d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odules de test disponibles pour les langages de programmation les plus cou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4197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réer et éditer des modules de test direc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à partir de l’Éditeur de sé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Des types de tests pré-défini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5486400" cy="393552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533520" y="1141920"/>
            <a:ext cx="27622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Pass/f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Numeric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Multinumeric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Str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quence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essage pop-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ll execu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ynchro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perty lo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es types de tests personnalisabl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1" name=""/>
          <p:cNvSpPr/>
          <p:nvPr/>
        </p:nvSpPr>
        <p:spPr>
          <a:xfrm>
            <a:off x="609480" y="1164240"/>
            <a:ext cx="624852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89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TestStand permet la création de tests personnalis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3505320" y="1676520"/>
            <a:ext cx="4647600" cy="2590200"/>
            <a:chOff x="3505320" y="1676520"/>
            <a:chExt cx="4647600" cy="2590200"/>
          </a:xfrm>
        </p:grpSpPr>
        <p:pic>
          <p:nvPicPr>
            <p:cNvPr id="663" name="" descr=""/>
            <p:cNvPicPr/>
            <p:nvPr/>
          </p:nvPicPr>
          <p:blipFill>
            <a:blip r:embed="rId1"/>
            <a:stretch/>
          </p:blipFill>
          <p:spPr>
            <a:xfrm>
              <a:off x="3505320" y="1676520"/>
              <a:ext cx="2365920" cy="14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5787000" y="2756160"/>
              <a:ext cx="2365920" cy="151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"/>
          <p:cNvSpPr/>
          <p:nvPr/>
        </p:nvSpPr>
        <p:spPr>
          <a:xfrm>
            <a:off x="609480" y="3199320"/>
            <a:ext cx="4800600" cy="27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89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es tests personnalisés permettent de contrôle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buClr>
                <a:srgbClr val="000000"/>
              </a:buClr>
              <a:buFont typeface="Arial Narrow"/>
              <a:buChar char="–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es propriétés/valeurs du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buClr>
                <a:srgbClr val="000000"/>
              </a:buClr>
              <a:buFont typeface="Arial Narrow"/>
              <a:buChar char="–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es boîtes de dialo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buClr>
                <a:srgbClr val="000000"/>
              </a:buClr>
              <a:buFont typeface="Arial Narrow"/>
              <a:buChar char="–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e comportement à l’exé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buClr>
                <a:srgbClr val="000000"/>
              </a:buClr>
              <a:buFont typeface="Arial Narrow"/>
              <a:buChar char="–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'appa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buClr>
                <a:srgbClr val="000000"/>
              </a:buClr>
              <a:buFont typeface="Arial Narrow"/>
              <a:buChar char="–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a génération d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Capacités de "debugging" de TestStand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" y="1523880"/>
            <a:ext cx="6781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"Debugging" immédiat du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"Debugging" de code LabVIEW, LabWindows/CVI, Measurement Studio et Visual Basic directement à partir de Test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urveiller variables, propriétés, et expressions de TestStand à l’exécution à l’aide d’une fenêtre de visu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BS00015_" descr=""/>
          <p:cNvPicPr/>
          <p:nvPr/>
        </p:nvPicPr>
        <p:blipFill>
          <a:blip r:embed="rId1"/>
          <a:stretch/>
        </p:blipFill>
        <p:spPr>
          <a:xfrm>
            <a:off x="6781680" y="1219320"/>
            <a:ext cx="160668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Interfaces opérateurs flexibl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0" name=""/>
          <p:cNvSpPr/>
          <p:nvPr/>
        </p:nvSpPr>
        <p:spPr>
          <a:xfrm>
            <a:off x="533520" y="1295280"/>
            <a:ext cx="4248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Application installée sur le poste de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Exemples prêts-à-l’emploi écrits en LabVIEW, LabWindows/CVI, Visual Basic et Delp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Code source fourni pour personn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4952880" y="1447920"/>
            <a:ext cx="3886200" cy="2971800"/>
            <a:chOff x="4952880" y="1447920"/>
            <a:chExt cx="3886200" cy="2971800"/>
          </a:xfrm>
        </p:grpSpPr>
        <p:sp>
          <p:nvSpPr>
            <p:cNvPr id="672" name=""/>
            <p:cNvSpPr/>
            <p:nvPr/>
          </p:nvSpPr>
          <p:spPr>
            <a:xfrm>
              <a:off x="4952880" y="1447920"/>
              <a:ext cx="388620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3" name=""/>
            <p:cNvGraphicFramePr/>
            <p:nvPr/>
          </p:nvGraphicFramePr>
          <p:xfrm>
            <a:off x="5003280" y="1500840"/>
            <a:ext cx="3785400" cy="28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03280" y="1500840"/>
                      <a:ext cx="3785400" cy="28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Plan de la présent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Architecture de test modulai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Un exemple concret de système de test modulai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TestStand : séquenceur de tests automatiqu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es outils associés : IVI et Switch Execu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Exemples d’applica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Fonctionnalités avancées TestStand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Test parallè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Test par famille de produits (Batch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Génération automatique de séque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Connexion base de donné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Intégration avancée commut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es outils associé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572000" cy="335268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1600200" y="4876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c81b5"/>
                </a:solidFill>
                <a:latin typeface="Arial Narrow"/>
              </a:rPr>
              <a:t>http://www.ivifoundation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6705720" y="3886200"/>
            <a:ext cx="0" cy="760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2209680"/>
            <a:ext cx="0" cy="760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1160280" y="4930920"/>
            <a:ext cx="3430440" cy="55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Instrume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5562720" y="4648320"/>
            <a:ext cx="2438280" cy="1130040"/>
          </a:xfrm>
          <a:prstGeom prst="rect">
            <a:avLst/>
          </a:prstGeom>
          <a:ln w="0">
            <a:noFill/>
          </a:ln>
        </p:spPr>
      </p:pic>
      <p:grpSp>
        <p:nvGrpSpPr>
          <p:cNvPr id="684" name=""/>
          <p:cNvGrpSpPr/>
          <p:nvPr/>
        </p:nvGrpSpPr>
        <p:grpSpPr>
          <a:xfrm>
            <a:off x="2666880" y="1295280"/>
            <a:ext cx="5818320" cy="901800"/>
            <a:chOff x="2666880" y="1295280"/>
            <a:chExt cx="5818320" cy="901800"/>
          </a:xfrm>
        </p:grpSpPr>
        <p:sp>
          <p:nvSpPr>
            <p:cNvPr id="685" name=""/>
            <p:cNvSpPr/>
            <p:nvPr/>
          </p:nvSpPr>
          <p:spPr>
            <a:xfrm>
              <a:off x="4840200" y="1295280"/>
              <a:ext cx="3645000" cy="90180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"/>
                </a:rPr>
                <a:t>Programme de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ffffff"/>
                  </a:solidFill>
                  <a:latin typeface="Arial"/>
                </a:rPr>
                <a:t>(CVI, LabVIEW, VB, etc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66880" y="1432080"/>
              <a:ext cx="1817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 Narrow"/>
                </a:rPr>
                <a:t>Applic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523160" y="2971800"/>
            <a:ext cx="6973200" cy="901800"/>
            <a:chOff x="1523160" y="2971800"/>
            <a:chExt cx="6973200" cy="901800"/>
          </a:xfrm>
        </p:grpSpPr>
        <p:sp>
          <p:nvSpPr>
            <p:cNvPr id="688" name=""/>
            <p:cNvSpPr/>
            <p:nvPr/>
          </p:nvSpPr>
          <p:spPr>
            <a:xfrm>
              <a:off x="4851360" y="2971800"/>
              <a:ext cx="3645000" cy="901800"/>
            </a:xfrm>
            <a:prstGeom prst="rect">
              <a:avLst/>
            </a:prstGeom>
            <a:solidFill>
              <a:srgbClr val="66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"/>
                </a:rPr>
                <a:t>Driver d’instr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523160" y="3105000"/>
              <a:ext cx="29865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 Narrow"/>
                </a:rPr>
                <a:t>Driver</a:t>
              </a:r>
              <a:r>
                <a:rPr b="0" lang="fr-FR" sz="3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fr-FR" sz="3200" spc="-1" strike="noStrike">
                  <a:solidFill>
                    <a:srgbClr val="000000"/>
                  </a:solidFill>
                  <a:latin typeface="Arial Narrow"/>
                </a:rPr>
                <a:t>d’instru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es limites de l’instrumentation classiqu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’interchangeabilité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2" name=""/>
          <p:cNvSpPr/>
          <p:nvPr/>
        </p:nvSpPr>
        <p:spPr>
          <a:xfrm>
            <a:off x="321120" y="1684440"/>
            <a:ext cx="1348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ultimè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809000" y="1684440"/>
            <a:ext cx="1595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Oscill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84800" y="1684440"/>
            <a:ext cx="1553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li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463000" y="1684440"/>
            <a:ext cx="3741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lass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énérateur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fonction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rbitrair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witch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ultiplex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71400" y="2898720"/>
            <a:ext cx="2448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47920" y="2898720"/>
            <a:ext cx="2448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453000" y="2898720"/>
            <a:ext cx="2448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53920" y="2898720"/>
            <a:ext cx="2448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279360" y="2666880"/>
            <a:ext cx="1335240" cy="8082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a8adb0"/>
            </a:outerShdw>
          </a:effectLst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3592440" y="2666880"/>
            <a:ext cx="1335240" cy="8082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a8adb0"/>
            </a:outerShdw>
          </a:effectLst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1916280" y="2666880"/>
            <a:ext cx="1334880" cy="8082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a8adb0"/>
            </a:outerShdw>
          </a:effectLst>
        </p:spPr>
      </p:pic>
      <p:pic>
        <p:nvPicPr>
          <p:cNvPr id="703" name="" descr=""/>
          <p:cNvPicPr/>
          <p:nvPr/>
        </p:nvPicPr>
        <p:blipFill>
          <a:blip r:embed="rId4"/>
          <a:stretch/>
        </p:blipFill>
        <p:spPr>
          <a:xfrm>
            <a:off x="5878440" y="2666880"/>
            <a:ext cx="1335240" cy="8082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a8adb0"/>
            </a:outerShdw>
          </a:effectLst>
        </p:spPr>
      </p:pic>
      <p:sp>
        <p:nvSpPr>
          <p:cNvPr id="704" name=""/>
          <p:cNvSpPr/>
          <p:nvPr/>
        </p:nvSpPr>
        <p:spPr>
          <a:xfrm>
            <a:off x="7594560" y="2819520"/>
            <a:ext cx="1447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  .  .  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15000" y="6094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010280" y="3886200"/>
            <a:ext cx="2514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Et depuis peu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Générateur 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Analyseur de spec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Wattmè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38080" y="5029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8 classes sont défini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4800600" y="1066680"/>
            <a:ext cx="3645000" cy="9018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rogramme d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Arial"/>
              </a:rPr>
              <a:t>(CVI, LabVIEW, VB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800600" y="3809880"/>
            <a:ext cx="3720960" cy="749520"/>
          </a:xfrm>
          <a:prstGeom prst="rect">
            <a:avLst/>
          </a:prstGeom>
          <a:solidFill>
            <a:srgbClr val="66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Fluke 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800600" y="3809880"/>
            <a:ext cx="3720960" cy="749520"/>
          </a:xfrm>
          <a:prstGeom prst="rect">
            <a:avLst/>
          </a:prstGeom>
          <a:solidFill>
            <a:srgbClr val="66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Keithley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800600" y="3809880"/>
            <a:ext cx="3720960" cy="749520"/>
          </a:xfrm>
          <a:prstGeom prst="rect">
            <a:avLst/>
          </a:prstGeom>
          <a:solidFill>
            <a:srgbClr val="66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I 4070 D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876920" y="2438280"/>
            <a:ext cx="3644640" cy="901800"/>
          </a:xfrm>
          <a:prstGeom prst="rect">
            <a:avLst/>
          </a:prstGeom>
          <a:solidFill>
            <a:srgbClr val="66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emp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river de classe D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0572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ermet l’échange des instruments appartenant à une même classe, sans aucune recompi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ermet de travailler sans la présence de l’appareil de mesure (mode simulé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ystème de test indépendant du matérie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6" name=""/>
          <p:cNvSpPr/>
          <p:nvPr/>
        </p:nvSpPr>
        <p:spPr>
          <a:xfrm>
            <a:off x="67057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5486400" y="4800600"/>
            <a:ext cx="2438280" cy="11304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6705720" y="45720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es membres de la Fondation IVI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nritsu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dvante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he Boeing Compan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EC-Marconi Test System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enRa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Cro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ockheed Mart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ucent Technologie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arconi North Americ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Hewlett-Packar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National Instrum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aytheon TI System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Northrop Grumman ESS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acal Instrum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ohde &amp; Schwarz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ektronix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Vektrex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Wavete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eradyn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YX (EADS T&amp;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Futures class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3" name=""/>
          <p:cNvSpPr/>
          <p:nvPr/>
        </p:nvSpPr>
        <p:spPr>
          <a:xfrm>
            <a:off x="455760" y="1295280"/>
            <a:ext cx="352440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DWG/Bus emu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Network Analyz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erial Word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1553 Bus Emu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Precision DAQ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et Point Contro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Noise Figure 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ogic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029200" y="1295280"/>
            <a:ext cx="381492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ynchro/Resol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Voltage Com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Audio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imple Analog 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erial Bu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Time St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tatic Digital 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es outils associé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 Narrow"/>
              </a:rPr>
              <a:t>NI Switch Execu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Architecture de test modulair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8" name=""/>
          <p:cNvSpPr/>
          <p:nvPr/>
        </p:nvSpPr>
        <p:spPr>
          <a:xfrm>
            <a:off x="762120" y="4987800"/>
            <a:ext cx="1522440" cy="622440"/>
          </a:xfrm>
          <a:prstGeom prst="ellipse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666880" y="4987800"/>
            <a:ext cx="1522440" cy="622440"/>
          </a:xfrm>
          <a:prstGeom prst="ellipse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700280" y="4089240"/>
            <a:ext cx="1520640" cy="622440"/>
          </a:xfrm>
          <a:prstGeom prst="ellipse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rot="2923800">
            <a:off x="1664640" y="3848040"/>
            <a:ext cx="138240" cy="1865160"/>
          </a:xfrm>
          <a:prstGeom prst="rect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362320" y="2197080"/>
            <a:ext cx="168120" cy="2100240"/>
          </a:xfrm>
          <a:prstGeom prst="rect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18604200">
            <a:off x="3116880" y="3842280"/>
            <a:ext cx="139680" cy="1865160"/>
          </a:xfrm>
          <a:prstGeom prst="rect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1"/>
          <a:stretch/>
        </p:blipFill>
        <p:spPr>
          <a:xfrm>
            <a:off x="1838160" y="3716280"/>
            <a:ext cx="1132200" cy="113364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>
            <a:off x="2944800" y="4643280"/>
            <a:ext cx="995400" cy="9954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3"/>
          <a:stretch/>
        </p:blipFill>
        <p:spPr>
          <a:xfrm>
            <a:off x="938160" y="4516560"/>
            <a:ext cx="1106640" cy="110628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1473120" y="3222720"/>
            <a:ext cx="1925640" cy="565200"/>
          </a:xfrm>
          <a:prstGeom prst="roundRect">
            <a:avLst>
              <a:gd name="adj" fmla="val 16667"/>
            </a:avLst>
          </a:prstGeom>
          <a:solidFill>
            <a:srgbClr val="a8adb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471680" y="2414520"/>
            <a:ext cx="1927080" cy="709560"/>
          </a:xfrm>
          <a:prstGeom prst="roundRect">
            <a:avLst>
              <a:gd name="adj" fmla="val 16667"/>
            </a:avLst>
          </a:prstGeom>
          <a:solidFill>
            <a:srgbClr val="a8adb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44760" y="2589840"/>
            <a:ext cx="1828800" cy="322560"/>
          </a:xfrm>
          <a:prstGeom prst="rect">
            <a:avLst/>
          </a:prstGeom>
          <a:solidFill>
            <a:srgbClr val="a8a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st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591200" y="18673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473120" y="1200240"/>
            <a:ext cx="1927440" cy="1085760"/>
          </a:xfrm>
          <a:prstGeom prst="roundRect">
            <a:avLst>
              <a:gd name="adj" fmla="val 16667"/>
            </a:avLst>
          </a:prstGeom>
          <a:solidFill>
            <a:srgbClr val="a8adb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94000" y="1307880"/>
            <a:ext cx="1857240" cy="916920"/>
          </a:xfrm>
          <a:prstGeom prst="rect">
            <a:avLst/>
          </a:prstGeom>
          <a:solidFill>
            <a:srgbClr val="a8a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438200" y="3222720"/>
            <a:ext cx="1998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ement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3581280" y="4038480"/>
            <a:ext cx="5033880" cy="1822320"/>
            <a:chOff x="3581280" y="4038480"/>
            <a:chExt cx="5033880" cy="1822320"/>
          </a:xfrm>
        </p:grpSpPr>
        <p:sp>
          <p:nvSpPr>
            <p:cNvPr id="745" name=""/>
            <p:cNvSpPr/>
            <p:nvPr/>
          </p:nvSpPr>
          <p:spPr>
            <a:xfrm>
              <a:off x="7101720" y="4114440"/>
              <a:ext cx="1513440" cy="831960"/>
            </a:xfrm>
            <a:prstGeom prst="roundRect">
              <a:avLst>
                <a:gd name="adj" fmla="val 16667"/>
              </a:avLst>
            </a:prstGeom>
            <a:solidFill>
              <a:srgbClr val="f2ed7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Unit Und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Tes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32200" y="4038480"/>
              <a:ext cx="1303560" cy="1176120"/>
            </a:xfrm>
            <a:prstGeom prst="rect">
              <a:avLst/>
            </a:prstGeom>
            <a:solidFill>
              <a:srgbClr val="f2ed7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4796280" y="4093920"/>
              <a:ext cx="1173600" cy="1066680"/>
              <a:chOff x="4796280" y="4093920"/>
              <a:chExt cx="1173600" cy="1066680"/>
            </a:xfrm>
          </p:grpSpPr>
          <p:sp>
            <p:nvSpPr>
              <p:cNvPr id="748" name=""/>
              <p:cNvSpPr/>
              <p:nvPr/>
            </p:nvSpPr>
            <p:spPr>
              <a:xfrm>
                <a:off x="4796280" y="427176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796280" y="444924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796280" y="462708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796280" y="480492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796280" y="498276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96368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13144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29920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46660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63436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80212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4616640" y="5200200"/>
              <a:ext cx="1525320" cy="660600"/>
            </a:xfrm>
            <a:prstGeom prst="roundRect">
              <a:avLst>
                <a:gd name="adj" fmla="val 16667"/>
              </a:avLst>
            </a:prstGeom>
            <a:solidFill>
              <a:srgbClr val="f2ed7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Switc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Hardwar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581280" y="4343040"/>
              <a:ext cx="790200" cy="381240"/>
            </a:xfrm>
            <a:prstGeom prst="leftRightArrow">
              <a:avLst>
                <a:gd name="adj1" fmla="val 50000"/>
                <a:gd name="adj2" fmla="val 41262"/>
              </a:avLst>
            </a:prstGeom>
            <a:solidFill>
              <a:srgbClr val="afb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67880" y="4343040"/>
              <a:ext cx="790200" cy="381240"/>
            </a:xfrm>
            <a:prstGeom prst="leftRightArrow">
              <a:avLst>
                <a:gd name="adj1" fmla="val 50000"/>
                <a:gd name="adj2" fmla="val 41262"/>
              </a:avLst>
            </a:prstGeom>
            <a:solidFill>
              <a:srgbClr val="afb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1022400" y="974880"/>
            <a:ext cx="2819520" cy="1523880"/>
          </a:xfrm>
          <a:prstGeom prst="ellipse">
            <a:avLst/>
          </a:prstGeom>
          <a:noFill/>
          <a:ln w="57240">
            <a:solidFill>
              <a:srgbClr val="8e58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416480" y="3276720"/>
            <a:ext cx="268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Bibliothèques d’E/S modul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(GPIB, DAQ, PXI, VXI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494240" y="2286000"/>
            <a:ext cx="2451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Programmes d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(LabVIEW, LabWindows/CVI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Measurement Studio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505320" y="2514600"/>
            <a:ext cx="782640" cy="380880"/>
          </a:xfrm>
          <a:prstGeom prst="leftRightArrow">
            <a:avLst>
              <a:gd name="adj1" fmla="val 50000"/>
              <a:gd name="adj2" fmla="val 40906"/>
            </a:avLst>
          </a:prstGeom>
          <a:solidFill>
            <a:srgbClr val="afb5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505320" y="3276720"/>
            <a:ext cx="782640" cy="380880"/>
          </a:xfrm>
          <a:prstGeom prst="leftRightArrow">
            <a:avLst>
              <a:gd name="adj1" fmla="val 50000"/>
              <a:gd name="adj2" fmla="val 40906"/>
            </a:avLst>
          </a:prstGeom>
          <a:solidFill>
            <a:srgbClr val="afb5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62520" y="1523880"/>
            <a:ext cx="782640" cy="381240"/>
          </a:xfrm>
          <a:prstGeom prst="leftRightArrow">
            <a:avLst>
              <a:gd name="adj1" fmla="val 50000"/>
              <a:gd name="adj2" fmla="val 40868"/>
            </a:avLst>
          </a:prstGeom>
          <a:solidFill>
            <a:srgbClr val="afb5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800600" y="1143000"/>
            <a:ext cx="325116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4"/>
          <a:stretch/>
        </p:blipFill>
        <p:spPr>
          <a:xfrm>
            <a:off x="4876920" y="1219320"/>
            <a:ext cx="3124080" cy="79200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vantages d’un gestionnaire de commut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80520" y="1366920"/>
            <a:ext cx="853452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mélioration de la productivit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figuration et programmation simplifiées du système de commut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iminution significative des coûts de maintena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configuration SANS modification du cod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stion intelligente des commut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ugmentation de la durée de vie des relais mécaniqu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es tendances de l’industri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445680" y="15397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levé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212840" y="1618920"/>
            <a:ext cx="0" cy="397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2840" y="5597640"/>
            <a:ext cx="667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2840" y="3048120"/>
            <a:ext cx="6134040" cy="815760"/>
          </a:xfrm>
          <a:custGeom>
            <a:avLst/>
            <a:gdLst/>
            <a:ahLst/>
            <a:rect l="l" t="t" r="r" b="b"/>
            <a:pathLst>
              <a:path w="3264" h="384">
                <a:moveTo>
                  <a:pt x="0" y="0"/>
                </a:moveTo>
                <a:cubicBezTo>
                  <a:pt x="544" y="16"/>
                  <a:pt x="1088" y="32"/>
                  <a:pt x="1632" y="96"/>
                </a:cubicBezTo>
                <a:cubicBezTo>
                  <a:pt x="2176" y="160"/>
                  <a:pt x="2992" y="336"/>
                  <a:pt x="3264" y="384"/>
                </a:cubicBezTo>
              </a:path>
            </a:pathLst>
          </a:custGeom>
          <a:noFill/>
          <a:ln w="38160">
            <a:solidFill>
              <a:srgbClr val="5c81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2840" y="3557520"/>
            <a:ext cx="6134040" cy="714600"/>
          </a:xfrm>
          <a:custGeom>
            <a:avLst/>
            <a:gdLst/>
            <a:ahLst/>
            <a:rect l="l" t="t" r="r" b="b"/>
            <a:pathLst>
              <a:path w="3264" h="384">
                <a:moveTo>
                  <a:pt x="0" y="0"/>
                </a:moveTo>
                <a:cubicBezTo>
                  <a:pt x="544" y="16"/>
                  <a:pt x="1088" y="32"/>
                  <a:pt x="1632" y="96"/>
                </a:cubicBezTo>
                <a:cubicBezTo>
                  <a:pt x="2176" y="160"/>
                  <a:pt x="2992" y="336"/>
                  <a:pt x="3264" y="384"/>
                </a:cubicBezTo>
              </a:path>
            </a:pathLst>
          </a:custGeom>
          <a:noFill/>
          <a:ln w="38160">
            <a:solidFill>
              <a:srgbClr val="8e58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2840" y="1312920"/>
            <a:ext cx="6134040" cy="2754360"/>
          </a:xfrm>
          <a:custGeom>
            <a:avLst/>
            <a:gdLst/>
            <a:ahLst/>
            <a:rect l="l" t="t" r="r" b="b"/>
            <a:pathLst>
              <a:path w="3264" h="1296">
                <a:moveTo>
                  <a:pt x="0" y="1296"/>
                </a:moveTo>
                <a:cubicBezTo>
                  <a:pt x="568" y="1284"/>
                  <a:pt x="1136" y="1272"/>
                  <a:pt x="1680" y="1056"/>
                </a:cubicBezTo>
                <a:cubicBezTo>
                  <a:pt x="2224" y="840"/>
                  <a:pt x="3000" y="176"/>
                  <a:pt x="3264" y="0"/>
                </a:cubicBezTo>
              </a:path>
            </a:pathLst>
          </a:custGeom>
          <a:noFill/>
          <a:ln w="38160">
            <a:solidFill>
              <a:srgbClr val="697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2840" y="2027160"/>
            <a:ext cx="6134040" cy="2551320"/>
          </a:xfrm>
          <a:custGeom>
            <a:avLst/>
            <a:gdLst/>
            <a:ahLst/>
            <a:rect l="l" t="t" r="r" b="b"/>
            <a:pathLst>
              <a:path w="3264" h="1296">
                <a:moveTo>
                  <a:pt x="0" y="1296"/>
                </a:moveTo>
                <a:cubicBezTo>
                  <a:pt x="568" y="1284"/>
                  <a:pt x="1136" y="1272"/>
                  <a:pt x="1680" y="1056"/>
                </a:cubicBezTo>
                <a:cubicBezTo>
                  <a:pt x="2224" y="840"/>
                  <a:pt x="3000" y="176"/>
                  <a:pt x="3264" y="0"/>
                </a:cubicBezTo>
              </a:path>
            </a:pathLst>
          </a:custGeom>
          <a:noFill/>
          <a:ln w="38160">
            <a:solidFill>
              <a:srgbClr val="edb9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2840" y="2639880"/>
            <a:ext cx="6134040" cy="2448000"/>
          </a:xfrm>
          <a:custGeom>
            <a:avLst/>
            <a:gdLst/>
            <a:ahLst/>
            <a:rect l="l" t="t" r="r" b="b"/>
            <a:pathLst>
              <a:path w="3264" h="1296">
                <a:moveTo>
                  <a:pt x="0" y="1296"/>
                </a:moveTo>
                <a:cubicBezTo>
                  <a:pt x="568" y="1284"/>
                  <a:pt x="1136" y="1272"/>
                  <a:pt x="1680" y="1056"/>
                </a:cubicBezTo>
                <a:cubicBezTo>
                  <a:pt x="2224" y="840"/>
                  <a:pt x="3000" y="176"/>
                  <a:pt x="3264" y="0"/>
                </a:cubicBez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9187400">
            <a:off x="5360040" y="162216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é des prod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9249800">
            <a:off x="5862960" y="22280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lex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9307400">
            <a:off x="5675040" y="25333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lumes de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627000">
            <a:off x="6661440" y="3429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640200">
            <a:off x="6159240" y="38174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urée de v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59880" y="534204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1960" y="533412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aible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520" y="1569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4267080" y="1676520"/>
          <a:ext cx="4876920" cy="32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76520"/>
                    <a:ext cx="4876920" cy="32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8e58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e5872"/>
                </a:solidFill>
                <a:latin typeface="Arial Narrow"/>
              </a:rPr>
              <a:t>Matrice, Multiplexer (MUX), &amp; General Purpose Switch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éfinition d’ali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e de configu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sualisation du rout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 Group Associ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égration avec </a:t>
            </a:r>
            <a:r>
              <a:rPr b="0" lang="en-US" sz="2400" spc="-1" strike="noStrike">
                <a:solidFill>
                  <a:srgbClr val="ff3300"/>
                </a:solidFill>
                <a:latin typeface="Arial Narrow"/>
              </a:rPr>
              <a:t>TestSt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abVIEW, CVI 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asurement Studi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égration avec Switch non National Instrum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tégration avec TestStand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778" name=""/>
          <p:cNvGraphicFramePr/>
          <p:nvPr/>
        </p:nvGraphicFramePr>
        <p:xfrm>
          <a:off x="4581360" y="1219320"/>
          <a:ext cx="45626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1360" y="1219320"/>
                    <a:ext cx="45626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0" name=""/>
          <p:cNvGraphicFramePr/>
          <p:nvPr/>
        </p:nvGraphicFramePr>
        <p:xfrm>
          <a:off x="304920" y="1523880"/>
          <a:ext cx="4190760" cy="12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523880"/>
                    <a:ext cx="41907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2" name=""/>
          <p:cNvSpPr/>
          <p:nvPr/>
        </p:nvSpPr>
        <p:spPr>
          <a:xfrm>
            <a:off x="3657600" y="2438280"/>
            <a:ext cx="704880" cy="295560"/>
          </a:xfrm>
          <a:prstGeom prst="ellipse">
            <a:avLst/>
          </a:prstGeom>
          <a:noFill/>
          <a:ln w="28440">
            <a:solidFill>
              <a:srgbClr val="ff0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724280" y="1371600"/>
            <a:ext cx="1143000" cy="295200"/>
          </a:xfrm>
          <a:prstGeom prst="ellipse">
            <a:avLst/>
          </a:prstGeom>
          <a:noFill/>
          <a:ln w="28440">
            <a:solidFill>
              <a:srgbClr val="ff0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267080" y="1752480"/>
            <a:ext cx="447840" cy="609840"/>
          </a:xfrm>
          <a:prstGeom prst="line">
            <a:avLst/>
          </a:prstGeom>
          <a:ln w="28440">
            <a:solidFill>
              <a:srgbClr val="ff0b0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16040" y="380880"/>
            <a:ext cx="8199360" cy="6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Exemple 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590400" y="2117880"/>
            <a:ext cx="3884400" cy="398880"/>
            <a:chOff x="590400" y="2117880"/>
            <a:chExt cx="3884400" cy="398880"/>
          </a:xfrm>
        </p:grpSpPr>
        <p:sp>
          <p:nvSpPr>
            <p:cNvPr id="788" name=""/>
            <p:cNvSpPr/>
            <p:nvPr/>
          </p:nvSpPr>
          <p:spPr>
            <a:xfrm>
              <a:off x="5904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949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06164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5188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00484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146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48400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9232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152280" y="2771640"/>
            <a:ext cx="452160" cy="1496880"/>
            <a:chOff x="152280" y="2771640"/>
            <a:chExt cx="452160" cy="1496880"/>
          </a:xfrm>
        </p:grpSpPr>
        <p:sp>
          <p:nvSpPr>
            <p:cNvPr id="797" name=""/>
            <p:cNvSpPr/>
            <p:nvPr/>
          </p:nvSpPr>
          <p:spPr>
            <a:xfrm>
              <a:off x="152280" y="27716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52280" y="39002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52280" y="35240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52280" y="31478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528480" y="2514600"/>
            <a:ext cx="3838320" cy="1752480"/>
            <a:chOff x="528480" y="2514600"/>
            <a:chExt cx="3838320" cy="1752480"/>
          </a:xfrm>
        </p:grpSpPr>
        <p:sp>
          <p:nvSpPr>
            <p:cNvPr id="802" name=""/>
            <p:cNvSpPr/>
            <p:nvPr/>
          </p:nvSpPr>
          <p:spPr>
            <a:xfrm>
              <a:off x="83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2999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236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7683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6414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704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097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7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848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848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848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2848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119160" y="4343400"/>
            <a:ext cx="1649160" cy="767160"/>
            <a:chOff x="119160" y="4343400"/>
            <a:chExt cx="1649160" cy="767160"/>
          </a:xfrm>
        </p:grpSpPr>
        <p:sp>
          <p:nvSpPr>
            <p:cNvPr id="815" name=""/>
            <p:cNvSpPr/>
            <p:nvPr/>
          </p:nvSpPr>
          <p:spPr>
            <a:xfrm>
              <a:off x="152280" y="4343400"/>
              <a:ext cx="161604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IVI De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trix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19160" y="4748040"/>
              <a:ext cx="1133280" cy="343080"/>
            </a:xfrm>
            <a:prstGeom prst="borderCallout2">
              <a:avLst>
                <a:gd name="adj1" fmla="val 18750"/>
                <a:gd name="adj2" fmla="val -8333"/>
                <a:gd name="adj3" fmla="val 33333"/>
                <a:gd name="adj4" fmla="val 163023"/>
                <a:gd name="adj5" fmla="val -116203"/>
                <a:gd name="adj6" fmla="val 221990"/>
              </a:avLst>
            </a:prstGeom>
            <a:noFill/>
            <a:ln w="38160">
              <a:solidFill>
                <a:srgbClr val="edb90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716040" y="380880"/>
            <a:ext cx="8199360" cy="6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Exemple 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90400" y="2117880"/>
            <a:ext cx="3884400" cy="398880"/>
            <a:chOff x="590400" y="2117880"/>
            <a:chExt cx="3884400" cy="398880"/>
          </a:xfrm>
        </p:grpSpPr>
        <p:sp>
          <p:nvSpPr>
            <p:cNvPr id="820" name=""/>
            <p:cNvSpPr/>
            <p:nvPr/>
          </p:nvSpPr>
          <p:spPr>
            <a:xfrm>
              <a:off x="5904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49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6164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5188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0484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4146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48400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9232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152280" y="2771640"/>
            <a:ext cx="452160" cy="1496880"/>
            <a:chOff x="152280" y="2771640"/>
            <a:chExt cx="452160" cy="1496880"/>
          </a:xfrm>
        </p:grpSpPr>
        <p:sp>
          <p:nvSpPr>
            <p:cNvPr id="829" name=""/>
            <p:cNvSpPr/>
            <p:nvPr/>
          </p:nvSpPr>
          <p:spPr>
            <a:xfrm>
              <a:off x="152280" y="27716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2280" y="39002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52280" y="35240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52280" y="31478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528480" y="2514600"/>
            <a:ext cx="3838320" cy="1752480"/>
            <a:chOff x="528480" y="2514600"/>
            <a:chExt cx="3838320" cy="1752480"/>
          </a:xfrm>
        </p:grpSpPr>
        <p:sp>
          <p:nvSpPr>
            <p:cNvPr id="834" name=""/>
            <p:cNvSpPr/>
            <p:nvPr/>
          </p:nvSpPr>
          <p:spPr>
            <a:xfrm>
              <a:off x="83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999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36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7683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6414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704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1097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17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2848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2848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2848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2848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152280" y="4343400"/>
            <a:ext cx="161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IVI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ri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136440" y="896760"/>
            <a:ext cx="4853160" cy="4972680"/>
            <a:chOff x="136440" y="896760"/>
            <a:chExt cx="4853160" cy="4972680"/>
          </a:xfrm>
        </p:grpSpPr>
        <p:grpSp>
          <p:nvGrpSpPr>
            <p:cNvPr id="848" name=""/>
            <p:cNvGrpSpPr/>
            <p:nvPr/>
          </p:nvGrpSpPr>
          <p:grpSpPr>
            <a:xfrm>
              <a:off x="543240" y="896760"/>
              <a:ext cx="4446360" cy="1415520"/>
              <a:chOff x="543240" y="896760"/>
              <a:chExt cx="4446360" cy="1415520"/>
            </a:xfrm>
          </p:grpSpPr>
          <p:sp>
            <p:nvSpPr>
              <p:cNvPr id="849" name=""/>
              <p:cNvSpPr/>
              <p:nvPr/>
            </p:nvSpPr>
            <p:spPr>
              <a:xfrm rot="18171000">
                <a:off x="2860200" y="1550520"/>
                <a:ext cx="107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171000">
                <a:off x="3720960" y="1405080"/>
                <a:ext cx="142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Out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8171000">
                <a:off x="3236040" y="141876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8198600">
                <a:off x="2350080" y="1456200"/>
                <a:ext cx="1299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Vc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198600">
                <a:off x="1852200" y="14533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CPow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171000">
                <a:off x="1425600" y="160344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8171000">
                <a:off x="930240" y="15616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8198600">
                <a:off x="532080" y="167004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M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/>
            <p:nvPr/>
          </p:nvSpPr>
          <p:spPr>
            <a:xfrm>
              <a:off x="136440" y="5470560"/>
              <a:ext cx="257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Named Chann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2306520" y="1959120"/>
            <a:ext cx="3324240" cy="3717720"/>
          </a:xfrm>
          <a:custGeom>
            <a:avLst/>
            <a:gdLst/>
            <a:ahLst/>
            <a:rect l="l" t="t" r="r" b="b"/>
            <a:pathLst>
              <a:path w="2094" h="2342">
                <a:moveTo>
                  <a:pt x="0" y="2342"/>
                </a:moveTo>
                <a:lnTo>
                  <a:pt x="1491" y="2341"/>
                </a:lnTo>
                <a:lnTo>
                  <a:pt x="2094" y="1097"/>
                </a:lnTo>
                <a:lnTo>
                  <a:pt x="1418" y="0"/>
                </a:lnTo>
              </a:path>
            </a:pathLst>
          </a:custGeom>
          <a:noFill/>
          <a:ln w="38160">
            <a:solidFill>
              <a:srgbClr val="edb90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16040" y="380880"/>
            <a:ext cx="8199360" cy="6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Exemple 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590400" y="2117880"/>
            <a:ext cx="3884400" cy="398880"/>
            <a:chOff x="590400" y="2117880"/>
            <a:chExt cx="3884400" cy="398880"/>
          </a:xfrm>
        </p:grpSpPr>
        <p:sp>
          <p:nvSpPr>
            <p:cNvPr id="862" name=""/>
            <p:cNvSpPr/>
            <p:nvPr/>
          </p:nvSpPr>
          <p:spPr>
            <a:xfrm>
              <a:off x="5904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49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06164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5188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00484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146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48400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89232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152280" y="2771640"/>
            <a:ext cx="452160" cy="1496880"/>
            <a:chOff x="152280" y="2771640"/>
            <a:chExt cx="452160" cy="1496880"/>
          </a:xfrm>
        </p:grpSpPr>
        <p:sp>
          <p:nvSpPr>
            <p:cNvPr id="871" name=""/>
            <p:cNvSpPr/>
            <p:nvPr/>
          </p:nvSpPr>
          <p:spPr>
            <a:xfrm>
              <a:off x="152280" y="27716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52280" y="39002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52280" y="35240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2280" y="31478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528480" y="2514600"/>
            <a:ext cx="3838320" cy="1752480"/>
            <a:chOff x="528480" y="2514600"/>
            <a:chExt cx="3838320" cy="1752480"/>
          </a:xfrm>
        </p:grpSpPr>
        <p:sp>
          <p:nvSpPr>
            <p:cNvPr id="876" name=""/>
            <p:cNvSpPr/>
            <p:nvPr/>
          </p:nvSpPr>
          <p:spPr>
            <a:xfrm>
              <a:off x="83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999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36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83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6414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704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1097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7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2848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2848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2848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2848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2187720" y="2519280"/>
            <a:ext cx="588960" cy="452520"/>
            <a:chOff x="2187720" y="2519280"/>
            <a:chExt cx="588960" cy="452520"/>
          </a:xfrm>
        </p:grpSpPr>
        <p:sp>
          <p:nvSpPr>
            <p:cNvPr id="889" name=""/>
            <p:cNvSpPr/>
            <p:nvPr/>
          </p:nvSpPr>
          <p:spPr>
            <a:xfrm>
              <a:off x="223056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2187720" y="2971800"/>
              <a:ext cx="588960" cy="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70864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3188160" y="4367160"/>
            <a:ext cx="1427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werU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191040" y="4772160"/>
            <a:ext cx="1425240" cy="342720"/>
          </a:xfrm>
          <a:prstGeom prst="borderCallout2">
            <a:avLst>
              <a:gd name="adj1" fmla="val 18750"/>
              <a:gd name="adj2" fmla="val -8333"/>
              <a:gd name="adj3" fmla="val 33333"/>
              <a:gd name="adj4" fmla="val -31847"/>
              <a:gd name="adj5" fmla="val -507407"/>
              <a:gd name="adj6" fmla="val -59689"/>
            </a:avLst>
          </a:prstGeom>
          <a:noFill/>
          <a:ln w="38160">
            <a:solidFill>
              <a:srgbClr val="edb90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52280" y="4343400"/>
            <a:ext cx="161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IVI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ri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36440" y="894960"/>
            <a:ext cx="4850280" cy="4974480"/>
            <a:chOff x="136440" y="894960"/>
            <a:chExt cx="4850280" cy="4974480"/>
          </a:xfrm>
        </p:grpSpPr>
        <p:grpSp>
          <p:nvGrpSpPr>
            <p:cNvPr id="896" name=""/>
            <p:cNvGrpSpPr/>
            <p:nvPr/>
          </p:nvGrpSpPr>
          <p:grpSpPr>
            <a:xfrm>
              <a:off x="543240" y="894960"/>
              <a:ext cx="4443480" cy="1415520"/>
              <a:chOff x="543240" y="894960"/>
              <a:chExt cx="4443480" cy="1415520"/>
            </a:xfrm>
          </p:grpSpPr>
          <p:sp>
            <p:nvSpPr>
              <p:cNvPr id="897" name=""/>
              <p:cNvSpPr/>
              <p:nvPr/>
            </p:nvSpPr>
            <p:spPr>
              <a:xfrm rot="18171000">
                <a:off x="2860200" y="1550880"/>
                <a:ext cx="107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8171000">
                <a:off x="3718080" y="1403280"/>
                <a:ext cx="142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Out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8171000">
                <a:off x="3234240" y="141912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8198600">
                <a:off x="2350080" y="1456560"/>
                <a:ext cx="1299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Vc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8198600">
                <a:off x="1849320" y="1451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CPow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8171000">
                <a:off x="1425960" y="1603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8171000">
                <a:off x="930240" y="15624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8198600">
                <a:off x="532080" y="167076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M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136440" y="5470560"/>
              <a:ext cx="257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Named Chann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716040" y="380880"/>
            <a:ext cx="8199360" cy="6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Exemple 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590400" y="2117880"/>
            <a:ext cx="3884400" cy="398880"/>
            <a:chOff x="590400" y="2117880"/>
            <a:chExt cx="3884400" cy="398880"/>
          </a:xfrm>
        </p:grpSpPr>
        <p:sp>
          <p:nvSpPr>
            <p:cNvPr id="909" name=""/>
            <p:cNvSpPr/>
            <p:nvPr/>
          </p:nvSpPr>
          <p:spPr>
            <a:xfrm>
              <a:off x="5904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49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06164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188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0484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146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8400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89232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152280" y="2771640"/>
            <a:ext cx="452160" cy="1496880"/>
            <a:chOff x="152280" y="2771640"/>
            <a:chExt cx="452160" cy="1496880"/>
          </a:xfrm>
        </p:grpSpPr>
        <p:sp>
          <p:nvSpPr>
            <p:cNvPr id="918" name=""/>
            <p:cNvSpPr/>
            <p:nvPr/>
          </p:nvSpPr>
          <p:spPr>
            <a:xfrm>
              <a:off x="152280" y="27716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52280" y="39002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52280" y="35240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52280" y="31478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28480" y="2514600"/>
            <a:ext cx="3838320" cy="1752480"/>
            <a:chOff x="528480" y="2514600"/>
            <a:chExt cx="3838320" cy="1752480"/>
          </a:xfrm>
        </p:grpSpPr>
        <p:sp>
          <p:nvSpPr>
            <p:cNvPr id="923" name=""/>
            <p:cNvSpPr/>
            <p:nvPr/>
          </p:nvSpPr>
          <p:spPr>
            <a:xfrm>
              <a:off x="83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2999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236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7683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414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704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1097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17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2848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2848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2848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2848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187720" y="2519280"/>
            <a:ext cx="588960" cy="452520"/>
            <a:chOff x="2187720" y="2519280"/>
            <a:chExt cx="588960" cy="452520"/>
          </a:xfrm>
        </p:grpSpPr>
        <p:sp>
          <p:nvSpPr>
            <p:cNvPr id="936" name=""/>
            <p:cNvSpPr/>
            <p:nvPr/>
          </p:nvSpPr>
          <p:spPr>
            <a:xfrm>
              <a:off x="223056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2187720" y="2971800"/>
              <a:ext cx="588960" cy="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70864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775800" y="2514600"/>
            <a:ext cx="2950920" cy="822240"/>
            <a:chOff x="775800" y="2514600"/>
            <a:chExt cx="2950920" cy="822240"/>
          </a:xfrm>
        </p:grpSpPr>
        <p:sp>
          <p:nvSpPr>
            <p:cNvPr id="940" name=""/>
            <p:cNvSpPr/>
            <p:nvPr/>
          </p:nvSpPr>
          <p:spPr>
            <a:xfrm flipH="1">
              <a:off x="775800" y="3336840"/>
              <a:ext cx="2950920" cy="0"/>
            </a:xfrm>
            <a:prstGeom prst="line">
              <a:avLst/>
            </a:prstGeom>
            <a:ln w="101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46720" y="2514600"/>
              <a:ext cx="0" cy="822240"/>
            </a:xfrm>
            <a:prstGeom prst="line">
              <a:avLst/>
            </a:prstGeom>
            <a:ln w="101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647160" y="2514600"/>
              <a:ext cx="0" cy="822240"/>
            </a:xfrm>
            <a:prstGeom prst="line">
              <a:avLst/>
            </a:prstGeom>
            <a:ln w="101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1273320" y="2514600"/>
            <a:ext cx="1914480" cy="1276200"/>
            <a:chOff x="1273320" y="2514600"/>
            <a:chExt cx="1914480" cy="1276200"/>
          </a:xfrm>
        </p:grpSpPr>
        <p:sp>
          <p:nvSpPr>
            <p:cNvPr id="944" name=""/>
            <p:cNvSpPr/>
            <p:nvPr/>
          </p:nvSpPr>
          <p:spPr>
            <a:xfrm>
              <a:off x="1301760" y="2514600"/>
              <a:ext cx="3240" cy="127620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1273320" y="3736800"/>
              <a:ext cx="1914480" cy="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168720" y="2514600"/>
              <a:ext cx="3240" cy="127620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1730160" y="2514600"/>
            <a:ext cx="2434680" cy="1600200"/>
            <a:chOff x="1730160" y="2514600"/>
            <a:chExt cx="2434680" cy="1600200"/>
          </a:xfrm>
        </p:grpSpPr>
        <p:sp>
          <p:nvSpPr>
            <p:cNvPr id="948" name=""/>
            <p:cNvSpPr/>
            <p:nvPr/>
          </p:nvSpPr>
          <p:spPr>
            <a:xfrm>
              <a:off x="1757520" y="2514600"/>
              <a:ext cx="3960" cy="160020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96440" y="2514600"/>
              <a:ext cx="3960" cy="160020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1730160" y="4114800"/>
              <a:ext cx="2434680" cy="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3201120" y="4191120"/>
            <a:ext cx="1427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werU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2920" y="524196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To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200400" y="5257800"/>
            <a:ext cx="1846440" cy="343080"/>
          </a:xfrm>
          <a:prstGeom prst="borderCallout2">
            <a:avLst>
              <a:gd name="adj1" fmla="val 18750"/>
              <a:gd name="adj2" fmla="val -8333"/>
              <a:gd name="adj3" fmla="val 33333"/>
              <a:gd name="adj4" fmla="val -35337"/>
              <a:gd name="adj5" fmla="val -448611"/>
              <a:gd name="adj6" fmla="val -68101"/>
            </a:avLst>
          </a:prstGeom>
          <a:noFill/>
          <a:ln w="38160">
            <a:solidFill>
              <a:srgbClr val="edb90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199680" y="56386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opeTo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200400" y="5638680"/>
            <a:ext cx="1979640" cy="343080"/>
          </a:xfrm>
          <a:prstGeom prst="borderCallout2">
            <a:avLst>
              <a:gd name="adj1" fmla="val 18750"/>
              <a:gd name="adj2" fmla="val -8333"/>
              <a:gd name="adj3" fmla="val 33333"/>
              <a:gd name="adj4" fmla="val -35365"/>
              <a:gd name="adj5" fmla="val -448148"/>
              <a:gd name="adj6" fmla="val -68643"/>
            </a:avLst>
          </a:prstGeom>
          <a:noFill/>
          <a:ln w="38160">
            <a:solidFill>
              <a:srgbClr val="edb90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202200" y="487692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asOutput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200400" y="4876920"/>
            <a:ext cx="2503440" cy="342720"/>
          </a:xfrm>
          <a:prstGeom prst="borderCallout2">
            <a:avLst>
              <a:gd name="adj1" fmla="val 18750"/>
              <a:gd name="adj2" fmla="val -8333"/>
              <a:gd name="adj3" fmla="val 33333"/>
              <a:gd name="adj4" fmla="val -22574"/>
              <a:gd name="adj5" fmla="val -451851"/>
              <a:gd name="adj6" fmla="val -43055"/>
            </a:avLst>
          </a:prstGeom>
          <a:noFill/>
          <a:ln w="38160">
            <a:solidFill>
              <a:srgbClr val="edb90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52280" y="4343400"/>
            <a:ext cx="161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IVI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ri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136440" y="894960"/>
            <a:ext cx="4850280" cy="4974480"/>
            <a:chOff x="136440" y="894960"/>
            <a:chExt cx="4850280" cy="4974480"/>
          </a:xfrm>
        </p:grpSpPr>
        <p:grpSp>
          <p:nvGrpSpPr>
            <p:cNvPr id="960" name=""/>
            <p:cNvGrpSpPr/>
            <p:nvPr/>
          </p:nvGrpSpPr>
          <p:grpSpPr>
            <a:xfrm>
              <a:off x="543240" y="894960"/>
              <a:ext cx="4443480" cy="1415520"/>
              <a:chOff x="543240" y="894960"/>
              <a:chExt cx="4443480" cy="1415520"/>
            </a:xfrm>
          </p:grpSpPr>
          <p:sp>
            <p:nvSpPr>
              <p:cNvPr id="961" name=""/>
              <p:cNvSpPr/>
              <p:nvPr/>
            </p:nvSpPr>
            <p:spPr>
              <a:xfrm rot="18171000">
                <a:off x="2860200" y="1550880"/>
                <a:ext cx="107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18171000">
                <a:off x="3718080" y="1403280"/>
                <a:ext cx="142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Out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18171000">
                <a:off x="3234240" y="141912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18198600">
                <a:off x="2350080" y="1456560"/>
                <a:ext cx="1299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Vc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18198600">
                <a:off x="1849320" y="1451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CPow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8171000">
                <a:off x="1425960" y="1603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18171000">
                <a:off x="930240" y="15624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18198600">
                <a:off x="532080" y="167076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M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"/>
            <p:cNvSpPr/>
            <p:nvPr/>
          </p:nvSpPr>
          <p:spPr>
            <a:xfrm>
              <a:off x="136440" y="5470560"/>
              <a:ext cx="257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Named Chann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16040" y="380880"/>
            <a:ext cx="8199360" cy="6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Exemple 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590400" y="2117880"/>
            <a:ext cx="3884400" cy="398880"/>
            <a:chOff x="590400" y="2117880"/>
            <a:chExt cx="3884400" cy="398880"/>
          </a:xfrm>
        </p:grpSpPr>
        <p:sp>
          <p:nvSpPr>
            <p:cNvPr id="973" name=""/>
            <p:cNvSpPr/>
            <p:nvPr/>
          </p:nvSpPr>
          <p:spPr>
            <a:xfrm>
              <a:off x="5904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949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06164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188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00484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4146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48400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89232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152280" y="2771640"/>
            <a:ext cx="452160" cy="1496880"/>
            <a:chOff x="152280" y="2771640"/>
            <a:chExt cx="452160" cy="1496880"/>
          </a:xfrm>
        </p:grpSpPr>
        <p:sp>
          <p:nvSpPr>
            <p:cNvPr id="982" name=""/>
            <p:cNvSpPr/>
            <p:nvPr/>
          </p:nvSpPr>
          <p:spPr>
            <a:xfrm>
              <a:off x="152280" y="27716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52280" y="39002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52280" y="35240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52280" y="31478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528480" y="2514600"/>
            <a:ext cx="3838320" cy="1752480"/>
            <a:chOff x="528480" y="2514600"/>
            <a:chExt cx="3838320" cy="1752480"/>
          </a:xfrm>
        </p:grpSpPr>
        <p:sp>
          <p:nvSpPr>
            <p:cNvPr id="987" name=""/>
            <p:cNvSpPr/>
            <p:nvPr/>
          </p:nvSpPr>
          <p:spPr>
            <a:xfrm>
              <a:off x="83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2999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236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683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6414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704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097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17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2848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2848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2848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2848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2187720" y="2519280"/>
            <a:ext cx="588960" cy="452520"/>
            <a:chOff x="2187720" y="2519280"/>
            <a:chExt cx="588960" cy="452520"/>
          </a:xfrm>
        </p:grpSpPr>
        <p:sp>
          <p:nvSpPr>
            <p:cNvPr id="1000" name=""/>
            <p:cNvSpPr/>
            <p:nvPr/>
          </p:nvSpPr>
          <p:spPr>
            <a:xfrm>
              <a:off x="223056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2187720" y="2971800"/>
              <a:ext cx="588960" cy="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70864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775800" y="2514600"/>
            <a:ext cx="2950920" cy="822240"/>
            <a:chOff x="775800" y="2514600"/>
            <a:chExt cx="2950920" cy="822240"/>
          </a:xfrm>
        </p:grpSpPr>
        <p:sp>
          <p:nvSpPr>
            <p:cNvPr id="1004" name=""/>
            <p:cNvSpPr/>
            <p:nvPr/>
          </p:nvSpPr>
          <p:spPr>
            <a:xfrm flipH="1">
              <a:off x="775800" y="3336840"/>
              <a:ext cx="2950920" cy="0"/>
            </a:xfrm>
            <a:prstGeom prst="line">
              <a:avLst/>
            </a:prstGeom>
            <a:ln w="1015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46720" y="2514600"/>
              <a:ext cx="0" cy="822240"/>
            </a:xfrm>
            <a:prstGeom prst="line">
              <a:avLst/>
            </a:prstGeom>
            <a:ln w="1015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647160" y="2514600"/>
              <a:ext cx="0" cy="822240"/>
            </a:xfrm>
            <a:prstGeom prst="line">
              <a:avLst/>
            </a:prstGeom>
            <a:ln w="1015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1273320" y="2514600"/>
            <a:ext cx="1914480" cy="1276200"/>
            <a:chOff x="1273320" y="2514600"/>
            <a:chExt cx="1914480" cy="1276200"/>
          </a:xfrm>
        </p:grpSpPr>
        <p:sp>
          <p:nvSpPr>
            <p:cNvPr id="1008" name=""/>
            <p:cNvSpPr/>
            <p:nvPr/>
          </p:nvSpPr>
          <p:spPr>
            <a:xfrm>
              <a:off x="1301760" y="2514600"/>
              <a:ext cx="3240" cy="127620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1273320" y="3736800"/>
              <a:ext cx="1914480" cy="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168720" y="2514600"/>
              <a:ext cx="3240" cy="127620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730160" y="2514600"/>
            <a:ext cx="2434680" cy="1600200"/>
            <a:chOff x="1730160" y="2514600"/>
            <a:chExt cx="2434680" cy="1600200"/>
          </a:xfrm>
        </p:grpSpPr>
        <p:sp>
          <p:nvSpPr>
            <p:cNvPr id="1012" name=""/>
            <p:cNvSpPr/>
            <p:nvPr/>
          </p:nvSpPr>
          <p:spPr>
            <a:xfrm>
              <a:off x="1757520" y="2514600"/>
              <a:ext cx="3960" cy="160020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96440" y="2514600"/>
              <a:ext cx="3960" cy="160020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1730160" y="4114800"/>
              <a:ext cx="2434680" cy="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3201120" y="4343400"/>
            <a:ext cx="1427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werU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199680" y="539424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To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199680" y="57754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opeTo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198960" y="502920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asOutput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52280" y="4343400"/>
            <a:ext cx="161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IVI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ri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136440" y="894960"/>
            <a:ext cx="4850280" cy="4974480"/>
            <a:chOff x="136440" y="894960"/>
            <a:chExt cx="4850280" cy="4974480"/>
          </a:xfrm>
        </p:grpSpPr>
        <p:grpSp>
          <p:nvGrpSpPr>
            <p:cNvPr id="1021" name=""/>
            <p:cNvGrpSpPr/>
            <p:nvPr/>
          </p:nvGrpSpPr>
          <p:grpSpPr>
            <a:xfrm>
              <a:off x="543240" y="894960"/>
              <a:ext cx="4443480" cy="1415520"/>
              <a:chOff x="543240" y="894960"/>
              <a:chExt cx="4443480" cy="1415520"/>
            </a:xfrm>
          </p:grpSpPr>
          <p:sp>
            <p:nvSpPr>
              <p:cNvPr id="1022" name=""/>
              <p:cNvSpPr/>
              <p:nvPr/>
            </p:nvSpPr>
            <p:spPr>
              <a:xfrm rot="18171000">
                <a:off x="2860200" y="1550880"/>
                <a:ext cx="107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18171000">
                <a:off x="3718080" y="1403280"/>
                <a:ext cx="142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Out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8171000">
                <a:off x="3234240" y="141912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18198600">
                <a:off x="2350080" y="1456560"/>
                <a:ext cx="1299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Vc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8198600">
                <a:off x="1849320" y="1451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CPow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8171000">
                <a:off x="1425960" y="1603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8171000">
                <a:off x="930240" y="15624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18198600">
                <a:off x="532080" y="167076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M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0" name=""/>
            <p:cNvSpPr/>
            <p:nvPr/>
          </p:nvSpPr>
          <p:spPr>
            <a:xfrm>
              <a:off x="136440" y="5470560"/>
              <a:ext cx="257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Named Chann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6477120" y="4419720"/>
            <a:ext cx="22161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eqRespTes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19160" y="2117880"/>
            <a:ext cx="8331120" cy="2987640"/>
            <a:chOff x="119160" y="2117880"/>
            <a:chExt cx="8331120" cy="2987640"/>
          </a:xfrm>
        </p:grpSpPr>
        <p:sp>
          <p:nvSpPr>
            <p:cNvPr id="1033" name=""/>
            <p:cNvSpPr/>
            <p:nvPr/>
          </p:nvSpPr>
          <p:spPr>
            <a:xfrm>
              <a:off x="6477120" y="4762440"/>
              <a:ext cx="1973160" cy="343080"/>
            </a:xfrm>
            <a:prstGeom prst="borderCallout2">
              <a:avLst>
                <a:gd name="adj1" fmla="val 18750"/>
                <a:gd name="adj2" fmla="val -8333"/>
                <a:gd name="adj3" fmla="val 33333"/>
                <a:gd name="adj4" fmla="val -34675"/>
                <a:gd name="adj5" fmla="val -192129"/>
                <a:gd name="adj6" fmla="val -123087"/>
              </a:avLst>
            </a:prstGeom>
            <a:noFill/>
            <a:ln w="38160">
              <a:solidFill>
                <a:srgbClr val="edb90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9160" y="2117880"/>
              <a:ext cx="4297320" cy="2377800"/>
            </a:xfrm>
            <a:prstGeom prst="ellipse">
              <a:avLst/>
            </a:prstGeom>
            <a:noFill/>
            <a:ln w="28440">
              <a:solidFill>
                <a:srgbClr val="edb9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716040" y="380880"/>
            <a:ext cx="8199360" cy="6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Exemple 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590400" y="2117880"/>
            <a:ext cx="3884400" cy="398880"/>
            <a:chOff x="590400" y="2117880"/>
            <a:chExt cx="3884400" cy="398880"/>
          </a:xfrm>
        </p:grpSpPr>
        <p:sp>
          <p:nvSpPr>
            <p:cNvPr id="1038" name=""/>
            <p:cNvSpPr/>
            <p:nvPr/>
          </p:nvSpPr>
          <p:spPr>
            <a:xfrm>
              <a:off x="5904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49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06164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5188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00484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4146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48400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89232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152280" y="2771640"/>
            <a:ext cx="452160" cy="1496880"/>
            <a:chOff x="152280" y="2771640"/>
            <a:chExt cx="452160" cy="1496880"/>
          </a:xfrm>
        </p:grpSpPr>
        <p:sp>
          <p:nvSpPr>
            <p:cNvPr id="1047" name=""/>
            <p:cNvSpPr/>
            <p:nvPr/>
          </p:nvSpPr>
          <p:spPr>
            <a:xfrm>
              <a:off x="152280" y="27716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52280" y="39002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52280" y="35240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52280" y="31478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528480" y="2514600"/>
            <a:ext cx="3838320" cy="1752480"/>
            <a:chOff x="528480" y="2514600"/>
            <a:chExt cx="3838320" cy="1752480"/>
          </a:xfrm>
        </p:grpSpPr>
        <p:sp>
          <p:nvSpPr>
            <p:cNvPr id="1052" name=""/>
            <p:cNvSpPr/>
            <p:nvPr/>
          </p:nvSpPr>
          <p:spPr>
            <a:xfrm>
              <a:off x="83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2999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236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683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6414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704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1097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17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2848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2848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2848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2848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3201120" y="4343400"/>
            <a:ext cx="1427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werU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199680" y="539424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To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199680" y="57754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opeTo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199320" y="502920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asSource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52280" y="502920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rix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4820040" y="774360"/>
            <a:ext cx="2585520" cy="1534680"/>
            <a:chOff x="4820040" y="774360"/>
            <a:chExt cx="2585520" cy="1534680"/>
          </a:xfrm>
        </p:grpSpPr>
        <p:sp>
          <p:nvSpPr>
            <p:cNvPr id="1070" name=""/>
            <p:cNvSpPr/>
            <p:nvPr/>
          </p:nvSpPr>
          <p:spPr>
            <a:xfrm rot="18171000">
              <a:off x="5170320" y="149004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18171000">
              <a:off x="6027840" y="1342080"/>
              <a:ext cx="156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Out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8171000">
              <a:off x="5544720" y="1358280"/>
              <a:ext cx="152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8198600">
              <a:off x="4661640" y="139716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V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4862520" y="2117880"/>
            <a:ext cx="3884400" cy="398880"/>
            <a:chOff x="4862520" y="2117880"/>
            <a:chExt cx="3884400" cy="398880"/>
          </a:xfrm>
        </p:grpSpPr>
        <p:sp>
          <p:nvSpPr>
            <p:cNvPr id="1075" name=""/>
            <p:cNvSpPr/>
            <p:nvPr/>
          </p:nvSpPr>
          <p:spPr>
            <a:xfrm>
              <a:off x="486252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2212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33376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9096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27696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68672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756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16444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4800600" y="2514600"/>
            <a:ext cx="3838320" cy="1752480"/>
            <a:chOff x="4800600" y="2514600"/>
            <a:chExt cx="3838320" cy="1752480"/>
          </a:xfrm>
        </p:grpSpPr>
        <p:sp>
          <p:nvSpPr>
            <p:cNvPr id="1084" name=""/>
            <p:cNvSpPr/>
            <p:nvPr/>
          </p:nvSpPr>
          <p:spPr>
            <a:xfrm>
              <a:off x="51051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5720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0404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9135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9768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3818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4451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80060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80060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80060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80060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104760" y="5081760"/>
            <a:ext cx="1133640" cy="342720"/>
          </a:xfrm>
          <a:prstGeom prst="borderCallout2">
            <a:avLst>
              <a:gd name="adj1" fmla="val 18750"/>
              <a:gd name="adj2" fmla="val -8333"/>
              <a:gd name="adj3" fmla="val 33333"/>
              <a:gd name="adj4" fmla="val 135013"/>
              <a:gd name="adj5" fmla="val -531018"/>
              <a:gd name="adj6" fmla="val 433050"/>
            </a:avLst>
          </a:prstGeom>
          <a:noFill/>
          <a:ln w="38160">
            <a:solidFill>
              <a:srgbClr val="edb90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52280" y="4343400"/>
            <a:ext cx="161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IVI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ri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423120" y="4343400"/>
            <a:ext cx="22161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eqRespTes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600440" y="4184640"/>
            <a:ext cx="1814760" cy="1490760"/>
          </a:xfrm>
          <a:custGeom>
            <a:avLst/>
            <a:gdLst/>
            <a:ahLst/>
            <a:rect l="l" t="t" r="r" b="b"/>
            <a:pathLst>
              <a:path w="1143" h="951">
                <a:moveTo>
                  <a:pt x="1143" y="951"/>
                </a:moveTo>
                <a:cubicBezTo>
                  <a:pt x="1046" y="867"/>
                  <a:pt x="748" y="606"/>
                  <a:pt x="558" y="448"/>
                </a:cubicBezTo>
                <a:cubicBezTo>
                  <a:pt x="368" y="290"/>
                  <a:pt x="116" y="93"/>
                  <a:pt x="0" y="0"/>
                </a:cubicBezTo>
              </a:path>
            </a:pathLst>
          </a:custGeom>
          <a:noFill/>
          <a:ln w="38160">
            <a:solidFill>
              <a:srgbClr val="edb90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4343400" y="2820240"/>
            <a:ext cx="3505680" cy="3020760"/>
            <a:chOff x="4343400" y="2820240"/>
            <a:chExt cx="3505680" cy="3020760"/>
          </a:xfrm>
        </p:grpSpPr>
        <p:grpSp>
          <p:nvGrpSpPr>
            <p:cNvPr id="1101" name=""/>
            <p:cNvGrpSpPr/>
            <p:nvPr/>
          </p:nvGrpSpPr>
          <p:grpSpPr>
            <a:xfrm>
              <a:off x="4343400" y="2820240"/>
              <a:ext cx="466200" cy="1459080"/>
              <a:chOff x="4343400" y="2820240"/>
              <a:chExt cx="466200" cy="1459080"/>
            </a:xfrm>
          </p:grpSpPr>
          <p:grpSp>
            <p:nvGrpSpPr>
              <p:cNvPr id="1102" name=""/>
              <p:cNvGrpSpPr/>
              <p:nvPr/>
            </p:nvGrpSpPr>
            <p:grpSpPr>
              <a:xfrm>
                <a:off x="4343400" y="2820240"/>
                <a:ext cx="466200" cy="313560"/>
                <a:chOff x="4343400" y="2820240"/>
                <a:chExt cx="466200" cy="313560"/>
              </a:xfrm>
            </p:grpSpPr>
            <p:sp>
              <p:nvSpPr>
                <p:cNvPr id="1103" name=""/>
                <p:cNvSpPr/>
                <p:nvPr/>
              </p:nvSpPr>
              <p:spPr>
                <a:xfrm rot="16200000">
                  <a:off x="4454280" y="277848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16200000">
                  <a:off x="4453920" y="2709720"/>
                  <a:ext cx="24516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4343400" y="3205800"/>
                <a:ext cx="466200" cy="313200"/>
                <a:chOff x="4343400" y="3205800"/>
                <a:chExt cx="466200" cy="313200"/>
              </a:xfrm>
            </p:grpSpPr>
            <p:sp>
              <p:nvSpPr>
                <p:cNvPr id="1106" name=""/>
                <p:cNvSpPr/>
                <p:nvPr/>
              </p:nvSpPr>
              <p:spPr>
                <a:xfrm rot="16200000">
                  <a:off x="4454280" y="316368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rot="16200000">
                  <a:off x="4454280" y="309456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4343400" y="3585240"/>
                <a:ext cx="466200" cy="313200"/>
                <a:chOff x="4343400" y="3585240"/>
                <a:chExt cx="466200" cy="313200"/>
              </a:xfrm>
            </p:grpSpPr>
            <p:sp>
              <p:nvSpPr>
                <p:cNvPr id="1109" name=""/>
                <p:cNvSpPr/>
                <p:nvPr/>
              </p:nvSpPr>
              <p:spPr>
                <a:xfrm rot="16200000">
                  <a:off x="4454280" y="354312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16200000">
                  <a:off x="4454280" y="347400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4343400" y="3966120"/>
                <a:ext cx="466200" cy="313200"/>
                <a:chOff x="4343400" y="3966120"/>
                <a:chExt cx="466200" cy="313200"/>
              </a:xfrm>
            </p:grpSpPr>
            <p:sp>
              <p:nvSpPr>
                <p:cNvPr id="1112" name=""/>
                <p:cNvSpPr/>
                <p:nvPr/>
              </p:nvSpPr>
              <p:spPr>
                <a:xfrm rot="16200000">
                  <a:off x="4454280" y="392400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rot="16200000">
                  <a:off x="4454280" y="385488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4" name=""/>
            <p:cNvSpPr/>
            <p:nvPr/>
          </p:nvSpPr>
          <p:spPr>
            <a:xfrm>
              <a:off x="6436800" y="5442120"/>
              <a:ext cx="141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Hardwi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136440" y="894960"/>
            <a:ext cx="4850280" cy="4974480"/>
            <a:chOff x="136440" y="894960"/>
            <a:chExt cx="4850280" cy="4974480"/>
          </a:xfrm>
        </p:grpSpPr>
        <p:grpSp>
          <p:nvGrpSpPr>
            <p:cNvPr id="1116" name=""/>
            <p:cNvGrpSpPr/>
            <p:nvPr/>
          </p:nvGrpSpPr>
          <p:grpSpPr>
            <a:xfrm>
              <a:off x="543240" y="894960"/>
              <a:ext cx="4443480" cy="1415520"/>
              <a:chOff x="543240" y="894960"/>
              <a:chExt cx="4443480" cy="1415520"/>
            </a:xfrm>
          </p:grpSpPr>
          <p:sp>
            <p:nvSpPr>
              <p:cNvPr id="1117" name=""/>
              <p:cNvSpPr/>
              <p:nvPr/>
            </p:nvSpPr>
            <p:spPr>
              <a:xfrm rot="18171000">
                <a:off x="2860200" y="1550880"/>
                <a:ext cx="107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18171000">
                <a:off x="3718080" y="1403280"/>
                <a:ext cx="142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Out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rot="18171000">
                <a:off x="3234240" y="141912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18198600">
                <a:off x="2350080" y="1456560"/>
                <a:ext cx="1299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Vc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rot="18198600">
                <a:off x="1849320" y="1451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CPow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rot="18171000">
                <a:off x="1425960" y="1603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rot="18171000">
                <a:off x="930240" y="15624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rot="18198600">
                <a:off x="532080" y="167076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M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>
              <a:off x="136440" y="5470560"/>
              <a:ext cx="257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Named Chann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716040" y="380880"/>
            <a:ext cx="8199360" cy="6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Exemple 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590400" y="2117880"/>
            <a:ext cx="3884400" cy="398880"/>
            <a:chOff x="590400" y="2117880"/>
            <a:chExt cx="3884400" cy="398880"/>
          </a:xfrm>
        </p:grpSpPr>
        <p:sp>
          <p:nvSpPr>
            <p:cNvPr id="1129" name=""/>
            <p:cNvSpPr/>
            <p:nvPr/>
          </p:nvSpPr>
          <p:spPr>
            <a:xfrm>
              <a:off x="5904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949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06164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5188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00484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4146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48400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89232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152280" y="2771640"/>
            <a:ext cx="452160" cy="1496880"/>
            <a:chOff x="152280" y="2771640"/>
            <a:chExt cx="452160" cy="1496880"/>
          </a:xfrm>
        </p:grpSpPr>
        <p:sp>
          <p:nvSpPr>
            <p:cNvPr id="1138" name=""/>
            <p:cNvSpPr/>
            <p:nvPr/>
          </p:nvSpPr>
          <p:spPr>
            <a:xfrm>
              <a:off x="152280" y="27716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52280" y="39002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52280" y="35240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2280" y="31478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533520" y="2514600"/>
            <a:ext cx="3838320" cy="1752480"/>
            <a:chOff x="533520" y="2514600"/>
            <a:chExt cx="3838320" cy="1752480"/>
          </a:xfrm>
        </p:grpSpPr>
        <p:sp>
          <p:nvSpPr>
            <p:cNvPr id="1143" name=""/>
            <p:cNvSpPr/>
            <p:nvPr/>
          </p:nvSpPr>
          <p:spPr>
            <a:xfrm>
              <a:off x="8380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3050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2417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7733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6464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7097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1148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1780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3352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3352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3352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3352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201120" y="4343400"/>
            <a:ext cx="1427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werU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199680" y="539424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To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199680" y="57754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opeTo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199320" y="502920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asSource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52280" y="502920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trix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4820040" y="774360"/>
            <a:ext cx="2585520" cy="1534680"/>
            <a:chOff x="4820040" y="774360"/>
            <a:chExt cx="2585520" cy="1534680"/>
          </a:xfrm>
        </p:grpSpPr>
        <p:sp>
          <p:nvSpPr>
            <p:cNvPr id="1161" name=""/>
            <p:cNvSpPr/>
            <p:nvPr/>
          </p:nvSpPr>
          <p:spPr>
            <a:xfrm rot="18171000">
              <a:off x="5170320" y="149004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rot="18171000">
              <a:off x="6027840" y="1342080"/>
              <a:ext cx="156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Out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18171000">
              <a:off x="5544720" y="1358280"/>
              <a:ext cx="152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18198600">
              <a:off x="4661640" y="139716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V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4862520" y="2117880"/>
            <a:ext cx="3884400" cy="398880"/>
            <a:chOff x="4862520" y="2117880"/>
            <a:chExt cx="3884400" cy="398880"/>
          </a:xfrm>
        </p:grpSpPr>
        <p:sp>
          <p:nvSpPr>
            <p:cNvPr id="1166" name=""/>
            <p:cNvSpPr/>
            <p:nvPr/>
          </p:nvSpPr>
          <p:spPr>
            <a:xfrm>
              <a:off x="486252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2212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33376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79096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27696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68672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756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16444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4800600" y="2514600"/>
            <a:ext cx="3838320" cy="1752480"/>
            <a:chOff x="4800600" y="2514600"/>
            <a:chExt cx="3838320" cy="1752480"/>
          </a:xfrm>
        </p:grpSpPr>
        <p:sp>
          <p:nvSpPr>
            <p:cNvPr id="1175" name=""/>
            <p:cNvSpPr/>
            <p:nvPr/>
          </p:nvSpPr>
          <p:spPr>
            <a:xfrm>
              <a:off x="51051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5720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5088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0404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9135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9768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3818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451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0060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80060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80060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80060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152280" y="4343400"/>
            <a:ext cx="161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IVI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ri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423120" y="4343400"/>
            <a:ext cx="22161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eqRespTes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4343400" y="2820240"/>
            <a:ext cx="3505680" cy="3020760"/>
            <a:chOff x="4343400" y="2820240"/>
            <a:chExt cx="3505680" cy="3020760"/>
          </a:xfrm>
        </p:grpSpPr>
        <p:grpSp>
          <p:nvGrpSpPr>
            <p:cNvPr id="1190" name=""/>
            <p:cNvGrpSpPr/>
            <p:nvPr/>
          </p:nvGrpSpPr>
          <p:grpSpPr>
            <a:xfrm>
              <a:off x="4343400" y="2820240"/>
              <a:ext cx="466200" cy="1459080"/>
              <a:chOff x="4343400" y="2820240"/>
              <a:chExt cx="466200" cy="1459080"/>
            </a:xfrm>
          </p:grpSpPr>
          <p:grpSp>
            <p:nvGrpSpPr>
              <p:cNvPr id="1191" name=""/>
              <p:cNvGrpSpPr/>
              <p:nvPr/>
            </p:nvGrpSpPr>
            <p:grpSpPr>
              <a:xfrm>
                <a:off x="4343400" y="2820240"/>
                <a:ext cx="466200" cy="313560"/>
                <a:chOff x="4343400" y="2820240"/>
                <a:chExt cx="466200" cy="313560"/>
              </a:xfrm>
            </p:grpSpPr>
            <p:sp>
              <p:nvSpPr>
                <p:cNvPr id="1192" name=""/>
                <p:cNvSpPr/>
                <p:nvPr/>
              </p:nvSpPr>
              <p:spPr>
                <a:xfrm rot="16200000">
                  <a:off x="4454280" y="277848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rot="16200000">
                  <a:off x="4453920" y="2709720"/>
                  <a:ext cx="24516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4343400" y="3205800"/>
                <a:ext cx="466200" cy="313200"/>
                <a:chOff x="4343400" y="3205800"/>
                <a:chExt cx="466200" cy="313200"/>
              </a:xfrm>
            </p:grpSpPr>
            <p:sp>
              <p:nvSpPr>
                <p:cNvPr id="1195" name=""/>
                <p:cNvSpPr/>
                <p:nvPr/>
              </p:nvSpPr>
              <p:spPr>
                <a:xfrm rot="16200000">
                  <a:off x="4454280" y="316368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rot="16200000">
                  <a:off x="4454280" y="309456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4343400" y="3585240"/>
                <a:ext cx="466200" cy="313200"/>
                <a:chOff x="4343400" y="3585240"/>
                <a:chExt cx="466200" cy="313200"/>
              </a:xfrm>
            </p:grpSpPr>
            <p:sp>
              <p:nvSpPr>
                <p:cNvPr id="1198" name=""/>
                <p:cNvSpPr/>
                <p:nvPr/>
              </p:nvSpPr>
              <p:spPr>
                <a:xfrm rot="16200000">
                  <a:off x="4454280" y="354312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16200000">
                  <a:off x="4454280" y="347400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0" name=""/>
              <p:cNvGrpSpPr/>
              <p:nvPr/>
            </p:nvGrpSpPr>
            <p:grpSpPr>
              <a:xfrm>
                <a:off x="4343400" y="3966120"/>
                <a:ext cx="466200" cy="313200"/>
                <a:chOff x="4343400" y="3966120"/>
                <a:chExt cx="466200" cy="313200"/>
              </a:xfrm>
            </p:grpSpPr>
            <p:sp>
              <p:nvSpPr>
                <p:cNvPr id="1201" name=""/>
                <p:cNvSpPr/>
                <p:nvPr/>
              </p:nvSpPr>
              <p:spPr>
                <a:xfrm rot="16200000">
                  <a:off x="4454280" y="392400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 rot="16200000">
                  <a:off x="4454280" y="385488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3" name=""/>
            <p:cNvSpPr/>
            <p:nvPr/>
          </p:nvSpPr>
          <p:spPr>
            <a:xfrm>
              <a:off x="6436800" y="5442120"/>
              <a:ext cx="141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Hardwi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2198160" y="2519280"/>
            <a:ext cx="2979720" cy="452520"/>
            <a:chOff x="2198160" y="2519280"/>
            <a:chExt cx="2979720" cy="452520"/>
          </a:xfrm>
        </p:grpSpPr>
        <p:sp>
          <p:nvSpPr>
            <p:cNvPr id="1205" name=""/>
            <p:cNvSpPr/>
            <p:nvPr/>
          </p:nvSpPr>
          <p:spPr>
            <a:xfrm>
              <a:off x="224136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2198160" y="2968560"/>
              <a:ext cx="2979720" cy="324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1596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76160" y="2514600"/>
            <a:ext cx="5332320" cy="822240"/>
            <a:chOff x="776160" y="2514600"/>
            <a:chExt cx="5332320" cy="822240"/>
          </a:xfrm>
        </p:grpSpPr>
        <p:sp>
          <p:nvSpPr>
            <p:cNvPr id="1209" name=""/>
            <p:cNvSpPr/>
            <p:nvPr/>
          </p:nvSpPr>
          <p:spPr>
            <a:xfrm flipH="1">
              <a:off x="776160" y="3336840"/>
              <a:ext cx="5332320" cy="0"/>
            </a:xfrm>
            <a:prstGeom prst="line">
              <a:avLst/>
            </a:prstGeom>
            <a:ln w="1015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35920" y="2514600"/>
              <a:ext cx="0" cy="822240"/>
            </a:xfrm>
            <a:prstGeom prst="line">
              <a:avLst/>
            </a:prstGeom>
            <a:ln w="1015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046560" y="2514600"/>
              <a:ext cx="0" cy="822240"/>
            </a:xfrm>
            <a:prstGeom prst="line">
              <a:avLst/>
            </a:prstGeom>
            <a:ln w="1015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1278000" y="2514600"/>
            <a:ext cx="4327200" cy="1276200"/>
            <a:chOff x="1278000" y="2514600"/>
            <a:chExt cx="4327200" cy="1276200"/>
          </a:xfrm>
        </p:grpSpPr>
        <p:sp>
          <p:nvSpPr>
            <p:cNvPr id="1213" name=""/>
            <p:cNvSpPr/>
            <p:nvPr/>
          </p:nvSpPr>
          <p:spPr>
            <a:xfrm>
              <a:off x="1306800" y="2514600"/>
              <a:ext cx="2880" cy="127620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1278000" y="3736800"/>
              <a:ext cx="4327200" cy="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599080" y="2514600"/>
              <a:ext cx="2880" cy="127620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1709280" y="2514600"/>
            <a:ext cx="4903560" cy="1600200"/>
            <a:chOff x="1709280" y="2514600"/>
            <a:chExt cx="4903560" cy="1600200"/>
          </a:xfrm>
        </p:grpSpPr>
        <p:sp>
          <p:nvSpPr>
            <p:cNvPr id="1217" name=""/>
            <p:cNvSpPr/>
            <p:nvPr/>
          </p:nvSpPr>
          <p:spPr>
            <a:xfrm>
              <a:off x="1766520" y="2514600"/>
              <a:ext cx="3600" cy="160020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558120" y="2514600"/>
              <a:ext cx="3600" cy="160020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H="1">
              <a:off x="1709280" y="4114800"/>
              <a:ext cx="4903560" cy="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6437160" y="502920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eqRespTes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04760" y="2209680"/>
            <a:ext cx="8345520" cy="3182760"/>
            <a:chOff x="104760" y="2209680"/>
            <a:chExt cx="8345520" cy="3182760"/>
          </a:xfrm>
        </p:grpSpPr>
        <p:sp>
          <p:nvSpPr>
            <p:cNvPr id="1222" name=""/>
            <p:cNvSpPr/>
            <p:nvPr/>
          </p:nvSpPr>
          <p:spPr>
            <a:xfrm>
              <a:off x="6477120" y="5049720"/>
              <a:ext cx="1973160" cy="342720"/>
            </a:xfrm>
            <a:prstGeom prst="borderCallout2">
              <a:avLst>
                <a:gd name="adj1" fmla="val 18750"/>
                <a:gd name="adj2" fmla="val -8333"/>
                <a:gd name="adj3" fmla="val 33333"/>
                <a:gd name="adj4" fmla="val -12953"/>
                <a:gd name="adj5" fmla="val -225462"/>
                <a:gd name="adj6" fmla="val -58407"/>
              </a:avLst>
            </a:prstGeom>
            <a:noFill/>
            <a:ln w="38160">
              <a:solidFill>
                <a:srgbClr val="edb90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04760" y="2209680"/>
              <a:ext cx="7116840" cy="2077920"/>
            </a:xfrm>
            <a:prstGeom prst="ellipse">
              <a:avLst/>
            </a:prstGeom>
            <a:noFill/>
            <a:ln w="28440">
              <a:solidFill>
                <a:srgbClr val="edb9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136440" y="894960"/>
            <a:ext cx="4850280" cy="4974480"/>
            <a:chOff x="136440" y="894960"/>
            <a:chExt cx="4850280" cy="4974480"/>
          </a:xfrm>
        </p:grpSpPr>
        <p:grpSp>
          <p:nvGrpSpPr>
            <p:cNvPr id="1225" name=""/>
            <p:cNvGrpSpPr/>
            <p:nvPr/>
          </p:nvGrpSpPr>
          <p:grpSpPr>
            <a:xfrm>
              <a:off x="543240" y="894960"/>
              <a:ext cx="4443480" cy="1415520"/>
              <a:chOff x="543240" y="894960"/>
              <a:chExt cx="4443480" cy="1415520"/>
            </a:xfrm>
          </p:grpSpPr>
          <p:sp>
            <p:nvSpPr>
              <p:cNvPr id="1226" name=""/>
              <p:cNvSpPr/>
              <p:nvPr/>
            </p:nvSpPr>
            <p:spPr>
              <a:xfrm rot="18171000">
                <a:off x="2859840" y="1550880"/>
                <a:ext cx="107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18171000">
                <a:off x="3718080" y="1403280"/>
                <a:ext cx="142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Out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18171000">
                <a:off x="3234240" y="141912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rot="18198600">
                <a:off x="2350080" y="1456560"/>
                <a:ext cx="1299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Vc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rot="18198600">
                <a:off x="1849320" y="1451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CPow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rot="18171000">
                <a:off x="1425960" y="1603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rot="18171000">
                <a:off x="930240" y="15624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rot="18198600">
                <a:off x="532080" y="167076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M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4" name=""/>
            <p:cNvSpPr/>
            <p:nvPr/>
          </p:nvSpPr>
          <p:spPr>
            <a:xfrm>
              <a:off x="136440" y="5470560"/>
              <a:ext cx="257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Named Chann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TestStand : "les faits"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6693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s grands noms du test lui font confiance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lcatel, Philips, Thales, Mitsubishi, Nokia, Magneti Marell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uit des dix premières entreprises du monde de l’électronique utilisent TestStan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37" name=""/>
          <p:cNvGraphicFramePr/>
          <p:nvPr/>
        </p:nvGraphicFramePr>
        <p:xfrm>
          <a:off x="6324480" y="3276720"/>
          <a:ext cx="24289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276720"/>
                    <a:ext cx="2428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Architecture de test modulair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4987800"/>
            <a:ext cx="1522440" cy="622440"/>
          </a:xfrm>
          <a:prstGeom prst="ellipse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4987800"/>
            <a:ext cx="1522440" cy="622440"/>
          </a:xfrm>
          <a:prstGeom prst="ellipse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00280" y="4089240"/>
            <a:ext cx="1520640" cy="622440"/>
          </a:xfrm>
          <a:prstGeom prst="ellipse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923800">
            <a:off x="1664640" y="3848040"/>
            <a:ext cx="138240" cy="1865160"/>
          </a:xfrm>
          <a:prstGeom prst="rect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2197080"/>
            <a:ext cx="168120" cy="2100240"/>
          </a:xfrm>
          <a:prstGeom prst="rect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8604200">
            <a:off x="3116880" y="3842280"/>
            <a:ext cx="139680" cy="1865160"/>
          </a:xfrm>
          <a:prstGeom prst="rect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8160" y="3716280"/>
            <a:ext cx="1132200" cy="113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944800" y="4643280"/>
            <a:ext cx="995400" cy="995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938160" y="4516560"/>
            <a:ext cx="1106640" cy="1106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73120" y="3222720"/>
            <a:ext cx="1925640" cy="565200"/>
          </a:xfrm>
          <a:prstGeom prst="roundRect">
            <a:avLst>
              <a:gd name="adj" fmla="val 16667"/>
            </a:avLst>
          </a:prstGeom>
          <a:solidFill>
            <a:srgbClr val="a8adb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1680" y="2414520"/>
            <a:ext cx="1927080" cy="709560"/>
          </a:xfrm>
          <a:prstGeom prst="roundRect">
            <a:avLst>
              <a:gd name="adj" fmla="val 16667"/>
            </a:avLst>
          </a:prstGeom>
          <a:solidFill>
            <a:srgbClr val="a8adb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44760" y="2589840"/>
            <a:ext cx="1828800" cy="322560"/>
          </a:xfrm>
          <a:prstGeom prst="rect">
            <a:avLst/>
          </a:prstGeom>
          <a:solidFill>
            <a:srgbClr val="a8a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st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91200" y="18673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73120" y="1200240"/>
            <a:ext cx="1927440" cy="1085760"/>
          </a:xfrm>
          <a:prstGeom prst="roundRect">
            <a:avLst>
              <a:gd name="adj" fmla="val 16667"/>
            </a:avLst>
          </a:prstGeom>
          <a:solidFill>
            <a:srgbClr val="a8adb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94000" y="1307880"/>
            <a:ext cx="1857240" cy="916920"/>
          </a:xfrm>
          <a:prstGeom prst="rect">
            <a:avLst/>
          </a:prstGeom>
          <a:solidFill>
            <a:srgbClr val="a8a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38200" y="3222720"/>
            <a:ext cx="1998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ement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581280" y="4038480"/>
            <a:ext cx="5033880" cy="1822320"/>
            <a:chOff x="3581280" y="4038480"/>
            <a:chExt cx="5033880" cy="1822320"/>
          </a:xfrm>
        </p:grpSpPr>
        <p:sp>
          <p:nvSpPr>
            <p:cNvPr id="129" name=""/>
            <p:cNvSpPr/>
            <p:nvPr/>
          </p:nvSpPr>
          <p:spPr>
            <a:xfrm>
              <a:off x="7101720" y="4114440"/>
              <a:ext cx="1513440" cy="831960"/>
            </a:xfrm>
            <a:prstGeom prst="roundRect">
              <a:avLst>
                <a:gd name="adj" fmla="val 16667"/>
              </a:avLst>
            </a:prstGeom>
            <a:solidFill>
              <a:srgbClr val="f2ed7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Unit Und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Tes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32200" y="4038480"/>
              <a:ext cx="1303560" cy="1176120"/>
            </a:xfrm>
            <a:prstGeom prst="rect">
              <a:avLst/>
            </a:prstGeom>
            <a:solidFill>
              <a:srgbClr val="f2ed7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796280" y="4093920"/>
              <a:ext cx="1173600" cy="1066680"/>
              <a:chOff x="4796280" y="4093920"/>
              <a:chExt cx="1173600" cy="1066680"/>
            </a:xfrm>
          </p:grpSpPr>
          <p:sp>
            <p:nvSpPr>
              <p:cNvPr id="132" name=""/>
              <p:cNvSpPr/>
              <p:nvPr/>
            </p:nvSpPr>
            <p:spPr>
              <a:xfrm>
                <a:off x="4796280" y="427176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96280" y="444924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96280" y="462708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796280" y="480492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96280" y="498276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96368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13144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9920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46660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63436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80212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4616640" y="5200200"/>
              <a:ext cx="1525320" cy="660600"/>
            </a:xfrm>
            <a:prstGeom prst="roundRect">
              <a:avLst>
                <a:gd name="adj" fmla="val 16667"/>
              </a:avLst>
            </a:prstGeom>
            <a:solidFill>
              <a:srgbClr val="f2ed7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Switc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Hardwar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81280" y="4343040"/>
              <a:ext cx="790200" cy="381240"/>
            </a:xfrm>
            <a:prstGeom prst="leftRightArrow">
              <a:avLst>
                <a:gd name="adj1" fmla="val 50000"/>
                <a:gd name="adj2" fmla="val 41262"/>
              </a:avLst>
            </a:prstGeom>
            <a:solidFill>
              <a:srgbClr val="afb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67880" y="4343040"/>
              <a:ext cx="790200" cy="381240"/>
            </a:xfrm>
            <a:prstGeom prst="leftRightArrow">
              <a:avLst>
                <a:gd name="adj1" fmla="val 50000"/>
                <a:gd name="adj2" fmla="val 41262"/>
              </a:avLst>
            </a:prstGeom>
            <a:solidFill>
              <a:srgbClr val="afb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022400" y="974880"/>
            <a:ext cx="2819520" cy="1523880"/>
          </a:xfrm>
          <a:prstGeom prst="ellipse">
            <a:avLst/>
          </a:prstGeom>
          <a:noFill/>
          <a:ln w="57240">
            <a:solidFill>
              <a:srgbClr val="8e58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6480" y="3276720"/>
            <a:ext cx="268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Bibliothèques d’E/S modul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(GPIB, DAQ, PXI, VXI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4240" y="2286000"/>
            <a:ext cx="2451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Programmes d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(LabVIEW, LabWindows/CVI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Measurement Studio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2514600"/>
            <a:ext cx="782640" cy="380880"/>
          </a:xfrm>
          <a:prstGeom prst="leftRightArrow">
            <a:avLst>
              <a:gd name="adj1" fmla="val 50000"/>
              <a:gd name="adj2" fmla="val 40906"/>
            </a:avLst>
          </a:prstGeom>
          <a:solidFill>
            <a:srgbClr val="afb5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3276720"/>
            <a:ext cx="782640" cy="380880"/>
          </a:xfrm>
          <a:prstGeom prst="leftRightArrow">
            <a:avLst>
              <a:gd name="adj1" fmla="val 50000"/>
              <a:gd name="adj2" fmla="val 40906"/>
            </a:avLst>
          </a:prstGeom>
          <a:solidFill>
            <a:srgbClr val="afb5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1523880"/>
            <a:ext cx="782640" cy="381240"/>
          </a:xfrm>
          <a:prstGeom prst="leftRightArrow">
            <a:avLst>
              <a:gd name="adj1" fmla="val 50000"/>
              <a:gd name="adj2" fmla="val 40868"/>
            </a:avLst>
          </a:prstGeom>
          <a:solidFill>
            <a:srgbClr val="afb5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1143000"/>
            <a:ext cx="325116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876920" y="1219320"/>
            <a:ext cx="3124080" cy="79200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stStand : les clients par industri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élécommunic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est de téléphones mobiles et stations de base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nasonic, GB : test de téléphone GSM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torola : test de station de base avec LabVIEW et TestStan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litaire/avioniq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ckheed Martin Electronics and Missil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rthrup-Grumma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E Systems, HoneyWell, GoodRich(TRW)…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utomobi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d/Visteon a standardisé au niveau mondial pour tout le test en produ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égrateur d’ATE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ymTx, GenRad, ITE, ManTech, Alfautomazione, MindReady, B&amp;B..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Xenium%20GSM%20phone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1560600" cy="4267080"/>
          </a:xfrm>
          <a:prstGeom prst="rect">
            <a:avLst/>
          </a:prstGeom>
          <a:ln w="0">
            <a:noFill/>
          </a:ln>
        </p:spPr>
      </p:pic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272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xemple : test de téléphones cellulaire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5105160" y="49528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5105160" y="34290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5257440" y="2057400"/>
            <a:ext cx="1143000" cy="0"/>
          </a:xfrm>
          <a:prstGeom prst="line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 flipV="1">
            <a:off x="3048120" y="2133720"/>
            <a:ext cx="129528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2819520" y="3962160"/>
            <a:ext cx="1218960" cy="228600"/>
          </a:xfrm>
          <a:prstGeom prst="line">
            <a:avLst/>
          </a:prstGeom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2895480" y="5181480"/>
            <a:ext cx="1447920" cy="0"/>
          </a:xfrm>
          <a:prstGeom prst="line">
            <a:avLst/>
          </a:prstGeom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166400" y="1595520"/>
            <a:ext cx="2771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alité acous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964800" y="3311640"/>
            <a:ext cx="22518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nctionnali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av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458720" y="4683240"/>
            <a:ext cx="2142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alité</a:t>
            </a:r>
            <a:r>
              <a:rPr b="1" lang="en-US" sz="18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on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095880" y="236232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207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200200" y="1498680"/>
            <a:ext cx="353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alyse de signaux R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152760" y="2870280"/>
            <a:ext cx="19346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st d’écr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02640" y="4470480"/>
            <a:ext cx="2257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US" sz="18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atte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carDVD" descr=""/>
          <p:cNvPicPr/>
          <p:nvPr/>
        </p:nvPicPr>
        <p:blipFill>
          <a:blip r:embed="rId1"/>
          <a:stretch/>
        </p:blipFill>
        <p:spPr>
          <a:xfrm>
            <a:off x="2157480" y="2397240"/>
            <a:ext cx="4370400" cy="2368440"/>
          </a:xfrm>
          <a:prstGeom prst="rect">
            <a:avLst/>
          </a:prstGeom>
          <a:ln w="0">
            <a:noFill/>
          </a:ln>
        </p:spPr>
      </p:pic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80520" y="223920"/>
            <a:ext cx="85330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xemple d’application : test de lecteur DVD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8" name=""/>
          <p:cNvSpPr/>
          <p:nvPr/>
        </p:nvSpPr>
        <p:spPr>
          <a:xfrm flipH="1" flipV="1">
            <a:off x="2057400" y="2133720"/>
            <a:ext cx="1295280" cy="380880"/>
          </a:xfrm>
          <a:prstGeom prst="line">
            <a:avLst/>
          </a:prstGeom>
          <a:ln cap="rnd" w="12600">
            <a:solidFill>
              <a:srgbClr val="5c81b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21640" y="1701720"/>
            <a:ext cx="207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alité</a:t>
            </a: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ous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5333760" y="2057400"/>
            <a:ext cx="1066680" cy="457200"/>
          </a:xfrm>
          <a:prstGeom prst="line">
            <a:avLst/>
          </a:prstGeom>
          <a:ln cap="rnd" w="12600">
            <a:solidFill>
              <a:srgbClr val="5c81b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324480" y="1676520"/>
            <a:ext cx="2362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’ali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1752480" y="4419720"/>
            <a:ext cx="685800" cy="457200"/>
          </a:xfrm>
          <a:prstGeom prst="line">
            <a:avLst/>
          </a:prstGeom>
          <a:ln cap="rnd" w="12600">
            <a:solidFill>
              <a:srgbClr val="5c81b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09600" y="4724280"/>
            <a:ext cx="1929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alité du sig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dé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3429000" y="4266720"/>
            <a:ext cx="152280" cy="762120"/>
          </a:xfrm>
          <a:prstGeom prst="line">
            <a:avLst/>
          </a:prstGeom>
          <a:ln cap="rnd" w="12600">
            <a:solidFill>
              <a:srgbClr val="5c81b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062800" y="4876920"/>
            <a:ext cx="2375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nctionnalit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u lecteur de dis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cture/Écr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235120" y="5051520"/>
            <a:ext cx="1678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électro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 flipV="1">
            <a:off x="5029200" y="4572000"/>
            <a:ext cx="457200" cy="380880"/>
          </a:xfrm>
          <a:prstGeom prst="line">
            <a:avLst/>
          </a:prstGeom>
          <a:ln cap="rnd" w="12600">
            <a:solidFill>
              <a:srgbClr val="5c81b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TestStand est un séquenceur de test prêt-à-l’emploi, entièrement personnalisable qui intègre une architecture de test modulaire pour développer, faire évoluer, et maintenir les systèmes de test automatiques en R&amp;D, Validation et Production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9" name=""/>
          <p:cNvSpPr/>
          <p:nvPr/>
        </p:nvSpPr>
        <p:spPr>
          <a:xfrm>
            <a:off x="380880" y="3808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0" name=""/>
          <p:cNvGraphicFramePr/>
          <p:nvPr/>
        </p:nvGraphicFramePr>
        <p:xfrm>
          <a:off x="914400" y="3781440"/>
          <a:ext cx="178128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781440"/>
                    <a:ext cx="178128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2" name=""/>
          <p:cNvSpPr/>
          <p:nvPr/>
        </p:nvSpPr>
        <p:spPr>
          <a:xfrm>
            <a:off x="2514600" y="401004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 Black"/>
              </a:rPr>
              <a:t>TestStan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n savoir plu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4" name=""/>
          <p:cNvSpPr/>
          <p:nvPr/>
        </p:nvSpPr>
        <p:spPr>
          <a:xfrm>
            <a:off x="304920" y="1143000"/>
            <a:ext cx="883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ni.com/teststand et ni.com/switchexecu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CD d’é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Télécharger des solutions utilisateurs et documents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NI Developer Zone (ni.com/z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Instrument Driver Network (ni.com/id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Articles techniques et notes d’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Exemples de program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ni.com/france/test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5" name="j0217294" descr=""/>
          <p:cNvPicPr/>
          <p:nvPr/>
        </p:nvPicPr>
        <p:blipFill>
          <a:blip r:embed="rId1"/>
          <a:stretch/>
        </p:blipFill>
        <p:spPr>
          <a:xfrm>
            <a:off x="7086600" y="380880"/>
            <a:ext cx="184644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0000"/>
                </a:solidFill>
                <a:latin typeface="Arial Narrow"/>
              </a:rPr>
              <a:t>Des questions ?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6562800" y="963720"/>
            <a:ext cx="2461320" cy="5146200"/>
            <a:chOff x="6562800" y="963720"/>
            <a:chExt cx="2461320" cy="5146200"/>
          </a:xfrm>
        </p:grpSpPr>
        <p:grpSp>
          <p:nvGrpSpPr>
            <p:cNvPr id="155" name=""/>
            <p:cNvGrpSpPr/>
            <p:nvPr/>
          </p:nvGrpSpPr>
          <p:grpSpPr>
            <a:xfrm>
              <a:off x="6754680" y="963720"/>
              <a:ext cx="2269440" cy="5146200"/>
              <a:chOff x="6754680" y="963720"/>
              <a:chExt cx="2269440" cy="514620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6754680" y="963720"/>
                <a:ext cx="2269440" cy="5146200"/>
                <a:chOff x="6754680" y="963720"/>
                <a:chExt cx="2269440" cy="51462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754680" y="963720"/>
                  <a:ext cx="2183040" cy="5146200"/>
                </a:xfrm>
                <a:prstGeom prst="rect">
                  <a:avLst/>
                </a:pr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8" name="" descr=""/>
                <p:cNvPicPr/>
                <p:nvPr/>
              </p:nvPicPr>
              <p:blipFill>
                <a:blip r:embed="rId1"/>
                <a:stretch/>
              </p:blipFill>
              <p:spPr>
                <a:xfrm rot="21171000">
                  <a:off x="7569360" y="1260000"/>
                  <a:ext cx="1166760" cy="4700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26320" y="1425960"/>
                  <a:ext cx="857160" cy="45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0" name=""/>
                <p:cNvSpPr/>
                <p:nvPr/>
              </p:nvSpPr>
              <p:spPr>
                <a:xfrm>
                  <a:off x="6858000" y="5928840"/>
                  <a:ext cx="870120" cy="0"/>
                </a:xfrm>
                <a:prstGeom prst="line">
                  <a:avLst/>
                </a:prstGeom>
                <a:ln cap="rnd"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 flipH="1">
                <a:off x="6827400" y="5934240"/>
                <a:ext cx="885960" cy="0"/>
              </a:xfrm>
              <a:prstGeom prst="line">
                <a:avLst/>
              </a:prstGeom>
              <a:ln cap="rnd" w="22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7157880" y="4340520"/>
              <a:ext cx="309600" cy="384120"/>
            </a:xfrm>
            <a:prstGeom prst="rect">
              <a:avLst/>
            </a:prstGeom>
            <a:solidFill>
              <a:srgbClr val="697033"/>
            </a:solidFill>
            <a:ln cap="rnd" w="12600">
              <a:solidFill>
                <a:srgbClr val="697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84960" y="3751560"/>
              <a:ext cx="281160" cy="161640"/>
            </a:xfrm>
            <a:prstGeom prst="rect">
              <a:avLst/>
            </a:prstGeom>
            <a:solidFill>
              <a:srgbClr val="55a3ad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6562800" y="4008240"/>
              <a:ext cx="931680" cy="19080"/>
            </a:xfrm>
            <a:prstGeom prst="line">
              <a:avLst/>
            </a:prstGeom>
            <a:ln cap="rnd" w="38160">
              <a:solidFill>
                <a:srgbClr val="8e58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77200" y="2792520"/>
              <a:ext cx="88920" cy="295200"/>
            </a:xfrm>
            <a:prstGeom prst="rect">
              <a:avLst/>
            </a:prstGeom>
            <a:solidFill>
              <a:srgbClr val="dd8a2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73880" y="5137200"/>
              <a:ext cx="103320" cy="192240"/>
            </a:xfrm>
            <a:prstGeom prst="ellipse">
              <a:avLst/>
            </a:prstGeom>
            <a:solidFill>
              <a:srgbClr val="fcf30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04120" y="3191040"/>
              <a:ext cx="117360" cy="162000"/>
            </a:xfrm>
            <a:prstGeom prst="ellipse">
              <a:avLst/>
            </a:prstGeom>
            <a:solidFill>
              <a:srgbClr val="c6c6c6"/>
            </a:solidFill>
            <a:ln cap="rnd" w="12600">
              <a:solidFill>
                <a:srgbClr val="c6c6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04120" y="2513160"/>
              <a:ext cx="133200" cy="220680"/>
            </a:xfrm>
            <a:prstGeom prst="ellipse">
              <a:avLst/>
            </a:prstGeom>
            <a:solidFill>
              <a:srgbClr val="69a75b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70640" y="1737000"/>
              <a:ext cx="133560" cy="220680"/>
            </a:xfrm>
            <a:prstGeom prst="ellipse">
              <a:avLst/>
            </a:prstGeom>
            <a:solidFill>
              <a:srgbClr val="fa1f08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105160" y="525780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ul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1828800"/>
            <a:ext cx="16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èm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ui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05960" y="130032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élémétr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8840" y="426708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o-comm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8840" y="388620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04440" y="4724280"/>
            <a:ext cx="156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ôle mo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24382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é de puiss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élect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1440" y="34290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ge 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2360" y="297180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80120" y="5486400"/>
            <a:ext cx="1193760" cy="13320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32400" y="4995720"/>
            <a:ext cx="1136880" cy="1440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145200" y="3349440"/>
            <a:ext cx="1138320" cy="26820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494400" y="3020760"/>
            <a:ext cx="857160" cy="12060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84800" y="4519440"/>
            <a:ext cx="1049400" cy="1296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456240" y="2625480"/>
            <a:ext cx="976320" cy="9180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0600" y="2119320"/>
            <a:ext cx="1035000" cy="8424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59680" y="1519200"/>
            <a:ext cx="1123920" cy="14292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Un exemple : test de missil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8" name="pe02002_" descr=""/>
          <p:cNvPicPr/>
          <p:nvPr/>
        </p:nvPicPr>
        <p:blipFill>
          <a:blip r:embed="rId3"/>
          <a:stretch/>
        </p:blipFill>
        <p:spPr>
          <a:xfrm>
            <a:off x="990720" y="1523880"/>
            <a:ext cx="346392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0" y="1025640"/>
            <a:ext cx="4421160" cy="5408280"/>
            <a:chOff x="0" y="1025640"/>
            <a:chExt cx="4421160" cy="5408280"/>
          </a:xfrm>
        </p:grpSpPr>
        <p:grpSp>
          <p:nvGrpSpPr>
            <p:cNvPr id="190" name=""/>
            <p:cNvGrpSpPr/>
            <p:nvPr/>
          </p:nvGrpSpPr>
          <p:grpSpPr>
            <a:xfrm>
              <a:off x="219240" y="1025640"/>
              <a:ext cx="4201920" cy="2895120"/>
              <a:chOff x="219240" y="1025640"/>
              <a:chExt cx="4201920" cy="28951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135080" y="1025640"/>
                <a:ext cx="2369880" cy="668520"/>
                <a:chOff x="1135080" y="1025640"/>
                <a:chExt cx="2369880" cy="668520"/>
              </a:xfrm>
            </p:grpSpPr>
            <p:graphicFrame>
              <p:nvGraphicFramePr>
                <p:cNvPr id="192" name=""/>
                <p:cNvGraphicFramePr/>
                <p:nvPr/>
              </p:nvGraphicFramePr>
              <p:xfrm>
                <a:off x="1135080" y="1025640"/>
                <a:ext cx="583200" cy="6685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93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135080" y="1025640"/>
                          <a:ext cx="583200" cy="66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94" name=""/>
                <p:cNvSpPr/>
                <p:nvPr/>
              </p:nvSpPr>
              <p:spPr>
                <a:xfrm>
                  <a:off x="1658880" y="1119240"/>
                  <a:ext cx="18460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ffffff"/>
                      </a:solidFill>
                      <a:latin typeface="Arial Black"/>
                    </a:rPr>
                    <a:t>TestStand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195" name=""/>
              <p:cNvGraphicFramePr/>
              <p:nvPr/>
            </p:nvGraphicFramePr>
            <p:xfrm>
              <a:off x="219240" y="1610640"/>
              <a:ext cx="4201920" cy="2310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19240" y="1610640"/>
                        <a:ext cx="4201920" cy="231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97" name=""/>
            <p:cNvGrpSpPr/>
            <p:nvPr/>
          </p:nvGrpSpPr>
          <p:grpSpPr>
            <a:xfrm>
              <a:off x="0" y="4978440"/>
              <a:ext cx="3268440" cy="1455480"/>
              <a:chOff x="0" y="4978440"/>
              <a:chExt cx="3268440" cy="1455480"/>
            </a:xfrm>
          </p:grpSpPr>
          <p:sp>
            <p:nvSpPr>
              <p:cNvPr id="198" name=""/>
              <p:cNvSpPr/>
              <p:nvPr/>
            </p:nvSpPr>
            <p:spPr>
              <a:xfrm>
                <a:off x="39240" y="5207400"/>
                <a:ext cx="192600" cy="1167120"/>
              </a:xfrm>
              <a:custGeom>
                <a:avLst/>
                <a:gdLst/>
                <a:ahLst/>
                <a:rect l="l" t="t" r="r" b="b"/>
                <a:pathLst>
                  <a:path w="62" h="529">
                    <a:moveTo>
                      <a:pt x="0" y="0"/>
                    </a:moveTo>
                    <a:lnTo>
                      <a:pt x="0" y="528"/>
                    </a:lnTo>
                    <a:lnTo>
                      <a:pt x="61" y="528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31" y="404"/>
                    </a:lnTo>
                    <a:lnTo>
                      <a:pt x="26" y="404"/>
                    </a:lnTo>
                    <a:lnTo>
                      <a:pt x="25" y="403"/>
                    </a:lnTo>
                    <a:lnTo>
                      <a:pt x="23" y="403"/>
                    </a:lnTo>
                    <a:lnTo>
                      <a:pt x="23" y="403"/>
                    </a:lnTo>
                    <a:lnTo>
                      <a:pt x="22" y="403"/>
                    </a:lnTo>
                    <a:lnTo>
                      <a:pt x="22" y="403"/>
                    </a:lnTo>
                    <a:lnTo>
                      <a:pt x="21" y="402"/>
                    </a:lnTo>
                    <a:lnTo>
                      <a:pt x="21" y="402"/>
                    </a:lnTo>
                    <a:lnTo>
                      <a:pt x="20" y="402"/>
                    </a:lnTo>
                    <a:lnTo>
                      <a:pt x="20" y="401"/>
                    </a:lnTo>
                    <a:lnTo>
                      <a:pt x="19" y="401"/>
                    </a:lnTo>
                    <a:lnTo>
                      <a:pt x="19" y="400"/>
                    </a:lnTo>
                    <a:lnTo>
                      <a:pt x="19" y="400"/>
                    </a:lnTo>
                    <a:lnTo>
                      <a:pt x="19" y="399"/>
                    </a:lnTo>
                    <a:lnTo>
                      <a:pt x="19" y="398"/>
                    </a:lnTo>
                    <a:lnTo>
                      <a:pt x="19" y="398"/>
                    </a:lnTo>
                    <a:lnTo>
                      <a:pt x="19" y="397"/>
                    </a:lnTo>
                    <a:lnTo>
                      <a:pt x="19" y="396"/>
                    </a:lnTo>
                    <a:lnTo>
                      <a:pt x="19" y="395"/>
                    </a:lnTo>
                    <a:lnTo>
                      <a:pt x="19" y="395"/>
                    </a:lnTo>
                    <a:lnTo>
                      <a:pt x="19" y="394"/>
                    </a:lnTo>
                    <a:lnTo>
                      <a:pt x="19" y="393"/>
                    </a:lnTo>
                    <a:lnTo>
                      <a:pt x="19" y="393"/>
                    </a:lnTo>
                    <a:lnTo>
                      <a:pt x="20" y="392"/>
                    </a:lnTo>
                    <a:lnTo>
                      <a:pt x="20" y="392"/>
                    </a:lnTo>
                    <a:lnTo>
                      <a:pt x="21" y="392"/>
                    </a:lnTo>
                    <a:lnTo>
                      <a:pt x="21" y="391"/>
                    </a:lnTo>
                    <a:lnTo>
                      <a:pt x="22" y="391"/>
                    </a:lnTo>
                    <a:lnTo>
                      <a:pt x="22" y="390"/>
                    </a:lnTo>
                    <a:lnTo>
                      <a:pt x="23" y="390"/>
                    </a:lnTo>
                    <a:lnTo>
                      <a:pt x="23" y="390"/>
                    </a:lnTo>
                    <a:lnTo>
                      <a:pt x="25" y="390"/>
                    </a:lnTo>
                    <a:lnTo>
                      <a:pt x="26" y="390"/>
                    </a:lnTo>
                    <a:lnTo>
                      <a:pt x="31" y="390"/>
                    </a:lnTo>
                    <a:lnTo>
                      <a:pt x="31" y="390"/>
                    </a:lnTo>
                    <a:lnTo>
                      <a:pt x="32" y="390"/>
                    </a:lnTo>
                    <a:lnTo>
                      <a:pt x="32" y="390"/>
                    </a:lnTo>
                    <a:lnTo>
                      <a:pt x="33" y="390"/>
                    </a:lnTo>
                    <a:lnTo>
                      <a:pt x="34" y="391"/>
                    </a:lnTo>
                    <a:lnTo>
                      <a:pt x="34" y="391"/>
                    </a:lnTo>
                    <a:lnTo>
                      <a:pt x="34" y="392"/>
                    </a:lnTo>
                    <a:lnTo>
                      <a:pt x="35" y="392"/>
                    </a:lnTo>
                    <a:lnTo>
                      <a:pt x="35" y="392"/>
                    </a:lnTo>
                    <a:lnTo>
                      <a:pt x="37" y="393"/>
                    </a:lnTo>
                    <a:lnTo>
                      <a:pt x="37" y="393"/>
                    </a:lnTo>
                    <a:lnTo>
                      <a:pt x="37" y="394"/>
                    </a:lnTo>
                    <a:lnTo>
                      <a:pt x="37" y="395"/>
                    </a:lnTo>
                    <a:lnTo>
                      <a:pt x="37" y="395"/>
                    </a:lnTo>
                    <a:lnTo>
                      <a:pt x="37" y="396"/>
                    </a:lnTo>
                    <a:lnTo>
                      <a:pt x="38" y="397"/>
                    </a:lnTo>
                    <a:lnTo>
                      <a:pt x="37" y="398"/>
                    </a:lnTo>
                    <a:lnTo>
                      <a:pt x="37" y="398"/>
                    </a:lnTo>
                    <a:lnTo>
                      <a:pt x="37" y="399"/>
                    </a:lnTo>
                    <a:lnTo>
                      <a:pt x="37" y="400"/>
                    </a:lnTo>
                    <a:lnTo>
                      <a:pt x="37" y="400"/>
                    </a:lnTo>
                    <a:lnTo>
                      <a:pt x="37" y="401"/>
                    </a:lnTo>
                    <a:lnTo>
                      <a:pt x="35" y="401"/>
                    </a:lnTo>
                    <a:lnTo>
                      <a:pt x="35" y="402"/>
                    </a:lnTo>
                    <a:lnTo>
                      <a:pt x="34" y="402"/>
                    </a:lnTo>
                    <a:lnTo>
                      <a:pt x="34" y="402"/>
                    </a:lnTo>
                    <a:lnTo>
                      <a:pt x="34" y="403"/>
                    </a:lnTo>
                    <a:lnTo>
                      <a:pt x="33" y="403"/>
                    </a:lnTo>
                    <a:lnTo>
                      <a:pt x="32" y="403"/>
                    </a:lnTo>
                    <a:lnTo>
                      <a:pt x="32" y="403"/>
                    </a:lnTo>
                    <a:lnTo>
                      <a:pt x="31" y="403"/>
                    </a:lnTo>
                    <a:lnTo>
                      <a:pt x="31" y="404"/>
                    </a:lnTo>
                    <a:lnTo>
                      <a:pt x="31" y="114"/>
                    </a:lnTo>
                    <a:lnTo>
                      <a:pt x="26" y="114"/>
                    </a:lnTo>
                    <a:lnTo>
                      <a:pt x="25" y="113"/>
                    </a:lnTo>
                    <a:lnTo>
                      <a:pt x="23" y="113"/>
                    </a:lnTo>
                    <a:lnTo>
                      <a:pt x="23" y="113"/>
                    </a:lnTo>
                    <a:lnTo>
                      <a:pt x="22" y="113"/>
                    </a:lnTo>
                    <a:lnTo>
                      <a:pt x="22" y="113"/>
                    </a:lnTo>
                    <a:lnTo>
                      <a:pt x="21" y="112"/>
                    </a:lnTo>
                    <a:lnTo>
                      <a:pt x="21" y="112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09"/>
                    </a:lnTo>
                    <a:lnTo>
                      <a:pt x="19" y="108"/>
                    </a:lnTo>
                    <a:lnTo>
                      <a:pt x="19" y="108"/>
                    </a:lnTo>
                    <a:lnTo>
                      <a:pt x="19" y="107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5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5" y="100"/>
                    </a:lnTo>
                    <a:lnTo>
                      <a:pt x="26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2" y="100"/>
                    </a:lnTo>
                    <a:lnTo>
                      <a:pt x="32" y="100"/>
                    </a:lnTo>
                    <a:lnTo>
                      <a:pt x="33" y="100"/>
                    </a:lnTo>
                    <a:lnTo>
                      <a:pt x="34" y="100"/>
                    </a:lnTo>
                    <a:lnTo>
                      <a:pt x="34" y="101"/>
                    </a:lnTo>
                    <a:lnTo>
                      <a:pt x="34" y="101"/>
                    </a:lnTo>
                    <a:lnTo>
                      <a:pt x="35" y="102"/>
                    </a:lnTo>
                    <a:lnTo>
                      <a:pt x="35" y="102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4"/>
                    </a:lnTo>
                    <a:lnTo>
                      <a:pt x="37" y="104"/>
                    </a:lnTo>
                    <a:lnTo>
                      <a:pt x="37" y="105"/>
                    </a:lnTo>
                    <a:lnTo>
                      <a:pt x="37" y="106"/>
                    </a:lnTo>
                    <a:lnTo>
                      <a:pt x="38" y="106"/>
                    </a:lnTo>
                    <a:lnTo>
                      <a:pt x="37" y="107"/>
                    </a:lnTo>
                    <a:lnTo>
                      <a:pt x="37" y="108"/>
                    </a:lnTo>
                    <a:lnTo>
                      <a:pt x="37" y="108"/>
                    </a:lnTo>
                    <a:lnTo>
                      <a:pt x="37" y="109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5" y="111"/>
                    </a:lnTo>
                    <a:lnTo>
                      <a:pt x="35" y="111"/>
                    </a:lnTo>
                    <a:lnTo>
                      <a:pt x="34" y="112"/>
                    </a:lnTo>
                    <a:lnTo>
                      <a:pt x="34" y="112"/>
                    </a:lnTo>
                    <a:lnTo>
                      <a:pt x="34" y="113"/>
                    </a:lnTo>
                    <a:lnTo>
                      <a:pt x="33" y="113"/>
                    </a:lnTo>
                    <a:lnTo>
                      <a:pt x="32" y="113"/>
                    </a:lnTo>
                    <a:lnTo>
                      <a:pt x="32" y="113"/>
                    </a:lnTo>
                    <a:lnTo>
                      <a:pt x="31" y="113"/>
                    </a:lnTo>
                    <a:lnTo>
                      <a:pt x="31" y="1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070440" y="5207400"/>
                <a:ext cx="198000" cy="1167120"/>
              </a:xfrm>
              <a:custGeom>
                <a:avLst/>
                <a:gdLst/>
                <a:ahLst/>
                <a:rect l="l" t="t" r="r" b="b"/>
                <a:pathLst>
                  <a:path w="64" h="529">
                    <a:moveTo>
                      <a:pt x="0" y="0"/>
                    </a:moveTo>
                    <a:lnTo>
                      <a:pt x="0" y="528"/>
                    </a:lnTo>
                    <a:lnTo>
                      <a:pt x="63" y="528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36" y="404"/>
                    </a:lnTo>
                    <a:lnTo>
                      <a:pt x="31" y="404"/>
                    </a:lnTo>
                    <a:lnTo>
                      <a:pt x="30" y="403"/>
                    </a:lnTo>
                    <a:lnTo>
                      <a:pt x="29" y="403"/>
                    </a:lnTo>
                    <a:lnTo>
                      <a:pt x="29" y="403"/>
                    </a:lnTo>
                    <a:lnTo>
                      <a:pt x="27" y="403"/>
                    </a:lnTo>
                    <a:lnTo>
                      <a:pt x="27" y="403"/>
                    </a:lnTo>
                    <a:lnTo>
                      <a:pt x="26" y="402"/>
                    </a:lnTo>
                    <a:lnTo>
                      <a:pt x="26" y="402"/>
                    </a:lnTo>
                    <a:lnTo>
                      <a:pt x="25" y="402"/>
                    </a:lnTo>
                    <a:lnTo>
                      <a:pt x="25" y="401"/>
                    </a:lnTo>
                    <a:lnTo>
                      <a:pt x="25" y="401"/>
                    </a:lnTo>
                    <a:lnTo>
                      <a:pt x="24" y="400"/>
                    </a:lnTo>
                    <a:lnTo>
                      <a:pt x="24" y="400"/>
                    </a:lnTo>
                    <a:lnTo>
                      <a:pt x="24" y="399"/>
                    </a:lnTo>
                    <a:lnTo>
                      <a:pt x="24" y="398"/>
                    </a:lnTo>
                    <a:lnTo>
                      <a:pt x="24" y="398"/>
                    </a:lnTo>
                    <a:lnTo>
                      <a:pt x="24" y="397"/>
                    </a:lnTo>
                    <a:lnTo>
                      <a:pt x="24" y="396"/>
                    </a:lnTo>
                    <a:lnTo>
                      <a:pt x="24" y="395"/>
                    </a:lnTo>
                    <a:lnTo>
                      <a:pt x="24" y="395"/>
                    </a:lnTo>
                    <a:lnTo>
                      <a:pt x="24" y="394"/>
                    </a:lnTo>
                    <a:lnTo>
                      <a:pt x="24" y="393"/>
                    </a:lnTo>
                    <a:lnTo>
                      <a:pt x="25" y="393"/>
                    </a:lnTo>
                    <a:lnTo>
                      <a:pt x="25" y="392"/>
                    </a:lnTo>
                    <a:lnTo>
                      <a:pt x="25" y="392"/>
                    </a:lnTo>
                    <a:lnTo>
                      <a:pt x="26" y="392"/>
                    </a:lnTo>
                    <a:lnTo>
                      <a:pt x="26" y="391"/>
                    </a:lnTo>
                    <a:lnTo>
                      <a:pt x="27" y="391"/>
                    </a:lnTo>
                    <a:lnTo>
                      <a:pt x="27" y="390"/>
                    </a:lnTo>
                    <a:lnTo>
                      <a:pt x="29" y="390"/>
                    </a:lnTo>
                    <a:lnTo>
                      <a:pt x="29" y="390"/>
                    </a:lnTo>
                    <a:lnTo>
                      <a:pt x="30" y="390"/>
                    </a:lnTo>
                    <a:lnTo>
                      <a:pt x="31" y="390"/>
                    </a:lnTo>
                    <a:lnTo>
                      <a:pt x="36" y="390"/>
                    </a:lnTo>
                    <a:lnTo>
                      <a:pt x="37" y="390"/>
                    </a:lnTo>
                    <a:lnTo>
                      <a:pt x="37" y="390"/>
                    </a:lnTo>
                    <a:lnTo>
                      <a:pt x="38" y="390"/>
                    </a:lnTo>
                    <a:lnTo>
                      <a:pt x="38" y="390"/>
                    </a:lnTo>
                    <a:lnTo>
                      <a:pt x="39" y="391"/>
                    </a:lnTo>
                    <a:lnTo>
                      <a:pt x="39" y="391"/>
                    </a:lnTo>
                    <a:lnTo>
                      <a:pt x="41" y="392"/>
                    </a:lnTo>
                    <a:lnTo>
                      <a:pt x="41" y="392"/>
                    </a:lnTo>
                    <a:lnTo>
                      <a:pt x="41" y="392"/>
                    </a:lnTo>
                    <a:lnTo>
                      <a:pt x="42" y="393"/>
                    </a:lnTo>
                    <a:lnTo>
                      <a:pt x="42" y="393"/>
                    </a:lnTo>
                    <a:lnTo>
                      <a:pt x="42" y="394"/>
                    </a:lnTo>
                    <a:lnTo>
                      <a:pt x="42" y="395"/>
                    </a:lnTo>
                    <a:lnTo>
                      <a:pt x="43" y="395"/>
                    </a:lnTo>
                    <a:lnTo>
                      <a:pt x="43" y="396"/>
                    </a:lnTo>
                    <a:lnTo>
                      <a:pt x="43" y="397"/>
                    </a:lnTo>
                    <a:lnTo>
                      <a:pt x="43" y="398"/>
                    </a:lnTo>
                    <a:lnTo>
                      <a:pt x="43" y="398"/>
                    </a:lnTo>
                    <a:lnTo>
                      <a:pt x="42" y="399"/>
                    </a:lnTo>
                    <a:lnTo>
                      <a:pt x="42" y="400"/>
                    </a:lnTo>
                    <a:lnTo>
                      <a:pt x="42" y="400"/>
                    </a:lnTo>
                    <a:lnTo>
                      <a:pt x="42" y="401"/>
                    </a:lnTo>
                    <a:lnTo>
                      <a:pt x="41" y="401"/>
                    </a:lnTo>
                    <a:lnTo>
                      <a:pt x="41" y="402"/>
                    </a:lnTo>
                    <a:lnTo>
                      <a:pt x="41" y="402"/>
                    </a:lnTo>
                    <a:lnTo>
                      <a:pt x="39" y="402"/>
                    </a:lnTo>
                    <a:lnTo>
                      <a:pt x="39" y="403"/>
                    </a:lnTo>
                    <a:lnTo>
                      <a:pt x="38" y="403"/>
                    </a:lnTo>
                    <a:lnTo>
                      <a:pt x="38" y="403"/>
                    </a:lnTo>
                    <a:lnTo>
                      <a:pt x="37" y="403"/>
                    </a:lnTo>
                    <a:lnTo>
                      <a:pt x="37" y="403"/>
                    </a:lnTo>
                    <a:lnTo>
                      <a:pt x="36" y="404"/>
                    </a:lnTo>
                    <a:lnTo>
                      <a:pt x="36" y="114"/>
                    </a:lnTo>
                    <a:lnTo>
                      <a:pt x="31" y="114"/>
                    </a:lnTo>
                    <a:lnTo>
                      <a:pt x="30" y="113"/>
                    </a:lnTo>
                    <a:lnTo>
                      <a:pt x="29" y="113"/>
                    </a:lnTo>
                    <a:lnTo>
                      <a:pt x="29" y="113"/>
                    </a:lnTo>
                    <a:lnTo>
                      <a:pt x="27" y="113"/>
                    </a:lnTo>
                    <a:lnTo>
                      <a:pt x="27" y="113"/>
                    </a:lnTo>
                    <a:lnTo>
                      <a:pt x="26" y="112"/>
                    </a:lnTo>
                    <a:lnTo>
                      <a:pt x="26" y="112"/>
                    </a:lnTo>
                    <a:lnTo>
                      <a:pt x="25" y="111"/>
                    </a:lnTo>
                    <a:lnTo>
                      <a:pt x="25" y="111"/>
                    </a:lnTo>
                    <a:lnTo>
                      <a:pt x="25" y="110"/>
                    </a:lnTo>
                    <a:lnTo>
                      <a:pt x="24" y="110"/>
                    </a:lnTo>
                    <a:lnTo>
                      <a:pt x="24" y="109"/>
                    </a:lnTo>
                    <a:lnTo>
                      <a:pt x="24" y="108"/>
                    </a:lnTo>
                    <a:lnTo>
                      <a:pt x="24" y="108"/>
                    </a:lnTo>
                    <a:lnTo>
                      <a:pt x="24" y="107"/>
                    </a:lnTo>
                    <a:lnTo>
                      <a:pt x="24" y="106"/>
                    </a:lnTo>
                    <a:lnTo>
                      <a:pt x="24" y="106"/>
                    </a:lnTo>
                    <a:lnTo>
                      <a:pt x="24" y="105"/>
                    </a:lnTo>
                    <a:lnTo>
                      <a:pt x="24" y="104"/>
                    </a:lnTo>
                    <a:lnTo>
                      <a:pt x="24" y="104"/>
                    </a:lnTo>
                    <a:lnTo>
                      <a:pt x="24" y="103"/>
                    </a:lnTo>
                    <a:lnTo>
                      <a:pt x="25" y="103"/>
                    </a:lnTo>
                    <a:lnTo>
                      <a:pt x="25" y="102"/>
                    </a:lnTo>
                    <a:lnTo>
                      <a:pt x="25" y="102"/>
                    </a:lnTo>
                    <a:lnTo>
                      <a:pt x="26" y="101"/>
                    </a:lnTo>
                    <a:lnTo>
                      <a:pt x="26" y="101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0" y="100"/>
                    </a:lnTo>
                    <a:lnTo>
                      <a:pt x="31" y="100"/>
                    </a:lnTo>
                    <a:lnTo>
                      <a:pt x="36" y="100"/>
                    </a:lnTo>
                    <a:lnTo>
                      <a:pt x="37" y="100"/>
                    </a:lnTo>
                    <a:lnTo>
                      <a:pt x="37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9" y="100"/>
                    </a:lnTo>
                    <a:lnTo>
                      <a:pt x="39" y="101"/>
                    </a:lnTo>
                    <a:lnTo>
                      <a:pt x="41" y="101"/>
                    </a:lnTo>
                    <a:lnTo>
                      <a:pt x="41" y="102"/>
                    </a:lnTo>
                    <a:lnTo>
                      <a:pt x="41" y="102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3" y="105"/>
                    </a:lnTo>
                    <a:lnTo>
                      <a:pt x="43" y="106"/>
                    </a:lnTo>
                    <a:lnTo>
                      <a:pt x="43" y="106"/>
                    </a:lnTo>
                    <a:lnTo>
                      <a:pt x="43" y="107"/>
                    </a:lnTo>
                    <a:lnTo>
                      <a:pt x="43" y="108"/>
                    </a:lnTo>
                    <a:lnTo>
                      <a:pt x="42" y="108"/>
                    </a:lnTo>
                    <a:lnTo>
                      <a:pt x="42" y="109"/>
                    </a:lnTo>
                    <a:lnTo>
                      <a:pt x="42" y="110"/>
                    </a:lnTo>
                    <a:lnTo>
                      <a:pt x="42" y="110"/>
                    </a:lnTo>
                    <a:lnTo>
                      <a:pt x="41" y="111"/>
                    </a:lnTo>
                    <a:lnTo>
                      <a:pt x="41" y="111"/>
                    </a:lnTo>
                    <a:lnTo>
                      <a:pt x="41" y="112"/>
                    </a:lnTo>
                    <a:lnTo>
                      <a:pt x="39" y="112"/>
                    </a:lnTo>
                    <a:lnTo>
                      <a:pt x="39" y="113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7" y="113"/>
                    </a:lnTo>
                    <a:lnTo>
                      <a:pt x="37" y="113"/>
                    </a:lnTo>
                    <a:lnTo>
                      <a:pt x="36" y="1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5184000"/>
                <a:ext cx="3261600" cy="58680"/>
              </a:xfrm>
              <a:custGeom>
                <a:avLst/>
                <a:gdLst/>
                <a:ahLst/>
                <a:rect l="l" t="t" r="r" b="b"/>
                <a:pathLst>
                  <a:path w="1053" h="27">
                    <a:moveTo>
                      <a:pt x="1020" y="0"/>
                    </a:moveTo>
                    <a:lnTo>
                      <a:pt x="1052" y="26"/>
                    </a:lnTo>
                    <a:lnTo>
                      <a:pt x="0" y="26"/>
                    </a:lnTo>
                    <a:lnTo>
                      <a:pt x="37" y="0"/>
                    </a:lnTo>
                    <a:lnTo>
                      <a:pt x="102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78240" y="5184000"/>
                <a:ext cx="560880" cy="1249560"/>
              </a:xfrm>
              <a:custGeom>
                <a:avLst/>
                <a:gdLst/>
                <a:ahLst/>
                <a:rect l="l" t="t" r="r" b="b"/>
                <a:pathLst>
                  <a:path w="181" h="567">
                    <a:moveTo>
                      <a:pt x="180" y="566"/>
                    </a:moveTo>
                    <a:lnTo>
                      <a:pt x="180" y="0"/>
                    </a:lnTo>
                    <a:lnTo>
                      <a:pt x="0" y="0"/>
                    </a:lnTo>
                    <a:lnTo>
                      <a:pt x="0" y="492"/>
                    </a:lnTo>
                    <a:lnTo>
                      <a:pt x="180" y="566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72160" y="6255000"/>
                <a:ext cx="2748240" cy="169920"/>
              </a:xfrm>
              <a:custGeom>
                <a:avLst/>
                <a:gdLst/>
                <a:ahLst/>
                <a:rect l="l" t="t" r="r" b="b"/>
                <a:pathLst>
                  <a:path w="887" h="77">
                    <a:moveTo>
                      <a:pt x="729" y="0"/>
                    </a:moveTo>
                    <a:lnTo>
                      <a:pt x="886" y="76"/>
                    </a:lnTo>
                    <a:lnTo>
                      <a:pt x="0" y="76"/>
                    </a:lnTo>
                    <a:lnTo>
                      <a:pt x="149" y="0"/>
                    </a:lnTo>
                    <a:lnTo>
                      <a:pt x="729" y="0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30320" y="6252840"/>
                <a:ext cx="54720" cy="1699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116440" y="6252840"/>
                <a:ext cx="109800" cy="1735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310840" y="6252840"/>
                <a:ext cx="239040" cy="1735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930320" y="5205600"/>
                <a:ext cx="19800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40960" y="5205600"/>
                <a:ext cx="19800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125080" y="5205600"/>
                <a:ext cx="194400" cy="1049040"/>
              </a:xfrm>
              <a:custGeom>
                <a:avLst/>
                <a:gdLst/>
                <a:ahLst/>
                <a:rect l="l" t="t" r="r" b="b"/>
                <a:pathLst>
                  <a:path w="63" h="476">
                    <a:moveTo>
                      <a:pt x="62" y="475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2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317680" y="5205600"/>
                <a:ext cx="19836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33720" y="5205600"/>
                <a:ext cx="499320" cy="1217160"/>
              </a:xfrm>
              <a:custGeom>
                <a:avLst/>
                <a:gdLst/>
                <a:ahLst/>
                <a:rect l="l" t="t" r="r" b="b"/>
                <a:pathLst>
                  <a:path w="161" h="552">
                    <a:moveTo>
                      <a:pt x="86" y="0"/>
                    </a:moveTo>
                    <a:lnTo>
                      <a:pt x="153" y="0"/>
                    </a:lnTo>
                    <a:lnTo>
                      <a:pt x="153" y="0"/>
                    </a:lnTo>
                    <a:lnTo>
                      <a:pt x="155" y="0"/>
                    </a:lnTo>
                    <a:lnTo>
                      <a:pt x="155" y="0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8" y="2"/>
                    </a:lnTo>
                    <a:lnTo>
                      <a:pt x="158" y="2"/>
                    </a:lnTo>
                    <a:lnTo>
                      <a:pt x="158" y="3"/>
                    </a:lnTo>
                    <a:lnTo>
                      <a:pt x="160" y="3"/>
                    </a:lnTo>
                    <a:lnTo>
                      <a:pt x="160" y="4"/>
                    </a:lnTo>
                    <a:lnTo>
                      <a:pt x="160" y="5"/>
                    </a:lnTo>
                    <a:lnTo>
                      <a:pt x="160" y="5"/>
                    </a:lnTo>
                    <a:lnTo>
                      <a:pt x="160" y="6"/>
                    </a:lnTo>
                    <a:lnTo>
                      <a:pt x="160" y="544"/>
                    </a:lnTo>
                    <a:lnTo>
                      <a:pt x="160" y="545"/>
                    </a:lnTo>
                    <a:lnTo>
                      <a:pt x="160" y="545"/>
                    </a:lnTo>
                    <a:lnTo>
                      <a:pt x="160" y="546"/>
                    </a:lnTo>
                    <a:lnTo>
                      <a:pt x="160" y="547"/>
                    </a:lnTo>
                    <a:lnTo>
                      <a:pt x="158" y="547"/>
                    </a:lnTo>
                    <a:lnTo>
                      <a:pt x="158" y="548"/>
                    </a:lnTo>
                    <a:lnTo>
                      <a:pt x="158" y="548"/>
                    </a:lnTo>
                    <a:lnTo>
                      <a:pt x="157" y="549"/>
                    </a:lnTo>
                    <a:lnTo>
                      <a:pt x="157" y="549"/>
                    </a:lnTo>
                    <a:lnTo>
                      <a:pt x="157" y="549"/>
                    </a:lnTo>
                    <a:lnTo>
                      <a:pt x="156" y="550"/>
                    </a:lnTo>
                    <a:lnTo>
                      <a:pt x="156" y="550"/>
                    </a:lnTo>
                    <a:lnTo>
                      <a:pt x="155" y="550"/>
                    </a:lnTo>
                    <a:lnTo>
                      <a:pt x="155" y="550"/>
                    </a:lnTo>
                    <a:lnTo>
                      <a:pt x="153" y="550"/>
                    </a:lnTo>
                    <a:lnTo>
                      <a:pt x="153" y="551"/>
                    </a:lnTo>
                    <a:lnTo>
                      <a:pt x="86" y="551"/>
                    </a:lnTo>
                    <a:lnTo>
                      <a:pt x="73" y="551"/>
                    </a:lnTo>
                    <a:lnTo>
                      <a:pt x="6" y="551"/>
                    </a:lnTo>
                    <a:lnTo>
                      <a:pt x="4" y="551"/>
                    </a:lnTo>
                    <a:lnTo>
                      <a:pt x="4" y="551"/>
                    </a:lnTo>
                    <a:lnTo>
                      <a:pt x="3" y="551"/>
                    </a:lnTo>
                    <a:lnTo>
                      <a:pt x="3" y="550"/>
                    </a:lnTo>
                    <a:lnTo>
                      <a:pt x="2" y="550"/>
                    </a:lnTo>
                    <a:lnTo>
                      <a:pt x="2" y="550"/>
                    </a:lnTo>
                    <a:lnTo>
                      <a:pt x="1" y="549"/>
                    </a:lnTo>
                    <a:lnTo>
                      <a:pt x="1" y="549"/>
                    </a:lnTo>
                    <a:lnTo>
                      <a:pt x="1" y="548"/>
                    </a:lnTo>
                    <a:lnTo>
                      <a:pt x="0" y="548"/>
                    </a:lnTo>
                    <a:lnTo>
                      <a:pt x="0" y="547"/>
                    </a:lnTo>
                    <a:lnTo>
                      <a:pt x="0" y="547"/>
                    </a:lnTo>
                    <a:lnTo>
                      <a:pt x="0" y="546"/>
                    </a:lnTo>
                    <a:lnTo>
                      <a:pt x="0" y="546"/>
                    </a:lnTo>
                    <a:lnTo>
                      <a:pt x="0" y="545"/>
                    </a:lnTo>
                    <a:lnTo>
                      <a:pt x="0" y="544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3" y="0"/>
                    </a:lnTo>
                    <a:lnTo>
                      <a:pt x="86" y="0"/>
                    </a:lnTo>
                  </a:path>
                </a:pathLst>
              </a:custGeom>
              <a:solidFill>
                <a:srgbClr val="f2f2da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51320" y="5207400"/>
                <a:ext cx="118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651320" y="5205600"/>
                <a:ext cx="118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668600" y="5212440"/>
                <a:ext cx="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1684080" y="5212440"/>
                <a:ext cx="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76120" y="5212440"/>
                <a:ext cx="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80120" y="6369480"/>
                <a:ext cx="342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780120" y="6365880"/>
                <a:ext cx="3420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0800" y="565164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26"/>
                    </a:moveTo>
                    <a:lnTo>
                      <a:pt x="0" y="26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8"/>
                    </a:lnTo>
                    <a:lnTo>
                      <a:pt x="14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540720" y="5662080"/>
                <a:ext cx="100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63040" y="5645880"/>
                <a:ext cx="0" cy="72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3040" y="5651640"/>
                <a:ext cx="6192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24960" y="5651640"/>
                <a:ext cx="1152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26"/>
                    </a:lnTo>
                    <a:lnTo>
                      <a:pt x="36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624960" y="5645520"/>
                <a:ext cx="0" cy="54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624600" y="5653080"/>
                <a:ext cx="82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33600" y="5653080"/>
                <a:ext cx="0" cy="10368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18120" y="575712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24960" y="5757120"/>
                <a:ext cx="82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18120" y="576972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18120" y="576972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13080" y="5769720"/>
                <a:ext cx="113400" cy="1440"/>
              </a:xfrm>
              <a:custGeom>
                <a:avLst/>
                <a:gdLst/>
                <a:ahLst/>
                <a:rect l="l" t="t" r="r" b="b"/>
                <a:pathLst>
                  <a:path w="37" h="1">
                    <a:moveTo>
                      <a:pt x="36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13080" y="5769720"/>
                <a:ext cx="504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613080" y="576972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55840" y="5769720"/>
                <a:ext cx="568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50800" y="576756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0" y="2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55840" y="576972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0720" y="5767560"/>
                <a:ext cx="100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50800" y="5662080"/>
                <a:ext cx="3240" cy="107280"/>
              </a:xfrm>
              <a:custGeom>
                <a:avLst/>
                <a:gdLst/>
                <a:ahLst/>
                <a:rect l="l" t="t" r="r" b="b"/>
                <a:pathLst>
                  <a:path w="1" h="49">
                    <a:moveTo>
                      <a:pt x="0" y="4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13080" y="576756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26"/>
                    </a:moveTo>
                    <a:lnTo>
                      <a:pt x="0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36" y="26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613080" y="576972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18120" y="576756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618120" y="5663880"/>
                <a:ext cx="0" cy="1033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13080" y="5656680"/>
                <a:ext cx="113400" cy="608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36" y="26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17760" y="566424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613080" y="565308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555840" y="5656680"/>
                <a:ext cx="568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50800" y="5656680"/>
                <a:ext cx="113400" cy="608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55840" y="565668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40720" y="5664240"/>
                <a:ext cx="100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50800" y="5664240"/>
                <a:ext cx="0" cy="1033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50800" y="576756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0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36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40720" y="5767560"/>
                <a:ext cx="100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5840" y="576972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55840" y="5769720"/>
                <a:ext cx="568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18120" y="575712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26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36" y="7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18120" y="576972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960" y="5757120"/>
                <a:ext cx="82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633600" y="5653080"/>
                <a:ext cx="0" cy="10368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24960" y="5651640"/>
                <a:ext cx="1152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36" y="26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624600" y="5653080"/>
                <a:ext cx="82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624960" y="5645520"/>
                <a:ext cx="0" cy="54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563040" y="5651640"/>
                <a:ext cx="6192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50800" y="565164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7" y="13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63040" y="5645880"/>
                <a:ext cx="0" cy="54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540720" y="5662080"/>
                <a:ext cx="100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7240" y="5758920"/>
                <a:ext cx="113400" cy="626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27"/>
                    </a:moveTo>
                    <a:lnTo>
                      <a:pt x="0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597240" y="575892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05880" y="575892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605880" y="5669280"/>
                <a:ext cx="0" cy="8928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97240" y="5664240"/>
                <a:ext cx="113400" cy="6228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27"/>
                    </a:moveTo>
                    <a:lnTo>
                      <a:pt x="18" y="27"/>
                    </a:lnTo>
                    <a:lnTo>
                      <a:pt x="18" y="27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605520" y="566928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597240" y="5662080"/>
                <a:ext cx="0" cy="72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562680" y="5664240"/>
                <a:ext cx="342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3040" y="5664240"/>
                <a:ext cx="115200" cy="6228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63040" y="566424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555480" y="566928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63040" y="5669280"/>
                <a:ext cx="0" cy="8928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63040" y="5758920"/>
                <a:ext cx="115200" cy="626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5840" y="575892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63040" y="575892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63040" y="5764320"/>
                <a:ext cx="342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550800" y="5674320"/>
                <a:ext cx="19080" cy="17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69880" y="566928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26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562680" y="567468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69880" y="566928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69880" y="5669280"/>
                <a:ext cx="270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97240" y="566928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597240" y="566928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596880" y="5674680"/>
                <a:ext cx="82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569520" y="5674680"/>
                <a:ext cx="27000" cy="17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97240" y="5674680"/>
                <a:ext cx="0" cy="8388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90760" y="5758920"/>
                <a:ext cx="115200" cy="626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0760" y="5758920"/>
                <a:ext cx="64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590760" y="5763960"/>
                <a:ext cx="0" cy="32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569520" y="5764320"/>
                <a:ext cx="2052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63040" y="5758920"/>
                <a:ext cx="115200" cy="626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27"/>
                    </a:moveTo>
                    <a:lnTo>
                      <a:pt x="36" y="13"/>
                    </a:lnTo>
                    <a:lnTo>
                      <a:pt x="36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69880" y="575892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63040" y="575892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040" y="5757120"/>
                <a:ext cx="3240" cy="58680"/>
              </a:xfrm>
              <a:custGeom>
                <a:avLst/>
                <a:gdLst/>
                <a:ahLst/>
                <a:rect l="l" t="t" r="r" b="b"/>
                <a:pathLst>
                  <a:path w="1" h="27">
                    <a:moveTo>
                      <a:pt x="0" y="26"/>
                    </a:move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0720" y="5697720"/>
                <a:ext cx="115200" cy="608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27"/>
                    </a:moveTo>
                    <a:lnTo>
                      <a:pt x="36" y="24"/>
                    </a:lnTo>
                    <a:lnTo>
                      <a:pt x="36" y="22"/>
                    </a:lnTo>
                    <a:lnTo>
                      <a:pt x="36" y="19"/>
                    </a:lnTo>
                    <a:lnTo>
                      <a:pt x="36" y="16"/>
                    </a:lnTo>
                    <a:lnTo>
                      <a:pt x="30" y="14"/>
                    </a:lnTo>
                    <a:lnTo>
                      <a:pt x="30" y="12"/>
                    </a:lnTo>
                    <a:lnTo>
                      <a:pt x="24" y="10"/>
                    </a:lnTo>
                    <a:lnTo>
                      <a:pt x="24" y="8"/>
                    </a:lnTo>
                    <a:lnTo>
                      <a:pt x="18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562680" y="575712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540720" y="5697720"/>
                <a:ext cx="1008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0720" y="5697720"/>
                <a:ext cx="651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40720" y="5692680"/>
                <a:ext cx="115200" cy="6228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2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540720" y="5697720"/>
                <a:ext cx="100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50800" y="5690880"/>
                <a:ext cx="0" cy="68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50800" y="5692680"/>
                <a:ext cx="113400" cy="1800"/>
              </a:xfrm>
              <a:custGeom>
                <a:avLst/>
                <a:gdLst/>
                <a:ahLst/>
                <a:rect l="l" t="t" r="r" b="b"/>
                <a:pathLst>
                  <a:path w="37" h="1">
                    <a:moveTo>
                      <a:pt x="0" y="0"/>
                    </a:moveTo>
                    <a:lnTo>
                      <a:pt x="30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69880" y="5692680"/>
                <a:ext cx="113400" cy="6588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0" y="0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24" y="8"/>
                    </a:lnTo>
                    <a:lnTo>
                      <a:pt x="24" y="10"/>
                    </a:lnTo>
                    <a:lnTo>
                      <a:pt x="30" y="13"/>
                    </a:lnTo>
                    <a:lnTo>
                      <a:pt x="30" y="16"/>
                    </a:lnTo>
                    <a:lnTo>
                      <a:pt x="36" y="20"/>
                    </a:lnTo>
                    <a:lnTo>
                      <a:pt x="36" y="24"/>
                    </a:lnTo>
                    <a:lnTo>
                      <a:pt x="36" y="29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569880" y="5690520"/>
                <a:ext cx="0" cy="68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590760" y="5757120"/>
                <a:ext cx="64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76920" y="5300280"/>
                <a:ext cx="1152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10" y="18"/>
                    </a:moveTo>
                    <a:lnTo>
                      <a:pt x="10" y="18"/>
                    </a:lnTo>
                    <a:lnTo>
                      <a:pt x="10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20" y="20"/>
                    </a:lnTo>
                    <a:lnTo>
                      <a:pt x="20" y="23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8"/>
                    </a:lnTo>
                    <a:lnTo>
                      <a:pt x="30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15" y="15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6" y="2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30" y="10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30" y="23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0" y="18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04280" y="5300280"/>
                <a:ext cx="11556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8" y="20"/>
                    </a:lnTo>
                    <a:lnTo>
                      <a:pt x="18" y="23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7" y="18"/>
                    </a:lnTo>
                    <a:lnTo>
                      <a:pt x="27" y="18"/>
                    </a:lnTo>
                    <a:lnTo>
                      <a:pt x="27" y="18"/>
                    </a:lnTo>
                    <a:lnTo>
                      <a:pt x="27" y="18"/>
                    </a:lnTo>
                    <a:lnTo>
                      <a:pt x="36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6" y="7"/>
                    </a:lnTo>
                    <a:lnTo>
                      <a:pt x="27" y="7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3800" y="5300280"/>
                <a:ext cx="109800" cy="5904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35" y="26"/>
                    </a:moveTo>
                    <a:lnTo>
                      <a:pt x="25" y="26"/>
                    </a:lnTo>
                    <a:lnTo>
                      <a:pt x="20" y="18"/>
                    </a:lnTo>
                    <a:lnTo>
                      <a:pt x="10" y="26"/>
                    </a:lnTo>
                    <a:lnTo>
                      <a:pt x="0" y="26"/>
                    </a:lnTo>
                    <a:lnTo>
                      <a:pt x="15" y="1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0" y="7"/>
                    </a:lnTo>
                    <a:lnTo>
                      <a:pt x="25" y="0"/>
                    </a:lnTo>
                    <a:lnTo>
                      <a:pt x="35" y="0"/>
                    </a:lnTo>
                    <a:lnTo>
                      <a:pt x="25" y="13"/>
                    </a:lnTo>
                    <a:lnTo>
                      <a:pt x="35" y="26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66560" y="5300280"/>
                <a:ext cx="1152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0" y="2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26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3400" y="531108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0" y="2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26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95720" y="530028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26"/>
                    </a:lnTo>
                    <a:lnTo>
                      <a:pt x="12" y="26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16600" y="5300280"/>
                <a:ext cx="111960" cy="5904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17" y="0"/>
                    </a:moveTo>
                    <a:lnTo>
                      <a:pt x="17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5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23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3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40720" y="5300280"/>
                <a:ext cx="1152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21" y="0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7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5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1" y="23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3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63040" y="5300280"/>
                <a:ext cx="1152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26"/>
                    </a:lnTo>
                    <a:lnTo>
                      <a:pt x="12" y="26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8320" y="635904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18" y="0"/>
                    </a:lnTo>
                    <a:lnTo>
                      <a:pt x="18" y="2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8" y="26"/>
                    </a:lnTo>
                    <a:lnTo>
                      <a:pt x="27" y="5"/>
                    </a:lnTo>
                    <a:lnTo>
                      <a:pt x="27" y="26"/>
                    </a:lnTo>
                    <a:lnTo>
                      <a:pt x="36" y="26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3800" y="6359040"/>
                <a:ext cx="109800" cy="5868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8" y="26"/>
                    </a:moveTo>
                    <a:lnTo>
                      <a:pt x="0" y="26"/>
                    </a:lnTo>
                    <a:lnTo>
                      <a:pt x="17" y="0"/>
                    </a:lnTo>
                    <a:lnTo>
                      <a:pt x="26" y="0"/>
                    </a:lnTo>
                    <a:lnTo>
                      <a:pt x="35" y="26"/>
                    </a:lnTo>
                    <a:lnTo>
                      <a:pt x="26" y="26"/>
                    </a:lnTo>
                    <a:lnTo>
                      <a:pt x="26" y="20"/>
                    </a:lnTo>
                    <a:lnTo>
                      <a:pt x="17" y="20"/>
                    </a:lnTo>
                    <a:lnTo>
                      <a:pt x="8" y="26"/>
                    </a:lnTo>
                    <a:lnTo>
                      <a:pt x="17" y="15"/>
                    </a:lnTo>
                    <a:lnTo>
                      <a:pt x="26" y="15"/>
                    </a:lnTo>
                    <a:lnTo>
                      <a:pt x="17" y="5"/>
                    </a:lnTo>
                    <a:lnTo>
                      <a:pt x="17" y="15"/>
                    </a:lnTo>
                    <a:lnTo>
                      <a:pt x="8" y="26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0720" y="635904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0" y="2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26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1520" y="6359040"/>
                <a:ext cx="109800" cy="5868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26" y="15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8" y="26"/>
                    </a:lnTo>
                    <a:lnTo>
                      <a:pt x="8" y="5"/>
                    </a:lnTo>
                    <a:lnTo>
                      <a:pt x="26" y="26"/>
                    </a:lnTo>
                    <a:lnTo>
                      <a:pt x="35" y="26"/>
                    </a:lnTo>
                    <a:lnTo>
                      <a:pt x="35" y="0"/>
                    </a:lnTo>
                    <a:lnTo>
                      <a:pt x="26" y="0"/>
                    </a:lnTo>
                    <a:lnTo>
                      <a:pt x="26" y="15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3400" y="635904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15"/>
                    </a:moveTo>
                    <a:lnTo>
                      <a:pt x="24" y="15"/>
                    </a:lnTo>
                    <a:lnTo>
                      <a:pt x="24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36" y="5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8880" y="6359040"/>
                <a:ext cx="111960" cy="5868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0" y="0"/>
                    </a:moveTo>
                    <a:lnTo>
                      <a:pt x="1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35" y="5"/>
                    </a:lnTo>
                    <a:lnTo>
                      <a:pt x="26" y="5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8" y="15"/>
                    </a:lnTo>
                    <a:lnTo>
                      <a:pt x="8" y="26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26" y="1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17" y="5"/>
                    </a:lnTo>
                    <a:lnTo>
                      <a:pt x="8" y="5"/>
                    </a:lnTo>
                    <a:lnTo>
                      <a:pt x="8" y="10"/>
                    </a:lnTo>
                    <a:lnTo>
                      <a:pt x="17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00760" y="635904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18" y="15"/>
                    </a:moveTo>
                    <a:lnTo>
                      <a:pt x="27" y="15"/>
                    </a:lnTo>
                    <a:lnTo>
                      <a:pt x="18" y="5"/>
                    </a:lnTo>
                    <a:lnTo>
                      <a:pt x="18" y="15"/>
                    </a:lnTo>
                    <a:lnTo>
                      <a:pt x="9" y="26"/>
                    </a:lnTo>
                    <a:lnTo>
                      <a:pt x="0" y="26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6" y="26"/>
                    </a:lnTo>
                    <a:lnTo>
                      <a:pt x="27" y="26"/>
                    </a:lnTo>
                    <a:lnTo>
                      <a:pt x="27" y="20"/>
                    </a:lnTo>
                    <a:lnTo>
                      <a:pt x="9" y="20"/>
                    </a:lnTo>
                    <a:lnTo>
                      <a:pt x="9" y="26"/>
                    </a:lnTo>
                    <a:lnTo>
                      <a:pt x="18" y="15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3440" y="635904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18" y="0"/>
                    </a:lnTo>
                    <a:lnTo>
                      <a:pt x="18" y="2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9" y="5"/>
                    </a:lnTo>
                    <a:lnTo>
                      <a:pt x="9" y="26"/>
                    </a:lnTo>
                    <a:lnTo>
                      <a:pt x="18" y="26"/>
                    </a:lnTo>
                    <a:lnTo>
                      <a:pt x="27" y="5"/>
                    </a:lnTo>
                    <a:lnTo>
                      <a:pt x="27" y="26"/>
                    </a:lnTo>
                    <a:lnTo>
                      <a:pt x="36" y="26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0720" y="6359040"/>
                <a:ext cx="1152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36" y="26"/>
                    </a:lnTo>
                    <a:lnTo>
                      <a:pt x="36" y="20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36" y="15"/>
                    </a:lnTo>
                    <a:lnTo>
                      <a:pt x="36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36" y="5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61520" y="5375880"/>
                <a:ext cx="109800" cy="60840"/>
              </a:xfrm>
              <a:custGeom>
                <a:avLst/>
                <a:gdLst/>
                <a:ahLst/>
                <a:rect l="l" t="t" r="r" b="b"/>
                <a:pathLst>
                  <a:path w="36" h="28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461520" y="5375520"/>
                <a:ext cx="0" cy="32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466200" y="538488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61520" y="5384880"/>
                <a:ext cx="109800" cy="5868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35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23" y="8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11" y="17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0" y="26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66560" y="538488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61520" y="538632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45680" y="538488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36" y="26"/>
                    </a:lnTo>
                    <a:lnTo>
                      <a:pt x="36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61520" y="538632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5680" y="5384880"/>
                <a:ext cx="50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45680" y="5375880"/>
                <a:ext cx="113400" cy="608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27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445680" y="5384880"/>
                <a:ext cx="50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61520" y="5375880"/>
                <a:ext cx="0" cy="32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61520" y="5384880"/>
                <a:ext cx="109800" cy="1440"/>
              </a:xfrm>
              <a:custGeom>
                <a:avLst/>
                <a:gdLst/>
                <a:ahLst/>
                <a:rect l="l" t="t" r="r" b="b"/>
                <a:pathLst>
                  <a:path w="36" h="1">
                    <a:moveTo>
                      <a:pt x="35" y="0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66560" y="538488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461520" y="5384880"/>
                <a:ext cx="0" cy="14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0720" y="5379120"/>
                <a:ext cx="115560" cy="626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27"/>
                    </a:moveTo>
                    <a:lnTo>
                      <a:pt x="36" y="27"/>
                    </a:lnTo>
                    <a:lnTo>
                      <a:pt x="36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61520" y="5384880"/>
                <a:ext cx="0" cy="14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0720" y="537912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97240" y="560664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9"/>
                    </a:lnTo>
                    <a:lnTo>
                      <a:pt x="27" y="19"/>
                    </a:lnTo>
                    <a:lnTo>
                      <a:pt x="36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597240" y="5602680"/>
                <a:ext cx="0" cy="32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605520" y="561384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97240" y="561384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27" y="0"/>
                    </a:lnTo>
                    <a:lnTo>
                      <a:pt x="27" y="0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18" y="17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5880" y="561384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97240" y="561888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85360" y="561384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36" y="26"/>
                    </a:lnTo>
                    <a:lnTo>
                      <a:pt x="36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7240" y="561888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5360" y="5613840"/>
                <a:ext cx="54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85360" y="560664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26"/>
                    </a:moveTo>
                    <a:lnTo>
                      <a:pt x="0" y="19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2" y="13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85000" y="5613840"/>
                <a:ext cx="54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97240" y="5603040"/>
                <a:ext cx="0" cy="32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5880" y="5613840"/>
                <a:ext cx="115560" cy="1800"/>
              </a:xfrm>
              <a:custGeom>
                <a:avLst/>
                <a:gdLst/>
                <a:ahLst/>
                <a:rect l="l" t="t" r="r" b="b"/>
                <a:pathLst>
                  <a:path w="37" h="1">
                    <a:moveTo>
                      <a:pt x="36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05880" y="560844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605880" y="560844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90760" y="5606640"/>
                <a:ext cx="1152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36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12" y="26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0" y="1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05880" y="560844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90760" y="5606640"/>
                <a:ext cx="1116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97240" y="5798160"/>
                <a:ext cx="113400" cy="626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7" y="6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7"/>
                    </a:lnTo>
                    <a:lnTo>
                      <a:pt x="36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597240" y="5797800"/>
                <a:ext cx="0" cy="54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605520" y="580716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7240" y="580716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9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05880" y="580716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597240" y="5814360"/>
                <a:ext cx="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85360" y="580716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36" y="26"/>
                    </a:lnTo>
                    <a:lnTo>
                      <a:pt x="36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12" y="19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7240" y="5814360"/>
                <a:ext cx="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5360" y="5807160"/>
                <a:ext cx="54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5360" y="5798160"/>
                <a:ext cx="113400" cy="626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27"/>
                    </a:move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585000" y="5807160"/>
                <a:ext cx="54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7240" y="5798160"/>
                <a:ext cx="0" cy="54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05880" y="5808960"/>
                <a:ext cx="115560" cy="3600"/>
              </a:xfrm>
              <a:custGeom>
                <a:avLst/>
                <a:gdLst/>
                <a:ahLst/>
                <a:rect l="l" t="t" r="r" b="b"/>
                <a:pathLst>
                  <a:path w="37" h="1">
                    <a:moveTo>
                      <a:pt x="36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05880" y="5807160"/>
                <a:ext cx="0" cy="18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605880" y="5806800"/>
                <a:ext cx="0" cy="18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90760" y="5803920"/>
                <a:ext cx="115200" cy="6048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27"/>
                    </a:moveTo>
                    <a:lnTo>
                      <a:pt x="36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05880" y="5807160"/>
                <a:ext cx="0" cy="18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90760" y="5803920"/>
                <a:ext cx="1116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47280" y="5280840"/>
                <a:ext cx="113400" cy="608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7" y="6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36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647280" y="5280840"/>
                <a:ext cx="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651960" y="5291280"/>
                <a:ext cx="104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7280" y="5291280"/>
                <a:ext cx="113400" cy="608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0"/>
                    </a:moveTo>
                    <a:lnTo>
                      <a:pt x="27" y="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8" y="13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52320" y="5291280"/>
                <a:ext cx="104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47280" y="5300280"/>
                <a:ext cx="1098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33600" y="5291280"/>
                <a:ext cx="115200" cy="608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27"/>
                    </a:moveTo>
                    <a:lnTo>
                      <a:pt x="36" y="20"/>
                    </a:lnTo>
                    <a:lnTo>
                      <a:pt x="36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47280" y="5300280"/>
                <a:ext cx="1098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33600" y="5291280"/>
                <a:ext cx="1116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3600" y="5280840"/>
                <a:ext cx="115200" cy="608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27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3600" y="5291280"/>
                <a:ext cx="1116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47280" y="5280840"/>
                <a:ext cx="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52320" y="5291280"/>
                <a:ext cx="115560" cy="608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0"/>
                    </a:moveTo>
                    <a:lnTo>
                      <a:pt x="3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2320" y="529128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52320" y="529128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40440" y="5284440"/>
                <a:ext cx="115560" cy="6228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27"/>
                    </a:move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52320" y="529128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33600" y="5284440"/>
                <a:ext cx="64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61520" y="6303240"/>
                <a:ext cx="109800" cy="6084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0" y="18"/>
                    </a:move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5" y="20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30" y="26"/>
                    </a:lnTo>
                    <a:lnTo>
                      <a:pt x="30" y="23"/>
                    </a:lnTo>
                    <a:lnTo>
                      <a:pt x="30" y="23"/>
                    </a:lnTo>
                    <a:lnTo>
                      <a:pt x="35" y="23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10" y="13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5" y="15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88880" y="6303240"/>
                <a:ext cx="111960" cy="6084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30" y="7"/>
                    </a:moveTo>
                    <a:lnTo>
                      <a:pt x="30" y="7"/>
                    </a:lnTo>
                    <a:lnTo>
                      <a:pt x="30" y="7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0" y="23"/>
                    </a:lnTo>
                    <a:lnTo>
                      <a:pt x="30" y="23"/>
                    </a:lnTo>
                    <a:lnTo>
                      <a:pt x="30" y="23"/>
                    </a:lnTo>
                    <a:lnTo>
                      <a:pt x="30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0" y="7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00" y="6303240"/>
                <a:ext cx="111960" cy="6084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25" y="13"/>
                    </a:moveTo>
                    <a:lnTo>
                      <a:pt x="35" y="0"/>
                    </a:lnTo>
                    <a:lnTo>
                      <a:pt x="25" y="0"/>
                    </a:lnTo>
                    <a:lnTo>
                      <a:pt x="20" y="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5" y="13"/>
                    </a:lnTo>
                    <a:lnTo>
                      <a:pt x="0" y="26"/>
                    </a:lnTo>
                    <a:lnTo>
                      <a:pt x="10" y="26"/>
                    </a:lnTo>
                    <a:lnTo>
                      <a:pt x="20" y="18"/>
                    </a:lnTo>
                    <a:lnTo>
                      <a:pt x="25" y="26"/>
                    </a:lnTo>
                    <a:lnTo>
                      <a:pt x="35" y="26"/>
                    </a:lnTo>
                    <a:lnTo>
                      <a:pt x="25" y="13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50800" y="6303240"/>
                <a:ext cx="113400" cy="608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36" y="26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563040" y="6328080"/>
                <a:ext cx="54720" cy="32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563040" y="6328080"/>
                <a:ext cx="54720" cy="32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69880" y="6326280"/>
                <a:ext cx="5472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590760" y="6317640"/>
                <a:ext cx="5652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85360" y="6313680"/>
                <a:ext cx="66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2080" y="4978440"/>
                <a:ext cx="2917080" cy="191520"/>
              </a:xfrm>
              <a:custGeom>
                <a:avLst/>
                <a:gdLst/>
                <a:ahLst/>
                <a:rect l="l" t="t" r="r" b="b"/>
                <a:pathLst>
                  <a:path w="941" h="87">
                    <a:moveTo>
                      <a:pt x="756" y="0"/>
                    </a:moveTo>
                    <a:lnTo>
                      <a:pt x="940" y="86"/>
                    </a:lnTo>
                    <a:lnTo>
                      <a:pt x="0" y="86"/>
                    </a:lnTo>
                    <a:lnTo>
                      <a:pt x="176" y="0"/>
                    </a:lnTo>
                    <a:lnTo>
                      <a:pt x="756" y="0"/>
                    </a:lnTo>
                  </a:path>
                </a:pathLst>
              </a:custGeom>
              <a:solidFill>
                <a:srgbClr val="f2f2da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30720" y="5202000"/>
                <a:ext cx="19800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332720" y="5202000"/>
                <a:ext cx="19800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167480" y="5202000"/>
                <a:ext cx="19800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001880" y="5202000"/>
                <a:ext cx="19836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36640" y="5202000"/>
                <a:ext cx="19800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754640" y="6264000"/>
                <a:ext cx="55440" cy="1699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1528920" y="6264000"/>
                <a:ext cx="8280" cy="1537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1327320" y="6264000"/>
                <a:ext cx="39240" cy="1699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1141920" y="6264000"/>
                <a:ext cx="54720" cy="1699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920880" y="6264000"/>
                <a:ext cx="104760" cy="1699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347400" y="4468680"/>
              <a:ext cx="278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XI et conditionnem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12840" y="2232000"/>
            <a:ext cx="7465680" cy="4173120"/>
            <a:chOff x="312840" y="2232000"/>
            <a:chExt cx="7465680" cy="4173120"/>
          </a:xfrm>
        </p:grpSpPr>
        <p:grpSp>
          <p:nvGrpSpPr>
            <p:cNvPr id="422" name=""/>
            <p:cNvGrpSpPr/>
            <p:nvPr/>
          </p:nvGrpSpPr>
          <p:grpSpPr>
            <a:xfrm>
              <a:off x="312840" y="2232000"/>
              <a:ext cx="7465680" cy="4173120"/>
              <a:chOff x="312840" y="2232000"/>
              <a:chExt cx="7465680" cy="417312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1092240" y="5202360"/>
                <a:ext cx="216000" cy="1202760"/>
                <a:chOff x="1092240" y="5202360"/>
                <a:chExt cx="216000" cy="120276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1092240" y="5202360"/>
                  <a:ext cx="216000" cy="1202760"/>
                </a:xfrm>
                <a:custGeom>
                  <a:avLst/>
                  <a:gdLst/>
                  <a:ahLst/>
                  <a:rect l="l" t="t" r="r" b="b"/>
                  <a:pathLst>
                    <a:path w="82" h="550">
                      <a:moveTo>
                        <a:pt x="73" y="549"/>
                      </a:moveTo>
                      <a:lnTo>
                        <a:pt x="74" y="549"/>
                      </a:lnTo>
                      <a:lnTo>
                        <a:pt x="74" y="549"/>
                      </a:lnTo>
                      <a:lnTo>
                        <a:pt x="76" y="549"/>
                      </a:lnTo>
                      <a:lnTo>
                        <a:pt x="76" y="548"/>
                      </a:lnTo>
                      <a:lnTo>
                        <a:pt x="77" y="548"/>
                      </a:lnTo>
                      <a:lnTo>
                        <a:pt x="77" y="548"/>
                      </a:lnTo>
                      <a:lnTo>
                        <a:pt x="77" y="547"/>
                      </a:lnTo>
                      <a:lnTo>
                        <a:pt x="78" y="547"/>
                      </a:lnTo>
                      <a:lnTo>
                        <a:pt x="78" y="546"/>
                      </a:lnTo>
                      <a:lnTo>
                        <a:pt x="79" y="546"/>
                      </a:lnTo>
                      <a:lnTo>
                        <a:pt x="79" y="545"/>
                      </a:lnTo>
                      <a:lnTo>
                        <a:pt x="79" y="545"/>
                      </a:lnTo>
                      <a:lnTo>
                        <a:pt x="79" y="544"/>
                      </a:lnTo>
                      <a:lnTo>
                        <a:pt x="79" y="544"/>
                      </a:lnTo>
                      <a:lnTo>
                        <a:pt x="79" y="543"/>
                      </a:lnTo>
                      <a:lnTo>
                        <a:pt x="81" y="543"/>
                      </a:lnTo>
                      <a:lnTo>
                        <a:pt x="81" y="5"/>
                      </a:lnTo>
                      <a:lnTo>
                        <a:pt x="79" y="4"/>
                      </a:lnTo>
                      <a:lnTo>
                        <a:pt x="79" y="4"/>
                      </a:lnTo>
                      <a:lnTo>
                        <a:pt x="79" y="3"/>
                      </a:lnTo>
                      <a:lnTo>
                        <a:pt x="79" y="3"/>
                      </a:lnTo>
                      <a:lnTo>
                        <a:pt x="79" y="2"/>
                      </a:lnTo>
                      <a:lnTo>
                        <a:pt x="79" y="2"/>
                      </a:lnTo>
                      <a:lnTo>
                        <a:pt x="78" y="1"/>
                      </a:lnTo>
                      <a:lnTo>
                        <a:pt x="78" y="1"/>
                      </a:lnTo>
                      <a:lnTo>
                        <a:pt x="77" y="0"/>
                      </a:lnTo>
                      <a:lnTo>
                        <a:pt x="77" y="0"/>
                      </a:lnTo>
                      <a:lnTo>
                        <a:pt x="77" y="0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74" y="0"/>
                      </a:lnTo>
                      <a:lnTo>
                        <a:pt x="74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543"/>
                      </a:lnTo>
                      <a:lnTo>
                        <a:pt x="0" y="543"/>
                      </a:lnTo>
                      <a:lnTo>
                        <a:pt x="0" y="544"/>
                      </a:lnTo>
                      <a:lnTo>
                        <a:pt x="0" y="544"/>
                      </a:lnTo>
                      <a:lnTo>
                        <a:pt x="1" y="545"/>
                      </a:lnTo>
                      <a:lnTo>
                        <a:pt x="1" y="546"/>
                      </a:lnTo>
                      <a:lnTo>
                        <a:pt x="1" y="546"/>
                      </a:lnTo>
                      <a:lnTo>
                        <a:pt x="1" y="547"/>
                      </a:lnTo>
                      <a:lnTo>
                        <a:pt x="2" y="547"/>
                      </a:lnTo>
                      <a:lnTo>
                        <a:pt x="2" y="548"/>
                      </a:lnTo>
                      <a:lnTo>
                        <a:pt x="2" y="548"/>
                      </a:lnTo>
                      <a:lnTo>
                        <a:pt x="3" y="548"/>
                      </a:lnTo>
                      <a:lnTo>
                        <a:pt x="3" y="549"/>
                      </a:lnTo>
                      <a:lnTo>
                        <a:pt x="4" y="549"/>
                      </a:lnTo>
                      <a:lnTo>
                        <a:pt x="4" y="549"/>
                      </a:lnTo>
                      <a:lnTo>
                        <a:pt x="6" y="549"/>
                      </a:lnTo>
                      <a:lnTo>
                        <a:pt x="6" y="549"/>
                      </a:lnTo>
                      <a:lnTo>
                        <a:pt x="73" y="549"/>
                      </a:lnTo>
                    </a:path>
                  </a:pathLst>
                </a:custGeom>
                <a:solidFill>
                  <a:srgbClr val="f2f2da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175760" y="5412240"/>
                  <a:ext cx="98640" cy="765360"/>
                </a:xfrm>
                <a:custGeom>
                  <a:avLst/>
                  <a:gdLst/>
                  <a:ahLst/>
                  <a:rect l="l" t="t" r="r" b="b"/>
                  <a:pathLst>
                    <a:path w="37" h="350">
                      <a:moveTo>
                        <a:pt x="29" y="349"/>
                      </a:moveTo>
                      <a:lnTo>
                        <a:pt x="29" y="348"/>
                      </a:lnTo>
                      <a:lnTo>
                        <a:pt x="31" y="348"/>
                      </a:lnTo>
                      <a:lnTo>
                        <a:pt x="31" y="348"/>
                      </a:lnTo>
                      <a:lnTo>
                        <a:pt x="31" y="348"/>
                      </a:lnTo>
                      <a:lnTo>
                        <a:pt x="32" y="348"/>
                      </a:lnTo>
                      <a:lnTo>
                        <a:pt x="32" y="348"/>
                      </a:lnTo>
                      <a:lnTo>
                        <a:pt x="32" y="348"/>
                      </a:lnTo>
                      <a:lnTo>
                        <a:pt x="32" y="348"/>
                      </a:lnTo>
                      <a:lnTo>
                        <a:pt x="32" y="347"/>
                      </a:lnTo>
                      <a:lnTo>
                        <a:pt x="34" y="347"/>
                      </a:lnTo>
                      <a:lnTo>
                        <a:pt x="34" y="347"/>
                      </a:lnTo>
                      <a:lnTo>
                        <a:pt x="34" y="346"/>
                      </a:lnTo>
                      <a:lnTo>
                        <a:pt x="34" y="346"/>
                      </a:lnTo>
                      <a:lnTo>
                        <a:pt x="34" y="346"/>
                      </a:lnTo>
                      <a:lnTo>
                        <a:pt x="36" y="346"/>
                      </a:lnTo>
                      <a:lnTo>
                        <a:pt x="36" y="4"/>
                      </a:lnTo>
                      <a:lnTo>
                        <a:pt x="34" y="4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31" y="0"/>
                      </a:lnTo>
                      <a:lnTo>
                        <a:pt x="31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45"/>
                      </a:lnTo>
                      <a:lnTo>
                        <a:pt x="0" y="346"/>
                      </a:lnTo>
                      <a:lnTo>
                        <a:pt x="0" y="346"/>
                      </a:lnTo>
                      <a:lnTo>
                        <a:pt x="0" y="346"/>
                      </a:lnTo>
                      <a:lnTo>
                        <a:pt x="0" y="347"/>
                      </a:lnTo>
                      <a:lnTo>
                        <a:pt x="0" y="347"/>
                      </a:lnTo>
                      <a:lnTo>
                        <a:pt x="0" y="347"/>
                      </a:lnTo>
                      <a:lnTo>
                        <a:pt x="0" y="348"/>
                      </a:lnTo>
                      <a:lnTo>
                        <a:pt x="0" y="348"/>
                      </a:lnTo>
                      <a:lnTo>
                        <a:pt x="1" y="348"/>
                      </a:lnTo>
                      <a:lnTo>
                        <a:pt x="1" y="349"/>
                      </a:lnTo>
                      <a:lnTo>
                        <a:pt x="1" y="349"/>
                      </a:lnTo>
                      <a:lnTo>
                        <a:pt x="3" y="349"/>
                      </a:lnTo>
                      <a:lnTo>
                        <a:pt x="3" y="349"/>
                      </a:lnTo>
                      <a:lnTo>
                        <a:pt x="3" y="349"/>
                      </a:lnTo>
                      <a:lnTo>
                        <a:pt x="3" y="349"/>
                      </a:lnTo>
                      <a:lnTo>
                        <a:pt x="4" y="349"/>
                      </a:lnTo>
                      <a:lnTo>
                        <a:pt x="29" y="349"/>
                      </a:lnTo>
                    </a:path>
                  </a:pathLst>
                </a:custGeom>
                <a:solidFill>
                  <a:srgbClr val="7f7f7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128600" y="6342840"/>
                  <a:ext cx="98640" cy="58680"/>
                </a:xfrm>
                <a:custGeom>
                  <a:avLst/>
                  <a:gdLst/>
                  <a:ahLst/>
                  <a:rect l="l" t="t" r="r" b="b"/>
                  <a:pathLst>
                    <a:path w="37" h="27">
                      <a:moveTo>
                        <a:pt x="18" y="0"/>
                      </a:move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32" y="4"/>
                      </a:lnTo>
                      <a:lnTo>
                        <a:pt x="32" y="4"/>
                      </a:lnTo>
                      <a:lnTo>
                        <a:pt x="32" y="4"/>
                      </a:lnTo>
                      <a:lnTo>
                        <a:pt x="32" y="7"/>
                      </a:lnTo>
                      <a:lnTo>
                        <a:pt x="36" y="7"/>
                      </a:lnTo>
                      <a:lnTo>
                        <a:pt x="36" y="9"/>
                      </a:lnTo>
                      <a:lnTo>
                        <a:pt x="36" y="11"/>
                      </a:lnTo>
                      <a:lnTo>
                        <a:pt x="36" y="11"/>
                      </a:lnTo>
                      <a:lnTo>
                        <a:pt x="36" y="14"/>
                      </a:lnTo>
                      <a:lnTo>
                        <a:pt x="36" y="14"/>
                      </a:lnTo>
                      <a:lnTo>
                        <a:pt x="36" y="16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21"/>
                      </a:lnTo>
                      <a:lnTo>
                        <a:pt x="32" y="21"/>
                      </a:lnTo>
                      <a:lnTo>
                        <a:pt x="28" y="21"/>
                      </a:lnTo>
                      <a:lnTo>
                        <a:pt x="28" y="23"/>
                      </a:lnTo>
                      <a:lnTo>
                        <a:pt x="28" y="23"/>
                      </a:lnTo>
                      <a:lnTo>
                        <a:pt x="25" y="23"/>
                      </a:lnTo>
                      <a:lnTo>
                        <a:pt x="25" y="26"/>
                      </a:lnTo>
                      <a:lnTo>
                        <a:pt x="21" y="26"/>
                      </a:lnTo>
                      <a:lnTo>
                        <a:pt x="21" y="26"/>
                      </a:lnTo>
                      <a:lnTo>
                        <a:pt x="18" y="26"/>
                      </a:lnTo>
                      <a:lnTo>
                        <a:pt x="18" y="26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3" y="18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f2f2da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312840" y="2232000"/>
                <a:ext cx="4070160" cy="244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xerciser Module - CV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940280" y="2279520"/>
                <a:ext cx="1735200" cy="613080"/>
              </a:xfrm>
              <a:prstGeom prst="rect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a8adb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xercice sta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 flipV="1">
                <a:off x="4311360" y="2314440"/>
                <a:ext cx="663480" cy="263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6627600" y="2390760"/>
                <a:ext cx="1150920" cy="77760"/>
              </a:xfrm>
              <a:prstGeom prst="line">
                <a:avLst/>
              </a:prstGeom>
              <a:ln cap="rnd" w="28440">
                <a:solidFill>
                  <a:srgbClr val="a8adb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968400" y="5524560"/>
                <a:ext cx="3409920" cy="459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XI-Motion Cont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 flipV="1">
              <a:off x="3403440" y="2652840"/>
              <a:ext cx="1621080" cy="30398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Un exemple : test de missile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8137440" y="828720"/>
            <a:ext cx="1006560" cy="5149800"/>
            <a:chOff x="8137440" y="828720"/>
            <a:chExt cx="1006560" cy="5149800"/>
          </a:xfrm>
        </p:grpSpPr>
        <p:pic>
          <p:nvPicPr>
            <p:cNvPr id="435" name="" descr=""/>
            <p:cNvPicPr/>
            <p:nvPr/>
          </p:nvPicPr>
          <p:blipFill>
            <a:blip r:embed="rId5"/>
            <a:stretch/>
          </p:blipFill>
          <p:spPr>
            <a:xfrm flipH="1">
              <a:off x="8137440" y="828720"/>
              <a:ext cx="1006560" cy="51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 flipH="1">
              <a:off x="8368200" y="1185840"/>
              <a:ext cx="150840" cy="237600"/>
            </a:xfrm>
            <a:prstGeom prst="ellipse">
              <a:avLst/>
            </a:prstGeom>
            <a:solidFill>
              <a:srgbClr val="fa1f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8309520" y="2100240"/>
              <a:ext cx="180000" cy="183600"/>
            </a:xfrm>
            <a:prstGeom prst="ellipse">
              <a:avLst/>
            </a:prstGeom>
            <a:solidFill>
              <a:srgbClr val="69a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8295120" y="2795400"/>
              <a:ext cx="194040" cy="293400"/>
            </a:xfrm>
            <a:prstGeom prst="ellipse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8309880" y="4130640"/>
              <a:ext cx="375120" cy="420120"/>
            </a:xfrm>
            <a:prstGeom prst="rect">
              <a:avLst/>
            </a:prstGeom>
            <a:solidFill>
              <a:srgbClr val="69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8702280" y="4109760"/>
              <a:ext cx="178560" cy="330120"/>
            </a:xfrm>
            <a:prstGeom prst="ellipse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8352720" y="5013360"/>
              <a:ext cx="178560" cy="329760"/>
            </a:xfrm>
            <a:prstGeom prst="ellipse">
              <a:avLst/>
            </a:prstGeom>
            <a:solidFill>
              <a:srgbClr val="dd8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12840" y="1358640"/>
            <a:ext cx="8035560" cy="5041800"/>
            <a:chOff x="312840" y="1358640"/>
            <a:chExt cx="8035560" cy="5041800"/>
          </a:xfrm>
        </p:grpSpPr>
        <p:sp>
          <p:nvSpPr>
            <p:cNvPr id="443" name=""/>
            <p:cNvSpPr/>
            <p:nvPr/>
          </p:nvSpPr>
          <p:spPr>
            <a:xfrm flipV="1">
              <a:off x="3352680" y="2205000"/>
              <a:ext cx="1640160" cy="33796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312840" y="1358640"/>
              <a:ext cx="8035560" cy="5041800"/>
              <a:chOff x="312840" y="1358640"/>
              <a:chExt cx="8035560" cy="504180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4906800" y="1358640"/>
                <a:ext cx="3441600" cy="699840"/>
                <a:chOff x="4906800" y="1358640"/>
                <a:chExt cx="3441600" cy="699840"/>
              </a:xfrm>
            </p:grpSpPr>
            <p:sp>
              <p:nvSpPr>
                <p:cNvPr id="446" name=""/>
                <p:cNvSpPr/>
                <p:nvPr/>
              </p:nvSpPr>
              <p:spPr>
                <a:xfrm flipV="1">
                  <a:off x="6683400" y="1358640"/>
                  <a:ext cx="1665000" cy="240840"/>
                </a:xfrm>
                <a:prstGeom prst="line">
                  <a:avLst/>
                </a:prstGeom>
                <a:ln cap="rnd" w="28440">
                  <a:solidFill>
                    <a:srgbClr val="a8adb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906800" y="1446120"/>
                  <a:ext cx="1735200" cy="612360"/>
                </a:xfrm>
                <a:prstGeom prst="rect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a8adb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onné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élémétriqu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849240" y="5216400"/>
                <a:ext cx="252000" cy="1184040"/>
                <a:chOff x="849240" y="5216400"/>
                <a:chExt cx="252000" cy="118404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849240" y="5216400"/>
                  <a:ext cx="252000" cy="1184040"/>
                </a:xfrm>
                <a:custGeom>
                  <a:avLst/>
                  <a:gdLst/>
                  <a:ahLst/>
                  <a:rect l="l" t="t" r="r" b="b"/>
                  <a:pathLst>
                    <a:path w="82" h="550">
                      <a:moveTo>
                        <a:pt x="73" y="549"/>
                      </a:moveTo>
                      <a:lnTo>
                        <a:pt x="74" y="549"/>
                      </a:lnTo>
                      <a:lnTo>
                        <a:pt x="74" y="549"/>
                      </a:lnTo>
                      <a:lnTo>
                        <a:pt x="76" y="549"/>
                      </a:lnTo>
                      <a:lnTo>
                        <a:pt x="76" y="548"/>
                      </a:lnTo>
                      <a:lnTo>
                        <a:pt x="77" y="548"/>
                      </a:lnTo>
                      <a:lnTo>
                        <a:pt x="77" y="548"/>
                      </a:lnTo>
                      <a:lnTo>
                        <a:pt x="77" y="547"/>
                      </a:lnTo>
                      <a:lnTo>
                        <a:pt x="78" y="547"/>
                      </a:lnTo>
                      <a:lnTo>
                        <a:pt x="78" y="546"/>
                      </a:lnTo>
                      <a:lnTo>
                        <a:pt x="79" y="546"/>
                      </a:lnTo>
                      <a:lnTo>
                        <a:pt x="79" y="545"/>
                      </a:lnTo>
                      <a:lnTo>
                        <a:pt x="79" y="545"/>
                      </a:lnTo>
                      <a:lnTo>
                        <a:pt x="79" y="544"/>
                      </a:lnTo>
                      <a:lnTo>
                        <a:pt x="79" y="544"/>
                      </a:lnTo>
                      <a:lnTo>
                        <a:pt x="79" y="543"/>
                      </a:lnTo>
                      <a:lnTo>
                        <a:pt x="81" y="543"/>
                      </a:lnTo>
                      <a:lnTo>
                        <a:pt x="81" y="5"/>
                      </a:lnTo>
                      <a:lnTo>
                        <a:pt x="79" y="4"/>
                      </a:lnTo>
                      <a:lnTo>
                        <a:pt x="79" y="4"/>
                      </a:lnTo>
                      <a:lnTo>
                        <a:pt x="79" y="3"/>
                      </a:lnTo>
                      <a:lnTo>
                        <a:pt x="79" y="3"/>
                      </a:lnTo>
                      <a:lnTo>
                        <a:pt x="79" y="2"/>
                      </a:lnTo>
                      <a:lnTo>
                        <a:pt x="79" y="2"/>
                      </a:lnTo>
                      <a:lnTo>
                        <a:pt x="78" y="1"/>
                      </a:lnTo>
                      <a:lnTo>
                        <a:pt x="78" y="1"/>
                      </a:lnTo>
                      <a:lnTo>
                        <a:pt x="77" y="0"/>
                      </a:lnTo>
                      <a:lnTo>
                        <a:pt x="77" y="0"/>
                      </a:lnTo>
                      <a:lnTo>
                        <a:pt x="77" y="0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74" y="0"/>
                      </a:lnTo>
                      <a:lnTo>
                        <a:pt x="74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543"/>
                      </a:lnTo>
                      <a:lnTo>
                        <a:pt x="0" y="543"/>
                      </a:lnTo>
                      <a:lnTo>
                        <a:pt x="0" y="544"/>
                      </a:lnTo>
                      <a:lnTo>
                        <a:pt x="0" y="544"/>
                      </a:lnTo>
                      <a:lnTo>
                        <a:pt x="1" y="545"/>
                      </a:lnTo>
                      <a:lnTo>
                        <a:pt x="1" y="546"/>
                      </a:lnTo>
                      <a:lnTo>
                        <a:pt x="1" y="546"/>
                      </a:lnTo>
                      <a:lnTo>
                        <a:pt x="1" y="547"/>
                      </a:lnTo>
                      <a:lnTo>
                        <a:pt x="2" y="547"/>
                      </a:lnTo>
                      <a:lnTo>
                        <a:pt x="2" y="548"/>
                      </a:lnTo>
                      <a:lnTo>
                        <a:pt x="2" y="548"/>
                      </a:lnTo>
                      <a:lnTo>
                        <a:pt x="3" y="548"/>
                      </a:lnTo>
                      <a:lnTo>
                        <a:pt x="3" y="549"/>
                      </a:lnTo>
                      <a:lnTo>
                        <a:pt x="4" y="549"/>
                      </a:lnTo>
                      <a:lnTo>
                        <a:pt x="4" y="549"/>
                      </a:lnTo>
                      <a:lnTo>
                        <a:pt x="6" y="549"/>
                      </a:lnTo>
                      <a:lnTo>
                        <a:pt x="6" y="549"/>
                      </a:lnTo>
                      <a:lnTo>
                        <a:pt x="73" y="549"/>
                      </a:lnTo>
                    </a:path>
                  </a:pathLst>
                </a:custGeom>
                <a:solidFill>
                  <a:srgbClr val="f2f2da"/>
                </a:solidFill>
                <a:ln cap="rnd"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946800" y="5423040"/>
                  <a:ext cx="115200" cy="753480"/>
                </a:xfrm>
                <a:custGeom>
                  <a:avLst/>
                  <a:gdLst/>
                  <a:ahLst/>
                  <a:rect l="l" t="t" r="r" b="b"/>
                  <a:pathLst>
                    <a:path w="37" h="350">
                      <a:moveTo>
                        <a:pt x="29" y="349"/>
                      </a:moveTo>
                      <a:lnTo>
                        <a:pt x="29" y="348"/>
                      </a:lnTo>
                      <a:lnTo>
                        <a:pt x="31" y="348"/>
                      </a:lnTo>
                      <a:lnTo>
                        <a:pt x="31" y="348"/>
                      </a:lnTo>
                      <a:lnTo>
                        <a:pt x="31" y="348"/>
                      </a:lnTo>
                      <a:lnTo>
                        <a:pt x="32" y="348"/>
                      </a:lnTo>
                      <a:lnTo>
                        <a:pt x="32" y="348"/>
                      </a:lnTo>
                      <a:lnTo>
                        <a:pt x="32" y="348"/>
                      </a:lnTo>
                      <a:lnTo>
                        <a:pt x="32" y="348"/>
                      </a:lnTo>
                      <a:lnTo>
                        <a:pt x="32" y="347"/>
                      </a:lnTo>
                      <a:lnTo>
                        <a:pt x="34" y="347"/>
                      </a:lnTo>
                      <a:lnTo>
                        <a:pt x="34" y="347"/>
                      </a:lnTo>
                      <a:lnTo>
                        <a:pt x="34" y="346"/>
                      </a:lnTo>
                      <a:lnTo>
                        <a:pt x="34" y="346"/>
                      </a:lnTo>
                      <a:lnTo>
                        <a:pt x="34" y="346"/>
                      </a:lnTo>
                      <a:lnTo>
                        <a:pt x="36" y="346"/>
                      </a:lnTo>
                      <a:lnTo>
                        <a:pt x="36" y="4"/>
                      </a:lnTo>
                      <a:lnTo>
                        <a:pt x="34" y="4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31" y="0"/>
                      </a:lnTo>
                      <a:lnTo>
                        <a:pt x="31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45"/>
                      </a:lnTo>
                      <a:lnTo>
                        <a:pt x="0" y="346"/>
                      </a:lnTo>
                      <a:lnTo>
                        <a:pt x="0" y="346"/>
                      </a:lnTo>
                      <a:lnTo>
                        <a:pt x="0" y="346"/>
                      </a:lnTo>
                      <a:lnTo>
                        <a:pt x="0" y="347"/>
                      </a:lnTo>
                      <a:lnTo>
                        <a:pt x="0" y="347"/>
                      </a:lnTo>
                      <a:lnTo>
                        <a:pt x="0" y="347"/>
                      </a:lnTo>
                      <a:lnTo>
                        <a:pt x="0" y="348"/>
                      </a:lnTo>
                      <a:lnTo>
                        <a:pt x="0" y="348"/>
                      </a:lnTo>
                      <a:lnTo>
                        <a:pt x="1" y="348"/>
                      </a:lnTo>
                      <a:lnTo>
                        <a:pt x="1" y="349"/>
                      </a:lnTo>
                      <a:lnTo>
                        <a:pt x="1" y="349"/>
                      </a:lnTo>
                      <a:lnTo>
                        <a:pt x="3" y="349"/>
                      </a:lnTo>
                      <a:lnTo>
                        <a:pt x="3" y="349"/>
                      </a:lnTo>
                      <a:lnTo>
                        <a:pt x="3" y="349"/>
                      </a:lnTo>
                      <a:lnTo>
                        <a:pt x="3" y="349"/>
                      </a:lnTo>
                      <a:lnTo>
                        <a:pt x="4" y="349"/>
                      </a:lnTo>
                      <a:lnTo>
                        <a:pt x="29" y="349"/>
                      </a:lnTo>
                    </a:path>
                  </a:pathLst>
                </a:custGeom>
                <a:solidFill>
                  <a:srgbClr val="7f7f7f"/>
                </a:solidFill>
                <a:ln cap="rnd"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891720" y="6339240"/>
                  <a:ext cx="115200" cy="57600"/>
                </a:xfrm>
                <a:custGeom>
                  <a:avLst/>
                  <a:gdLst/>
                  <a:ahLst/>
                  <a:rect l="l" t="t" r="r" b="b"/>
                  <a:pathLst>
                    <a:path w="37" h="27">
                      <a:moveTo>
                        <a:pt x="18" y="0"/>
                      </a:move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32" y="4"/>
                      </a:lnTo>
                      <a:lnTo>
                        <a:pt x="32" y="4"/>
                      </a:lnTo>
                      <a:lnTo>
                        <a:pt x="32" y="4"/>
                      </a:lnTo>
                      <a:lnTo>
                        <a:pt x="32" y="7"/>
                      </a:lnTo>
                      <a:lnTo>
                        <a:pt x="36" y="7"/>
                      </a:lnTo>
                      <a:lnTo>
                        <a:pt x="36" y="9"/>
                      </a:lnTo>
                      <a:lnTo>
                        <a:pt x="36" y="11"/>
                      </a:lnTo>
                      <a:lnTo>
                        <a:pt x="36" y="11"/>
                      </a:lnTo>
                      <a:lnTo>
                        <a:pt x="36" y="14"/>
                      </a:lnTo>
                      <a:lnTo>
                        <a:pt x="36" y="14"/>
                      </a:lnTo>
                      <a:lnTo>
                        <a:pt x="36" y="16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21"/>
                      </a:lnTo>
                      <a:lnTo>
                        <a:pt x="32" y="21"/>
                      </a:lnTo>
                      <a:lnTo>
                        <a:pt x="28" y="21"/>
                      </a:lnTo>
                      <a:lnTo>
                        <a:pt x="28" y="23"/>
                      </a:lnTo>
                      <a:lnTo>
                        <a:pt x="28" y="23"/>
                      </a:lnTo>
                      <a:lnTo>
                        <a:pt x="25" y="23"/>
                      </a:lnTo>
                      <a:lnTo>
                        <a:pt x="25" y="26"/>
                      </a:lnTo>
                      <a:lnTo>
                        <a:pt x="21" y="26"/>
                      </a:lnTo>
                      <a:lnTo>
                        <a:pt x="21" y="26"/>
                      </a:lnTo>
                      <a:lnTo>
                        <a:pt x="18" y="26"/>
                      </a:lnTo>
                      <a:lnTo>
                        <a:pt x="18" y="26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3" y="18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f2f2da"/>
                </a:solidFill>
                <a:ln cap="rnd"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312840" y="2028960"/>
                <a:ext cx="4074840" cy="2188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elemetry Test Module -  LabVIE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4408200" y="2031840"/>
                <a:ext cx="726840" cy="10188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48240" y="5521320"/>
                <a:ext cx="3435840" cy="459720"/>
              </a:xfrm>
              <a:prstGeom prst="rect">
                <a:avLst/>
              </a:prstGeom>
              <a:solidFill>
                <a:srgbClr val="00ff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XI Measurement Modu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5" name=""/>
          <p:cNvGrpSpPr/>
          <p:nvPr/>
        </p:nvGrpSpPr>
        <p:grpSpPr>
          <a:xfrm>
            <a:off x="7827840" y="1938240"/>
            <a:ext cx="459000" cy="1920960"/>
            <a:chOff x="7827840" y="1938240"/>
            <a:chExt cx="459000" cy="1920960"/>
          </a:xfrm>
        </p:grpSpPr>
        <p:sp>
          <p:nvSpPr>
            <p:cNvPr id="456" name=""/>
            <p:cNvSpPr/>
            <p:nvPr/>
          </p:nvSpPr>
          <p:spPr>
            <a:xfrm flipH="1">
              <a:off x="7827840" y="1938240"/>
              <a:ext cx="346320" cy="0"/>
            </a:xfrm>
            <a:prstGeom prst="line">
              <a:avLst/>
            </a:prstGeom>
            <a:ln cap="rnd" w="38160">
              <a:solidFill>
                <a:srgbClr val="dd8a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827840" y="1957320"/>
              <a:ext cx="17640" cy="1901880"/>
            </a:xfrm>
            <a:prstGeom prst="line">
              <a:avLst/>
            </a:prstGeom>
            <a:ln cap="rnd" w="38160">
              <a:solidFill>
                <a:srgbClr val="dd8a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7864560" y="3841920"/>
              <a:ext cx="422280" cy="17280"/>
            </a:xfrm>
            <a:prstGeom prst="line">
              <a:avLst/>
            </a:prstGeom>
            <a:ln cap="rnd" w="38160">
              <a:solidFill>
                <a:srgbClr val="dd8a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312840" y="2479680"/>
            <a:ext cx="8008560" cy="3917520"/>
            <a:chOff x="312840" y="2479680"/>
            <a:chExt cx="8008560" cy="3917520"/>
          </a:xfrm>
        </p:grpSpPr>
        <p:sp>
          <p:nvSpPr>
            <p:cNvPr id="460" name=""/>
            <p:cNvSpPr/>
            <p:nvPr/>
          </p:nvSpPr>
          <p:spPr>
            <a:xfrm flipH="1">
              <a:off x="6767280" y="2629080"/>
              <a:ext cx="1554120" cy="798480"/>
            </a:xfrm>
            <a:prstGeom prst="line">
              <a:avLst/>
            </a:prstGeom>
            <a:ln cap="rnd" w="28440">
              <a:solidFill>
                <a:srgbClr val="a8adb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1322280" y="5200560"/>
              <a:ext cx="216000" cy="1184040"/>
              <a:chOff x="1322280" y="5200560"/>
              <a:chExt cx="216000" cy="1184040"/>
            </a:xfrm>
          </p:grpSpPr>
          <p:sp>
            <p:nvSpPr>
              <p:cNvPr id="462" name=""/>
              <p:cNvSpPr/>
              <p:nvPr/>
            </p:nvSpPr>
            <p:spPr>
              <a:xfrm>
                <a:off x="1322280" y="5200560"/>
                <a:ext cx="216000" cy="1184040"/>
              </a:xfrm>
              <a:custGeom>
                <a:avLst/>
                <a:gdLst/>
                <a:ahLst/>
                <a:rect l="l" t="t" r="r" b="b"/>
                <a:pathLst>
                  <a:path w="82" h="550">
                    <a:moveTo>
                      <a:pt x="73" y="549"/>
                    </a:moveTo>
                    <a:lnTo>
                      <a:pt x="74" y="549"/>
                    </a:lnTo>
                    <a:lnTo>
                      <a:pt x="74" y="549"/>
                    </a:lnTo>
                    <a:lnTo>
                      <a:pt x="76" y="549"/>
                    </a:lnTo>
                    <a:lnTo>
                      <a:pt x="76" y="548"/>
                    </a:lnTo>
                    <a:lnTo>
                      <a:pt x="77" y="548"/>
                    </a:lnTo>
                    <a:lnTo>
                      <a:pt x="77" y="548"/>
                    </a:lnTo>
                    <a:lnTo>
                      <a:pt x="77" y="547"/>
                    </a:lnTo>
                    <a:lnTo>
                      <a:pt x="78" y="547"/>
                    </a:lnTo>
                    <a:lnTo>
                      <a:pt x="78" y="546"/>
                    </a:lnTo>
                    <a:lnTo>
                      <a:pt x="79" y="546"/>
                    </a:lnTo>
                    <a:lnTo>
                      <a:pt x="79" y="545"/>
                    </a:lnTo>
                    <a:lnTo>
                      <a:pt x="79" y="545"/>
                    </a:lnTo>
                    <a:lnTo>
                      <a:pt x="79" y="544"/>
                    </a:lnTo>
                    <a:lnTo>
                      <a:pt x="79" y="544"/>
                    </a:lnTo>
                    <a:lnTo>
                      <a:pt x="79" y="543"/>
                    </a:lnTo>
                    <a:lnTo>
                      <a:pt x="81" y="543"/>
                    </a:lnTo>
                    <a:lnTo>
                      <a:pt x="81" y="5"/>
                    </a:lnTo>
                    <a:lnTo>
                      <a:pt x="79" y="4"/>
                    </a:lnTo>
                    <a:lnTo>
                      <a:pt x="79" y="4"/>
                    </a:lnTo>
                    <a:lnTo>
                      <a:pt x="79" y="3"/>
                    </a:lnTo>
                    <a:lnTo>
                      <a:pt x="79" y="3"/>
                    </a:lnTo>
                    <a:lnTo>
                      <a:pt x="79" y="2"/>
                    </a:lnTo>
                    <a:lnTo>
                      <a:pt x="79" y="2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7" y="0"/>
                    </a:lnTo>
                    <a:lnTo>
                      <a:pt x="77" y="0"/>
                    </a:lnTo>
                    <a:lnTo>
                      <a:pt x="77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7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543"/>
                    </a:lnTo>
                    <a:lnTo>
                      <a:pt x="0" y="543"/>
                    </a:lnTo>
                    <a:lnTo>
                      <a:pt x="0" y="544"/>
                    </a:lnTo>
                    <a:lnTo>
                      <a:pt x="0" y="544"/>
                    </a:lnTo>
                    <a:lnTo>
                      <a:pt x="1" y="545"/>
                    </a:lnTo>
                    <a:lnTo>
                      <a:pt x="1" y="546"/>
                    </a:lnTo>
                    <a:lnTo>
                      <a:pt x="1" y="546"/>
                    </a:lnTo>
                    <a:lnTo>
                      <a:pt x="1" y="547"/>
                    </a:lnTo>
                    <a:lnTo>
                      <a:pt x="2" y="547"/>
                    </a:lnTo>
                    <a:lnTo>
                      <a:pt x="2" y="548"/>
                    </a:lnTo>
                    <a:lnTo>
                      <a:pt x="2" y="548"/>
                    </a:lnTo>
                    <a:lnTo>
                      <a:pt x="3" y="548"/>
                    </a:lnTo>
                    <a:lnTo>
                      <a:pt x="3" y="549"/>
                    </a:lnTo>
                    <a:lnTo>
                      <a:pt x="4" y="549"/>
                    </a:lnTo>
                    <a:lnTo>
                      <a:pt x="4" y="549"/>
                    </a:lnTo>
                    <a:lnTo>
                      <a:pt x="6" y="549"/>
                    </a:lnTo>
                    <a:lnTo>
                      <a:pt x="6" y="549"/>
                    </a:lnTo>
                    <a:lnTo>
                      <a:pt x="73" y="549"/>
                    </a:lnTo>
                  </a:path>
                </a:pathLst>
              </a:custGeom>
              <a:solidFill>
                <a:srgbClr val="f2f2da"/>
              </a:solidFill>
              <a:ln cap="rnd"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405800" y="5407200"/>
                <a:ext cx="98640" cy="753480"/>
              </a:xfrm>
              <a:custGeom>
                <a:avLst/>
                <a:gdLst/>
                <a:ahLst/>
                <a:rect l="l" t="t" r="r" b="b"/>
                <a:pathLst>
                  <a:path w="37" h="350">
                    <a:moveTo>
                      <a:pt x="29" y="349"/>
                    </a:moveTo>
                    <a:lnTo>
                      <a:pt x="29" y="348"/>
                    </a:lnTo>
                    <a:lnTo>
                      <a:pt x="31" y="348"/>
                    </a:lnTo>
                    <a:lnTo>
                      <a:pt x="31" y="348"/>
                    </a:lnTo>
                    <a:lnTo>
                      <a:pt x="31" y="348"/>
                    </a:lnTo>
                    <a:lnTo>
                      <a:pt x="32" y="348"/>
                    </a:lnTo>
                    <a:lnTo>
                      <a:pt x="32" y="348"/>
                    </a:lnTo>
                    <a:lnTo>
                      <a:pt x="32" y="348"/>
                    </a:lnTo>
                    <a:lnTo>
                      <a:pt x="32" y="348"/>
                    </a:lnTo>
                    <a:lnTo>
                      <a:pt x="32" y="347"/>
                    </a:lnTo>
                    <a:lnTo>
                      <a:pt x="34" y="347"/>
                    </a:lnTo>
                    <a:lnTo>
                      <a:pt x="34" y="347"/>
                    </a:lnTo>
                    <a:lnTo>
                      <a:pt x="34" y="346"/>
                    </a:lnTo>
                    <a:lnTo>
                      <a:pt x="34" y="346"/>
                    </a:lnTo>
                    <a:lnTo>
                      <a:pt x="34" y="346"/>
                    </a:lnTo>
                    <a:lnTo>
                      <a:pt x="36" y="346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45"/>
                    </a:lnTo>
                    <a:lnTo>
                      <a:pt x="0" y="346"/>
                    </a:lnTo>
                    <a:lnTo>
                      <a:pt x="0" y="346"/>
                    </a:lnTo>
                    <a:lnTo>
                      <a:pt x="0" y="346"/>
                    </a:lnTo>
                    <a:lnTo>
                      <a:pt x="0" y="347"/>
                    </a:lnTo>
                    <a:lnTo>
                      <a:pt x="0" y="347"/>
                    </a:lnTo>
                    <a:lnTo>
                      <a:pt x="0" y="347"/>
                    </a:lnTo>
                    <a:lnTo>
                      <a:pt x="0" y="348"/>
                    </a:lnTo>
                    <a:lnTo>
                      <a:pt x="0" y="348"/>
                    </a:lnTo>
                    <a:lnTo>
                      <a:pt x="1" y="348"/>
                    </a:lnTo>
                    <a:lnTo>
                      <a:pt x="1" y="349"/>
                    </a:lnTo>
                    <a:lnTo>
                      <a:pt x="1" y="349"/>
                    </a:lnTo>
                    <a:lnTo>
                      <a:pt x="3" y="349"/>
                    </a:lnTo>
                    <a:lnTo>
                      <a:pt x="3" y="349"/>
                    </a:lnTo>
                    <a:lnTo>
                      <a:pt x="3" y="349"/>
                    </a:lnTo>
                    <a:lnTo>
                      <a:pt x="3" y="349"/>
                    </a:lnTo>
                    <a:lnTo>
                      <a:pt x="4" y="349"/>
                    </a:lnTo>
                    <a:lnTo>
                      <a:pt x="29" y="349"/>
                    </a:lnTo>
                  </a:path>
                </a:pathLst>
              </a:custGeom>
              <a:solidFill>
                <a:srgbClr val="7f7f7f"/>
              </a:solidFill>
              <a:ln cap="rnd"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58640" y="6323400"/>
                <a:ext cx="98640" cy="5760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18" y="0"/>
                    </a:moveTo>
                    <a:lnTo>
                      <a:pt x="1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7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6" y="16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5" y="23"/>
                    </a:lnTo>
                    <a:lnTo>
                      <a:pt x="25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2f2da"/>
              </a:solidFill>
              <a:ln cap="rnd"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312840" y="2479680"/>
              <a:ext cx="4073400" cy="277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ttery Test - MeasurementStud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64040" y="3121200"/>
              <a:ext cx="1735200" cy="612720"/>
            </a:xfrm>
            <a:prstGeom prst="rect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a8adb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st batter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355920" y="3627000"/>
              <a:ext cx="1949400" cy="20732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19640" y="2637000"/>
              <a:ext cx="770040" cy="6318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2128680" y="5194440"/>
              <a:ext cx="234720" cy="1202760"/>
              <a:chOff x="2128680" y="5194440"/>
              <a:chExt cx="234720" cy="1202760"/>
            </a:xfrm>
          </p:grpSpPr>
          <p:sp>
            <p:nvSpPr>
              <p:cNvPr id="470" name=""/>
              <p:cNvSpPr/>
              <p:nvPr/>
            </p:nvSpPr>
            <p:spPr>
              <a:xfrm>
                <a:off x="2128680" y="5194440"/>
                <a:ext cx="234720" cy="1202760"/>
              </a:xfrm>
              <a:custGeom>
                <a:avLst/>
                <a:gdLst/>
                <a:ahLst/>
                <a:rect l="l" t="t" r="r" b="b"/>
                <a:pathLst>
                  <a:path w="82" h="550">
                    <a:moveTo>
                      <a:pt x="73" y="549"/>
                    </a:moveTo>
                    <a:lnTo>
                      <a:pt x="74" y="549"/>
                    </a:lnTo>
                    <a:lnTo>
                      <a:pt x="74" y="549"/>
                    </a:lnTo>
                    <a:lnTo>
                      <a:pt x="76" y="549"/>
                    </a:lnTo>
                    <a:lnTo>
                      <a:pt x="76" y="548"/>
                    </a:lnTo>
                    <a:lnTo>
                      <a:pt x="77" y="548"/>
                    </a:lnTo>
                    <a:lnTo>
                      <a:pt x="77" y="548"/>
                    </a:lnTo>
                    <a:lnTo>
                      <a:pt x="77" y="547"/>
                    </a:lnTo>
                    <a:lnTo>
                      <a:pt x="78" y="547"/>
                    </a:lnTo>
                    <a:lnTo>
                      <a:pt x="78" y="546"/>
                    </a:lnTo>
                    <a:lnTo>
                      <a:pt x="79" y="546"/>
                    </a:lnTo>
                    <a:lnTo>
                      <a:pt x="79" y="545"/>
                    </a:lnTo>
                    <a:lnTo>
                      <a:pt x="79" y="545"/>
                    </a:lnTo>
                    <a:lnTo>
                      <a:pt x="79" y="544"/>
                    </a:lnTo>
                    <a:lnTo>
                      <a:pt x="79" y="544"/>
                    </a:lnTo>
                    <a:lnTo>
                      <a:pt x="79" y="543"/>
                    </a:lnTo>
                    <a:lnTo>
                      <a:pt x="81" y="543"/>
                    </a:lnTo>
                    <a:lnTo>
                      <a:pt x="81" y="5"/>
                    </a:lnTo>
                    <a:lnTo>
                      <a:pt x="79" y="4"/>
                    </a:lnTo>
                    <a:lnTo>
                      <a:pt x="79" y="4"/>
                    </a:lnTo>
                    <a:lnTo>
                      <a:pt x="79" y="3"/>
                    </a:lnTo>
                    <a:lnTo>
                      <a:pt x="79" y="3"/>
                    </a:lnTo>
                    <a:lnTo>
                      <a:pt x="79" y="2"/>
                    </a:lnTo>
                    <a:lnTo>
                      <a:pt x="79" y="2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7" y="0"/>
                    </a:lnTo>
                    <a:lnTo>
                      <a:pt x="77" y="0"/>
                    </a:lnTo>
                    <a:lnTo>
                      <a:pt x="77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7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543"/>
                    </a:lnTo>
                    <a:lnTo>
                      <a:pt x="0" y="543"/>
                    </a:lnTo>
                    <a:lnTo>
                      <a:pt x="0" y="544"/>
                    </a:lnTo>
                    <a:lnTo>
                      <a:pt x="0" y="544"/>
                    </a:lnTo>
                    <a:lnTo>
                      <a:pt x="1" y="545"/>
                    </a:lnTo>
                    <a:lnTo>
                      <a:pt x="1" y="546"/>
                    </a:lnTo>
                    <a:lnTo>
                      <a:pt x="1" y="546"/>
                    </a:lnTo>
                    <a:lnTo>
                      <a:pt x="1" y="547"/>
                    </a:lnTo>
                    <a:lnTo>
                      <a:pt x="2" y="547"/>
                    </a:lnTo>
                    <a:lnTo>
                      <a:pt x="2" y="548"/>
                    </a:lnTo>
                    <a:lnTo>
                      <a:pt x="2" y="548"/>
                    </a:lnTo>
                    <a:lnTo>
                      <a:pt x="3" y="548"/>
                    </a:lnTo>
                    <a:lnTo>
                      <a:pt x="3" y="549"/>
                    </a:lnTo>
                    <a:lnTo>
                      <a:pt x="4" y="549"/>
                    </a:lnTo>
                    <a:lnTo>
                      <a:pt x="4" y="549"/>
                    </a:lnTo>
                    <a:lnTo>
                      <a:pt x="6" y="549"/>
                    </a:lnTo>
                    <a:lnTo>
                      <a:pt x="6" y="549"/>
                    </a:lnTo>
                    <a:lnTo>
                      <a:pt x="73" y="549"/>
                    </a:lnTo>
                  </a:path>
                </a:pathLst>
              </a:custGeom>
              <a:solidFill>
                <a:srgbClr val="f2f2da"/>
              </a:solidFill>
              <a:ln cap="rnd"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219400" y="5404320"/>
                <a:ext cx="107280" cy="765360"/>
              </a:xfrm>
              <a:custGeom>
                <a:avLst/>
                <a:gdLst/>
                <a:ahLst/>
                <a:rect l="l" t="t" r="r" b="b"/>
                <a:pathLst>
                  <a:path w="37" h="350">
                    <a:moveTo>
                      <a:pt x="29" y="349"/>
                    </a:moveTo>
                    <a:lnTo>
                      <a:pt x="29" y="348"/>
                    </a:lnTo>
                    <a:lnTo>
                      <a:pt x="31" y="348"/>
                    </a:lnTo>
                    <a:lnTo>
                      <a:pt x="31" y="348"/>
                    </a:lnTo>
                    <a:lnTo>
                      <a:pt x="31" y="348"/>
                    </a:lnTo>
                    <a:lnTo>
                      <a:pt x="32" y="348"/>
                    </a:lnTo>
                    <a:lnTo>
                      <a:pt x="32" y="348"/>
                    </a:lnTo>
                    <a:lnTo>
                      <a:pt x="32" y="348"/>
                    </a:lnTo>
                    <a:lnTo>
                      <a:pt x="32" y="348"/>
                    </a:lnTo>
                    <a:lnTo>
                      <a:pt x="32" y="347"/>
                    </a:lnTo>
                    <a:lnTo>
                      <a:pt x="34" y="347"/>
                    </a:lnTo>
                    <a:lnTo>
                      <a:pt x="34" y="347"/>
                    </a:lnTo>
                    <a:lnTo>
                      <a:pt x="34" y="346"/>
                    </a:lnTo>
                    <a:lnTo>
                      <a:pt x="34" y="346"/>
                    </a:lnTo>
                    <a:lnTo>
                      <a:pt x="34" y="346"/>
                    </a:lnTo>
                    <a:lnTo>
                      <a:pt x="36" y="346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45"/>
                    </a:lnTo>
                    <a:lnTo>
                      <a:pt x="0" y="346"/>
                    </a:lnTo>
                    <a:lnTo>
                      <a:pt x="0" y="346"/>
                    </a:lnTo>
                    <a:lnTo>
                      <a:pt x="0" y="346"/>
                    </a:lnTo>
                    <a:lnTo>
                      <a:pt x="0" y="347"/>
                    </a:lnTo>
                    <a:lnTo>
                      <a:pt x="0" y="347"/>
                    </a:lnTo>
                    <a:lnTo>
                      <a:pt x="0" y="347"/>
                    </a:lnTo>
                    <a:lnTo>
                      <a:pt x="0" y="348"/>
                    </a:lnTo>
                    <a:lnTo>
                      <a:pt x="0" y="348"/>
                    </a:lnTo>
                    <a:lnTo>
                      <a:pt x="1" y="348"/>
                    </a:lnTo>
                    <a:lnTo>
                      <a:pt x="1" y="349"/>
                    </a:lnTo>
                    <a:lnTo>
                      <a:pt x="1" y="349"/>
                    </a:lnTo>
                    <a:lnTo>
                      <a:pt x="3" y="349"/>
                    </a:lnTo>
                    <a:lnTo>
                      <a:pt x="3" y="349"/>
                    </a:lnTo>
                    <a:lnTo>
                      <a:pt x="3" y="349"/>
                    </a:lnTo>
                    <a:lnTo>
                      <a:pt x="3" y="349"/>
                    </a:lnTo>
                    <a:lnTo>
                      <a:pt x="4" y="349"/>
                    </a:lnTo>
                    <a:lnTo>
                      <a:pt x="29" y="349"/>
                    </a:lnTo>
                  </a:path>
                </a:pathLst>
              </a:custGeom>
              <a:solidFill>
                <a:srgbClr val="7f7f7f"/>
              </a:solidFill>
              <a:ln cap="rnd"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168280" y="6334920"/>
                <a:ext cx="10728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18" y="0"/>
                    </a:moveTo>
                    <a:lnTo>
                      <a:pt x="1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7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6" y="16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5" y="23"/>
                    </a:lnTo>
                    <a:lnTo>
                      <a:pt x="25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2f2da"/>
              </a:solidFill>
              <a:ln cap="rnd"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987480" y="5526000"/>
              <a:ext cx="3405240" cy="4597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XI-DAQ +SCX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12840" y="2760840"/>
            <a:ext cx="7956360" cy="4025880"/>
            <a:chOff x="312840" y="2760840"/>
            <a:chExt cx="7956360" cy="4025880"/>
          </a:xfrm>
        </p:grpSpPr>
        <p:sp>
          <p:nvSpPr>
            <p:cNvPr id="475" name=""/>
            <p:cNvSpPr/>
            <p:nvPr/>
          </p:nvSpPr>
          <p:spPr>
            <a:xfrm>
              <a:off x="6178680" y="4816440"/>
              <a:ext cx="20905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c81b5"/>
                  </a:solidFill>
                  <a:latin typeface="Arial"/>
                </a:rPr>
                <a:t>RF Test Instrument – GPIB et VX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6" name="" descr=""/>
            <p:cNvPicPr/>
            <p:nvPr/>
          </p:nvPicPr>
          <p:blipFill>
            <a:blip r:embed="rId6"/>
            <a:stretch/>
          </p:blipFill>
          <p:spPr>
            <a:xfrm>
              <a:off x="4616280" y="4897440"/>
              <a:ext cx="17240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7" name=""/>
            <p:cNvGrpSpPr/>
            <p:nvPr/>
          </p:nvGrpSpPr>
          <p:grpSpPr>
            <a:xfrm>
              <a:off x="312840" y="2760840"/>
              <a:ext cx="7812000" cy="4025880"/>
              <a:chOff x="312840" y="2760840"/>
              <a:chExt cx="7812000" cy="4025880"/>
            </a:xfrm>
          </p:grpSpPr>
          <p:sp>
            <p:nvSpPr>
              <p:cNvPr id="478" name=""/>
              <p:cNvSpPr/>
              <p:nvPr/>
            </p:nvSpPr>
            <p:spPr>
              <a:xfrm>
                <a:off x="1338120" y="5730840"/>
                <a:ext cx="4283280" cy="947880"/>
              </a:xfrm>
              <a:custGeom>
                <a:avLst/>
                <a:gdLst/>
                <a:ahLst/>
                <a:rect l="l" t="t" r="r" b="b"/>
                <a:pathLst>
                  <a:path w="2698" h="597">
                    <a:moveTo>
                      <a:pt x="298" y="359"/>
                    </a:moveTo>
                    <a:cubicBezTo>
                      <a:pt x="149" y="478"/>
                      <a:pt x="0" y="597"/>
                      <a:pt x="343" y="551"/>
                    </a:cubicBezTo>
                    <a:cubicBezTo>
                      <a:pt x="686" y="505"/>
                      <a:pt x="2012" y="168"/>
                      <a:pt x="2355" y="84"/>
                    </a:cubicBezTo>
                    <a:cubicBezTo>
                      <a:pt x="2698" y="0"/>
                      <a:pt x="2549" y="24"/>
                      <a:pt x="2401" y="48"/>
                    </a:cubicBezTo>
                  </a:path>
                </a:pathLst>
              </a:custGeom>
              <a:noFill/>
              <a:ln cap="rnd" w="57240">
                <a:solidFill>
                  <a:srgbClr val="bebe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043000" y="6126120"/>
                <a:ext cx="3686400" cy="490680"/>
              </a:xfrm>
              <a:custGeom>
                <a:avLst/>
                <a:gdLst/>
                <a:ahLst/>
                <a:rect l="l" t="t" r="r" b="b"/>
                <a:pathLst>
                  <a:path w="2322" h="309">
                    <a:moveTo>
                      <a:pt x="0" y="0"/>
                    </a:moveTo>
                    <a:cubicBezTo>
                      <a:pt x="186" y="128"/>
                      <a:pt x="372" y="257"/>
                      <a:pt x="658" y="283"/>
                    </a:cubicBezTo>
                    <a:cubicBezTo>
                      <a:pt x="944" y="309"/>
                      <a:pt x="1455" y="157"/>
                      <a:pt x="1719" y="155"/>
                    </a:cubicBezTo>
                    <a:cubicBezTo>
                      <a:pt x="1983" y="153"/>
                      <a:pt x="2158" y="265"/>
                      <a:pt x="2240" y="274"/>
                    </a:cubicBezTo>
                    <a:cubicBezTo>
                      <a:pt x="2322" y="283"/>
                      <a:pt x="2267" y="246"/>
                      <a:pt x="2213" y="210"/>
                    </a:cubicBezTo>
                  </a:path>
                </a:pathLst>
              </a:custGeom>
              <a:noFill/>
              <a:ln cap="rnd" w="76320">
                <a:solidFill>
                  <a:srgbClr val="a8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12840" y="2760840"/>
                <a:ext cx="4035240" cy="203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F Testing Module- LabVIE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1" name=""/>
              <p:cNvGrpSpPr/>
              <p:nvPr/>
            </p:nvGrpSpPr>
            <p:grpSpPr>
              <a:xfrm>
                <a:off x="992160" y="3338640"/>
                <a:ext cx="7132680" cy="3061800"/>
                <a:chOff x="992160" y="3338640"/>
                <a:chExt cx="7132680" cy="306180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5072040" y="4029120"/>
                  <a:ext cx="1735200" cy="612720"/>
                </a:xfrm>
                <a:prstGeom prst="rect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a8adb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est R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V="1">
                  <a:off x="3713040" y="4382640"/>
                  <a:ext cx="1436760" cy="12049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6846840" y="3338640"/>
                  <a:ext cx="1278000" cy="1001520"/>
                </a:xfrm>
                <a:prstGeom prst="line">
                  <a:avLst/>
                </a:prstGeom>
                <a:ln cap="rnd" w="57240">
                  <a:solidFill>
                    <a:srgbClr val="a8adb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5" name=""/>
                <p:cNvGrpSpPr/>
                <p:nvPr/>
              </p:nvGrpSpPr>
              <p:grpSpPr>
                <a:xfrm>
                  <a:off x="1562040" y="5173560"/>
                  <a:ext cx="206280" cy="1217520"/>
                  <a:chOff x="1562040" y="5173560"/>
                  <a:chExt cx="206280" cy="121752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1562040" y="5173560"/>
                    <a:ext cx="206280" cy="12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550">
                        <a:moveTo>
                          <a:pt x="73" y="549"/>
                        </a:moveTo>
                        <a:lnTo>
                          <a:pt x="74" y="549"/>
                        </a:lnTo>
                        <a:lnTo>
                          <a:pt x="74" y="549"/>
                        </a:lnTo>
                        <a:lnTo>
                          <a:pt x="76" y="549"/>
                        </a:lnTo>
                        <a:lnTo>
                          <a:pt x="76" y="548"/>
                        </a:lnTo>
                        <a:lnTo>
                          <a:pt x="77" y="548"/>
                        </a:lnTo>
                        <a:lnTo>
                          <a:pt x="77" y="548"/>
                        </a:lnTo>
                        <a:lnTo>
                          <a:pt x="77" y="547"/>
                        </a:lnTo>
                        <a:lnTo>
                          <a:pt x="78" y="547"/>
                        </a:lnTo>
                        <a:lnTo>
                          <a:pt x="78" y="546"/>
                        </a:lnTo>
                        <a:lnTo>
                          <a:pt x="79" y="546"/>
                        </a:lnTo>
                        <a:lnTo>
                          <a:pt x="79" y="545"/>
                        </a:lnTo>
                        <a:lnTo>
                          <a:pt x="79" y="545"/>
                        </a:lnTo>
                        <a:lnTo>
                          <a:pt x="79" y="544"/>
                        </a:lnTo>
                        <a:lnTo>
                          <a:pt x="79" y="544"/>
                        </a:lnTo>
                        <a:lnTo>
                          <a:pt x="79" y="543"/>
                        </a:lnTo>
                        <a:lnTo>
                          <a:pt x="81" y="543"/>
                        </a:lnTo>
                        <a:lnTo>
                          <a:pt x="81" y="5"/>
                        </a:lnTo>
                        <a:lnTo>
                          <a:pt x="79" y="4"/>
                        </a:lnTo>
                        <a:lnTo>
                          <a:pt x="79" y="4"/>
                        </a:lnTo>
                        <a:lnTo>
                          <a:pt x="79" y="3"/>
                        </a:lnTo>
                        <a:lnTo>
                          <a:pt x="79" y="3"/>
                        </a:lnTo>
                        <a:lnTo>
                          <a:pt x="79" y="2"/>
                        </a:lnTo>
                        <a:lnTo>
                          <a:pt x="79" y="2"/>
                        </a:lnTo>
                        <a:lnTo>
                          <a:pt x="78" y="1"/>
                        </a:lnTo>
                        <a:lnTo>
                          <a:pt x="78" y="1"/>
                        </a:lnTo>
                        <a:lnTo>
                          <a:pt x="77" y="0"/>
                        </a:lnTo>
                        <a:lnTo>
                          <a:pt x="77" y="0"/>
                        </a:lnTo>
                        <a:lnTo>
                          <a:pt x="77" y="0"/>
                        </a:lnTo>
                        <a:lnTo>
                          <a:pt x="76" y="0"/>
                        </a:lnTo>
                        <a:lnTo>
                          <a:pt x="76" y="0"/>
                        </a:lnTo>
                        <a:lnTo>
                          <a:pt x="74" y="0"/>
                        </a:lnTo>
                        <a:lnTo>
                          <a:pt x="74" y="0"/>
                        </a:lnTo>
                        <a:lnTo>
                          <a:pt x="73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543"/>
                        </a:lnTo>
                        <a:lnTo>
                          <a:pt x="0" y="543"/>
                        </a:lnTo>
                        <a:lnTo>
                          <a:pt x="0" y="544"/>
                        </a:lnTo>
                        <a:lnTo>
                          <a:pt x="0" y="544"/>
                        </a:lnTo>
                        <a:lnTo>
                          <a:pt x="1" y="545"/>
                        </a:lnTo>
                        <a:lnTo>
                          <a:pt x="1" y="546"/>
                        </a:lnTo>
                        <a:lnTo>
                          <a:pt x="1" y="546"/>
                        </a:lnTo>
                        <a:lnTo>
                          <a:pt x="1" y="547"/>
                        </a:lnTo>
                        <a:lnTo>
                          <a:pt x="2" y="547"/>
                        </a:lnTo>
                        <a:lnTo>
                          <a:pt x="2" y="548"/>
                        </a:lnTo>
                        <a:lnTo>
                          <a:pt x="2" y="548"/>
                        </a:lnTo>
                        <a:lnTo>
                          <a:pt x="3" y="548"/>
                        </a:lnTo>
                        <a:lnTo>
                          <a:pt x="3" y="549"/>
                        </a:lnTo>
                        <a:lnTo>
                          <a:pt x="4" y="549"/>
                        </a:lnTo>
                        <a:lnTo>
                          <a:pt x="4" y="549"/>
                        </a:lnTo>
                        <a:lnTo>
                          <a:pt x="6" y="549"/>
                        </a:lnTo>
                        <a:lnTo>
                          <a:pt x="6" y="549"/>
                        </a:lnTo>
                        <a:lnTo>
                          <a:pt x="73" y="549"/>
                        </a:lnTo>
                      </a:path>
                    </a:pathLst>
                  </a:custGeom>
                  <a:solidFill>
                    <a:srgbClr val="f2f2da"/>
                  </a:solidFill>
                  <a:ln cap="rnd" w="1260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1641600" y="5385960"/>
                    <a:ext cx="93960" cy="77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50">
                        <a:moveTo>
                          <a:pt x="29" y="349"/>
                        </a:moveTo>
                        <a:lnTo>
                          <a:pt x="29" y="348"/>
                        </a:lnTo>
                        <a:lnTo>
                          <a:pt x="31" y="348"/>
                        </a:lnTo>
                        <a:lnTo>
                          <a:pt x="31" y="348"/>
                        </a:lnTo>
                        <a:lnTo>
                          <a:pt x="31" y="348"/>
                        </a:lnTo>
                        <a:lnTo>
                          <a:pt x="32" y="348"/>
                        </a:lnTo>
                        <a:lnTo>
                          <a:pt x="32" y="348"/>
                        </a:lnTo>
                        <a:lnTo>
                          <a:pt x="32" y="348"/>
                        </a:lnTo>
                        <a:lnTo>
                          <a:pt x="32" y="348"/>
                        </a:lnTo>
                        <a:lnTo>
                          <a:pt x="32" y="347"/>
                        </a:lnTo>
                        <a:lnTo>
                          <a:pt x="34" y="347"/>
                        </a:lnTo>
                        <a:lnTo>
                          <a:pt x="34" y="347"/>
                        </a:lnTo>
                        <a:lnTo>
                          <a:pt x="34" y="346"/>
                        </a:lnTo>
                        <a:lnTo>
                          <a:pt x="34" y="346"/>
                        </a:lnTo>
                        <a:lnTo>
                          <a:pt x="34" y="346"/>
                        </a:lnTo>
                        <a:lnTo>
                          <a:pt x="36" y="346"/>
                        </a:lnTo>
                        <a:lnTo>
                          <a:pt x="36" y="4"/>
                        </a:lnTo>
                        <a:lnTo>
                          <a:pt x="34" y="4"/>
                        </a:lnTo>
                        <a:lnTo>
                          <a:pt x="34" y="3"/>
                        </a:lnTo>
                        <a:lnTo>
                          <a:pt x="34" y="3"/>
                        </a:lnTo>
                        <a:lnTo>
                          <a:pt x="34" y="2"/>
                        </a:lnTo>
                        <a:lnTo>
                          <a:pt x="34" y="2"/>
                        </a:lnTo>
                        <a:lnTo>
                          <a:pt x="34" y="1"/>
                        </a:lnTo>
                        <a:lnTo>
                          <a:pt x="32" y="1"/>
                        </a:lnTo>
                        <a:lnTo>
                          <a:pt x="32" y="1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345"/>
                        </a:lnTo>
                        <a:lnTo>
                          <a:pt x="0" y="346"/>
                        </a:lnTo>
                        <a:lnTo>
                          <a:pt x="0" y="346"/>
                        </a:lnTo>
                        <a:lnTo>
                          <a:pt x="0" y="346"/>
                        </a:lnTo>
                        <a:lnTo>
                          <a:pt x="0" y="347"/>
                        </a:lnTo>
                        <a:lnTo>
                          <a:pt x="0" y="347"/>
                        </a:lnTo>
                        <a:lnTo>
                          <a:pt x="0" y="347"/>
                        </a:lnTo>
                        <a:lnTo>
                          <a:pt x="0" y="348"/>
                        </a:lnTo>
                        <a:lnTo>
                          <a:pt x="0" y="348"/>
                        </a:lnTo>
                        <a:lnTo>
                          <a:pt x="1" y="348"/>
                        </a:lnTo>
                        <a:lnTo>
                          <a:pt x="1" y="349"/>
                        </a:lnTo>
                        <a:lnTo>
                          <a:pt x="1" y="349"/>
                        </a:lnTo>
                        <a:lnTo>
                          <a:pt x="3" y="349"/>
                        </a:lnTo>
                        <a:lnTo>
                          <a:pt x="3" y="349"/>
                        </a:lnTo>
                        <a:lnTo>
                          <a:pt x="3" y="349"/>
                        </a:lnTo>
                        <a:lnTo>
                          <a:pt x="3" y="349"/>
                        </a:lnTo>
                        <a:lnTo>
                          <a:pt x="4" y="349"/>
                        </a:lnTo>
                        <a:lnTo>
                          <a:pt x="29" y="349"/>
                        </a:lnTo>
                      </a:path>
                    </a:pathLst>
                  </a:custGeom>
                  <a:solidFill>
                    <a:srgbClr val="7f7f7f"/>
                  </a:solidFill>
                  <a:ln cap="rnd" w="1260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1596960" y="6328080"/>
                    <a:ext cx="9396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27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8" y="2"/>
                        </a:lnTo>
                        <a:lnTo>
                          <a:pt x="28" y="2"/>
                        </a:lnTo>
                        <a:lnTo>
                          <a:pt x="28" y="2"/>
                        </a:lnTo>
                        <a:lnTo>
                          <a:pt x="32" y="4"/>
                        </a:lnTo>
                        <a:lnTo>
                          <a:pt x="32" y="4"/>
                        </a:lnTo>
                        <a:lnTo>
                          <a:pt x="32" y="4"/>
                        </a:lnTo>
                        <a:lnTo>
                          <a:pt x="32" y="7"/>
                        </a:lnTo>
                        <a:lnTo>
                          <a:pt x="36" y="7"/>
                        </a:lnTo>
                        <a:lnTo>
                          <a:pt x="36" y="9"/>
                        </a:lnTo>
                        <a:lnTo>
                          <a:pt x="36" y="11"/>
                        </a:lnTo>
                        <a:lnTo>
                          <a:pt x="36" y="11"/>
                        </a:lnTo>
                        <a:lnTo>
                          <a:pt x="36" y="14"/>
                        </a:lnTo>
                        <a:lnTo>
                          <a:pt x="36" y="14"/>
                        </a:lnTo>
                        <a:lnTo>
                          <a:pt x="36" y="16"/>
                        </a:lnTo>
                        <a:lnTo>
                          <a:pt x="32" y="18"/>
                        </a:lnTo>
                        <a:lnTo>
                          <a:pt x="32" y="18"/>
                        </a:lnTo>
                        <a:lnTo>
                          <a:pt x="32" y="21"/>
                        </a:lnTo>
                        <a:lnTo>
                          <a:pt x="32" y="21"/>
                        </a:lnTo>
                        <a:lnTo>
                          <a:pt x="28" y="21"/>
                        </a:lnTo>
                        <a:lnTo>
                          <a:pt x="28" y="23"/>
                        </a:lnTo>
                        <a:lnTo>
                          <a:pt x="28" y="23"/>
                        </a:lnTo>
                        <a:lnTo>
                          <a:pt x="25" y="23"/>
                        </a:lnTo>
                        <a:lnTo>
                          <a:pt x="25" y="26"/>
                        </a:lnTo>
                        <a:lnTo>
                          <a:pt x="21" y="26"/>
                        </a:lnTo>
                        <a:lnTo>
                          <a:pt x="21" y="26"/>
                        </a:lnTo>
                        <a:lnTo>
                          <a:pt x="18" y="26"/>
                        </a:lnTo>
                        <a:lnTo>
                          <a:pt x="18" y="26"/>
                        </a:lnTo>
                        <a:lnTo>
                          <a:pt x="14" y="26"/>
                        </a:lnTo>
                        <a:lnTo>
                          <a:pt x="14" y="26"/>
                        </a:lnTo>
                        <a:lnTo>
                          <a:pt x="10" y="26"/>
                        </a:lnTo>
                        <a:lnTo>
                          <a:pt x="10" y="26"/>
                        </a:lnTo>
                        <a:lnTo>
                          <a:pt x="7" y="23"/>
                        </a:lnTo>
                        <a:lnTo>
                          <a:pt x="7" y="23"/>
                        </a:lnTo>
                        <a:lnTo>
                          <a:pt x="7" y="23"/>
                        </a:lnTo>
                        <a:lnTo>
                          <a:pt x="3" y="21"/>
                        </a:lnTo>
                        <a:lnTo>
                          <a:pt x="3" y="21"/>
                        </a:lnTo>
                        <a:lnTo>
                          <a:pt x="3" y="21"/>
                        </a:lnTo>
                        <a:lnTo>
                          <a:pt x="3" y="18"/>
                        </a:lnTo>
                        <a:lnTo>
                          <a:pt x="0" y="18"/>
                        </a:lnTo>
                        <a:lnTo>
                          <a:pt x="0" y="16"/>
                        </a:lnTo>
                        <a:lnTo>
                          <a:pt x="0" y="14"/>
                        </a:lnTo>
                        <a:lnTo>
                          <a:pt x="0" y="14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  <a:lnTo>
                          <a:pt x="0" y="9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2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f2f2da"/>
                  </a:solidFill>
                  <a:ln cap="rnd" w="1260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1790640" y="5186520"/>
                  <a:ext cx="217440" cy="1213920"/>
                  <a:chOff x="1790640" y="5186520"/>
                  <a:chExt cx="217440" cy="121392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>
                    <a:off x="1790640" y="5186520"/>
                    <a:ext cx="217440" cy="121392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550">
                        <a:moveTo>
                          <a:pt x="73" y="549"/>
                        </a:moveTo>
                        <a:lnTo>
                          <a:pt x="74" y="549"/>
                        </a:lnTo>
                        <a:lnTo>
                          <a:pt x="74" y="549"/>
                        </a:lnTo>
                        <a:lnTo>
                          <a:pt x="76" y="549"/>
                        </a:lnTo>
                        <a:lnTo>
                          <a:pt x="76" y="548"/>
                        </a:lnTo>
                        <a:lnTo>
                          <a:pt x="77" y="548"/>
                        </a:lnTo>
                        <a:lnTo>
                          <a:pt x="77" y="548"/>
                        </a:lnTo>
                        <a:lnTo>
                          <a:pt x="77" y="547"/>
                        </a:lnTo>
                        <a:lnTo>
                          <a:pt x="78" y="547"/>
                        </a:lnTo>
                        <a:lnTo>
                          <a:pt x="78" y="546"/>
                        </a:lnTo>
                        <a:lnTo>
                          <a:pt x="79" y="546"/>
                        </a:lnTo>
                        <a:lnTo>
                          <a:pt x="79" y="545"/>
                        </a:lnTo>
                        <a:lnTo>
                          <a:pt x="79" y="545"/>
                        </a:lnTo>
                        <a:lnTo>
                          <a:pt x="79" y="544"/>
                        </a:lnTo>
                        <a:lnTo>
                          <a:pt x="79" y="544"/>
                        </a:lnTo>
                        <a:lnTo>
                          <a:pt x="79" y="543"/>
                        </a:lnTo>
                        <a:lnTo>
                          <a:pt x="81" y="543"/>
                        </a:lnTo>
                        <a:lnTo>
                          <a:pt x="81" y="5"/>
                        </a:lnTo>
                        <a:lnTo>
                          <a:pt x="79" y="4"/>
                        </a:lnTo>
                        <a:lnTo>
                          <a:pt x="79" y="4"/>
                        </a:lnTo>
                        <a:lnTo>
                          <a:pt x="79" y="3"/>
                        </a:lnTo>
                        <a:lnTo>
                          <a:pt x="79" y="3"/>
                        </a:lnTo>
                        <a:lnTo>
                          <a:pt x="79" y="2"/>
                        </a:lnTo>
                        <a:lnTo>
                          <a:pt x="79" y="2"/>
                        </a:lnTo>
                        <a:lnTo>
                          <a:pt x="78" y="1"/>
                        </a:lnTo>
                        <a:lnTo>
                          <a:pt x="78" y="1"/>
                        </a:lnTo>
                        <a:lnTo>
                          <a:pt x="77" y="0"/>
                        </a:lnTo>
                        <a:lnTo>
                          <a:pt x="77" y="0"/>
                        </a:lnTo>
                        <a:lnTo>
                          <a:pt x="77" y="0"/>
                        </a:lnTo>
                        <a:lnTo>
                          <a:pt x="76" y="0"/>
                        </a:lnTo>
                        <a:lnTo>
                          <a:pt x="76" y="0"/>
                        </a:lnTo>
                        <a:lnTo>
                          <a:pt x="74" y="0"/>
                        </a:lnTo>
                        <a:lnTo>
                          <a:pt x="74" y="0"/>
                        </a:lnTo>
                        <a:lnTo>
                          <a:pt x="73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543"/>
                        </a:lnTo>
                        <a:lnTo>
                          <a:pt x="0" y="543"/>
                        </a:lnTo>
                        <a:lnTo>
                          <a:pt x="0" y="544"/>
                        </a:lnTo>
                        <a:lnTo>
                          <a:pt x="0" y="544"/>
                        </a:lnTo>
                        <a:lnTo>
                          <a:pt x="1" y="545"/>
                        </a:lnTo>
                        <a:lnTo>
                          <a:pt x="1" y="546"/>
                        </a:lnTo>
                        <a:lnTo>
                          <a:pt x="1" y="546"/>
                        </a:lnTo>
                        <a:lnTo>
                          <a:pt x="1" y="547"/>
                        </a:lnTo>
                        <a:lnTo>
                          <a:pt x="2" y="547"/>
                        </a:lnTo>
                        <a:lnTo>
                          <a:pt x="2" y="548"/>
                        </a:lnTo>
                        <a:lnTo>
                          <a:pt x="2" y="548"/>
                        </a:lnTo>
                        <a:lnTo>
                          <a:pt x="3" y="548"/>
                        </a:lnTo>
                        <a:lnTo>
                          <a:pt x="3" y="549"/>
                        </a:lnTo>
                        <a:lnTo>
                          <a:pt x="4" y="549"/>
                        </a:lnTo>
                        <a:lnTo>
                          <a:pt x="4" y="549"/>
                        </a:lnTo>
                        <a:lnTo>
                          <a:pt x="6" y="549"/>
                        </a:lnTo>
                        <a:lnTo>
                          <a:pt x="6" y="549"/>
                        </a:lnTo>
                        <a:lnTo>
                          <a:pt x="73" y="549"/>
                        </a:lnTo>
                      </a:path>
                    </a:pathLst>
                  </a:custGeom>
                  <a:solidFill>
                    <a:srgbClr val="f2f2da"/>
                  </a:solidFill>
                  <a:ln cap="rnd" w="1260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1874520" y="5398200"/>
                    <a:ext cx="99000" cy="77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50">
                        <a:moveTo>
                          <a:pt x="29" y="349"/>
                        </a:moveTo>
                        <a:lnTo>
                          <a:pt x="29" y="348"/>
                        </a:lnTo>
                        <a:lnTo>
                          <a:pt x="31" y="348"/>
                        </a:lnTo>
                        <a:lnTo>
                          <a:pt x="31" y="348"/>
                        </a:lnTo>
                        <a:lnTo>
                          <a:pt x="31" y="348"/>
                        </a:lnTo>
                        <a:lnTo>
                          <a:pt x="32" y="348"/>
                        </a:lnTo>
                        <a:lnTo>
                          <a:pt x="32" y="348"/>
                        </a:lnTo>
                        <a:lnTo>
                          <a:pt x="32" y="348"/>
                        </a:lnTo>
                        <a:lnTo>
                          <a:pt x="32" y="348"/>
                        </a:lnTo>
                        <a:lnTo>
                          <a:pt x="32" y="347"/>
                        </a:lnTo>
                        <a:lnTo>
                          <a:pt x="34" y="347"/>
                        </a:lnTo>
                        <a:lnTo>
                          <a:pt x="34" y="347"/>
                        </a:lnTo>
                        <a:lnTo>
                          <a:pt x="34" y="346"/>
                        </a:lnTo>
                        <a:lnTo>
                          <a:pt x="34" y="346"/>
                        </a:lnTo>
                        <a:lnTo>
                          <a:pt x="34" y="346"/>
                        </a:lnTo>
                        <a:lnTo>
                          <a:pt x="36" y="346"/>
                        </a:lnTo>
                        <a:lnTo>
                          <a:pt x="36" y="4"/>
                        </a:lnTo>
                        <a:lnTo>
                          <a:pt x="34" y="4"/>
                        </a:lnTo>
                        <a:lnTo>
                          <a:pt x="34" y="3"/>
                        </a:lnTo>
                        <a:lnTo>
                          <a:pt x="34" y="3"/>
                        </a:lnTo>
                        <a:lnTo>
                          <a:pt x="34" y="2"/>
                        </a:lnTo>
                        <a:lnTo>
                          <a:pt x="34" y="2"/>
                        </a:lnTo>
                        <a:lnTo>
                          <a:pt x="34" y="1"/>
                        </a:lnTo>
                        <a:lnTo>
                          <a:pt x="32" y="1"/>
                        </a:lnTo>
                        <a:lnTo>
                          <a:pt x="32" y="1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345"/>
                        </a:lnTo>
                        <a:lnTo>
                          <a:pt x="0" y="346"/>
                        </a:lnTo>
                        <a:lnTo>
                          <a:pt x="0" y="346"/>
                        </a:lnTo>
                        <a:lnTo>
                          <a:pt x="0" y="346"/>
                        </a:lnTo>
                        <a:lnTo>
                          <a:pt x="0" y="347"/>
                        </a:lnTo>
                        <a:lnTo>
                          <a:pt x="0" y="347"/>
                        </a:lnTo>
                        <a:lnTo>
                          <a:pt x="0" y="347"/>
                        </a:lnTo>
                        <a:lnTo>
                          <a:pt x="0" y="348"/>
                        </a:lnTo>
                        <a:lnTo>
                          <a:pt x="0" y="348"/>
                        </a:lnTo>
                        <a:lnTo>
                          <a:pt x="1" y="348"/>
                        </a:lnTo>
                        <a:lnTo>
                          <a:pt x="1" y="349"/>
                        </a:lnTo>
                        <a:lnTo>
                          <a:pt x="1" y="349"/>
                        </a:lnTo>
                        <a:lnTo>
                          <a:pt x="3" y="349"/>
                        </a:lnTo>
                        <a:lnTo>
                          <a:pt x="3" y="349"/>
                        </a:lnTo>
                        <a:lnTo>
                          <a:pt x="3" y="349"/>
                        </a:lnTo>
                        <a:lnTo>
                          <a:pt x="3" y="349"/>
                        </a:lnTo>
                        <a:lnTo>
                          <a:pt x="4" y="349"/>
                        </a:lnTo>
                        <a:lnTo>
                          <a:pt x="29" y="349"/>
                        </a:lnTo>
                      </a:path>
                    </a:pathLst>
                  </a:custGeom>
                  <a:solidFill>
                    <a:srgbClr val="7f7f7f"/>
                  </a:solidFill>
                  <a:ln cap="rnd" w="1260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1827360" y="6337440"/>
                    <a:ext cx="990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27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8" y="2"/>
                        </a:lnTo>
                        <a:lnTo>
                          <a:pt x="28" y="2"/>
                        </a:lnTo>
                        <a:lnTo>
                          <a:pt x="28" y="2"/>
                        </a:lnTo>
                        <a:lnTo>
                          <a:pt x="32" y="4"/>
                        </a:lnTo>
                        <a:lnTo>
                          <a:pt x="32" y="4"/>
                        </a:lnTo>
                        <a:lnTo>
                          <a:pt x="32" y="4"/>
                        </a:lnTo>
                        <a:lnTo>
                          <a:pt x="32" y="7"/>
                        </a:lnTo>
                        <a:lnTo>
                          <a:pt x="36" y="7"/>
                        </a:lnTo>
                        <a:lnTo>
                          <a:pt x="36" y="9"/>
                        </a:lnTo>
                        <a:lnTo>
                          <a:pt x="36" y="11"/>
                        </a:lnTo>
                        <a:lnTo>
                          <a:pt x="36" y="11"/>
                        </a:lnTo>
                        <a:lnTo>
                          <a:pt x="36" y="14"/>
                        </a:lnTo>
                        <a:lnTo>
                          <a:pt x="36" y="14"/>
                        </a:lnTo>
                        <a:lnTo>
                          <a:pt x="36" y="16"/>
                        </a:lnTo>
                        <a:lnTo>
                          <a:pt x="32" y="18"/>
                        </a:lnTo>
                        <a:lnTo>
                          <a:pt x="32" y="18"/>
                        </a:lnTo>
                        <a:lnTo>
                          <a:pt x="32" y="21"/>
                        </a:lnTo>
                        <a:lnTo>
                          <a:pt x="32" y="21"/>
                        </a:lnTo>
                        <a:lnTo>
                          <a:pt x="28" y="21"/>
                        </a:lnTo>
                        <a:lnTo>
                          <a:pt x="28" y="23"/>
                        </a:lnTo>
                        <a:lnTo>
                          <a:pt x="28" y="23"/>
                        </a:lnTo>
                        <a:lnTo>
                          <a:pt x="25" y="23"/>
                        </a:lnTo>
                        <a:lnTo>
                          <a:pt x="25" y="26"/>
                        </a:lnTo>
                        <a:lnTo>
                          <a:pt x="21" y="26"/>
                        </a:lnTo>
                        <a:lnTo>
                          <a:pt x="21" y="26"/>
                        </a:lnTo>
                        <a:lnTo>
                          <a:pt x="18" y="26"/>
                        </a:lnTo>
                        <a:lnTo>
                          <a:pt x="18" y="26"/>
                        </a:lnTo>
                        <a:lnTo>
                          <a:pt x="14" y="26"/>
                        </a:lnTo>
                        <a:lnTo>
                          <a:pt x="14" y="26"/>
                        </a:lnTo>
                        <a:lnTo>
                          <a:pt x="10" y="26"/>
                        </a:lnTo>
                        <a:lnTo>
                          <a:pt x="10" y="26"/>
                        </a:lnTo>
                        <a:lnTo>
                          <a:pt x="7" y="23"/>
                        </a:lnTo>
                        <a:lnTo>
                          <a:pt x="7" y="23"/>
                        </a:lnTo>
                        <a:lnTo>
                          <a:pt x="7" y="23"/>
                        </a:lnTo>
                        <a:lnTo>
                          <a:pt x="3" y="21"/>
                        </a:lnTo>
                        <a:lnTo>
                          <a:pt x="3" y="21"/>
                        </a:lnTo>
                        <a:lnTo>
                          <a:pt x="3" y="21"/>
                        </a:lnTo>
                        <a:lnTo>
                          <a:pt x="3" y="18"/>
                        </a:lnTo>
                        <a:lnTo>
                          <a:pt x="0" y="18"/>
                        </a:lnTo>
                        <a:lnTo>
                          <a:pt x="0" y="16"/>
                        </a:lnTo>
                        <a:lnTo>
                          <a:pt x="0" y="14"/>
                        </a:lnTo>
                        <a:lnTo>
                          <a:pt x="0" y="14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  <a:lnTo>
                          <a:pt x="0" y="9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2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f2f2da"/>
                  </a:solidFill>
                  <a:ln cap="rnd" w="1260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3" name=""/>
                <p:cNvSpPr/>
                <p:nvPr/>
              </p:nvSpPr>
              <p:spPr>
                <a:xfrm>
                  <a:off x="992160" y="5537160"/>
                  <a:ext cx="3384720" cy="459720"/>
                </a:xfrm>
                <a:prstGeom prst="rect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XI-GPIB +PXI MX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494" name=""/>
              <p:cNvGraphicFramePr/>
              <p:nvPr/>
            </p:nvGraphicFramePr>
            <p:xfrm>
              <a:off x="5535720" y="5624640"/>
              <a:ext cx="1407960" cy="11620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9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535720" y="5624640"/>
                        <a:ext cx="1407960" cy="1162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96" name=""/>
              <p:cNvSpPr/>
              <p:nvPr/>
            </p:nvSpPr>
            <p:spPr>
              <a:xfrm>
                <a:off x="4264200" y="2846520"/>
                <a:ext cx="855360" cy="1406520"/>
              </a:xfrm>
              <a:prstGeom prst="line">
                <a:avLst/>
              </a:prstGeom>
              <a:ln cap="rnd" w="19080">
                <a:solidFill>
                  <a:srgbClr val="ff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Avantages d’un logiciel d’organisation de tests en produc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Développement amélioré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Duplication facilité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Réutilisation du c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Rationaliser la produ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Moyen de test intelligent, efficace et évolutif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Moteur d’exécution optimisé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Réduire la maintena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Éliminer l’obsolesce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Faciliter le support et la form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Acheter ou tout développer en interne ?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3886200" y="1467000"/>
            <a:ext cx="4267080" cy="4019400"/>
            <a:chOff x="3886200" y="1467000"/>
            <a:chExt cx="4267080" cy="4019400"/>
          </a:xfrm>
        </p:grpSpPr>
        <p:sp>
          <p:nvSpPr>
            <p:cNvPr id="501" name=""/>
            <p:cNvSpPr/>
            <p:nvPr/>
          </p:nvSpPr>
          <p:spPr>
            <a:xfrm>
              <a:off x="3898800" y="1467000"/>
              <a:ext cx="0" cy="401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86200" y="5486400"/>
              <a:ext cx="426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04920" y="1295280"/>
            <a:ext cx="3733560" cy="43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erface opérateur personnali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teur d’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erfaçage langages d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Évaluation du résul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Gestion des utilis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apports (XML, HTML, ASC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égration base de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égration comm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Gestion numéros de sé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hargement de s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hargement test des lim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ise à j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nvironnement de développ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15560" y="5538960"/>
            <a:ext cx="26312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ffort de développ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038480" y="1447920"/>
            <a:ext cx="5029200" cy="3809880"/>
            <a:chOff x="4038480" y="1447920"/>
            <a:chExt cx="5029200" cy="3809880"/>
          </a:xfrm>
        </p:grpSpPr>
        <p:sp>
          <p:nvSpPr>
            <p:cNvPr id="506" name=""/>
            <p:cNvSpPr/>
            <p:nvPr/>
          </p:nvSpPr>
          <p:spPr>
            <a:xfrm>
              <a:off x="4038480" y="1447920"/>
              <a:ext cx="35053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038480" y="1733760"/>
              <a:ext cx="44197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38480" y="2013120"/>
              <a:ext cx="274320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38480" y="2305080"/>
              <a:ext cx="15238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38480" y="2603520"/>
              <a:ext cx="137160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2908440"/>
              <a:ext cx="16765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38480" y="3200400"/>
              <a:ext cx="23623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38480" y="3505320"/>
              <a:ext cx="22096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38480" y="3810240"/>
              <a:ext cx="9907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38480" y="4114800"/>
              <a:ext cx="12193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38480" y="4419720"/>
              <a:ext cx="19810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38480" y="4724640"/>
              <a:ext cx="19810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38480" y="5029200"/>
              <a:ext cx="502920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6172200" y="1058760"/>
            <a:ext cx="457200" cy="228600"/>
          </a:xfrm>
          <a:prstGeom prst="rect">
            <a:avLst/>
          </a:prstGeom>
          <a:gradFill rotWithShape="0">
            <a:gsLst>
              <a:gs pos="0">
                <a:srgbClr val="fca594"/>
              </a:gs>
              <a:gs pos="100000">
                <a:srgbClr val="744c4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557760" y="100476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= Temps de développ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 Narrow"/>
              </a:rPr>
              <a:t>Réduction significative des coûts de développemen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3833640" y="1467000"/>
            <a:ext cx="4267080" cy="4019400"/>
            <a:chOff x="3833640" y="1467000"/>
            <a:chExt cx="4267080" cy="4019400"/>
          </a:xfrm>
        </p:grpSpPr>
        <p:sp>
          <p:nvSpPr>
            <p:cNvPr id="523" name=""/>
            <p:cNvSpPr/>
            <p:nvPr/>
          </p:nvSpPr>
          <p:spPr>
            <a:xfrm>
              <a:off x="3846240" y="1467000"/>
              <a:ext cx="0" cy="401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33640" y="5486400"/>
              <a:ext cx="426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304920" y="1295280"/>
            <a:ext cx="3657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erface opérateur personnali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teur d’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erfaçage langages d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Évaluation du résul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Gestion des utilis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apports (XML, HTML, ASC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égration base de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égration comm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Gestion numéros de sé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hargement de s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hargement test des lim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ise à j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nvironnement de développ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54720" y="5538960"/>
            <a:ext cx="2631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ffor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 de développ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3986280" y="1447920"/>
            <a:ext cx="5029200" cy="3809880"/>
            <a:chOff x="3986280" y="1447920"/>
            <a:chExt cx="5029200" cy="3809880"/>
          </a:xfrm>
        </p:grpSpPr>
        <p:sp>
          <p:nvSpPr>
            <p:cNvPr id="528" name=""/>
            <p:cNvSpPr/>
            <p:nvPr/>
          </p:nvSpPr>
          <p:spPr>
            <a:xfrm>
              <a:off x="3986280" y="1447920"/>
              <a:ext cx="35053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986280" y="1733760"/>
              <a:ext cx="44197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86280" y="2013120"/>
              <a:ext cx="274320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86280" y="2305080"/>
              <a:ext cx="15238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86280" y="2603520"/>
              <a:ext cx="137160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86280" y="2908440"/>
              <a:ext cx="16765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986280" y="3200400"/>
              <a:ext cx="23623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986280" y="3505320"/>
              <a:ext cx="22096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86280" y="3810240"/>
              <a:ext cx="9907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86280" y="4114800"/>
              <a:ext cx="12193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86280" y="4419720"/>
              <a:ext cx="19810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986280" y="4724640"/>
              <a:ext cx="19810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86280" y="5029200"/>
              <a:ext cx="502920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6832440" y="3276720"/>
            <a:ext cx="457200" cy="228600"/>
          </a:xfrm>
          <a:prstGeom prst="rect">
            <a:avLst/>
          </a:prstGeom>
          <a:gradFill rotWithShape="0">
            <a:gsLst>
              <a:gs pos="0">
                <a:srgbClr val="fca594"/>
              </a:gs>
              <a:gs pos="100000">
                <a:srgbClr val="744c4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44640" y="32004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ersonnalis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318080" y="388620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anda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estS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986280" y="1447920"/>
            <a:ext cx="4724280" cy="3809880"/>
            <a:chOff x="3986280" y="1447920"/>
            <a:chExt cx="4724280" cy="3809880"/>
          </a:xfrm>
        </p:grpSpPr>
        <p:sp>
          <p:nvSpPr>
            <p:cNvPr id="545" name=""/>
            <p:cNvSpPr/>
            <p:nvPr/>
          </p:nvSpPr>
          <p:spPr>
            <a:xfrm>
              <a:off x="3986280" y="1447920"/>
              <a:ext cx="289548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986280" y="1733760"/>
              <a:ext cx="441972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986280" y="2013120"/>
              <a:ext cx="243828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86280" y="2305080"/>
              <a:ext cx="137160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86280" y="2603520"/>
              <a:ext cx="137160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986280" y="2908440"/>
              <a:ext cx="152388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986280" y="3200400"/>
              <a:ext cx="228600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86280" y="3505320"/>
              <a:ext cx="190512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86280" y="3810240"/>
              <a:ext cx="91440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986280" y="4114800"/>
              <a:ext cx="121932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986280" y="4419720"/>
              <a:ext cx="190512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86280" y="4724640"/>
              <a:ext cx="175248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86280" y="5029200"/>
              <a:ext cx="472428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32440" y="4114800"/>
            <a:ext cx="457200" cy="228600"/>
          </a:xfrm>
          <a:prstGeom prst="rect">
            <a:avLst/>
          </a:prstGeom>
          <a:gradFill rotWithShape="0">
            <a:gsLst>
              <a:gs pos="0">
                <a:srgbClr val="9dfa96"/>
              </a:gs>
              <a:gs pos="100000">
                <a:srgbClr val="5a8f5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20:46:34Z</dcterms:created>
  <dc:creator>Ryan Ramcharan</dc:creator>
  <dc:description/>
  <dc:language>en-US</dc:language>
  <cp:lastModifiedBy>Service Informatique</cp:lastModifiedBy>
  <dcterms:modified xsi:type="dcterms:W3CDTF">2003-04-04T08:34:20Z</dcterms:modified>
  <cp:revision>290</cp:revision>
  <dc:subject/>
  <dc:title>PowerPoint Presentation</dc:title>
</cp:coreProperties>
</file>