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5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</p:sldIdLst>
  <p:sldSz cx="9144000" cy="6858000"/>
  <p:notesSz cx="9223375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0" y="0"/>
            <a:ext cx="9223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dt" idx="32"/>
          </p:nvPr>
        </p:nvSpPr>
        <p:spPr>
          <a:xfrm>
            <a:off x="5224320" y="-36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sldImg"/>
          </p:nvPr>
        </p:nvSpPr>
        <p:spPr>
          <a:xfrm>
            <a:off x="2857320" y="525240"/>
            <a:ext cx="3508200" cy="26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ftr" idx="33"/>
          </p:nvPr>
        </p:nvSpPr>
        <p:spPr>
          <a:xfrm>
            <a:off x="0" y="665748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 type="sldNum" idx="34"/>
          </p:nvPr>
        </p:nvSpPr>
        <p:spPr>
          <a:xfrm>
            <a:off x="5224320" y="6657480"/>
            <a:ext cx="399744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8C85-3B0C-49FF-8CAF-BE8DB4E0B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AA89-8FD3-4658-A4B2-A30B2E100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AE0-F688-4434-873F-9B4A09AF8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9D2C-4454-4411-B218-8AA0B4E53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3C1B-B9DF-4190-8745-39EE44FDD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A2F6-3239-4209-B675-9FD11973C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D2D-259E-4103-8D25-EA56B4051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B47-B939-4266-9DEB-EB726E760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00B-DBA8-4CB5-99DA-D553C4ACD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9AC-A21D-44B5-B5C9-6139A69E0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509F-F0F0-4546-AD2E-D73543298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7AF-A4BC-4A6C-B07E-4A47D210F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2FA6-72EA-47BE-B750-7EE89C93D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F012-EB95-48FB-B167-CF6387DA4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D2D7-A0ED-41BF-9851-61DC23062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0903-1310-46C5-9BD3-7F4553313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674-DE0D-4F3C-93F0-36D922644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2857680" y="525600"/>
            <a:ext cx="3508200" cy="263052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22320" y="3330720"/>
            <a:ext cx="737856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5224320" y="6657840"/>
            <a:ext cx="3997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048D-2144-4F64-A77E-8609DB136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A2F-04AC-470C-B42B-5CEC7B59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F7DE-87AD-453F-9EA4-3856D2D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78C7-82D4-49E9-9380-D03D7579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137C-647C-4910-A8A2-972D3958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D458-779A-4141-B55D-076475A4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3FE6-8AAB-46A8-A39E-246A434B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B737-B882-4EAA-A64E-2BE8747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6754-6AF9-4B49-B6D9-A9C338D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A1FD-6E93-40CD-AC24-D5DE246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56E2-CEA3-4FE6-AD6F-5FB5C24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EE1-1F8C-4291-8ED4-2CEE86E5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737-99D7-4F97-8310-053AB14E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FDAF-6B64-4FCF-9027-62B6DF8F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4820-59C8-42AE-A9F8-3FC00795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2AF7-A5AF-4787-AAEB-F72F7EAB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103D-9EF6-42DD-8A79-5ACFE62A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35EB-5875-43C6-8B69-0CBCC98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D8FF-AF6A-4A42-8C6E-3FD174EB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16B5-EC01-450B-88DD-A41321E6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1C9B-9739-4D99-9600-DCBBECF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0D26-CD8B-4B4C-BCC2-0ACA059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A691-DB44-47DB-A069-51EBE33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56DA-41D7-4C79-82A8-3E91FC32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4ED5-62BE-4AA9-AB1E-95DB630D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5BE0-5EE0-4B1F-AC88-60A99E5C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8786-81E3-4FEA-A8AF-084C4ECB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81EB-125E-44A3-855E-63BDA0C2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C9C4-328D-4DB4-9779-E8FCBF1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4376-7B1A-46E7-9EE0-E5FA00E0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A005-506D-492B-993B-01233CA8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3593-65E7-4DBF-96D7-00C7E12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70B6-5E06-4DBD-A916-DF9B8311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C2B9-E529-44C7-9EAF-BF3D305B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D878-CFF4-48BD-AC6B-8FB4D716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065A-0015-4692-8B5A-ACD9B48F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2BA6-7EA6-467A-A879-95CBCA64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02D2-B614-41C2-A486-7D2E2B3E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780E-3EE0-4B39-916A-E2CC7F23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D7D6-BC39-4D39-B527-1161587A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8A77-23B3-455A-AE24-CA08DA0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60A4-2B5F-4D7A-A3F0-75CE49A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F2C6-9E55-4CD8-A540-C56D3F5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C1A5-2C2F-4D2D-B9A8-270C2E2C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4FD2-481A-4D40-937B-110EC9E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7C26-9FE4-4B56-BF04-ACF0AAC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B4EB-3FBF-454A-AA7A-A1A4C193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8B7DF-B12C-4ECC-8D8D-407D62D5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3ED2-7F6D-4A14-9A75-F69BD909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2CA1-4762-4DF8-9CE3-E304E931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1FA3-A7BC-465F-8F40-88F55F21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E1B0-BB77-4A1E-995C-89FF390B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3DAAF-F198-4CF9-8778-4453D290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B2E7-FE25-4E0F-84A9-B9615F7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B451-F807-4659-9941-C2DDB62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20104-2774-4343-8CD8-44F8415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1EE5A-2F0B-45F5-9FB5-D6EF24A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27FB-644D-43EA-8168-B6FE3E4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7B81D-1C3D-4965-BBA3-18B78AE7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D041-5AEC-4011-810A-352D4300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5388F-3CB0-46A6-8220-A8FB5883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F63B5-4184-4C5F-8349-66C7DC532F1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21003-5F89-4695-A99B-A35A1542498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272AE-03E0-4994-9D79-E7DE70C0704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06AD7-2EAF-4434-A9E2-C9EEEA3201B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EBDF5-3ED7-4E9E-A4EF-0F461E6F6A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0D9A7-07A4-4820-947F-C8507BB28A9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8EC0C-0A5E-4F41-90E6-819C0AA5B24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D5ED0-2F3D-4060-BF6C-E1A64CE2EF3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96B5F-44E0-4B9C-B887-D916C1BF3A4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3D1A3-2C62-471A-8CB0-DCDB8BFADB4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EAFA4-6FD9-4AC9-A423-231461EF127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0081A-4B5E-4134-BC64-EBE8B14062B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90CDAD-47D7-4925-A0C0-5D0055B4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E34E1-2E05-4660-9E5B-99007ECD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EC56A-9084-411F-9CFF-7594D2AF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FE98B-FAD8-4205-95B8-32FE3D7A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3F147-6E79-417E-B80F-D097E58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EF11D-5857-4FB8-852D-9A430DD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295FE-5C87-4943-9EDA-7B6B96FE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A70AC-564C-44EB-B611-6393A452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E1E51-8C51-4994-B529-2F2CF3E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82ACD-8ADB-4695-BC57-D1E344B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7C779-A8D1-411D-B4EF-8F68068D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A9B7C-508A-44DA-A550-F3CC9103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2E1E0-8730-4F68-9CDF-445A52A7BA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6392A-FC41-4011-8E04-40ACD86FA9C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30E51-4B1E-4D39-A49F-CF546892BF4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ECC61-5E7A-46B9-A165-E3C08391006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E17F9-AD25-4103-9610-CF5F3B63C70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1E7E7-940F-42DE-9AB5-2FA6B65C2A6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1C62B-B759-4D0F-81CC-32D76BDA053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962F6-61E3-49D4-B665-FE609F3230D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C1DA2-20CB-4BC9-AABB-95A7B994B25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BCF26-1FAD-4234-B9FC-D87FF6B2ED8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9B447-6B76-4265-9B7D-C6A2807884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0BFEF-F92D-4838-AD55-AFF962E779C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EBC26-E060-4F01-9725-902E1360B27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2B7735-F6E4-4882-B353-23008F33C11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FD174A-51EA-466A-9B3E-432BC7D9059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B946FF-6173-408F-93EF-C7279B984A9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F260A-E135-4355-A419-47E41894E6A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0D48CF-FF44-4B08-A187-16E5C5C12FB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CEC8F-809A-4595-A9F4-5A9F0A45B6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F0D35-1E6C-404F-9414-17D09DA62C7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1F03C-48A7-4359-A7BB-F6C033EF509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CF6CDD-5709-4DB3-9CD5-4AFC5A83E98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55DB6-8A50-4B8E-A58F-0BFD8E2041B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821D1-1FB5-453A-B4F1-07030891C28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777818-8686-439E-B9E7-BFB840B8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C949F-3781-4FA0-B734-948EC759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5CDF02-6BA0-4ED2-B7A1-FC0BC970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129138-840C-4352-87C1-57BC5BC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0415CB-2F0B-4C85-B4B1-1016193D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9E2809-CD68-4135-BE7B-633F267E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DD8E43-831E-4D7B-8F4F-A9F76E9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A5EE8-326F-49B1-BB97-B688523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D569B7-CC22-4F83-88CE-F4F769B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6F003-AE4B-408C-877A-8824BC9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AD55D2-6116-46C4-A963-5DD27E79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36FCED-1371-4A42-AD39-218664CB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4F7FEC-6577-4A18-AFF1-C26D27457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526BF9-29F2-4558-91ED-49DD225C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27E177-F2EB-4C61-8B4A-18ACF68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42BA80-2B17-454E-9A85-AC5D223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B26AB6-1BD1-465A-A890-6DAE3A3A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37E4F-2D4E-48BB-A2FB-1E0077AB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D56A07-B4C8-45CE-8597-CFC99FC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D5F34C-40FB-4ABB-BA1D-964F98C4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6C2CB6-4FF4-4632-9E61-AF4ADE8B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86CFB6-CE88-4950-9B6F-3896460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F8448F-493B-49BE-8516-582544C1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C093A0-0993-439D-91C4-104A201F7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D26-D76B-46C2-8335-AD643DAE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BA1-841A-4199-98A4-4A824299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B2A-9E8A-44C5-AE95-6DBA0FF6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EF5-E05B-443E-BE3E-7258458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268-21F1-468F-93E4-BCCA5C8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56E-7634-458F-B30B-F366B34C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A8B-24D5-4F29-97D0-98707BE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DF5-BD29-4052-B57B-4B926E0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D89-B8ED-4E18-A07C-4B492BB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CC9-CC9F-4417-8EE5-972219C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8C9-40F3-4F21-85CC-036E07EC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B71-4856-4DFA-881E-F3EEA4C5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52280" y="36540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800" y="10663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28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81800" y="36540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4100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30080" y="10663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522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4100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30080" y="36540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9C0-95FA-479B-92DE-CE0B7C60C0C0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106E-9BC3-452D-857E-C2D4F102F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903B-3C7F-4D2F-9F40-F4566A13C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127320" y="-241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4"/>
          <p:cNvSpPr/>
          <p:nvPr/>
        </p:nvSpPr>
        <p:spPr>
          <a:xfrm>
            <a:off x="2666880" y="63244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E13-EA6E-4666-97DE-01441F635C7B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2284-9DB4-42D2-B2F6-6214E5FA25DF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3179-E8A1-435B-A606-6F694CBAE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28FD-13F4-4B31-8325-2C58F8E2113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7" descr="THSP1"/>
          <p:cNvPicPr/>
          <p:nvPr/>
        </p:nvPicPr>
        <p:blipFill>
          <a:blip r:embed="rId2"/>
          <a:stretch/>
        </p:blipFill>
        <p:spPr>
          <a:xfrm>
            <a:off x="2362320" y="457200"/>
            <a:ext cx="4419360" cy="25495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7B17-CAA7-44FC-9058-461AFDFD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19"/>
          </p:nvPr>
        </p:nvSpPr>
        <p:spPr>
          <a:xfrm>
            <a:off x="27428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20"/>
          </p:nvPr>
        </p:nvSpPr>
        <p:spPr>
          <a:xfrm>
            <a:off x="5638680" y="65527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A5C-1E33-42FD-A71B-125B71EC5D4F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8" descr="PLTW-transparent"/>
          <p:cNvPicPr/>
          <p:nvPr/>
        </p:nvPicPr>
        <p:blipFill>
          <a:blip r:embed="rId3"/>
          <a:stretch/>
        </p:blipFill>
        <p:spPr>
          <a:xfrm>
            <a:off x="8001000" y="5715000"/>
            <a:ext cx="882720" cy="914400"/>
          </a:xfrm>
          <a:prstGeom prst="rect">
            <a:avLst/>
          </a:prstGeom>
          <a:ln w="0">
            <a:noFill/>
          </a:ln>
        </p:spPr>
      </p:pic>
      <p:sp>
        <p:nvSpPr>
          <p:cNvPr id="728" name="Line 11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114480">
            <a:solidFill>
              <a:srgbClr val="e6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7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6070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33CD-EB04-4412-A178-28DD8AE7DB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ftr" idx="24"/>
          </p:nvPr>
        </p:nvSpPr>
        <p:spPr>
          <a:xfrm>
            <a:off x="27428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25"/>
          </p:nvPr>
        </p:nvSpPr>
        <p:spPr>
          <a:xfrm>
            <a:off x="5638680" y="65527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964E-97B9-466D-9BA5-45C338C32266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Univers Condensed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Univers Condense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sldNum" idx="26"/>
          </p:nvPr>
        </p:nvSpPr>
        <p:spPr>
          <a:xfrm>
            <a:off x="5638680" y="6400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6AC-8886-41D9-819E-32DA4D14A91B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8"/>
          <p:cNvSpPr/>
          <p:nvPr/>
        </p:nvSpPr>
        <p:spPr>
          <a:xfrm>
            <a:off x="3352680" y="65530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3e3e3"/>
                </a:solidFill>
                <a:latin typeface="Arial Narrow"/>
              </a:rPr>
              <a:t>National Instruments Confidentia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FF86-B07C-4EB8-B777-9AC490A2C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B27-446A-4999-9863-2E6509885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9" descr="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210C-F2FC-4F4C-8E20-CF4D14B4B4DA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THSP1"/>
          <p:cNvPicPr/>
          <p:nvPr/>
        </p:nvPicPr>
        <p:blipFill>
          <a:blip r:embed="rId2"/>
          <a:stretch/>
        </p:blipFill>
        <p:spPr>
          <a:xfrm>
            <a:off x="0" y="0"/>
            <a:ext cx="2286000" cy="13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A86B-37E5-4D2F-9A0C-C3B305C43DF2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070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6070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ee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34d3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34d3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6172200"/>
            <a:ext cx="7010640" cy="0"/>
          </a:xfrm>
          <a:prstGeom prst="line">
            <a:avLst/>
          </a:prstGeom>
          <a:ln w="324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Picture 6" descr="PLTW-transparent"/>
          <p:cNvPicPr/>
          <p:nvPr/>
        </p:nvPicPr>
        <p:blipFill>
          <a:blip r:embed="rId3"/>
          <a:stretch/>
        </p:blipFill>
        <p:spPr>
          <a:xfrm>
            <a:off x="7924680" y="5791320"/>
            <a:ext cx="809640" cy="838080"/>
          </a:xfrm>
          <a:prstGeom prst="rect">
            <a:avLst/>
          </a:prstGeom>
          <a:ln w="0">
            <a:noFill/>
          </a:ln>
        </p:spPr>
      </p:pic>
      <p:sp>
        <p:nvSpPr>
          <p:cNvPr id="204" name="Line 8"/>
          <p:cNvSpPr/>
          <p:nvPr/>
        </p:nvSpPr>
        <p:spPr>
          <a:xfrm>
            <a:off x="609480" y="1600200"/>
            <a:ext cx="7925040" cy="0"/>
          </a:xfrm>
          <a:prstGeom prst="line">
            <a:avLst/>
          </a:prstGeom>
          <a:ln w="114480">
            <a:solidFill>
              <a:srgbClr val="e607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AF5-F7CC-4AB9-A70D-8E802D1B9FB5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Univers Condensed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Univers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Univers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niver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nivers Condensed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347A-4654-470F-A05B-9B5C209CF075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12"/>
          <p:cNvSpPr/>
          <p:nvPr/>
        </p:nvSpPr>
        <p:spPr>
          <a:xfrm rot="1354800">
            <a:off x="5477040" y="4119480"/>
            <a:ext cx="19159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7240" y="488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Multisim 3D NI ELVIS II How-to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095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d. 3D NI ELVIS II default view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1"/>
          <a:stretch/>
        </p:blipFill>
        <p:spPr>
          <a:xfrm>
            <a:off x="1619280" y="1143000"/>
            <a:ext cx="5695920" cy="4546440"/>
          </a:xfrm>
          <a:prstGeom prst="rect">
            <a:avLst/>
          </a:prstGeom>
          <a:ln w="0">
            <a:noFill/>
          </a:ln>
        </p:spPr>
      </p:pic>
      <p:sp>
        <p:nvSpPr>
          <p:cNvPr id="1139" name="AutoShape 2"/>
          <p:cNvSpPr/>
          <p:nvPr/>
        </p:nvSpPr>
        <p:spPr>
          <a:xfrm>
            <a:off x="6553080" y="4343400"/>
            <a:ext cx="2438640" cy="1676520"/>
          </a:xfrm>
          <a:prstGeom prst="wedgeRoundRectCallout">
            <a:avLst>
              <a:gd name="adj1" fmla="val -64245"/>
              <a:gd name="adj2" fmla="val -189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rows allow you to scroll through your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0" name="AutoShape 2"/>
          <p:cNvSpPr/>
          <p:nvPr/>
        </p:nvSpPr>
        <p:spPr>
          <a:xfrm>
            <a:off x="6400800" y="1219320"/>
            <a:ext cx="2590920" cy="1676160"/>
          </a:xfrm>
          <a:prstGeom prst="wedgeRoundRectCallout">
            <a:avLst>
              <a:gd name="adj1" fmla="val -114800"/>
              <a:gd name="adj2" fmla="val 8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cription of a component the cursor is hovering o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1" name="AutoShape 2"/>
          <p:cNvSpPr/>
          <p:nvPr/>
        </p:nvSpPr>
        <p:spPr>
          <a:xfrm>
            <a:off x="304920" y="2362320"/>
            <a:ext cx="2971800" cy="1295280"/>
          </a:xfrm>
          <a:prstGeom prst="wedgeRoundRectCallout">
            <a:avLst>
              <a:gd name="adj1" fmla="val 67328"/>
              <a:gd name="adj2" fmla="val 130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onents appear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ce Component B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y to be pla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e. Place component = Drag &amp; Drop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5213520" cy="3829320"/>
          </a:xfrm>
          <a:prstGeom prst="rect">
            <a:avLst/>
          </a:prstGeom>
          <a:ln w="0">
            <a:noFill/>
          </a:ln>
        </p:spPr>
      </p:pic>
      <p:sp>
        <p:nvSpPr>
          <p:cNvPr id="1144" name="AutoShape 2"/>
          <p:cNvSpPr/>
          <p:nvPr/>
        </p:nvSpPr>
        <p:spPr>
          <a:xfrm>
            <a:off x="1066680" y="5181480"/>
            <a:ext cx="2819520" cy="914400"/>
          </a:xfrm>
          <a:prstGeom prst="wedgeRoundRectCallout">
            <a:avLst>
              <a:gd name="adj1" fmla="val 6601"/>
              <a:gd name="adj2" fmla="val -109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1. Star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. Click component hold. Dra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5" name="AutoShape 2"/>
          <p:cNvSpPr/>
          <p:nvPr/>
        </p:nvSpPr>
        <p:spPr>
          <a:xfrm>
            <a:off x="6324480" y="1752480"/>
            <a:ext cx="2590920" cy="990720"/>
          </a:xfrm>
          <a:prstGeom prst="wedgeRoundRectCallout">
            <a:avLst>
              <a:gd name="adj1" fmla="val -165384"/>
              <a:gd name="adj2" fmla="val 1278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2. DROP</a:t>
            </a: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ere desired lo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f. Place component = Drag &amp; Drop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rcRect l="17591" t="0" r="20893" b="0"/>
          <a:stretch/>
        </p:blipFill>
        <p:spPr>
          <a:xfrm>
            <a:off x="762120" y="2286000"/>
            <a:ext cx="2619360" cy="2362320"/>
          </a:xfrm>
          <a:prstGeom prst="rect">
            <a:avLst/>
          </a:prstGeom>
          <a:ln w="0">
            <a:noFill/>
          </a:ln>
        </p:spPr>
      </p:pic>
      <p:sp>
        <p:nvSpPr>
          <p:cNvPr id="1148" name="AutoShape 2"/>
          <p:cNvSpPr/>
          <p:nvPr/>
        </p:nvSpPr>
        <p:spPr>
          <a:xfrm>
            <a:off x="4038480" y="4572000"/>
            <a:ext cx="4800600" cy="1295280"/>
          </a:xfrm>
          <a:prstGeom prst="wedgeRoundRectCallout">
            <a:avLst>
              <a:gd name="adj1" fmla="val -100138"/>
              <a:gd name="adj2" fmla="val -7419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ckets indicate where the component pin will be placed when mouse button is relea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9" name="AutoShape 2"/>
          <p:cNvSpPr/>
          <p:nvPr/>
        </p:nvSpPr>
        <p:spPr>
          <a:xfrm>
            <a:off x="3962520" y="2209680"/>
            <a:ext cx="4647960" cy="1295640"/>
          </a:xfrm>
          <a:prstGeom prst="wedgeRoundRectCallout">
            <a:avLst>
              <a:gd name="adj1" fmla="val -83634"/>
              <a:gd name="adj2" fmla="val -15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ockets indicate sockets are internally connected to the red socket on the same ro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0" name="AutoShape 2"/>
          <p:cNvSpPr/>
          <p:nvPr/>
        </p:nvSpPr>
        <p:spPr>
          <a:xfrm>
            <a:off x="533520" y="1066680"/>
            <a:ext cx="7772400" cy="685800"/>
          </a:xfrm>
          <a:prstGeom prst="wedgeRoundRectCallout">
            <a:avLst>
              <a:gd name="adj1" fmla="val -50162"/>
              <a:gd name="adj2" fmla="val -162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p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Ctrl + R 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tates selected components by 90 degrees clockwi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g. Wiring specifics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52" name="TextBox 5"/>
          <p:cNvSpPr/>
          <p:nvPr/>
        </p:nvSpPr>
        <p:spPr>
          <a:xfrm>
            <a:off x="685800" y="11430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on the socket where you want to start and the destination socket to complete wir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53" name="Picture 5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343400" cy="3664080"/>
          </a:xfrm>
          <a:prstGeom prst="rect">
            <a:avLst/>
          </a:prstGeom>
          <a:ln w="0">
            <a:noFill/>
          </a:ln>
        </p:spPr>
      </p:pic>
      <p:sp>
        <p:nvSpPr>
          <p:cNvPr id="1154" name="AutoShape 2"/>
          <p:cNvSpPr/>
          <p:nvPr/>
        </p:nvSpPr>
        <p:spPr>
          <a:xfrm>
            <a:off x="5715000" y="3886200"/>
            <a:ext cx="2743200" cy="1676520"/>
          </a:xfrm>
          <a:prstGeom prst="wedgeRoundRectCallout">
            <a:avLst>
              <a:gd name="adj1" fmla="val -52435"/>
              <a:gd name="adj2" fmla="val -64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gitimate “target” pin turns green…you know where to connec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5" name="AutoShape 2"/>
          <p:cNvSpPr/>
          <p:nvPr/>
        </p:nvSpPr>
        <p:spPr>
          <a:xfrm>
            <a:off x="228600" y="2286000"/>
            <a:ext cx="2743200" cy="990720"/>
          </a:xfrm>
          <a:prstGeom prst="wedgeRoundRectCallout">
            <a:avLst>
              <a:gd name="adj1" fmla="val 75925"/>
              <a:gd name="adj2" fmla="val 23563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 with a signal source and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h. Changing wire colors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57" name="Picture 1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962520" cy="31478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2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38440" cy="741240"/>
          </a:xfrm>
          <a:prstGeom prst="rect">
            <a:avLst/>
          </a:prstGeom>
          <a:ln w="0">
            <a:noFill/>
          </a:ln>
        </p:spPr>
      </p:pic>
      <p:sp>
        <p:nvSpPr>
          <p:cNvPr id="1159" name="AutoShape 2"/>
          <p:cNvSpPr/>
          <p:nvPr/>
        </p:nvSpPr>
        <p:spPr>
          <a:xfrm>
            <a:off x="609480" y="3581280"/>
            <a:ext cx="3048120" cy="1371600"/>
          </a:xfrm>
          <a:prstGeom prst="wedgeRoundRectCallout">
            <a:avLst>
              <a:gd name="adj1" fmla="val -38893"/>
              <a:gd name="adj2" fmla="val -146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dboard Wire Col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on to change the wire color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h. Verification with DRC and Connectivity Check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5" name="Picture 10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095880" cy="20145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1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914400" cy="76176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2"/>
          <p:cNvSpPr/>
          <p:nvPr/>
        </p:nvSpPr>
        <p:spPr>
          <a:xfrm>
            <a:off x="3048120" y="1295280"/>
            <a:ext cx="5105160" cy="1219320"/>
          </a:xfrm>
          <a:prstGeom prst="wedgeRoundRectCallout">
            <a:avLst>
              <a:gd name="adj1" fmla="val -76953"/>
              <a:gd name="adj2" fmla="val 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ign Rules and Connectivity Check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verify  the circuit on breadboard with your schemat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8" name="AutoShape 2"/>
          <p:cNvSpPr/>
          <p:nvPr/>
        </p:nvSpPr>
        <p:spPr>
          <a:xfrm>
            <a:off x="609480" y="5105520"/>
            <a:ext cx="8153640" cy="838080"/>
          </a:xfrm>
          <a:prstGeom prst="wedgeRoundRectCallout">
            <a:avLst>
              <a:gd name="adj1" fmla="val -50189"/>
              <a:gd name="adj2" fmla="val 147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ign Rule Errors –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cate connections on breadboard not on the schemat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nectivity Errors –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cate component pins not connected to schematic ne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5. Back to the Schematic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71" name="Picture 5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5372280" cy="3090960"/>
          </a:xfrm>
          <a:prstGeom prst="rect">
            <a:avLst/>
          </a:prstGeom>
          <a:ln w="0">
            <a:noFill/>
          </a:ln>
        </p:spPr>
      </p:pic>
      <p:sp>
        <p:nvSpPr>
          <p:cNvPr id="1172" name="AutoShape 2"/>
          <p:cNvSpPr/>
          <p:nvPr/>
        </p:nvSpPr>
        <p:spPr>
          <a:xfrm>
            <a:off x="4952880" y="762120"/>
            <a:ext cx="3962520" cy="1218960"/>
          </a:xfrm>
          <a:prstGeom prst="wedgeRoundRectCallout">
            <a:avLst>
              <a:gd name="adj1" fmla="val -51842"/>
              <a:gd name="adj2" fmla="val 138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omponents indicated component has been place in 3D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3" name="AutoShape 2"/>
          <p:cNvSpPr/>
          <p:nvPr/>
        </p:nvSpPr>
        <p:spPr>
          <a:xfrm>
            <a:off x="3200400" y="4724280"/>
            <a:ext cx="3733920" cy="1219320"/>
          </a:xfrm>
          <a:prstGeom prst="wedgeRoundRectCallout">
            <a:avLst>
              <a:gd name="adj1" fmla="val -42930"/>
              <a:gd name="adj2" fmla="val -183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 Narro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ire indicates correct connection has been made in 3D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You have successfully explored the </a:t>
            </a:r>
            <a:br>
              <a:rPr sz="3600"/>
            </a:b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NI ELVIS 3D environment!!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Why is this important?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97" name="AutoShape 16"/>
          <p:cNvSpPr/>
          <p:nvPr/>
        </p:nvSpPr>
        <p:spPr>
          <a:xfrm>
            <a:off x="3886200" y="4343400"/>
            <a:ext cx="1219320" cy="838080"/>
          </a:xfrm>
          <a:prstGeom prst="rightArrow">
            <a:avLst>
              <a:gd name="adj1" fmla="val 50000"/>
              <a:gd name="adj2" fmla="val 33341"/>
            </a:avLst>
          </a:prstGeom>
          <a:gradFill rotWithShape="0">
            <a:gsLst>
              <a:gs pos="0">
                <a:srgbClr val="006699"/>
              </a:gs>
              <a:gs pos="50000">
                <a:srgbClr val="a6cadb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5e84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8" name="Picture 2" descr="C:\Documents and Settings\stso\Desktop\IMG_5659.JPG"/>
          <p:cNvPicPr/>
          <p:nvPr/>
        </p:nvPicPr>
        <p:blipFill>
          <a:blip r:embed="rId1"/>
          <a:stretch/>
        </p:blipFill>
        <p:spPr>
          <a:xfrm>
            <a:off x="5715000" y="39625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514600" cy="175896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6"/>
          <p:cNvSpPr/>
          <p:nvPr/>
        </p:nvSpPr>
        <p:spPr>
          <a:xfrm>
            <a:off x="457200" y="1143000"/>
            <a:ext cx="8305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D Environment bridges the gap between theory to real-world prototyp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rn/practice prototyp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ace to make mistak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ign and connectivity check – verify circui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1. Begin with Multisim 11.0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02" name="TextBox 5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» New » NI ELVIS II Schemat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3" name="TextBox 7"/>
          <p:cNvSpPr/>
          <p:nvPr/>
        </p:nvSpPr>
        <p:spPr>
          <a:xfrm>
            <a:off x="304920" y="16765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rt » All Programs » National Instruments » Circuit Design Suite 11.0 » Multisim 11.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492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2. Draw your circui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304920" y="51134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Ctrl + W 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open component browser to select and drop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source and destination to make wire connection between compon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1"/>
          <a:stretch/>
        </p:blipFill>
        <p:spPr>
          <a:xfrm>
            <a:off x="665280" y="990720"/>
            <a:ext cx="4416480" cy="3429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2"/>
          <a:stretch/>
        </p:blipFill>
        <p:spPr>
          <a:xfrm>
            <a:off x="3560760" y="1752480"/>
            <a:ext cx="41353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3. Launch the breadboard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28600" y="10663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the menu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4571640" y="10663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 Narrow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om the toolb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763640" cy="39621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4781520" cy="704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"/>
          <p:cNvPicPr/>
          <p:nvPr/>
        </p:nvPicPr>
        <p:blipFill>
          <a:blip r:embed="rId3"/>
          <a:stretch/>
        </p:blipFill>
        <p:spPr>
          <a:xfrm>
            <a:off x="5486400" y="4038480"/>
            <a:ext cx="1414440" cy="125748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9"/>
          <p:cNvSpPr/>
          <p:nvPr/>
        </p:nvSpPr>
        <p:spPr>
          <a:xfrm>
            <a:off x="457200" y="5791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ols » Show Breadbo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6" name="TextBox 10"/>
          <p:cNvSpPr/>
          <p:nvPr/>
        </p:nvSpPr>
        <p:spPr>
          <a:xfrm>
            <a:off x="4572000" y="2971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f the main menu, click 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ow Breadboar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4. Explore the 3D NI ELVIS II Environmen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18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695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359240" cy="347976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a. Rotate the model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320920" cy="3324240"/>
          </a:xfrm>
          <a:prstGeom prst="rect">
            <a:avLst/>
          </a:prstGeom>
          <a:ln w="0">
            <a:noFill/>
          </a:ln>
        </p:spPr>
      </p:pic>
      <p:sp>
        <p:nvSpPr>
          <p:cNvPr id="1122" name="AutoShape 2"/>
          <p:cNvSpPr/>
          <p:nvPr/>
        </p:nvSpPr>
        <p:spPr>
          <a:xfrm>
            <a:off x="2057400" y="1371600"/>
            <a:ext cx="4267080" cy="1066680"/>
          </a:xfrm>
          <a:prstGeom prst="wedgeRoundRectCallout">
            <a:avLst>
              <a:gd name="adj1" fmla="val 59680"/>
              <a:gd name="adj2" fmla="val 1182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s and hold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Left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use button and move mo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3" name="Circular Arrow 7"/>
          <p:cNvSpPr/>
          <p:nvPr/>
        </p:nvSpPr>
        <p:spPr>
          <a:xfrm rot="11317800">
            <a:off x="5768640" y="4194000"/>
            <a:ext cx="2209680" cy="1905120"/>
          </a:xfrm>
          <a:prstGeom prst="pie">
            <a:avLst/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b. Zoom in and out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125" name="Picture 2" descr=""/>
          <p:cNvPicPr/>
          <p:nvPr/>
        </p:nvPicPr>
        <p:blipFill>
          <a:blip r:embed="rId1"/>
          <a:stretch/>
        </p:blipFill>
        <p:spPr>
          <a:xfrm>
            <a:off x="380880" y="1119240"/>
            <a:ext cx="3943440" cy="31478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2"/>
          <a:stretch/>
        </p:blipFill>
        <p:spPr>
          <a:xfrm>
            <a:off x="4724280" y="1119240"/>
            <a:ext cx="4038840" cy="31240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2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1895400" cy="2714760"/>
          </a:xfrm>
          <a:prstGeom prst="rect">
            <a:avLst/>
          </a:prstGeom>
          <a:ln w="0">
            <a:noFill/>
          </a:ln>
        </p:spPr>
      </p:pic>
      <p:sp>
        <p:nvSpPr>
          <p:cNvPr id="1128" name="AutoShape 2"/>
          <p:cNvSpPr/>
          <p:nvPr/>
        </p:nvSpPr>
        <p:spPr>
          <a:xfrm>
            <a:off x="914400" y="4572000"/>
            <a:ext cx="1981080" cy="1066680"/>
          </a:xfrm>
          <a:prstGeom prst="wedgeRoundRectCallout">
            <a:avLst>
              <a:gd name="adj1" fmla="val 113745"/>
              <a:gd name="adj2" fmla="val -979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oll DOWN to zoom o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AutoShape 2"/>
          <p:cNvSpPr/>
          <p:nvPr/>
        </p:nvSpPr>
        <p:spPr>
          <a:xfrm>
            <a:off x="6324480" y="4648320"/>
            <a:ext cx="1752840" cy="1066680"/>
          </a:xfrm>
          <a:prstGeom prst="wedgeRoundRectCallout">
            <a:avLst>
              <a:gd name="adj1" fmla="val -133398"/>
              <a:gd name="adj2" fmla="val -114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oll UP to zoom 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0" name="Down Arrow 7"/>
          <p:cNvSpPr/>
          <p:nvPr/>
        </p:nvSpPr>
        <p:spPr>
          <a:xfrm>
            <a:off x="304920" y="44956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1" name="Down Arrow 8"/>
          <p:cNvSpPr/>
          <p:nvPr/>
        </p:nvSpPr>
        <p:spPr>
          <a:xfrm rot="10800000">
            <a:off x="8305920" y="449532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8bbe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 Narrow"/>
              </a:rPr>
              <a:t>c. Panning</a:t>
            </a:r>
            <a:endParaRPr b="1" lang="en-US" sz="36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133" name="Quad Arrow 5"/>
          <p:cNvSpPr/>
          <p:nvPr/>
        </p:nvSpPr>
        <p:spPr>
          <a:xfrm>
            <a:off x="2057400" y="1066680"/>
            <a:ext cx="4724280" cy="4724640"/>
          </a:xfrm>
          <a:prstGeom prst="pie">
            <a:avLst/>
          </a:prstGeom>
          <a:solidFill>
            <a:srgbClr val="98bbe5">
              <a:alpha val="52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4" name="Picture 2" descr=""/>
          <p:cNvPicPr/>
          <p:nvPr/>
        </p:nvPicPr>
        <p:blipFill>
          <a:blip r:embed="rId1"/>
          <a:stretch/>
        </p:blipFill>
        <p:spPr>
          <a:xfrm>
            <a:off x="3629160" y="2438280"/>
            <a:ext cx="1628640" cy="2333880"/>
          </a:xfrm>
          <a:prstGeom prst="rect">
            <a:avLst/>
          </a:prstGeom>
          <a:ln w="0">
            <a:noFill/>
          </a:ln>
        </p:spPr>
      </p:pic>
      <p:sp>
        <p:nvSpPr>
          <p:cNvPr id="1135" name="AutoShape 2"/>
          <p:cNvSpPr/>
          <p:nvPr/>
        </p:nvSpPr>
        <p:spPr>
          <a:xfrm>
            <a:off x="6172200" y="1143000"/>
            <a:ext cx="2590920" cy="1676520"/>
          </a:xfrm>
          <a:prstGeom prst="wedgeRoundRectCallout">
            <a:avLst>
              <a:gd name="adj1" fmla="val -120342"/>
              <a:gd name="adj2" fmla="val 470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ld down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use-wheel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dra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380880" y="1219320"/>
            <a:ext cx="2438640" cy="1218960"/>
          </a:xfrm>
          <a:prstGeom prst="wedgeRoundRectCallout">
            <a:avLst>
              <a:gd name="adj1" fmla="val -50449"/>
              <a:gd name="adj2" fmla="val -2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 Ctrl + Shift )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 drag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21:33:10Z</dcterms:created>
  <dc:creator>Fujitsu</dc:creator>
  <dc:description/>
  <dc:language>en-US</dc:language>
  <cp:lastModifiedBy>stso</cp:lastModifiedBy>
  <dcterms:modified xsi:type="dcterms:W3CDTF">2009-12-06T17:43:03Z</dcterms:modified>
  <cp:revision>82</cp:revision>
  <dc:subject/>
  <dc:title>Whats our story?</dc:title>
</cp:coreProperties>
</file>