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5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</p:sldIdLst>
  <p:sldSz cx="9144000" cy="6858000"/>
  <p:notesSz cx="9223375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0" y="0"/>
            <a:ext cx="9223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dt" idx="32"/>
          </p:nvPr>
        </p:nvSpPr>
        <p:spPr>
          <a:xfrm>
            <a:off x="5224320" y="-36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sldImg"/>
          </p:nvPr>
        </p:nvSpPr>
        <p:spPr>
          <a:xfrm>
            <a:off x="2857320" y="525240"/>
            <a:ext cx="3508200" cy="263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ftr" idx="33"/>
          </p:nvPr>
        </p:nvSpPr>
        <p:spPr>
          <a:xfrm>
            <a:off x="0" y="665748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 type="sldNum" idx="34"/>
          </p:nvPr>
        </p:nvSpPr>
        <p:spPr>
          <a:xfrm>
            <a:off x="5224320" y="665748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BEB7-CE6A-4D8D-AE6D-4A19613E8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2CC0-DB8A-48C7-A04A-6F717814D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373F-53D2-45DE-82FA-6D5A019C8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EE4E-E2FB-46B1-AD8D-09AF6180B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9CB1-1ACF-4842-80FF-9EDD68747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2D72-DA99-4056-AD2F-E6AE6F212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E061-7391-479F-BE9A-AD4D053A7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FCF9-1387-4221-832A-40A483F1B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0C24-2767-4AB3-A330-55E92026C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5580-66AB-4EBD-9FE6-0844BC987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C477-14B8-4785-8DE1-F588CF4F2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1AE2-2BF7-4237-AD93-D9146DECB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F478-29B7-4537-BF21-39D7EA0EB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F9A1-2932-45C4-ACF4-1E41C47F6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D12F-FA40-4955-B5E3-D2B09EBB5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D979-5E69-43DB-9758-F38B03CE2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2969-95CF-4627-B5F3-92037CC1B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3B94-5413-461F-AB24-A993B7E85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99BF-2D6A-495B-B9E4-FE2A0326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10C7-DAB2-4E49-BB5E-EF66A09E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1C8E-359A-4A9D-B183-3B6F8BC1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8033-595E-444D-87D0-C878A5C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766A-6D18-48B9-8D34-3BEDBEF6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2D78-1E25-4EF4-8384-18794DBA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EBE2-A2AE-497C-B027-31B34B5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5EE1-F002-45DC-AF34-628CF8C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2E05-BCF9-4DA8-994D-E998925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B04E-0962-44CD-B129-CD90B09C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4374-D7B0-4C22-AB88-8E93DA49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3AC0-C68E-411E-9F91-523DEC10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CE45-DB16-43A0-BB94-92244D71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3321-E52D-44AB-A760-DEAABFF0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1D4E-C9A7-43D0-ABC8-D5352F36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C019-E640-45F7-8F78-3B49AB75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9105-A7AF-4C7F-9BC4-BE9F9112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5647-5B31-4051-B8B7-840522CC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BEA3-6025-4B88-BC73-8CE4D85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21E3-CDE9-4667-A585-9D8D224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D6871-C5CB-4DAC-961C-6777795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092F-3EA7-4ECD-AE83-021CDCF2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5985-938D-414C-8EB6-0310E2B7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67DC-C763-4044-AB06-13C93ED2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A1DF-39C9-40DC-B5CE-8A31023F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11AA-1486-4CA1-8339-7DCD9739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DC714-27BC-4561-A64C-6BF11EDE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ADC65-54D7-4BE0-B6F1-B3C07057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3F45-13AD-41BA-B4C7-89FDF7E1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9CFF-79A7-417A-97B7-F1778C45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35ED-A7B6-4405-8F69-A1B77D7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FEB46-4119-4F81-859E-F5F211D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87A1-856B-4306-8466-0E73F9F1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9C634-854C-4BDA-AA2C-038B72E6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76A4-F73A-4200-BD24-ECDEC7B1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A0561-750A-4F22-B75C-7AF34492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C4FB-282E-4FF9-9484-35D58FBA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DA1A-D0F9-4E06-827B-250E9189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A556B-E016-493A-856F-3CB9DBA9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B063B-9C9E-4BE3-9D13-3C0157D2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BEDB-9209-430B-8BAA-1AB36EF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AC0A4-06A0-4D3B-B5F6-E10B67CE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4DA66-0A15-4FA8-A440-1AA926B0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B3F7F-EBE3-4D9B-A2F1-1E0809F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04A8-1A43-4D50-AE5B-626F802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11A01-57EF-4BD0-B963-72084A74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3B35C-FC84-4918-9E0D-682A4736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8670-5DDD-46D2-9E14-96D0F326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C440-2117-45A5-9BBF-9C4CF2B6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49B2B-8A16-48FC-AA2B-6ABEFEFD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A2CF-0A75-4F8E-9E6B-CEBF8CF7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56D8B-F302-45AA-B3D8-49AF8F1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7395B-EE02-4202-906C-8D22C413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FCC8F-1A0B-4A52-ABAF-CEFE1397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63CF7-A826-4902-9F07-DBC5C486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0F74F-031F-4A20-A086-76B134A2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FDCBF-44D4-47C7-8143-B16F139E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D6386-38F9-4949-85DD-4AAD093F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5D3D7-7466-484D-A73F-2CFA25AD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6D2A6-1A0E-47CE-A747-1EAC923F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F1DFC-15C8-4175-BA7C-26B682C3B60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99CD1-3451-4696-A491-FDFB2DD10E4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AA2BA-6C24-48EF-9E79-305CA6548E4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38C19-2215-4CAB-85F4-0D84B9EC404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B3325-AFD9-43B0-8724-567B4504AB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5E4D3-116B-4F77-9593-ED700856D5F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F3150-3512-4B56-8AD2-160E15AB002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D4569-DDD1-43C1-8583-64906F75D33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C6644-8521-42F6-8425-2811FA67894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2FD14-677D-4DC2-9899-09870688995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CD6B9-3ED7-47F1-A1F1-CE3AE8CFDC4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9A285-878F-4955-97EE-96E20AD39AD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5E8B0-7136-4BAA-9EA0-BC71CFFA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A66652-5A86-4555-8E74-F71B6110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1E10E-D161-4D32-BFC3-D9AB4CFD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B919D3-5AA1-4E43-8CF1-9EB5E8B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62F15A-2BA2-44F0-B121-46C7E130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20B8A-A1A7-46F7-8E11-93394A11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6B6F55-A4AD-46D2-945E-C1E42341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5D45C-9383-4128-BEB0-3933BD76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7CF2B0-A5D0-4F24-9CD5-DE54E74E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27FB57-45E3-458A-A185-74E3DA17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A7D885-56E2-4EE1-8D79-8E6727CF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A5C1C-6523-459B-A51C-C67935D2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B7368-48E7-4B6F-80F9-5BA23A8ADF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5A7B4-78D0-4229-A965-A040C5F60F5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DA09E-4A42-457D-A1F2-6413E380E61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EB25A-90CB-4602-BB8C-E3A83F7D78C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1CABC-7337-49C8-9569-95F9AB603A1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4E4C8-E2B9-400B-B5AD-962E168EBFB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0ED4A-6CB8-46C8-A0F5-415AC2C4674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8309A-BFFF-4AFC-8403-2E1762A6366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232F5-62C1-40BA-A5A2-E58F2816997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1F98E-7CFF-4BD8-8EDB-121FDB5579C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981F0-8387-4874-B0EA-1624BD5E1C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9CE45-DFE4-4A23-8DC7-2BC327BE915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EA9FFF-53DD-41B5-BA8D-3737FC42CF9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3A3A3-1537-41C4-B2AE-FF3269B920C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94084-3AC8-4367-BD19-FD56C9D4AAF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CB6404-72CF-4BFD-8EBD-4EF91DE27E2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54AC0C-284A-4100-9F01-1D72EE50A98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0E0D0E-4AAE-48D1-AF64-D7C2378232C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4F670-E181-4300-922E-0C7B5DC4F5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02504A-E7CE-4E22-B706-CEE47D6F134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2B85CC-4025-436D-962E-52EB66D3DE9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C4D3E6-C583-4A80-BC0A-648B80A70E2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49E653-F9A3-4782-AE4A-B6C1C171FE0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C4F1F2-1B5A-4A3E-8AAF-B4F53AE158C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ADD001-6523-42FC-B95F-DF2D9A37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1FCFB4-79DE-46BF-BBCD-FAA156D5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147CC6-4532-4C30-9579-95B5CB5D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BEDFE4-56D5-4D00-82AC-FCBD2E6E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9A5C10-3391-4D79-9757-D6E7E32F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E97E4D-6D25-45A4-A38B-3F28B510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E54803-C9B2-45B5-B64D-9864351E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34EB24-9B20-4377-97D9-B7CE22E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2DD933-F491-47EA-B311-44FCA4E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4E9108-09D0-42E9-9C5E-E5CC64F6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647F98-5A93-4C7E-B2EA-302715FC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0B9EB-9843-4BE0-9C86-8273EAA9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ABBE03-0D75-4947-B325-6A7037597F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7D3265-AF3C-4B80-8FD7-6865266F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30E2C3-5B74-441D-85C9-B6DEBEEA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082BBC-AA1D-4B5A-A858-186C1133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C0A1E3-93F6-498F-9496-80B78FE9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030659-7715-4FBE-A521-36B8FEDC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A5CC56-8FA3-4434-A676-E204DA8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97EA06-2466-4EDF-8B1C-FFBCD72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635EED-1B0B-43BB-956D-699BC102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9331DD-5C4B-48A2-BD99-375640F2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C8DD9E-DF98-4E77-A3ED-7503DA4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16ED4D-F9DC-4619-955B-B51DE75D4E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37B-F14E-4E00-82ED-B59ACF5F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D81-BF8C-4D20-9F53-032239CF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C1D-2F78-4C95-8752-1A2482F2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0E5-E96E-4B90-8BB3-C9A4DC2F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F8A-407F-4C36-8EDC-B67963BF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E0F-26A4-4F3A-BDEF-3BBB721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4CD-1AAA-4CAC-AF9B-E348CDAD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930-2B4A-4A91-82E4-E8ABDA6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3C4-7305-4D89-8D29-EC51F70A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18C-AE11-4A0F-970B-CF82337C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633-FA5E-4BCD-8C76-EA823CF4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59A-030E-4DED-8F0E-C8B4D198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7408-5B64-4A00-883C-BABEBF22725E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D647-E4CA-43F7-8080-209F19B51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DC5F-1981-4C54-9663-113732E08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127320" y="-241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4"/>
          <p:cNvSpPr/>
          <p:nvPr/>
        </p:nvSpPr>
        <p:spPr>
          <a:xfrm>
            <a:off x="2666880" y="632448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A680-C298-4604-BFF0-BCC6703DDB89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41E3-2940-40DC-B9C0-90356596CF1D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1415-6F84-418F-A249-7996C87C61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62E6-98C5-4656-A679-A980C3C99AF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7" descr="THSP1"/>
          <p:cNvPicPr/>
          <p:nvPr/>
        </p:nvPicPr>
        <p:blipFill>
          <a:blip r:embed="rId2"/>
          <a:stretch/>
        </p:blipFill>
        <p:spPr>
          <a:xfrm>
            <a:off x="2362320" y="457200"/>
            <a:ext cx="4419360" cy="25495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B6D0-5A9D-48F3-9136-9AFA56881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19"/>
          </p:nvPr>
        </p:nvSpPr>
        <p:spPr>
          <a:xfrm>
            <a:off x="27428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20"/>
          </p:nvPr>
        </p:nvSpPr>
        <p:spPr>
          <a:xfrm>
            <a:off x="5638680" y="65527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D77C-9662-4118-8C22-B42DBFA5EC4D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8" descr="PLTW-transparent"/>
          <p:cNvPicPr/>
          <p:nvPr/>
        </p:nvPicPr>
        <p:blipFill>
          <a:blip r:embed="rId3"/>
          <a:stretch/>
        </p:blipFill>
        <p:spPr>
          <a:xfrm>
            <a:off x="8001000" y="5715000"/>
            <a:ext cx="882720" cy="914400"/>
          </a:xfrm>
          <a:prstGeom prst="rect">
            <a:avLst/>
          </a:prstGeom>
          <a:ln w="0">
            <a:noFill/>
          </a:ln>
        </p:spPr>
      </p:pic>
      <p:sp>
        <p:nvSpPr>
          <p:cNvPr id="728" name="Line 11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114480">
            <a:solidFill>
              <a:srgbClr val="e6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07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60702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CFFC-C55A-4EA1-80ED-238EBD6FC2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ftr" idx="24"/>
          </p:nvPr>
        </p:nvSpPr>
        <p:spPr>
          <a:xfrm>
            <a:off x="27428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sldNum" idx="25"/>
          </p:nvPr>
        </p:nvSpPr>
        <p:spPr>
          <a:xfrm>
            <a:off x="5638680" y="65527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DB26-9607-4C1E-B462-59E27B763DCC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Univers Condensed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Univers Condense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sldNum" idx="26"/>
          </p:nvPr>
        </p:nvSpPr>
        <p:spPr>
          <a:xfrm>
            <a:off x="5638680" y="6400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AE67-B665-4852-80DA-6CBE0FD174BE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8"/>
          <p:cNvSpPr/>
          <p:nvPr/>
        </p:nvSpPr>
        <p:spPr>
          <a:xfrm>
            <a:off x="3352680" y="655308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3e3e3"/>
                </a:solidFill>
                <a:latin typeface="Arial Narrow"/>
              </a:rPr>
              <a:t>National Instruments Confidentia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73E5-4908-4FE1-9F28-5D3C1DB1C3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9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C107-1F0A-4763-B40F-33C27EC313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9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99A7-180D-4ACA-BB72-C8F6BFFE449E}" type="slidenum"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THSP1"/>
          <p:cNvPicPr/>
          <p:nvPr/>
        </p:nvPicPr>
        <p:blipFill>
          <a:blip r:embed="rId2"/>
          <a:stretch/>
        </p:blipFill>
        <p:spPr>
          <a:xfrm>
            <a:off x="0" y="0"/>
            <a:ext cx="2286000" cy="13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C45-5AF8-4487-AA2A-E88CEC964D17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07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6070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6172200"/>
            <a:ext cx="7010640" cy="0"/>
          </a:xfrm>
          <a:prstGeom prst="line">
            <a:avLst/>
          </a:prstGeom>
          <a:ln w="324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Picture 6" descr="PLTW-transparent"/>
          <p:cNvPicPr/>
          <p:nvPr/>
        </p:nvPicPr>
        <p:blipFill>
          <a:blip r:embed="rId3"/>
          <a:stretch/>
        </p:blipFill>
        <p:spPr>
          <a:xfrm>
            <a:off x="7924680" y="5791320"/>
            <a:ext cx="809640" cy="838080"/>
          </a:xfrm>
          <a:prstGeom prst="rect">
            <a:avLst/>
          </a:prstGeom>
          <a:ln w="0">
            <a:noFill/>
          </a:ln>
        </p:spPr>
      </p:pic>
      <p:sp>
        <p:nvSpPr>
          <p:cNvPr id="204" name="Line 8"/>
          <p:cNvSpPr/>
          <p:nvPr/>
        </p:nvSpPr>
        <p:spPr>
          <a:xfrm>
            <a:off x="609480" y="1600200"/>
            <a:ext cx="7925040" cy="0"/>
          </a:xfrm>
          <a:prstGeom prst="line">
            <a:avLst/>
          </a:prstGeom>
          <a:ln w="114480">
            <a:solidFill>
              <a:srgbClr val="e6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FACE-B976-4638-839F-92A225C8081C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Univers Condensed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Univers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F6A8-BECB-4AFA-ABB6-B257D5A70F33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12"/>
          <p:cNvSpPr/>
          <p:nvPr/>
        </p:nvSpPr>
        <p:spPr>
          <a:xfrm rot="1354800">
            <a:off x="5477040" y="4119480"/>
            <a:ext cx="19159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7240" y="488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Multisim 3D NI ELVIS II How-to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095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d. 3D NI ELVIS II default view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1"/>
          <a:stretch/>
        </p:blipFill>
        <p:spPr>
          <a:xfrm>
            <a:off x="1619280" y="1143000"/>
            <a:ext cx="5695920" cy="4546440"/>
          </a:xfrm>
          <a:prstGeom prst="rect">
            <a:avLst/>
          </a:prstGeom>
          <a:ln w="0">
            <a:noFill/>
          </a:ln>
        </p:spPr>
      </p:pic>
      <p:sp>
        <p:nvSpPr>
          <p:cNvPr id="1139" name="AutoShape 2"/>
          <p:cNvSpPr/>
          <p:nvPr/>
        </p:nvSpPr>
        <p:spPr>
          <a:xfrm>
            <a:off x="6553080" y="4343400"/>
            <a:ext cx="2438640" cy="1676520"/>
          </a:xfrm>
          <a:prstGeom prst="wedgeRoundRectCallout">
            <a:avLst>
              <a:gd name="adj1" fmla="val -64245"/>
              <a:gd name="adj2" fmla="val -189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arrows allow you to scroll through your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0" name="AutoShape 2"/>
          <p:cNvSpPr/>
          <p:nvPr/>
        </p:nvSpPr>
        <p:spPr>
          <a:xfrm>
            <a:off x="6400800" y="1219320"/>
            <a:ext cx="2590920" cy="1676160"/>
          </a:xfrm>
          <a:prstGeom prst="wedgeRoundRectCallout">
            <a:avLst>
              <a:gd name="adj1" fmla="val -114800"/>
              <a:gd name="adj2" fmla="val 8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ption of a component the cursor is hovering o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1" name="AutoShape 2"/>
          <p:cNvSpPr/>
          <p:nvPr/>
        </p:nvSpPr>
        <p:spPr>
          <a:xfrm>
            <a:off x="304920" y="2362320"/>
            <a:ext cx="2971800" cy="1295280"/>
          </a:xfrm>
          <a:prstGeom prst="wedgeRoundRectCallout">
            <a:avLst>
              <a:gd name="adj1" fmla="val 67328"/>
              <a:gd name="adj2" fmla="val 130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nents appear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Component B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 to be plac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e. Place component = Drag &amp; Drop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43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5213520" cy="3829320"/>
          </a:xfrm>
          <a:prstGeom prst="rect">
            <a:avLst/>
          </a:prstGeom>
          <a:ln w="0">
            <a:noFill/>
          </a:ln>
        </p:spPr>
      </p:pic>
      <p:sp>
        <p:nvSpPr>
          <p:cNvPr id="1144" name="AutoShape 2"/>
          <p:cNvSpPr/>
          <p:nvPr/>
        </p:nvSpPr>
        <p:spPr>
          <a:xfrm>
            <a:off x="1066680" y="5181480"/>
            <a:ext cx="2819520" cy="914400"/>
          </a:xfrm>
          <a:prstGeom prst="wedgeRoundRectCallout">
            <a:avLst>
              <a:gd name="adj1" fmla="val 6601"/>
              <a:gd name="adj2" fmla="val -1097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1. Star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re. Click component hold. Dra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5" name="AutoShape 2"/>
          <p:cNvSpPr/>
          <p:nvPr/>
        </p:nvSpPr>
        <p:spPr>
          <a:xfrm>
            <a:off x="6324480" y="1752480"/>
            <a:ext cx="2590920" cy="990720"/>
          </a:xfrm>
          <a:prstGeom prst="wedgeRoundRectCallout">
            <a:avLst>
              <a:gd name="adj1" fmla="val -165384"/>
              <a:gd name="adj2" fmla="val 1278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2. DROP</a:t>
            </a: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ere desired lo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f. Place component = Drag &amp; Drop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rcRect l="17591" t="0" r="20893" b="0"/>
          <a:stretch/>
        </p:blipFill>
        <p:spPr>
          <a:xfrm>
            <a:off x="762120" y="2286000"/>
            <a:ext cx="2619360" cy="2362320"/>
          </a:xfrm>
          <a:prstGeom prst="rect">
            <a:avLst/>
          </a:prstGeom>
          <a:ln w="0">
            <a:noFill/>
          </a:ln>
        </p:spPr>
      </p:pic>
      <p:sp>
        <p:nvSpPr>
          <p:cNvPr id="1148" name="AutoShape 2"/>
          <p:cNvSpPr/>
          <p:nvPr/>
        </p:nvSpPr>
        <p:spPr>
          <a:xfrm>
            <a:off x="4038480" y="4572000"/>
            <a:ext cx="4800600" cy="1295280"/>
          </a:xfrm>
          <a:prstGeom prst="wedgeRoundRectCallout">
            <a:avLst>
              <a:gd name="adj1" fmla="val -100138"/>
              <a:gd name="adj2" fmla="val -741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ckets indicate where the component pin will be placed when mouse button is relea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9" name="AutoShape 2"/>
          <p:cNvSpPr/>
          <p:nvPr/>
        </p:nvSpPr>
        <p:spPr>
          <a:xfrm>
            <a:off x="3962520" y="2209680"/>
            <a:ext cx="4647960" cy="1295640"/>
          </a:xfrm>
          <a:prstGeom prst="wedgeRoundRectCallout">
            <a:avLst>
              <a:gd name="adj1" fmla="val -83634"/>
              <a:gd name="adj2" fmla="val -15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ckets indicate sockets are internally connected to the red socket on the same ro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0" name="AutoShape 2"/>
          <p:cNvSpPr/>
          <p:nvPr/>
        </p:nvSpPr>
        <p:spPr>
          <a:xfrm>
            <a:off x="533520" y="1066680"/>
            <a:ext cx="7772400" cy="685800"/>
          </a:xfrm>
          <a:prstGeom prst="wedgeRoundRectCallout">
            <a:avLst>
              <a:gd name="adj1" fmla="val -50162"/>
              <a:gd name="adj2" fmla="val -1625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p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Ctrl + R 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tates selected components by 90 degrees clockwi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g. Wiring specifics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52" name="TextBox 5"/>
          <p:cNvSpPr/>
          <p:nvPr/>
        </p:nvSpPr>
        <p:spPr>
          <a:xfrm>
            <a:off x="685800" y="11430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on the socket where you want to start and the destination socket to complete wir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53" name="Picture 5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343400" cy="3664080"/>
          </a:xfrm>
          <a:prstGeom prst="rect">
            <a:avLst/>
          </a:prstGeom>
          <a:ln w="0">
            <a:noFill/>
          </a:ln>
        </p:spPr>
      </p:pic>
      <p:sp>
        <p:nvSpPr>
          <p:cNvPr id="1154" name="AutoShape 2"/>
          <p:cNvSpPr/>
          <p:nvPr/>
        </p:nvSpPr>
        <p:spPr>
          <a:xfrm>
            <a:off x="5715000" y="3886200"/>
            <a:ext cx="2743200" cy="1676520"/>
          </a:xfrm>
          <a:prstGeom prst="wedgeRoundRectCallout">
            <a:avLst>
              <a:gd name="adj1" fmla="val -52435"/>
              <a:gd name="adj2" fmla="val -64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gitimate “target” pin turns green…you know where to connec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5" name="AutoShape 2"/>
          <p:cNvSpPr/>
          <p:nvPr/>
        </p:nvSpPr>
        <p:spPr>
          <a:xfrm>
            <a:off x="228600" y="2286000"/>
            <a:ext cx="2743200" cy="990720"/>
          </a:xfrm>
          <a:prstGeom prst="wedgeRoundRectCallout">
            <a:avLst>
              <a:gd name="adj1" fmla="val 75925"/>
              <a:gd name="adj2" fmla="val 235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t with a signal source and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h. Changing wire colors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57" name="Picture 1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3962520" cy="314784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2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838440" cy="741240"/>
          </a:xfrm>
          <a:prstGeom prst="rect">
            <a:avLst/>
          </a:prstGeom>
          <a:ln w="0">
            <a:noFill/>
          </a:ln>
        </p:spPr>
      </p:pic>
      <p:sp>
        <p:nvSpPr>
          <p:cNvPr id="1159" name="AutoShape 2"/>
          <p:cNvSpPr/>
          <p:nvPr/>
        </p:nvSpPr>
        <p:spPr>
          <a:xfrm>
            <a:off x="609480" y="3581280"/>
            <a:ext cx="3048120" cy="1371600"/>
          </a:xfrm>
          <a:prstGeom prst="wedgeRoundRectCallout">
            <a:avLst>
              <a:gd name="adj1" fmla="val -38893"/>
              <a:gd name="adj2" fmla="val -146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dboard Wire Col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con to change the wire color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h. Verification with DRC and Connectivity Check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5" name="Picture 10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095880" cy="201456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1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914400" cy="76176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2"/>
          <p:cNvSpPr/>
          <p:nvPr/>
        </p:nvSpPr>
        <p:spPr>
          <a:xfrm>
            <a:off x="3048120" y="1295280"/>
            <a:ext cx="5105160" cy="1219320"/>
          </a:xfrm>
          <a:prstGeom prst="wedgeRoundRectCallout">
            <a:avLst>
              <a:gd name="adj1" fmla="val -76953"/>
              <a:gd name="adj2" fmla="val 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gn Rules and Connectivity Check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verify  the circuit on breadboard with your schemat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AutoShape 2"/>
          <p:cNvSpPr/>
          <p:nvPr/>
        </p:nvSpPr>
        <p:spPr>
          <a:xfrm>
            <a:off x="609480" y="5105520"/>
            <a:ext cx="8153640" cy="838080"/>
          </a:xfrm>
          <a:prstGeom prst="wedgeRoundRectCallout">
            <a:avLst>
              <a:gd name="adj1" fmla="val -50189"/>
              <a:gd name="adj2" fmla="val 147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ign Rule Errors –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dicate connections on breadboard not on the schemat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nectivity Errors –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dicate component pins not connected to schematic n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5. Back to the Schematic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71" name="Picture 5" descr=""/>
          <p:cNvPicPr/>
          <p:nvPr/>
        </p:nvPicPr>
        <p:blipFill>
          <a:blip r:embed="rId1"/>
          <a:stretch/>
        </p:blipFill>
        <p:spPr>
          <a:xfrm>
            <a:off x="609480" y="1557360"/>
            <a:ext cx="5372280" cy="3090960"/>
          </a:xfrm>
          <a:prstGeom prst="rect">
            <a:avLst/>
          </a:prstGeom>
          <a:ln w="0">
            <a:noFill/>
          </a:ln>
        </p:spPr>
      </p:pic>
      <p:sp>
        <p:nvSpPr>
          <p:cNvPr id="1172" name="AutoShape 2"/>
          <p:cNvSpPr/>
          <p:nvPr/>
        </p:nvSpPr>
        <p:spPr>
          <a:xfrm>
            <a:off x="4952880" y="762120"/>
            <a:ext cx="3962520" cy="1218960"/>
          </a:xfrm>
          <a:prstGeom prst="wedgeRoundRectCallout">
            <a:avLst>
              <a:gd name="adj1" fmla="val -51842"/>
              <a:gd name="adj2" fmla="val 1383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omponents indicated component has been place in 3D environ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3" name="AutoShape 2"/>
          <p:cNvSpPr/>
          <p:nvPr/>
        </p:nvSpPr>
        <p:spPr>
          <a:xfrm>
            <a:off x="3200400" y="4724280"/>
            <a:ext cx="3733920" cy="1219320"/>
          </a:xfrm>
          <a:prstGeom prst="wedgeRoundRectCallout">
            <a:avLst>
              <a:gd name="adj1" fmla="val -42930"/>
              <a:gd name="adj2" fmla="val -183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ire indicates correct connection has been made in 3D environ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You have successfully explored the </a:t>
            </a:r>
            <a:br>
              <a:rPr sz="3600"/>
            </a:b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NI ELVIS 3D environment!!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Why is this important?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97" name="AutoShape 16"/>
          <p:cNvSpPr/>
          <p:nvPr/>
        </p:nvSpPr>
        <p:spPr>
          <a:xfrm>
            <a:off x="3886200" y="4343400"/>
            <a:ext cx="1219320" cy="838080"/>
          </a:xfrm>
          <a:prstGeom prst="rightArrow">
            <a:avLst>
              <a:gd name="adj1" fmla="val 50000"/>
              <a:gd name="adj2" fmla="val 33341"/>
            </a:avLst>
          </a:prstGeom>
          <a:gradFill rotWithShape="0">
            <a:gsLst>
              <a:gs pos="0">
                <a:srgbClr val="006699"/>
              </a:gs>
              <a:gs pos="50000">
                <a:srgbClr val="a6cadb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5e84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8" name="Picture 2" descr="C:\Documents and Settings\stso\Desktop\IMG_5659.JPG"/>
          <p:cNvPicPr/>
          <p:nvPr/>
        </p:nvPicPr>
        <p:blipFill>
          <a:blip r:embed="rId1"/>
          <a:stretch/>
        </p:blipFill>
        <p:spPr>
          <a:xfrm>
            <a:off x="5715000" y="39625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514600" cy="175896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6"/>
          <p:cNvSpPr/>
          <p:nvPr/>
        </p:nvSpPr>
        <p:spPr>
          <a:xfrm>
            <a:off x="457200" y="1143000"/>
            <a:ext cx="8305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D Environment bridges the gap between theory to real-world prototyp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arn/practice prototyp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ace to make mistak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sign and connectivity check – verify circui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1. Begin with Multisim 11.0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02" name="TextBox 5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» New » NI ELVIS II Schemat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3" name="TextBox 7"/>
          <p:cNvSpPr/>
          <p:nvPr/>
        </p:nvSpPr>
        <p:spPr>
          <a:xfrm>
            <a:off x="304920" y="167652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rt » All Programs » National Instruments » Circuit Design Suite 11.0 » Multisim 11.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4" name="Picture 2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492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2. Draw your circui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06" name="TextBox 4"/>
          <p:cNvSpPr/>
          <p:nvPr/>
        </p:nvSpPr>
        <p:spPr>
          <a:xfrm>
            <a:off x="304920" y="51134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Ctrl + W 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open component browser to select and drop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source and destination to make wire connection between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1"/>
          <a:stretch/>
        </p:blipFill>
        <p:spPr>
          <a:xfrm>
            <a:off x="665280" y="990720"/>
            <a:ext cx="4416480" cy="34290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2"/>
          <a:stretch/>
        </p:blipFill>
        <p:spPr>
          <a:xfrm>
            <a:off x="3560760" y="1752480"/>
            <a:ext cx="41353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3. Launch the breadboard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28600" y="10663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the menu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571640" y="106632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 Narrow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the toolb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763640" cy="39621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4781520" cy="7048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5" descr=""/>
          <p:cNvPicPr/>
          <p:nvPr/>
        </p:nvPicPr>
        <p:blipFill>
          <a:blip r:embed="rId3"/>
          <a:stretch/>
        </p:blipFill>
        <p:spPr>
          <a:xfrm>
            <a:off x="5486400" y="4038480"/>
            <a:ext cx="1414440" cy="1257480"/>
          </a:xfrm>
          <a:prstGeom prst="rect">
            <a:avLst/>
          </a:prstGeom>
          <a:ln w="0">
            <a:noFill/>
          </a:ln>
        </p:spPr>
      </p:pic>
      <p:sp>
        <p:nvSpPr>
          <p:cNvPr id="1115" name="TextBox 9"/>
          <p:cNvSpPr/>
          <p:nvPr/>
        </p:nvSpPr>
        <p:spPr>
          <a:xfrm>
            <a:off x="457200" y="5791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ools » Show Breadboar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6" name="TextBox 10"/>
          <p:cNvSpPr/>
          <p:nvPr/>
        </p:nvSpPr>
        <p:spPr>
          <a:xfrm>
            <a:off x="4572000" y="29718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f the main menu, click o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how Breadboard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4. Explore the 3D NI ELVIS II Environmen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18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6959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359240" cy="347976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a. Rotate the model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21" name="Picture 2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2320920" cy="332424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2"/>
          <p:cNvSpPr/>
          <p:nvPr/>
        </p:nvSpPr>
        <p:spPr>
          <a:xfrm>
            <a:off x="2057400" y="1371600"/>
            <a:ext cx="4267080" cy="1066680"/>
          </a:xfrm>
          <a:prstGeom prst="wedgeRoundRectCallout">
            <a:avLst>
              <a:gd name="adj1" fmla="val 59680"/>
              <a:gd name="adj2" fmla="val 1182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s and hold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Left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use button and move mo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Circular Arrow 7"/>
          <p:cNvSpPr/>
          <p:nvPr/>
        </p:nvSpPr>
        <p:spPr>
          <a:xfrm rot="11317800">
            <a:off x="5768640" y="4194000"/>
            <a:ext cx="2209680" cy="1905120"/>
          </a:xfrm>
          <a:prstGeom prst="pie">
            <a:avLst/>
          </a:prstGeom>
          <a:solidFill>
            <a:srgbClr val="98bb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b. Zoom in and ou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380880" y="1119240"/>
            <a:ext cx="3943440" cy="31478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"/>
          <p:cNvPicPr/>
          <p:nvPr/>
        </p:nvPicPr>
        <p:blipFill>
          <a:blip r:embed="rId2"/>
          <a:stretch/>
        </p:blipFill>
        <p:spPr>
          <a:xfrm>
            <a:off x="4724280" y="1119240"/>
            <a:ext cx="4038840" cy="31240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2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1895400" cy="2714760"/>
          </a:xfrm>
          <a:prstGeom prst="rect">
            <a:avLst/>
          </a:prstGeom>
          <a:ln w="0">
            <a:noFill/>
          </a:ln>
        </p:spPr>
      </p:pic>
      <p:sp>
        <p:nvSpPr>
          <p:cNvPr id="1128" name="AutoShape 2"/>
          <p:cNvSpPr/>
          <p:nvPr/>
        </p:nvSpPr>
        <p:spPr>
          <a:xfrm>
            <a:off x="914400" y="4572000"/>
            <a:ext cx="1981080" cy="1066680"/>
          </a:xfrm>
          <a:prstGeom prst="wedgeRoundRectCallout">
            <a:avLst>
              <a:gd name="adj1" fmla="val 113745"/>
              <a:gd name="adj2" fmla="val -979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oll DOWN to zoom ou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AutoShape 2"/>
          <p:cNvSpPr/>
          <p:nvPr/>
        </p:nvSpPr>
        <p:spPr>
          <a:xfrm>
            <a:off x="6324480" y="4648320"/>
            <a:ext cx="1752840" cy="1066680"/>
          </a:xfrm>
          <a:prstGeom prst="wedgeRoundRectCallout">
            <a:avLst>
              <a:gd name="adj1" fmla="val -133398"/>
              <a:gd name="adj2" fmla="val -114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oll UP to zoom 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Down Arrow 7"/>
          <p:cNvSpPr/>
          <p:nvPr/>
        </p:nvSpPr>
        <p:spPr>
          <a:xfrm>
            <a:off x="304920" y="449568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8bb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Down Arrow 8"/>
          <p:cNvSpPr/>
          <p:nvPr/>
        </p:nvSpPr>
        <p:spPr>
          <a:xfrm rot="10800000">
            <a:off x="8305920" y="449532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8bb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. Panning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33" name="Quad Arrow 5"/>
          <p:cNvSpPr/>
          <p:nvPr/>
        </p:nvSpPr>
        <p:spPr>
          <a:xfrm>
            <a:off x="2057400" y="1066680"/>
            <a:ext cx="4724280" cy="4724640"/>
          </a:xfrm>
          <a:prstGeom prst="pie">
            <a:avLst/>
          </a:prstGeom>
          <a:solidFill>
            <a:srgbClr val="98bbe5">
              <a:alpha val="52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4" name="Picture 2" descr=""/>
          <p:cNvPicPr/>
          <p:nvPr/>
        </p:nvPicPr>
        <p:blipFill>
          <a:blip r:embed="rId1"/>
          <a:stretch/>
        </p:blipFill>
        <p:spPr>
          <a:xfrm>
            <a:off x="3629160" y="2438280"/>
            <a:ext cx="1628640" cy="2333880"/>
          </a:xfrm>
          <a:prstGeom prst="rect">
            <a:avLst/>
          </a:prstGeom>
          <a:ln w="0">
            <a:noFill/>
          </a:ln>
        </p:spPr>
      </p:pic>
      <p:sp>
        <p:nvSpPr>
          <p:cNvPr id="1135" name="AutoShape 2"/>
          <p:cNvSpPr/>
          <p:nvPr/>
        </p:nvSpPr>
        <p:spPr>
          <a:xfrm>
            <a:off x="6172200" y="1143000"/>
            <a:ext cx="2590920" cy="1676520"/>
          </a:xfrm>
          <a:prstGeom prst="wedgeRoundRectCallout">
            <a:avLst>
              <a:gd name="adj1" fmla="val -120342"/>
              <a:gd name="adj2" fmla="val 4706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ld down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use-wheel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 drag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AutoShape 2"/>
          <p:cNvSpPr/>
          <p:nvPr/>
        </p:nvSpPr>
        <p:spPr>
          <a:xfrm>
            <a:off x="380880" y="1219320"/>
            <a:ext cx="2438640" cy="1218960"/>
          </a:xfrm>
          <a:prstGeom prst="wedgeRoundRectCallout">
            <a:avLst>
              <a:gd name="adj1" fmla="val -50449"/>
              <a:gd name="adj2" fmla="val -2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( Ctrl + Shift )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 drag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21:33:10Z</dcterms:created>
  <dc:creator>Fujitsu</dc:creator>
  <dc:description/>
  <dc:language>en-US</dc:language>
  <cp:lastModifiedBy>stso</cp:lastModifiedBy>
  <dcterms:modified xsi:type="dcterms:W3CDTF">2009-12-06T17:43:03Z</dcterms:modified>
  <cp:revision>82</cp:revision>
  <dc:subject/>
  <dc:title>Whats our story?</dc:title>
</cp:coreProperties>
</file>