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5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</p:sldIdLst>
  <p:sldSz cx="9144000" cy="6858000"/>
  <p:notesSz cx="9223375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0" y="0"/>
            <a:ext cx="9223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dt" idx="32"/>
          </p:nvPr>
        </p:nvSpPr>
        <p:spPr>
          <a:xfrm>
            <a:off x="5224320" y="-36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sldImg"/>
          </p:nvPr>
        </p:nvSpPr>
        <p:spPr>
          <a:xfrm>
            <a:off x="2857320" y="525240"/>
            <a:ext cx="3508200" cy="263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ftr" idx="33"/>
          </p:nvPr>
        </p:nvSpPr>
        <p:spPr>
          <a:xfrm>
            <a:off x="0" y="665748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 type="sldNum" idx="34"/>
          </p:nvPr>
        </p:nvSpPr>
        <p:spPr>
          <a:xfrm>
            <a:off x="5224320" y="665748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2312-23FF-4185-8762-C2755B698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991A-44B0-472C-9E4F-6C9198744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9254-DED3-45E3-81E8-CC9CD19EF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B63-2570-4EE3-914A-D5D7D3209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33DE-534C-49FB-B226-146FA0B89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1BF3-00AF-4973-A70A-D6E98D291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9518-C807-4B28-8CC1-E288DD2FD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D0D9-F8A2-448C-8215-97E34693D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935-1327-471F-8B7F-C4C131C82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561E-76A4-4DFD-BB08-8E68B0087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6CF-7BBD-448E-ACC9-DDEF00688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08F4-74FE-4FD7-B972-69E890C6A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CA28-D8D6-4846-9DE9-4CE68A8E9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23C-1C15-41E3-A6E6-A7E631606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87E4-67DB-4FF3-AB2E-5CCA6203C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C45C-6488-4611-B2E4-81F8A25AC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D4C0-AFB7-4F85-BC3F-138673805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8FAF-54C4-4271-9FF2-71B773749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004A-DE69-4AE2-9DE7-B9D717EC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4561-30D9-4831-960E-20527E66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5C26-7698-469D-BB6D-3957FD7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A05-8781-4C34-BD66-B5DB5572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A2CE-2A8B-47A6-81B8-3D0D8C9A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5482-6F6C-4B64-9DD7-5D3FFFF1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9E61-8205-40DE-AF51-9E6BD44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D438-7EBB-4BA8-8836-F63923D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638C-7F3A-46BB-9336-AA0E27FB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38B8-1A32-469D-B9AD-9D71E64A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9790-9E2F-4F12-997B-707874AA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5CA3-3E6A-43DB-BBB2-92F311D0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91BD-A867-4897-802C-31BF32A7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D117-7643-45C6-8ED4-B9EC0A77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625C-2BAC-4D1F-845E-1939A4B6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5E2D-04C2-4872-BADA-3C2E93BE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15B3-2C21-4115-8690-BEA0053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9A47-B736-429E-A3AE-BF66875B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877C-113A-4617-BBF7-D837CDDF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3A53-869D-40AA-8B30-5B9C825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AB12-3D3F-4411-94A8-5CD29215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FFF8-118F-4192-8345-BFDC3348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5308-6A83-48CE-ACBB-AEBD629F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17E4-512A-4898-9E51-A5294CFC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F281-A64A-4528-872C-A9F6DECB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1939-976C-405D-B7CB-F04B2ED7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DC19-8D94-4AFC-9B95-E6FDADE6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DF32-8D1D-4030-8B6C-2366D54B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1A8D-C8BE-435B-94B8-C1440C16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E8DA-6EA9-409F-9B3E-828FFC2F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AFDD-7C3A-4890-8BEC-3BA70C77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F858-EECF-4427-B5CB-86DFDCD6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3CC0-9996-4514-A1F9-946C394D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F627-BA7E-4190-8993-97CA29DF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4595-7DCE-4D28-9E3C-E75D19D9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D2461-E0E2-4D14-B62A-0E891DDC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5B98C-0A6B-47A1-AC1A-5A882848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470A3-C1B8-4A5D-A853-CD0EA723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6A386-F1EE-4069-88C2-363E694C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EFAA-1408-4146-B5F2-9046F027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B942D-205D-4E4B-B588-01F8E122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972C3-1DF9-42DD-A42C-9E148B2D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57E6E-0329-4B33-B3B6-0BEED53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99571-132C-4DBB-84FC-6F5E58D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328B5-4A39-4D1C-A0A5-7B3251CE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B83C0-FE18-4BB1-BBC2-96332281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E8BF5-4466-45E5-B0E4-88B430FB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6610-6B4E-4F0F-9A88-A394AEA0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B2171-9B21-4B27-BB05-2B5E387F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3F928-105D-44A2-BF7D-EE12DE49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EE53-7B01-43E5-BA46-BA127F15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58E76-99EE-4B8B-913C-3BD8DEE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4E17-0153-4C70-B7C5-0688AA82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4EE2-A0A2-4AF1-8DF9-07FAED70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8FEA1-4474-419C-9BFA-081B694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5C37-72B1-4BBE-9187-DE07020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FF31C-881D-44F9-B8FE-548FE78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CDF4B-5FC3-4B1D-A19F-5CE9277F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FA441-5B81-4578-AF99-BF0E71D1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7DC4A-6022-4210-AF96-4B7B895F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E26A8-34AB-4660-B3D8-C6531F83297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1CC64-734D-4FC6-A792-15E2BF151E0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6369E-D334-4F3B-8DD7-F8473E2FED7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2D1AB-8A3F-412D-9A91-DAD2F7FEBFE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78ED4-B038-42C4-96F5-C4D8C5AA62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DAF33-3D08-4D55-92B0-5FFBF17B558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132C0-5654-4EAA-8617-20A03EA12AD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FB98B-26AD-4401-AD68-E8B1BF1785E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BD070-3837-4A61-BD4A-C0F76525AAA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4CCDB-F019-44DA-B221-6DDA65D460E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31AA0-6846-44DD-AF8C-CF2FC38DD95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9A83A-4D94-49E0-B85C-07B0607A658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98D1BB-6A51-4B4C-B520-41E982D2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569BB8-2156-4BB7-9191-B828CD5C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1D9E80-02EC-4533-BF75-DAC45F26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6C6E7-76D3-40C1-A190-9F82A5C2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8B3B68-D5CA-4EF6-9D0A-3FF087D5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BC5453-C2C4-4CF2-B32A-4A36EC52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D3FE47-1398-472B-BF97-3FC69E1A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05B873-A437-4CF4-BB76-6F17F2B2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510D3-9A2D-4EC9-ABE5-3C38048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DD3E7C-038B-4B71-97AB-2E2782C6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E6F9A-69AD-4116-9DD9-E298B8B5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E5244-E477-4F6B-A0EB-3C60B088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C85AF-598D-4470-B271-23A22253D0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F6572-7E2E-4DFD-84A5-9A000B40906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531DA-0139-48D4-86F3-2BF2A72E19E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EE2DD-7289-47EC-8B3A-D78DB2E8DBE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38C64-CF96-4E3A-8E12-AB90784C4FC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76F65-6D30-4AE5-A076-86977C5971B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1291F-8BA5-459B-8D11-2F4EBE499AE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0D647-E3CB-4598-9C95-12E0112F7B3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5C7A1-0EA0-4264-A225-AE53A31583A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4E636-ACA0-40F8-AA87-E95AAD90E20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ACBB6-2A3F-4A82-8276-ED24955292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17E00-E8D9-4538-B2C3-3B2C4AD86C9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CDF5F1-10A7-4C88-AC8F-B9D2309A448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F523EA-71CA-4048-A1B3-84FFC7CF620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BE0E6-2B90-461A-A40D-D1B7DBC34DD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48BDB-2B34-4497-9BE0-FDB865D7B8B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98770-7A38-4576-AFC2-8892E6CE274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917488-DB44-4D78-BC02-B821C36C06C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DE476-1A99-4A2F-B24F-3493DC3ED2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549FB6-85D7-4C96-8DFE-C3D05B24E8A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E7A53-F195-4976-B4A3-66545977F95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3AFBEC-E8F0-4770-89B1-3490D92F4BA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27FDE-748E-489F-BCBA-630B1BEF463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5974F7-DFE5-4B94-9B8E-38BE6A15747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B3219E-C97F-457F-BD6B-FA6A94C9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4BFFBC-79E9-4C80-90DD-5EAB1174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88DFFA-79C7-436D-8E66-796C067D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15B11C-735F-421D-93D5-44456BA6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466A3B-C811-4D56-8649-67FA49DB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63529A-D371-4941-92B9-BD61CBB2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1056F7-4631-43B3-8915-F7C14C7D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C28A48-9F55-43EA-B19C-2155520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002BDD-FA11-422A-9FDE-D1BF8A58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81079C-04A4-4EC3-9364-724DD376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CBFAD0-4496-49ED-BA56-67EF12AB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1559C0-C4F3-4D98-88E3-CCD16CFB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85CA4B-769E-4B6E-8F6C-845E62A5BD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4A7A51-57FF-415C-88C8-76F7D29C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60C5EB-CFD2-480E-A77E-DC80A413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2C0B7B-702C-45F6-A295-F384CFAF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090ED5-0CF1-4BB6-B015-C8B7DE99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D8CA17-AB3B-4B07-AA88-9D8293F6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7C71FB-6758-478E-9F9E-E1D404F6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066F2E-354F-4BF3-8FE2-C24865AA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7A8ED6-3473-4742-99AC-A2134E6F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3D5F1D-CEEF-43B8-BEB2-552E8DD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14B98E-E6A3-4CE5-942F-D8A9394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303D58-FBF3-4798-8A04-BB0FBC7D62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C29-BF94-47BF-B03D-F9A51D95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1AC-11F9-4D37-9CAF-A972A006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9F9-66D0-4341-8402-9E972814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7DB-7700-4484-8389-E8A9E49F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40F-4B7B-4A90-B0CF-5B494D7D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97A-C9A3-4E99-A6AF-CB24961B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E80-3305-4B77-BB08-A8990702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7AC-AAE2-4376-867C-BAC517CA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7D7-6613-44FF-B28A-90F6A5AB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CC1-8829-4B74-BD18-0834AB81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062-3801-40A8-B973-458FF86C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A2E-E651-495B-AAE3-16132C25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B5AD-E7AA-49E4-B451-BFC6CFB5672F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B1B-64F8-4495-8A1B-F4AEF80F8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E8FC-CFE7-4578-8BEB-601ADE6D2B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127320" y="-241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4"/>
          <p:cNvSpPr/>
          <p:nvPr/>
        </p:nvSpPr>
        <p:spPr>
          <a:xfrm>
            <a:off x="2666880" y="632448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231D-CE59-4CB8-BC9E-344EA792A9BC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D1F9-99F6-493C-A4C7-386057928542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6914-1D53-4A46-9E55-39E3E566D2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6C47-14CF-4E76-AEAC-14B48717866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7" descr="THSP1"/>
          <p:cNvPicPr/>
          <p:nvPr/>
        </p:nvPicPr>
        <p:blipFill>
          <a:blip r:embed="rId2"/>
          <a:stretch/>
        </p:blipFill>
        <p:spPr>
          <a:xfrm>
            <a:off x="2362320" y="457200"/>
            <a:ext cx="4419360" cy="25495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CCAF-AC17-402B-AB52-00C9E4D3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19"/>
          </p:nvPr>
        </p:nvSpPr>
        <p:spPr>
          <a:xfrm>
            <a:off x="27428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20"/>
          </p:nvPr>
        </p:nvSpPr>
        <p:spPr>
          <a:xfrm>
            <a:off x="5638680" y="65527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F2B0-685A-414B-B086-278D7794D2CD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8" descr="PLTW-transparent"/>
          <p:cNvPicPr/>
          <p:nvPr/>
        </p:nvPicPr>
        <p:blipFill>
          <a:blip r:embed="rId3"/>
          <a:stretch/>
        </p:blipFill>
        <p:spPr>
          <a:xfrm>
            <a:off x="8001000" y="5715000"/>
            <a:ext cx="882720" cy="914400"/>
          </a:xfrm>
          <a:prstGeom prst="rect">
            <a:avLst/>
          </a:prstGeom>
          <a:ln w="0">
            <a:noFill/>
          </a:ln>
        </p:spPr>
      </p:pic>
      <p:sp>
        <p:nvSpPr>
          <p:cNvPr id="728" name="Line 11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114480">
            <a:solidFill>
              <a:srgbClr val="e6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07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60702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0E91-C5DD-416C-924C-282A9C024B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ftr" idx="24"/>
          </p:nvPr>
        </p:nvSpPr>
        <p:spPr>
          <a:xfrm>
            <a:off x="27428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sldNum" idx="25"/>
          </p:nvPr>
        </p:nvSpPr>
        <p:spPr>
          <a:xfrm>
            <a:off x="5638680" y="65527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6056-A37B-47D4-90E7-80B164DF8C95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Univers Condensed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Univers Condense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sldNum" idx="26"/>
          </p:nvPr>
        </p:nvSpPr>
        <p:spPr>
          <a:xfrm>
            <a:off x="5638680" y="6400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C407-28A1-45AD-A5AA-7504ED1EBC28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8"/>
          <p:cNvSpPr/>
          <p:nvPr/>
        </p:nvSpPr>
        <p:spPr>
          <a:xfrm>
            <a:off x="3352680" y="655308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3e3e3"/>
                </a:solidFill>
                <a:latin typeface="Arial Narrow"/>
              </a:rPr>
              <a:t>National Instruments Confidentia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F917-0B2A-4F1E-BBBE-CFE388107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9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C130-F96F-4613-B1DB-25BC17B4CC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9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F4E5-5712-4A32-AA04-68D834ADAB76}" type="slidenum"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THSP1"/>
          <p:cNvPicPr/>
          <p:nvPr/>
        </p:nvPicPr>
        <p:blipFill>
          <a:blip r:embed="rId2"/>
          <a:stretch/>
        </p:blipFill>
        <p:spPr>
          <a:xfrm>
            <a:off x="0" y="0"/>
            <a:ext cx="2286000" cy="13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F93A-058C-4633-8C61-F0ED9C71CDBC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07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6070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6172200"/>
            <a:ext cx="7010640" cy="0"/>
          </a:xfrm>
          <a:prstGeom prst="line">
            <a:avLst/>
          </a:prstGeom>
          <a:ln w="324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Picture 6" descr="PLTW-transparent"/>
          <p:cNvPicPr/>
          <p:nvPr/>
        </p:nvPicPr>
        <p:blipFill>
          <a:blip r:embed="rId3"/>
          <a:stretch/>
        </p:blipFill>
        <p:spPr>
          <a:xfrm>
            <a:off x="7924680" y="5791320"/>
            <a:ext cx="809640" cy="838080"/>
          </a:xfrm>
          <a:prstGeom prst="rect">
            <a:avLst/>
          </a:prstGeom>
          <a:ln w="0">
            <a:noFill/>
          </a:ln>
        </p:spPr>
      </p:pic>
      <p:sp>
        <p:nvSpPr>
          <p:cNvPr id="204" name="Line 8"/>
          <p:cNvSpPr/>
          <p:nvPr/>
        </p:nvSpPr>
        <p:spPr>
          <a:xfrm>
            <a:off x="609480" y="1600200"/>
            <a:ext cx="7925040" cy="0"/>
          </a:xfrm>
          <a:prstGeom prst="line">
            <a:avLst/>
          </a:prstGeom>
          <a:ln w="114480">
            <a:solidFill>
              <a:srgbClr val="e6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C4E1-2E82-400F-AF9E-B742F84335FA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Univers Condensed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Univers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93F3-0950-4B83-B45F-5DBCF9CBD5C2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12"/>
          <p:cNvSpPr/>
          <p:nvPr/>
        </p:nvSpPr>
        <p:spPr>
          <a:xfrm rot="1354800">
            <a:off x="5477040" y="4119480"/>
            <a:ext cx="19159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7240" y="488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Multisim 3D NI ELVIS II How-to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095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d. 3D NI ELVIS II default view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1"/>
          <a:stretch/>
        </p:blipFill>
        <p:spPr>
          <a:xfrm>
            <a:off x="1619280" y="1143000"/>
            <a:ext cx="5695920" cy="4546440"/>
          </a:xfrm>
          <a:prstGeom prst="rect">
            <a:avLst/>
          </a:prstGeom>
          <a:ln w="0">
            <a:noFill/>
          </a:ln>
        </p:spPr>
      </p:pic>
      <p:sp>
        <p:nvSpPr>
          <p:cNvPr id="1139" name="AutoShape 2"/>
          <p:cNvSpPr/>
          <p:nvPr/>
        </p:nvSpPr>
        <p:spPr>
          <a:xfrm>
            <a:off x="6553080" y="4343400"/>
            <a:ext cx="2438640" cy="1676520"/>
          </a:xfrm>
          <a:prstGeom prst="wedgeRoundRectCallout">
            <a:avLst>
              <a:gd name="adj1" fmla="val -64245"/>
              <a:gd name="adj2" fmla="val -189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arrows allow you to scroll through your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0" name="AutoShape 2"/>
          <p:cNvSpPr/>
          <p:nvPr/>
        </p:nvSpPr>
        <p:spPr>
          <a:xfrm>
            <a:off x="6400800" y="1219320"/>
            <a:ext cx="2590920" cy="1676160"/>
          </a:xfrm>
          <a:prstGeom prst="wedgeRoundRectCallout">
            <a:avLst>
              <a:gd name="adj1" fmla="val -114800"/>
              <a:gd name="adj2" fmla="val 8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ption of a component the cursor is hovering o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1" name="AutoShape 2"/>
          <p:cNvSpPr/>
          <p:nvPr/>
        </p:nvSpPr>
        <p:spPr>
          <a:xfrm>
            <a:off x="304920" y="2362320"/>
            <a:ext cx="2971800" cy="1295280"/>
          </a:xfrm>
          <a:prstGeom prst="wedgeRoundRectCallout">
            <a:avLst>
              <a:gd name="adj1" fmla="val 67328"/>
              <a:gd name="adj2" fmla="val 130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nents appear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Component B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 to be plac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e. Place component = Drag &amp; Drop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43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5213520" cy="3829320"/>
          </a:xfrm>
          <a:prstGeom prst="rect">
            <a:avLst/>
          </a:prstGeom>
          <a:ln w="0">
            <a:noFill/>
          </a:ln>
        </p:spPr>
      </p:pic>
      <p:sp>
        <p:nvSpPr>
          <p:cNvPr id="1144" name="AutoShape 2"/>
          <p:cNvSpPr/>
          <p:nvPr/>
        </p:nvSpPr>
        <p:spPr>
          <a:xfrm>
            <a:off x="1066680" y="5181480"/>
            <a:ext cx="2819520" cy="914400"/>
          </a:xfrm>
          <a:prstGeom prst="wedgeRoundRectCallout">
            <a:avLst>
              <a:gd name="adj1" fmla="val 6601"/>
              <a:gd name="adj2" fmla="val -1097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1. Star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re. Click component hold. Dra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5" name="AutoShape 2"/>
          <p:cNvSpPr/>
          <p:nvPr/>
        </p:nvSpPr>
        <p:spPr>
          <a:xfrm>
            <a:off x="6324480" y="1752480"/>
            <a:ext cx="2590920" cy="990720"/>
          </a:xfrm>
          <a:prstGeom prst="wedgeRoundRectCallout">
            <a:avLst>
              <a:gd name="adj1" fmla="val -165384"/>
              <a:gd name="adj2" fmla="val 1278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2. DROP</a:t>
            </a: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ere desired lo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f. Place component = Drag &amp; Drop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rcRect l="17591" t="0" r="20893" b="0"/>
          <a:stretch/>
        </p:blipFill>
        <p:spPr>
          <a:xfrm>
            <a:off x="762120" y="2286000"/>
            <a:ext cx="2619360" cy="2362320"/>
          </a:xfrm>
          <a:prstGeom prst="rect">
            <a:avLst/>
          </a:prstGeom>
          <a:ln w="0">
            <a:noFill/>
          </a:ln>
        </p:spPr>
      </p:pic>
      <p:sp>
        <p:nvSpPr>
          <p:cNvPr id="1148" name="AutoShape 2"/>
          <p:cNvSpPr/>
          <p:nvPr/>
        </p:nvSpPr>
        <p:spPr>
          <a:xfrm>
            <a:off x="4038480" y="4572000"/>
            <a:ext cx="4800600" cy="1295280"/>
          </a:xfrm>
          <a:prstGeom prst="wedgeRoundRectCallout">
            <a:avLst>
              <a:gd name="adj1" fmla="val -100138"/>
              <a:gd name="adj2" fmla="val -741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ckets indicate where the component pin will be placed when mouse button is relea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9" name="AutoShape 2"/>
          <p:cNvSpPr/>
          <p:nvPr/>
        </p:nvSpPr>
        <p:spPr>
          <a:xfrm>
            <a:off x="3962520" y="2209680"/>
            <a:ext cx="4647960" cy="1295640"/>
          </a:xfrm>
          <a:prstGeom prst="wedgeRoundRectCallout">
            <a:avLst>
              <a:gd name="adj1" fmla="val -83634"/>
              <a:gd name="adj2" fmla="val -15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ckets indicate sockets are internally connected to the red socket on the same ro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0" name="AutoShape 2"/>
          <p:cNvSpPr/>
          <p:nvPr/>
        </p:nvSpPr>
        <p:spPr>
          <a:xfrm>
            <a:off x="533520" y="1066680"/>
            <a:ext cx="7772400" cy="685800"/>
          </a:xfrm>
          <a:prstGeom prst="wedgeRoundRectCallout">
            <a:avLst>
              <a:gd name="adj1" fmla="val -50162"/>
              <a:gd name="adj2" fmla="val -1625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p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Ctrl + R 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tates selected components by 90 degrees clockwi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g. Wiring specifics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52" name="TextBox 5"/>
          <p:cNvSpPr/>
          <p:nvPr/>
        </p:nvSpPr>
        <p:spPr>
          <a:xfrm>
            <a:off x="685800" y="11430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on the socket where you want to start and the destination socket to complete wir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53" name="Picture 5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343400" cy="3664080"/>
          </a:xfrm>
          <a:prstGeom prst="rect">
            <a:avLst/>
          </a:prstGeom>
          <a:ln w="0">
            <a:noFill/>
          </a:ln>
        </p:spPr>
      </p:pic>
      <p:sp>
        <p:nvSpPr>
          <p:cNvPr id="1154" name="AutoShape 2"/>
          <p:cNvSpPr/>
          <p:nvPr/>
        </p:nvSpPr>
        <p:spPr>
          <a:xfrm>
            <a:off x="5715000" y="3886200"/>
            <a:ext cx="2743200" cy="1676520"/>
          </a:xfrm>
          <a:prstGeom prst="wedgeRoundRectCallout">
            <a:avLst>
              <a:gd name="adj1" fmla="val -52435"/>
              <a:gd name="adj2" fmla="val -64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gitimate “target” pin turns green…you know where to connec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5" name="AutoShape 2"/>
          <p:cNvSpPr/>
          <p:nvPr/>
        </p:nvSpPr>
        <p:spPr>
          <a:xfrm>
            <a:off x="228600" y="2286000"/>
            <a:ext cx="2743200" cy="990720"/>
          </a:xfrm>
          <a:prstGeom prst="wedgeRoundRectCallout">
            <a:avLst>
              <a:gd name="adj1" fmla="val 75925"/>
              <a:gd name="adj2" fmla="val 235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t with a signal source and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h. Changing wire colors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57" name="Picture 1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3962520" cy="314784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2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838440" cy="741240"/>
          </a:xfrm>
          <a:prstGeom prst="rect">
            <a:avLst/>
          </a:prstGeom>
          <a:ln w="0">
            <a:noFill/>
          </a:ln>
        </p:spPr>
      </p:pic>
      <p:sp>
        <p:nvSpPr>
          <p:cNvPr id="1159" name="AutoShape 2"/>
          <p:cNvSpPr/>
          <p:nvPr/>
        </p:nvSpPr>
        <p:spPr>
          <a:xfrm>
            <a:off x="609480" y="3581280"/>
            <a:ext cx="3048120" cy="1371600"/>
          </a:xfrm>
          <a:prstGeom prst="wedgeRoundRectCallout">
            <a:avLst>
              <a:gd name="adj1" fmla="val -38893"/>
              <a:gd name="adj2" fmla="val -146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dboard Wire Col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con to change the wire color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h. Verification with DRC and Connectivity Check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5" name="Picture 10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095880" cy="201456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1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914400" cy="76176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2"/>
          <p:cNvSpPr/>
          <p:nvPr/>
        </p:nvSpPr>
        <p:spPr>
          <a:xfrm>
            <a:off x="3048120" y="1295280"/>
            <a:ext cx="5105160" cy="1219320"/>
          </a:xfrm>
          <a:prstGeom prst="wedgeRoundRectCallout">
            <a:avLst>
              <a:gd name="adj1" fmla="val -76953"/>
              <a:gd name="adj2" fmla="val 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gn Rules and Connectivity Check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verify  the circuit on breadboard with your schemat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AutoShape 2"/>
          <p:cNvSpPr/>
          <p:nvPr/>
        </p:nvSpPr>
        <p:spPr>
          <a:xfrm>
            <a:off x="609480" y="5105520"/>
            <a:ext cx="8153640" cy="838080"/>
          </a:xfrm>
          <a:prstGeom prst="wedgeRoundRectCallout">
            <a:avLst>
              <a:gd name="adj1" fmla="val -50189"/>
              <a:gd name="adj2" fmla="val 147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ign Rule Errors –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dicate connections on breadboard not on the schemat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nectivity Errors –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dicate component pins not connected to schematic n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5. Back to the Schematic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71" name="Picture 5" descr=""/>
          <p:cNvPicPr/>
          <p:nvPr/>
        </p:nvPicPr>
        <p:blipFill>
          <a:blip r:embed="rId1"/>
          <a:stretch/>
        </p:blipFill>
        <p:spPr>
          <a:xfrm>
            <a:off x="609480" y="1557360"/>
            <a:ext cx="5372280" cy="3090960"/>
          </a:xfrm>
          <a:prstGeom prst="rect">
            <a:avLst/>
          </a:prstGeom>
          <a:ln w="0">
            <a:noFill/>
          </a:ln>
        </p:spPr>
      </p:pic>
      <p:sp>
        <p:nvSpPr>
          <p:cNvPr id="1172" name="AutoShape 2"/>
          <p:cNvSpPr/>
          <p:nvPr/>
        </p:nvSpPr>
        <p:spPr>
          <a:xfrm>
            <a:off x="4952880" y="762120"/>
            <a:ext cx="3962520" cy="1218960"/>
          </a:xfrm>
          <a:prstGeom prst="wedgeRoundRectCallout">
            <a:avLst>
              <a:gd name="adj1" fmla="val -51842"/>
              <a:gd name="adj2" fmla="val 1383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omponents indicated component has been place in 3D environ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3" name="AutoShape 2"/>
          <p:cNvSpPr/>
          <p:nvPr/>
        </p:nvSpPr>
        <p:spPr>
          <a:xfrm>
            <a:off x="3200400" y="4724280"/>
            <a:ext cx="3733920" cy="1219320"/>
          </a:xfrm>
          <a:prstGeom prst="wedgeRoundRectCallout">
            <a:avLst>
              <a:gd name="adj1" fmla="val -42930"/>
              <a:gd name="adj2" fmla="val -183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ire indicates correct connection has been made in 3D environ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You have successfully explored the </a:t>
            </a:r>
            <a:br>
              <a:rPr sz="3600"/>
            </a:b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NI ELVIS 3D environment!!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Why is this important?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97" name="AutoShape 16"/>
          <p:cNvSpPr/>
          <p:nvPr/>
        </p:nvSpPr>
        <p:spPr>
          <a:xfrm>
            <a:off x="3886200" y="4343400"/>
            <a:ext cx="1219320" cy="838080"/>
          </a:xfrm>
          <a:prstGeom prst="rightArrow">
            <a:avLst>
              <a:gd name="adj1" fmla="val 50000"/>
              <a:gd name="adj2" fmla="val 33341"/>
            </a:avLst>
          </a:prstGeom>
          <a:gradFill rotWithShape="0">
            <a:gsLst>
              <a:gs pos="0">
                <a:srgbClr val="006699"/>
              </a:gs>
              <a:gs pos="50000">
                <a:srgbClr val="a6cadb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5e84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8" name="Picture 2" descr="C:\Documents and Settings\stso\Desktop\IMG_5659.JPG"/>
          <p:cNvPicPr/>
          <p:nvPr/>
        </p:nvPicPr>
        <p:blipFill>
          <a:blip r:embed="rId1"/>
          <a:stretch/>
        </p:blipFill>
        <p:spPr>
          <a:xfrm>
            <a:off x="5715000" y="39625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514600" cy="175896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6"/>
          <p:cNvSpPr/>
          <p:nvPr/>
        </p:nvSpPr>
        <p:spPr>
          <a:xfrm>
            <a:off x="457200" y="1143000"/>
            <a:ext cx="8305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D Environment bridges the gap between theory to real-world prototyp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arn/practice prototyp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ace to make mistak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sign and connectivity check – verify circui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1. Begin with Multisim 11.0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02" name="TextBox 5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» New » NI ELVIS II Schemat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3" name="TextBox 7"/>
          <p:cNvSpPr/>
          <p:nvPr/>
        </p:nvSpPr>
        <p:spPr>
          <a:xfrm>
            <a:off x="304920" y="167652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rt » All Programs » National Instruments » Circuit Design Suite 11.0 » Multisim 11.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4" name="Picture 2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492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2. Draw your circui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06" name="TextBox 4"/>
          <p:cNvSpPr/>
          <p:nvPr/>
        </p:nvSpPr>
        <p:spPr>
          <a:xfrm>
            <a:off x="304920" y="51134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Ctrl + W 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open component browser to select and drop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source and destination to make wire connection between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1"/>
          <a:stretch/>
        </p:blipFill>
        <p:spPr>
          <a:xfrm>
            <a:off x="665280" y="990720"/>
            <a:ext cx="4416480" cy="34290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2"/>
          <a:stretch/>
        </p:blipFill>
        <p:spPr>
          <a:xfrm>
            <a:off x="3560760" y="1752480"/>
            <a:ext cx="41353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3. Launch the breadboard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28600" y="10663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the menu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571640" y="106632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 Narrow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the toolb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763640" cy="39621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4781520" cy="7048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5" descr=""/>
          <p:cNvPicPr/>
          <p:nvPr/>
        </p:nvPicPr>
        <p:blipFill>
          <a:blip r:embed="rId3"/>
          <a:stretch/>
        </p:blipFill>
        <p:spPr>
          <a:xfrm>
            <a:off x="5486400" y="4038480"/>
            <a:ext cx="1414440" cy="1257480"/>
          </a:xfrm>
          <a:prstGeom prst="rect">
            <a:avLst/>
          </a:prstGeom>
          <a:ln w="0">
            <a:noFill/>
          </a:ln>
        </p:spPr>
      </p:pic>
      <p:sp>
        <p:nvSpPr>
          <p:cNvPr id="1115" name="TextBox 9"/>
          <p:cNvSpPr/>
          <p:nvPr/>
        </p:nvSpPr>
        <p:spPr>
          <a:xfrm>
            <a:off x="457200" y="5791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ools » Show Breadboar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6" name="TextBox 10"/>
          <p:cNvSpPr/>
          <p:nvPr/>
        </p:nvSpPr>
        <p:spPr>
          <a:xfrm>
            <a:off x="4572000" y="29718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f the main menu, click o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how Breadboard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4. Explore the 3D NI ELVIS II Environmen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18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6959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359240" cy="347976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a. Rotate the model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21" name="Picture 2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2320920" cy="332424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2"/>
          <p:cNvSpPr/>
          <p:nvPr/>
        </p:nvSpPr>
        <p:spPr>
          <a:xfrm>
            <a:off x="2057400" y="1371600"/>
            <a:ext cx="4267080" cy="1066680"/>
          </a:xfrm>
          <a:prstGeom prst="wedgeRoundRectCallout">
            <a:avLst>
              <a:gd name="adj1" fmla="val 59680"/>
              <a:gd name="adj2" fmla="val 1182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s and hold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Left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use button and move mo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Circular Arrow 7"/>
          <p:cNvSpPr/>
          <p:nvPr/>
        </p:nvSpPr>
        <p:spPr>
          <a:xfrm rot="11317800">
            <a:off x="5768640" y="4194000"/>
            <a:ext cx="2209680" cy="1905120"/>
          </a:xfrm>
          <a:prstGeom prst="pie">
            <a:avLst/>
          </a:prstGeom>
          <a:solidFill>
            <a:srgbClr val="98bb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b. Zoom in and ou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380880" y="1119240"/>
            <a:ext cx="3943440" cy="31478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"/>
          <p:cNvPicPr/>
          <p:nvPr/>
        </p:nvPicPr>
        <p:blipFill>
          <a:blip r:embed="rId2"/>
          <a:stretch/>
        </p:blipFill>
        <p:spPr>
          <a:xfrm>
            <a:off x="4724280" y="1119240"/>
            <a:ext cx="4038840" cy="31240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2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1895400" cy="2714760"/>
          </a:xfrm>
          <a:prstGeom prst="rect">
            <a:avLst/>
          </a:prstGeom>
          <a:ln w="0">
            <a:noFill/>
          </a:ln>
        </p:spPr>
      </p:pic>
      <p:sp>
        <p:nvSpPr>
          <p:cNvPr id="1128" name="AutoShape 2"/>
          <p:cNvSpPr/>
          <p:nvPr/>
        </p:nvSpPr>
        <p:spPr>
          <a:xfrm>
            <a:off x="914400" y="4572000"/>
            <a:ext cx="1981080" cy="1066680"/>
          </a:xfrm>
          <a:prstGeom prst="wedgeRoundRectCallout">
            <a:avLst>
              <a:gd name="adj1" fmla="val 113745"/>
              <a:gd name="adj2" fmla="val -979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oll DOWN to zoom ou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AutoShape 2"/>
          <p:cNvSpPr/>
          <p:nvPr/>
        </p:nvSpPr>
        <p:spPr>
          <a:xfrm>
            <a:off x="6324480" y="4648320"/>
            <a:ext cx="1752840" cy="1066680"/>
          </a:xfrm>
          <a:prstGeom prst="wedgeRoundRectCallout">
            <a:avLst>
              <a:gd name="adj1" fmla="val -133398"/>
              <a:gd name="adj2" fmla="val -114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oll UP to zoom 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Down Arrow 7"/>
          <p:cNvSpPr/>
          <p:nvPr/>
        </p:nvSpPr>
        <p:spPr>
          <a:xfrm>
            <a:off x="304920" y="449568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8bb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Down Arrow 8"/>
          <p:cNvSpPr/>
          <p:nvPr/>
        </p:nvSpPr>
        <p:spPr>
          <a:xfrm rot="10800000">
            <a:off x="8305920" y="449532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8bb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. Panning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33" name="Quad Arrow 5"/>
          <p:cNvSpPr/>
          <p:nvPr/>
        </p:nvSpPr>
        <p:spPr>
          <a:xfrm>
            <a:off x="2057400" y="1066680"/>
            <a:ext cx="4724280" cy="4724640"/>
          </a:xfrm>
          <a:prstGeom prst="pie">
            <a:avLst/>
          </a:prstGeom>
          <a:solidFill>
            <a:srgbClr val="98bbe5">
              <a:alpha val="52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4" name="Picture 2" descr=""/>
          <p:cNvPicPr/>
          <p:nvPr/>
        </p:nvPicPr>
        <p:blipFill>
          <a:blip r:embed="rId1"/>
          <a:stretch/>
        </p:blipFill>
        <p:spPr>
          <a:xfrm>
            <a:off x="3629160" y="2438280"/>
            <a:ext cx="1628640" cy="2333880"/>
          </a:xfrm>
          <a:prstGeom prst="rect">
            <a:avLst/>
          </a:prstGeom>
          <a:ln w="0">
            <a:noFill/>
          </a:ln>
        </p:spPr>
      </p:pic>
      <p:sp>
        <p:nvSpPr>
          <p:cNvPr id="1135" name="AutoShape 2"/>
          <p:cNvSpPr/>
          <p:nvPr/>
        </p:nvSpPr>
        <p:spPr>
          <a:xfrm>
            <a:off x="6172200" y="1143000"/>
            <a:ext cx="2590920" cy="1676520"/>
          </a:xfrm>
          <a:prstGeom prst="wedgeRoundRectCallout">
            <a:avLst>
              <a:gd name="adj1" fmla="val -120342"/>
              <a:gd name="adj2" fmla="val 4706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ld down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use-wheel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 drag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AutoShape 2"/>
          <p:cNvSpPr/>
          <p:nvPr/>
        </p:nvSpPr>
        <p:spPr>
          <a:xfrm>
            <a:off x="380880" y="1219320"/>
            <a:ext cx="2438640" cy="1218960"/>
          </a:xfrm>
          <a:prstGeom prst="wedgeRoundRectCallout">
            <a:avLst>
              <a:gd name="adj1" fmla="val -50449"/>
              <a:gd name="adj2" fmla="val -2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( Ctrl + Shift )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 drag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21:33:10Z</dcterms:created>
  <dc:creator>Fujitsu</dc:creator>
  <dc:description/>
  <dc:language>en-US</dc:language>
  <cp:lastModifiedBy>stso</cp:lastModifiedBy>
  <dcterms:modified xsi:type="dcterms:W3CDTF">2009-12-06T17:43:03Z</dcterms:modified>
  <cp:revision>82</cp:revision>
  <dc:subject/>
  <dc:title>Whats our story?</dc:title>
</cp:coreProperties>
</file>