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1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3E8EC-CEB6-4FC8-B618-A4F04ECF0F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513614-59EA-4659-B570-7041FA3CFE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380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776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9380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776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44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0720" y="39380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39380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380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9040" indent="-263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272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8788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A7DDF5-6F51-41C4-8BB0-F6234D934B8C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CF4918-6863-4B59-A2F2-934A8FFBEAE0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9040" indent="-263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272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8788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13040" indent="-2124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19320" y="4800600"/>
            <a:ext cx="70102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006699"/>
                </a:solidFill>
                <a:latin typeface="Arial Narrow"/>
              </a:rPr>
              <a:t>Scaling applications beyond multi-cor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6096240" cy="328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33920" y="457200"/>
            <a:ext cx="4771800" cy="1647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609480"/>
            <a:ext cx="35053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From 1 core…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505320"/>
            <a:ext cx="35049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To 8 cores: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83808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Replacement For Grad-Shafranov</a:t>
            </a:r>
            <a:br>
              <a:rPr sz="3600"/>
            </a:b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For Real-Time Us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80880" y="20574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691-by-159 matrix opera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91120" y="2666880"/>
            <a:ext cx="4267080" cy="312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66680" y="2819520"/>
            <a:ext cx="246708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858000" cy="4017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What if multi-core isn’t good enough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533520"/>
            <a:ext cx="8458200" cy="547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nd th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and more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LabVIEW Math &amp; Signal Processing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I Week presentations and examples at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ww.ni.com / info →  ‘niweekmath’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e Silva</dc:creator>
  <dc:description/>
  <dc:language>en-US</dc:language>
  <cp:lastModifiedBy>Shawn McCaslin</cp:lastModifiedBy>
  <dcterms:modified xsi:type="dcterms:W3CDTF">2007-08-06T20:08:53Z</dcterms:modified>
  <cp:revision>7</cp:revision>
  <dc:subject/>
  <dc:title>Slide 1</dc:title>
</cp:coreProperties>
</file>