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1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6B520-5EDD-4F7C-9625-12F58E81A8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CB894D-BC3B-4D68-8CB5-074EC120E7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44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072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9040" indent="-263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272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8788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9B6933-CB85-4FD7-B740-C55A021C87D5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77F4DE-5A33-4E31-BD96-BD4B1C74255F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9040" indent="-263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272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8788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19320" y="4800600"/>
            <a:ext cx="701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6699"/>
                </a:solidFill>
                <a:latin typeface="Arial Narrow"/>
              </a:rPr>
              <a:t>Scaling applications beyond multi-cor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6096240" cy="328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33920" y="457200"/>
            <a:ext cx="4771800" cy="164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609480"/>
            <a:ext cx="35053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From 1 cor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505320"/>
            <a:ext cx="35049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o 8 cores: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3808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Replacement For Grad-Shafranov</a:t>
            </a:r>
            <a:br>
              <a:rPr sz="3600"/>
            </a:b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For Real-Time Us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0880" y="20574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691-by-159 matrix opera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2666880"/>
            <a:ext cx="4267080" cy="312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66680" y="2819520"/>
            <a:ext cx="246708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858000" cy="4017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What if multi-core isn’t good enough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33520"/>
            <a:ext cx="8458200" cy="54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nd th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and more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LabVIEW Math &amp; Signal Processin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I Week presentations and examples a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ww.ni.com / info →  ‘niweekmath’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e Silva</dc:creator>
  <dc:description/>
  <dc:language>en-US</dc:language>
  <cp:lastModifiedBy>Shawn McCaslin</cp:lastModifiedBy>
  <dcterms:modified xsi:type="dcterms:W3CDTF">2007-08-06T20:08:53Z</dcterms:modified>
  <cp:revision>7</cp:revision>
  <dc:subject/>
  <dc:title>Slide 1</dc:title>
</cp:coreProperties>
</file>