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4B29D-FE27-4FC5-8CA1-1FDF9EDAF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5EBAE7-2828-4BCA-960F-5F3A056FA9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037B3-F9E2-49A6-AEBB-F910977D752B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D8913-D4FD-4757-A1E7-B046F6AFB9CE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9320" y="4800600"/>
            <a:ext cx="701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6699"/>
                </a:solidFill>
                <a:latin typeface="Arial Narrow"/>
              </a:rPr>
              <a:t>Scaling applications beyond multi-co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6096240" cy="328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4771800" cy="164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609480"/>
            <a:ext cx="35053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From 1 cor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05320"/>
            <a:ext cx="3504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o 8 cores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3808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Replacement For Grad-Shafranov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or Real-Time Us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0880" y="2057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691-by-159 matrix ope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267080" cy="31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66680" y="2819520"/>
            <a:ext cx="24670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0" cy="401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What if multi-core isn’t good enough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33520"/>
            <a:ext cx="8458200" cy="54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 th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and mor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LabVIEW Math &amp; Signal Process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I Week presentations and examples a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ww.ni.com / info →  ‘niweekmath’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Silva</dc:creator>
  <dc:description/>
  <dc:language>en-US</dc:language>
  <cp:lastModifiedBy>Shawn McCaslin</cp:lastModifiedBy>
  <dcterms:modified xsi:type="dcterms:W3CDTF">2007-08-06T20:08:53Z</dcterms:modified>
  <cp:revision>7</cp:revision>
  <dc:subject/>
  <dc:title>Slide 1</dc:title>
</cp:coreProperties>
</file>