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ise Reduction Using Digital Filtering in LabVIEW</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S2A-</a:t>
            </a:r>
            <a:fld id="{6C06767D-5126-4D73-A488-E9AAAD6D6BF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ilters are applicable to frequency-separable noise. Designing a digital filter involves consideration of a number of tradeoffs. For example, visualization or phase measurements can often require a digital filter with linear phase characteristics, but might be unnecessary for some types of power measureme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have discussed should give you somewhat of an overview of the situation. Let’s next consider a simple (but practical) application of noise reduction. We will work through each of the steps from initial signal analysis to filter design and test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Infinite Impulse Response (IIR) filters are less computationally intensive than Finite Impulse Response (FIR) filters. The downside is that they do not have linear phase respon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te Impulse Response (FIR) filters offer a linear phase response and are typically easier to design than their IIR counterpar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762120" y="4343040"/>
            <a:ext cx="541008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iscussion of filtering for noise reduction would be incomplete without some discussion of noise. Let’s start by defining some common types of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mal noise</a:t>
            </a:r>
            <a:r>
              <a:rPr b="0" lang="en-US" sz="1200" spc="-1" strike="noStrike">
                <a:solidFill>
                  <a:srgbClr val="000000"/>
                </a:solidFill>
                <a:latin typeface="Times New Roman"/>
              </a:rPr>
              <a:t> – the random motion of atoms generates this random, uniformly distributed noise. Thermal Noise is present everywhere and has a nearly constant Power Spectral Density (PS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ference</a:t>
            </a:r>
            <a:r>
              <a:rPr b="0" lang="en-US" sz="1200" spc="-1" strike="noStrike">
                <a:solidFill>
                  <a:srgbClr val="000000"/>
                </a:solidFill>
                <a:latin typeface="Times New Roman"/>
              </a:rPr>
              <a:t> – imposition of an unwanted signal from an external source on the signal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iasing</a:t>
            </a:r>
            <a:r>
              <a:rPr b="0" lang="en-US" sz="1200" spc="-1" strike="noStrike">
                <a:solidFill>
                  <a:srgbClr val="000000"/>
                </a:solidFill>
                <a:latin typeface="Times New Roman"/>
              </a:rPr>
              <a:t> – an artifact of the acquisition process, specifically sam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ing noise</a:t>
            </a:r>
            <a:r>
              <a:rPr b="0" lang="en-US" sz="1200" spc="-1" strike="noStrike">
                <a:solidFill>
                  <a:srgbClr val="000000"/>
                </a:solidFill>
                <a:latin typeface="Times New Roman"/>
              </a:rPr>
              <a:t> – Another artifact of the acquisition process, Sampling Noise occurs when you digitize a continuous signal with an A/D converter that has a finite number of steps. It is interesting to note that you can dither (add white noise) your signal to reduce the overall sampling nois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rrowband/broadband</a:t>
            </a:r>
            <a:r>
              <a:rPr b="0" lang="en-US" sz="1200" spc="-1" strike="noStrike">
                <a:solidFill>
                  <a:srgbClr val="000000"/>
                </a:solidFill>
                <a:latin typeface="Times New Roman"/>
              </a:rPr>
              <a:t> – two general categories of noise. Narrowband noise confines itself to a  relatively small portion of the overall signal bandwidth as defined by Nyquist. Broadband noise occupies a significant portion of the Nyquist bandwidth. For example, 60-Hz hum is narrowband because it typically limits itself to a 60 Hz component at. Thermal noise is definitely broadband because its PSD is constant, meaning that it distributes its energy over nearly the entire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ionary/non-stationary</a:t>
            </a:r>
            <a:r>
              <a:rPr b="0" lang="en-US" sz="1200" spc="-1" strike="noStrike">
                <a:solidFill>
                  <a:srgbClr val="000000"/>
                </a:solidFill>
                <a:latin typeface="Times New Roman"/>
              </a:rPr>
              <a:t> – signals (noise or otherwise) with characteristics that are constant or change, respectively, as a function of time. An example of stationary noise is the 60Hz noise. Speech is a non-stationary sig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457200" y="4343040"/>
            <a:ext cx="59436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discussing the details of digital filtering for noise reduction, let’s first compare digital filters to analog filters and the tradeoffs between the two. Analog filters operate on signals using analog components (active and/or passive) such as op-amps, capacitors, and resistors. Typically the input and output of such a filter is an analog signal. Digital filters consist of algorithms (commonly multiplications and additions) that operate on a digitized version of the signal. Further, it’s input and output are commonly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og Frail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ts analog components, analog filters are subject to analog frailties such as thermal drift, component tolerance, stability of the components over time, etc. Digital filters are less subject to such problems; they typically remain stable and don’t drift because they are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ex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design and implementation, analog filters commonly require significantly more effort to change than digital filters. For example, changing the cutoff frequency of an analog filter will often require a component change. Architectures such as switched capacitor are somewhat more flexible—they allow change in the cutoff frequency, but often remain of fixed order and topology. A digital filter is extremely flexible, allowing changes to any aspect of the filter. The analog filter does have an advantage in terms of processing overhead. An analog filter does not require any computation, whereas a digital filter is implemented as machine code and requires a non-zero amount of time to calculate output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ti-Ali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filters can perform anti-aliasing, whereas digital filters may not. More on that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of noise determines its characteristic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digital filter can require a few assumptions. First, we generally assume that the input signal is station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more importantly, we assume that we can separate the desired signal and the noise in the frequency domain. That is, we assume that we can apply a frequency domain mask that blocks noise components and doesn’t effect the signal of interest. The graph above shows a 1V, 100 Hz sinewave with a 0.1V, 60Hz sinewave. The white line is the mask (filter characteristic) that could be used to separate the compon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pply a filter to frequency-separable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the noise is is broadband, and the signal is narrowband, you can filter most no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oth signal and noise are broadband, then it is difficult (but not impossible) to reduce noise with a digital filter. In this case, you might consider other techniques such as averaging or a wavelet filter bank for the jo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Analyze the noisy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 at the Amplitude spectrum of the signal can indicate whether the signal and noise frequency separable. To determine if the signal is stationary, you can apply Joint Time-Frequency Analysis such as the Short Time Fourier Transform (STFT) or wavelets. The signal+noise should be stationary (relatively constant) over the course of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Use your knowledge of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C-RMS measurements commonly include a 60Hz hum, which you can often band-pass filter. With broadband noise, an approach that removes uncorrelated signals from multiple records (Vector averaging of triggered time records) may be more appropriate. If you know a model of the signal and that signal has broadband noise, then you might apply curve fitting or model-based (Super-resolution) spectral analysis. The bottom line is that you should have some idea about the signal of interest (model) and/or the noi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ry a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xamining your signal and taking a pass at filter design, you’ll next want to try out a design. A trial involves a preliminary implementation and a characterization. You will likely have some gauges for what is acceptable. For instance, you might need a minimum signal-to-noise (SNR) ratio. Other possible gauges inclu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Reduction Using Digital Filtering in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im Nagl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P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can (9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Separable</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fil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filter paramet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off frequenc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o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Practical Application</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consider a practical application of digital filtering for noise reduc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880"/>
            <a:ext cx="77724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finite Impulse Response </a:t>
            </a:r>
            <a:br>
              <a:rPr sz="3600"/>
            </a:br>
            <a:r>
              <a:rPr b="1" lang="en-US" sz="3600" spc="-1" strike="noStrike">
                <a:solidFill>
                  <a:srgbClr val="ffff66"/>
                </a:solidFill>
                <a:latin typeface="Arial"/>
              </a:rPr>
              <a:t>Filter Design</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off(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380880"/>
            <a:ext cx="784836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nite Impulse Response</a:t>
            </a:r>
            <a:br>
              <a:rPr sz="3600"/>
            </a:br>
            <a:r>
              <a:rPr b="1" lang="en-US" sz="3600" spc="-1" strike="noStrike">
                <a:solidFill>
                  <a:srgbClr val="ffff66"/>
                </a:solidFill>
                <a:latin typeface="Arial"/>
              </a:rPr>
              <a:t>Filter Design</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off(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Linear Approaches</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n filte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TF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s</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filter where appropria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separ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on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nti-alias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makes this easy to d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als</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o use filtering to remove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vs. digit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use digital filters in LabVIEW 6</a:t>
            </a:r>
            <a:r>
              <a:rPr b="0" i="1" lang="en-US" sz="2800" spc="-1" strike="noStrike">
                <a:solidFill>
                  <a:srgbClr val="ffffff"/>
                </a:solidFill>
                <a:latin typeface="Arial"/>
              </a:rPr>
              <a:t>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Noise</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al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ere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lin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F</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as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band vs. narrowban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ary/non-station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og vs. Digital</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y over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h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Source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power (50/60 Hz hu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F</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ng machine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et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mon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asing</a:t>
            </a:r>
            <a:endParaRPr b="0" lang="en-US" sz="2800" spc="-1" strike="noStrike">
              <a:solidFill>
                <a:srgbClr val="ffffff"/>
              </a:solidFill>
              <a:latin typeface="Arial"/>
            </a:endParaRPr>
          </a:p>
        </p:txBody>
      </p:sp>
      <p:pic>
        <p:nvPicPr>
          <p:cNvPr id="103" name="" descr=""/>
          <p:cNvPicPr/>
          <p:nvPr/>
        </p:nvPicPr>
        <p:blipFill>
          <a:blip r:embed="rId1"/>
          <a:stretch/>
        </p:blipFill>
        <p:spPr>
          <a:xfrm>
            <a:off x="5562720" y="1752480"/>
            <a:ext cx="3276360" cy="191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Filtering Assumption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ary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ble in frequency domain</a:t>
            </a:r>
            <a:endParaRPr b="0" lang="en-US" sz="2800" spc="-1" strike="noStrike">
              <a:solidFill>
                <a:srgbClr val="ffffff"/>
              </a:solidFill>
              <a:latin typeface="Arial"/>
            </a:endParaRPr>
          </a:p>
        </p:txBody>
      </p:sp>
      <p:pic>
        <p:nvPicPr>
          <p:cNvPr id="106" name="" descr=""/>
          <p:cNvPicPr/>
          <p:nvPr/>
        </p:nvPicPr>
        <p:blipFill>
          <a:blip r:embed="rId1"/>
          <a:stretch/>
        </p:blipFill>
        <p:spPr>
          <a:xfrm>
            <a:off x="2057400" y="3048120"/>
            <a:ext cx="5181480" cy="34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Noise Can We Remove?</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separa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Pow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ng machine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on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ete RF</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mean broadb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owband sig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Removal Steps (Part 1)</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one </a:t>
            </a:r>
            <a:r>
              <a:rPr b="0" lang="en-US" sz="2800" spc="-1" strike="noStrike">
                <a:solidFill>
                  <a:srgbClr val="ffffff"/>
                </a:solidFill>
                <a:latin typeface="Arial"/>
                <a:ea typeface="Arial"/>
              </a:rPr>
              <a:t>– </a:t>
            </a:r>
            <a:r>
              <a:rPr b="0" lang="en-US" sz="2800" spc="-1" strike="noStrike">
                <a:solidFill>
                  <a:srgbClr val="ffffff"/>
                </a:solidFill>
                <a:latin typeface="Arial"/>
              </a:rPr>
              <a:t>Analyze the noisy sign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amplitude spectru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onary? Separ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two </a:t>
            </a:r>
            <a:r>
              <a:rPr b="0" lang="en-US" sz="2800" spc="-1" strike="noStrike">
                <a:solidFill>
                  <a:srgbClr val="ffffff"/>
                </a:solidFill>
                <a:latin typeface="Arial"/>
                <a:ea typeface="Arial"/>
              </a:rPr>
              <a:t>– </a:t>
            </a:r>
            <a:r>
              <a:rPr b="0" lang="en-US" sz="2800" spc="-1" strike="noStrike">
                <a:solidFill>
                  <a:srgbClr val="ffffff"/>
                </a:solidFill>
                <a:latin typeface="Arial"/>
              </a:rPr>
              <a:t>Use your knowledge of the measur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domain (spectrum, power, phas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domain (DC/RMS, slope, rise-tim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model? (sine, square, and parabol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Removal Steps (Part 2)</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696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three </a:t>
            </a:r>
            <a:r>
              <a:rPr b="0" lang="en-US" sz="2800" spc="-1" strike="noStrike">
                <a:solidFill>
                  <a:srgbClr val="ffffff"/>
                </a:solidFill>
                <a:latin typeface="Arial"/>
                <a:ea typeface="Arial"/>
              </a:rPr>
              <a:t>– </a:t>
            </a:r>
            <a:r>
              <a:rPr b="0" lang="en-US" sz="2800" spc="-1" strike="noStrike">
                <a:solidFill>
                  <a:srgbClr val="ffffff"/>
                </a:solidFill>
                <a:latin typeface="Arial"/>
              </a:rPr>
              <a:t>Try a design, iterate until satisfi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four</a:t>
            </a:r>
            <a:r>
              <a:rPr b="0" lang="en-US" sz="2800" spc="-1" strike="noStrike">
                <a:solidFill>
                  <a:srgbClr val="ffffff"/>
                </a:solidFill>
                <a:latin typeface="Arial"/>
                <a:ea typeface="Arial"/>
              </a:rPr>
              <a:t>– </a:t>
            </a:r>
            <a:r>
              <a:rPr b="0" lang="en-US" sz="2800" spc="-1" strike="noStrike">
                <a:solidFill>
                  <a:srgbClr val="ffffff"/>
                </a:solidFill>
                <a:latin typeface="Arial"/>
              </a:rPr>
              <a:t>Implement your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19:16:40Z</dcterms:created>
  <dc:creator>James C. Nagle</dc:creator>
  <dc:description/>
  <dc:language>en-US</dc:language>
  <cp:lastModifiedBy>David Steele</cp:lastModifiedBy>
  <dcterms:modified xsi:type="dcterms:W3CDTF">2000-07-15T19:07:02Z</dcterms:modified>
  <cp:revision>28</cp:revision>
  <dc:subject/>
  <dc:title>PowerPoint Presentation</dc:title>
</cp:coreProperties>
</file>