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jpeg" ContentType="image/jpeg"/>
  <Override PartName="/ppt/media/image58.png" ContentType="image/png"/>
  <Override PartName="/ppt/media/image44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35.png" ContentType="image/png"/>
  <Override PartName="/ppt/media/image5.png" ContentType="image/png"/>
  <Override PartName="/ppt/media/image26.jpeg" ContentType="image/jpeg"/>
  <Override PartName="/ppt/media/image42.png" ContentType="image/png"/>
  <Override PartName="/ppt/media/image43.jpeg" ContentType="image/jpe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17.jpeg" ContentType="image/jpeg"/>
  <Override PartName="/ppt/media/image45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2.jpeg" ContentType="image/jpeg"/>
  <Override PartName="/ppt/media/image57.wmf" ContentType="image/x-wmf"/>
  <Override PartName="/ppt/media/image40.png" ContentType="image/pn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6280C00-B13D-42DA-8120-DF6F541D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DFA712D-A0E0-4CE1-AAB6-5F49414B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7E3BF70-1D2D-44FA-A43A-9E493350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FFF4C08-9811-4E81-8E2B-C3066CF18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446AF6B-9FC5-4178-9948-55052190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231F6D3-9829-4CED-94B4-E039C11B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91C8F19-66D8-4605-8FD1-21DF78B4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33360" y="720720"/>
            <a:ext cx="485136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D86C5D2-E55A-44CA-B142-B88E1003B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B44A033-5A40-482F-8F9F-A27C0C5F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25F6EAB-092C-4832-8635-80012E61C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8C70F18-B74D-4FF1-BC21-2C78F8C8F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B6AAF5B-2AA1-4188-9FEF-5E4F183D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1DEE373-7882-44AF-9271-4B9B6F90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962AD6C-690C-485B-95C9-0D1AF5547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CFDF-F531-4D18-830E-67ED04A5E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1056-C2A4-473D-8022-9CE280CDAD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7F94-3113-4A32-9F6C-EEEE93FF2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C5EE-6F8B-429F-B0A3-0EBD67C861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58A7-BDC8-4DC0-B101-7BECDD6E8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A001-AC44-4F1B-9BA7-CE9EA17068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0BA4-982F-4D7C-AEC3-2DCD8FEBD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638D-0998-4E8F-96E5-BF2A152AE5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D4CB-76F3-4941-A19C-E8ED61BD3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6619-1123-40BA-B6E4-FB15893BD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18F7-0C54-4178-963D-09C0D80869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6E0A-50F1-4FD2-8CF7-6578BAEBE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7F2C-563E-459B-BEEB-BC5E4D13E961}" type="slidenum">
              <a:rPr b="1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2"/>
          </p:nvPr>
        </p:nvSpPr>
        <p:spPr>
          <a:xfrm>
            <a:off x="5638680" y="6400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150-629E-4E32-8E98-5B08DF7203FE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33.pn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image" Target="../media/image36.jpe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jpeg"/><Relationship Id="rId22" Type="http://schemas.openxmlformats.org/officeDocument/2006/relationships/image" Target="../media/image4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5.wmf"/><Relationship Id="rId3" Type="http://schemas.openxmlformats.org/officeDocument/2006/relationships/image" Target="../media/image12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32.jpe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wmf"/><Relationship Id="rId17" Type="http://schemas.openxmlformats.org/officeDocument/2006/relationships/image" Target="../media/image45.wmf"/><Relationship Id="rId18" Type="http://schemas.openxmlformats.org/officeDocument/2006/relationships/image" Target="../media/image12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60.png"/><Relationship Id="rId24" Type="http://schemas.openxmlformats.org/officeDocument/2006/relationships/image" Target="../media/image16.png"/><Relationship Id="rId25" Type="http://schemas.openxmlformats.org/officeDocument/2006/relationships/image" Target="../media/image24.png"/><Relationship Id="rId26" Type="http://schemas.openxmlformats.org/officeDocument/2006/relationships/image" Target="../media/image61.png"/><Relationship Id="rId27" Type="http://schemas.openxmlformats.org/officeDocument/2006/relationships/image" Target="../media/image26.jpeg"/><Relationship Id="rId28" Type="http://schemas.openxmlformats.org/officeDocument/2006/relationships/image" Target="../media/image62.png"/><Relationship Id="rId29" Type="http://schemas.openxmlformats.org/officeDocument/2006/relationships/image" Target="../media/image28.png"/><Relationship Id="rId30" Type="http://schemas.openxmlformats.org/officeDocument/2006/relationships/image" Target="../media/image63.png"/><Relationship Id="rId31" Type="http://schemas.openxmlformats.org/officeDocument/2006/relationships/image" Target="../media/image30.jpeg"/><Relationship Id="rId32" Type="http://schemas.openxmlformats.org/officeDocument/2006/relationships/image" Target="../media/image64.png"/><Relationship Id="rId33" Type="http://schemas.openxmlformats.org/officeDocument/2006/relationships/image" Target="../media/image32.jpeg"/><Relationship Id="rId34" Type="http://schemas.openxmlformats.org/officeDocument/2006/relationships/image" Target="../media/image65.png"/><Relationship Id="rId35" Type="http://schemas.openxmlformats.org/officeDocument/2006/relationships/image" Target="../media/image34.jpeg"/><Relationship Id="rId36" Type="http://schemas.openxmlformats.org/officeDocument/2006/relationships/image" Target="../media/image66.png"/><Relationship Id="rId37" Type="http://schemas.openxmlformats.org/officeDocument/2006/relationships/image" Target="../media/image36.jpeg"/><Relationship Id="rId38" Type="http://schemas.openxmlformats.org/officeDocument/2006/relationships/image" Target="../media/image67.png"/><Relationship Id="rId39" Type="http://schemas.openxmlformats.org/officeDocument/2006/relationships/image" Target="../media/image38.png"/><Relationship Id="rId40" Type="http://schemas.openxmlformats.org/officeDocument/2006/relationships/image" Target="../media/image68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69.png"/><Relationship Id="rId44" Type="http://schemas.openxmlformats.org/officeDocument/2006/relationships/image" Target="../media/image43.jpe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432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6699"/>
                </a:solidFill>
                <a:latin typeface="Arial Narrow"/>
              </a:rPr>
              <a:t>NI Smart Cameras</a:t>
            </a:r>
            <a:endParaRPr b="1" lang="en-US" sz="65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3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tthew Slaugh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yle Voos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I Vision Marke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Havana.png"/>
          <p:cNvPicPr/>
          <p:nvPr/>
        </p:nvPicPr>
        <p:blipFill>
          <a:blip r:embed="rId1"/>
          <a:stretch/>
        </p:blipFill>
        <p:spPr>
          <a:xfrm>
            <a:off x="6248520" y="1968480"/>
            <a:ext cx="2271600" cy="2979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42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69" name="Rounded Rectangle 9"/>
          <p:cNvGrpSpPr/>
          <p:nvPr/>
        </p:nvGrpSpPr>
        <p:grpSpPr>
          <a:xfrm>
            <a:off x="1328760" y="1109520"/>
            <a:ext cx="2998800" cy="2481480"/>
            <a:chOff x="1328760" y="1109520"/>
            <a:chExt cx="2998800" cy="2481480"/>
          </a:xfrm>
        </p:grpSpPr>
        <p:pic>
          <p:nvPicPr>
            <p:cNvPr id="170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328760" y="1109520"/>
              <a:ext cx="299880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511280" y="1265400"/>
              <a:ext cx="263988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6"/>
          <p:cNvSpPr/>
          <p:nvPr/>
        </p:nvSpPr>
        <p:spPr>
          <a:xfrm>
            <a:off x="2062080" y="11764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NI Ligh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Freeform 15"/>
          <p:cNvGrpSpPr/>
          <p:nvPr/>
        </p:nvGrpSpPr>
        <p:grpSpPr>
          <a:xfrm>
            <a:off x="4170240" y="3279600"/>
            <a:ext cx="2291040" cy="567000"/>
            <a:chOff x="4170240" y="3279600"/>
            <a:chExt cx="2291040" cy="567000"/>
          </a:xfrm>
        </p:grpSpPr>
        <p:pic>
          <p:nvPicPr>
            <p:cNvPr id="174" name="Freeform 15" descr=""/>
            <p:cNvPicPr/>
            <p:nvPr/>
          </p:nvPicPr>
          <p:blipFill>
            <a:blip r:embed="rId3"/>
            <a:stretch/>
          </p:blipFill>
          <p:spPr>
            <a:xfrm>
              <a:off x="4170240" y="3279600"/>
              <a:ext cx="22910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199040" y="3313080"/>
              <a:ext cx="2241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Picture 16" descr="NI Lights.png"/>
          <p:cNvPicPr/>
          <p:nvPr/>
        </p:nvPicPr>
        <p:blipFill>
          <a:blip r:embed="rId4"/>
          <a:stretch/>
        </p:blipFill>
        <p:spPr>
          <a:xfrm>
            <a:off x="1828800" y="1681200"/>
            <a:ext cx="2027160" cy="1768320"/>
          </a:xfrm>
          <a:prstGeom prst="rect">
            <a:avLst/>
          </a:prstGeom>
          <a:ln w="0">
            <a:noFill/>
          </a:ln>
        </p:spPr>
      </p:pic>
      <p:grpSp>
        <p:nvGrpSpPr>
          <p:cNvPr id="177" name="Rounded Rectangle 18"/>
          <p:cNvGrpSpPr/>
          <p:nvPr/>
        </p:nvGrpSpPr>
        <p:grpSpPr>
          <a:xfrm>
            <a:off x="1305000" y="3560760"/>
            <a:ext cx="2943000" cy="1846440"/>
            <a:chOff x="1305000" y="3560760"/>
            <a:chExt cx="2943000" cy="1846440"/>
          </a:xfrm>
        </p:grpSpPr>
        <p:pic>
          <p:nvPicPr>
            <p:cNvPr id="178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1305000" y="3560760"/>
              <a:ext cx="2943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55840" y="3687840"/>
              <a:ext cx="26496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1619280" y="3898800"/>
            <a:ext cx="2343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. 1A stro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. 500mA 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444680" y="37670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006699"/>
                </a:solidFill>
                <a:latin typeface="Arial Narrow"/>
              </a:rPr>
              <a:t>rd</a:t>
            </a: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 Party Ligh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 – DEMO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4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ounded Rectangular Callout 10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ounded Rectangular Callout 11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  <p:sp>
        <p:nvSpPr>
          <p:cNvPr id="189" name="Rounded Rectangular Callout 9"/>
          <p:cNvSpPr/>
          <p:nvPr/>
        </p:nvSpPr>
        <p:spPr>
          <a:xfrm>
            <a:off x="4159080" y="5100480"/>
            <a:ext cx="2497320" cy="1005120"/>
          </a:xfrm>
          <a:prstGeom prst="wedgeRoundRectCallout">
            <a:avLst>
              <a:gd name="adj1" fmla="val -26865"/>
              <a:gd name="adj2" fmla="val -7302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ustrial I/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o isolated 2-in &amp; 2-o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S2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ounded Rectangular Callout 14"/>
          <p:cNvSpPr/>
          <p:nvPr/>
        </p:nvSpPr>
        <p:spPr>
          <a:xfrm>
            <a:off x="196920" y="4662360"/>
            <a:ext cx="3367080" cy="1160640"/>
          </a:xfrm>
          <a:prstGeom prst="wedgeRoundRectCallout">
            <a:avLst>
              <a:gd name="adj1" fmla="val 66722"/>
              <a:gd name="adj2" fmla="val -3369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al Gigabit Eth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/O exten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thercat in 20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ounded Rectangular Callout 15"/>
          <p:cNvSpPr/>
          <p:nvPr/>
        </p:nvSpPr>
        <p:spPr>
          <a:xfrm>
            <a:off x="216000" y="2435400"/>
            <a:ext cx="3160440" cy="1055520"/>
          </a:xfrm>
          <a:prstGeom prst="wedgeRoundRectCallout">
            <a:avLst>
              <a:gd name="adj1" fmla="val 64949"/>
              <a:gd name="adj2" fmla="val 6443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 Drive Lighting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be generation (5V TTL, 24V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 lighting controll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is a Smarter Choic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st price/performance ratio, plu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 drive LED ligh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ual gigabit Ethernet por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ion Builder AI inclu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sier to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ion Builder AI is a superior configuration to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tively integrates with NI PA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unicates with existing industrial devices (PLCs, HMIs, OPC, et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figurable and programm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ansion I/O with cFP-180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ware scales to any NI Vision System (CVS, PXI, P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4" descr="Havana.png"/>
          <p:cNvPicPr/>
          <p:nvPr/>
        </p:nvPicPr>
        <p:blipFill>
          <a:blip r:embed="rId1"/>
          <a:stretch/>
        </p:blipFill>
        <p:spPr>
          <a:xfrm>
            <a:off x="6167520" y="1612800"/>
            <a:ext cx="2477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 Eco-System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96" name="Group 33"/>
          <p:cNvGrpSpPr/>
          <p:nvPr/>
        </p:nvGrpSpPr>
        <p:grpSpPr>
          <a:xfrm>
            <a:off x="5656320" y="1015920"/>
            <a:ext cx="3225600" cy="1879560"/>
            <a:chOff x="5656320" y="1015920"/>
            <a:chExt cx="3225600" cy="1879560"/>
          </a:xfrm>
        </p:grpSpPr>
        <p:pic>
          <p:nvPicPr>
            <p:cNvPr id="197" name="Picture 7" descr="VBAI - Wine Bottle 1"/>
            <p:cNvPicPr/>
            <p:nvPr/>
          </p:nvPicPr>
          <p:blipFill>
            <a:blip r:embed="rId1"/>
            <a:stretch/>
          </p:blipFill>
          <p:spPr>
            <a:xfrm>
              <a:off x="6786720" y="1015920"/>
              <a:ext cx="175248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8" descr="LV - Geometric Matching"/>
            <p:cNvPicPr/>
            <p:nvPr/>
          </p:nvPicPr>
          <p:blipFill>
            <a:blip r:embed="rId2"/>
            <a:stretch/>
          </p:blipFill>
          <p:spPr>
            <a:xfrm>
              <a:off x="7239240" y="1769760"/>
              <a:ext cx="1642680" cy="9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Line 10"/>
            <p:cNvGrpSpPr/>
            <p:nvPr/>
          </p:nvGrpSpPr>
          <p:grpSpPr>
            <a:xfrm>
              <a:off x="5772960" y="2476800"/>
              <a:ext cx="1615320" cy="418680"/>
              <a:chOff x="5772960" y="2476800"/>
              <a:chExt cx="1615320" cy="418680"/>
            </a:xfrm>
          </p:grpSpPr>
          <p:pic>
            <p:nvPicPr>
              <p:cNvPr id="200" name="Lin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2960" y="2476800"/>
                <a:ext cx="1615320" cy="41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0800000">
                <a:off x="5790600" y="275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19"/>
            <p:cNvSpPr/>
            <p:nvPr/>
          </p:nvSpPr>
          <p:spPr>
            <a:xfrm>
              <a:off x="5656320" y="23511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oftwa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36"/>
          <p:cNvGrpSpPr/>
          <p:nvPr/>
        </p:nvGrpSpPr>
        <p:grpSpPr>
          <a:xfrm>
            <a:off x="4921200" y="4114800"/>
            <a:ext cx="1460520" cy="1962000"/>
            <a:chOff x="4921200" y="4114800"/>
            <a:chExt cx="1460520" cy="1962000"/>
          </a:xfrm>
        </p:grpSpPr>
        <p:pic>
          <p:nvPicPr>
            <p:cNvPr id="204" name="Picture 42" descr="http://eshop.phoenixcontact.com/phoenix/images/productimages/large/21136_1000_int_04.jpg"/>
            <p:cNvPicPr/>
            <p:nvPr/>
          </p:nvPicPr>
          <p:blipFill>
            <a:blip r:embed="rId4"/>
            <a:stretch/>
          </p:blipFill>
          <p:spPr>
            <a:xfrm>
              <a:off x="4921200" y="4730040"/>
              <a:ext cx="1311480" cy="134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Line 17"/>
            <p:cNvGrpSpPr/>
            <p:nvPr/>
          </p:nvGrpSpPr>
          <p:grpSpPr>
            <a:xfrm>
              <a:off x="4980600" y="4114800"/>
              <a:ext cx="652320" cy="1005480"/>
              <a:chOff x="4980600" y="4114800"/>
              <a:chExt cx="652320" cy="1005480"/>
            </a:xfrm>
          </p:grpSpPr>
          <p:pic>
            <p:nvPicPr>
              <p:cNvPr id="206" name="Lin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0600" y="4114800"/>
                <a:ext cx="652320" cy="10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5029200" y="4150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Text Box 21"/>
            <p:cNvSpPr/>
            <p:nvPr/>
          </p:nvSpPr>
          <p:spPr>
            <a:xfrm>
              <a:off x="5390640" y="4293000"/>
              <a:ext cx="99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we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ppl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40"/>
          <p:cNvGrpSpPr/>
          <p:nvPr/>
        </p:nvGrpSpPr>
        <p:grpSpPr>
          <a:xfrm>
            <a:off x="457200" y="2133720"/>
            <a:ext cx="2971800" cy="915840"/>
            <a:chOff x="457200" y="2133720"/>
            <a:chExt cx="2971800" cy="915840"/>
          </a:xfrm>
        </p:grpSpPr>
        <p:pic>
          <p:nvPicPr>
            <p:cNvPr id="210" name="Picture 5" descr=""/>
            <p:cNvPicPr/>
            <p:nvPr/>
          </p:nvPicPr>
          <p:blipFill>
            <a:blip r:embed="rId6"/>
            <a:stretch/>
          </p:blipFill>
          <p:spPr>
            <a:xfrm>
              <a:off x="457200" y="2133720"/>
              <a:ext cx="90036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Line 18"/>
            <p:cNvGrpSpPr/>
            <p:nvPr/>
          </p:nvGrpSpPr>
          <p:grpSpPr>
            <a:xfrm>
              <a:off x="1288080" y="2438280"/>
              <a:ext cx="2140920" cy="451080"/>
              <a:chOff x="1288080" y="2438280"/>
              <a:chExt cx="2140920" cy="451080"/>
            </a:xfrm>
          </p:grpSpPr>
          <p:pic>
            <p:nvPicPr>
              <p:cNvPr id="212" name="Lin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8080" y="2438280"/>
                <a:ext cx="214092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413880" y="2590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Text Box 24"/>
            <p:cNvSpPr/>
            <p:nvPr/>
          </p:nvSpPr>
          <p:spPr>
            <a:xfrm>
              <a:off x="1381680" y="2219760"/>
              <a:ext cx="151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llumin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1025640" y="1009800"/>
            <a:ext cx="2555640" cy="1047600"/>
            <a:chOff x="1025640" y="1009800"/>
            <a:chExt cx="2555640" cy="1047600"/>
          </a:xfrm>
        </p:grpSpPr>
        <p:pic>
          <p:nvPicPr>
            <p:cNvPr id="216" name="Picture 6" descr="MANUAL%20IRIS%20VARIFOCAL%20LENS%202"/>
            <p:cNvPicPr/>
            <p:nvPr/>
          </p:nvPicPr>
          <p:blipFill>
            <a:blip r:embed="rId8"/>
            <a:stretch/>
          </p:blipFill>
          <p:spPr>
            <a:xfrm>
              <a:off x="1025640" y="1009800"/>
              <a:ext cx="906480" cy="87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Line 11"/>
            <p:cNvGrpSpPr/>
            <p:nvPr/>
          </p:nvGrpSpPr>
          <p:grpSpPr>
            <a:xfrm>
              <a:off x="1671480" y="1426320"/>
              <a:ext cx="1909800" cy="631080"/>
              <a:chOff x="1671480" y="1426320"/>
              <a:chExt cx="1909800" cy="631080"/>
            </a:xfrm>
          </p:grpSpPr>
          <p:pic>
            <p:nvPicPr>
              <p:cNvPr id="218" name="Lin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1480" y="1426320"/>
                <a:ext cx="190980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10800000">
                <a:off x="3560040" y="2013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ext Box 25"/>
            <p:cNvSpPr/>
            <p:nvPr/>
          </p:nvSpPr>
          <p:spPr>
            <a:xfrm>
              <a:off x="1637280" y="1245240"/>
              <a:ext cx="12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e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4"/>
          <p:cNvGrpSpPr/>
          <p:nvPr/>
        </p:nvGrpSpPr>
        <p:grpSpPr>
          <a:xfrm>
            <a:off x="5800680" y="3106800"/>
            <a:ext cx="3195720" cy="1571400"/>
            <a:chOff x="5800680" y="3106800"/>
            <a:chExt cx="3195720" cy="1571400"/>
          </a:xfrm>
        </p:grpSpPr>
        <p:pic>
          <p:nvPicPr>
            <p:cNvPr id="222" name="Picture 2" descr="Advantech TPC-1570H 15&quot; paneli PC"/>
            <p:cNvPicPr/>
            <p:nvPr/>
          </p:nvPicPr>
          <p:blipFill>
            <a:blip r:embed="rId10"/>
            <a:stretch/>
          </p:blipFill>
          <p:spPr>
            <a:xfrm>
              <a:off x="7176240" y="3229560"/>
              <a:ext cx="1435320" cy="14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3"/>
            <p:cNvSpPr/>
            <p:nvPr/>
          </p:nvSpPr>
          <p:spPr>
            <a:xfrm>
              <a:off x="6730200" y="3106800"/>
              <a:ext cx="226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perator Interfac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Line 28"/>
            <p:cNvGrpSpPr/>
            <p:nvPr/>
          </p:nvGrpSpPr>
          <p:grpSpPr>
            <a:xfrm>
              <a:off x="5800680" y="3273120"/>
              <a:ext cx="1601640" cy="682920"/>
              <a:chOff x="5800680" y="3273120"/>
              <a:chExt cx="1601640" cy="682920"/>
            </a:xfrm>
          </p:grpSpPr>
          <p:pic>
            <p:nvPicPr>
              <p:cNvPr id="225" name="Line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00680" y="3273120"/>
                <a:ext cx="1601640" cy="6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5828400" y="3322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Group 39"/>
          <p:cNvGrpSpPr/>
          <p:nvPr/>
        </p:nvGrpSpPr>
        <p:grpSpPr>
          <a:xfrm>
            <a:off x="228600" y="3200400"/>
            <a:ext cx="3200400" cy="1295280"/>
            <a:chOff x="228600" y="3200400"/>
            <a:chExt cx="3200400" cy="1295280"/>
          </a:xfrm>
        </p:grpSpPr>
        <p:pic>
          <p:nvPicPr>
            <p:cNvPr id="228" name="Picture 27" descr="UWStrobeBracket"/>
            <p:cNvPicPr/>
            <p:nvPr/>
          </p:nvPicPr>
          <p:blipFill>
            <a:blip r:embed="rId12"/>
            <a:stretch/>
          </p:blipFill>
          <p:spPr>
            <a:xfrm>
              <a:off x="228600" y="3417120"/>
              <a:ext cx="1024560" cy="107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Line 30"/>
            <p:cNvGrpSpPr/>
            <p:nvPr/>
          </p:nvGrpSpPr>
          <p:grpSpPr>
            <a:xfrm>
              <a:off x="908640" y="3200400"/>
              <a:ext cx="2520360" cy="1145520"/>
              <a:chOff x="908640" y="3200400"/>
              <a:chExt cx="2520360" cy="1145520"/>
            </a:xfrm>
          </p:grpSpPr>
          <p:pic>
            <p:nvPicPr>
              <p:cNvPr id="230" name="Line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908640" y="3200400"/>
                <a:ext cx="2520360" cy="114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3402000" y="3247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Text Box 31"/>
            <p:cNvSpPr/>
            <p:nvPr/>
          </p:nvSpPr>
          <p:spPr>
            <a:xfrm>
              <a:off x="725760" y="3341880"/>
              <a:ext cx="105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amera Fixtu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8"/>
          <p:cNvGrpSpPr/>
          <p:nvPr/>
        </p:nvGrpSpPr>
        <p:grpSpPr>
          <a:xfrm>
            <a:off x="1263600" y="3886200"/>
            <a:ext cx="2317680" cy="2157480"/>
            <a:chOff x="1263600" y="3886200"/>
            <a:chExt cx="2317680" cy="2157480"/>
          </a:xfrm>
        </p:grpSpPr>
        <p:pic>
          <p:nvPicPr>
            <p:cNvPr id="234" name="Picture 26" descr="l1edit300w"/>
            <p:cNvPicPr/>
            <p:nvPr/>
          </p:nvPicPr>
          <p:blipFill>
            <a:blip r:embed="rId14"/>
            <a:stretch/>
          </p:blipFill>
          <p:spPr>
            <a:xfrm>
              <a:off x="1294920" y="4751640"/>
              <a:ext cx="9921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29"/>
            <p:cNvSpPr/>
            <p:nvPr/>
          </p:nvSpPr>
          <p:spPr>
            <a:xfrm>
              <a:off x="1263600" y="4410000"/>
              <a:ext cx="11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closu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Line 12"/>
            <p:cNvGrpSpPr/>
            <p:nvPr/>
          </p:nvGrpSpPr>
          <p:grpSpPr>
            <a:xfrm>
              <a:off x="2043000" y="3886200"/>
              <a:ext cx="1538280" cy="1235880"/>
              <a:chOff x="2043000" y="3886200"/>
              <a:chExt cx="1538280" cy="1235880"/>
            </a:xfrm>
          </p:grpSpPr>
          <p:pic>
            <p:nvPicPr>
              <p:cNvPr id="237" name="Line 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43000" y="3886200"/>
                <a:ext cx="1538280" cy="123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548520" y="3930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9" name="Picture 41" descr="Havana.png"/>
          <p:cNvPicPr/>
          <p:nvPr/>
        </p:nvPicPr>
        <p:blipFill>
          <a:blip r:embed="rId16"/>
          <a:stretch/>
        </p:blipFill>
        <p:spPr>
          <a:xfrm>
            <a:off x="3552840" y="1112760"/>
            <a:ext cx="2271600" cy="29815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35"/>
          <p:cNvGrpSpPr/>
          <p:nvPr/>
        </p:nvGrpSpPr>
        <p:grpSpPr>
          <a:xfrm>
            <a:off x="5751360" y="3730680"/>
            <a:ext cx="3216600" cy="2316240"/>
            <a:chOff x="5751360" y="3730680"/>
            <a:chExt cx="3216600" cy="2316240"/>
          </a:xfrm>
        </p:grpSpPr>
        <p:grpSp>
          <p:nvGrpSpPr>
            <p:cNvPr id="241" name="Line 13"/>
            <p:cNvGrpSpPr/>
            <p:nvPr/>
          </p:nvGrpSpPr>
          <p:grpSpPr>
            <a:xfrm>
              <a:off x="5751360" y="3730680"/>
              <a:ext cx="1427760" cy="1014840"/>
              <a:chOff x="5751360" y="3730680"/>
              <a:chExt cx="1427760" cy="1014840"/>
            </a:xfrm>
          </p:grpSpPr>
          <p:pic>
            <p:nvPicPr>
              <p:cNvPr id="242" name="Lin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51360" y="3730680"/>
                <a:ext cx="1427760" cy="10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790600" y="3778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22"/>
            <p:cNvSpPr/>
            <p:nvPr/>
          </p:nvSpPr>
          <p:spPr>
            <a:xfrm>
              <a:off x="6193800" y="458568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thernet Expansion I/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47" descr=""/>
            <p:cNvPicPr/>
            <p:nvPr/>
          </p:nvPicPr>
          <p:blipFill>
            <a:blip r:embed="rId18"/>
            <a:stretch/>
          </p:blipFill>
          <p:spPr>
            <a:xfrm>
              <a:off x="6402960" y="4862520"/>
              <a:ext cx="166464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" descr="C:\Documents and Settings\rgiesen\Desktop\07240704_p.TIF"/>
            <p:cNvPicPr/>
            <p:nvPr/>
          </p:nvPicPr>
          <p:blipFill>
            <a:blip r:embed="rId19"/>
            <a:srcRect l="7186" t="8949" r="11001" b="9975"/>
            <a:stretch/>
          </p:blipFill>
          <p:spPr>
            <a:xfrm>
              <a:off x="6878520" y="5350680"/>
              <a:ext cx="2089440" cy="69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37"/>
          <p:cNvGrpSpPr/>
          <p:nvPr/>
        </p:nvGrpSpPr>
        <p:grpSpPr>
          <a:xfrm>
            <a:off x="2841480" y="3962520"/>
            <a:ext cx="1824120" cy="2173320"/>
            <a:chOff x="2841480" y="3962520"/>
            <a:chExt cx="1824120" cy="2173320"/>
          </a:xfrm>
        </p:grpSpPr>
        <p:grpSp>
          <p:nvGrpSpPr>
            <p:cNvPr id="248" name="Line 15"/>
            <p:cNvGrpSpPr/>
            <p:nvPr/>
          </p:nvGrpSpPr>
          <p:grpSpPr>
            <a:xfrm>
              <a:off x="4035600" y="3962520"/>
              <a:ext cx="457200" cy="919080"/>
              <a:chOff x="4035600" y="3962520"/>
              <a:chExt cx="457200" cy="919080"/>
            </a:xfrm>
          </p:grpSpPr>
          <p:pic>
            <p:nvPicPr>
              <p:cNvPr id="249" name="Line 1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5600" y="3962520"/>
                <a:ext cx="45720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4313160" y="3980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Text Box 20"/>
            <p:cNvSpPr/>
            <p:nvPr/>
          </p:nvSpPr>
          <p:spPr>
            <a:xfrm>
              <a:off x="3060000" y="4428360"/>
              <a:ext cx="13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rect I/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Picture 44" descr="http://www.phoenixcon.com/products/interface/pr-relays/PR3.jpg"/>
            <p:cNvPicPr/>
            <p:nvPr/>
          </p:nvPicPr>
          <p:blipFill>
            <a:blip r:embed="rId21"/>
            <a:stretch/>
          </p:blipFill>
          <p:spPr>
            <a:xfrm>
              <a:off x="2841480" y="4782600"/>
              <a:ext cx="1295640" cy="12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59" descr=""/>
            <p:cNvPicPr/>
            <p:nvPr/>
          </p:nvPicPr>
          <p:blipFill>
            <a:blip r:embed="rId22"/>
            <a:stretch/>
          </p:blipFill>
          <p:spPr>
            <a:xfrm>
              <a:off x="3969360" y="4775400"/>
              <a:ext cx="696240" cy="136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Documents and Settings\rgiesen\Desktop\07240704_p.TIF"/>
          <p:cNvPicPr/>
          <p:nvPr/>
        </p:nvPicPr>
        <p:blipFill>
          <a:blip r:embed="rId1"/>
          <a:srcRect l="7186" t="8949" r="11001" b="9975"/>
          <a:stretch/>
        </p:blipFill>
        <p:spPr>
          <a:xfrm>
            <a:off x="6759720" y="7067520"/>
            <a:ext cx="2114280" cy="711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Industrial Platform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256" name="Group 46"/>
          <p:cNvGrpSpPr/>
          <p:nvPr/>
        </p:nvGrpSpPr>
        <p:grpSpPr>
          <a:xfrm>
            <a:off x="5417640" y="7088040"/>
            <a:ext cx="1253520" cy="692280"/>
            <a:chOff x="5417640" y="7088040"/>
            <a:chExt cx="1253520" cy="692280"/>
          </a:xfrm>
        </p:grpSpPr>
        <p:sp>
          <p:nvSpPr>
            <p:cNvPr id="257" name="Text Box 12"/>
            <p:cNvSpPr/>
            <p:nvPr/>
          </p:nvSpPr>
          <p:spPr>
            <a:xfrm>
              <a:off x="5417640" y="70880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CompactRI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48" descr="FPGA_icons_ill.eps"/>
            <p:cNvPicPr/>
            <p:nvPr/>
          </p:nvPicPr>
          <p:blipFill>
            <a:blip r:embed="rId2"/>
            <a:stretch/>
          </p:blipFill>
          <p:spPr>
            <a:xfrm>
              <a:off x="5803560" y="7368840"/>
              <a:ext cx="41112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9" descr="realtime_ico_RDH547.tif"/>
            <p:cNvPicPr/>
            <p:nvPr/>
          </p:nvPicPr>
          <p:blipFill>
            <a:blip r:embed="rId3"/>
            <a:stretch/>
          </p:blipFill>
          <p:spPr>
            <a:xfrm>
              <a:off x="5460480" y="7371360"/>
              <a:ext cx="3150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35"/>
          <p:cNvGrpSpPr/>
          <p:nvPr/>
        </p:nvGrpSpPr>
        <p:grpSpPr>
          <a:xfrm>
            <a:off x="228600" y="1447920"/>
            <a:ext cx="7987680" cy="4192200"/>
            <a:chOff x="228600" y="1447920"/>
            <a:chExt cx="7987680" cy="4192200"/>
          </a:xfrm>
        </p:grpSpPr>
        <p:pic>
          <p:nvPicPr>
            <p:cNvPr id="261" name="Picture 2" descr="04290406"/>
            <p:cNvPicPr/>
            <p:nvPr/>
          </p:nvPicPr>
          <p:blipFill>
            <a:blip r:embed="rId4"/>
            <a:srcRect l="8003" t="9684" r="6559" b="14690"/>
            <a:stretch/>
          </p:blipFill>
          <p:spPr>
            <a:xfrm>
              <a:off x="533160" y="3482640"/>
              <a:ext cx="144756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"/>
            <p:cNvPicPr/>
            <p:nvPr/>
          </p:nvPicPr>
          <p:blipFill>
            <a:blip r:embed="rId5"/>
            <a:stretch/>
          </p:blipFill>
          <p:spPr>
            <a:xfrm>
              <a:off x="228600" y="1708200"/>
              <a:ext cx="14475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"/>
            <p:cNvSpPr/>
            <p:nvPr/>
          </p:nvSpPr>
          <p:spPr>
            <a:xfrm>
              <a:off x="1446120" y="189720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Host PC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Line 7"/>
            <p:cNvGrpSpPr/>
            <p:nvPr/>
          </p:nvGrpSpPr>
          <p:grpSpPr>
            <a:xfrm>
              <a:off x="963000" y="3029400"/>
              <a:ext cx="5754240" cy="79200"/>
              <a:chOff x="963000" y="3029400"/>
              <a:chExt cx="5754240" cy="79200"/>
            </a:xfrm>
          </p:grpSpPr>
          <p:pic>
            <p:nvPicPr>
              <p:cNvPr id="265" name="Lin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963000" y="3029400"/>
                <a:ext cx="5754240" cy="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979200" y="3072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9"/>
            <p:cNvSpPr/>
            <p:nvPr/>
          </p:nvSpPr>
          <p:spPr>
            <a:xfrm>
              <a:off x="1653480" y="2600280"/>
              <a:ext cx="1846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6707520" y="326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Smart Camer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Line 13"/>
            <p:cNvGrpSpPr/>
            <p:nvPr/>
          </p:nvGrpSpPr>
          <p:grpSpPr>
            <a:xfrm>
              <a:off x="6650280" y="3047760"/>
              <a:ext cx="79200" cy="639720"/>
              <a:chOff x="6650280" y="3047760"/>
              <a:chExt cx="79200" cy="639720"/>
            </a:xfrm>
          </p:grpSpPr>
          <p:pic>
            <p:nvPicPr>
              <p:cNvPr id="270" name="Lin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6650280" y="3047760"/>
                <a:ext cx="7920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 rot="10800000">
                <a:off x="6693840" y="367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2" name="Picture 14" descr=""/>
            <p:cNvPicPr/>
            <p:nvPr/>
          </p:nvPicPr>
          <p:blipFill>
            <a:blip r:embed="rId8"/>
            <a:stretch/>
          </p:blipFill>
          <p:spPr>
            <a:xfrm>
              <a:off x="6532920" y="4612680"/>
              <a:ext cx="128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5" descr="Advantech TPC-1570H 15&quot; paneli PC"/>
            <p:cNvPicPr/>
            <p:nvPr/>
          </p:nvPicPr>
          <p:blipFill>
            <a:blip r:embed="rId9"/>
            <a:stretch/>
          </p:blipFill>
          <p:spPr>
            <a:xfrm>
              <a:off x="5714640" y="1447920"/>
              <a:ext cx="1257120" cy="12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Line 16"/>
            <p:cNvGrpSpPr/>
            <p:nvPr/>
          </p:nvGrpSpPr>
          <p:grpSpPr>
            <a:xfrm>
              <a:off x="6662160" y="3943800"/>
              <a:ext cx="79200" cy="718920"/>
              <a:chOff x="6662160" y="3943800"/>
              <a:chExt cx="79200" cy="718920"/>
            </a:xfrm>
          </p:grpSpPr>
          <p:pic>
            <p:nvPicPr>
              <p:cNvPr id="275" name="Lin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62160" y="3943800"/>
                <a:ext cx="792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10800000">
                <a:off x="6704640" y="4649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Line 17"/>
            <p:cNvGrpSpPr/>
            <p:nvPr/>
          </p:nvGrpSpPr>
          <p:grpSpPr>
            <a:xfrm>
              <a:off x="6260040" y="2517480"/>
              <a:ext cx="85320" cy="548280"/>
              <a:chOff x="6260040" y="2517480"/>
              <a:chExt cx="85320" cy="548280"/>
            </a:xfrm>
          </p:grpSpPr>
          <p:pic>
            <p:nvPicPr>
              <p:cNvPr id="278" name="Line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60040" y="2517480"/>
                <a:ext cx="85320" cy="5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6305400" y="2536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Text Box 19"/>
            <p:cNvSpPr/>
            <p:nvPr/>
          </p:nvSpPr>
          <p:spPr>
            <a:xfrm>
              <a:off x="6531480" y="5333040"/>
              <a:ext cx="168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FP 180x Ethernet I/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6883200" y="1688760"/>
              <a:ext cx="11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TouchPane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Line 21"/>
            <p:cNvGrpSpPr/>
            <p:nvPr/>
          </p:nvGrpSpPr>
          <p:grpSpPr>
            <a:xfrm>
              <a:off x="4656960" y="2456640"/>
              <a:ext cx="85320" cy="621720"/>
              <a:chOff x="4656960" y="2456640"/>
              <a:chExt cx="85320" cy="621720"/>
            </a:xfrm>
          </p:grpSpPr>
          <p:pic>
            <p:nvPicPr>
              <p:cNvPr id="283" name="Lin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56960" y="2456640"/>
                <a:ext cx="8532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 rot="10800000">
                <a:off x="4701600" y="3067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Line 25"/>
            <p:cNvGrpSpPr/>
            <p:nvPr/>
          </p:nvGrpSpPr>
          <p:grpSpPr>
            <a:xfrm>
              <a:off x="3687840" y="3029400"/>
              <a:ext cx="85320" cy="1285920"/>
              <a:chOff x="3687840" y="3029400"/>
              <a:chExt cx="85320" cy="1285920"/>
            </a:xfrm>
          </p:grpSpPr>
          <p:pic>
            <p:nvPicPr>
              <p:cNvPr id="286" name="Line 25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87840" y="3029400"/>
                <a:ext cx="85320" cy="12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10800000">
                <a:off x="3735720" y="4305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Text Box 26"/>
            <p:cNvSpPr/>
            <p:nvPr/>
          </p:nvSpPr>
          <p:spPr>
            <a:xfrm>
              <a:off x="3794040" y="3740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Smart Camer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Picture 27" descr="Havana.png"/>
            <p:cNvPicPr/>
            <p:nvPr/>
          </p:nvPicPr>
          <p:blipFill>
            <a:blip r:embed="rId14"/>
            <a:stretch/>
          </p:blipFill>
          <p:spPr>
            <a:xfrm>
              <a:off x="6498720" y="3554280"/>
              <a:ext cx="489240" cy="6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0" descr="cvs.png"/>
            <p:cNvPicPr/>
            <p:nvPr/>
          </p:nvPicPr>
          <p:blipFill>
            <a:blip r:embed="rId15"/>
            <a:srcRect l="7414" t="3581" r="5560" b="5891"/>
            <a:stretch/>
          </p:blipFill>
          <p:spPr>
            <a:xfrm>
              <a:off x="4492800" y="1710720"/>
              <a:ext cx="813240" cy="9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1"/>
            <p:cNvSpPr/>
            <p:nvPr/>
          </p:nvSpPr>
          <p:spPr>
            <a:xfrm>
              <a:off x="3827520" y="177948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CVS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Picture 33" descr="TouchPanel_icons_ill.eps"/>
            <p:cNvPicPr/>
            <p:nvPr/>
          </p:nvPicPr>
          <p:blipFill>
            <a:blip r:embed="rId16"/>
            <a:stretch/>
          </p:blipFill>
          <p:spPr>
            <a:xfrm>
              <a:off x="7014240" y="1976040"/>
              <a:ext cx="349560" cy="36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45"/>
            <p:cNvGrpSpPr/>
            <p:nvPr/>
          </p:nvGrpSpPr>
          <p:grpSpPr>
            <a:xfrm>
              <a:off x="628560" y="4319640"/>
              <a:ext cx="1253520" cy="691560"/>
              <a:chOff x="628560" y="4319640"/>
              <a:chExt cx="1253520" cy="691560"/>
            </a:xfrm>
          </p:grpSpPr>
          <p:sp>
            <p:nvSpPr>
              <p:cNvPr id="294" name="Text Box 12"/>
              <p:cNvSpPr/>
              <p:nvPr/>
            </p:nvSpPr>
            <p:spPr>
              <a:xfrm>
                <a:off x="628560" y="4319640"/>
                <a:ext cx="125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NI CompactRIO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5" name="Picture 32" descr="FPGA_icons_ill.eps"/>
              <p:cNvPicPr/>
              <p:nvPr/>
            </p:nvPicPr>
            <p:blipFill>
              <a:blip r:embed="rId17"/>
              <a:stretch/>
            </p:blipFill>
            <p:spPr>
              <a:xfrm>
                <a:off x="1014840" y="4600080"/>
                <a:ext cx="41112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36" descr="realtime_ico_RDH547.tif"/>
              <p:cNvPicPr/>
              <p:nvPr/>
            </p:nvPicPr>
            <p:blipFill>
              <a:blip r:embed="rId18"/>
              <a:stretch/>
            </p:blipFill>
            <p:spPr>
              <a:xfrm>
                <a:off x="671760" y="4602600"/>
                <a:ext cx="315000" cy="38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7" descr=""/>
            <p:cNvPicPr/>
            <p:nvPr/>
          </p:nvPicPr>
          <p:blipFill>
            <a:blip r:embed="rId19"/>
            <a:srcRect l="0" t="0" r="78403" b="0"/>
            <a:stretch/>
          </p:blipFill>
          <p:spPr>
            <a:xfrm>
              <a:off x="1494360" y="2148120"/>
              <a:ext cx="38988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"/>
            <p:cNvPicPr/>
            <p:nvPr/>
          </p:nvPicPr>
          <p:blipFill>
            <a:blip r:embed="rId20"/>
            <a:stretch/>
          </p:blipFill>
          <p:spPr>
            <a:xfrm>
              <a:off x="7027560" y="3605040"/>
              <a:ext cx="42588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0" descr="realtime_ico_RDH547.tif"/>
            <p:cNvPicPr/>
            <p:nvPr/>
          </p:nvPicPr>
          <p:blipFill>
            <a:blip r:embed="rId21"/>
            <a:stretch/>
          </p:blipFill>
          <p:spPr>
            <a:xfrm>
              <a:off x="5134680" y="3696840"/>
              <a:ext cx="3150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1" descr="realtime_ico_RDH547.tif"/>
            <p:cNvPicPr/>
            <p:nvPr/>
          </p:nvPicPr>
          <p:blipFill>
            <a:blip r:embed="rId22"/>
            <a:stretch/>
          </p:blipFill>
          <p:spPr>
            <a:xfrm>
              <a:off x="4024800" y="2062440"/>
              <a:ext cx="3150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Straight Connector 51" descr=""/>
            <p:cNvPicPr/>
            <p:nvPr/>
          </p:nvPicPr>
          <p:blipFill>
            <a:blip r:embed="rId23"/>
            <a:stretch/>
          </p:blipFill>
          <p:spPr>
            <a:xfrm>
              <a:off x="932400" y="2645640"/>
              <a:ext cx="8532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43"/>
          <p:cNvGrpSpPr/>
          <p:nvPr/>
        </p:nvGrpSpPr>
        <p:grpSpPr>
          <a:xfrm>
            <a:off x="206280" y="1001880"/>
            <a:ext cx="8767800" cy="5126040"/>
            <a:chOff x="206280" y="1001880"/>
            <a:chExt cx="8767800" cy="5126040"/>
          </a:xfrm>
        </p:grpSpPr>
        <p:grpSp>
          <p:nvGrpSpPr>
            <p:cNvPr id="303" name="Group 33"/>
            <p:cNvGrpSpPr/>
            <p:nvPr/>
          </p:nvGrpSpPr>
          <p:grpSpPr>
            <a:xfrm>
              <a:off x="5633640" y="1008000"/>
              <a:ext cx="3225960" cy="1879560"/>
              <a:chOff x="5633640" y="1008000"/>
              <a:chExt cx="3225960" cy="1879560"/>
            </a:xfrm>
          </p:grpSpPr>
          <p:pic>
            <p:nvPicPr>
              <p:cNvPr id="304" name="Picture 7" descr="VBAI - Wine Bottle 1"/>
              <p:cNvPicPr/>
              <p:nvPr/>
            </p:nvPicPr>
            <p:blipFill>
              <a:blip r:embed="rId24"/>
              <a:stretch/>
            </p:blipFill>
            <p:spPr>
              <a:xfrm>
                <a:off x="6764400" y="1008000"/>
                <a:ext cx="1752480" cy="12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8" descr="LV - Geometric Matching"/>
              <p:cNvPicPr/>
              <p:nvPr/>
            </p:nvPicPr>
            <p:blipFill>
              <a:blip r:embed="rId25"/>
              <a:stretch/>
            </p:blipFill>
            <p:spPr>
              <a:xfrm>
                <a:off x="7216560" y="1761120"/>
                <a:ext cx="1643040" cy="95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Line 10"/>
              <p:cNvGrpSpPr/>
              <p:nvPr/>
            </p:nvGrpSpPr>
            <p:grpSpPr>
              <a:xfrm>
                <a:off x="5747760" y="2469600"/>
                <a:ext cx="1615320" cy="417960"/>
                <a:chOff x="5747760" y="2469600"/>
                <a:chExt cx="1615320" cy="417960"/>
              </a:xfrm>
            </p:grpSpPr>
            <p:pic>
              <p:nvPicPr>
                <p:cNvPr id="307" name="Line 10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747760" y="2469600"/>
                  <a:ext cx="1615320" cy="41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0800000">
                  <a:off x="5768280" y="27500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Text Box 19"/>
              <p:cNvSpPr/>
              <p:nvPr/>
            </p:nvSpPr>
            <p:spPr>
              <a:xfrm>
                <a:off x="5633640" y="234180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Softwa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6"/>
            <p:cNvGrpSpPr/>
            <p:nvPr/>
          </p:nvGrpSpPr>
          <p:grpSpPr>
            <a:xfrm>
              <a:off x="4898520" y="4106880"/>
              <a:ext cx="1459800" cy="1962000"/>
              <a:chOff x="4898520" y="4106880"/>
              <a:chExt cx="1459800" cy="1962000"/>
            </a:xfrm>
          </p:grpSpPr>
          <p:pic>
            <p:nvPicPr>
              <p:cNvPr id="311" name="Picture 42" descr="http://eshop.phoenixcontact.com/phoenix/images/productimages/large/21136_1000_int_04.jpg"/>
              <p:cNvPicPr/>
              <p:nvPr/>
            </p:nvPicPr>
            <p:blipFill>
              <a:blip r:embed="rId27"/>
              <a:stretch/>
            </p:blipFill>
            <p:spPr>
              <a:xfrm>
                <a:off x="4898520" y="4720680"/>
                <a:ext cx="1311120" cy="134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2" name="Line 17"/>
              <p:cNvGrpSpPr/>
              <p:nvPr/>
            </p:nvGrpSpPr>
            <p:grpSpPr>
              <a:xfrm>
                <a:off x="4955040" y="4106880"/>
                <a:ext cx="658080" cy="1000800"/>
                <a:chOff x="4955040" y="4106880"/>
                <a:chExt cx="658080" cy="1000800"/>
              </a:xfrm>
            </p:grpSpPr>
            <p:pic>
              <p:nvPicPr>
                <p:cNvPr id="313" name="Line 17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5040" y="4106880"/>
                  <a:ext cx="658080" cy="100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>
                  <a:off x="5006160" y="41407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Text Box 21"/>
              <p:cNvSpPr/>
              <p:nvPr/>
            </p:nvSpPr>
            <p:spPr>
              <a:xfrm>
                <a:off x="5367960" y="4283280"/>
                <a:ext cx="990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Power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Supply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0"/>
            <p:cNvGrpSpPr/>
            <p:nvPr/>
          </p:nvGrpSpPr>
          <p:grpSpPr>
            <a:xfrm>
              <a:off x="434880" y="2125440"/>
              <a:ext cx="2971800" cy="916200"/>
              <a:chOff x="434880" y="2125440"/>
              <a:chExt cx="2971800" cy="916200"/>
            </a:xfrm>
          </p:grpSpPr>
          <p:pic>
            <p:nvPicPr>
              <p:cNvPr id="317" name="Picture 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4880" y="2125440"/>
                <a:ext cx="901080" cy="91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8" name="Line 18"/>
              <p:cNvGrpSpPr/>
              <p:nvPr/>
            </p:nvGrpSpPr>
            <p:grpSpPr>
              <a:xfrm>
                <a:off x="1269720" y="2432160"/>
                <a:ext cx="2136960" cy="451080"/>
                <a:chOff x="1269720" y="2432160"/>
                <a:chExt cx="2136960" cy="451080"/>
              </a:xfrm>
            </p:grpSpPr>
            <p:pic>
              <p:nvPicPr>
                <p:cNvPr id="319" name="Line 18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269720" y="2432160"/>
                  <a:ext cx="2136960" cy="45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3394440" y="25826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Text Box 24"/>
              <p:cNvSpPr/>
              <p:nvPr/>
            </p:nvSpPr>
            <p:spPr>
              <a:xfrm>
                <a:off x="1360080" y="2211480"/>
                <a:ext cx="151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Illuminatio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3"/>
            <p:cNvGrpSpPr/>
            <p:nvPr/>
          </p:nvGrpSpPr>
          <p:grpSpPr>
            <a:xfrm>
              <a:off x="1002600" y="1001880"/>
              <a:ext cx="2556360" cy="1047240"/>
              <a:chOff x="1002600" y="1001880"/>
              <a:chExt cx="2556360" cy="1047240"/>
            </a:xfrm>
          </p:grpSpPr>
          <p:pic>
            <p:nvPicPr>
              <p:cNvPr id="323" name="Picture 6" descr="MANUAL%20IRIS%20VARIFOCAL%20LENS%202"/>
              <p:cNvPicPr/>
              <p:nvPr/>
            </p:nvPicPr>
            <p:blipFill>
              <a:blip r:embed="rId31"/>
              <a:stretch/>
            </p:blipFill>
            <p:spPr>
              <a:xfrm>
                <a:off x="1002600" y="1001880"/>
                <a:ext cx="907560" cy="874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4" name="Line 11"/>
              <p:cNvGrpSpPr/>
              <p:nvPr/>
            </p:nvGrpSpPr>
            <p:grpSpPr>
              <a:xfrm>
                <a:off x="1646640" y="1419480"/>
                <a:ext cx="1912320" cy="629640"/>
                <a:chOff x="1646640" y="1419480"/>
                <a:chExt cx="1912320" cy="629640"/>
              </a:xfrm>
            </p:grpSpPr>
            <p:pic>
              <p:nvPicPr>
                <p:cNvPr id="325" name="Line 11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1646640" y="1419480"/>
                  <a:ext cx="1912320" cy="62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 rot="10800000">
                  <a:off x="3540240" y="2003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Text Box 25"/>
              <p:cNvSpPr/>
              <p:nvPr/>
            </p:nvSpPr>
            <p:spPr>
              <a:xfrm>
                <a:off x="1614960" y="1236960"/>
                <a:ext cx="128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Lens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34"/>
            <p:cNvGrpSpPr/>
            <p:nvPr/>
          </p:nvGrpSpPr>
          <p:grpSpPr>
            <a:xfrm>
              <a:off x="5778720" y="3098880"/>
              <a:ext cx="3195360" cy="1571040"/>
              <a:chOff x="5778720" y="3098880"/>
              <a:chExt cx="3195360" cy="1571040"/>
            </a:xfrm>
          </p:grpSpPr>
          <p:pic>
            <p:nvPicPr>
              <p:cNvPr id="329" name="Picture 2" descr="Advantech TPC-1570H 15&quot; paneli PC"/>
              <p:cNvPicPr/>
              <p:nvPr/>
            </p:nvPicPr>
            <p:blipFill>
              <a:blip r:embed="rId33"/>
              <a:stretch/>
            </p:blipFill>
            <p:spPr>
              <a:xfrm>
                <a:off x="7155360" y="3221640"/>
                <a:ext cx="1433880" cy="14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Text Box 23"/>
              <p:cNvSpPr/>
              <p:nvPr/>
            </p:nvSpPr>
            <p:spPr>
              <a:xfrm>
                <a:off x="6710040" y="3098880"/>
                <a:ext cx="226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Operator Interfac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Line 28"/>
              <p:cNvGrpSpPr/>
              <p:nvPr/>
            </p:nvGrpSpPr>
            <p:grpSpPr>
              <a:xfrm>
                <a:off x="5778720" y="3261240"/>
                <a:ext cx="1599840" cy="689040"/>
                <a:chOff x="5778720" y="3261240"/>
                <a:chExt cx="1599840" cy="689040"/>
              </a:xfrm>
            </p:grpSpPr>
            <p:pic>
              <p:nvPicPr>
                <p:cNvPr id="332" name="Line 28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778720" y="3261240"/>
                  <a:ext cx="1599840" cy="68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5808960" y="33148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Group 39"/>
            <p:cNvGrpSpPr/>
            <p:nvPr/>
          </p:nvGrpSpPr>
          <p:grpSpPr>
            <a:xfrm>
              <a:off x="206280" y="3192480"/>
              <a:ext cx="3200400" cy="1295640"/>
              <a:chOff x="206280" y="3192480"/>
              <a:chExt cx="3200400" cy="1295640"/>
            </a:xfrm>
          </p:grpSpPr>
          <p:pic>
            <p:nvPicPr>
              <p:cNvPr id="335" name="Picture 27" descr="UWStrobeBracket"/>
              <p:cNvPicPr/>
              <p:nvPr/>
            </p:nvPicPr>
            <p:blipFill>
              <a:blip r:embed="rId35"/>
              <a:stretch/>
            </p:blipFill>
            <p:spPr>
              <a:xfrm>
                <a:off x="206280" y="3412440"/>
                <a:ext cx="1025280" cy="107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6" name="Line 30"/>
              <p:cNvGrpSpPr/>
              <p:nvPr/>
            </p:nvGrpSpPr>
            <p:grpSpPr>
              <a:xfrm>
                <a:off x="884160" y="3192480"/>
                <a:ext cx="2522520" cy="1142280"/>
                <a:chOff x="884160" y="3192480"/>
                <a:chExt cx="2522520" cy="1142280"/>
              </a:xfrm>
            </p:grpSpPr>
            <p:pic>
              <p:nvPicPr>
                <p:cNvPr id="337" name="Line 30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84160" y="3192480"/>
                  <a:ext cx="2522520" cy="114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3382200" y="3243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Text Box 31"/>
              <p:cNvSpPr/>
              <p:nvPr/>
            </p:nvSpPr>
            <p:spPr>
              <a:xfrm>
                <a:off x="703800" y="3337560"/>
                <a:ext cx="1058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Camera Fixtu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38"/>
            <p:cNvGrpSpPr/>
            <p:nvPr/>
          </p:nvGrpSpPr>
          <p:grpSpPr>
            <a:xfrm>
              <a:off x="1240920" y="3878280"/>
              <a:ext cx="2317680" cy="2157840"/>
              <a:chOff x="1240920" y="3878280"/>
              <a:chExt cx="2317680" cy="2157840"/>
            </a:xfrm>
          </p:grpSpPr>
          <p:pic>
            <p:nvPicPr>
              <p:cNvPr id="341" name="Picture 26" descr="l1edit300w"/>
              <p:cNvPicPr/>
              <p:nvPr/>
            </p:nvPicPr>
            <p:blipFill>
              <a:blip r:embed="rId37"/>
              <a:stretch/>
            </p:blipFill>
            <p:spPr>
              <a:xfrm>
                <a:off x="1272240" y="4743000"/>
                <a:ext cx="993240" cy="12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Text Box 29"/>
              <p:cNvSpPr/>
              <p:nvPr/>
            </p:nvSpPr>
            <p:spPr>
              <a:xfrm>
                <a:off x="1240920" y="4400640"/>
                <a:ext cx="112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nclosu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Line 12"/>
              <p:cNvGrpSpPr/>
              <p:nvPr/>
            </p:nvGrpSpPr>
            <p:grpSpPr>
              <a:xfrm>
                <a:off x="2024640" y="3878280"/>
                <a:ext cx="1533960" cy="1231200"/>
                <a:chOff x="2024640" y="3878280"/>
                <a:chExt cx="1533960" cy="1231200"/>
              </a:xfrm>
            </p:grpSpPr>
            <p:pic>
              <p:nvPicPr>
                <p:cNvPr id="344" name="Line 12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24640" y="3878280"/>
                  <a:ext cx="1533960" cy="1231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528360" y="39211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46" name="Picture 60" descr="Havana.png"/>
            <p:cNvPicPr/>
            <p:nvPr/>
          </p:nvPicPr>
          <p:blipFill>
            <a:blip r:embed="rId39"/>
            <a:stretch/>
          </p:blipFill>
          <p:spPr>
            <a:xfrm>
              <a:off x="3542040" y="1104120"/>
              <a:ext cx="2270520" cy="298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35"/>
            <p:cNvGrpSpPr/>
            <p:nvPr/>
          </p:nvGrpSpPr>
          <p:grpSpPr>
            <a:xfrm>
              <a:off x="5729400" y="3722760"/>
              <a:ext cx="3215160" cy="2316600"/>
              <a:chOff x="5729400" y="3722760"/>
              <a:chExt cx="3215160" cy="2316600"/>
            </a:xfrm>
          </p:grpSpPr>
          <p:grpSp>
            <p:nvGrpSpPr>
              <p:cNvPr id="348" name="Line 13"/>
              <p:cNvGrpSpPr/>
              <p:nvPr/>
            </p:nvGrpSpPr>
            <p:grpSpPr>
              <a:xfrm>
                <a:off x="5729400" y="3722760"/>
                <a:ext cx="1428480" cy="1015920"/>
                <a:chOff x="5729400" y="3722760"/>
                <a:chExt cx="1428480" cy="1015920"/>
              </a:xfrm>
            </p:grpSpPr>
            <p:pic>
              <p:nvPicPr>
                <p:cNvPr id="349" name="Line 13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729400" y="3722760"/>
                  <a:ext cx="142848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>
                  <a:off x="5765400" y="37684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Text Box 22"/>
              <p:cNvSpPr/>
              <p:nvPr/>
            </p:nvSpPr>
            <p:spPr>
              <a:xfrm>
                <a:off x="6168600" y="4576680"/>
                <a:ext cx="23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thernet Expansion I/O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2" name="Picture 47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77760" y="4853520"/>
                <a:ext cx="1665360" cy="9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2" descr="C:\Documents and Settings\rgiesen\Desktop\07240704_p.TIF"/>
              <p:cNvPicPr/>
              <p:nvPr/>
            </p:nvPicPr>
            <p:blipFill>
              <a:blip r:embed="rId42"/>
              <a:srcRect l="7186" t="8949" r="11001" b="9975"/>
              <a:stretch/>
            </p:blipFill>
            <p:spPr>
              <a:xfrm>
                <a:off x="6853680" y="5342400"/>
                <a:ext cx="2090880" cy="69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4" name="Group 37"/>
            <p:cNvGrpSpPr/>
            <p:nvPr/>
          </p:nvGrpSpPr>
          <p:grpSpPr>
            <a:xfrm>
              <a:off x="2819160" y="3954600"/>
              <a:ext cx="1823760" cy="2173320"/>
              <a:chOff x="2819160" y="3954600"/>
              <a:chExt cx="1823760" cy="2173320"/>
            </a:xfrm>
          </p:grpSpPr>
          <p:grpSp>
            <p:nvGrpSpPr>
              <p:cNvPr id="355" name="Line 15"/>
              <p:cNvGrpSpPr/>
              <p:nvPr/>
            </p:nvGrpSpPr>
            <p:grpSpPr>
              <a:xfrm>
                <a:off x="4016520" y="3954600"/>
                <a:ext cx="451080" cy="923400"/>
                <a:chOff x="4016520" y="3954600"/>
                <a:chExt cx="451080" cy="923400"/>
              </a:xfrm>
            </p:grpSpPr>
            <p:pic>
              <p:nvPicPr>
                <p:cNvPr id="356" name="Line 15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016520" y="3954600"/>
                  <a:ext cx="45108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4290480" y="3976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Text Box 20"/>
              <p:cNvSpPr/>
              <p:nvPr/>
            </p:nvSpPr>
            <p:spPr>
              <a:xfrm>
                <a:off x="3037680" y="442368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rect I/O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9" name="Picture 44" descr="http://www.phoenixcon.com/products/interface/pr-relays/PR3.jpg"/>
              <p:cNvPicPr/>
              <p:nvPr/>
            </p:nvPicPr>
            <p:blipFill>
              <a:blip r:embed="rId44"/>
              <a:stretch/>
            </p:blipFill>
            <p:spPr>
              <a:xfrm>
                <a:off x="2819160" y="4777200"/>
                <a:ext cx="1295280" cy="12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59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47040" y="4770000"/>
                <a:ext cx="695880" cy="135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1" name="Rounded Rectangle 139"/>
          <p:cNvSpPr/>
          <p:nvPr/>
        </p:nvSpPr>
        <p:spPr>
          <a:xfrm>
            <a:off x="262080" y="1360440"/>
            <a:ext cx="248112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gle LabVIEW Proj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ounded Rectangle 140"/>
          <p:cNvSpPr/>
          <p:nvPr/>
        </p:nvSpPr>
        <p:spPr>
          <a:xfrm>
            <a:off x="2328840" y="2602080"/>
            <a:ext cx="176364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ared Variab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4.07407E-006 C 0.00174 0.01666 0.00694 0.03402 -0.00851 0.0618 C -0.02396 0.08958 -0.08125 0.1493 -0.09531 0.16666 E">
                                      <p:cBhvr>
                                        <p:cTn id="10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A Smart Camera Is…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ll-in-one device used to locate, identify and inspect obj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vision sensor that outputs inspection results, not imag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ost popular vision hardware for industrial end user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usion of an automation controller with a camera sens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3" name="Group 17"/>
          <p:cNvGrpSpPr/>
          <p:nvPr/>
        </p:nvGrpSpPr>
        <p:grpSpPr>
          <a:xfrm>
            <a:off x="838080" y="2743200"/>
            <a:ext cx="7620120" cy="3860640"/>
            <a:chOff x="838080" y="2743200"/>
            <a:chExt cx="7620120" cy="3860640"/>
          </a:xfrm>
        </p:grpSpPr>
        <p:sp>
          <p:nvSpPr>
            <p:cNvPr id="94" name="Rectangle 8"/>
            <p:cNvSpPr/>
            <p:nvPr/>
          </p:nvSpPr>
          <p:spPr>
            <a:xfrm>
              <a:off x="838080" y="4241520"/>
              <a:ext cx="586764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gh-performance processo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werPC, DSP or X86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ilt-in I/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l-time O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grammed or configured remotel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5410080" y="4241520"/>
              <a:ext cx="30481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ustrial came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D or CMO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y sensor speed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y sensor resolution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lens moun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4114800" y="3251160"/>
              <a:ext cx="838080" cy="838080"/>
              <a:chOff x="4114800" y="3251160"/>
              <a:chExt cx="838080" cy="838080"/>
            </a:xfrm>
          </p:grpSpPr>
          <p:sp>
            <p:nvSpPr>
              <p:cNvPr id="97" name="Line 11"/>
              <p:cNvSpPr/>
              <p:nvPr/>
            </p:nvSpPr>
            <p:spPr>
              <a:xfrm>
                <a:off x="4541760" y="3251160"/>
                <a:ext cx="0" cy="838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2"/>
              <p:cNvSpPr/>
              <p:nvPr/>
            </p:nvSpPr>
            <p:spPr>
              <a:xfrm>
                <a:off x="4114800" y="3649680"/>
                <a:ext cx="838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Picture 15" descr=""/>
            <p:cNvPicPr/>
            <p:nvPr/>
          </p:nvPicPr>
          <p:blipFill>
            <a:blip r:embed="rId1"/>
            <a:stretch/>
          </p:blipFill>
          <p:spPr>
            <a:xfrm>
              <a:off x="1676520" y="2743200"/>
              <a:ext cx="1809720" cy="15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6" descr=""/>
            <p:cNvPicPr/>
            <p:nvPr/>
          </p:nvPicPr>
          <p:blipFill>
            <a:blip r:embed="rId2"/>
            <a:stretch/>
          </p:blipFill>
          <p:spPr>
            <a:xfrm>
              <a:off x="5257800" y="3014640"/>
              <a:ext cx="2095560" cy="12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05080" y="23472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02" name="Picture 3" descr="Havana.png"/>
          <p:cNvPicPr/>
          <p:nvPr/>
        </p:nvPicPr>
        <p:blipFill>
          <a:blip r:embed="rId1"/>
          <a:stretch/>
        </p:blipFill>
        <p:spPr>
          <a:xfrm>
            <a:off x="2841480" y="1206360"/>
            <a:ext cx="36054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s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5920" y="1523880"/>
          <a:ext cx="8405640" cy="3441960"/>
        </p:xfrm>
        <a:graphic>
          <a:graphicData uri="http://schemas.openxmlformats.org/drawingml/2006/table">
            <a:tbl>
              <a:tblPr/>
              <a:tblGrid>
                <a:gridCol w="1233360"/>
                <a:gridCol w="1719360"/>
                <a:gridCol w="1563480"/>
                <a:gridCol w="1311480"/>
                <a:gridCol w="1195200"/>
                <a:gridCol w="1382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ns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ghting Direct Dr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cod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upp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2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Q4 200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PC 400MH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GA, 60f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999*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4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Q4 200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PC 533MH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GA, 60f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8da0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8da0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499*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XX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102"/>
          <p:cNvSpPr/>
          <p:nvPr/>
        </p:nvSpPr>
        <p:spPr>
          <a:xfrm>
            <a:off x="418680" y="5662440"/>
            <a:ext cx="32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Price includes Vision Builder AI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8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ular Callout 5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ounded Rectangular Callout 6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Processor Architectur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2475000" y="1278000"/>
            <a:ext cx="4024080" cy="2262240"/>
            <a:chOff x="2475000" y="1278000"/>
            <a:chExt cx="4024080" cy="2262240"/>
          </a:xfrm>
        </p:grpSpPr>
        <p:grpSp>
          <p:nvGrpSpPr>
            <p:cNvPr id="115" name="Minus 23"/>
            <p:cNvGrpSpPr/>
            <p:nvPr/>
          </p:nvGrpSpPr>
          <p:grpSpPr>
            <a:xfrm>
              <a:off x="3238920" y="1743480"/>
              <a:ext cx="1106640" cy="119160"/>
              <a:chOff x="3238920" y="1743480"/>
              <a:chExt cx="1106640" cy="119160"/>
            </a:xfrm>
          </p:grpSpPr>
          <p:pic>
            <p:nvPicPr>
              <p:cNvPr id="116" name="Minus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8920" y="1743480"/>
                <a:ext cx="110664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3254760" y="1764000"/>
                <a:ext cx="107856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Minus 24"/>
            <p:cNvGrpSpPr/>
            <p:nvPr/>
          </p:nvGrpSpPr>
          <p:grpSpPr>
            <a:xfrm>
              <a:off x="3166560" y="2967480"/>
              <a:ext cx="1106640" cy="113400"/>
              <a:chOff x="3166560" y="2967480"/>
              <a:chExt cx="1106640" cy="113400"/>
            </a:xfrm>
          </p:grpSpPr>
          <p:pic>
            <p:nvPicPr>
              <p:cNvPr id="119" name="Minus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6560" y="2967480"/>
                <a:ext cx="110664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3185280" y="2984400"/>
                <a:ext cx="107856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Rectangle 7"/>
            <p:cNvGrpSpPr/>
            <p:nvPr/>
          </p:nvGrpSpPr>
          <p:grpSpPr>
            <a:xfrm>
              <a:off x="3882600" y="1278000"/>
              <a:ext cx="2616480" cy="2262240"/>
              <a:chOff x="3882600" y="1278000"/>
              <a:chExt cx="2616480" cy="2262240"/>
            </a:xfrm>
          </p:grpSpPr>
          <p:pic>
            <p:nvPicPr>
              <p:cNvPr id="12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2600" y="1278000"/>
                <a:ext cx="2616480" cy="22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909960" y="1305720"/>
                <a:ext cx="2566080" cy="22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PowerP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400 or 533 MHz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Rectangle 9"/>
            <p:cNvGrpSpPr/>
            <p:nvPr/>
          </p:nvGrpSpPr>
          <p:grpSpPr>
            <a:xfrm>
              <a:off x="2475000" y="1278000"/>
              <a:ext cx="1226880" cy="1032480"/>
              <a:chOff x="2475000" y="1278000"/>
              <a:chExt cx="1226880" cy="1032480"/>
            </a:xfrm>
          </p:grpSpPr>
          <p:pic>
            <p:nvPicPr>
              <p:cNvPr id="12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475000" y="1278000"/>
                <a:ext cx="1226880" cy="103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505240" y="1305720"/>
                <a:ext cx="1175040" cy="9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SDRAM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128 M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Rectangle 10"/>
            <p:cNvGrpSpPr/>
            <p:nvPr/>
          </p:nvGrpSpPr>
          <p:grpSpPr>
            <a:xfrm>
              <a:off x="2475000" y="2507760"/>
              <a:ext cx="1226880" cy="1032480"/>
              <a:chOff x="2475000" y="2507760"/>
              <a:chExt cx="1226880" cy="1032480"/>
            </a:xfrm>
          </p:grpSpPr>
          <p:pic>
            <p:nvPicPr>
              <p:cNvPr id="128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475000" y="2507760"/>
                <a:ext cx="1226880" cy="103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505240" y="2536200"/>
                <a:ext cx="1175040" cy="9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DO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128 M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0" name="Picture 22" descr="realtime_ico_RDH547.tif"/>
            <p:cNvPicPr/>
            <p:nvPr/>
          </p:nvPicPr>
          <p:blipFill>
            <a:blip r:embed="rId6"/>
            <a:stretch/>
          </p:blipFill>
          <p:spPr>
            <a:xfrm>
              <a:off x="4887360" y="2557440"/>
              <a:ext cx="55188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31"/>
          <p:cNvGrpSpPr/>
          <p:nvPr/>
        </p:nvGrpSpPr>
        <p:grpSpPr>
          <a:xfrm>
            <a:off x="1724040" y="3735360"/>
            <a:ext cx="5721480" cy="2392560"/>
            <a:chOff x="1724040" y="3735360"/>
            <a:chExt cx="5721480" cy="2392560"/>
          </a:xfrm>
        </p:grpSpPr>
        <p:pic>
          <p:nvPicPr>
            <p:cNvPr id="132" name="Picture 28" descr="VBAI_WineBottle_inspection2_ss_p.tif"/>
            <p:cNvPicPr/>
            <p:nvPr/>
          </p:nvPicPr>
          <p:blipFill>
            <a:blip r:embed="rId7"/>
            <a:stretch/>
          </p:blipFill>
          <p:spPr>
            <a:xfrm>
              <a:off x="4958640" y="4211280"/>
              <a:ext cx="2486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2" descr="LV8.5_Accidental_bd_ss_p.tif"/>
            <p:cNvPicPr/>
            <p:nvPr/>
          </p:nvPicPr>
          <p:blipFill>
            <a:blip r:embed="rId8"/>
            <a:stretch/>
          </p:blipFill>
          <p:spPr>
            <a:xfrm>
              <a:off x="1724040" y="4178520"/>
              <a:ext cx="2437200" cy="19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Down Arrow 37"/>
            <p:cNvGrpSpPr/>
            <p:nvPr/>
          </p:nvGrpSpPr>
          <p:grpSpPr>
            <a:xfrm>
              <a:off x="4328280" y="3735360"/>
              <a:ext cx="426600" cy="943920"/>
              <a:chOff x="4328280" y="3735360"/>
              <a:chExt cx="426600" cy="943920"/>
            </a:xfrm>
          </p:grpSpPr>
          <p:pic>
            <p:nvPicPr>
              <p:cNvPr id="135" name="Down Arrow 37" descr=""/>
              <p:cNvPicPr/>
              <p:nvPr/>
            </p:nvPicPr>
            <p:blipFill>
              <a:blip r:embed="rId9"/>
              <a:stretch/>
            </p:blipFill>
            <p:spPr>
              <a:xfrm>
                <a:off x="4328280" y="3735360"/>
                <a:ext cx="426600" cy="9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4446360" y="3752280"/>
                <a:ext cx="19656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TextBox 38"/>
            <p:cNvSpPr/>
            <p:nvPr/>
          </p:nvSpPr>
          <p:spPr>
            <a:xfrm>
              <a:off x="4301640" y="477720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 Narrow"/>
                </a:rPr>
                <a:t>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Content Placeholder 7" descr="LV logo.png"/>
          <p:cNvPicPr/>
          <p:nvPr/>
        </p:nvPicPr>
        <p:blipFill>
          <a:blip r:embed="rId10"/>
          <a:stretch/>
        </p:blipFill>
        <p:spPr>
          <a:xfrm>
            <a:off x="1965240" y="3862440"/>
            <a:ext cx="144000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0" descr="VBAI logo.png"/>
          <p:cNvPicPr/>
          <p:nvPr/>
        </p:nvPicPr>
        <p:blipFill>
          <a:blip r:embed="rId11"/>
          <a:stretch/>
        </p:blipFill>
        <p:spPr>
          <a:xfrm>
            <a:off x="5041800" y="3854520"/>
            <a:ext cx="2003400" cy="352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-0.20105 2.59259E-006 E">
                                      <p:cBhvr>
                                        <p:cTn id="2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Vision Builder AI for Smart Camera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1280" y="131076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-functional Vision Builder A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ated only 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art Cam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 Simula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luded with eve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I Smart Camer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Picture 7" descr="VBAI - Wine Bottle 1"/>
          <p:cNvPicPr/>
          <p:nvPr/>
        </p:nvPicPr>
        <p:blipFill>
          <a:blip r:embed="rId1"/>
          <a:stretch/>
        </p:blipFill>
        <p:spPr>
          <a:xfrm>
            <a:off x="4016520" y="2090880"/>
            <a:ext cx="47131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5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ounded Rectangular Callout 10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ounded Rectangular Callout 11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ular Callout 9"/>
          <p:cNvSpPr/>
          <p:nvPr/>
        </p:nvSpPr>
        <p:spPr>
          <a:xfrm>
            <a:off x="4159080" y="5100480"/>
            <a:ext cx="2497320" cy="1005120"/>
          </a:xfrm>
          <a:prstGeom prst="wedgeRoundRectCallout">
            <a:avLst>
              <a:gd name="adj1" fmla="val -26865"/>
              <a:gd name="adj2" fmla="val -7302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ustrial I/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o isolated 2-in &amp; 2-o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S2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ounded Rectangular Callout 14"/>
          <p:cNvSpPr/>
          <p:nvPr/>
        </p:nvSpPr>
        <p:spPr>
          <a:xfrm>
            <a:off x="196920" y="4356000"/>
            <a:ext cx="3367080" cy="1376640"/>
          </a:xfrm>
          <a:prstGeom prst="wedgeRoundRectCallout">
            <a:avLst>
              <a:gd name="adj1" fmla="val 68717"/>
              <a:gd name="adj2" fmla="val -1508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al Gigabit Eth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/O exten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thercat 20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ounded Rectangular Callout 15"/>
          <p:cNvSpPr/>
          <p:nvPr/>
        </p:nvSpPr>
        <p:spPr>
          <a:xfrm>
            <a:off x="216000" y="2435400"/>
            <a:ext cx="3160440" cy="1055520"/>
          </a:xfrm>
          <a:prstGeom prst="wedgeRoundRectCallout">
            <a:avLst>
              <a:gd name="adj1" fmla="val 64949"/>
              <a:gd name="adj2" fmla="val 6443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 Drive Lighting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be generation (5V TTL, 24V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 lighting controll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22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689040" y="295200"/>
            <a:ext cx="77724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4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152280" y="2079720"/>
            <a:ext cx="4253040" cy="2106360"/>
            <a:chOff x="152280" y="2079720"/>
            <a:chExt cx="4253040" cy="2106360"/>
          </a:xfrm>
        </p:grpSpPr>
        <p:pic>
          <p:nvPicPr>
            <p:cNvPr id="156" name="Picture 16" descr="DR4512"/>
            <p:cNvPicPr/>
            <p:nvPr/>
          </p:nvPicPr>
          <p:blipFill>
            <a:blip r:embed="rId1"/>
            <a:stretch/>
          </p:blipFill>
          <p:spPr>
            <a:xfrm>
              <a:off x="206280" y="274824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1"/>
            <p:cNvSpPr/>
            <p:nvPr/>
          </p:nvSpPr>
          <p:spPr>
            <a:xfrm>
              <a:off x="152280" y="2079720"/>
              <a:ext cx="94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wer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uppl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Picture 10" descr=""/>
            <p:cNvPicPr/>
            <p:nvPr/>
          </p:nvPicPr>
          <p:blipFill>
            <a:blip r:embed="rId2"/>
            <a:stretch/>
          </p:blipFill>
          <p:spPr>
            <a:xfrm>
              <a:off x="1416960" y="2216160"/>
              <a:ext cx="298836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1"/>
            <p:cNvSpPr/>
            <p:nvPr/>
          </p:nvSpPr>
          <p:spPr>
            <a:xfrm>
              <a:off x="2207520" y="2600640"/>
              <a:ext cx="13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ighting Controlle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ounded Rectangular Callout 18"/>
          <p:cNvSpPr/>
          <p:nvPr/>
        </p:nvSpPr>
        <p:spPr>
          <a:xfrm>
            <a:off x="4208400" y="1246320"/>
            <a:ext cx="1789200" cy="927000"/>
          </a:xfrm>
          <a:prstGeom prst="wedgeRoundRectCallout">
            <a:avLst>
              <a:gd name="adj1" fmla="val 47041"/>
              <a:gd name="adj2" fmla="val 18251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obe generatio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5V TT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4V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Freeform 16"/>
          <p:cNvGrpSpPr/>
          <p:nvPr/>
        </p:nvGrpSpPr>
        <p:grpSpPr>
          <a:xfrm>
            <a:off x="4170240" y="3279600"/>
            <a:ext cx="2291040" cy="567000"/>
            <a:chOff x="4170240" y="3279600"/>
            <a:chExt cx="2291040" cy="567000"/>
          </a:xfrm>
        </p:grpSpPr>
        <p:pic>
          <p:nvPicPr>
            <p:cNvPr id="162" name="Freeform 16" descr=""/>
            <p:cNvPicPr/>
            <p:nvPr/>
          </p:nvPicPr>
          <p:blipFill>
            <a:blip r:embed="rId3"/>
            <a:stretch/>
          </p:blipFill>
          <p:spPr>
            <a:xfrm>
              <a:off x="4170240" y="3279600"/>
              <a:ext cx="22910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199040" y="3313080"/>
              <a:ext cx="2241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Picture 21" descr="Image2.png"/>
          <p:cNvPicPr/>
          <p:nvPr/>
        </p:nvPicPr>
        <p:blipFill>
          <a:blip r:embed="rId4"/>
          <a:stretch/>
        </p:blipFill>
        <p:spPr>
          <a:xfrm>
            <a:off x="2567160" y="4218120"/>
            <a:ext cx="1882440" cy="190152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ular Callout 22"/>
          <p:cNvSpPr/>
          <p:nvPr/>
        </p:nvSpPr>
        <p:spPr>
          <a:xfrm>
            <a:off x="4164120" y="1251000"/>
            <a:ext cx="2374920" cy="927000"/>
          </a:xfrm>
          <a:prstGeom prst="wedgeRoundRectCallout">
            <a:avLst>
              <a:gd name="adj1" fmla="val 24268"/>
              <a:gd name="adj2" fmla="val 171912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rect Dri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x 1A strob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x 500 mA continuou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4" descr="Havana.png"/>
          <p:cNvPicPr/>
          <p:nvPr/>
        </p:nvPicPr>
        <p:blipFill>
          <a:blip r:embed="rId5"/>
          <a:stretch/>
        </p:blipFill>
        <p:spPr>
          <a:xfrm>
            <a:off x="6248520" y="1968480"/>
            <a:ext cx="22716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47327 0.05903 E">
                                      <p:cBhvr>
                                        <p:cTn id="5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7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1:09:39Z</dcterms:created>
  <dc:creator>Kyle Voosen</dc:creator>
  <dc:description/>
  <dc:language>en-US</dc:language>
  <cp:lastModifiedBy>Kyle Voosen</cp:lastModifiedBy>
  <dcterms:modified xsi:type="dcterms:W3CDTF">2007-08-07T22:51:06Z</dcterms:modified>
  <cp:revision>444</cp:revision>
  <dc:subject/>
  <dc:title>NI Smart Cameras</dc:title>
</cp:coreProperties>
</file>